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E05A-FFF5-4B5E-A032-E170D146E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7F4F-F1A9-41DD-A8FC-BABD0CAE2B8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7BD37-EB16-4BFE-9407-9D92DE22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E6F47-6BC7-41A9-80AC-97D1E407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175C5-5DB0-4B45-88FC-A963A5E2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BFA0B-84D3-4ED1-8D85-9BEB9187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6A11A-CFA3-4BDF-A769-E6E12E42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59E3B-7725-4033-B658-90264C01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A7484-8C7A-45C5-B18C-AA36DA30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BD05A-A1E2-4C57-B162-14BF3CB2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96B75-38D5-4662-8F93-CDF575DE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0ABAD-12A3-4B15-900C-FDC426D0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AA11-5E1C-4482-8116-26E64098960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1D6A3-A149-44BF-9B56-463209DF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1D0A2-090B-48FF-AAF9-3D687EDF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9142F-A200-4281-A93A-E487023C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E8CF9-1D32-49D1-A9AE-E77D8E7C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C6022-6190-4AD5-A7E9-AE9F29B7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AD0A3-AD55-42BD-88CD-4104F0D0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42860-DA29-493C-9C4F-155D9E7A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CD5C2-708B-4595-AD93-8FA62EB6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32839-600A-4100-A5A8-C6C45FDE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B2768-7E78-4662-98DD-96F45300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C111-97F8-4ADE-A9D8-D0876543B35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23AFB-294B-419E-B43B-1906C9DF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95D264-BD09-41C5-9F84-BB8DAEEC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A955FF-F3FE-40AB-92FF-3A438306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9FB8ED-B5EA-431B-810C-76AE5F93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3A68DC-68C2-47EB-878F-FF655B73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6724E5-CF0F-42F6-BCC9-0EBADE49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2BD886-045F-45DA-AA9B-397059CB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DBC62B-F758-42BA-9738-EEF83B8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FC0862-4A19-40BD-A4DF-B9021FE3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9486E5-7F01-4C8D-A666-906C4320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13117-B1A5-429F-A5E5-E9D4ED5C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50A0C2-EFEF-4656-80E1-57F64EBD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217F65-39DA-41E9-AB23-BF6A68CD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183649-47F4-4478-8A54-43E3D2EE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4F803-A8C0-495D-A0C8-6FE4B1BC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3658A-4B48-4A98-A693-AE99867A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DFCD9-6D99-4869-8441-B745B360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FF86C-B8C7-4278-8FF8-EF818746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63D59-2D5A-480D-9384-0CA65971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C45FC-920D-4460-883C-DD3E3F1F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447C-868F-4265-8149-0A84E5833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7C4CE-864D-46DF-B5C4-F3F0D5AC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09B5B-3BDB-44D7-BDE7-86E60A8B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4E48B-59EC-4925-A746-44CB5BC8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9A17D-DFC3-4049-BDB3-C90761D7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40D98-4576-4604-AE4D-7694B891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A743B0-99F7-41DB-BC53-EF224F87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413EE5-CFC7-4C96-BDEC-55082E49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AD3911-C629-48A8-857F-8ECC119A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01E8C-920A-4C28-9EDE-E8BBB7E1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4EDF8D-245B-434B-A0C1-C7C79263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6B50-9DD9-46A6-8D9B-DD96461ECE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2AC55-C2CA-4177-8B85-1C8E8D51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F0567E-05BF-428E-ACD5-530E5685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040891-5D81-4B0C-8177-0BB22743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4C1BC-BEEC-4BCB-9A6F-DDAA19F6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0307BD-4F44-4723-A795-9C34412D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0E81B-25D5-4646-B248-D40A8EC2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4F01F-CDAA-459B-B8E2-01F92791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1754F-B4DC-4E0C-A7CB-92015C79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087B1-83A2-400B-B353-3C6366F5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5F4BFC-1FE9-4F87-95A3-BA0DB70D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AC7D-9668-4C65-9749-57BE2BB6B9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CB2DE-9C8D-4C51-AF00-CEF768C0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EC70A-1A7D-4979-BABB-67DE7C80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104C22-03B6-40AD-A62F-851019E1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A554DB-0458-4E59-B8B7-E15EF6A5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07670-1193-4333-9F07-463DD2CC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29FB60-238D-4F42-9CCF-41360EB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B1E608-2DEE-41C4-A7AF-110A1A34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0438AB-EF08-4EF6-8074-4F664156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2F400-EF60-4F56-B048-C9AF110A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8A2D03-E6E2-4B41-ACEE-22E78D80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628F-7C65-4CDE-961D-19EF5C1252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2B6D0C-B312-4442-87C8-ACA7F7E5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E9F3FE-F1AB-48C1-B25E-F20384A9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10BCBE-270E-4591-8910-76B1F9CB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EF8A26-E32C-4B7F-892A-75C6CCE7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8BC317-3081-4352-A212-A343BCEA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4C33A9-8D91-4FDB-BFF9-472B1365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59A782-5CAC-4602-B3B1-9565554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D8C4E1-F3D4-4BEB-A2FE-6C2B072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65638A-690E-4E58-99ED-982F39C9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CCD27F-C471-4471-B328-6135E017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FB3A-599D-4512-81C7-7C34ACBD44C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E5A02A-F429-4D4E-A190-5335676C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C5AF9A-A74C-457B-986C-7DE9220A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1D2C91-C16E-4C01-ADB8-B991D962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2243E6-50DB-4A22-B579-6DD67BB6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BC2E14-2D22-44F2-AD5C-86218827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3D4A16-CD3A-4FB1-9DD3-959AF800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30557-021B-4ACE-8AEC-70B33AB3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5ACA95-3E39-4466-AAA8-5CA55054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09D6EE-67E7-4195-A63F-FD1A84E7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668B9D-3136-4235-B34E-0A931244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93C0-05DB-4306-9E1D-095C01FD8F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9FA8C-9674-4B6A-9405-5FCA3D80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09AEC0-FDCA-49AD-9BA4-04127335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A043E5-2501-49EC-B7C9-179BDFAE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04E42A-AB96-42E8-A368-8D59D8B2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D70A13-BA94-422A-98CF-9F05A83F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6BB84F-3946-42D1-8D95-8A8A84AF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129975-B8A7-4899-B272-444E6AB3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0E920E-3A73-43FF-B31B-147EF8A7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74F1DC-5470-47DE-9715-82C79B5E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9868C1-AF8F-4AAA-8460-C7AD7679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1156-19C5-466D-9338-ABDACF89C1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3FDAC0-C22A-4EBF-AE53-522C98B6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E6039B-A892-47BC-AD85-87E36815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DB012D-3300-439D-837B-CC9F4D66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97E31B-A6DA-4F15-8BE5-49BBEDEF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D12E0E-B8B9-4E90-AB69-66FD70C3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2F9EEC-F087-4826-8609-74D11469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387228-A71C-4D19-949C-FFB96492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239951-C7A4-44A7-88EA-D6A9BBD9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290059-D06D-457A-B42D-8105F936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6B58E6-4269-4313-A316-C433172C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CC9E-BC57-47F7-B8D9-0F28467FAD7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9826D9-E1F6-47E0-9CAA-1813FC08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7302C8-FB2B-41E4-ACE1-F84CC11D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A5770F-6093-40D9-AA63-425E9A31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57802C-0742-4479-AE77-2FDCC9C7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492D70-4F5B-46DC-BF48-97D892A4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C292FE-E357-4913-B9FD-1E07CF4C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8D0E84-0F06-4E1F-81E3-B86F40F0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34CD7-71C0-44A2-BDC0-55E322F1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8EABE-98D8-42D0-894C-283E171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FBAD6-24A3-4FE4-9E1E-241CFE9A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084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C251-0CAD-43A9-8384-0BD2FE24DD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-7200" y="6629400"/>
            <a:ext cx="381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ries of amendments for AEBS according to AEBS/LDWS 07-06 Rev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680E-F154-4DBA-A88A-28FBCC0A8DA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FFE9-D0DA-4B56-8D2E-E5AB0FB1787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1FCC-F356-41B5-A31F-DD14BFC308AC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31CA-2214-474E-BDB9-B04DF385891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C315-1C47-4969-9A45-F22BF8319C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D83F-61F9-4316-A445-375F411551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0CFB-8C4C-4A8A-89B6-8436A1AA383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C4FE-A7D4-4422-964F-B52185DFF22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582C-C6B8-4B91-9390-945AF1CC327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879E-2DD5-4CF5-8CDC-D4EC84F1F0E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132C-5D93-4957-B167-DA106AAE504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7646-2321-438C-8F69-72D27E786E3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3F4A-7C7D-418E-B4DA-A8177063351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1715-9AF6-42F9-A233-F3FAA4A3D57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B8DD-C759-47C8-B819-9642565771E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04DE-8713-4FE9-9C69-7F3B185C406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ADE5-56B0-4BF3-8A65-142E6E9FD6D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16FB-46CE-4A6B-AD35-6FC3F22DFCD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ce0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Image 6" descr="nouveau logo OICA small.jpg"/>
          <p:cNvPicPr/>
          <p:nvPr/>
        </p:nvPicPr>
        <p:blipFill>
          <a:blip r:embed="rId2"/>
          <a:stretch/>
        </p:blipFill>
        <p:spPr>
          <a:xfrm>
            <a:off x="0" y="142920"/>
            <a:ext cx="1071720" cy="5713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A1F3-553D-45D0-A253-D9CC4680BA6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FCD3-002C-4DC6-8A24-6364A9A7F35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numéro de diapositive 5"/>
          <p:cNvSpPr/>
          <p:nvPr/>
        </p:nvSpPr>
        <p:spPr>
          <a:xfrm>
            <a:off x="6908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54D6-8E13-4DBE-993A-77C594196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Times New Roman"/>
              </a:rPr>
              <a:t>AEBS Transitional Provisions</a:t>
            </a:r>
            <a:endParaRPr b="1" lang="en-US" sz="4400" spc="-1" strike="noStrike">
              <a:solidFill>
                <a:srgbClr val="0070c0"/>
              </a:solidFill>
              <a:latin typeface="Times New Roman"/>
            </a:endParaRPr>
          </a:p>
        </p:txBody>
      </p:sp>
      <p:grpSp>
        <p:nvGrpSpPr>
          <p:cNvPr id="462" name="Group 29"/>
          <p:cNvGrpSpPr/>
          <p:nvPr/>
        </p:nvGrpSpPr>
        <p:grpSpPr>
          <a:xfrm>
            <a:off x="988920" y="1727280"/>
            <a:ext cx="3346560" cy="1803960"/>
            <a:chOff x="988920" y="1727280"/>
            <a:chExt cx="3346560" cy="1803960"/>
          </a:xfrm>
        </p:grpSpPr>
        <p:sp>
          <p:nvSpPr>
            <p:cNvPr id="463" name="Text Box 6"/>
            <p:cNvSpPr/>
            <p:nvPr/>
          </p:nvSpPr>
          <p:spPr>
            <a:xfrm>
              <a:off x="2301480" y="1727280"/>
              <a:ext cx="202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CPs may gran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ECE type approv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7"/>
            <p:cNvSpPr/>
            <p:nvPr/>
          </p:nvSpPr>
          <p:spPr>
            <a:xfrm>
              <a:off x="1079640" y="2340360"/>
              <a:ext cx="325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CPs shall not refuse national or regional type approv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8"/>
            <p:cNvSpPr/>
            <p:nvPr/>
          </p:nvSpPr>
          <p:spPr>
            <a:xfrm>
              <a:off x="988920" y="2949840"/>
              <a:ext cx="334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 Narrow"/>
                </a:rPr>
                <a:t>CPs shall not refuse first national or regional reg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 Box 9"/>
          <p:cNvSpPr/>
          <p:nvPr/>
        </p:nvSpPr>
        <p:spPr>
          <a:xfrm rot="16200000">
            <a:off x="-119160" y="25671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ies 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894960" y="3925800"/>
            <a:ext cx="3428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P may grant ECE type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1380960" y="4348080"/>
            <a:ext cx="29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P shall not refuse national or regional type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988920" y="5014800"/>
            <a:ext cx="33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P shall not refuse first national or regional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3"/>
          <p:cNvSpPr/>
          <p:nvPr/>
        </p:nvSpPr>
        <p:spPr>
          <a:xfrm rot="16200000">
            <a:off x="-119160" y="45590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ies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 flipH="1">
            <a:off x="4541400" y="1655640"/>
            <a:ext cx="12600" cy="416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4272120" y="5732640"/>
            <a:ext cx="412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 rot="16200000">
            <a:off x="4992840" y="607896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[01/11/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 rot="16200000">
            <a:off x="6070680" y="607896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[01/11/2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0"/>
          <p:cNvSpPr/>
          <p:nvPr/>
        </p:nvSpPr>
        <p:spPr>
          <a:xfrm>
            <a:off x="4573440" y="1828800"/>
            <a:ext cx="4324320" cy="417600"/>
          </a:xfrm>
          <a:custGeom>
            <a:avLst/>
            <a:gdLst>
              <a:gd name="textAreaLeft" fmla="*/ 0 w 4324320"/>
              <a:gd name="textAreaRight" fmla="*/ 4324680 w 432432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1"/>
          <p:cNvSpPr/>
          <p:nvPr/>
        </p:nvSpPr>
        <p:spPr>
          <a:xfrm flipV="1">
            <a:off x="5564160" y="1606320"/>
            <a:ext cx="0" cy="41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2"/>
          <p:cNvSpPr/>
          <p:nvPr/>
        </p:nvSpPr>
        <p:spPr>
          <a:xfrm flipV="1">
            <a:off x="6643800" y="1606320"/>
            <a:ext cx="0" cy="41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3"/>
          <p:cNvSpPr/>
          <p:nvPr/>
        </p:nvSpPr>
        <p:spPr>
          <a:xfrm>
            <a:off x="4559400" y="2449440"/>
            <a:ext cx="998280" cy="444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4"/>
          <p:cNvSpPr/>
          <p:nvPr/>
        </p:nvSpPr>
        <p:spPr>
          <a:xfrm>
            <a:off x="4559400" y="3098880"/>
            <a:ext cx="2076480" cy="40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0"/>
          <p:cNvGrpSpPr/>
          <p:nvPr/>
        </p:nvGrpSpPr>
        <p:grpSpPr>
          <a:xfrm>
            <a:off x="4573440" y="3835440"/>
            <a:ext cx="4324320" cy="1649520"/>
            <a:chOff x="4573440" y="3835440"/>
            <a:chExt cx="4324320" cy="1649520"/>
          </a:xfrm>
        </p:grpSpPr>
        <p:sp>
          <p:nvSpPr>
            <p:cNvPr id="481" name="AutoShape 25"/>
            <p:cNvSpPr/>
            <p:nvPr/>
          </p:nvSpPr>
          <p:spPr>
            <a:xfrm>
              <a:off x="4573440" y="3835440"/>
              <a:ext cx="4324320" cy="417600"/>
            </a:xfrm>
            <a:custGeom>
              <a:avLst/>
              <a:gdLst>
                <a:gd name="textAreaLeft" fmla="*/ 0 w 4324320"/>
                <a:gd name="textAreaRight" fmla="*/ 4324680 w 432432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26"/>
            <p:cNvSpPr/>
            <p:nvPr/>
          </p:nvSpPr>
          <p:spPr>
            <a:xfrm>
              <a:off x="4573440" y="4451400"/>
              <a:ext cx="4324320" cy="417600"/>
            </a:xfrm>
            <a:custGeom>
              <a:avLst/>
              <a:gdLst>
                <a:gd name="textAreaLeft" fmla="*/ 0 w 4324320"/>
                <a:gd name="textAreaRight" fmla="*/ 4324680 w 432432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27"/>
            <p:cNvSpPr/>
            <p:nvPr/>
          </p:nvSpPr>
          <p:spPr>
            <a:xfrm>
              <a:off x="4573440" y="5067360"/>
              <a:ext cx="4324320" cy="417600"/>
            </a:xfrm>
            <a:custGeom>
              <a:avLst/>
              <a:gdLst>
                <a:gd name="textAreaLeft" fmla="*/ 0 w 4324320"/>
                <a:gd name="textAreaRight" fmla="*/ 4324680 w 432432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 Box 28"/>
          <p:cNvSpPr/>
          <p:nvPr/>
        </p:nvSpPr>
        <p:spPr>
          <a:xfrm>
            <a:off x="8362800" y="5543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2"/>
          <p:cNvSpPr/>
          <p:nvPr/>
        </p:nvSpPr>
        <p:spPr>
          <a:xfrm>
            <a:off x="3713400" y="58118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Entry into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oneTexte 27"/>
          <p:cNvSpPr/>
          <p:nvPr/>
        </p:nvSpPr>
        <p:spPr>
          <a:xfrm>
            <a:off x="6761160" y="228600"/>
            <a:ext cx="186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BS/LDWS-11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1101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8:08:11Z</dcterms:created>
  <dc:creator>ofontaine</dc:creator>
  <dc:description/>
  <dc:language>en-US</dc:language>
  <cp:lastModifiedBy>ofontaine</cp:lastModifiedBy>
  <cp:lastPrinted>2008-09-17T15:36:13Z</cp:lastPrinted>
  <dcterms:modified xsi:type="dcterms:W3CDTF">2011-01-26T18:13:37Z</dcterms:modified>
  <cp:revision>417</cp:revision>
  <dc:subject/>
  <dc:title>TPMS OICA position</dc:title>
</cp:coreProperties>
</file>