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80E5-7F74-4725-A277-91EECD6DB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7042-0F1B-45C8-9057-2516C90493A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45CE9-A280-4ADE-8B26-4C73C147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C0522-19AD-4CE8-8703-097BA024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32835-572C-42BF-9D49-7CA8C91E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52E43-7B45-4FF5-A1B4-BD2DBFD5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05D2C-BECA-4B28-B6CD-86FC3F6E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63ED6-445C-4489-B99C-58FB3A13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EEF33-922E-471C-A3F8-F80E51FF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80F99-E7BF-4D39-B2CE-38BFBBB8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AF0BE-82D8-4FA0-B181-A7026779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2C6C9-DED2-4238-9242-D6BA3C70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A018-727B-408F-BC66-E9D1F163B09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566E3-E4EE-4C37-B26A-4D1D4582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41C86-8EA9-4F21-AE48-CA5B700A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421CE-ED0F-460D-BB64-323CB9A7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F4075-58FD-4A61-8F25-C943DFC7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2861E-BD3D-4DD3-ADC3-B838461F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33D14-C774-4C49-8FFC-194D61F8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70B38-4B5D-49DB-B455-64AE9889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253FB-EE5B-462B-B812-439CC029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78F2A-B6FC-46E3-A33D-0B7D34F6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C6E92-7812-42A1-9301-2900641C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2A03-9178-4469-8367-6B7E7BDF7AC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40AB2-C2B5-4542-985D-FF78FA9A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BD0851-154A-43D5-9ACA-0100E5D5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6E4575-DDF7-4807-8503-A0D6FAAF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B4E8DA-B1F6-45F2-9762-76BBBB6D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58D9F4-7AE1-4D07-B321-B143BFD6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855B5E-D13E-4F25-B624-B582FBFD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FEEABE-0009-4216-A5B5-A95812BD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11F146-3DBC-4B1D-BE9A-852F1DEA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BD7FCB-2C2A-48BF-B46C-AEBDB900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CF5AF8-240F-4BB8-8DA1-6CF02104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83C7D-31AB-4323-B946-8256A793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222307-9966-4049-8C9E-98FD124A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5858D6-48D7-4E79-89FA-DCA3886B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BFC931-5494-4BC9-84C1-6885AF48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09970-64DC-4620-A5B1-82E00B4F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244A1-E3ED-4845-AB91-01516666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38B87-E99D-4D4A-AAD9-AE1E4F60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4EACE-088D-48BA-81C0-A18F4E40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B0B68-D828-48B7-AED9-DC82DA50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330D5-7120-4F85-BA8D-EF75A2B1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5339-A35F-4F88-8165-C7A36A710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6CA19-CDE1-4B7D-AD6E-44D9C3A3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06244-8C98-455C-8604-B8005F57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EAECE-5D5F-4B77-A96A-0CA14E02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8316F-9F48-4924-BEA7-0A3D3DA2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18440-ACE6-4C42-9212-FCBED3DC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9FDB85-A8CE-41C9-B830-BB993D83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2E2523-BBFF-4EA2-BAEE-CC0BDEF2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0D3727-E452-45D4-8763-716AA4A7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23B8B1-5EB5-4DBB-AB57-31B09945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3E698C-2140-4E3D-9407-9ED363D0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5328-EA10-4000-BBC9-7E785B2232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2AACAB-8A3C-4188-97C4-9342BAAA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7AFC85-3B97-4853-8F5F-3CE29A99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51BAC4-3978-4189-8557-988BE4FD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7D8865-452A-4505-9F3A-2F84888A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DF0B8-4EF4-4631-8386-FA15316A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2DDFB6-078C-4E51-BEBA-B7220B4B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3087E-CB48-49AD-B602-9812E851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CE1C8-EC3C-418C-B6ED-0EB7A9E5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8774E-DBB0-4FC6-9BEC-EC4FCFC1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79431B-CC9F-4773-BA01-DBEA844B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9852-5510-492A-A7F0-4C63EA4A81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A529B-A9C8-4396-986D-EA19A418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B145D1-2A91-4D44-8807-D65B9DCF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A053E-CD9F-4D51-8DE1-A4D37AB2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F93962-CE98-437A-A283-D888432D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B9F1B5-2E51-49D6-8C70-A8C66A25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D73497-4214-498B-80C0-62A8F5AB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25B0C-43C0-4360-B414-470C29DA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1D2D1-7BB1-4D9F-89CD-2036866F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B4B1B-E3FF-402C-AB74-AF692ED8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084A8E-64BD-46FD-94BD-38419C74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3BF7-D0B6-46B6-B8BF-E7A0B4C52FE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00FC8E-1B5C-43B6-B8E2-02F42F5E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DE9B44-6984-477B-81AA-2B295CB4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2CA4E7-5E93-4136-8E94-790372F5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B0BD65-CF88-4E36-ADEE-52E5E89B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96E9A2-487D-4A2A-ADC6-E1C1A19A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9D72CE-C4C0-48E8-A4D2-3C277DA4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E7A83D-4B59-48D6-895F-FFDEA58D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D370B6-AE3B-466B-A703-6FB933B1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C348BF-D097-4D1E-A0ED-745FB1B8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ECDC6E-345F-407E-A22B-2B99DE55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573E-43A4-452E-BB69-73F9B18C98D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C8C7A4-9E17-4F13-8743-C0E65A69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B9115B-E1BB-4336-8FDF-D0AF9068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A14C55-8ED2-447B-A62B-12A10F26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B83F03-6462-4BE7-9E31-0EE58670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B5E1F1-ADEA-4BE9-BF6C-D9C081E8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085511-990B-4A67-B4C8-4EB35758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7A09A5-63FF-4C26-84F7-0DD1DF5B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E652A6-A628-4605-81AF-3E663A7D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9BBEA4-9199-4A6A-BEC6-4667F79A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7F1771-A26A-4C5A-85A3-0C69C6AA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8A86-3245-403B-A7C5-A949CF62CD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F93C20-8540-461F-9637-DF5B526A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C553D3-EE4B-42A1-929A-09D9F6A8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ADA234-1EFB-4AF0-BB64-2F93DE2B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A9536D-F0D3-43B8-B2F3-D3005524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3A1856-AC47-4504-88D0-1D5DB7F8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CA6B37-AD6A-4C5B-A9F9-D1A75379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2810EB-6C31-4219-B5B8-89F63871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D004F8-65DE-40F2-B401-9EDDB361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6B4279-1CE7-4C7C-9415-98A9FE64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ED1F51-0490-4ED9-9D41-2C8542B7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8CD3-73A1-49E2-A64C-D29038BC59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4CB6C1-A079-438E-A09E-39A28B6E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7C5682-603F-4F9F-84D4-20531737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80F168-53FB-44A2-82B4-F7B0AC9D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29DA9E-DDC0-48DD-9914-770D5D54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BB2FE3-15A8-45DC-838A-2250AC4F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D20C95-225F-48B6-B989-2C790C4A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8D18B1-ECD0-49A9-9F7F-75E578DE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41133F-3319-4B73-BA0A-0CAE2DD7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3C3CEB-F3CA-4E4A-A72B-CEB1D1A9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D2FD30-2B06-4BD4-9BC9-E9D57552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6D72-1B39-4957-8724-698BCCCEE81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9B9286-8037-4C85-8FAD-21E423AF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C6DB16-B77E-4EA6-95B2-5093C9BB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8E0D5C-B7FF-4F19-9E8F-6BCCDB54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A9AE15-E25E-4982-9473-8A4545A9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7754C2-97B4-4753-B275-C530CD22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713450-06C2-45E7-9BC5-D8873AD7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3CA86C-569C-4DE4-8F60-A1BCDB5D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9CD25-5910-42CF-BE9D-23C3DBF9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3E475-579C-4603-A235-E289AD4E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915B4-1339-4E35-980B-1D9EDB7E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084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34D7-E6CC-4992-9822-C3C0D49E0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-7200" y="6629400"/>
            <a:ext cx="381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ries of amendments for AEBS according to AEBS/LDWS 07-06 Rev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ED8E-3C5F-4335-BF53-61B21F7FF99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FC3C-FF08-4AFA-BEAF-8EEB769217D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B9C9-6674-45B5-9E40-DBBBD2F70ED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0579-435B-4930-A501-9D60F1D3468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5787-3D69-47CB-8FAD-3BAA22D9FD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4447-39B7-4ACF-AF24-F31312E7917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E3D3-D4D3-401B-AD18-147F83A0235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94E1-ECEE-4737-941D-3F6C98F9CF6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9201-872E-43FA-99D4-86B96D62BBDD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E01F-8621-4D12-96F0-9C7B844C0FE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2AAF-B580-46A1-AF9C-27F120FA1B7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B9CF-9A1D-4F36-93BE-3DF19627668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5CA5-FAAB-4D93-84EA-23BE9D34F0E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5BE4-8363-4E5D-9AAC-B860F91B018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4BCE-4F1A-415E-A5A3-31EAE37BE96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6F03-F58B-4D20-A9A1-B004B04AF7A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051B-1D74-48B7-B26F-895C721D2A4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B3DB-A229-4EAD-A482-9F905D5628A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8110-9782-4F69-B18F-D828BB2D1FD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8321-010C-4D3E-AA15-65910F7C435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numéro de diapositive 5"/>
          <p:cNvSpPr/>
          <p:nvPr/>
        </p:nvSpPr>
        <p:spPr>
          <a:xfrm>
            <a:off x="6908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6F0E-B2B1-4758-9217-C86C3595C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Times New Roman"/>
              </a:rPr>
              <a:t>AEBS Transitional Provisions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grpSp>
        <p:nvGrpSpPr>
          <p:cNvPr id="462" name="Group 29"/>
          <p:cNvGrpSpPr/>
          <p:nvPr/>
        </p:nvGrpSpPr>
        <p:grpSpPr>
          <a:xfrm>
            <a:off x="988920" y="1727280"/>
            <a:ext cx="3346560" cy="1803960"/>
            <a:chOff x="988920" y="1727280"/>
            <a:chExt cx="3346560" cy="1803960"/>
          </a:xfrm>
        </p:grpSpPr>
        <p:sp>
          <p:nvSpPr>
            <p:cNvPr id="463" name="Text Box 6"/>
            <p:cNvSpPr/>
            <p:nvPr/>
          </p:nvSpPr>
          <p:spPr>
            <a:xfrm>
              <a:off x="2301480" y="1727280"/>
              <a:ext cx="202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CPs may gran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ECE type approv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7"/>
            <p:cNvSpPr/>
            <p:nvPr/>
          </p:nvSpPr>
          <p:spPr>
            <a:xfrm>
              <a:off x="1079640" y="2340360"/>
              <a:ext cx="325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CPs shall not refuse national or regional type approv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8"/>
            <p:cNvSpPr/>
            <p:nvPr/>
          </p:nvSpPr>
          <p:spPr>
            <a:xfrm>
              <a:off x="988920" y="2949840"/>
              <a:ext cx="334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CPs shall not refuse first national or regional reg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 Box 9"/>
          <p:cNvSpPr/>
          <p:nvPr/>
        </p:nvSpPr>
        <p:spPr>
          <a:xfrm rot="16200000">
            <a:off x="-119160" y="25671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ies 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894960" y="3925800"/>
            <a:ext cx="3428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P may grant ECE type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1380960" y="4348080"/>
            <a:ext cx="29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P shall not refuse national or regional type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988920" y="5014800"/>
            <a:ext cx="33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P shall not refuse first national or regional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3"/>
          <p:cNvSpPr/>
          <p:nvPr/>
        </p:nvSpPr>
        <p:spPr>
          <a:xfrm rot="16200000">
            <a:off x="-119160" y="45590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ies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6"/>
          <p:cNvSpPr/>
          <p:nvPr/>
        </p:nvSpPr>
        <p:spPr>
          <a:xfrm flipH="1">
            <a:off x="4541400" y="1655640"/>
            <a:ext cx="12600" cy="416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>
            <a:off x="4272120" y="5732640"/>
            <a:ext cx="412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 rot="16200000">
            <a:off x="4992840" y="607896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[01/11/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 rot="16200000">
            <a:off x="6070680" y="607896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[01/11/2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0"/>
          <p:cNvSpPr/>
          <p:nvPr/>
        </p:nvSpPr>
        <p:spPr>
          <a:xfrm>
            <a:off x="4573440" y="1828800"/>
            <a:ext cx="4324320" cy="417600"/>
          </a:xfrm>
          <a:custGeom>
            <a:avLst/>
            <a:gdLst>
              <a:gd name="textAreaLeft" fmla="*/ 0 w 4324320"/>
              <a:gd name="textAreaRight" fmla="*/ 4324680 w 432432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1"/>
          <p:cNvSpPr/>
          <p:nvPr/>
        </p:nvSpPr>
        <p:spPr>
          <a:xfrm flipV="1">
            <a:off x="5564160" y="1606320"/>
            <a:ext cx="0" cy="41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2"/>
          <p:cNvSpPr/>
          <p:nvPr/>
        </p:nvSpPr>
        <p:spPr>
          <a:xfrm flipV="1">
            <a:off x="6643800" y="1606320"/>
            <a:ext cx="0" cy="41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3"/>
          <p:cNvSpPr/>
          <p:nvPr/>
        </p:nvSpPr>
        <p:spPr>
          <a:xfrm>
            <a:off x="4559400" y="2449440"/>
            <a:ext cx="998280" cy="444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4"/>
          <p:cNvSpPr/>
          <p:nvPr/>
        </p:nvSpPr>
        <p:spPr>
          <a:xfrm>
            <a:off x="4559400" y="3098880"/>
            <a:ext cx="2076480" cy="40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30"/>
          <p:cNvGrpSpPr/>
          <p:nvPr/>
        </p:nvGrpSpPr>
        <p:grpSpPr>
          <a:xfrm>
            <a:off x="4573440" y="3835440"/>
            <a:ext cx="4324320" cy="1649520"/>
            <a:chOff x="4573440" y="3835440"/>
            <a:chExt cx="4324320" cy="1649520"/>
          </a:xfrm>
        </p:grpSpPr>
        <p:sp>
          <p:nvSpPr>
            <p:cNvPr id="481" name="AutoShape 25"/>
            <p:cNvSpPr/>
            <p:nvPr/>
          </p:nvSpPr>
          <p:spPr>
            <a:xfrm>
              <a:off x="4573440" y="3835440"/>
              <a:ext cx="4324320" cy="417600"/>
            </a:xfrm>
            <a:custGeom>
              <a:avLst/>
              <a:gdLst>
                <a:gd name="textAreaLeft" fmla="*/ 0 w 4324320"/>
                <a:gd name="textAreaRight" fmla="*/ 4324680 w 432432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26"/>
            <p:cNvSpPr/>
            <p:nvPr/>
          </p:nvSpPr>
          <p:spPr>
            <a:xfrm>
              <a:off x="4573440" y="4451400"/>
              <a:ext cx="4324320" cy="417600"/>
            </a:xfrm>
            <a:custGeom>
              <a:avLst/>
              <a:gdLst>
                <a:gd name="textAreaLeft" fmla="*/ 0 w 4324320"/>
                <a:gd name="textAreaRight" fmla="*/ 4324680 w 432432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27"/>
            <p:cNvSpPr/>
            <p:nvPr/>
          </p:nvSpPr>
          <p:spPr>
            <a:xfrm>
              <a:off x="4573440" y="5067360"/>
              <a:ext cx="4324320" cy="417600"/>
            </a:xfrm>
            <a:custGeom>
              <a:avLst/>
              <a:gdLst>
                <a:gd name="textAreaLeft" fmla="*/ 0 w 4324320"/>
                <a:gd name="textAreaRight" fmla="*/ 4324680 w 432432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 Box 28"/>
          <p:cNvSpPr/>
          <p:nvPr/>
        </p:nvSpPr>
        <p:spPr>
          <a:xfrm>
            <a:off x="8362800" y="5543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2"/>
          <p:cNvSpPr/>
          <p:nvPr/>
        </p:nvSpPr>
        <p:spPr>
          <a:xfrm>
            <a:off x="3713400" y="58118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Entry into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oneTexte 27"/>
          <p:cNvSpPr/>
          <p:nvPr/>
        </p:nvSpPr>
        <p:spPr>
          <a:xfrm>
            <a:off x="6761160" y="228600"/>
            <a:ext cx="186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BS/LDWS-11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1101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8:08:11Z</dcterms:created>
  <dc:creator>ofontaine</dc:creator>
  <dc:description/>
  <dc:language>en-US</dc:language>
  <cp:lastModifiedBy>ofontaine</cp:lastModifiedBy>
  <cp:lastPrinted>2008-09-17T15:36:13Z</cp:lastPrinted>
  <dcterms:modified xsi:type="dcterms:W3CDTF">2011-01-26T18:13:37Z</dcterms:modified>
  <cp:revision>417</cp:revision>
  <dc:subject/>
  <dc:title>TPMS OICA position</dc:title>
</cp:coreProperties>
</file>