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Picture 111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8" descr="Slide_template_IES_logo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9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Rectangle 120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1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ussels, 22 September 2009 – 101st MVE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2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FCB36B4-2E3C-4D13-B9C0-2BA2EB2C4038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8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4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0"/>
          <p:cNvSpPr/>
          <p:nvPr/>
        </p:nvSpPr>
        <p:spPr>
          <a:xfrm>
            <a:off x="838080" y="487692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Aft>
                <a:spcPts val="561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IES - Institute for Environment and Sustain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f3277"/>
                </a:solidFill>
                <a:latin typeface="Arial"/>
              </a:rPr>
              <a:t>Transport and Air Quality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400" spc="-1" strike="noStrike">
                <a:solidFill>
                  <a:srgbClr val="0f3277"/>
                </a:solidFill>
                <a:latin typeface="Arial"/>
              </a:rPr>
              <a:t>Alessandro.Marotta@jrc.ec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2"/>
          <p:cNvSpPr/>
          <p:nvPr/>
        </p:nvSpPr>
        <p:spPr>
          <a:xfrm>
            <a:off x="609480" y="16002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LTP - Development of the Harmonized driving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Proposed methodology for assessing the suitability of existing in-use driving data through comparison with newly collected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(Ref. WLTP-DHC-02-1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4" descr="Slide_template_IES_logo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5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0" name="Rectangle 176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7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8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29CF25E-0EBD-4831-B2D1-81B7FE803541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59788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Update on the preparation of Validation Phase 2 (feasibility of the new test procedure with the WLTC)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3277"/>
                </a:solidFill>
                <a:latin typeface="Comic Sans MS"/>
              </a:rPr>
              <a:t>Alessandro.Marotta@jrc.ec.europa.eu</a:t>
            </a:r>
            <a:endParaRPr b="1" lang="en-US" sz="11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DTP 7</a:t>
            </a:r>
            <a:r>
              <a:rPr b="1" lang="en-US" sz="1800" spc="-1" strike="noStrike" baseline="30000">
                <a:solidFill>
                  <a:srgbClr val="0f3277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 meeting – Bern 12-14 September 2011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5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001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5978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Roles and responsibilitie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0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9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533520" y="1598760"/>
          <a:ext cx="8221680" cy="493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98760"/>
                    <a:ext cx="822168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902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4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106" name="Object 8"/>
          <p:cNvGraphicFramePr/>
          <p:nvPr/>
        </p:nvGraphicFramePr>
        <p:xfrm>
          <a:off x="685800" y="1295280"/>
          <a:ext cx="8618400" cy="487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95280"/>
                    <a:ext cx="8618400" cy="48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597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VTF - NEXT STEP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Collect the Parameter  List from the DTP subgroups by the end of this week (16 September)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Get a revised version of excel template for results submission (H. Steven)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Propose a Test Sequence for Validation Phase 2 (Ichikawa-san/ Celine)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Members of the VTF will contact the respective laboratories to discuss about the Parameter List , Test Sequence, excel template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Feedback from these discussions will be communicated to DTP subgroups (and, if needed, DTP subgroup will be asked to integrate/clarify the Parameter List) before the end of September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By end of September / beginning October, the draft Validation Phase 2 detailed plan and draft Technical Guidelines will be distributed to DTP/DHC members and to participating labs.  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9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VTF - NEXT STEP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(less urgent)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est matrix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Vehicle selection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Assessment criteria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27:22Z</dcterms:created>
  <dc:creator>marotal</dc:creator>
  <dc:description>© European Communities, 2007</dc:description>
  <cp:keywords/>
  <dc:language>en-US</dc:language>
  <cp:lastModifiedBy>Alessandro Marotta</cp:lastModifiedBy>
  <cp:lastPrinted>2003-09-04T09:59:31Z</cp:lastPrinted>
  <dcterms:modified xsi:type="dcterms:W3CDTF">2011-09-13T12:17:52Z</dcterms:modified>
  <cp:revision>38</cp:revision>
  <dc:subject>JRC Corporate Image Toolkit (CIT)</dc:subject>
  <dc:title>Slide 1</dc:title>
</cp:coreProperties>
</file>