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96088" cy="9928225"/>
</p:presentation>
</file>

<file path=ppt/commentAuthors.xml><?xml version="1.0" encoding="utf-8"?>
<p:cmAuthorLst xmlns:p="http://schemas.openxmlformats.org/presentationml/2006/main">
  <p:cmAuthor id="0" name="astorca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1-01-09T17:02:26.421000000" idx="1">
    <p:pos x="10" y="10"/>
    <p:text>WHAT'S COMING NOW...
</p:text>
  </p:cm>
  <p:cm authorId="0" dt="2011-01-10T11:24:18.515000000" idx="2">
    <p:pos x="146" y="146"/>
    <p:text>OICA, The International Organization of Motor Vehicle Manufacturers was founded in Paris in 1919. It is known as the Organisation Internationale des Constructeurs d AUTOMOB
oica.net -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4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 type="sldNum" idx="4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6CAE-776E-43CC-ABFC-FB5FE9398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8953-9B74-4C7B-ACE0-32C75B09A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52E2-FCF0-483D-9ABB-B13124B40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441E-126F-4363-AA9C-C62C610FF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73D1-8B84-4F53-8A43-0A0D64FA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0FFD-D63D-4437-995D-310DEE141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83CD-952D-4233-A2EE-DED3E0A93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B3E2-962B-4168-927D-59C2EF232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elow the referenc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5DC0-1382-4E9B-99CD-8DA0C5B3D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8478-5634-4811-95B5-E7F098BE6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0CD-E884-4E75-9180-4E52773D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F5C-4FB6-4EE1-8746-21C1E8B0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B5B2C-517F-4204-8730-5A6A5ECA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44709-C179-4FE0-914C-08B3F962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0B381-5941-4148-B79B-8DE41698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AE063-8467-4C21-8D0C-5342D4A7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80236-5E29-4E95-A8C6-17ACD073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5BC28-6B7A-4F39-AEC2-E8A97A4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EF319-DF71-42A9-B4C1-A23C990E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83116-6443-432D-BB42-726FA991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4C07C-9FD0-428E-B21D-5A13420C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6A317-83DE-467F-9BA0-B557FFB2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9F1-99C4-4340-B1F6-A099BE9E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B3431-E6EE-43C8-A4F0-AFC93C69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1C6FA-FAF6-43E3-AAB7-45F4FAB4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0C1E8-DF88-400F-81D2-26443042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7281C-3BF7-4C23-8B41-F3746DFB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EDE9D-9064-4AB5-BA72-3FBA3171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E0CB5-122E-4B0C-80A3-74A0D3B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131D1-8B57-4872-9B19-716AD64E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CE29E-C134-450E-995B-E52E2431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69E4E-DA60-4C5B-A860-6AB5CCB2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2D006-C747-4C5C-BBF3-0A682A26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11D-C6F1-4B42-A4FB-5EC38E16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DE3BB-3DC1-43B6-B3A5-21E5F7B0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3C5BF-3452-4B2A-8AFC-C348A250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F3514-0654-4946-A495-89D794D0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17662-6F4A-4EFA-94E7-B2238B36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41B41-36D3-4665-A03A-E9D8C0E0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A6FAE-5078-49EE-93A6-0E10F730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F35E3-A156-4F9F-94BF-4AB363F3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6ECE2-734D-4E94-8F85-7C5CD9D9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74068-8F64-4892-82CD-39116E05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9883E-C116-4CF3-BFA9-0557940B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AB6C-C636-4EB8-A839-6B0076A0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12FCF-2CDD-4CD0-B38B-334469E8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058C6-0C8A-4ACE-8DC3-6A51CB1F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11341-4A88-4F81-81D4-1B58857B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37830-7A06-4009-89F1-ECF01FA4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A5640-CF68-491A-82BB-CD264D19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1980A-C15B-46EA-81F8-37681EC7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48776-5678-4B53-B43B-970F27D0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65094-507D-4299-AC21-9ACD3381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867A1-1675-4DD9-BCA1-25306021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AF39D-27A6-40A5-BDCE-41C2C297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15D6-FD57-46EB-9A62-12635533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6E948-C137-410D-B7B8-479C77A1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7A11E-19C2-4A65-8BE5-3A879AF8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C89E1-78A4-41ED-9C08-2840F6A7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8EFA6-17D9-4914-BD3C-C5328F59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E0849-47A0-4C8B-8ED8-C999B8DF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A2C41-A940-4EDF-AF27-000F1CA5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74E16-2C08-44F0-9766-774D3D3B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2E551-2655-4EBC-B164-F2CB8EAF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74FA8-1CA4-4413-BDE0-C5C22741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98890-9650-4833-B0EA-86826783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5F61-DE0E-451D-992C-5910D7B4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1B2E6-3F67-40E7-9E2A-29EA8A11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A3FE4-8CF2-44E1-B0E7-1353FCDB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7C1C6-F4C8-4874-880F-1749D49C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07B4C-6E19-4C6F-A271-C5669636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6591F-89DD-4419-B378-46887401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9608D-4CDB-4872-A288-C5BAE6A2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3ED47-F379-44BF-ACD6-6B94C47A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8DC2-0AA3-43E0-A639-B6565A69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48A9-723A-4FA9-89E1-C1BF9EBD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EA23-2CA6-4132-9DF1-8CCF398F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CF07-82DF-457A-9F41-78B2EFEF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AAD-CCBD-417B-BE72-5BA051CD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8616-547D-4F56-B0D2-CE722ECC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2E41-F50C-433C-A7B9-4F2D27E7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D8E6-8CAB-4701-9D4C-80871044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6BAC-F998-45C1-9430-BD06458D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05BD-349B-4697-AA73-E6F71A51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82CC-4572-408C-8F8F-89D83449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92C4A-A983-4D7D-8CE0-CE8B6E97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890F-B8E2-41F3-943C-38776BD6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694A-8AB6-4BE1-B0E5-F2C47C6D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973C-597A-42F9-86C3-A067BCBB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940-2E52-4492-9738-24E4AF89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7B888-6CDB-4F5C-AE83-800696D3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B722-D5F8-476C-9136-E2CF950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5DE0-59C7-48C7-815D-6F30B9D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740D-E410-468D-93A4-741F6C61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7CA3-5945-407E-9C3E-4495579D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D9E7-7C7E-428F-ABCE-7AA5162D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B244-F216-4E62-BE3E-4D0C6B55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E6706-8812-43A6-A9B9-59765CCF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E47C-9FE0-453C-8596-6DE7588F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81157-E0CB-4D88-B51B-F6C250C3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23E-5F0A-483C-A117-55857C92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FC5A-1A79-42DB-9932-68147AFC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D9EF2-AD21-44C0-92E6-F16AA228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3969-C695-48C5-899D-7A4AF1A6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D1305-EEFF-483E-B5C9-D7AAECCD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DA747-2B17-4338-A326-FA3048C3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476E4-6235-46AF-B2C0-0DE9F971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A627D-FC12-4063-BA89-57A071A1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56DB-FE3D-40B4-8B2E-54410341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7BAF-971A-488E-A901-8609C117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56EBD-09BF-4332-84B2-C5918FDC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1F1-6BBE-4C59-9CBF-517C18D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FED4D-1C1D-43A9-8968-FF622C32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BB86B-AE54-40C8-A85E-D5FAC5A8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A3169-1D22-4028-8710-1F5154AB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E4BED-0AA2-4437-9FBE-C1CC2F60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5CCBB-BC2B-4F11-845F-6E5289BC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048B8-2C96-4C99-88AE-77CA0002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5BA77-E81D-4ED5-B025-17DCFAEF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E4034-E6D3-4D7B-8089-1F73E971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8C54A-3501-4454-A812-73043525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BC951-2095-4C1C-9755-C9C40198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248-DBC5-4B16-AB72-FF848BC5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5E4F-5E52-4727-83B0-E3F2CB25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3AC1-EE55-4360-91C4-EF022A04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86DCC-357F-4652-9128-37F31AF2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76F4D-9749-4714-BBEE-0D66F627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05FA6-49B2-48BC-BE8F-26ADCD3C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B454E-FE71-4ED6-8111-6CF72247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A0043-2775-469D-8621-6DF5A8C2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69886-E5D4-4F70-834E-97B9A8F1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E8415-AF76-4A44-BFFA-0CEC0DED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37DA1-F7E3-440A-A109-8CE4E758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295-670E-4C1E-A588-F27F6BDF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9782E-EB08-438E-A434-E51946EF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6E8C1-9301-4473-B3D8-86C0C67C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CFA33-0D99-474B-85CF-1E82BD19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39B72-E380-4603-B1EB-36B1BC5A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43E2C-B9FB-4A5D-AC09-0035A478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1FAFE-2A8B-4652-A333-4E3AF2D1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E6D3B-33E4-40F4-A377-087DDE5F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D13B9-A1E7-49F8-8636-0F893BF5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FDBD8-5F28-4CB6-9E7E-21B2E30F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B646D-527D-42FB-AA87-0A11E359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D13-0F39-40E6-B285-29CF0DE0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2B84D-30ED-4BF2-B287-7AEFCF4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5D22F-F814-4550-810D-E4242B05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F1F47-4661-4BA6-9BCB-AF44988E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9B4E8-B0EE-498D-9204-5F86A531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B8620-AF28-4AC9-8320-A02D8FAB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80A65-76EA-4018-8461-6D342C01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75CC0-88D8-4FAB-855D-265B51F8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7B74C-CE38-49FB-A2FB-CDDF64BE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E9B1B-ABB1-47BD-A788-82F89E7B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F1E2E-A4B6-48BD-ADEB-44CE499C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218-1592-4888-B4E6-346F0D99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BC9A6-6EC9-4263-9B0F-81561246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C7A42-31BA-4C82-BD71-187B3BA5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462CE-780D-4134-8EF3-A15E8320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3DA7B-7AFE-49D2-8DEA-D3151BEC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14CC4-4FB6-4963-A474-E75D7A8B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C9A62-6DB0-4C29-BB68-4331393E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166CB-668D-4108-93C2-9CC7E433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85DCD-183E-495E-B98D-CC85BDE7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00D3E-7900-4C14-A23D-478B97C5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4F541-D7AC-4A4F-8F48-88AB765D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4BA9-B715-427F-855E-158D9C01D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C2AF-2CAE-47F8-B624-E231BA20F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DCCA-D90E-41BD-8354-55623E80E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C04D-EFC4-4529-B5BC-E97B93921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5740-37E8-46E6-B498-B6C762F4C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7DE0-FF55-4CE6-B1ED-978322BE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C. Astor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.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64F9-5B02-4986-8018-E085F4E04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C539-D6D1-49E8-95A7-5EC6D45F3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B989-811E-4BAD-BE43-8FADF78BF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142C-605C-422E-966A-C5AA4864D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D4C1-63E3-42EA-B218-6B41968F3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5029-B760-47FD-A355-005CCB522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LTP-DTP-AP, Oliver Mör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7532-4776-432A-9003-395EB2AB5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covadonga.astorga-llorens@jrc.ec.europa.eu" TargetMode="Externa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685800" y="2130480"/>
            <a:ext cx="777240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LTP-D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Pollutants Subgroup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ion phase 2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4778280" y="5213520"/>
            <a:ext cx="436572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11 Bern, EU-WL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DTP Meeting-13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Date Placeholder 2"/>
          <p:cNvSpPr/>
          <p:nvPr/>
        </p:nvSpPr>
        <p:spPr>
          <a:xfrm>
            <a:off x="406440" y="6219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Astorga/ O. Mör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244440" y="1504080"/>
            <a:ext cx="8899560" cy="463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VALIDATION PHASE 2 SHOULD INCLUD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EASUREMENT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N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Row measurements difficult to implement right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N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O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Sampling devices not yet available/m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Ethanol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(EtOH) and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Aldehydes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: Formaldehyde, Acetaldehyde (RCHO, R = H or Me)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Only relevant for Flex fuel vehicles (not part of validation 2)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>
            <a:hlinkClick r:id="rId1" action="ppaction://hlinksldjump"/>
          </p:cNvPr>
          <p:cNvSpPr/>
          <p:nvPr/>
        </p:nvSpPr>
        <p:spPr>
          <a:xfrm>
            <a:off x="425520" y="6211800"/>
            <a:ext cx="436320" cy="354240"/>
          </a:xfrm>
          <a:custGeom>
            <a:avLst/>
            <a:gdLst>
              <a:gd name="textAreaLeft" fmla="*/ 22680 w 436320"/>
              <a:gd name="textAreaRight" fmla="*/ 413640 w 436320"/>
              <a:gd name="textAreaTop" fmla="*/ 22680 h 354240"/>
              <a:gd name="textAreaBottom" fmla="*/ 331560 h 354240"/>
            </a:gdLst>
            <a:ahLst/>
            <a:rect l="textAreaLeft" t="textAreaTop" r="textAreaRight" b="textAreaBottom"/>
            <a:pathLst>
              <a:path w="26600" h="21600">
                <a:moveTo>
                  <a:pt x="0" y="0"/>
                </a:moveTo>
                <a:lnTo>
                  <a:pt x="26600" y="0"/>
                </a:lnTo>
                <a:lnTo>
                  <a:pt x="26600" y="21600"/>
                </a:lnTo>
                <a:lnTo>
                  <a:pt x="0" y="21600"/>
                </a:lnTo>
                <a:close/>
              </a:path>
              <a:path fill="lightenLess" w="26600" h="21600">
                <a:moveTo>
                  <a:pt x="0" y="0"/>
                </a:moveTo>
                <a:lnTo>
                  <a:pt x="26600" y="0"/>
                </a:lnTo>
                <a:lnTo>
                  <a:pt x="25200" y="1400"/>
                </a:lnTo>
                <a:lnTo>
                  <a:pt x="1400" y="1400"/>
                </a:lnTo>
                <a:close/>
              </a:path>
              <a:path fill="darken" w="26600" h="21600">
                <a:moveTo>
                  <a:pt x="26600" y="0"/>
                </a:moveTo>
                <a:lnTo>
                  <a:pt x="26600" y="21600"/>
                </a:lnTo>
                <a:lnTo>
                  <a:pt x="25200" y="20200"/>
                </a:lnTo>
                <a:lnTo>
                  <a:pt x="25200" y="1400"/>
                </a:lnTo>
                <a:close/>
              </a:path>
              <a:path fill="darkenLess" w="26600" h="21600">
                <a:moveTo>
                  <a:pt x="26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00" y="20200"/>
                </a:lnTo>
                <a:close/>
              </a:path>
              <a:path fill="lighten" w="26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00" h="21600">
                <a:moveTo>
                  <a:pt x="6293" y="10800"/>
                </a:moveTo>
                <a:lnTo>
                  <a:pt x="20306" y="3794"/>
                </a:lnTo>
                <a:lnTo>
                  <a:pt x="203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570960" y="882720"/>
            <a:ext cx="65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lutants to be address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during phase 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2"/>
          <p:cNvSpPr/>
          <p:nvPr/>
        </p:nvSpPr>
        <p:spPr>
          <a:xfrm>
            <a:off x="914400" y="1243080"/>
            <a:ext cx="7218360" cy="49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riteria and list of parameters will be provide by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should be based on NOx (e.g. variability max twice the variability of Nox; Criteria must also depend on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 document </a:t>
            </a: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WLTP-DTP-02-06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doc (available on CIRCA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2"/>
          <p:cNvSpPr/>
          <p:nvPr/>
        </p:nvSpPr>
        <p:spPr>
          <a:xfrm>
            <a:off x="276120" y="1719360"/>
            <a:ext cx="8526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setting lists overview of the test procedure: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based on gtr 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ing the required information with respect to performance criteria has been tasked within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of Data format for exchange for N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914400" y="1541520"/>
            <a:ext cx="776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rafting of GTR for reference methods [*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sed on OICA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, Ethanol and Aldehydes based on existing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thering of performance data for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andidat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s have been assigned within group and will be performed until next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51160" y="8161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 on g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2550960" y="5603760"/>
            <a:ext cx="62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[*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GTR proposal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LTP-DTP-LabProcICE-0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2042280" y="1754280"/>
            <a:ext cx="48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Ref.: CIRCA documents WLTP-DTP-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GTR propos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LTP-DTP-LabProcICE-0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&amp; open ques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WLTP-D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P-07-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n Issues Ma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6653160" y="79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Date Placeholder 2"/>
          <p:cNvSpPr/>
          <p:nvPr/>
        </p:nvSpPr>
        <p:spPr>
          <a:xfrm>
            <a:off x="406440" y="6219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Astorga/ O. Mör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125640" y="77472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Methods for additional poll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1"/>
          <a:stretch/>
        </p:blipFill>
        <p:spPr>
          <a:xfrm>
            <a:off x="60480" y="1444680"/>
            <a:ext cx="5281560" cy="4913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"/>
          <p:cNvPicPr/>
          <p:nvPr/>
        </p:nvPicPr>
        <p:blipFill>
          <a:blip r:embed="rId2"/>
          <a:stretch/>
        </p:blipFill>
        <p:spPr>
          <a:xfrm>
            <a:off x="5327640" y="1444680"/>
            <a:ext cx="38163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200160" y="974880"/>
            <a:ext cx="43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ble of performanc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219240" y="1758960"/>
            <a:ext cx="8638920" cy="331632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5">
            <a:hlinkClick r:id="rId2" action="ppaction://hlinksldjump"/>
          </p:cNvPr>
          <p:cNvSpPr/>
          <p:nvPr/>
        </p:nvSpPr>
        <p:spPr>
          <a:xfrm>
            <a:off x="338040" y="5595840"/>
            <a:ext cx="358920" cy="3906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90600"/>
              <a:gd name="textAreaBottom" fmla="*/ 367560 h 390600"/>
            </a:gdLst>
            <a:ahLst/>
            <a:rect l="textAreaLeft" t="textAreaTop" r="textAreaRight" b="textAreaBottom"/>
            <a:pathLst>
              <a:path w="21600" h="23505">
                <a:moveTo>
                  <a:pt x="0" y="0"/>
                </a:moveTo>
                <a:lnTo>
                  <a:pt x="21600" y="0"/>
                </a:lnTo>
                <a:lnTo>
                  <a:pt x="21600" y="23505"/>
                </a:lnTo>
                <a:lnTo>
                  <a:pt x="0" y="23505"/>
                </a:lnTo>
                <a:close/>
              </a:path>
              <a:path fill="lightenLess" w="21600" h="235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5">
                <a:moveTo>
                  <a:pt x="21600" y="0"/>
                </a:moveTo>
                <a:lnTo>
                  <a:pt x="21600" y="23505"/>
                </a:lnTo>
                <a:lnTo>
                  <a:pt x="20200" y="22105"/>
                </a:lnTo>
                <a:lnTo>
                  <a:pt x="20200" y="1400"/>
                </a:lnTo>
                <a:close/>
              </a:path>
              <a:path fill="darkenLess" w="21600" h="23505">
                <a:moveTo>
                  <a:pt x="21600" y="23505"/>
                </a:moveTo>
                <a:lnTo>
                  <a:pt x="0" y="23505"/>
                </a:lnTo>
                <a:lnTo>
                  <a:pt x="1400" y="22105"/>
                </a:lnTo>
                <a:lnTo>
                  <a:pt x="20200" y="22105"/>
                </a:lnTo>
                <a:close/>
              </a:path>
              <a:path fill="lighten" w="21600" h="23505">
                <a:moveTo>
                  <a:pt x="0" y="235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5"/>
                </a:lnTo>
                <a:close/>
              </a:path>
              <a:path fill="darken" w="21600" h="23505">
                <a:moveTo>
                  <a:pt x="3794" y="11752"/>
                </a:moveTo>
                <a:lnTo>
                  <a:pt x="17806" y="4746"/>
                </a:lnTo>
                <a:lnTo>
                  <a:pt x="17806" y="187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1049040" y="1193760"/>
            <a:ext cx="682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Ref.: CIRCA documents WLTP-DTP-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 GTR propos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b6bcf"/>
                </a:solidFill>
                <a:latin typeface="Arial"/>
              </a:rPr>
              <a:t>WLTP-DTP-LabProcICE-0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6653160" y="795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4483080" y="5889240"/>
            <a:ext cx="444024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donga.astorga-llorens@jrc.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fr-BE" sz="1600" spc="-1" strike="noStrike" u="sng">
                <a:solidFill>
                  <a:srgbClr val="333399"/>
                </a:solidFill>
                <a:uFillTx/>
                <a:latin typeface="Arial"/>
              </a:rPr>
              <a:t>http://ies.jrc.cec.eu.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fr-BE" sz="1600" spc="-1" strike="noStrike" u="sng">
                <a:solidFill>
                  <a:srgbClr val="000099"/>
                </a:solidFill>
                <a:uFillTx/>
                <a:latin typeface="Arial"/>
              </a:rPr>
              <a:t>http://ie.jrc.cec.eu.int/Unit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1006560" y="4097160"/>
            <a:ext cx="74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&amp; open 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WLTP-D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P-07-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n Issues Ma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Date Placeholder 2"/>
          <p:cNvSpPr/>
          <p:nvPr/>
        </p:nvSpPr>
        <p:spPr>
          <a:xfrm>
            <a:off x="406440" y="6219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Astorga/ O. Mör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2:57:13Z</dcterms:created>
  <dc:creator>Moersch, Oliver (019)</dc:creator>
  <dc:description/>
  <dc:language>en-US</dc:language>
  <cp:lastModifiedBy>astorca</cp:lastModifiedBy>
  <dcterms:modified xsi:type="dcterms:W3CDTF">2011-09-13T15:27:35Z</dcterms:modified>
  <cp:revision>215</cp:revision>
  <dc:subject/>
  <dc:title>Folie 1</dc:title>
</cp:coreProperties>
</file>