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96088" cy="9928225"/>
</p:presentation>
</file>

<file path=ppt/commentAuthors.xml><?xml version="1.0" encoding="utf-8"?>
<p:cmAuthorLst xmlns:p="http://schemas.openxmlformats.org/presentationml/2006/main">
  <p:cmAuthor id="0" name="astorca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1-01-09T17:02:26.421000000" idx="1">
    <p:pos x="10" y="10"/>
    <p:text>WHAT'S COMING NOW...
</p:text>
  </p:cm>
  <p:cm authorId="0" dt="2011-01-10T11:24:18.515000000" idx="2">
    <p:pos x="146" y="146"/>
    <p:text>OICA, The International Organization of Motor Vehicle Manufacturers was founded in Paris in 1919. It is known as the Organisation Internationale des Constructeurs d AUTOMOB
oica.net -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4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 type="sldNum" idx="4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0EAB-88F8-4151-A565-2E37F0026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058A-6E37-407E-8EB7-5942E97D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6E03-09A5-4D4F-BB2D-44D1708E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232B-4E0D-48DF-BB26-30B9C7705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11E7-EE87-46E7-8DB9-EB9145B35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B556-DF5B-4295-8C7D-7F861F33C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47E5-7E17-4728-A81F-326534E2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45B5-4A05-40F1-96E1-3D8B1C281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elow the referenc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F2B6-5352-4A77-99C5-F337810D8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7D7E-A189-4834-BB8D-374ABC04B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343-EBF2-4C9A-A10D-4A2832F6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B9A-037C-4B86-B2B3-835BC5B3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E7987-7C6B-4594-9248-A18228BD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F3400-C78F-4D99-B87B-286D11E3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9BB7A-FE61-4E32-9CCE-E53CB8F3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4A0EC-2EEA-4021-8C5D-3DB657E8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77542-F1BB-4D1B-844F-1A3A479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959E7-9401-4856-9DB1-049F067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B1768-FAE7-44DE-B00C-E65B89D1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11543-1D4C-4EFA-AAF4-36ED3F64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50E37-0739-475B-B226-7BEB9681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87F50-951D-4E01-8804-566914A2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632-21D4-44A7-A0B1-7755D04C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56D9E-4F85-42C3-9DE7-4A748207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2CB34-B2D3-4B99-983E-6D17B620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9DEC2-6256-466F-BF27-CC1A7077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3BF54-3435-4800-821D-6BBF97EE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6C9BE-713E-4C6C-8806-9325CD01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FD313-F65F-4437-AD64-2AA17BF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16CE8-E7E2-4A30-95AE-A025F300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2CE68-A139-49C2-9108-1CC29F6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9C26E-CCE7-4568-A458-A896A22D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FB5C8-EE44-4A5F-8820-C75BB44A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250-B235-48CA-A617-24736E2C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53638-96E9-4605-AC66-F3004C0C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7417B-1393-4175-BB8D-F250BBAD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6B902-64BF-4E79-A9D8-C209DFDD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506B5-1128-4B4C-875A-355333E7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A8678-939F-45D6-AD6F-C24DD8B6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CA077-FE6C-4FA8-A3C4-31C72662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BDC90-B5C5-4739-B893-ECADC771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BDA13-7840-4FA5-BBF8-29583FB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4171E-C346-40C8-8F86-3E46E22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4A5E6-8641-49E1-A630-D4BE804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B5D7-402F-4CEF-8628-B29863B6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02972-0FBD-45F6-98AE-EC39B98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D4CB6-D75D-433F-B276-051F03C4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FDE03-BC0E-4503-B1ED-AE934215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C26D1-46D7-4D3E-A176-0102945C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6CD68-63B8-4B1C-88B0-A4258C85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88F36-4B7A-42EA-BCD9-740CCF9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782EA-044B-42B4-8B9A-E2B015D8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D76AD-F8B5-40F2-9D17-D812639D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9A36F-17CB-4FBE-A077-B3F3FF12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B21DA-669B-46F8-8A58-8337B54E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FE6A-862A-4192-B7BA-0671B982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00894-DDFB-4F5B-99BB-3BFC7379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92A5D-DEC8-456D-9351-64CE9418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DBEFF-6D43-4A89-BB94-E713F573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E7348-4F69-445B-B184-2452C771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B6380-F075-4986-811B-4A7B8706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CA36A-D59B-4B78-9F1F-AC82E779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5A5B9-66E6-4283-B8E7-1148AA25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68685-8BDE-4EFF-8E43-5A0A0269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D90F7-F3CC-4501-B1A2-FC0F5F7C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E5EF2-D184-409E-976E-E1EF7453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C01B-561D-4F62-B06C-8340EB99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CAE89-01D8-48AC-AE24-10C89739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94298-9E1E-443D-92C6-064BF522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36D1B-10B8-4774-AAF0-ED3637E4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B541C-6A64-4A18-89B5-607FBD61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57A84-88C6-4C08-A69B-66606772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1A946-6654-4945-9309-8D53AB01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657FA-D749-450A-998C-4E7E5CE9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0B34-08F7-4EC9-80C9-A4468E41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2B28-0386-4C14-A2AA-741C298A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21EB-5978-4074-A282-0A244FBA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AB4F-D2EE-4C78-B59D-664B80E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0B9-01A8-44B1-B0D6-2B454C6A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F8A6-E83A-4089-8BE5-9735E62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FE29-E631-48DA-B09A-0E8A4985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11E0-BB5D-4E27-8D21-D5198DDA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D3F1-164F-4B19-9F16-EC9FA7EA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BEE2-4B81-4CFC-A57B-33836DEB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88C2-8E43-4692-93F0-D389B0DD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5AC3-60CD-4A9A-B35D-3AA1346C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4542-1BEA-41BA-9FC8-6E64B2EB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F254-B6BA-4182-8CAF-466F4BD0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9B600-DB48-458F-819C-0D3237D6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A5B-9C25-4319-8C09-BF8C5512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D692-AEE3-406C-9152-4D230EF8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A45E-E3D0-4AE4-BEB0-E9CDBF6F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A16A-7189-465C-BA67-3EBE3FC7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4633-02DE-4967-BDE9-DCE5CB19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26EB7-9A6E-490D-92FC-38024F22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C355-4FBC-49A6-8E48-98696365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6203-BCC6-4FF1-87D4-578D3C81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63B1-A6F7-4E77-8A8F-E9C12389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BF91B-1E5A-4EFE-A2D5-7CE0B2D1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8E07-C406-4940-BC93-D34AA4CA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CEF-FFC1-4B44-88DC-DCFA1CBC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880D-AC0A-4456-82B9-9DFC9C80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58704-AA76-44B8-B84E-AEE2EBF6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5D58-47FB-49C8-9C4C-19167EE1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F1424-00CE-4057-825F-2CA3CF54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43790-EC13-4EF2-B6FA-72441D49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22B89-5704-4D31-9157-53724296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46928-32E3-4B80-99D5-1F231042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14BC-E843-40D8-A40F-7FF604EE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B4D13-CE8B-4971-98CF-3D9BB8FD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60C4-17AF-47E8-9A75-CF3C5EE8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4D5-EB9F-4D89-91DA-7FC7CE39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E42D3-1350-46A5-8EDB-9167C4AF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E551-506A-4121-8B4A-2CEDCE0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0477D-5798-4264-8B7B-3D7C102D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6BD9F-867F-4F00-85FF-792C6E6C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58451-0687-4666-AA9F-3B479899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89157-C1DB-422C-AE85-BE86D00C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D937-C5D3-4802-9187-2D97FF96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492B-5D13-4EBA-AFFA-265EA202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05F81-B66B-42ED-B25A-89ACF04D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C9297-71DE-43D8-ADB4-3D4DB029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585-2406-4FFF-8049-CC291BB5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2A70-6EA1-4BBB-827F-CFC63218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29A0D-02AA-489F-9444-8E265EE4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72688-F070-46FD-B0C9-8EEE89D6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9876C-5913-4CF2-846D-22B46750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212A-B3B6-4637-8FCE-23AC7DBB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346CA-4151-411A-ACCA-B220B712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A035F-15A9-46EF-BB92-40817B1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96206-E93B-4206-B694-B10371F1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C0A75-CE80-42F6-9AA6-2629B5F3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397A-8B10-4BD2-8741-E96433AA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BF1-FC8D-44CD-B34B-99D15AA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87AA0-1D5B-4427-AF0F-99261743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486E2-A93E-4E79-BCB5-B2E89D5C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CE19-C0A4-4D80-9203-0DDA83EA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8E5C5-B815-4F92-A7AA-7B647DD0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B1FC6-D7C7-4BC9-ABDE-73254014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661DE-B890-45CE-B5A0-0508FA55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FA25E-2139-4DF3-BB46-20F7C720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F4F70-0E1C-44F6-A4E6-4699AB9A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FE66C-CBAC-4204-855A-617B7742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8F389-208A-42EA-B2DB-642240EC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7F7-CE65-4FC0-A332-F5362757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82852-E023-4DCA-9A35-92880FDD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15E45-4B52-4C30-B310-57638D4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EBEC3-F5AA-4ECC-AA94-B483C66D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36811-8FA0-4B77-A651-A279904B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C3225-7658-4F50-88CD-62B8B167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07BE6-77CC-41B8-BC50-A38CD506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8D28F-B364-424D-8B43-BAB088F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FF56A-5011-4F9D-B191-E5E5B258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D3531-4B0B-4AC2-BB02-66A386E7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44BF4-D22C-4588-BAB4-0718A72D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5E2-E830-49D8-AE30-19984672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4DF21-436F-43A2-876F-F0D491C7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448F0-E3D2-4BD4-84C3-99558C8D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9DDCF-8A35-4641-943D-C4B9039C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9AC98-9102-4939-8B9D-3CDAD904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AE206-D52A-41D9-AC2C-AD50944E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B6D09-0319-42F2-8CEF-398991D1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60E90-2174-47B8-AB06-7976C22C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6ECCD-CE62-43A6-BCF3-AB93DD10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E81A2-4919-49DF-BF26-08AAE71B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03EE1-C3EB-4EE0-B759-88705134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F04A-9BFE-45EA-AE8E-79881753A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D281-8639-4795-951F-18B937D83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0648-C2E7-41D0-8CE9-DF477CAC3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9BD1-714E-4093-9E82-FFD3C6072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C473-E5C0-42B9-9DCD-406F15310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2C9C-E322-4E36-B59F-4EC43584C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C. Astor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.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DAD0-726E-4DCC-97F6-56126E3BB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A20A-518E-40A8-893C-366D4871E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9713-CACA-4122-8215-00D4ABA0E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56E1-B2E8-42F0-A77A-54FAEE3A8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3E53-EA96-447D-A3B5-E033489B3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CC4C-23C9-40FB-B820-5A394E8D0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A5FB-F36A-4E86-B45F-1877B11CC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covadonga.astorga-llorens@jrc.ec.europa.eu" TargetMode="Externa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685800" y="2130480"/>
            <a:ext cx="777240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LTP-D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Pollutants Subgroup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ion phase 2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4778280" y="5213520"/>
            <a:ext cx="436572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11 Bern, EU-WL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DTP Meeting-13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Date Placeholder 2"/>
          <p:cNvSpPr/>
          <p:nvPr/>
        </p:nvSpPr>
        <p:spPr>
          <a:xfrm>
            <a:off x="406440" y="6219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Astorga/ O. Mör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244440" y="1504080"/>
            <a:ext cx="8899560" cy="463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VALIDATION PHASE 2 SHOULD INCLUD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ASUREMENT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N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Row measurements difficult to implement right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N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O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Sampling devices not yet available/m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Ethanol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(EtOH) and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Aldehydes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: Formaldehyde, Acetaldehyde (RCHO, R = H or Me)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Only relevant for Flex fuel vehicles (not part of validation 2)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>
            <a:hlinkClick r:id="rId1" action="ppaction://hlinksldjump"/>
          </p:cNvPr>
          <p:cNvSpPr/>
          <p:nvPr/>
        </p:nvSpPr>
        <p:spPr>
          <a:xfrm>
            <a:off x="425520" y="6211800"/>
            <a:ext cx="436320" cy="354240"/>
          </a:xfrm>
          <a:custGeom>
            <a:avLst/>
            <a:gdLst>
              <a:gd name="textAreaLeft" fmla="*/ 22680 w 436320"/>
              <a:gd name="textAreaRight" fmla="*/ 413640 w 436320"/>
              <a:gd name="textAreaTop" fmla="*/ 22680 h 354240"/>
              <a:gd name="textAreaBottom" fmla="*/ 331560 h 354240"/>
            </a:gdLst>
            <a:ahLst/>
            <a:rect l="textAreaLeft" t="textAreaTop" r="textAreaRight" b="textAreaBottom"/>
            <a:pathLst>
              <a:path w="26600" h="21600">
                <a:moveTo>
                  <a:pt x="0" y="0"/>
                </a:moveTo>
                <a:lnTo>
                  <a:pt x="26600" y="0"/>
                </a:lnTo>
                <a:lnTo>
                  <a:pt x="26600" y="21600"/>
                </a:lnTo>
                <a:lnTo>
                  <a:pt x="0" y="21600"/>
                </a:lnTo>
                <a:close/>
              </a:path>
              <a:path fill="lightenLess" w="26600" h="21600">
                <a:moveTo>
                  <a:pt x="0" y="0"/>
                </a:moveTo>
                <a:lnTo>
                  <a:pt x="26600" y="0"/>
                </a:lnTo>
                <a:lnTo>
                  <a:pt x="25200" y="1400"/>
                </a:lnTo>
                <a:lnTo>
                  <a:pt x="1400" y="1400"/>
                </a:lnTo>
                <a:close/>
              </a:path>
              <a:path fill="darken" w="26600" h="21600">
                <a:moveTo>
                  <a:pt x="26600" y="0"/>
                </a:moveTo>
                <a:lnTo>
                  <a:pt x="26600" y="21600"/>
                </a:lnTo>
                <a:lnTo>
                  <a:pt x="25200" y="20200"/>
                </a:lnTo>
                <a:lnTo>
                  <a:pt x="25200" y="1400"/>
                </a:lnTo>
                <a:close/>
              </a:path>
              <a:path fill="darkenLess" w="26600" h="21600">
                <a:moveTo>
                  <a:pt x="26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00" y="20200"/>
                </a:lnTo>
                <a:close/>
              </a:path>
              <a:path fill="lighten" w="26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00" h="21600">
                <a:moveTo>
                  <a:pt x="6293" y="10800"/>
                </a:moveTo>
                <a:lnTo>
                  <a:pt x="20306" y="3794"/>
                </a:lnTo>
                <a:lnTo>
                  <a:pt x="203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570960" y="882720"/>
            <a:ext cx="65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lutants to be address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during phase 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2"/>
          <p:cNvSpPr/>
          <p:nvPr/>
        </p:nvSpPr>
        <p:spPr>
          <a:xfrm>
            <a:off x="914400" y="1243080"/>
            <a:ext cx="7218360" cy="49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riteria and list of parameters will be provide by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should be based on NOx (e.g. variability max twice the variability of Nox; Criteria must also depend on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 document </a:t>
            </a: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WLTP-DTP-02-06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doc (available on CIRCA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2"/>
          <p:cNvSpPr/>
          <p:nvPr/>
        </p:nvSpPr>
        <p:spPr>
          <a:xfrm>
            <a:off x="276120" y="1719360"/>
            <a:ext cx="8526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etting lists overview of the test procedure: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based on gtr 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ing the required information with respect to performance criteria has been tasked withi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of Data format for exchange for N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14400" y="1541520"/>
            <a:ext cx="776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rafting of GTR for reference methods [*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sed on OICA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, Ethanol and Aldehydes based on existing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thering of performance data for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andidat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s have been assigned within group and will be performed until next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51160" y="8161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on g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2550960" y="5603760"/>
            <a:ext cx="62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[*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TP-DTP-LabProcICE-0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2042280" y="1754280"/>
            <a:ext cx="48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Ref.: CIRCA documents WLTP-DTP-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LTP-DTP-LabProcICE-0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&amp; open ques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WLTP-D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P-07-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n Issues Ma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6653160" y="79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Date Placeholder 2"/>
          <p:cNvSpPr/>
          <p:nvPr/>
        </p:nvSpPr>
        <p:spPr>
          <a:xfrm>
            <a:off x="406440" y="6219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Astorga/ O. Mör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125640" y="77472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Methods for additional poll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1"/>
          <a:stretch/>
        </p:blipFill>
        <p:spPr>
          <a:xfrm>
            <a:off x="60480" y="1444680"/>
            <a:ext cx="5281560" cy="4913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"/>
          <p:cNvPicPr/>
          <p:nvPr/>
        </p:nvPicPr>
        <p:blipFill>
          <a:blip r:embed="rId2"/>
          <a:stretch/>
        </p:blipFill>
        <p:spPr>
          <a:xfrm>
            <a:off x="5327640" y="1444680"/>
            <a:ext cx="38163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200160" y="974880"/>
            <a:ext cx="43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ble of performanc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219240" y="1758960"/>
            <a:ext cx="8638920" cy="331632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5">
            <a:hlinkClick r:id="rId2" action="ppaction://hlinksldjump"/>
          </p:cNvPr>
          <p:cNvSpPr/>
          <p:nvPr/>
        </p:nvSpPr>
        <p:spPr>
          <a:xfrm>
            <a:off x="338040" y="5595840"/>
            <a:ext cx="358920" cy="3906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90600"/>
              <a:gd name="textAreaBottom" fmla="*/ 367560 h 390600"/>
            </a:gdLst>
            <a:ahLst/>
            <a:rect l="textAreaLeft" t="textAreaTop" r="textAreaRight" b="textAreaBottom"/>
            <a:pathLst>
              <a:path w="21600" h="23505">
                <a:moveTo>
                  <a:pt x="0" y="0"/>
                </a:moveTo>
                <a:lnTo>
                  <a:pt x="21600" y="0"/>
                </a:lnTo>
                <a:lnTo>
                  <a:pt x="21600" y="23505"/>
                </a:lnTo>
                <a:lnTo>
                  <a:pt x="0" y="23505"/>
                </a:lnTo>
                <a:close/>
              </a:path>
              <a:path fill="lightenLess" w="21600" h="235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5">
                <a:moveTo>
                  <a:pt x="21600" y="0"/>
                </a:moveTo>
                <a:lnTo>
                  <a:pt x="21600" y="23505"/>
                </a:lnTo>
                <a:lnTo>
                  <a:pt x="20200" y="22105"/>
                </a:lnTo>
                <a:lnTo>
                  <a:pt x="20200" y="1400"/>
                </a:lnTo>
                <a:close/>
              </a:path>
              <a:path fill="darkenLess" w="21600" h="23505">
                <a:moveTo>
                  <a:pt x="21600" y="23505"/>
                </a:moveTo>
                <a:lnTo>
                  <a:pt x="0" y="23505"/>
                </a:lnTo>
                <a:lnTo>
                  <a:pt x="1400" y="22105"/>
                </a:lnTo>
                <a:lnTo>
                  <a:pt x="20200" y="22105"/>
                </a:lnTo>
                <a:close/>
              </a:path>
              <a:path fill="lighten" w="21600" h="23505">
                <a:moveTo>
                  <a:pt x="0" y="235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5"/>
                </a:lnTo>
                <a:close/>
              </a:path>
              <a:path fill="darken" w="21600" h="23505">
                <a:moveTo>
                  <a:pt x="3794" y="11752"/>
                </a:moveTo>
                <a:lnTo>
                  <a:pt x="17806" y="4746"/>
                </a:lnTo>
                <a:lnTo>
                  <a:pt x="17806" y="187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1049040" y="1193760"/>
            <a:ext cx="682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Ref.: CIRCA documents WLTP-DTP-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b6bcf"/>
                </a:solidFill>
                <a:latin typeface="Arial"/>
              </a:rPr>
              <a:t>WLTP-DTP-LabProcICE-0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6653160" y="79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4483080" y="5889240"/>
            <a:ext cx="444024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donga.astorga-llorens@jrc.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BE" sz="1600" spc="-1" strike="noStrike" u="sng">
                <a:solidFill>
                  <a:srgbClr val="333399"/>
                </a:solidFill>
                <a:uFillTx/>
                <a:latin typeface="Arial"/>
              </a:rPr>
              <a:t>http://ies.jrc.cec.eu.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BE" sz="1600" spc="-1" strike="noStrike" u="sng">
                <a:solidFill>
                  <a:srgbClr val="000099"/>
                </a:solidFill>
                <a:uFillTx/>
                <a:latin typeface="Arial"/>
              </a:rPr>
              <a:t>http://ie.jrc.cec.eu.int/Unit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1006560" y="4097160"/>
            <a:ext cx="74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&amp; open 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WLTP-D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P-07-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n Issues Ma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Date Placeholder 2"/>
          <p:cNvSpPr/>
          <p:nvPr/>
        </p:nvSpPr>
        <p:spPr>
          <a:xfrm>
            <a:off x="406440" y="6219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Astorga/ O. Mör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57:13Z</dcterms:created>
  <dc:creator>Moersch, Oliver (019)</dc:creator>
  <dc:description/>
  <dc:language>en-US</dc:language>
  <cp:lastModifiedBy>astorca</cp:lastModifiedBy>
  <dcterms:modified xsi:type="dcterms:W3CDTF">2011-09-13T15:27:35Z</dcterms:modified>
  <cp:revision>215</cp:revision>
  <dc:subject/>
  <dc:title>Folie 1</dc:title>
</cp:coreProperties>
</file>