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7592B4D-117F-4345-82A9-6BEBAA2F05EE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951CEC8-C3DC-461E-B5FA-9160F9CCECB1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B300143-2E8C-4215-89D1-E906EFC76BB1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026D-FBCB-403B-B9CB-544706C41656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9" descr="Logo_col_wappen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Line 40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1298520" y="6392880"/>
            <a:ext cx="6153120" cy="19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. D’Urbano, Swiss FOEN, DTP Chair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7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LTP DTP, 12th -14th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Welcome to the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7th Meeting of WLTP DTP</a:t>
            </a:r>
            <a:br>
              <a:rPr sz="2400"/>
            </a:b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2th to 14th September 2011</a:t>
            </a: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Bern (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5300280"/>
            <a:ext cx="74293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1000" y="907920"/>
            <a:ext cx="31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ir Pollution Control and NIR Di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(Day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390680" y="2268360"/>
            <a:ext cx="6999120" cy="341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6810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(Day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810480" cy="1195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414440" y="2543040"/>
            <a:ext cx="694692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2. Update on DH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3. General issues (DTP level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neral issues (DTP lev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ation of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echnic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arameter sett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pen issues not essential for the start of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h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finiton of vehicle test mass (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ertia classes (icct and O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oak and test temperature (EU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mily concept (to be def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4. Report from the Subgrou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58920" y="1341000"/>
            <a:ext cx="747216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zational 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 information to DTP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s of DTP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val of draft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on DH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TP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group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rth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1. Introduction to DTP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rganizational remarks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TP meeting takes place at Hotel B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orning and afternoon break with coffee, drink and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Lunch on Tuesday and on Wednesday will be served in the hotel between 12.30 and 13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rganizational remarks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vent on Tuesday ev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mmon dinner at restaurant Casino Bern from 19.00 (Herrengass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843280" y="2779560"/>
            <a:ext cx="399564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7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mandate of Mr. Krause as secretary of DTP has not been renewed. Thank him for his contribution to this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orking progress is remarkable, nevertherless still many open issues to be addressed (validation phase, GTR, certif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t up of a GTR drafting group is not available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7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 validation task force (VTF) led by JRC has been se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ation of validation phase 2 is in progress and should be finalized very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rst set of parameters for implementation of validation phase 2 by laboratories have been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bjectives of DTP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scuss the parameter setting needed for validation phase 2 and the finalization of the technic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how working progress from the subgroups and resolve the remaining 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ach an agremeent on open issues at DTP level, which are not absolutely essential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(Day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409760" y="2290680"/>
            <a:ext cx="6956280" cy="3154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1476360" y="907920"/>
            <a:ext cx="6810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7:02Z</dcterms:created>
  <dc:creator>Giovanni D'Urbano</dc:creator>
  <dc:description/>
  <dc:language>en-US</dc:language>
  <cp:lastModifiedBy>Giovanni D'Urbano</cp:lastModifiedBy>
  <cp:lastPrinted>2003-11-14T16:51:38Z</cp:lastPrinted>
  <dcterms:modified xsi:type="dcterms:W3CDTF">2011-09-12T11:03:09Z</dcterms:modified>
  <cp:revision>428</cp:revision>
  <dc:subject>Cours sanu</dc:subject>
  <dc:title>Dispositions de l‘OPair pour les machines de chantiers  Cadre légal, rôles et responsabilit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5:4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7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französ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4443420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