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5920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7560" y="472392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846679B-ECA1-489B-8F4E-0B5774CBA1A6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5BAC999-8DF7-491F-AECF-348B24E5243C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07560" y="472392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9F303B8-EC80-4AE3-AA09-E9DE0BDC757B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07560" y="472392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240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888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8592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240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888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6720" y="323640"/>
            <a:ext cx="74610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1240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3888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8592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1240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3888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96720" y="323640"/>
            <a:ext cx="74610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5"/>
          <p:cNvSpPr/>
          <p:nvPr/>
        </p:nvSpPr>
        <p:spPr>
          <a:xfrm>
            <a:off x="533520" y="3049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33"/>
          <p:cNvSpPr/>
          <p:nvPr/>
        </p:nvSpPr>
        <p:spPr>
          <a:xfrm>
            <a:off x="6448320" y="6397560"/>
            <a:ext cx="22669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D644-D44B-4438-A9A6-CAD17D6BC7A3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9" descr="Logo_col_wappen"/>
          <p:cNvPicPr/>
          <p:nvPr/>
        </p:nvPicPr>
        <p:blipFill>
          <a:blip r:embed="rId2"/>
          <a:stretch/>
        </p:blipFill>
        <p:spPr>
          <a:xfrm>
            <a:off x="360360" y="390600"/>
            <a:ext cx="266760" cy="304560"/>
          </a:xfrm>
          <a:prstGeom prst="rect">
            <a:avLst/>
          </a:prstGeom>
          <a:ln w="0">
            <a:noFill/>
          </a:ln>
        </p:spPr>
      </p:pic>
      <p:sp>
        <p:nvSpPr>
          <p:cNvPr id="5" name="Line 40"/>
          <p:cNvSpPr/>
          <p:nvPr/>
        </p:nvSpPr>
        <p:spPr>
          <a:xfrm flipH="1">
            <a:off x="1285560" y="6354720"/>
            <a:ext cx="74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1298520" y="6392880"/>
            <a:ext cx="6153120" cy="19440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. D’Urbano, Swiss FOEN, DTP Chair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7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LTP DTP, 12th -14thSeptember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2"/>
          <p:cNvSpPr/>
          <p:nvPr/>
        </p:nvSpPr>
        <p:spPr>
          <a:xfrm>
            <a:off x="4572000" y="387360"/>
            <a:ext cx="4095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deral Department of the Environ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, Energy and Communications DET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deral Office for the Environment</a:t>
            </a:r>
            <a:r>
              <a:rPr b="1" lang="de-CH" sz="800" spc="-1" strike="noStrike">
                <a:solidFill>
                  <a:srgbClr val="000000"/>
                </a:solidFill>
                <a:latin typeface="Arial"/>
              </a:rPr>
              <a:t> FO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7" descr="Logo_CMYK_pos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6720" y="2320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Welcome to the </a:t>
            </a:r>
            <a:br>
              <a:rPr sz="4000"/>
            </a:b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7th Meeting of WLTP DTP</a:t>
            </a:r>
            <a:br>
              <a:rPr sz="2400"/>
            </a:br>
            <a:br>
              <a:rPr sz="2400"/>
            </a:b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12th to 14th September 2011</a:t>
            </a:r>
            <a:br>
              <a:rPr sz="2400"/>
            </a:b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Bern (CH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58560" y="5300280"/>
            <a:ext cx="742932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491000" y="907920"/>
            <a:ext cx="310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Air Pollution Control and NIR Divi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Draft agenda (Day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390680" y="2268360"/>
            <a:ext cx="6999120" cy="3414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1476360" y="907920"/>
            <a:ext cx="68104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Draft agenda (Day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810480" cy="1195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1414440" y="2543040"/>
            <a:ext cx="694692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285920" y="1736280"/>
            <a:ext cx="623880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6000" spc="-1" strike="noStrike">
                <a:solidFill>
                  <a:srgbClr val="000000"/>
                </a:solidFill>
                <a:latin typeface="Arial"/>
              </a:rPr>
              <a:t>2. Update on DH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285920" y="1736280"/>
            <a:ext cx="623880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6000" spc="-1" strike="noStrike">
                <a:solidFill>
                  <a:srgbClr val="000000"/>
                </a:solidFill>
                <a:latin typeface="Arial"/>
              </a:rPr>
              <a:t>3. General issues (DTP level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General issues (DTP leve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reparation of validation ph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echnical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arameter sett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Open issues not essential for the start of 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has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efiniton of vehicle test mass (N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Inertia classes (icct and O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oak and test temperature (EU pos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amily concept (to be defin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285920" y="1736280"/>
            <a:ext cx="623880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6000" spc="-1" strike="noStrike">
                <a:solidFill>
                  <a:srgbClr val="000000"/>
                </a:solidFill>
                <a:latin typeface="Arial"/>
              </a:rPr>
              <a:t>4. Report from the Subgroup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58920" y="1341000"/>
            <a:ext cx="747216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ganizational re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ground information to DTP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ives of DTP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roval of draft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 on DH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TP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group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rthe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285920" y="1736280"/>
            <a:ext cx="623880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6000" spc="-1" strike="noStrike">
                <a:solidFill>
                  <a:srgbClr val="000000"/>
                </a:solidFill>
                <a:latin typeface="Arial"/>
              </a:rPr>
              <a:t>1. Introduction to DTP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Organizational remarks (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TP meeting takes place at Hotel B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Morning and afternoon break with coffee, drink and cook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Lunch on Tuesday and on Wednesday will be served in the hotel between 12.30 and 13.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Organizational remarks (I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vent on Tuesday eve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Common dinner at restaurant Casino Bern from 19.00 (Herrengasse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843280" y="2779560"/>
            <a:ext cx="399564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Background information to DTP7 (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he mandate of Mr. Krause as secretary of DTP has not been renewed. Thank him for his contribution to this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orking progress is remarkable, nevertherless still many open issues to be addressed (validation phase, GTR, certific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et up of a GTR drafting group is not available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Background information to DTP7 (I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 validation task force (VTF) led by JRC has been set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reparation of validation phase 2 is in progress and should be finalized very s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irst set of parameters for implementation of validation phase 2 by laboratories have been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Objectives of DTP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iscuss the parameter setting needed for validation phase 2 and the finalization of the technical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how working progress from the subgroups and resolve the remaining ope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Reach an agremeent on open issues at DTP level, which are not absolutely essential for validation ph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Draft agenda (Day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1409760" y="2290680"/>
            <a:ext cx="6956280" cy="3154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1476360" y="907920"/>
            <a:ext cx="68104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0:07:02Z</dcterms:created>
  <dc:creator>Giovanni D'Urbano</dc:creator>
  <dc:description/>
  <dc:language>en-US</dc:language>
  <cp:lastModifiedBy>Giovanni D'Urbano</cp:lastModifiedBy>
  <cp:lastPrinted>2003-11-14T16:51:38Z</cp:lastPrinted>
  <dcterms:modified xsi:type="dcterms:W3CDTF">2011-09-12T11:03:09Z</dcterms:modified>
  <cp:revision>428</cp:revision>
  <dc:subject>Cours sanu</dc:subject>
  <dc:title>Dispositions de l‘OPair pour les machines de chantiers  Cadre légal, rôles et responsabilité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SC#COOELAK@1.1001:ApprovedAt">
    <vt:lpwstr/>
  </property>
  <property fmtid="{D5CDD505-2E9C-101B-9397-08002B2CF9AE}" pid="3" name="FSC#COOELAK@1.1001:ApprovedBy">
    <vt:lpwstr/>
  </property>
  <property fmtid="{D5CDD505-2E9C-101B-9397-08002B2CF9AE}" pid="4" name="FSC#COOELAK@1.1001:CreatedAt">
    <vt:lpwstr>30.11.2005 11:45:44</vt:lpwstr>
  </property>
  <property fmtid="{D5CDD505-2E9C-101B-9397-08002B2CF9AE}" pid="5" name="FSC#COOELAK@1.1001:Department">
    <vt:lpwstr>Informatikdienst IS-UVEK (nicht im Organigram)</vt:lpwstr>
  </property>
  <property fmtid="{D5CDD505-2E9C-101B-9397-08002B2CF9AE}" pid="6" name="FSC#COOELAK@1.1001:DispatchedAt">
    <vt:lpwstr/>
  </property>
  <property fmtid="{D5CDD505-2E9C-101B-9397-08002B2CF9AE}" pid="7" name="FSC#COOELAK@1.1001:DispatchedBy">
    <vt:lpwstr/>
  </property>
  <property fmtid="{D5CDD505-2E9C-101B-9397-08002B2CF9AE}" pid="8" name="FSC#COOELAK@1.1001:ExternalRef">
    <vt:lpwstr/>
  </property>
  <property fmtid="{D5CDD505-2E9C-101B-9397-08002B2CF9AE}" pid="9" name="FSC#COOELAK@1.1001:FileRefBarCode">
    <vt:lpwstr/>
  </property>
  <property fmtid="{D5CDD505-2E9C-101B-9397-08002B2CF9AE}" pid="10" name="FSC#COOELAK@1.1001:FileRefOU">
    <vt:lpwstr/>
  </property>
  <property fmtid="{D5CDD505-2E9C-101B-9397-08002B2CF9AE}" pid="11" name="FSC#COOELAK@1.1001:FileRefOrdinal">
    <vt:lpwstr/>
  </property>
  <property fmtid="{D5CDD505-2E9C-101B-9397-08002B2CF9AE}" pid="12" name="FSC#COOELAK@1.1001:FileRefYear">
    <vt:lpwstr/>
  </property>
  <property fmtid="{D5CDD505-2E9C-101B-9397-08002B2CF9AE}" pid="13" name="FSC#COOELAK@1.1001:FileReference">
    <vt:lpwstr/>
  </property>
  <property fmtid="{D5CDD505-2E9C-101B-9397-08002B2CF9AE}" pid="14" name="FSC#COOELAK@1.1001:OU">
    <vt:lpwstr>Informatikdienst IS-UVEK (nicht im Organigram)</vt:lpwstr>
  </property>
  <property fmtid="{D5CDD505-2E9C-101B-9397-08002B2CF9AE}" pid="15" name="FSC#COOELAK@1.1001:ObjBarCode">
    <vt:lpwstr>*COO.100.2000.1.81497*</vt:lpwstr>
  </property>
  <property fmtid="{D5CDD505-2E9C-101B-9397-08002B2CF9AE}" pid="16" name="FSC#COOELAK@1.1001:Organization">
    <vt:lpwstr/>
  </property>
  <property fmtid="{D5CDD505-2E9C-101B-9397-08002B2CF9AE}" pid="17" name="FSC#COOELAK@1.1001:Owner">
    <vt:lpwstr>Sehr geehrter Herr Gasser Administrator</vt:lpwstr>
  </property>
  <property fmtid="{D5CDD505-2E9C-101B-9397-08002B2CF9AE}" pid="18" name="FSC#COOELAK@1.1001:OwnerExtension">
    <vt:lpwstr/>
  </property>
  <property fmtid="{D5CDD505-2E9C-101B-9397-08002B2CF9AE}" pid="19" name="FSC#COOELAK@1.1001:OwnerFaxExtension">
    <vt:lpwstr/>
  </property>
  <property fmtid="{D5CDD505-2E9C-101B-9397-08002B2CF9AE}" pid="20" name="FSC#COOELAK@1.1001:Priority">
    <vt:lpwstr/>
  </property>
  <property fmtid="{D5CDD505-2E9C-101B-9397-08002B2CF9AE}" pid="21" name="FSC#COOELAK@1.1001:RefBarCode">
    <vt:lpwstr>*_BAFU - PowerPoint (französisch)*</vt:lpwstr>
  </property>
  <property fmtid="{D5CDD505-2E9C-101B-9397-08002B2CF9AE}" pid="22" name="FSC#COOELAK@1.1001:Subject">
    <vt:lpwstr/>
  </property>
  <property fmtid="{D5CDD505-2E9C-101B-9397-08002B2CF9AE}" pid="23" name="FSC#COOSYSTEM@1.1:Container">
    <vt:lpwstr>COO.2002.100.7.4443420</vt:lpwstr>
  </property>
  <property fmtid="{D5CDD505-2E9C-101B-9397-08002B2CF9AE}" pid="24" name="FSC#ELAKGOV@1.1001:PersonalSubjAddress">
    <vt:lpwstr/>
  </property>
  <property fmtid="{D5CDD505-2E9C-101B-9397-08002B2CF9AE}" pid="25" name="FSC#ELAKGOV@1.1001:PersonalSubjFirstName">
    <vt:lpwstr/>
  </property>
  <property fmtid="{D5CDD505-2E9C-101B-9397-08002B2CF9AE}" pid="26" name="FSC#ELAKGOV@1.1001:PersonalSubjGender">
    <vt:lpwstr/>
  </property>
  <property fmtid="{D5CDD505-2E9C-101B-9397-08002B2CF9AE}" pid="27" name="FSC#ELAKGOV@1.1001:PersonalSubjSalutation">
    <vt:lpwstr/>
  </property>
  <property fmtid="{D5CDD505-2E9C-101B-9397-08002B2CF9AE}" pid="28" name="FSC#ELAKGOV@1.1001:PersonalSubjSurName">
    <vt:lpwstr/>
  </property>
</Properties>
</file>