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A8CBEC4-BF36-47ED-A7F2-71176E7CAB0C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0C038F9-D585-4F31-905F-2BDD8EAEE08E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1240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38880" y="144900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8592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1240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38880" y="3940560"/>
            <a:ext cx="24058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96720" y="323640"/>
            <a:ext cx="74610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4520" y="394056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59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4520" y="1449000"/>
            <a:ext cx="364608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85920" y="3940560"/>
            <a:ext cx="7472160" cy="22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5"/>
          <p:cNvSpPr/>
          <p:nvPr/>
        </p:nvSpPr>
        <p:spPr>
          <a:xfrm>
            <a:off x="533520" y="3049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33"/>
          <p:cNvSpPr/>
          <p:nvPr/>
        </p:nvSpPr>
        <p:spPr>
          <a:xfrm>
            <a:off x="6448320" y="6397560"/>
            <a:ext cx="22669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3963-62CA-43D2-807B-551F2B7C6AD2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9" descr="Logo_col_wappen"/>
          <p:cNvPicPr/>
          <p:nvPr/>
        </p:nvPicPr>
        <p:blipFill>
          <a:blip r:embed="rId2"/>
          <a:stretch/>
        </p:blipFill>
        <p:spPr>
          <a:xfrm>
            <a:off x="360360" y="390600"/>
            <a:ext cx="26676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Line 40"/>
          <p:cNvSpPr/>
          <p:nvPr/>
        </p:nvSpPr>
        <p:spPr>
          <a:xfrm flipH="1">
            <a:off x="1285560" y="6354720"/>
            <a:ext cx="74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44"/>
          <p:cNvSpPr/>
          <p:nvPr/>
        </p:nvSpPr>
        <p:spPr>
          <a:xfrm>
            <a:off x="1298520" y="6392880"/>
            <a:ext cx="6153120" cy="19440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. D’Urbano, Swiss FOEN, DTP Chair, 6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LTP DTP, report to GRPE, 9th June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2"/>
          <p:cNvSpPr/>
          <p:nvPr/>
        </p:nvSpPr>
        <p:spPr>
          <a:xfrm>
            <a:off x="4572000" y="387360"/>
            <a:ext cx="4095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deral Department of the Environ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, Energy and Communications DET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deral Office for the Environment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 FO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7" descr="Logo_CMYK_pos"/>
          <p:cNvPicPr/>
          <p:nvPr/>
        </p:nvPicPr>
        <p:blipFill>
          <a:blip r:embed="rId2"/>
          <a:stretch/>
        </p:blipFill>
        <p:spPr>
          <a:xfrm>
            <a:off x="927000" y="387360"/>
            <a:ext cx="1997280" cy="507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320920"/>
            <a:ext cx="742932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Report of 6th DTP Meeting to GRPE</a:t>
            </a:r>
            <a:br>
              <a:rPr sz="4000"/>
            </a:br>
            <a:br>
              <a:rPr sz="2400"/>
            </a:br>
            <a:br>
              <a:rPr sz="2400"/>
            </a:b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9th June 2011</a:t>
            </a:r>
            <a:br>
              <a:rPr sz="2400"/>
            </a:b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UNECE, Geneva (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5300280"/>
            <a:ext cx="742932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491000" y="907920"/>
            <a:ext cx="310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Air Pollution Control and NIR Divi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Overview planning of validation ph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28480" y="1700280"/>
            <a:ext cx="8229600" cy="2984400"/>
          </a:xfrm>
          <a:prstGeom prst="rect">
            <a:avLst/>
          </a:prstGeom>
          <a:ln w="0">
            <a:noFill/>
          </a:ln>
        </p:spPr>
      </p:pic>
      <p:sp>
        <p:nvSpPr>
          <p:cNvPr id="111" name="Textfeld 4"/>
          <p:cNvSpPr/>
          <p:nvPr/>
        </p:nvSpPr>
        <p:spPr>
          <a:xfrm>
            <a:off x="4788000" y="522936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Source: Validation Task Force, lead J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Agreed objectives for validation phase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Interested parties for validation phase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85920" y="1125000"/>
            <a:ext cx="747216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 u="sng">
                <a:solidFill>
                  <a:srgbClr val="000000"/>
                </a:solidFill>
                <a:uFillTx/>
                <a:latin typeface="Arial"/>
              </a:rPr>
              <a:t>Party</a:t>
            </a:r>
            <a:r>
              <a:rPr b="0" lang="de-CH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CH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CH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CH" sz="1800" spc="-1" strike="noStrike" u="sng">
                <a:solidFill>
                  <a:srgbClr val="000000"/>
                </a:solidFill>
                <a:uFillTx/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China, participation to be confi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J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U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robably Tuev-N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India, participation to be confi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TSEL, JARI, J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orea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witzerland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MPA and AFHB to be confi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ECC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OICA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-&gt; Final confirmation needed by end of June to DTP chai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raft test matrix for validation phase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raft test matrix presented by Ichikawa-s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atrix containing number of labs, type of vehicles and parameters to be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atrix has to be considered as starting point for the detailed pl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etailed planning is going to be elaborated by validation task fo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TP agreed on the principle for both objectives and test matrix for validation phase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inal confirmation from parties and laboratories regarding participation in validation phase 2 by end of 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ubgroups provide set of parameters for validation phase 2 by end of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alidation task force will provide a laboratory guidance for validation phase 2 by end of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Next DTP meeting (7th) from 12th to 14th September in Bern (details follo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ubgroups and parties are requested to submit asap the list of participants to DTP7 (number of participants is limited to 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Content of the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eetings since last GR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genda of 6th D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General issues D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ubgroup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lanning of validation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Background information to DTP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85920" y="1052640"/>
            <a:ext cx="74721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r. Krause, secretary of DTP, was unfortunately not present at the meeting for health rea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orking progress is very good, nevertherless still many open issues remain to be solved until GRPE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raft definitions as well as draft partial test procedures are available but not consolidat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GTR manager is not available yet. Start of GTR drafting not possible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inal planning of validation phase 2 is an urgent matter 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Relevant set of parameters for implementation of validation phase 2 have to be provided very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Previous meetings of DT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85920" y="1197000"/>
            <a:ext cx="74721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5th DTP (DTP5) from 12th to 14th April 2011 at EMPA in Dübendorf near Zü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=&gt; minutes see document WLTP-DTP-05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6th DTP (DTP6) yesterday on 8th Jun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ocuments available on UNECE WLTP website 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TP5th and DTP6th as well as on EU circa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inutes DTP5 (wrap-up and open issu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93360" cy="49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inutes DTP5 (wrap-up and open issu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34920" y="1268280"/>
            <a:ext cx="8620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Agenda of 6th DTP on 8th June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273320" y="1052640"/>
            <a:ext cx="747540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General issues DTP (ICE progress repor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85920" y="1125000"/>
            <a:ext cx="747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. Test temperature (results from UTAC and JR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. Inertia classes (presentation by icct and O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3. Vehicle test mass (presented by N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4. Family concept (not handled, postpo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se issues are not essential for validation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 approach is to have further consolidated discussions at DTP7 in Septe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ontracting parties are invited to express their views on these issues until DTP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n particular, have a consolidated EU position on temperature by DTP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6720" y="323640"/>
            <a:ext cx="74610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Subgroup repor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85920" y="1449000"/>
            <a:ext cx="74721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orts given from LabProcICE, PM/PN, AP and LabProcEV as well as EU study on 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king progress regarding open issues and GTR drafting has been sh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sues not absolutely relevant for validation phase 2 will be discussed after consolidation at DTP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levant parameter needed for validation phase 2 have been addressed within the sub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advice required from DTP so f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bgroups agreed to deliver set of parameters needed for validation phase 2 by end of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0:07:02Z</dcterms:created>
  <dc:creator>Giovanni D'Urbano</dc:creator>
  <dc:description/>
  <dc:language>en-US</dc:language>
  <cp:lastModifiedBy>Romain HUBERT</cp:lastModifiedBy>
  <cp:lastPrinted>2003-11-14T16:51:38Z</cp:lastPrinted>
  <dcterms:modified xsi:type="dcterms:W3CDTF">2011-06-14T09:36:03Z</dcterms:modified>
  <cp:revision>449</cp:revision>
  <dc:subject>Cours sanu</dc:subject>
  <dc:title>Dispositions de l‘OPair pour les machines de chantiers  Cadre légal, rôles et responsabilité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SC#COOELAK@1.1001:ApprovedAt">
    <vt:lpwstr/>
  </property>
  <property fmtid="{D5CDD505-2E9C-101B-9397-08002B2CF9AE}" pid="3" name="FSC#COOELAK@1.1001:ApprovedBy">
    <vt:lpwstr/>
  </property>
  <property fmtid="{D5CDD505-2E9C-101B-9397-08002B2CF9AE}" pid="4" name="FSC#COOELAK@1.1001:CreatedAt">
    <vt:lpwstr>30.11.2005 11:45:44</vt:lpwstr>
  </property>
  <property fmtid="{D5CDD505-2E9C-101B-9397-08002B2CF9AE}" pid="5" name="FSC#COOELAK@1.1001:Department">
    <vt:lpwstr>Informatikdienst IS-UVEK (nicht im Organigram)</vt:lpwstr>
  </property>
  <property fmtid="{D5CDD505-2E9C-101B-9397-08002B2CF9AE}" pid="6" name="FSC#COOELAK@1.1001:DispatchedAt">
    <vt:lpwstr/>
  </property>
  <property fmtid="{D5CDD505-2E9C-101B-9397-08002B2CF9AE}" pid="7" name="FSC#COOELAK@1.1001:DispatchedBy">
    <vt:lpwstr/>
  </property>
  <property fmtid="{D5CDD505-2E9C-101B-9397-08002B2CF9AE}" pid="8" name="FSC#COOELAK@1.1001:ExternalRef">
    <vt:lpwstr/>
  </property>
  <property fmtid="{D5CDD505-2E9C-101B-9397-08002B2CF9AE}" pid="9" name="FSC#COOELAK@1.1001:FileRefBarCode">
    <vt:lpwstr/>
  </property>
  <property fmtid="{D5CDD505-2E9C-101B-9397-08002B2CF9AE}" pid="10" name="FSC#COOELAK@1.1001:FileRefOU">
    <vt:lpwstr/>
  </property>
  <property fmtid="{D5CDD505-2E9C-101B-9397-08002B2CF9AE}" pid="11" name="FSC#COOELAK@1.1001:FileRefOrdinal">
    <vt:lpwstr/>
  </property>
  <property fmtid="{D5CDD505-2E9C-101B-9397-08002B2CF9AE}" pid="12" name="FSC#COOELAK@1.1001:FileRefYear">
    <vt:lpwstr/>
  </property>
  <property fmtid="{D5CDD505-2E9C-101B-9397-08002B2CF9AE}" pid="13" name="FSC#COOELAK@1.1001:FileReference">
    <vt:lpwstr/>
  </property>
  <property fmtid="{D5CDD505-2E9C-101B-9397-08002B2CF9AE}" pid="14" name="FSC#COOELAK@1.1001:OU">
    <vt:lpwstr>Informatikdienst IS-UVEK (nicht im Organigram)</vt:lpwstr>
  </property>
  <property fmtid="{D5CDD505-2E9C-101B-9397-08002B2CF9AE}" pid="15" name="FSC#COOELAK@1.1001:ObjBarCode">
    <vt:lpwstr>*COO.100.2000.1.81497*</vt:lpwstr>
  </property>
  <property fmtid="{D5CDD505-2E9C-101B-9397-08002B2CF9AE}" pid="16" name="FSC#COOELAK@1.1001:Organization">
    <vt:lpwstr/>
  </property>
  <property fmtid="{D5CDD505-2E9C-101B-9397-08002B2CF9AE}" pid="17" name="FSC#COOELAK@1.1001:Owner">
    <vt:lpwstr>Sehr geehrter Herr Gasser Administrator</vt:lpwstr>
  </property>
  <property fmtid="{D5CDD505-2E9C-101B-9397-08002B2CF9AE}" pid="18" name="FSC#COOELAK@1.1001:OwnerExtension">
    <vt:lpwstr/>
  </property>
  <property fmtid="{D5CDD505-2E9C-101B-9397-08002B2CF9AE}" pid="19" name="FSC#COOELAK@1.1001:OwnerFaxExtension">
    <vt:lpwstr/>
  </property>
  <property fmtid="{D5CDD505-2E9C-101B-9397-08002B2CF9AE}" pid="20" name="FSC#COOELAK@1.1001:Priority">
    <vt:lpwstr/>
  </property>
  <property fmtid="{D5CDD505-2E9C-101B-9397-08002B2CF9AE}" pid="21" name="FSC#COOELAK@1.1001:RefBarCode">
    <vt:lpwstr>*_BAFU - PowerPoint (französisch)*</vt:lpwstr>
  </property>
  <property fmtid="{D5CDD505-2E9C-101B-9397-08002B2CF9AE}" pid="22" name="FSC#COOELAK@1.1001:Subject">
    <vt:lpwstr/>
  </property>
  <property fmtid="{D5CDD505-2E9C-101B-9397-08002B2CF9AE}" pid="23" name="FSC#COOSYSTEM@1.1:Container">
    <vt:lpwstr>COO.2002.100.7.4443420</vt:lpwstr>
  </property>
  <property fmtid="{D5CDD505-2E9C-101B-9397-08002B2CF9AE}" pid="24" name="FSC#ELAKGOV@1.1001:PersonalSubjAddress">
    <vt:lpwstr/>
  </property>
  <property fmtid="{D5CDD505-2E9C-101B-9397-08002B2CF9AE}" pid="25" name="FSC#ELAKGOV@1.1001:PersonalSubjFirstName">
    <vt:lpwstr/>
  </property>
  <property fmtid="{D5CDD505-2E9C-101B-9397-08002B2CF9AE}" pid="26" name="FSC#ELAKGOV@1.1001:PersonalSubjGender">
    <vt:lpwstr/>
  </property>
  <property fmtid="{D5CDD505-2E9C-101B-9397-08002B2CF9AE}" pid="27" name="FSC#ELAKGOV@1.1001:PersonalSubjSalutation">
    <vt:lpwstr/>
  </property>
  <property fmtid="{D5CDD505-2E9C-101B-9397-08002B2CF9AE}" pid="28" name="FSC#ELAKGOV@1.1001:PersonalSubjSurName">
    <vt:lpwstr/>
  </property>
</Properties>
</file>