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nl-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5930D3-F745-4204-99C8-223531DCFA37}" type="slidenum">
              <a:rPr b="0" lang="nl-NL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53336-F0FE-425E-9BE8-0B8EC6B8C6EA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E96205-2373-42C7-8CB7-C850CF800D72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C7AEC5-2266-4378-B4C5-CE3E1639AF0A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F45375-16A8-4BBC-B0C6-CCF0422136C1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E9F6E3-4D0D-4095-A2EA-DB9F0584B91A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494A0C-F69C-469B-97C8-B52912A79FB6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32EB08-6010-461B-A626-113B3EDA16BA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B50677-4F91-4B4D-B07D-B43F8B7DF354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D851CF-198F-483D-BC26-528AA837D769}" type="slidenum">
              <a:rPr b="0" lang="nl-NL" sz="1100" spc="-1" strike="noStrike">
                <a:solidFill>
                  <a:srgbClr val="003c64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132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660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604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132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2660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6040" y="45720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7132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26600" y="161892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1604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7132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26600" y="3969000"/>
            <a:ext cx="24332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16040" y="45720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8920" y="396900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8920" y="1618920"/>
            <a:ext cx="36882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6040" y="3969000"/>
            <a:ext cx="75578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3" marL="709560" indent="-16992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4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5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6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121" descr="cover-db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3" marL="709560" indent="-16992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4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5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6" marL="896760" indent="-185400">
              <a:buClr>
                <a:srgbClr val="003c64"/>
              </a:buClr>
              <a:buFont typeface="Arial"/>
              <a:buChar char="»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6040" y="441000"/>
            <a:ext cx="7531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G ENTR – Lot 2 framework</a:t>
            </a:r>
            <a:endParaRPr b="1" lang="en-US" sz="32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9280" y="1079280"/>
            <a:ext cx="7557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500" spc="-1" strike="noStrike">
                <a:solidFill>
                  <a:srgbClr val="a0a5a5"/>
                </a:solidFill>
                <a:latin typeface="Arial"/>
              </a:rPr>
              <a:t>LIGHT DUTY ELECTRIC AND HYBRID VEHICLES</a:t>
            </a:r>
            <a:endParaRPr b="0" lang="en-US" sz="25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86" name="spreker"/>
          <p:cNvSpPr/>
          <p:nvPr/>
        </p:nvSpPr>
        <p:spPr>
          <a:xfrm>
            <a:off x="719280" y="1928880"/>
            <a:ext cx="7048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GRPE/WLTP –DTP Meeting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Geneva, 8 June 2011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G client: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Nikolaus Steininger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ontractors: 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L (James Nelson, Tim Barlow, Alaric Lester, Dinos Visvikis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illbrook (Andy Eastlake, Phil Stones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 lvl="1" marL="457200">
              <a:lnSpc>
                <a:spcPts val="18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corys (Robert Kok, Konstantina Laparidou)</a:t>
            </a: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87" name="TRLColourHeaderLogo" descr="trl rgb.jpg"/>
          <p:cNvPicPr/>
          <p:nvPr/>
        </p:nvPicPr>
        <p:blipFill>
          <a:blip r:embed="rId2"/>
          <a:stretch/>
        </p:blipFill>
        <p:spPr>
          <a:xfrm>
            <a:off x="7635960" y="6010200"/>
            <a:ext cx="12128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400" spc="-1" strike="noStrike">
                <a:solidFill>
                  <a:srgbClr val="006db6"/>
                </a:solidFill>
                <a:latin typeface="Arial"/>
              </a:rPr>
              <a:t>Next stag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omplete review of existing legislation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M1 and N1 category 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L category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WLTP-DTP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view input from stakeholders – both the automotive industry and consumer group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Identify parameters from stakeholders and consumers not currently determined for type-approval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36" name="TRLColourHeaderLogo" descr="trl rgb.jpg"/>
          <p:cNvPicPr/>
          <p:nvPr/>
        </p:nvPicPr>
        <p:blipFill>
          <a:blip r:embed="rId2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dia-gr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6040" y="1211040"/>
            <a:ext cx="80834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Deadlines 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 1 - Overview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  <a:ea typeface="SimSun"/>
              </a:rPr>
              <a:t>Task 2 – Overview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-324000">
              <a:buClr>
                <a:srgbClr val="003c64"/>
              </a:buClr>
              <a:buFont typeface="Arial"/>
              <a:buAutoNum type="arabicPeriod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400" spc="-1" strike="noStrike">
                <a:solidFill>
                  <a:srgbClr val="003c64"/>
                </a:solidFill>
                <a:latin typeface="Arial"/>
              </a:rPr>
              <a:t>Next stages</a:t>
            </a: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  <a:p>
            <a:pPr marL="32400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91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400" spc="-1" strike="noStrike">
                <a:solidFill>
                  <a:srgbClr val="006db6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1840" y="1047600"/>
            <a:ext cx="853596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o provide end-users and regulators with sufficient information about the vehicle so that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nd-users can make an informed choice when selecting a vehicle 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gulators can design regulatory measur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reate a test regime that reflects real world condition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95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96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Task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1 – Review existing legislation, regulations and standard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2 – Review desired stakeholder and consumer data requirement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3 – Determination of limitations, shortcomings and omissions in existing type approval procedures with respect to the identified objectiv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Task 4 – Recommendation of modifications and complementary test procedures and next stages (test work required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00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01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Deadline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Stakeholder input (consumer requirements) regarding utility parameters requested before 27 June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Stakeholder input (automotive industry) regarding technical developments requested before 14 June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Final report due September 2011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05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06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sz="2400" spc="-1" strike="noStrike">
                <a:solidFill>
                  <a:srgbClr val="006db6"/>
                </a:solidFill>
                <a:latin typeface="Arial"/>
              </a:rPr>
              <a:t>Task 1: Review of existing legislation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0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8680" y="1555920"/>
            <a:ext cx="4164120" cy="502920"/>
          </a:xfrm>
          <a:prstGeom prst="rect">
            <a:avLst/>
          </a:prstGeom>
          <a:solidFill>
            <a:srgbClr val="006db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Regulations (EC) No. 715/2007 and 692/2008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8680" y="2058840"/>
            <a:ext cx="4164120" cy="396108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715/2007: introduces Euro 5 and Euro 6 emissions limits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692/2008: detailed technical requirements and specifications 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C No. 692/2008 refers to UNECE Regulations 83 and 101 for test procedures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72080" y="1555920"/>
            <a:ext cx="4164120" cy="502920"/>
          </a:xfrm>
          <a:prstGeom prst="rect">
            <a:avLst/>
          </a:prstGeom>
          <a:solidFill>
            <a:srgbClr val="ec7405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UNECE Regulation 83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72080" y="2058840"/>
            <a:ext cx="4164120" cy="396108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72000" tIns="108000" bIns="72000" anchor="t">
            <a:noAutofit/>
          </a:bodyPr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Emissions limits and technical requirements harmonised with EC legislation (Euro 5 and Euro 6)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Detailed test methods referenced by EC legislation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Technical requirements harmonised with EC legislation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fea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Verdana"/>
              </a:rPr>
              <a:t>Detailed test methods referenced by EC legislation </a:t>
            </a: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99"/>
              </a:spcBef>
              <a:buClr>
                <a:srgbClr val="a0b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14280" y="1038240"/>
            <a:ext cx="7900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 u="sng">
                <a:solidFill>
                  <a:srgbClr val="003c64"/>
                </a:solidFill>
                <a:uFillTx/>
                <a:latin typeface="Arial"/>
              </a:rPr>
              <a:t>Light passenger and commercial vehicles - overview</a:t>
            </a:r>
            <a:r>
              <a:rPr b="0" sz="2000" spc="-1" strike="noStrike" u="sng">
                <a:solidFill>
                  <a:srgbClr val="003c64"/>
                </a:solidFill>
                <a:uFillTx/>
                <a:latin typeface="Verdana"/>
              </a:rPr>
              <a:t> </a:t>
            </a:r>
            <a:endParaRPr b="1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672080" y="3597120"/>
            <a:ext cx="4164120" cy="505080"/>
          </a:xfrm>
          <a:prstGeom prst="rect">
            <a:avLst/>
          </a:prstGeom>
          <a:solidFill>
            <a:srgbClr val="ec7405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800" spc="-1" strike="noStrike">
                <a:solidFill>
                  <a:srgbClr val="ffffff"/>
                </a:solidFill>
                <a:latin typeface="Arial"/>
              </a:rPr>
              <a:t>UNECE Regulation 101</a:t>
            </a:r>
            <a:endParaRPr b="1" lang="en-US" sz="18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17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sz="2400" spc="-1" strike="noStrike">
                <a:solidFill>
                  <a:srgbClr val="006db6"/>
                </a:solidFill>
                <a:latin typeface="Arial"/>
              </a:rPr>
              <a:t>Task 1: Review of existing legislation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6040" y="1618920"/>
            <a:ext cx="75578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21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7920" y="1658880"/>
          <a:ext cx="8524800" cy="4016520"/>
        </p:xfrm>
        <a:graphic>
          <a:graphicData uri="http://schemas.openxmlformats.org/drawingml/2006/table">
            <a:tbl>
              <a:tblPr/>
              <a:tblGrid>
                <a:gridCol w="1760400"/>
                <a:gridCol w="4599000"/>
                <a:gridCol w="2165400"/>
              </a:tblGrid>
              <a:tr h="366840">
                <a:tc>
                  <a:txBody>
                    <a:bodyPr lIns="108000" rIns="36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gulation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7405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db6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39720">
                <a:tc rowSpan="7">
                  <a:txBody>
                    <a:bodyPr lIns="108000" rIns="36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 No. 692/2008 and UNECE R83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1: Exhaust emissions at ambient condit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NMHC; NOx; PM; battery state of charge, electric rang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2: CO at idling speed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3: Crankcase gas emiss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rankcase pressur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4: Evaporative emission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HC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5: Durability of pollution control device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NMHC; NOx; PM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Type 6: Average emsissions at low ambient temperatures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THC; CO2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8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On-board diagnostics test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; NMHC; Nox; PM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54280">
                <a:tc>
                  <a:txBody>
                    <a:bodyPr lIns="108000" rIns="36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EC No. 692/2008 and UNECE R101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108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2 emissions and fuel consumption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3600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4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2; fuel consumption; electric energy consumption; electric range</a:t>
                      </a:r>
                      <a:endParaRPr b="1" lang="en-US" sz="1400" spc="-1" strike="noStrike">
                        <a:solidFill>
                          <a:srgbClr val="003c64"/>
                        </a:solidFill>
                        <a:latin typeface="Arial"/>
                      </a:endParaRPr>
                    </a:p>
                  </a:txBody>
                  <a:tcPr anchor="ctr" marL="36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7"/>
          <p:cNvSpPr/>
          <p:nvPr/>
        </p:nvSpPr>
        <p:spPr>
          <a:xfrm>
            <a:off x="314280" y="10368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 u="sng">
                <a:solidFill>
                  <a:srgbClr val="003c64"/>
                </a:solidFill>
                <a:uFillTx/>
                <a:latin typeface="Arial"/>
              </a:rPr>
              <a:t>Light passenger and commercial vehicles</a:t>
            </a:r>
            <a:endParaRPr b="1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24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BE" sz="2400" spc="-1" strike="noStrike">
                <a:solidFill>
                  <a:srgbClr val="006db6"/>
                </a:solidFill>
                <a:latin typeface="Arial"/>
              </a:rPr>
              <a:t>Task 2: Parameters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1840" y="1047600"/>
            <a:ext cx="853596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Parameters may include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lectric range (both EV &amp; HEVs, full/empty battery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nergy consumption (fuel and/or electri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Maintenance parameters (specifically related to life of major components – e.g. battery pack 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Performance (speed, acceleration, etc.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Durability of batteri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Recharge time (EVs and plug-in HEVs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Conditional parameters (outside/interior temperatures, journey length, age of battery, et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Ancillary loads (aircon, etc)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-176400">
              <a:buClr>
                <a:srgbClr val="003c64"/>
              </a:buClr>
              <a:buFont typeface="Arial"/>
              <a:buChar char="–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000" spc="-1" strike="noStrike">
                <a:solidFill>
                  <a:srgbClr val="003c64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2" marL="538200" indent="-177840">
              <a:buClr>
                <a:srgbClr val="003c64"/>
              </a:buClr>
              <a:buFont typeface="Arial"/>
              <a:buChar char="◦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GB" sz="2000" spc="-1" strike="noStrike">
                <a:solidFill>
                  <a:srgbClr val="003c64"/>
                </a:solidFill>
                <a:latin typeface="Arial"/>
              </a:rPr>
              <a:t>Cost can be derived from these parameters, but is no parameter itself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lvl="1" marL="35892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sp>
        <p:nvSpPr>
          <p:cNvPr id="128" name="subkop"/>
          <p:cNvSpPr/>
          <p:nvPr/>
        </p:nvSpPr>
        <p:spPr>
          <a:xfrm>
            <a:off x="716040" y="1176480"/>
            <a:ext cx="7557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29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bg" descr="dia-w"/>
          <p:cNvPicPr/>
          <p:nvPr/>
        </p:nvPicPr>
        <p:blipFill>
          <a:blip r:embed="rId2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6040" y="45720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006db6"/>
                </a:solidFill>
                <a:latin typeface="Arial"/>
              </a:rPr>
              <a:t>Project kick-off meeting, 11 May 2011</a:t>
            </a:r>
            <a:endParaRPr b="1" lang="en-US" sz="2400" spc="-1" strike="noStrike">
              <a:solidFill>
                <a:srgbClr val="006db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918720"/>
            <a:ext cx="7558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10 Stakeholders in-person plus about 8 using the web-conferencing facility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000" spc="-1" strike="noStrike">
                <a:solidFill>
                  <a:srgbClr val="003c64"/>
                </a:solidFill>
                <a:latin typeface="Arial"/>
              </a:rPr>
              <a:t>Views: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Do not focus on political issues – only on test procedures to collect the relevant data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New legislation should be robust enough to cope with existing and upcoming PHEV technologie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3c64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 not to be considered – only energy &amp; fuel consumption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After Sept, parameters will be further developed over 1-2 years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WLTP subgroup 4 and this study will be aligned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-181080">
              <a:buClr>
                <a:srgbClr val="003c64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000" spc="-1" strike="noStrike">
                <a:solidFill>
                  <a:srgbClr val="003c64"/>
                </a:solidFill>
                <a:latin typeface="Arial"/>
              </a:rPr>
              <a:t>How can OEMs specify charging time while there are so many elements that might affect it?</a:t>
            </a: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  <a:p>
            <a:pPr marL="181080" indent="0"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3c64"/>
              </a:solidFill>
              <a:latin typeface="Arial"/>
            </a:endParaRPr>
          </a:p>
        </p:txBody>
      </p:sp>
      <p:pic>
        <p:nvPicPr>
          <p:cNvPr id="133" name="TRLColourHeaderLogo" descr="trl rgb.jpg"/>
          <p:cNvPicPr/>
          <p:nvPr/>
        </p:nvPicPr>
        <p:blipFill>
          <a:blip r:embed="rId3"/>
          <a:stretch/>
        </p:blipFill>
        <p:spPr>
          <a:xfrm>
            <a:off x="7818480" y="6216480"/>
            <a:ext cx="8427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8:37:17Z</dcterms:created>
  <dc:creator/>
  <dc:description/>
  <dc:language>en-US</dc:language>
  <cp:lastModifiedBy>Romain HUBERT</cp:lastModifiedBy>
  <dcterms:modified xsi:type="dcterms:W3CDTF">2011-06-14T09:35:12Z</dcterms:modified>
  <cp:revision>305</cp:revision>
  <dc:subject/>
  <dc:title>Informal Workshop 6-5-2011</dc:title>
</cp:coreProperties>
</file>