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5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2400" spc="-1" strike="noStrike">
                <a:solidFill>
                  <a:srgbClr val="006db6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6d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nl-NL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6644AF8-59F3-4CB2-8548-C3EB0138D8AE}" type="slidenum">
              <a:rPr b="0" lang="nl-NL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AC3FFC3-7298-4757-941A-07A3F0505D92}" type="slidenum">
              <a:rPr b="0" lang="nl-NL" sz="1100" spc="-1" strike="noStrike">
                <a:solidFill>
                  <a:srgbClr val="003c64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59892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0A7DA1C-1C17-4C57-8542-87B4702FF14C}" type="slidenum">
              <a:rPr b="0" lang="nl-NL" sz="1100" spc="-1" strike="noStrike">
                <a:solidFill>
                  <a:srgbClr val="003c64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5989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D57EDE6-EA48-4209-9E20-5F5F6A8B399A}" type="slidenum">
              <a:rPr b="0" lang="nl-NL" sz="1100" spc="-1" strike="noStrike">
                <a:solidFill>
                  <a:srgbClr val="003c64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59892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FE81585-DB22-4C7C-9A1C-FC33CC56F586}" type="slidenum">
              <a:rPr b="0" lang="nl-NL" sz="1100" spc="-1" strike="noStrike">
                <a:solidFill>
                  <a:srgbClr val="003c64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59892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35E10CF-482A-4A2C-BEFD-42A88D6F215D}" type="slidenum">
              <a:rPr b="0" lang="nl-NL" sz="1100" spc="-1" strike="noStrike">
                <a:solidFill>
                  <a:srgbClr val="003c64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59892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CB76B74-8D3B-455A-91AD-8821B93EE25D}" type="slidenum">
              <a:rPr b="0" lang="nl-NL" sz="1100" spc="-1" strike="noStrike">
                <a:solidFill>
                  <a:srgbClr val="003c64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59892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CF81B40-0FD1-48FD-8C4A-733797DB6B61}" type="slidenum">
              <a:rPr b="0" lang="nl-NL" sz="1100" spc="-1" strike="noStrike">
                <a:solidFill>
                  <a:srgbClr val="003c64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59892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C331466-4A4A-4DB0-BE00-7EFA32821A77}" type="slidenum">
              <a:rPr b="0" lang="nl-NL" sz="1100" spc="-1" strike="noStrike">
                <a:solidFill>
                  <a:srgbClr val="003c64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5989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74D323B-B525-4AB0-B2A7-F07473140FD2}" type="slidenum">
              <a:rPr b="0" lang="nl-NL" sz="1100" spc="-1" strike="noStrike">
                <a:solidFill>
                  <a:srgbClr val="003c64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5989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16040" y="457200"/>
            <a:ext cx="75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1" lang="en-US" sz="2400" spc="-1" strike="noStrike">
              <a:solidFill>
                <a:srgbClr val="006db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16040" y="1618920"/>
            <a:ext cx="75578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16040" y="3969000"/>
            <a:ext cx="75578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16040" y="457200"/>
            <a:ext cx="75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1" lang="en-US" sz="2400" spc="-1" strike="noStrike">
              <a:solidFill>
                <a:srgbClr val="006db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16040" y="1618920"/>
            <a:ext cx="36882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88920" y="1618920"/>
            <a:ext cx="36882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16040" y="3969000"/>
            <a:ext cx="36882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88920" y="3969000"/>
            <a:ext cx="36882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16040" y="457200"/>
            <a:ext cx="75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1" lang="en-US" sz="2400" spc="-1" strike="noStrike">
              <a:solidFill>
                <a:srgbClr val="006db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16040" y="1618920"/>
            <a:ext cx="24332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71320" y="1618920"/>
            <a:ext cx="24332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26600" y="1618920"/>
            <a:ext cx="24332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16040" y="3969000"/>
            <a:ext cx="24332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71320" y="3969000"/>
            <a:ext cx="24332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26600" y="3969000"/>
            <a:ext cx="24332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6040" y="457200"/>
            <a:ext cx="75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1" lang="en-US" sz="2400" spc="-1" strike="noStrike">
              <a:solidFill>
                <a:srgbClr val="006db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16040" y="1618920"/>
            <a:ext cx="75578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16040" y="457200"/>
            <a:ext cx="75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1" lang="en-US" sz="2400" spc="-1" strike="noStrike">
              <a:solidFill>
                <a:srgbClr val="006db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16040" y="1618920"/>
            <a:ext cx="75578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16040" y="457200"/>
            <a:ext cx="75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1" lang="en-US" sz="2400" spc="-1" strike="noStrike">
              <a:solidFill>
                <a:srgbClr val="006db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16040" y="1618920"/>
            <a:ext cx="368820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88920" y="1618920"/>
            <a:ext cx="368820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6040" y="457200"/>
            <a:ext cx="75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1" lang="en-US" sz="2400" spc="-1" strike="noStrike">
              <a:solidFill>
                <a:srgbClr val="006db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716040" y="457200"/>
            <a:ext cx="75578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6040" y="457200"/>
            <a:ext cx="75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1" lang="en-US" sz="2400" spc="-1" strike="noStrike">
              <a:solidFill>
                <a:srgbClr val="006db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16040" y="1618920"/>
            <a:ext cx="36882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88920" y="1618920"/>
            <a:ext cx="368820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716040" y="3969000"/>
            <a:ext cx="36882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16040" y="457200"/>
            <a:ext cx="75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1" lang="en-US" sz="2400" spc="-1" strike="noStrike">
              <a:solidFill>
                <a:srgbClr val="006d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16040" y="1618920"/>
            <a:ext cx="75578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16040" y="457200"/>
            <a:ext cx="75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1" lang="en-US" sz="2400" spc="-1" strike="noStrike">
              <a:solidFill>
                <a:srgbClr val="006db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16040" y="1618920"/>
            <a:ext cx="368820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88920" y="1618920"/>
            <a:ext cx="36882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88920" y="3969000"/>
            <a:ext cx="36882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16040" y="457200"/>
            <a:ext cx="75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1" lang="en-US" sz="2400" spc="-1" strike="noStrike">
              <a:solidFill>
                <a:srgbClr val="006db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16040" y="1618920"/>
            <a:ext cx="36882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88920" y="1618920"/>
            <a:ext cx="36882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16040" y="3969000"/>
            <a:ext cx="75578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16040" y="457200"/>
            <a:ext cx="75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1" lang="en-US" sz="2400" spc="-1" strike="noStrike">
              <a:solidFill>
                <a:srgbClr val="006db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16040" y="1618920"/>
            <a:ext cx="75578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16040" y="3969000"/>
            <a:ext cx="75578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16040" y="457200"/>
            <a:ext cx="75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1" lang="en-US" sz="2400" spc="-1" strike="noStrike">
              <a:solidFill>
                <a:srgbClr val="006db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16040" y="1618920"/>
            <a:ext cx="36882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88920" y="1618920"/>
            <a:ext cx="36882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16040" y="3969000"/>
            <a:ext cx="36882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88920" y="3969000"/>
            <a:ext cx="36882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16040" y="457200"/>
            <a:ext cx="75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1" lang="en-US" sz="2400" spc="-1" strike="noStrike">
              <a:solidFill>
                <a:srgbClr val="006db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16040" y="1618920"/>
            <a:ext cx="24332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71320" y="1618920"/>
            <a:ext cx="24332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826600" y="1618920"/>
            <a:ext cx="24332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716040" y="3969000"/>
            <a:ext cx="24332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71320" y="3969000"/>
            <a:ext cx="24332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826600" y="3969000"/>
            <a:ext cx="24332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16040" y="457200"/>
            <a:ext cx="75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1" lang="en-US" sz="2400" spc="-1" strike="noStrike">
              <a:solidFill>
                <a:srgbClr val="006db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16040" y="1618920"/>
            <a:ext cx="75578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16040" y="457200"/>
            <a:ext cx="75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1" lang="en-US" sz="2400" spc="-1" strike="noStrike">
              <a:solidFill>
                <a:srgbClr val="006db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16040" y="1618920"/>
            <a:ext cx="368820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88920" y="1618920"/>
            <a:ext cx="368820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16040" y="457200"/>
            <a:ext cx="75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1" lang="en-US" sz="2400" spc="-1" strike="noStrike">
              <a:solidFill>
                <a:srgbClr val="006db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16040" y="457200"/>
            <a:ext cx="75578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16040" y="457200"/>
            <a:ext cx="75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1" lang="en-US" sz="2400" spc="-1" strike="noStrike">
              <a:solidFill>
                <a:srgbClr val="006db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16040" y="1618920"/>
            <a:ext cx="36882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88920" y="1618920"/>
            <a:ext cx="368820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16040" y="3969000"/>
            <a:ext cx="36882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16040" y="457200"/>
            <a:ext cx="75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1" lang="en-US" sz="2400" spc="-1" strike="noStrike">
              <a:solidFill>
                <a:srgbClr val="006db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16040" y="1618920"/>
            <a:ext cx="368820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88920" y="1618920"/>
            <a:ext cx="36882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88920" y="3969000"/>
            <a:ext cx="36882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16040" y="457200"/>
            <a:ext cx="75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1" lang="en-US" sz="2400" spc="-1" strike="noStrike">
              <a:solidFill>
                <a:srgbClr val="006db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16040" y="1618920"/>
            <a:ext cx="36882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88920" y="1618920"/>
            <a:ext cx="36882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16040" y="3969000"/>
            <a:ext cx="75578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6040" y="457200"/>
            <a:ext cx="75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2400" spc="-1" strike="noStrike">
                <a:solidFill>
                  <a:srgbClr val="006db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6db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6040" y="1618920"/>
            <a:ext cx="75578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buClr>
                <a:srgbClr val="003c64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000" spc="-1" strike="noStrike">
                <a:solidFill>
                  <a:srgbClr val="003c64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lvl="1" marL="358920" indent="-176400">
              <a:buClr>
                <a:srgbClr val="003c64"/>
              </a:buClr>
              <a:buFont typeface="Arial"/>
              <a:buChar char="–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000" spc="-1" strike="noStrike">
                <a:solidFill>
                  <a:srgbClr val="003c64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lvl="2" marL="538200" indent="-177840">
              <a:buClr>
                <a:srgbClr val="003c64"/>
              </a:buClr>
              <a:buFont typeface="Arial"/>
              <a:buChar char="◦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000" spc="-1" strike="noStrike">
                <a:solidFill>
                  <a:srgbClr val="003c64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lvl="3" marL="709560" indent="-169920">
              <a:buClr>
                <a:srgbClr val="003c64"/>
              </a:buClr>
              <a:buFont typeface="Arial"/>
              <a:buChar char="–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000" spc="-1" strike="noStrike">
                <a:solidFill>
                  <a:srgbClr val="003c64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lvl="4" marL="896760" indent="-185400">
              <a:buClr>
                <a:srgbClr val="003c64"/>
              </a:buClr>
              <a:buFont typeface="Arial"/>
              <a:buChar char="»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000" spc="-1" strike="noStrike">
                <a:solidFill>
                  <a:srgbClr val="003c6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lvl="5" marL="896760" indent="-185400">
              <a:buClr>
                <a:srgbClr val="003c64"/>
              </a:buClr>
              <a:buFont typeface="Arial"/>
              <a:buChar char="»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000" spc="-1" strike="noStrike">
                <a:solidFill>
                  <a:srgbClr val="003c6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lvl="6" marL="896760" indent="-185400">
              <a:buClr>
                <a:srgbClr val="003c64"/>
              </a:buClr>
              <a:buFont typeface="Arial"/>
              <a:buChar char="»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000" spc="-1" strike="noStrike">
                <a:solidFill>
                  <a:srgbClr val="003c6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1121" descr="cover-db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16040" y="457200"/>
            <a:ext cx="75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2400" spc="-1" strike="noStrike">
                <a:solidFill>
                  <a:srgbClr val="006db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6db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16040" y="1618920"/>
            <a:ext cx="75578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buClr>
                <a:srgbClr val="003c64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000" spc="-1" strike="noStrike">
                <a:solidFill>
                  <a:srgbClr val="003c64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lvl="1" marL="358920" indent="-176400">
              <a:buClr>
                <a:srgbClr val="003c64"/>
              </a:buClr>
              <a:buFont typeface="Arial"/>
              <a:buChar char="–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000" spc="-1" strike="noStrike">
                <a:solidFill>
                  <a:srgbClr val="003c64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lvl="2" marL="538200" indent="-177840">
              <a:buClr>
                <a:srgbClr val="003c64"/>
              </a:buClr>
              <a:buFont typeface="Arial"/>
              <a:buChar char="◦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000" spc="-1" strike="noStrike">
                <a:solidFill>
                  <a:srgbClr val="003c64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lvl="3" marL="709560" indent="-169920">
              <a:buClr>
                <a:srgbClr val="003c64"/>
              </a:buClr>
              <a:buFont typeface="Arial"/>
              <a:buChar char="–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000" spc="-1" strike="noStrike">
                <a:solidFill>
                  <a:srgbClr val="003c64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lvl="4" marL="896760" indent="-185400">
              <a:buClr>
                <a:srgbClr val="003c64"/>
              </a:buClr>
              <a:buFont typeface="Arial"/>
              <a:buChar char="»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000" spc="-1" strike="noStrike">
                <a:solidFill>
                  <a:srgbClr val="003c6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lvl="5" marL="896760" indent="-185400">
              <a:buClr>
                <a:srgbClr val="003c64"/>
              </a:buClr>
              <a:buFont typeface="Arial"/>
              <a:buChar char="»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000" spc="-1" strike="noStrike">
                <a:solidFill>
                  <a:srgbClr val="003c6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lvl="6" marL="896760" indent="-185400">
              <a:buClr>
                <a:srgbClr val="003c64"/>
              </a:buClr>
              <a:buFont typeface="Arial"/>
              <a:buChar char="»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000" spc="-1" strike="noStrike">
                <a:solidFill>
                  <a:srgbClr val="003c6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16040" y="441000"/>
            <a:ext cx="753120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G ENTR – Lot 2 framework</a:t>
            </a:r>
            <a:endParaRPr b="1" lang="en-US" sz="3200" spc="-1" strike="noStrike">
              <a:solidFill>
                <a:srgbClr val="006db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19280" y="1079280"/>
            <a:ext cx="75578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GB" sz="2500" spc="-1" strike="noStrike">
                <a:solidFill>
                  <a:srgbClr val="a0a5a5"/>
                </a:solidFill>
                <a:latin typeface="Arial"/>
              </a:rPr>
              <a:t>LIGHT DUTY ELECTRIC AND HYBRID VEHICLES</a:t>
            </a:r>
            <a:endParaRPr b="0" lang="en-US" sz="25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86" name="spreker"/>
          <p:cNvSpPr/>
          <p:nvPr/>
        </p:nvSpPr>
        <p:spPr>
          <a:xfrm>
            <a:off x="719280" y="1928880"/>
            <a:ext cx="7048440" cy="23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c64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ffff"/>
                </a:solidFill>
                <a:latin typeface="Arial"/>
              </a:rPr>
              <a:t>GRPE/WLTP –DTP Meeting</a:t>
            </a:r>
            <a:endParaRPr b="1" lang="en-US" sz="1400" spc="-1" strike="noStrike">
              <a:solidFill>
                <a:srgbClr val="003c64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Geneva, 8 June 2011</a:t>
            </a:r>
            <a:endParaRPr b="1" lang="en-US" sz="1400" spc="-1" strike="noStrike">
              <a:solidFill>
                <a:srgbClr val="003c64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c64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DG client:</a:t>
            </a:r>
            <a:endParaRPr b="1" lang="en-US" sz="1400" spc="-1" strike="noStrike">
              <a:solidFill>
                <a:srgbClr val="003c64"/>
              </a:solidFill>
              <a:latin typeface="Arial"/>
            </a:endParaRPr>
          </a:p>
          <a:p>
            <a:pPr lvl="1" marL="457200">
              <a:lnSpc>
                <a:spcPts val="18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Nikolaus Steininger</a:t>
            </a:r>
            <a:endParaRPr b="1" lang="en-US" sz="1400" spc="-1" strike="noStrike">
              <a:solidFill>
                <a:srgbClr val="003c64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c64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c64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c64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c64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Contractors: </a:t>
            </a:r>
            <a:endParaRPr b="1" lang="en-US" sz="1400" spc="-1" strike="noStrike">
              <a:solidFill>
                <a:srgbClr val="003c64"/>
              </a:solidFill>
              <a:latin typeface="Arial"/>
            </a:endParaRPr>
          </a:p>
          <a:p>
            <a:pPr lvl="1" marL="457200">
              <a:lnSpc>
                <a:spcPts val="18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RL (James Nelson, Tim Barlow, Alaric Lester, Dinos Visvikis)</a:t>
            </a:r>
            <a:endParaRPr b="1" lang="en-US" sz="1400" spc="-1" strike="noStrike">
              <a:solidFill>
                <a:srgbClr val="003c64"/>
              </a:solidFill>
              <a:latin typeface="Arial"/>
            </a:endParaRPr>
          </a:p>
          <a:p>
            <a:pPr lvl="1" marL="457200">
              <a:lnSpc>
                <a:spcPts val="18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illbrook (Andy Eastlake, Phil Stones)</a:t>
            </a:r>
            <a:endParaRPr b="1" lang="en-US" sz="1400" spc="-1" strike="noStrike">
              <a:solidFill>
                <a:srgbClr val="003c64"/>
              </a:solidFill>
              <a:latin typeface="Arial"/>
            </a:endParaRPr>
          </a:p>
          <a:p>
            <a:pPr lvl="1" marL="457200">
              <a:lnSpc>
                <a:spcPts val="18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Ecorys (Robert Kok, Konstantina Laparidou)</a:t>
            </a:r>
            <a:endParaRPr b="1" lang="en-US" sz="1400" spc="-1" strike="noStrike">
              <a:solidFill>
                <a:srgbClr val="003c64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c64"/>
              </a:solidFill>
              <a:latin typeface="Arial"/>
            </a:endParaRPr>
          </a:p>
        </p:txBody>
      </p:sp>
      <p:pic>
        <p:nvPicPr>
          <p:cNvPr id="87" name="TRLColourHeaderLogo" descr="trl rgb.jpg"/>
          <p:cNvPicPr/>
          <p:nvPr/>
        </p:nvPicPr>
        <p:blipFill>
          <a:blip r:embed="rId2"/>
          <a:stretch/>
        </p:blipFill>
        <p:spPr>
          <a:xfrm>
            <a:off x="7635960" y="6010200"/>
            <a:ext cx="1212840" cy="6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16040" y="457200"/>
            <a:ext cx="75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GB" sz="2400" spc="-1" strike="noStrike">
                <a:solidFill>
                  <a:srgbClr val="006db6"/>
                </a:solidFill>
                <a:latin typeface="Arial"/>
              </a:rPr>
              <a:t>Next stages</a:t>
            </a:r>
            <a:endParaRPr b="1" lang="en-US" sz="2400" spc="-1" strike="noStrike">
              <a:solidFill>
                <a:srgbClr val="006db6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716040" y="1618920"/>
            <a:ext cx="75578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buClr>
                <a:srgbClr val="003c64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2000" spc="-1" strike="noStrike">
                <a:solidFill>
                  <a:srgbClr val="003c64"/>
                </a:solidFill>
                <a:latin typeface="Arial"/>
              </a:rPr>
              <a:t>Complete review of existing legislation</a:t>
            </a: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lvl="1" marL="358920" indent="-176400">
              <a:buClr>
                <a:srgbClr val="003c64"/>
              </a:buClr>
              <a:buFont typeface="Arial"/>
              <a:buChar char="–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2000" spc="-1" strike="noStrike">
                <a:solidFill>
                  <a:srgbClr val="003c64"/>
                </a:solidFill>
                <a:latin typeface="Arial"/>
              </a:rPr>
              <a:t>M1 and N1 category </a:t>
            </a: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lvl="1" marL="358920" indent="-176400">
              <a:buClr>
                <a:srgbClr val="003c64"/>
              </a:buClr>
              <a:buFont typeface="Arial"/>
              <a:buChar char="–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2000" spc="-1" strike="noStrike">
                <a:solidFill>
                  <a:srgbClr val="003c64"/>
                </a:solidFill>
                <a:latin typeface="Arial"/>
              </a:rPr>
              <a:t>L category</a:t>
            </a: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lvl="1" marL="358920" indent="-176400">
              <a:buClr>
                <a:srgbClr val="003c64"/>
              </a:buClr>
              <a:buFont typeface="Arial"/>
              <a:buChar char="–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2000" spc="-1" strike="noStrike">
                <a:solidFill>
                  <a:srgbClr val="003c64"/>
                </a:solidFill>
                <a:latin typeface="Arial"/>
              </a:rPr>
              <a:t>WLTP-DTP</a:t>
            </a: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lvl="1" marL="358920" indent="-176400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marL="181080" indent="-181080">
              <a:buClr>
                <a:srgbClr val="003c64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2000" spc="-1" strike="noStrike">
                <a:solidFill>
                  <a:srgbClr val="003c64"/>
                </a:solidFill>
                <a:latin typeface="Arial"/>
              </a:rPr>
              <a:t>Review input from stakeholders – both the automotive industry and consumer groups</a:t>
            </a: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marL="181080" indent="-181080">
              <a:buClr>
                <a:srgbClr val="003c64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marL="181080" indent="-181080">
              <a:buClr>
                <a:srgbClr val="003c64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2000" spc="-1" strike="noStrike">
                <a:solidFill>
                  <a:srgbClr val="003c64"/>
                </a:solidFill>
                <a:latin typeface="Arial"/>
              </a:rPr>
              <a:t>Identify parameters from stakeholders and consumers not currently determined for type-approval</a:t>
            </a: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marL="181080" indent="-181080">
              <a:buClr>
                <a:srgbClr val="003c64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  <p:pic>
        <p:nvPicPr>
          <p:cNvPr id="136" name="TRLColourHeaderLogo" descr="trl rgb.jpg"/>
          <p:cNvPicPr/>
          <p:nvPr/>
        </p:nvPicPr>
        <p:blipFill>
          <a:blip r:embed="rId2"/>
          <a:stretch/>
        </p:blipFill>
        <p:spPr>
          <a:xfrm>
            <a:off x="7818480" y="6216480"/>
            <a:ext cx="84276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4" descr="dia-gr"/>
          <p:cNvPicPr/>
          <p:nvPr/>
        </p:nvPicPr>
        <p:blipFill>
          <a:blip r:embed="rId2"/>
          <a:stretch/>
        </p:blipFill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6040" y="457200"/>
            <a:ext cx="75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006db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16040" y="1211040"/>
            <a:ext cx="80834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00" indent="-324000">
              <a:buClr>
                <a:srgbClr val="003c64"/>
              </a:buClr>
              <a:buFont typeface="Arial"/>
              <a:buAutoNum type="arabicPeriod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2400" spc="-1" strike="noStrike">
                <a:solidFill>
                  <a:srgbClr val="003c64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003c64"/>
              </a:solidFill>
              <a:latin typeface="Arial"/>
            </a:endParaRPr>
          </a:p>
          <a:p>
            <a:pPr marL="324000"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400" spc="-1" strike="noStrike">
              <a:solidFill>
                <a:srgbClr val="003c64"/>
              </a:solidFill>
              <a:latin typeface="Arial"/>
            </a:endParaRPr>
          </a:p>
          <a:p>
            <a:pPr marL="324000" indent="-324000">
              <a:buClr>
                <a:srgbClr val="003c64"/>
              </a:buClr>
              <a:buFont typeface="Arial"/>
              <a:buAutoNum type="arabicPeriod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2400" spc="-1" strike="noStrike">
                <a:solidFill>
                  <a:srgbClr val="003c64"/>
                </a:solidFill>
                <a:latin typeface="Arial"/>
                <a:ea typeface="SimSun"/>
              </a:rPr>
              <a:t>Tasks</a:t>
            </a:r>
            <a:endParaRPr b="0" lang="en-US" sz="2400" spc="-1" strike="noStrike">
              <a:solidFill>
                <a:srgbClr val="003c64"/>
              </a:solidFill>
              <a:latin typeface="Arial"/>
            </a:endParaRPr>
          </a:p>
          <a:p>
            <a:pPr marL="324000"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400" spc="-1" strike="noStrike">
              <a:solidFill>
                <a:srgbClr val="003c64"/>
              </a:solidFill>
              <a:latin typeface="Arial"/>
            </a:endParaRPr>
          </a:p>
          <a:p>
            <a:pPr marL="324000" indent="-324000">
              <a:buClr>
                <a:srgbClr val="003c64"/>
              </a:buClr>
              <a:buFont typeface="Arial"/>
              <a:buAutoNum type="arabicPeriod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2400" spc="-1" strike="noStrike">
                <a:solidFill>
                  <a:srgbClr val="003c64"/>
                </a:solidFill>
                <a:latin typeface="Arial"/>
                <a:ea typeface="SimSun"/>
              </a:rPr>
              <a:t>Deadlines </a:t>
            </a:r>
            <a:endParaRPr b="0" lang="en-US" sz="2400" spc="-1" strike="noStrike">
              <a:solidFill>
                <a:srgbClr val="003c64"/>
              </a:solidFill>
              <a:latin typeface="Arial"/>
            </a:endParaRPr>
          </a:p>
          <a:p>
            <a:pPr marL="324000"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400" spc="-1" strike="noStrike">
              <a:solidFill>
                <a:srgbClr val="003c64"/>
              </a:solidFill>
              <a:latin typeface="Arial"/>
            </a:endParaRPr>
          </a:p>
          <a:p>
            <a:pPr marL="324000" indent="-324000">
              <a:buClr>
                <a:srgbClr val="003c64"/>
              </a:buClr>
              <a:buFont typeface="Arial"/>
              <a:buAutoNum type="arabicPeriod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2400" spc="-1" strike="noStrike">
                <a:solidFill>
                  <a:srgbClr val="003c64"/>
                </a:solidFill>
                <a:latin typeface="Arial"/>
                <a:ea typeface="SimSun"/>
              </a:rPr>
              <a:t>Task 1 - Overview</a:t>
            </a:r>
            <a:endParaRPr b="0" lang="en-US" sz="2400" spc="-1" strike="noStrike">
              <a:solidFill>
                <a:srgbClr val="003c64"/>
              </a:solidFill>
              <a:latin typeface="Arial"/>
            </a:endParaRPr>
          </a:p>
          <a:p>
            <a:pPr marL="324000"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400" spc="-1" strike="noStrike">
              <a:solidFill>
                <a:srgbClr val="003c64"/>
              </a:solidFill>
              <a:latin typeface="Arial"/>
            </a:endParaRPr>
          </a:p>
          <a:p>
            <a:pPr marL="324000" indent="-324000">
              <a:buClr>
                <a:srgbClr val="003c64"/>
              </a:buClr>
              <a:buFont typeface="Arial"/>
              <a:buAutoNum type="arabicPeriod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2400" spc="-1" strike="noStrike">
                <a:solidFill>
                  <a:srgbClr val="003c64"/>
                </a:solidFill>
                <a:latin typeface="Arial"/>
                <a:ea typeface="SimSun"/>
              </a:rPr>
              <a:t>Task 2 – Overview</a:t>
            </a:r>
            <a:endParaRPr b="0" lang="en-US" sz="2400" spc="-1" strike="noStrike">
              <a:solidFill>
                <a:srgbClr val="003c64"/>
              </a:solidFill>
              <a:latin typeface="Arial"/>
            </a:endParaRPr>
          </a:p>
          <a:p>
            <a:pPr marL="324000"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400" spc="-1" strike="noStrike">
              <a:solidFill>
                <a:srgbClr val="003c64"/>
              </a:solidFill>
              <a:latin typeface="Arial"/>
            </a:endParaRPr>
          </a:p>
          <a:p>
            <a:pPr marL="324000" indent="-324000">
              <a:buClr>
                <a:srgbClr val="003c64"/>
              </a:buClr>
              <a:buFont typeface="Arial"/>
              <a:buAutoNum type="arabicPeriod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2400" spc="-1" strike="noStrike">
                <a:solidFill>
                  <a:srgbClr val="003c64"/>
                </a:solidFill>
                <a:latin typeface="Arial"/>
              </a:rPr>
              <a:t>Next stages</a:t>
            </a:r>
            <a:endParaRPr b="0" lang="en-US" sz="2400" spc="-1" strike="noStrike">
              <a:solidFill>
                <a:srgbClr val="003c64"/>
              </a:solidFill>
              <a:latin typeface="Arial"/>
            </a:endParaRPr>
          </a:p>
          <a:p>
            <a:pPr marL="324000"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400" spc="-1" strike="noStrike">
              <a:solidFill>
                <a:srgbClr val="003c64"/>
              </a:solidFill>
              <a:latin typeface="Arial"/>
            </a:endParaRPr>
          </a:p>
        </p:txBody>
      </p:sp>
      <p:pic>
        <p:nvPicPr>
          <p:cNvPr id="91" name="TRLColourHeaderLogo" descr="trl rgb.jpg"/>
          <p:cNvPicPr/>
          <p:nvPr/>
        </p:nvPicPr>
        <p:blipFill>
          <a:blip r:embed="rId3"/>
          <a:stretch/>
        </p:blipFill>
        <p:spPr>
          <a:xfrm>
            <a:off x="7818480" y="6216480"/>
            <a:ext cx="84276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bg" descr="dia-w"/>
          <p:cNvPicPr/>
          <p:nvPr/>
        </p:nvPicPr>
        <p:blipFill>
          <a:blip r:embed="rId2"/>
          <a:stretch/>
        </p:blipFill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16040" y="457200"/>
            <a:ext cx="75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GB" sz="2400" spc="-1" strike="noStrike">
                <a:solidFill>
                  <a:srgbClr val="006db6"/>
                </a:solidFill>
                <a:latin typeface="Arial"/>
              </a:rPr>
              <a:t>Objectives</a:t>
            </a:r>
            <a:endParaRPr b="1" lang="en-US" sz="2400" spc="-1" strike="noStrike">
              <a:solidFill>
                <a:srgbClr val="006db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1840" y="1047600"/>
            <a:ext cx="8535960" cy="44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buClr>
                <a:srgbClr val="003c64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2000" spc="-1" strike="noStrike">
                <a:solidFill>
                  <a:srgbClr val="003c64"/>
                </a:solidFill>
                <a:latin typeface="Arial"/>
              </a:rPr>
              <a:t>To provide end-users and regulators with sufficient information about the vehicle so that:</a:t>
            </a: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lvl="1" marL="358920" indent="-176400">
              <a:buClr>
                <a:srgbClr val="003c64"/>
              </a:buClr>
              <a:buFont typeface="Arial"/>
              <a:buChar char="–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2000" spc="-1" strike="noStrike">
                <a:solidFill>
                  <a:srgbClr val="003c64"/>
                </a:solidFill>
                <a:latin typeface="Arial"/>
              </a:rPr>
              <a:t>End-users can make an informed choice when selecting a vehicle </a:t>
            </a: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lvl="1" marL="358920" indent="-176400">
              <a:buClr>
                <a:srgbClr val="003c64"/>
              </a:buClr>
              <a:buFont typeface="Arial"/>
              <a:buChar char="–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2000" spc="-1" strike="noStrike">
                <a:solidFill>
                  <a:srgbClr val="003c64"/>
                </a:solidFill>
                <a:latin typeface="Arial"/>
              </a:rPr>
              <a:t>Regulators can design regulatory measures</a:t>
            </a: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lvl="1" marL="358920" indent="0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marL="181080" indent="-181080">
              <a:buClr>
                <a:srgbClr val="003c64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2000" spc="-1" strike="noStrike">
                <a:solidFill>
                  <a:srgbClr val="003c64"/>
                </a:solidFill>
                <a:latin typeface="Arial"/>
              </a:rPr>
              <a:t>Create a test regime that reflects real world conditions</a:t>
            </a: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marL="181080" indent="0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1600" spc="-1" strike="noStrike">
              <a:solidFill>
                <a:srgbClr val="003c64"/>
              </a:solidFill>
              <a:latin typeface="Arial"/>
            </a:endParaRPr>
          </a:p>
          <a:p>
            <a:pPr lvl="1" marL="358920"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1600" spc="-1" strike="noStrike">
              <a:solidFill>
                <a:srgbClr val="003c64"/>
              </a:solidFill>
              <a:latin typeface="Arial"/>
            </a:endParaRPr>
          </a:p>
          <a:p>
            <a:pPr marL="181080"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16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95" name="subkop"/>
          <p:cNvSpPr/>
          <p:nvPr/>
        </p:nvSpPr>
        <p:spPr>
          <a:xfrm>
            <a:off x="716040" y="1176480"/>
            <a:ext cx="7557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c64"/>
              </a:solidFill>
              <a:latin typeface="Arial"/>
            </a:endParaRPr>
          </a:p>
        </p:txBody>
      </p:sp>
      <p:pic>
        <p:nvPicPr>
          <p:cNvPr id="96" name="TRLColourHeaderLogo" descr="trl rgb.jpg"/>
          <p:cNvPicPr/>
          <p:nvPr/>
        </p:nvPicPr>
        <p:blipFill>
          <a:blip r:embed="rId3"/>
          <a:stretch/>
        </p:blipFill>
        <p:spPr>
          <a:xfrm>
            <a:off x="7818480" y="6216480"/>
            <a:ext cx="84276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bg" descr="dia-w"/>
          <p:cNvPicPr/>
          <p:nvPr/>
        </p:nvPicPr>
        <p:blipFill>
          <a:blip r:embed="rId2"/>
          <a:stretch/>
        </p:blipFill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16040" y="457200"/>
            <a:ext cx="75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2400" spc="-1" strike="noStrike">
                <a:solidFill>
                  <a:srgbClr val="006db6"/>
                </a:solidFill>
                <a:latin typeface="Arial"/>
              </a:rPr>
              <a:t>Tasks</a:t>
            </a:r>
            <a:endParaRPr b="1" lang="en-US" sz="2400" spc="-1" strike="noStrike">
              <a:solidFill>
                <a:srgbClr val="006db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16040" y="1618920"/>
            <a:ext cx="75578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buClr>
                <a:srgbClr val="003c64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2000" spc="-1" strike="noStrike">
                <a:solidFill>
                  <a:srgbClr val="003c64"/>
                </a:solidFill>
                <a:latin typeface="Arial"/>
              </a:rPr>
              <a:t>Task 1 – Review existing legislation, regulations and standards</a:t>
            </a: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marL="181080"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marL="181080" indent="-181080">
              <a:buClr>
                <a:srgbClr val="003c64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2000" spc="-1" strike="noStrike">
                <a:solidFill>
                  <a:srgbClr val="003c64"/>
                </a:solidFill>
                <a:latin typeface="Arial"/>
              </a:rPr>
              <a:t>Task 2 – Review desired stakeholder and consumer data requirements</a:t>
            </a: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marL="181080"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marL="181080" indent="-181080">
              <a:buClr>
                <a:srgbClr val="003c64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2000" spc="-1" strike="noStrike">
                <a:solidFill>
                  <a:srgbClr val="003c64"/>
                </a:solidFill>
                <a:latin typeface="Arial"/>
              </a:rPr>
              <a:t>Task 3 – Determination of limitations, shortcomings and omissions in existing type approval procedures with respect to the identified objectives</a:t>
            </a: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marL="181080"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marL="181080" indent="-181080">
              <a:buClr>
                <a:srgbClr val="003c64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2000" spc="-1" strike="noStrike">
                <a:solidFill>
                  <a:srgbClr val="003c64"/>
                </a:solidFill>
                <a:latin typeface="Arial"/>
              </a:rPr>
              <a:t>Task 4 – Recommendation of modifications and complementary test procedures and next stages (test work required)</a:t>
            </a: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lvl="1" marL="358920"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1600" spc="-1" strike="noStrike">
              <a:solidFill>
                <a:srgbClr val="003c64"/>
              </a:solidFill>
              <a:latin typeface="Arial"/>
            </a:endParaRPr>
          </a:p>
          <a:p>
            <a:pPr marL="181080"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16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100" name="subkop"/>
          <p:cNvSpPr/>
          <p:nvPr/>
        </p:nvSpPr>
        <p:spPr>
          <a:xfrm>
            <a:off x="716040" y="1176480"/>
            <a:ext cx="7557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c64"/>
              </a:solidFill>
              <a:latin typeface="Arial"/>
            </a:endParaRPr>
          </a:p>
        </p:txBody>
      </p:sp>
      <p:pic>
        <p:nvPicPr>
          <p:cNvPr id="101" name="TRLColourHeaderLogo" descr="trl rgb.jpg"/>
          <p:cNvPicPr/>
          <p:nvPr/>
        </p:nvPicPr>
        <p:blipFill>
          <a:blip r:embed="rId3"/>
          <a:stretch/>
        </p:blipFill>
        <p:spPr>
          <a:xfrm>
            <a:off x="7818480" y="6216480"/>
            <a:ext cx="84276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bg" descr="dia-w"/>
          <p:cNvPicPr/>
          <p:nvPr/>
        </p:nvPicPr>
        <p:blipFill>
          <a:blip r:embed="rId2"/>
          <a:stretch/>
        </p:blipFill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16040" y="457200"/>
            <a:ext cx="75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2400" spc="-1" strike="noStrike">
                <a:solidFill>
                  <a:srgbClr val="006db6"/>
                </a:solidFill>
                <a:latin typeface="Arial"/>
              </a:rPr>
              <a:t>Deadlines</a:t>
            </a:r>
            <a:endParaRPr b="1" lang="en-US" sz="2400" spc="-1" strike="noStrike">
              <a:solidFill>
                <a:srgbClr val="006db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16040" y="1618920"/>
            <a:ext cx="75578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buClr>
                <a:srgbClr val="003c64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2000" spc="-1" strike="noStrike">
                <a:solidFill>
                  <a:srgbClr val="003c64"/>
                </a:solidFill>
                <a:latin typeface="Arial"/>
              </a:rPr>
              <a:t>Stakeholder input (consumer requirements) regarding utility parameters requested before 27 June 2011</a:t>
            </a: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marL="181080"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marL="181080" indent="-181080">
              <a:buClr>
                <a:srgbClr val="003c64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2000" spc="-1" strike="noStrike">
                <a:solidFill>
                  <a:srgbClr val="003c64"/>
                </a:solidFill>
                <a:latin typeface="Arial"/>
              </a:rPr>
              <a:t>Stakeholder input (automotive industry) regarding technical developments requested before 14 June 2011</a:t>
            </a: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marL="181080"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marL="181080"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1600" spc="-1" strike="noStrike">
              <a:solidFill>
                <a:srgbClr val="003c64"/>
              </a:solidFill>
              <a:latin typeface="Arial"/>
            </a:endParaRPr>
          </a:p>
          <a:p>
            <a:pPr marL="181080" indent="-181080">
              <a:buClr>
                <a:srgbClr val="003c64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2000" spc="-1" strike="noStrike">
                <a:solidFill>
                  <a:srgbClr val="003c64"/>
                </a:solidFill>
                <a:latin typeface="Arial"/>
              </a:rPr>
              <a:t>Final report due September 2011</a:t>
            </a: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105" name="subkop"/>
          <p:cNvSpPr/>
          <p:nvPr/>
        </p:nvSpPr>
        <p:spPr>
          <a:xfrm>
            <a:off x="716040" y="1176480"/>
            <a:ext cx="7557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c64"/>
              </a:solidFill>
              <a:latin typeface="Arial"/>
            </a:endParaRPr>
          </a:p>
        </p:txBody>
      </p:sp>
      <p:pic>
        <p:nvPicPr>
          <p:cNvPr id="106" name="TRLColourHeaderLogo" descr="trl rgb.jpg"/>
          <p:cNvPicPr/>
          <p:nvPr/>
        </p:nvPicPr>
        <p:blipFill>
          <a:blip r:embed="rId3"/>
          <a:stretch/>
        </p:blipFill>
        <p:spPr>
          <a:xfrm>
            <a:off x="7818480" y="6216480"/>
            <a:ext cx="84276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bg" descr="dia-w"/>
          <p:cNvPicPr/>
          <p:nvPr/>
        </p:nvPicPr>
        <p:blipFill>
          <a:blip r:embed="rId2"/>
          <a:stretch/>
        </p:blipFill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16040" y="457200"/>
            <a:ext cx="75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sz="2400" spc="-1" strike="noStrike">
                <a:solidFill>
                  <a:srgbClr val="006db6"/>
                </a:solidFill>
                <a:latin typeface="Arial"/>
              </a:rPr>
              <a:t>Task 1: Review of existing legislation</a:t>
            </a:r>
            <a:endParaRPr b="1" lang="en-US" sz="2400" spc="-1" strike="noStrike">
              <a:solidFill>
                <a:srgbClr val="006db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16040" y="1618920"/>
            <a:ext cx="75578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lvl="1" marL="358920"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1600" spc="-1" strike="noStrike">
              <a:solidFill>
                <a:srgbClr val="003c64"/>
              </a:solidFill>
              <a:latin typeface="Arial"/>
            </a:endParaRPr>
          </a:p>
          <a:p>
            <a:pPr marL="181080"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16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110" name="subkop"/>
          <p:cNvSpPr/>
          <p:nvPr/>
        </p:nvSpPr>
        <p:spPr>
          <a:xfrm>
            <a:off x="716040" y="1176480"/>
            <a:ext cx="7557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328680" y="1555920"/>
            <a:ext cx="4164120" cy="502920"/>
          </a:xfrm>
          <a:prstGeom prst="rect">
            <a:avLst/>
          </a:prstGeom>
          <a:solidFill>
            <a:srgbClr val="006db6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1800" spc="-1" strike="noStrike">
                <a:solidFill>
                  <a:srgbClr val="ffffff"/>
                </a:solidFill>
                <a:latin typeface="Arial"/>
              </a:rPr>
              <a:t>Regulations (EC) No. 715/2007 and 692/2008</a:t>
            </a:r>
            <a:endParaRPr b="1" lang="en-US" sz="18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28680" y="2058840"/>
            <a:ext cx="4164120" cy="3961080"/>
          </a:xfrm>
          <a:prstGeom prst="rect">
            <a:avLst/>
          </a:prstGeom>
          <a:noFill/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72000" tIns="108000" bIns="72000" anchor="t">
            <a:noAutofit/>
          </a:bodyPr>
          <a:p>
            <a:pPr marL="190440" indent="-190440">
              <a:lnSpc>
                <a:spcPct val="100000"/>
              </a:lnSpc>
              <a:spcBef>
                <a:spcPts val="799"/>
              </a:spcBef>
              <a:buClr>
                <a:srgbClr val="fea5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Verdana"/>
              </a:rPr>
              <a:t>EC No. 715/2007: introduces Euro 5 and Euro 6 emissions limits</a:t>
            </a:r>
            <a:endParaRPr b="1" lang="en-US" sz="1600" spc="-1" strike="noStrike">
              <a:solidFill>
                <a:srgbClr val="003c64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799"/>
              </a:spcBef>
              <a:buClr>
                <a:srgbClr val="fea5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Verdana"/>
              </a:rPr>
              <a:t>EC No. 692/2008: detailed technical requirements and specifications </a:t>
            </a:r>
            <a:endParaRPr b="1" lang="en-US" sz="1600" spc="-1" strike="noStrike">
              <a:solidFill>
                <a:srgbClr val="003c64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799"/>
              </a:spcBef>
              <a:buClr>
                <a:srgbClr val="fea5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Verdana"/>
              </a:rPr>
              <a:t>EC No. 692/2008 refers to UNECE Regulations 83 and 101 for test procedures</a:t>
            </a:r>
            <a:endParaRPr b="1" lang="en-US" sz="1600" spc="-1" strike="noStrike">
              <a:solidFill>
                <a:srgbClr val="003c64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799"/>
              </a:spcBef>
              <a:buClr>
                <a:srgbClr val="a0be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4672080" y="1555920"/>
            <a:ext cx="4164120" cy="502920"/>
          </a:xfrm>
          <a:prstGeom prst="rect">
            <a:avLst/>
          </a:prstGeom>
          <a:solidFill>
            <a:srgbClr val="ec7405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1800" spc="-1" strike="noStrike">
                <a:solidFill>
                  <a:srgbClr val="ffffff"/>
                </a:solidFill>
                <a:latin typeface="Arial"/>
              </a:rPr>
              <a:t>UNECE Regulation 83</a:t>
            </a:r>
            <a:endParaRPr b="1" lang="en-US" sz="18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4672080" y="2058840"/>
            <a:ext cx="4164120" cy="3961080"/>
          </a:xfrm>
          <a:prstGeom prst="rect">
            <a:avLst/>
          </a:prstGeom>
          <a:noFill/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72000" tIns="108000" bIns="72000" anchor="t">
            <a:noAutofit/>
          </a:bodyPr>
          <a:p>
            <a:pPr marL="190440" indent="-190440">
              <a:lnSpc>
                <a:spcPct val="100000"/>
              </a:lnSpc>
              <a:spcBef>
                <a:spcPts val="799"/>
              </a:spcBef>
              <a:buClr>
                <a:srgbClr val="fea5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Verdana"/>
              </a:rPr>
              <a:t>Emissions limits and technical requirements harmonised with EC legislation (Euro 5 and Euro 6)</a:t>
            </a:r>
            <a:endParaRPr b="1" lang="en-US" sz="1600" spc="-1" strike="noStrike">
              <a:solidFill>
                <a:srgbClr val="003c64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799"/>
              </a:spcBef>
              <a:buClr>
                <a:srgbClr val="fea5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Verdana"/>
              </a:rPr>
              <a:t>Detailed test methods referenced by EC legislation</a:t>
            </a:r>
            <a:endParaRPr b="1" lang="en-US" sz="1600" spc="-1" strike="noStrike">
              <a:solidFill>
                <a:srgbClr val="003c64"/>
              </a:solidFill>
              <a:latin typeface="Arial"/>
            </a:endParaRPr>
          </a:p>
          <a:p>
            <a:pPr marL="190440" indent="-190440">
              <a:spcBef>
                <a:spcPts val="901"/>
              </a:spcBef>
              <a:buClr>
                <a:srgbClr val="a0be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c64"/>
              </a:solidFill>
              <a:latin typeface="Arial"/>
            </a:endParaRPr>
          </a:p>
          <a:p>
            <a:pPr marL="190440" indent="-190440">
              <a:spcBef>
                <a:spcPts val="901"/>
              </a:spcBef>
              <a:buClr>
                <a:srgbClr val="a0be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c64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799"/>
              </a:spcBef>
              <a:buClr>
                <a:srgbClr val="fea5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Verdana"/>
              </a:rPr>
              <a:t>Technical requirements harmonised with EC legislation</a:t>
            </a:r>
            <a:endParaRPr b="1" lang="en-US" sz="1600" spc="-1" strike="noStrike">
              <a:solidFill>
                <a:srgbClr val="003c64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799"/>
              </a:spcBef>
              <a:buClr>
                <a:srgbClr val="fea5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Verdana"/>
              </a:rPr>
              <a:t>Detailed test methods referenced by EC legislation </a:t>
            </a:r>
            <a:endParaRPr b="1" lang="en-US" sz="1600" spc="-1" strike="noStrike">
              <a:solidFill>
                <a:srgbClr val="003c64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799"/>
              </a:spcBef>
              <a:buClr>
                <a:srgbClr val="a0be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314280" y="1038240"/>
            <a:ext cx="79009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2000" spc="-1" strike="noStrike" u="sng">
                <a:solidFill>
                  <a:srgbClr val="003c64"/>
                </a:solidFill>
                <a:uFillTx/>
                <a:latin typeface="Arial"/>
              </a:rPr>
              <a:t>Light passenger and commercial vehicles - overview</a:t>
            </a:r>
            <a:r>
              <a:rPr b="0" sz="2000" spc="-1" strike="noStrike" u="sng">
                <a:solidFill>
                  <a:srgbClr val="003c64"/>
                </a:solidFill>
                <a:uFillTx/>
                <a:latin typeface="Verdana"/>
              </a:rPr>
              <a:t> </a:t>
            </a:r>
            <a:endParaRPr b="1" lang="en-US" sz="20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4672080" y="3597120"/>
            <a:ext cx="4164120" cy="505080"/>
          </a:xfrm>
          <a:prstGeom prst="rect">
            <a:avLst/>
          </a:prstGeom>
          <a:solidFill>
            <a:srgbClr val="ec7405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1800" spc="-1" strike="noStrike">
                <a:solidFill>
                  <a:srgbClr val="ffffff"/>
                </a:solidFill>
                <a:latin typeface="Arial"/>
              </a:rPr>
              <a:t>UNECE Regulation 101</a:t>
            </a:r>
            <a:endParaRPr b="1" lang="en-US" sz="1800" spc="-1" strike="noStrike">
              <a:solidFill>
                <a:srgbClr val="003c64"/>
              </a:solidFill>
              <a:latin typeface="Arial"/>
            </a:endParaRPr>
          </a:p>
        </p:txBody>
      </p:sp>
      <p:pic>
        <p:nvPicPr>
          <p:cNvPr id="117" name="TRLColourHeaderLogo" descr="trl rgb.jpg"/>
          <p:cNvPicPr/>
          <p:nvPr/>
        </p:nvPicPr>
        <p:blipFill>
          <a:blip r:embed="rId3"/>
          <a:stretch/>
        </p:blipFill>
        <p:spPr>
          <a:xfrm>
            <a:off x="7818480" y="6216480"/>
            <a:ext cx="84276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bg" descr="dia-w"/>
          <p:cNvPicPr/>
          <p:nvPr/>
        </p:nvPicPr>
        <p:blipFill>
          <a:blip r:embed="rId2"/>
          <a:stretch/>
        </p:blipFill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16040" y="457200"/>
            <a:ext cx="75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sz="2400" spc="-1" strike="noStrike">
                <a:solidFill>
                  <a:srgbClr val="006db6"/>
                </a:solidFill>
                <a:latin typeface="Arial"/>
              </a:rPr>
              <a:t>Task 1: Review of existing legislation</a:t>
            </a:r>
            <a:endParaRPr b="1" lang="en-US" sz="2400" spc="-1" strike="noStrike">
              <a:solidFill>
                <a:srgbClr val="006db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16040" y="1618920"/>
            <a:ext cx="75578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58920"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1600" spc="-1" strike="noStrike">
              <a:solidFill>
                <a:srgbClr val="003c64"/>
              </a:solidFill>
              <a:latin typeface="Arial"/>
            </a:endParaRPr>
          </a:p>
          <a:p>
            <a:pPr marL="181080"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16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121" name="subkop"/>
          <p:cNvSpPr/>
          <p:nvPr/>
        </p:nvSpPr>
        <p:spPr>
          <a:xfrm>
            <a:off x="716040" y="1176480"/>
            <a:ext cx="7557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c64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77920" y="1658880"/>
          <a:ext cx="8524800" cy="4016520"/>
        </p:xfrm>
        <a:graphic>
          <a:graphicData uri="http://schemas.openxmlformats.org/drawingml/2006/table">
            <a:tbl>
              <a:tblPr/>
              <a:tblGrid>
                <a:gridCol w="1760400"/>
                <a:gridCol w="4599000"/>
                <a:gridCol w="2165400"/>
              </a:tblGrid>
              <a:tr h="366840">
                <a:tc>
                  <a:txBody>
                    <a:bodyPr lIns="108000" rIns="3600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gulation</a:t>
                      </a:r>
                      <a:endParaRPr b="1" lang="en-US" sz="1400" spc="-1" strike="noStrike">
                        <a:solidFill>
                          <a:srgbClr val="003c64"/>
                        </a:solidFill>
                        <a:latin typeface="Arial"/>
                      </a:endParaRPr>
                    </a:p>
                  </a:txBody>
                  <a:tcPr anchor="ctr" marL="108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7405"/>
                    </a:solidFill>
                  </a:tcPr>
                </a:tc>
                <a:tc>
                  <a:txBody>
                    <a:bodyPr lIns="36000" rIns="10800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st</a:t>
                      </a:r>
                      <a:endParaRPr b="1" lang="en-US" sz="1400" spc="-1" strike="noStrike">
                        <a:solidFill>
                          <a:srgbClr val="003c64"/>
                        </a:solidFill>
                        <a:latin typeface="Arial"/>
                      </a:endParaRPr>
                    </a:p>
                  </a:txBody>
                  <a:tcPr anchor="ctr" marL="36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db6"/>
                    </a:solidFill>
                  </a:tcPr>
                </a:tc>
                <a:tc>
                  <a:txBody>
                    <a:bodyPr lIns="36000" rIns="108000" tIns="0" bIns="0"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rameters</a:t>
                      </a:r>
                      <a:endParaRPr b="1" lang="en-US" sz="1400" spc="-1" strike="noStrike">
                        <a:solidFill>
                          <a:srgbClr val="003c64"/>
                        </a:solidFill>
                        <a:latin typeface="Arial"/>
                      </a:endParaRPr>
                    </a:p>
                  </a:txBody>
                  <a:tcPr anchor="ctr" marL="36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d4d4d"/>
                    </a:solidFill>
                  </a:tcPr>
                </a:tc>
              </a:tr>
              <a:tr h="639720">
                <a:tc rowSpan="7">
                  <a:txBody>
                    <a:bodyPr lIns="108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4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EC No. 692/2008 and UNECE R83</a:t>
                      </a:r>
                      <a:endParaRPr b="1" lang="en-US" sz="1400" spc="-1" strike="noStrike">
                        <a:solidFill>
                          <a:srgbClr val="003c64"/>
                        </a:solidFill>
                        <a:latin typeface="Arial"/>
                      </a:endParaRPr>
                    </a:p>
                  </a:txBody>
                  <a:tcPr anchor="ctr" marL="108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108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4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Type 1: Exhaust emissions at ambient conditions</a:t>
                      </a:r>
                      <a:endParaRPr b="1" lang="en-US" sz="1400" spc="-1" strike="noStrike">
                        <a:solidFill>
                          <a:srgbClr val="003c64"/>
                        </a:solidFill>
                        <a:latin typeface="Arial"/>
                      </a:endParaRPr>
                    </a:p>
                  </a:txBody>
                  <a:tcPr anchor="ctr" marL="36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36000" rIns="108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4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CO; THC; NMHC; NOx; PM; battery state of charge, electric range</a:t>
                      </a:r>
                      <a:endParaRPr b="1" lang="en-US" sz="1400" spc="-1" strike="noStrike">
                        <a:solidFill>
                          <a:srgbClr val="003c64"/>
                        </a:solidFill>
                        <a:latin typeface="Arial"/>
                      </a:endParaRPr>
                    </a:p>
                  </a:txBody>
                  <a:tcPr anchor="ctr" marL="36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32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000" spc="-1" strike="noStrike">
                        <a:solidFill>
                          <a:srgbClr val="003c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108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4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Type 2: CO at idling speeds</a:t>
                      </a:r>
                      <a:endParaRPr b="1" lang="en-US" sz="1400" spc="-1" strike="noStrike">
                        <a:solidFill>
                          <a:srgbClr val="003c64"/>
                        </a:solidFill>
                        <a:latin typeface="Arial"/>
                      </a:endParaRPr>
                    </a:p>
                  </a:txBody>
                  <a:tcPr anchor="ctr" marL="36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36000" rIns="108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4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CO</a:t>
                      </a:r>
                      <a:endParaRPr b="1" lang="en-US" sz="1400" spc="-1" strike="noStrike">
                        <a:solidFill>
                          <a:srgbClr val="003c64"/>
                        </a:solidFill>
                        <a:latin typeface="Arial"/>
                      </a:endParaRPr>
                    </a:p>
                  </a:txBody>
                  <a:tcPr anchor="ctr" marL="36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2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000" spc="-1" strike="noStrike">
                        <a:solidFill>
                          <a:srgbClr val="003c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108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4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Type 3: Crankcase gas emissions</a:t>
                      </a:r>
                      <a:endParaRPr b="1" lang="en-US" sz="1400" spc="-1" strike="noStrike">
                        <a:solidFill>
                          <a:srgbClr val="003c64"/>
                        </a:solidFill>
                        <a:latin typeface="Arial"/>
                      </a:endParaRPr>
                    </a:p>
                  </a:txBody>
                  <a:tcPr anchor="ctr" marL="36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36000" rIns="108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4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Crankcase pressure</a:t>
                      </a:r>
                      <a:endParaRPr b="1" lang="en-US" sz="1400" spc="-1" strike="noStrike">
                        <a:solidFill>
                          <a:srgbClr val="003c64"/>
                        </a:solidFill>
                        <a:latin typeface="Arial"/>
                      </a:endParaRPr>
                    </a:p>
                  </a:txBody>
                  <a:tcPr anchor="ctr" marL="36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32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000" spc="-1" strike="noStrike">
                        <a:solidFill>
                          <a:srgbClr val="003c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108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4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Type 4: Evaporative emissions</a:t>
                      </a:r>
                      <a:endParaRPr b="1" lang="en-US" sz="1400" spc="-1" strike="noStrike">
                        <a:solidFill>
                          <a:srgbClr val="003c64"/>
                        </a:solidFill>
                        <a:latin typeface="Arial"/>
                      </a:endParaRPr>
                    </a:p>
                  </a:txBody>
                  <a:tcPr anchor="ctr" marL="36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36000" rIns="108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4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THC</a:t>
                      </a:r>
                      <a:endParaRPr b="1" lang="en-US" sz="1400" spc="-1" strike="noStrike">
                        <a:solidFill>
                          <a:srgbClr val="003c64"/>
                        </a:solidFill>
                        <a:latin typeface="Arial"/>
                      </a:endParaRPr>
                    </a:p>
                  </a:txBody>
                  <a:tcPr anchor="ctr" marL="36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26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000" spc="-1" strike="noStrike">
                        <a:solidFill>
                          <a:srgbClr val="003c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108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4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Type 5: Durability of pollution control devices</a:t>
                      </a:r>
                      <a:endParaRPr b="1" lang="en-US" sz="1400" spc="-1" strike="noStrike">
                        <a:solidFill>
                          <a:srgbClr val="003c64"/>
                        </a:solidFill>
                        <a:latin typeface="Arial"/>
                      </a:endParaRPr>
                    </a:p>
                  </a:txBody>
                  <a:tcPr anchor="ctr" marL="36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36000" rIns="108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4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CO; THC; NMHC; NOx; PM</a:t>
                      </a:r>
                      <a:endParaRPr b="1" lang="en-US" sz="1400" spc="-1" strike="noStrike">
                        <a:solidFill>
                          <a:srgbClr val="003c64"/>
                        </a:solidFill>
                        <a:latin typeface="Arial"/>
                      </a:endParaRPr>
                    </a:p>
                  </a:txBody>
                  <a:tcPr anchor="ctr" marL="36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26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000" spc="-1" strike="noStrike">
                        <a:solidFill>
                          <a:srgbClr val="003c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108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4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Type 6: Average emsissions at low ambient temperatures</a:t>
                      </a:r>
                      <a:endParaRPr b="1" lang="en-US" sz="1400" spc="-1" strike="noStrike">
                        <a:solidFill>
                          <a:srgbClr val="003c64"/>
                        </a:solidFill>
                        <a:latin typeface="Arial"/>
                      </a:endParaRPr>
                    </a:p>
                  </a:txBody>
                  <a:tcPr anchor="ctr" marL="36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36000" rIns="108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4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CO; THC; CO2</a:t>
                      </a:r>
                      <a:endParaRPr b="1" lang="en-US" sz="1400" spc="-1" strike="noStrike">
                        <a:solidFill>
                          <a:srgbClr val="003c64"/>
                        </a:solidFill>
                        <a:latin typeface="Arial"/>
                      </a:endParaRPr>
                    </a:p>
                  </a:txBody>
                  <a:tcPr anchor="ctr" marL="36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2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000" spc="-1" strike="noStrike">
                        <a:solidFill>
                          <a:srgbClr val="003c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108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4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On-board diagnostics test</a:t>
                      </a:r>
                      <a:endParaRPr b="1" lang="en-US" sz="1400" spc="-1" strike="noStrike">
                        <a:solidFill>
                          <a:srgbClr val="003c64"/>
                        </a:solidFill>
                        <a:latin typeface="Arial"/>
                      </a:endParaRPr>
                    </a:p>
                  </a:txBody>
                  <a:tcPr anchor="ctr" marL="36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36000" rIns="108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4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CO; NMHC; Nox; PM</a:t>
                      </a:r>
                      <a:endParaRPr b="1" lang="en-US" sz="1400" spc="-1" strike="noStrike">
                        <a:solidFill>
                          <a:srgbClr val="003c64"/>
                        </a:solidFill>
                        <a:latin typeface="Arial"/>
                      </a:endParaRPr>
                    </a:p>
                  </a:txBody>
                  <a:tcPr anchor="ctr" marL="36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854280">
                <a:tc>
                  <a:txBody>
                    <a:bodyPr lIns="108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4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EC No. 692/2008 and UNECE R101</a:t>
                      </a:r>
                      <a:endParaRPr b="1" lang="en-US" sz="1400" spc="-1" strike="noStrike">
                        <a:solidFill>
                          <a:srgbClr val="003c64"/>
                        </a:solidFill>
                        <a:latin typeface="Arial"/>
                      </a:endParaRPr>
                    </a:p>
                  </a:txBody>
                  <a:tcPr anchor="ctr" marL="108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36000" rIns="108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4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CO2 emissions and fuel consumption</a:t>
                      </a:r>
                      <a:endParaRPr b="1" lang="en-US" sz="1400" spc="-1" strike="noStrike">
                        <a:solidFill>
                          <a:srgbClr val="003c64"/>
                        </a:solidFill>
                        <a:latin typeface="Arial"/>
                      </a:endParaRPr>
                    </a:p>
                  </a:txBody>
                  <a:tcPr anchor="ctr" marL="36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36000" rIns="108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4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CO2; fuel consumption; electric energy consumption; electric range</a:t>
                      </a:r>
                      <a:endParaRPr b="1" lang="en-US" sz="1400" spc="-1" strike="noStrike">
                        <a:solidFill>
                          <a:srgbClr val="003c64"/>
                        </a:solidFill>
                        <a:latin typeface="Arial"/>
                      </a:endParaRPr>
                    </a:p>
                  </a:txBody>
                  <a:tcPr anchor="ctr" marL="36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123" name="Rectangle 7"/>
          <p:cNvSpPr/>
          <p:nvPr/>
        </p:nvSpPr>
        <p:spPr>
          <a:xfrm>
            <a:off x="314280" y="1036800"/>
            <a:ext cx="57531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2000" spc="-1" strike="noStrike" u="sng">
                <a:solidFill>
                  <a:srgbClr val="003c64"/>
                </a:solidFill>
                <a:uFillTx/>
                <a:latin typeface="Arial"/>
              </a:rPr>
              <a:t>Light passenger and commercial vehicles</a:t>
            </a:r>
            <a:endParaRPr b="1" lang="en-US" sz="2000" spc="-1" strike="noStrike">
              <a:solidFill>
                <a:srgbClr val="003c64"/>
              </a:solidFill>
              <a:latin typeface="Arial"/>
            </a:endParaRPr>
          </a:p>
        </p:txBody>
      </p:sp>
      <p:pic>
        <p:nvPicPr>
          <p:cNvPr id="124" name="TRLColourHeaderLogo" descr="trl rgb.jpg"/>
          <p:cNvPicPr/>
          <p:nvPr/>
        </p:nvPicPr>
        <p:blipFill>
          <a:blip r:embed="rId3"/>
          <a:stretch/>
        </p:blipFill>
        <p:spPr>
          <a:xfrm>
            <a:off x="7818480" y="6216480"/>
            <a:ext cx="84276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bg" descr="dia-w"/>
          <p:cNvPicPr/>
          <p:nvPr/>
        </p:nvPicPr>
        <p:blipFill>
          <a:blip r:embed="rId2"/>
          <a:stretch/>
        </p:blipFill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16040" y="457200"/>
            <a:ext cx="75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fr-BE" sz="2400" spc="-1" strike="noStrike">
                <a:solidFill>
                  <a:srgbClr val="006db6"/>
                </a:solidFill>
                <a:latin typeface="Arial"/>
              </a:rPr>
              <a:t>Task 2: Parameters</a:t>
            </a:r>
            <a:endParaRPr b="1" lang="en-US" sz="2400" spc="-1" strike="noStrike">
              <a:solidFill>
                <a:srgbClr val="006db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1840" y="1047600"/>
            <a:ext cx="8535960" cy="44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buClr>
                <a:srgbClr val="003c64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2000" spc="-1" strike="noStrike">
                <a:solidFill>
                  <a:srgbClr val="003c64"/>
                </a:solidFill>
                <a:latin typeface="Arial"/>
              </a:rPr>
              <a:t>Parameters may include:</a:t>
            </a: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marL="181080"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lvl="1" marL="358920" indent="-176400">
              <a:buClr>
                <a:srgbClr val="003c64"/>
              </a:buClr>
              <a:buFont typeface="Arial"/>
              <a:buChar char="–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2000" spc="-1" strike="noStrike">
                <a:solidFill>
                  <a:srgbClr val="003c64"/>
                </a:solidFill>
                <a:latin typeface="Arial"/>
              </a:rPr>
              <a:t>Electric range (both EV &amp; HEVs, full/empty battery)</a:t>
            </a: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lvl="1" marL="358920" indent="-176400">
              <a:buClr>
                <a:srgbClr val="003c64"/>
              </a:buClr>
              <a:buFont typeface="Arial"/>
              <a:buChar char="–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2000" spc="-1" strike="noStrike">
                <a:solidFill>
                  <a:srgbClr val="003c64"/>
                </a:solidFill>
                <a:latin typeface="Arial"/>
              </a:rPr>
              <a:t>Energy consumption (fuel and/or electric)</a:t>
            </a: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lvl="1" marL="358920" indent="-176400">
              <a:buClr>
                <a:srgbClr val="003c64"/>
              </a:buClr>
              <a:buFont typeface="Arial"/>
              <a:buChar char="–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2000" spc="-1" strike="noStrike">
                <a:solidFill>
                  <a:srgbClr val="003c64"/>
                </a:solidFill>
                <a:latin typeface="Arial"/>
              </a:rPr>
              <a:t>Maintenance parameters (specifically related to life of major components – e.g. battery pack )</a:t>
            </a: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lvl="1" marL="358920" indent="-176400">
              <a:buClr>
                <a:srgbClr val="003c64"/>
              </a:buClr>
              <a:buFont typeface="Arial"/>
              <a:buChar char="–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2000" spc="-1" strike="noStrike">
                <a:solidFill>
                  <a:srgbClr val="003c64"/>
                </a:solidFill>
                <a:latin typeface="Arial"/>
              </a:rPr>
              <a:t>Performance (speed, acceleration, etc.)</a:t>
            </a: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lvl="1" marL="358920" indent="-176400">
              <a:buClr>
                <a:srgbClr val="003c64"/>
              </a:buClr>
              <a:buFont typeface="Arial"/>
              <a:buChar char="–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2000" spc="-1" strike="noStrike">
                <a:solidFill>
                  <a:srgbClr val="003c64"/>
                </a:solidFill>
                <a:latin typeface="Arial"/>
              </a:rPr>
              <a:t>Durability of batteries</a:t>
            </a: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lvl="1" marL="358920" indent="-176400">
              <a:buClr>
                <a:srgbClr val="003c64"/>
              </a:buClr>
              <a:buFont typeface="Arial"/>
              <a:buChar char="–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2000" spc="-1" strike="noStrike">
                <a:solidFill>
                  <a:srgbClr val="003c64"/>
                </a:solidFill>
                <a:latin typeface="Arial"/>
              </a:rPr>
              <a:t>Recharge time (EVs and plug-in HEVs)</a:t>
            </a: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lvl="1" marL="358920" indent="-176400">
              <a:buClr>
                <a:srgbClr val="003c64"/>
              </a:buClr>
              <a:buFont typeface="Arial"/>
              <a:buChar char="–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2000" spc="-1" strike="noStrike">
                <a:solidFill>
                  <a:srgbClr val="003c64"/>
                </a:solidFill>
                <a:latin typeface="Arial"/>
              </a:rPr>
              <a:t>Conditional parameters (outside/interior temperatures, journey length, age of battery, etc)</a:t>
            </a: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lvl="1" marL="358920" indent="-176400">
              <a:buClr>
                <a:srgbClr val="003c64"/>
              </a:buClr>
              <a:buFont typeface="Arial"/>
              <a:buChar char="–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2000" spc="-1" strike="noStrike">
                <a:solidFill>
                  <a:srgbClr val="003c64"/>
                </a:solidFill>
                <a:latin typeface="Arial"/>
              </a:rPr>
              <a:t>Ancillary loads (aircon, etc)</a:t>
            </a: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lvl="1" marL="358920" indent="-176400">
              <a:buClr>
                <a:srgbClr val="003c64"/>
              </a:buClr>
              <a:buFont typeface="Arial"/>
              <a:buChar char="–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2000" spc="-1" strike="noStrike">
                <a:solidFill>
                  <a:srgbClr val="003c64"/>
                </a:solidFill>
                <a:latin typeface="Arial"/>
              </a:rPr>
              <a:t>Etc</a:t>
            </a: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lvl="2" marL="538200" indent="-177840">
              <a:buClr>
                <a:srgbClr val="003c64"/>
              </a:buClr>
              <a:buFont typeface="Arial"/>
              <a:buChar char="◦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GB" sz="2000" spc="-1" strike="noStrike">
                <a:solidFill>
                  <a:srgbClr val="003c64"/>
                </a:solidFill>
                <a:latin typeface="Arial"/>
              </a:rPr>
              <a:t>Cost can be derived from these parameters, but is no parameter itself</a:t>
            </a: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lvl="1" marL="358920"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marL="181080"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128" name="subkop"/>
          <p:cNvSpPr/>
          <p:nvPr/>
        </p:nvSpPr>
        <p:spPr>
          <a:xfrm>
            <a:off x="716040" y="1176480"/>
            <a:ext cx="7557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c64"/>
              </a:solidFill>
              <a:latin typeface="Arial"/>
            </a:endParaRPr>
          </a:p>
        </p:txBody>
      </p:sp>
      <p:pic>
        <p:nvPicPr>
          <p:cNvPr id="129" name="TRLColourHeaderLogo" descr="trl rgb.jpg"/>
          <p:cNvPicPr/>
          <p:nvPr/>
        </p:nvPicPr>
        <p:blipFill>
          <a:blip r:embed="rId3"/>
          <a:stretch/>
        </p:blipFill>
        <p:spPr>
          <a:xfrm>
            <a:off x="7818480" y="6216480"/>
            <a:ext cx="84276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bg" descr="dia-w"/>
          <p:cNvPicPr/>
          <p:nvPr/>
        </p:nvPicPr>
        <p:blipFill>
          <a:blip r:embed="rId2"/>
          <a:stretch/>
        </p:blipFill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16040" y="457200"/>
            <a:ext cx="75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2400" spc="-1" strike="noStrike">
                <a:solidFill>
                  <a:srgbClr val="006db6"/>
                </a:solidFill>
                <a:latin typeface="Arial"/>
              </a:rPr>
              <a:t>Project kick-off meeting, 11 May 2011</a:t>
            </a:r>
            <a:endParaRPr b="1" lang="en-US" sz="2400" spc="-1" strike="noStrike">
              <a:solidFill>
                <a:srgbClr val="006db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918720"/>
            <a:ext cx="755820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marL="181080" indent="0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000" spc="-1" strike="noStrike">
                <a:solidFill>
                  <a:srgbClr val="003c64"/>
                </a:solidFill>
                <a:latin typeface="Arial"/>
              </a:rPr>
              <a:t>10 Stakeholders in-person plus about 8 using the web-conferencing facility</a:t>
            </a: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marL="181080" indent="0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marL="181080" indent="0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2000" spc="-1" strike="noStrike">
                <a:solidFill>
                  <a:srgbClr val="003c64"/>
                </a:solidFill>
                <a:latin typeface="Arial"/>
              </a:rPr>
              <a:t>Views:</a:t>
            </a: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marL="181080" indent="-181080">
              <a:buClr>
                <a:srgbClr val="003c64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000" spc="-1" strike="noStrike">
                <a:solidFill>
                  <a:srgbClr val="003c64"/>
                </a:solidFill>
                <a:latin typeface="Arial"/>
              </a:rPr>
              <a:t>Do not focus on political issues – only on test procedures to collect the relevant data</a:t>
            </a: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marL="181080" indent="-181080">
              <a:buClr>
                <a:srgbClr val="003c64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000" spc="-1" strike="noStrike">
                <a:solidFill>
                  <a:srgbClr val="003c64"/>
                </a:solidFill>
                <a:latin typeface="Arial"/>
              </a:rPr>
              <a:t>New legislation should be robust enough to cope with existing and upcoming PHEV technologies</a:t>
            </a: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marL="181080" indent="-181080">
              <a:buClr>
                <a:srgbClr val="003c64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000" spc="-1" strike="noStrike">
                <a:solidFill>
                  <a:srgbClr val="003c64"/>
                </a:solidFill>
                <a:latin typeface="Arial"/>
              </a:rPr>
              <a:t>CO</a:t>
            </a:r>
            <a:r>
              <a:rPr b="0" lang="en-US" sz="2000" spc="-1" strike="noStrike" baseline="-25000">
                <a:solidFill>
                  <a:srgbClr val="003c64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3c64"/>
                </a:solidFill>
                <a:latin typeface="Arial"/>
              </a:rPr>
              <a:t> not to be considered – only energy &amp; fuel consumption</a:t>
            </a: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marL="181080" indent="-181080">
              <a:buClr>
                <a:srgbClr val="003c64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000" spc="-1" strike="noStrike">
                <a:solidFill>
                  <a:srgbClr val="003c64"/>
                </a:solidFill>
                <a:latin typeface="Arial"/>
              </a:rPr>
              <a:t>After Sept, parameters will be further developed over 1-2 years</a:t>
            </a: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marL="181080" indent="-181080">
              <a:buClr>
                <a:srgbClr val="003c64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000" spc="-1" strike="noStrike">
                <a:solidFill>
                  <a:srgbClr val="003c64"/>
                </a:solidFill>
                <a:latin typeface="Arial"/>
              </a:rPr>
              <a:t>WLTP subgroup 4 and this study will be aligned</a:t>
            </a: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marL="181080" indent="-181080">
              <a:buClr>
                <a:srgbClr val="003c64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000" spc="-1" strike="noStrike">
                <a:solidFill>
                  <a:srgbClr val="003c64"/>
                </a:solidFill>
                <a:latin typeface="Arial"/>
              </a:rPr>
              <a:t>How can OEMs specify charging time while there are so many elements that might affect it?</a:t>
            </a: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marL="181080"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marL="181080"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marL="181080"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  <p:pic>
        <p:nvPicPr>
          <p:cNvPr id="133" name="TRLColourHeaderLogo" descr="trl rgb.jpg"/>
          <p:cNvPicPr/>
          <p:nvPr/>
        </p:nvPicPr>
        <p:blipFill>
          <a:blip r:embed="rId3"/>
          <a:stretch/>
        </p:blipFill>
        <p:spPr>
          <a:xfrm>
            <a:off x="7818480" y="6216480"/>
            <a:ext cx="84276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08:37:17Z</dcterms:created>
  <dc:creator/>
  <dc:description/>
  <dc:language>en-US</dc:language>
  <cp:lastModifiedBy>Romain HUBERT</cp:lastModifiedBy>
  <dcterms:modified xsi:type="dcterms:W3CDTF">2011-06-14T09:35:12Z</dcterms:modified>
  <cp:revision>305</cp:revision>
  <dc:subject/>
  <dc:title>Informal Workshop 6-5-2011</dc:title>
</cp:coreProperties>
</file>