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7962-BE4E-4470-8BC3-D198D147B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C3F6-0732-4EB9-96D7-1DAC234A9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969E-FDF1-4D45-87AC-9B9EAAB00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1FA6-DDE8-45D0-B753-64B9C9F25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8D20-7062-4808-860F-6A437B67A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7373-AFC9-43FA-A9A6-D4C49AE8A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DC88-4187-403F-A16A-6D7ECD9CD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EF4D-52D5-431C-A025-74CE8C2C5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0318-6EF9-414A-9FEC-D7D0E86B2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614D-E254-4B39-AB1C-61177963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5D5E-1AAB-4DFB-AFDB-4C2B9D620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A763-D801-422E-A622-E86F961AE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25CC7-588F-4FAE-AB0B-4CB380FCC1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384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LTP-E-Lab Sub Group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gress report</a:t>
            </a:r>
            <a:br>
              <a:rPr sz="4000"/>
            </a:b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LTP-DTP-E-LabProc-0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71280" y="4436640"/>
            <a:ext cx="748980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der: Per Ohlund / Kazuki Kobayash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1" name=""/>
          <p:cNvGraphicFramePr/>
          <p:nvPr/>
        </p:nvGraphicFramePr>
        <p:xfrm>
          <a:off x="250920" y="115920"/>
          <a:ext cx="7992720" cy="734760"/>
        </p:xfrm>
        <a:graphic>
          <a:graphicData uri="http://schemas.openxmlformats.org/drawingml/2006/table">
            <a:tbl>
              <a:tblPr/>
              <a:tblGrid>
                <a:gridCol w="7992720"/>
              </a:tblGrid>
              <a:tr h="382680">
                <a:tc>
                  <a:txBody>
                    <a:bodyPr lIns="54000" rIns="54000" tIns="54000" bIns="54000" anchor="ctr">
                      <a:noAutofit/>
                    </a:bodyPr>
                    <a:p>
                      <a:pPr marL="361800" indent="-3618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361800"/>
                          <a:tab algn="l" pos="447840"/>
                          <a:tab algn="l" pos="809640"/>
                          <a:tab algn="l" pos="1047600"/>
                          <a:tab algn="l" pos="1571760"/>
                          <a:tab algn="l" pos="2095560"/>
                          <a:tab algn="l" pos="2619360"/>
                          <a:tab algn="l" pos="3143160"/>
                          <a:tab algn="l" pos="3666960"/>
                          <a:tab algn="l" pos="4191120"/>
                          <a:tab algn="l" pos="4714920"/>
                          <a:tab algn="l" pos="5238720"/>
                          <a:tab algn="l" pos="5762520"/>
                          <a:tab algn="l" pos="6286680"/>
                          <a:tab algn="l" pos="6810480"/>
                          <a:tab algn="l" pos="7334280"/>
                          <a:tab algn="l" pos="7858080"/>
                          <a:tab algn="l" pos="8381880"/>
                          <a:tab algn="l" pos="8906040"/>
                          <a:tab algn="l" pos="9429840"/>
                          <a:tab algn="l" pos="9953640"/>
                          <a:tab algn="l" pos="1047744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VW Headline OT-Book"/>
                        </a:rPr>
                        <a:t>Propos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5208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2160"/>
                          <a:tab algn="l" pos="447840"/>
                          <a:tab algn="l" pos="809640"/>
                          <a:tab algn="l" pos="1343160"/>
                          <a:tab algn="l" pos="1571760"/>
                          <a:tab algn="l" pos="2095560"/>
                          <a:tab algn="l" pos="2619360"/>
                          <a:tab algn="l" pos="3143160"/>
                          <a:tab algn="l" pos="3666960"/>
                          <a:tab algn="l" pos="4191120"/>
                          <a:tab algn="l" pos="4714920"/>
                          <a:tab algn="l" pos="5238720"/>
                          <a:tab algn="l" pos="5762520"/>
                          <a:tab algn="l" pos="6286680"/>
                          <a:tab algn="l" pos="6810480"/>
                          <a:tab algn="l" pos="7334280"/>
                          <a:tab algn="l" pos="7858080"/>
                          <a:tab algn="l" pos="8381880"/>
                          <a:tab algn="l" pos="8906040"/>
                          <a:tab algn="l" pos="9429840"/>
                          <a:tab algn="l" pos="9953640"/>
                          <a:tab algn="l" pos="1047744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W Headline OT-Book"/>
                        </a:rPr>
                        <a:t>Step4 Charge Depleting M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252" name=""/>
          <p:cNvSpPr/>
          <p:nvPr/>
        </p:nvSpPr>
        <p:spPr>
          <a:xfrm flipH="1">
            <a:off x="1312560" y="3803760"/>
            <a:ext cx="7435800" cy="7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4135320" y="2332080"/>
            <a:ext cx="7920" cy="19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021280" y="2789280"/>
            <a:ext cx="3240" cy="145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923080" y="1698480"/>
            <a:ext cx="1440" cy="252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508720" y="3284640"/>
            <a:ext cx="1368360" cy="144360"/>
          </a:xfrm>
          <a:custGeom>
            <a:avLst/>
            <a:gdLst/>
            <a:ahLst/>
            <a:rect l="l" t="t" r="r" b="b"/>
            <a:pathLst>
              <a:path w="1806" h="312">
                <a:moveTo>
                  <a:pt x="0" y="72"/>
                </a:moveTo>
                <a:lnTo>
                  <a:pt x="84" y="276"/>
                </a:lnTo>
                <a:lnTo>
                  <a:pt x="174" y="36"/>
                </a:lnTo>
                <a:lnTo>
                  <a:pt x="330" y="294"/>
                </a:lnTo>
                <a:lnTo>
                  <a:pt x="450" y="36"/>
                </a:lnTo>
                <a:lnTo>
                  <a:pt x="534" y="282"/>
                </a:lnTo>
                <a:lnTo>
                  <a:pt x="624" y="192"/>
                </a:lnTo>
                <a:lnTo>
                  <a:pt x="678" y="102"/>
                </a:lnTo>
                <a:lnTo>
                  <a:pt x="702" y="252"/>
                </a:lnTo>
                <a:lnTo>
                  <a:pt x="834" y="6"/>
                </a:lnTo>
                <a:lnTo>
                  <a:pt x="852" y="294"/>
                </a:lnTo>
                <a:lnTo>
                  <a:pt x="1032" y="42"/>
                </a:lnTo>
                <a:lnTo>
                  <a:pt x="1080" y="288"/>
                </a:lnTo>
                <a:lnTo>
                  <a:pt x="1260" y="0"/>
                </a:lnTo>
                <a:lnTo>
                  <a:pt x="1338" y="186"/>
                </a:lnTo>
                <a:lnTo>
                  <a:pt x="1458" y="48"/>
                </a:lnTo>
                <a:lnTo>
                  <a:pt x="1506" y="312"/>
                </a:lnTo>
                <a:lnTo>
                  <a:pt x="1572" y="66"/>
                </a:lnTo>
                <a:lnTo>
                  <a:pt x="1662" y="246"/>
                </a:lnTo>
                <a:lnTo>
                  <a:pt x="1704" y="30"/>
                </a:lnTo>
                <a:lnTo>
                  <a:pt x="1806" y="168"/>
                </a:lnTo>
              </a:path>
            </a:pathLst>
          </a:custGeom>
          <a:noFill/>
          <a:ln w="7632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522600" y="3905280"/>
            <a:ext cx="669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W Headline OT-Book"/>
              </a:rPr>
              <a:t>Tes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288040" y="3905280"/>
            <a:ext cx="390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W Headline OT-Book"/>
              </a:rPr>
              <a:t>Test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435560" y="3905280"/>
            <a:ext cx="672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W Headline OT-Book"/>
              </a:rPr>
              <a:t>Tes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211560" y="1781280"/>
            <a:ext cx="2719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rot="16200000">
            <a:off x="683280" y="2440080"/>
            <a:ext cx="2027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W Headline OT-Book"/>
              </a:rPr>
              <a:t>Charging Condition Battery [Ah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127320" y="1550880"/>
            <a:ext cx="291168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W Headline OT-Book"/>
              </a:rPr>
              <a:t>Charge Depleting Cycle Range RCD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rot="1812000">
            <a:off x="3058920" y="2636640"/>
            <a:ext cx="2574720" cy="174600"/>
          </a:xfrm>
          <a:custGeom>
            <a:avLst/>
            <a:gdLst/>
            <a:ahLst/>
            <a:rect l="l" t="t" r="r" b="b"/>
            <a:pathLst>
              <a:path w="1806" h="312">
                <a:moveTo>
                  <a:pt x="0" y="72"/>
                </a:moveTo>
                <a:lnTo>
                  <a:pt x="84" y="276"/>
                </a:lnTo>
                <a:lnTo>
                  <a:pt x="174" y="36"/>
                </a:lnTo>
                <a:lnTo>
                  <a:pt x="330" y="294"/>
                </a:lnTo>
                <a:lnTo>
                  <a:pt x="450" y="36"/>
                </a:lnTo>
                <a:lnTo>
                  <a:pt x="534" y="282"/>
                </a:lnTo>
                <a:lnTo>
                  <a:pt x="624" y="192"/>
                </a:lnTo>
                <a:lnTo>
                  <a:pt x="678" y="102"/>
                </a:lnTo>
                <a:lnTo>
                  <a:pt x="702" y="252"/>
                </a:lnTo>
                <a:lnTo>
                  <a:pt x="834" y="6"/>
                </a:lnTo>
                <a:lnTo>
                  <a:pt x="852" y="294"/>
                </a:lnTo>
                <a:lnTo>
                  <a:pt x="1032" y="42"/>
                </a:lnTo>
                <a:lnTo>
                  <a:pt x="1080" y="288"/>
                </a:lnTo>
                <a:lnTo>
                  <a:pt x="1260" y="0"/>
                </a:lnTo>
                <a:lnTo>
                  <a:pt x="1338" y="186"/>
                </a:lnTo>
                <a:lnTo>
                  <a:pt x="1458" y="48"/>
                </a:lnTo>
                <a:lnTo>
                  <a:pt x="1506" y="312"/>
                </a:lnTo>
                <a:lnTo>
                  <a:pt x="1572" y="66"/>
                </a:lnTo>
                <a:lnTo>
                  <a:pt x="1662" y="246"/>
                </a:lnTo>
                <a:lnTo>
                  <a:pt x="1704" y="30"/>
                </a:lnTo>
                <a:lnTo>
                  <a:pt x="1806" y="168"/>
                </a:lnTo>
              </a:path>
            </a:pathLst>
          </a:custGeom>
          <a:noFill/>
          <a:ln w="698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06880" y="1241280"/>
            <a:ext cx="0" cy="297972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4139600">
            <a:off x="3870720" y="2719800"/>
            <a:ext cx="149400" cy="795240"/>
          </a:xfrm>
          <a:prstGeom prst="lightningBol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886280" y="2595600"/>
            <a:ext cx="0" cy="765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280040" y="2390760"/>
            <a:ext cx="0" cy="76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43400" y="2225520"/>
            <a:ext cx="165420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baseline="-25000">
                <a:solidFill>
                  <a:srgbClr val="000000"/>
                </a:solidFill>
                <a:latin typeface="VW Headline OT-Book"/>
              </a:rPr>
              <a:t>All Electric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226040" y="2647800"/>
            <a:ext cx="125280" cy="11772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862600" y="2525760"/>
            <a:ext cx="131760" cy="235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923000" y="2487600"/>
            <a:ext cx="22921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baseline="-25000">
                <a:solidFill>
                  <a:srgbClr val="000000"/>
                </a:solidFill>
                <a:latin typeface="VW Headline OT-Book"/>
              </a:rPr>
              <a:t>Equivalent All Electric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076640" y="3368520"/>
            <a:ext cx="128520" cy="235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434760" y="3319560"/>
            <a:ext cx="94104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baseline="-25000">
                <a:solidFill>
                  <a:srgbClr val="000000"/>
                </a:solidFill>
                <a:latin typeface="VW Headline OT-Book"/>
              </a:rPr>
              <a:t>First start of 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462640" y="2778120"/>
            <a:ext cx="0" cy="76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46800" y="192240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195720" y="2075040"/>
            <a:ext cx="22431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249720" y="1866960"/>
            <a:ext cx="22892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W Headline OT-Book"/>
              </a:rPr>
              <a:t>Charge Depleting Range RC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940360" y="2924280"/>
            <a:ext cx="10429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233880" y="1419120"/>
            <a:ext cx="973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271680" y="1214280"/>
            <a:ext cx="8431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W Headline OT-Book"/>
              </a:rPr>
              <a:t>Full Char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6372360" y="620640"/>
            <a:ext cx="1224000" cy="1224000"/>
            <a:chOff x="6372360" y="620640"/>
            <a:chExt cx="1224000" cy="1224000"/>
          </a:xfrm>
        </p:grpSpPr>
        <p:sp>
          <p:nvSpPr>
            <p:cNvPr id="282" name=""/>
            <p:cNvSpPr/>
            <p:nvPr/>
          </p:nvSpPr>
          <p:spPr>
            <a:xfrm>
              <a:off x="6372360" y="620640"/>
              <a:ext cx="1224000" cy="12240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483600" y="9478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517080" y="1555920"/>
              <a:ext cx="896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504000">
              <a:off x="6470640" y="1019160"/>
              <a:ext cx="888840" cy="419040"/>
            </a:xfrm>
            <a:custGeom>
              <a:avLst/>
              <a:gdLst/>
              <a:ahLst/>
              <a:rect l="l" t="t" r="r" b="b"/>
              <a:pathLst>
                <a:path w="534" h="375">
                  <a:moveTo>
                    <a:pt x="0" y="315"/>
                  </a:moveTo>
                  <a:cubicBezTo>
                    <a:pt x="25" y="175"/>
                    <a:pt x="50" y="36"/>
                    <a:pt x="72" y="27"/>
                  </a:cubicBezTo>
                  <a:cubicBezTo>
                    <a:pt x="94" y="18"/>
                    <a:pt x="116" y="259"/>
                    <a:pt x="132" y="261"/>
                  </a:cubicBezTo>
                  <a:cubicBezTo>
                    <a:pt x="148" y="263"/>
                    <a:pt x="137" y="23"/>
                    <a:pt x="168" y="39"/>
                  </a:cubicBezTo>
                  <a:cubicBezTo>
                    <a:pt x="199" y="55"/>
                    <a:pt x="281" y="351"/>
                    <a:pt x="318" y="357"/>
                  </a:cubicBezTo>
                  <a:cubicBezTo>
                    <a:pt x="355" y="363"/>
                    <a:pt x="375" y="75"/>
                    <a:pt x="390" y="75"/>
                  </a:cubicBezTo>
                  <a:cubicBezTo>
                    <a:pt x="405" y="75"/>
                    <a:pt x="391" y="363"/>
                    <a:pt x="408" y="357"/>
                  </a:cubicBezTo>
                  <a:cubicBezTo>
                    <a:pt x="425" y="351"/>
                    <a:pt x="475" y="78"/>
                    <a:pt x="492" y="39"/>
                  </a:cubicBezTo>
                  <a:cubicBezTo>
                    <a:pt x="509" y="0"/>
                    <a:pt x="503" y="67"/>
                    <a:pt x="510" y="123"/>
                  </a:cubicBezTo>
                  <a:cubicBezTo>
                    <a:pt x="517" y="179"/>
                    <a:pt x="530" y="335"/>
                    <a:pt x="534" y="375"/>
                  </a:cubicBezTo>
                </a:path>
              </a:pathLst>
            </a:custGeom>
            <a:noFill/>
            <a:ln w="698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445440" y="1154160"/>
              <a:ext cx="966960" cy="162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"/>
          <p:cNvSpPr/>
          <p:nvPr/>
        </p:nvSpPr>
        <p:spPr>
          <a:xfrm flipV="1">
            <a:off x="1947960" y="2045880"/>
            <a:ext cx="571320" cy="1314360"/>
          </a:xfrm>
          <a:prstGeom prst="line">
            <a:avLst/>
          </a:prstGeom>
          <a:ln w="698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522520" y="2063880"/>
            <a:ext cx="673200" cy="0"/>
          </a:xfrm>
          <a:prstGeom prst="line">
            <a:avLst/>
          </a:prstGeom>
          <a:ln w="698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913040" y="1187280"/>
            <a:ext cx="0" cy="3033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5940360" y="2060280"/>
            <a:ext cx="647640" cy="1368360"/>
          </a:xfrm>
          <a:prstGeom prst="line">
            <a:avLst/>
          </a:prstGeom>
          <a:ln w="698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0" y="2060640"/>
            <a:ext cx="1081080" cy="0"/>
          </a:xfrm>
          <a:prstGeom prst="line">
            <a:avLst/>
          </a:prstGeom>
          <a:ln w="698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938920" y="342900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667640" y="2060640"/>
            <a:ext cx="0" cy="1368360"/>
          </a:xfrm>
          <a:prstGeom prst="line">
            <a:avLst/>
          </a:prstGeom>
          <a:ln w="93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179280" y="4292640"/>
          <a:ext cx="7488360" cy="2512800"/>
        </p:xfrm>
        <a:graphic>
          <a:graphicData uri="http://schemas.openxmlformats.org/drawingml/2006/table">
            <a:tbl>
              <a:tblPr/>
              <a:tblGrid>
                <a:gridCol w="792360"/>
                <a:gridCol w="936360"/>
                <a:gridCol w="1295640"/>
                <a:gridCol w="2736720"/>
                <a:gridCol w="1727280"/>
              </a:tblGrid>
              <a:tr h="596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operation switc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charging after CS te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Charge depleting test/EV range te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c300e"/>
                          </a:solidFill>
                          <a:latin typeface="ＭＳ Ｐゴシック"/>
                        </a:rPr>
                        <a:t>OILNo.1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Interruption Condi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Charg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E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Test termination Condition </a:t>
                      </a:r>
                      <a:r>
                        <a:rPr b="1" lang="en-US" sz="1100" spc="-1" strike="noStrike">
                          <a:solidFill>
                            <a:srgbClr val="fc300e"/>
                          </a:solidFill>
                          <a:latin typeface="ＭＳ Ｐゴシック"/>
                        </a:rPr>
                        <a:t>OIL No.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Stop Condition</a:t>
                      </a:r>
                      <a:r>
                        <a:rPr b="1" lang="en-US" sz="1100" spc="-1" strike="noStrike">
                          <a:solidFill>
                            <a:srgbClr val="009900"/>
                          </a:solidFill>
                          <a:latin typeface="ＭＳ Ｐゴシック"/>
                        </a:rPr>
                        <a:t> OILNo.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e as Step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OVC HE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ithou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refer to step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break off criteria: </a:t>
                      </a:r>
                      <a:r>
                        <a:rPr b="1" lang="en-US" sz="1100" spc="-1" strike="noStrike">
                          <a:solidFill>
                            <a:srgbClr val="fc300e"/>
                          </a:solidFill>
                          <a:latin typeface="ＭＳ Ｐゴシック"/>
                        </a:rPr>
                        <a:t>OIL No.25&amp; 25b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Deceleration condition; </a:t>
                      </a:r>
                      <a:r>
                        <a:rPr b="1" lang="en-US" sz="1100" spc="-1" strike="noStrike">
                          <a:solidFill>
                            <a:srgbClr val="009900"/>
                          </a:solidFill>
                          <a:latin typeface="ＭＳ Ｐゴシック"/>
                        </a:rPr>
                        <a:t>OIL No.13bis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EAER determination </a:t>
                      </a:r>
                      <a:r>
                        <a:rPr b="1" lang="en-US" sz="1100" spc="-1" strike="noStrike">
                          <a:solidFill>
                            <a:srgbClr val="fc300e"/>
                          </a:solidFill>
                          <a:latin typeface="ＭＳ Ｐゴシック"/>
                        </a:rPr>
                        <a:t>OIL No.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e as Step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i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i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OVC HE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ithou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i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i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95" name=""/>
          <p:cNvSpPr/>
          <p:nvPr/>
        </p:nvSpPr>
        <p:spPr>
          <a:xfrm flipV="1">
            <a:off x="7667640" y="342864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5508360" y="1557360"/>
            <a:ext cx="93492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7740720" y="2565360"/>
            <a:ext cx="306360" cy="2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8" name=""/>
          <p:cNvGraphicFramePr/>
          <p:nvPr/>
        </p:nvGraphicFramePr>
        <p:xfrm>
          <a:off x="250920" y="115920"/>
          <a:ext cx="8569080" cy="73512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382680">
                <a:tc>
                  <a:txBody>
                    <a:bodyPr lIns="54000" rIns="54000" tIns="54000" bIns="54000" anchor="ctr">
                      <a:noAutofit/>
                    </a:bodyPr>
                    <a:p>
                      <a:pPr marL="361800" indent="-3618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361800"/>
                          <a:tab algn="l" pos="447840"/>
                          <a:tab algn="l" pos="809640"/>
                          <a:tab algn="l" pos="1047600"/>
                          <a:tab algn="l" pos="1571760"/>
                          <a:tab algn="l" pos="2095560"/>
                          <a:tab algn="l" pos="2619360"/>
                          <a:tab algn="l" pos="3143160"/>
                          <a:tab algn="l" pos="3666960"/>
                          <a:tab algn="l" pos="4191120"/>
                          <a:tab algn="l" pos="4714920"/>
                          <a:tab algn="l" pos="5238720"/>
                          <a:tab algn="l" pos="5762520"/>
                          <a:tab algn="l" pos="6286680"/>
                          <a:tab algn="l" pos="6810480"/>
                          <a:tab algn="l" pos="7334280"/>
                          <a:tab algn="l" pos="7858080"/>
                          <a:tab algn="l" pos="8381880"/>
                          <a:tab algn="l" pos="8906040"/>
                          <a:tab algn="l" pos="9429840"/>
                          <a:tab algn="l" pos="9953640"/>
                          <a:tab algn="l" pos="1047744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VW Headline OT-Book"/>
                        </a:rPr>
                        <a:t>Propos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5244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2160"/>
                          <a:tab algn="l" pos="447840"/>
                          <a:tab algn="l" pos="809640"/>
                          <a:tab algn="l" pos="1343160"/>
                          <a:tab algn="l" pos="1571760"/>
                          <a:tab algn="l" pos="2095560"/>
                          <a:tab algn="l" pos="2619360"/>
                          <a:tab algn="l" pos="3143160"/>
                          <a:tab algn="l" pos="3666960"/>
                          <a:tab algn="l" pos="4191120"/>
                          <a:tab algn="l" pos="4714920"/>
                          <a:tab algn="l" pos="5238720"/>
                          <a:tab algn="l" pos="5762520"/>
                          <a:tab algn="l" pos="6286680"/>
                          <a:tab algn="l" pos="6810480"/>
                          <a:tab algn="l" pos="7334280"/>
                          <a:tab algn="l" pos="7858080"/>
                          <a:tab algn="l" pos="8381880"/>
                          <a:tab algn="l" pos="8906040"/>
                          <a:tab algn="l" pos="9429840"/>
                          <a:tab algn="l" pos="9953640"/>
                          <a:tab algn="l" pos="1047744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W Headline OT-Book"/>
                        </a:rPr>
                        <a:t>Step5: Calcu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99" name=""/>
          <p:cNvGraphicFramePr/>
          <p:nvPr/>
        </p:nvGraphicFramePr>
        <p:xfrm>
          <a:off x="250920" y="4292640"/>
          <a:ext cx="8748720" cy="2235240"/>
        </p:xfrm>
        <a:graphic>
          <a:graphicData uri="http://schemas.openxmlformats.org/drawingml/2006/table">
            <a:tbl>
              <a:tblPr/>
              <a:tblGrid>
                <a:gridCol w="576000"/>
                <a:gridCol w="720720"/>
                <a:gridCol w="756000"/>
                <a:gridCol w="863280"/>
                <a:gridCol w="684360"/>
                <a:gridCol w="520560"/>
                <a:gridCol w="644760"/>
                <a:gridCol w="644400"/>
                <a:gridCol w="644400"/>
                <a:gridCol w="644760"/>
                <a:gridCol w="681120"/>
                <a:gridCol w="647640"/>
                <a:gridCol w="360360"/>
                <a:gridCol w="360360"/>
              </a:tblGrid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 swit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lutan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el Consump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ic Energ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CB(DC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ege Dur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cd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cd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ERcit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b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b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b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C HE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ou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b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b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b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b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C HE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ou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b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b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0" name=""/>
          <p:cNvSpPr/>
          <p:nvPr/>
        </p:nvSpPr>
        <p:spPr>
          <a:xfrm>
            <a:off x="327600" y="1197000"/>
            <a:ext cx="3071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lutant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2/Fuel Consumptio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ge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ic Energy consum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406960" y="907920"/>
            <a:ext cx="525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Detailed calculation formula is develop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after completion of WL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2" name=""/>
          <p:cNvGraphicFramePr/>
          <p:nvPr/>
        </p:nvGraphicFramePr>
        <p:xfrm>
          <a:off x="250920" y="122400"/>
          <a:ext cx="8569080" cy="73476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382320">
                <a:tc>
                  <a:txBody>
                    <a:bodyPr lIns="54000" rIns="54000" tIns="54000" bIns="54000" anchor="ctr">
                      <a:noAutofit/>
                    </a:bodyPr>
                    <a:p>
                      <a:pPr marL="361800" indent="-3618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361800"/>
                          <a:tab algn="l" pos="447840"/>
                          <a:tab algn="l" pos="809640"/>
                          <a:tab algn="l" pos="1047600"/>
                          <a:tab algn="l" pos="1571760"/>
                          <a:tab algn="l" pos="2095560"/>
                          <a:tab algn="l" pos="2619360"/>
                          <a:tab algn="l" pos="3143160"/>
                          <a:tab algn="l" pos="3666960"/>
                          <a:tab algn="l" pos="4191120"/>
                          <a:tab algn="l" pos="4714920"/>
                          <a:tab algn="l" pos="5238720"/>
                          <a:tab algn="l" pos="5762520"/>
                          <a:tab algn="l" pos="6286680"/>
                          <a:tab algn="l" pos="6810480"/>
                          <a:tab algn="l" pos="7334280"/>
                          <a:tab algn="l" pos="7858080"/>
                          <a:tab algn="l" pos="8381880"/>
                          <a:tab algn="l" pos="8906040"/>
                          <a:tab algn="l" pos="9429840"/>
                          <a:tab algn="l" pos="9953640"/>
                          <a:tab algn="l" pos="1047744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VW Headline OT-Book"/>
                        </a:rPr>
                        <a:t>Propos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5244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2160"/>
                          <a:tab algn="l" pos="447840"/>
                          <a:tab algn="l" pos="809640"/>
                          <a:tab algn="l" pos="1343160"/>
                          <a:tab algn="l" pos="1571760"/>
                          <a:tab algn="l" pos="2095560"/>
                          <a:tab algn="l" pos="2619360"/>
                          <a:tab algn="l" pos="3143160"/>
                          <a:tab algn="l" pos="3666960"/>
                          <a:tab algn="l" pos="4191120"/>
                          <a:tab algn="l" pos="4714920"/>
                          <a:tab algn="l" pos="5238720"/>
                          <a:tab algn="l" pos="5762520"/>
                          <a:tab algn="l" pos="6286680"/>
                          <a:tab algn="l" pos="6810480"/>
                          <a:tab algn="l" pos="7334280"/>
                          <a:tab algn="l" pos="7858080"/>
                          <a:tab algn="l" pos="8381880"/>
                          <a:tab algn="l" pos="8906040"/>
                          <a:tab algn="l" pos="9429840"/>
                          <a:tab algn="l" pos="9953640"/>
                          <a:tab algn="l" pos="1047744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W Headline OT-Book"/>
                        </a:rPr>
                        <a:t>Appendix: Utility Fac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468360" y="4292640"/>
          <a:ext cx="8136000" cy="1898640"/>
        </p:xfrm>
        <a:graphic>
          <a:graphicData uri="http://schemas.openxmlformats.org/drawingml/2006/table">
            <a:tbl>
              <a:tblPr/>
              <a:tblGrid>
                <a:gridCol w="1224000"/>
                <a:gridCol w="1584360"/>
                <a:gridCol w="5327640"/>
              </a:tblGrid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 swit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ility Fact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ou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C HE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(incl. pure EV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c300e"/>
                          </a:solidFill>
                          <a:latin typeface="Arial"/>
                        </a:rPr>
                        <a:t>OIL. No.1</a:t>
                      </a:r>
                      <a:r>
                        <a:rPr b="0" lang="zh-CN" sz="900" spc="-1" strike="noStrike">
                          <a:solidFill>
                            <a:srgbClr val="fc300e"/>
                          </a:solidFill>
                          <a:latin typeface="Arial"/>
                        </a:rPr>
                        <a:t>　　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E method is acceptable. But to get the traffic data of all country is too difficult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itical issue what should be discussed in DTP meeting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(no pure EV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ou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C HE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(incl. pure EV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(no pure EV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5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ou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04" name=""/>
          <p:cNvSpPr/>
          <p:nvPr/>
        </p:nvSpPr>
        <p:spPr>
          <a:xfrm>
            <a:off x="971640" y="1052640"/>
            <a:ext cx="0" cy="2881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116000" y="3716280"/>
            <a:ext cx="4753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1042920" y="1268280"/>
            <a:ext cx="4681440" cy="2376360"/>
            <a:chOff x="1042920" y="1268280"/>
            <a:chExt cx="4681440" cy="2376360"/>
          </a:xfrm>
        </p:grpSpPr>
        <p:sp>
          <p:nvSpPr>
            <p:cNvPr id="307" name=""/>
            <p:cNvSpPr/>
            <p:nvPr/>
          </p:nvSpPr>
          <p:spPr>
            <a:xfrm>
              <a:off x="1042920" y="1483920"/>
              <a:ext cx="4680000" cy="2135160"/>
            </a:xfrm>
            <a:custGeom>
              <a:avLst/>
              <a:gdLst/>
              <a:ahLst/>
              <a:rect l="l" t="t" r="r" b="b"/>
              <a:pathLst>
                <a:path w="2948" h="1345">
                  <a:moveTo>
                    <a:pt x="0" y="1345"/>
                  </a:moveTo>
                  <a:cubicBezTo>
                    <a:pt x="56" y="1167"/>
                    <a:pt x="113" y="990"/>
                    <a:pt x="272" y="846"/>
                  </a:cubicBezTo>
                  <a:cubicBezTo>
                    <a:pt x="431" y="702"/>
                    <a:pt x="560" y="611"/>
                    <a:pt x="953" y="483"/>
                  </a:cubicBezTo>
                  <a:cubicBezTo>
                    <a:pt x="1346" y="355"/>
                    <a:pt x="2314" y="150"/>
                    <a:pt x="2631" y="75"/>
                  </a:cubicBezTo>
                  <a:cubicBezTo>
                    <a:pt x="2948" y="0"/>
                    <a:pt x="2903" y="15"/>
                    <a:pt x="2858" y="3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042920" y="1268280"/>
              <a:ext cx="4608360" cy="2376360"/>
            </a:xfrm>
            <a:custGeom>
              <a:avLst/>
              <a:gdLst/>
              <a:ahLst/>
              <a:rect l="l" t="t" r="r" b="b"/>
              <a:pathLst>
                <a:path w="2903" h="1497">
                  <a:moveTo>
                    <a:pt x="0" y="1497"/>
                  </a:moveTo>
                  <a:cubicBezTo>
                    <a:pt x="95" y="1342"/>
                    <a:pt x="190" y="1187"/>
                    <a:pt x="318" y="1043"/>
                  </a:cubicBezTo>
                  <a:cubicBezTo>
                    <a:pt x="446" y="899"/>
                    <a:pt x="597" y="748"/>
                    <a:pt x="771" y="635"/>
                  </a:cubicBezTo>
                  <a:cubicBezTo>
                    <a:pt x="945" y="522"/>
                    <a:pt x="1142" y="438"/>
                    <a:pt x="1361" y="363"/>
                  </a:cubicBezTo>
                  <a:cubicBezTo>
                    <a:pt x="1580" y="288"/>
                    <a:pt x="1830" y="242"/>
                    <a:pt x="2087" y="182"/>
                  </a:cubicBezTo>
                  <a:cubicBezTo>
                    <a:pt x="2344" y="122"/>
                    <a:pt x="2623" y="61"/>
                    <a:pt x="2903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042920" y="2060280"/>
              <a:ext cx="4681440" cy="1584360"/>
            </a:xfrm>
            <a:custGeom>
              <a:avLst/>
              <a:gdLst/>
              <a:ahLst/>
              <a:rect l="l" t="t" r="r" b="b"/>
              <a:pathLst>
                <a:path w="2949" h="998">
                  <a:moveTo>
                    <a:pt x="0" y="998"/>
                  </a:moveTo>
                  <a:cubicBezTo>
                    <a:pt x="114" y="869"/>
                    <a:pt x="228" y="741"/>
                    <a:pt x="409" y="635"/>
                  </a:cubicBezTo>
                  <a:cubicBezTo>
                    <a:pt x="590" y="529"/>
                    <a:pt x="832" y="439"/>
                    <a:pt x="1089" y="363"/>
                  </a:cubicBezTo>
                  <a:cubicBezTo>
                    <a:pt x="1346" y="287"/>
                    <a:pt x="1641" y="243"/>
                    <a:pt x="1951" y="182"/>
                  </a:cubicBezTo>
                  <a:cubicBezTo>
                    <a:pt x="2261" y="121"/>
                    <a:pt x="2605" y="60"/>
                    <a:pt x="2949" y="0"/>
                  </a:cubicBezTo>
                </a:path>
              </a:pathLst>
            </a:custGeom>
            <a:noFill/>
            <a:ln w="381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971640" y="2565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763640" y="2565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835280" y="3933720"/>
            <a:ext cx="2160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VW Headline OT-Book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VW Headline OT-Book"/>
              </a:rPr>
              <a:t>OVC</a:t>
            </a:r>
            <a:r>
              <a:rPr b="1" lang="de-DE" sz="1200" spc="-1" strike="noStrike">
                <a:solidFill>
                  <a:srgbClr val="000000"/>
                </a:solidFill>
                <a:latin typeface="VW Headline OT-Book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VW Headline OT-Book"/>
              </a:rPr>
              <a:t>range (k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rot="16200000">
            <a:off x="-284760" y="2525040"/>
            <a:ext cx="146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W Headline OT-Book"/>
              </a:rPr>
              <a:t>Utility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476360" y="3789360"/>
            <a:ext cx="576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VW Headline OT-Book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VW Headline OT-Book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68360" y="2492280"/>
            <a:ext cx="576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VW Headline OT-Book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VW Headline OT-Book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95280" y="981000"/>
            <a:ext cx="576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VW Headline OT-Book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VW Headline OT-Book"/>
              </a:rPr>
              <a:t>1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580000" y="1158840"/>
            <a:ext cx="576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VW Headline OT-Book"/>
              </a:rPr>
              <a:t>JP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724360" y="1989000"/>
            <a:ext cx="43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VW Headline OT-Book"/>
              </a:rPr>
              <a:t>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651640" y="1413000"/>
            <a:ext cx="504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VW Headline OT-Book"/>
              </a:rPr>
              <a:t>(E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35280" y="2492280"/>
            <a:ext cx="309564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US:   SAE J1711 with US data JPN: SAE J1711 with JPN data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　　　　　　　　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U: CS weight is 25km (fix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4932360" y="836640"/>
                <a:ext cx="3887640" cy="3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</m:t>
                    </m:r>
                    <m:sSub>
                      <m:e>
                        <m:r>
                          <m:t xml:space="preserve">2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ighte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</m:t>
                    </m:r>
                    <m:sSub>
                      <m:e>
                        <m:r>
                          <m:t xml:space="preserve">2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sub>
                    </m:sSub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UF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</m:t>
                    </m:r>
                    <m:sSub>
                      <m:e>
                        <m:r>
                          <m:t xml:space="preserve">2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S</m:t>
                        </m:r>
                      </m:sub>
                    </m:sSub>
                    <m:r>
                      <m:t xml:space="preserve">∗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U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4788000" y="3284640"/>
                <a:ext cx="18288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U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EU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OVCrang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OVCrange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3" name=""/>
          <p:cNvSpPr/>
          <p:nvPr/>
        </p:nvSpPr>
        <p:spPr>
          <a:xfrm flipH="1">
            <a:off x="6732720" y="2565360"/>
            <a:ext cx="72720" cy="934920"/>
          </a:xfrm>
          <a:custGeom>
            <a:avLst/>
            <a:gdLst>
              <a:gd name="textAreaLeft" fmla="*/ 46440 w 72720"/>
              <a:gd name="textAreaRight" fmla="*/ 73080 w 72720"/>
              <a:gd name="textAreaTop" fmla="*/ 24120 h 934920"/>
              <a:gd name="textAreaBottom" fmla="*/ 910800 h 93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948360" y="2276640"/>
            <a:ext cx="2195640" cy="12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c300e"/>
                </a:solidFill>
                <a:latin typeface="Arial"/>
              </a:rPr>
              <a:t>OIL No.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: WLTP UF  SAE 1711 with    Opt.1) based on reagional data     Opt.2) based on worldwide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62752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ad map for gtr draf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84360" y="630864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: phone confere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203640" y="6381720"/>
            <a:ext cx="144360" cy="287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419640" y="630864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Face to Face mee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871380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44654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n issue list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2895480" cy="120996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179280" y="2205000"/>
            <a:ext cx="878544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7624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n issue list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8753760" cy="58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425916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n issue list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87138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38275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n issue list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87854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381636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n issue list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68360" y="6308640"/>
            <a:ext cx="84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open Issues will be discussed according to  E-Lab group schedu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878544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8856720" cy="674208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50560" y="5516640"/>
            <a:ext cx="28810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) Overview 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gtr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7777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eting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after 61th GRP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th meeting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e:27.1.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ion: Phone co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ics: GTR structure/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th meeting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e:23-24.2.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ion: Bruss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ics: GTR structure/Definition/CD&amp;CS test / Calc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868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E  Utility Facto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UF indicates the limited utility of a particular initia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operating mode-for PHEVs, the CD mode. An operating mode with a very long range, for example, will have a very high utility and, thus , a UF that approaches 1.0. The UF result is for a distance R</a:t>
            </a:r>
            <a:r>
              <a:rPr b="0" lang="ja-JP" sz="2800" spc="-1" strike="noStrike" baseline="-25000">
                <a:solidFill>
                  <a:srgbClr val="000000"/>
                </a:solidFill>
                <a:latin typeface="Arial"/>
              </a:rPr>
              <a:t>CD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based upon a set in-use data collected of daily miles traveled per day of a large sample group. The UF is defined by using the assumptions that (1)the vehicle starts the day from a routinely achieved ,fully charged state and (2)the vehicle is charged to said state before everyday of personal travel. The UF weighting for given R</a:t>
            </a:r>
            <a:r>
              <a:rPr b="0" lang="ja-JP" sz="2800" spc="-1" strike="noStrike" baseline="-25000">
                <a:solidFill>
                  <a:srgbClr val="000000"/>
                </a:solidFill>
                <a:latin typeface="Arial"/>
              </a:rPr>
              <a:t>CD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is applied to the CD results , and the term (1-UF) is applied the CS mode resul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777744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eting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after 61th GRP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0920" y="765000"/>
            <a:ext cx="864216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th meeting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e:1.4.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ion: Phone co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ics:CD&amp;CS test /Calc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ed based on ACEA pro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th meeting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e:12.4.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ion: Zu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ics: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issues/Sche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777744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eting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after 61st GRP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920" y="765000"/>
            <a:ext cx="864216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th meeting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e:9.5.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ion: Phone co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ics: Open Issu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th meeting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e:1.6.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ion: Phone Co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ics: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issues/gtr dra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eting will be held on 5th of July at Swe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 flipH="1">
            <a:off x="2337840" y="2276640"/>
            <a:ext cx="4103640" cy="1150920"/>
          </a:xfrm>
          <a:prstGeom prst="rtTriangle">
            <a:avLst/>
          </a:prstGeom>
          <a:solidFill>
            <a:srgbClr val="ffff99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22560" y="4319640"/>
            <a:ext cx="12956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W Headline OT-Book"/>
              </a:rPr>
              <a:t>Time (h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81240" y="907920"/>
            <a:ext cx="0" cy="3467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17840" y="2813040"/>
            <a:ext cx="647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W Headline OT-Book"/>
              </a:rPr>
              <a:t>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50920" y="115920"/>
          <a:ext cx="8569080" cy="73512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382680">
                <a:tc>
                  <a:txBody>
                    <a:bodyPr lIns="54000" rIns="54000" tIns="54000" bIns="54000" anchor="ctr">
                      <a:noAutofit/>
                    </a:bodyPr>
                    <a:p>
                      <a:pPr marL="361800" indent="-3618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361800"/>
                          <a:tab algn="l" pos="447840"/>
                          <a:tab algn="l" pos="809640"/>
                          <a:tab algn="l" pos="1047600"/>
                          <a:tab algn="l" pos="1571760"/>
                          <a:tab algn="l" pos="2095560"/>
                          <a:tab algn="l" pos="2619360"/>
                          <a:tab algn="l" pos="3143160"/>
                          <a:tab algn="l" pos="3666960"/>
                          <a:tab algn="l" pos="4191120"/>
                          <a:tab algn="l" pos="4714920"/>
                          <a:tab algn="l" pos="5238720"/>
                          <a:tab algn="l" pos="5762520"/>
                          <a:tab algn="l" pos="6286680"/>
                          <a:tab algn="l" pos="6810480"/>
                          <a:tab algn="l" pos="7334280"/>
                          <a:tab algn="l" pos="7858080"/>
                          <a:tab algn="l" pos="8381880"/>
                          <a:tab algn="l" pos="8906040"/>
                          <a:tab algn="l" pos="9429840"/>
                          <a:tab algn="l" pos="9953640"/>
                          <a:tab algn="l" pos="1047744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VW Headline OT-Book"/>
                        </a:rPr>
                        <a:t>Propos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5244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2160"/>
                          <a:tab algn="l" pos="447840"/>
                          <a:tab algn="l" pos="809640"/>
                          <a:tab algn="l" pos="1343160"/>
                          <a:tab algn="l" pos="1571760"/>
                          <a:tab algn="l" pos="2095560"/>
                          <a:tab algn="l" pos="2619360"/>
                          <a:tab algn="l" pos="3143160"/>
                          <a:tab algn="l" pos="3666960"/>
                          <a:tab algn="l" pos="4191120"/>
                          <a:tab algn="l" pos="4714920"/>
                          <a:tab algn="l" pos="5238720"/>
                          <a:tab algn="l" pos="5762520"/>
                          <a:tab algn="l" pos="6286680"/>
                          <a:tab algn="l" pos="6810480"/>
                          <a:tab algn="l" pos="7334280"/>
                          <a:tab algn="l" pos="7858080"/>
                          <a:tab algn="l" pos="8381880"/>
                          <a:tab algn="l" pos="8906040"/>
                          <a:tab algn="l" pos="9429840"/>
                          <a:tab algn="l" pos="9953640"/>
                          <a:tab algn="l" pos="1047744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W Headline OT-Book"/>
                        </a:rPr>
                        <a:t>Step1: Vehicle Run-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 rot="16200000">
            <a:off x="12240" y="2297160"/>
            <a:ext cx="2593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W Headline OT-Book"/>
              </a:rPr>
              <a:t>Run-in mileage [km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265480" y="1268280"/>
            <a:ext cx="4176720" cy="2159280"/>
          </a:xfrm>
          <a:prstGeom prst="line">
            <a:avLst/>
          </a:prstGeom>
          <a:ln w="69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54200" y="2276640"/>
            <a:ext cx="1165320" cy="3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W Headline OT-Book"/>
              </a:rPr>
              <a:t>Minimum mileage for EV </a:t>
            </a:r>
            <a:r>
              <a:rPr b="1" lang="en-GB" sz="1000" spc="-1" strike="noStrike" u="sng">
                <a:solidFill>
                  <a:srgbClr val="009900"/>
                </a:solidFill>
                <a:uFillTx/>
                <a:latin typeface="VW Headline OT-Book"/>
              </a:rPr>
              <a:t>OIL No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442200" y="133992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714920" y="2276640"/>
            <a:ext cx="43164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W Headline OT-Book"/>
              </a:rPr>
              <a:t>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98920" y="2924280"/>
            <a:ext cx="1152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W Headline OT-Book"/>
              </a:rPr>
              <a:t> </a:t>
            </a:r>
            <a:r>
              <a:rPr b="1" lang="de-DE" sz="1400" spc="-1" strike="noStrike">
                <a:solidFill>
                  <a:srgbClr val="000000"/>
                </a:solidFill>
                <a:latin typeface="VW Headline OT-Book"/>
              </a:rPr>
              <a:t>Batt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14560" y="1411200"/>
            <a:ext cx="863640" cy="609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W Headline OT-Book"/>
              </a:rPr>
              <a:t>Max./min mileage for H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1000" spc="-1" strike="noStrike">
                <a:solidFill>
                  <a:srgbClr val="000000"/>
                </a:solidFill>
                <a:latin typeface="VW Headline OT-Book"/>
              </a:rPr>
              <a:t>ICE iss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193480" y="2563920"/>
            <a:ext cx="576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657840" y="1195560"/>
            <a:ext cx="100980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W Headline OT-Book"/>
              </a:rPr>
              <a:t>Battery/ICE operation ratio </a:t>
            </a:r>
            <a:r>
              <a:rPr b="1" lang="en-GB" sz="1000" spc="-1" strike="noStrike" u="sng">
                <a:solidFill>
                  <a:srgbClr val="fc300e"/>
                </a:solidFill>
                <a:uFillTx/>
                <a:latin typeface="VW Headline OT-Book"/>
              </a:rPr>
              <a:t>OIL No.6b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6154560" y="1700280"/>
            <a:ext cx="5032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93840" y="2924280"/>
            <a:ext cx="1008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93840" y="2203560"/>
            <a:ext cx="237672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978200" y="2494080"/>
            <a:ext cx="360000" cy="213840"/>
            <a:chOff x="1978200" y="2494080"/>
            <a:chExt cx="360000" cy="213840"/>
          </a:xfrm>
        </p:grpSpPr>
        <p:sp>
          <p:nvSpPr>
            <p:cNvPr id="67" name=""/>
            <p:cNvSpPr/>
            <p:nvPr/>
          </p:nvSpPr>
          <p:spPr>
            <a:xfrm>
              <a:off x="1978200" y="2494080"/>
              <a:ext cx="360000" cy="107280"/>
            </a:xfrm>
            <a:custGeom>
              <a:avLst/>
              <a:gdLst/>
              <a:ahLst/>
              <a:rect l="l" t="t" r="r" b="b"/>
              <a:pathLst>
                <a:path w="136" h="45">
                  <a:moveTo>
                    <a:pt x="0" y="45"/>
                  </a:moveTo>
                  <a:cubicBezTo>
                    <a:pt x="15" y="22"/>
                    <a:pt x="31" y="0"/>
                    <a:pt x="46" y="0"/>
                  </a:cubicBezTo>
                  <a:cubicBezTo>
                    <a:pt x="61" y="0"/>
                    <a:pt x="76" y="45"/>
                    <a:pt x="91" y="45"/>
                  </a:cubicBezTo>
                  <a:cubicBezTo>
                    <a:pt x="106" y="45"/>
                    <a:pt x="129" y="7"/>
                    <a:pt x="1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978200" y="2601360"/>
              <a:ext cx="360000" cy="106560"/>
            </a:xfrm>
            <a:custGeom>
              <a:avLst/>
              <a:gdLst/>
              <a:ahLst/>
              <a:rect l="l" t="t" r="r" b="b"/>
              <a:pathLst>
                <a:path w="136" h="45">
                  <a:moveTo>
                    <a:pt x="0" y="45"/>
                  </a:moveTo>
                  <a:cubicBezTo>
                    <a:pt x="15" y="22"/>
                    <a:pt x="31" y="0"/>
                    <a:pt x="46" y="0"/>
                  </a:cubicBezTo>
                  <a:cubicBezTo>
                    <a:pt x="61" y="0"/>
                    <a:pt x="76" y="45"/>
                    <a:pt x="91" y="45"/>
                  </a:cubicBezTo>
                  <a:cubicBezTo>
                    <a:pt x="106" y="45"/>
                    <a:pt x="129" y="7"/>
                    <a:pt x="1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1474920" y="2060640"/>
            <a:ext cx="647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W Headline OT-Book"/>
              </a:rPr>
              <a:t>min ex.3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93840" y="1268280"/>
            <a:ext cx="417672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978200" y="1627200"/>
            <a:ext cx="360000" cy="213840"/>
            <a:chOff x="1978200" y="1627200"/>
            <a:chExt cx="360000" cy="213840"/>
          </a:xfrm>
        </p:grpSpPr>
        <p:sp>
          <p:nvSpPr>
            <p:cNvPr id="72" name=""/>
            <p:cNvSpPr/>
            <p:nvPr/>
          </p:nvSpPr>
          <p:spPr>
            <a:xfrm>
              <a:off x="1978200" y="1627200"/>
              <a:ext cx="360000" cy="107280"/>
            </a:xfrm>
            <a:custGeom>
              <a:avLst/>
              <a:gdLst/>
              <a:ahLst/>
              <a:rect l="l" t="t" r="r" b="b"/>
              <a:pathLst>
                <a:path w="136" h="45">
                  <a:moveTo>
                    <a:pt x="0" y="45"/>
                  </a:moveTo>
                  <a:cubicBezTo>
                    <a:pt x="15" y="22"/>
                    <a:pt x="31" y="0"/>
                    <a:pt x="46" y="0"/>
                  </a:cubicBezTo>
                  <a:cubicBezTo>
                    <a:pt x="61" y="0"/>
                    <a:pt x="76" y="45"/>
                    <a:pt x="91" y="45"/>
                  </a:cubicBezTo>
                  <a:cubicBezTo>
                    <a:pt x="106" y="45"/>
                    <a:pt x="129" y="7"/>
                    <a:pt x="1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978200" y="1734480"/>
              <a:ext cx="360000" cy="106560"/>
            </a:xfrm>
            <a:custGeom>
              <a:avLst/>
              <a:gdLst/>
              <a:ahLst/>
              <a:rect l="l" t="t" r="r" b="b"/>
              <a:pathLst>
                <a:path w="136" h="45">
                  <a:moveTo>
                    <a:pt x="0" y="45"/>
                  </a:moveTo>
                  <a:cubicBezTo>
                    <a:pt x="15" y="22"/>
                    <a:pt x="31" y="0"/>
                    <a:pt x="46" y="0"/>
                  </a:cubicBezTo>
                  <a:cubicBezTo>
                    <a:pt x="61" y="0"/>
                    <a:pt x="76" y="45"/>
                    <a:pt x="91" y="45"/>
                  </a:cubicBezTo>
                  <a:cubicBezTo>
                    <a:pt x="106" y="45"/>
                    <a:pt x="129" y="7"/>
                    <a:pt x="1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1401840" y="1052640"/>
            <a:ext cx="792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W Headline OT-Book"/>
              </a:rPr>
              <a:t>Max ex.15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19521600">
            <a:off x="5793840" y="2131560"/>
            <a:ext cx="144720" cy="216000"/>
          </a:xfrm>
          <a:prstGeom prst="upArrow">
            <a:avLst>
              <a:gd name="adj1" fmla="val 50000"/>
              <a:gd name="adj2" fmla="val 37313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0636800">
            <a:off x="5938200" y="2491920"/>
            <a:ext cx="144360" cy="216000"/>
          </a:xfrm>
          <a:prstGeom prst="upArrow">
            <a:avLst>
              <a:gd name="adj1" fmla="val 50000"/>
              <a:gd name="adj2" fmla="val 37406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65120" y="1771560"/>
            <a:ext cx="6490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2265120" y="1339920"/>
            <a:ext cx="6490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265480" y="3427560"/>
            <a:ext cx="4752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65480" y="4292640"/>
            <a:ext cx="4752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65480" y="3932280"/>
            <a:ext cx="504720" cy="287280"/>
          </a:xfrm>
          <a:custGeom>
            <a:avLst/>
            <a:gdLst/>
            <a:ahLst/>
            <a:rect l="l" t="t" r="r" b="b"/>
            <a:pathLst>
              <a:path w="318" h="181">
                <a:moveTo>
                  <a:pt x="0" y="181"/>
                </a:moveTo>
                <a:cubicBezTo>
                  <a:pt x="64" y="90"/>
                  <a:pt x="129" y="0"/>
                  <a:pt x="182" y="0"/>
                </a:cubicBezTo>
                <a:cubicBezTo>
                  <a:pt x="235" y="0"/>
                  <a:pt x="295" y="151"/>
                  <a:pt x="318" y="1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770200" y="3787920"/>
            <a:ext cx="504720" cy="431640"/>
          </a:xfrm>
          <a:custGeom>
            <a:avLst/>
            <a:gdLst/>
            <a:ahLst/>
            <a:rect l="l" t="t" r="r" b="b"/>
            <a:pathLst>
              <a:path w="318" h="181">
                <a:moveTo>
                  <a:pt x="0" y="181"/>
                </a:moveTo>
                <a:cubicBezTo>
                  <a:pt x="64" y="90"/>
                  <a:pt x="129" y="0"/>
                  <a:pt x="182" y="0"/>
                </a:cubicBezTo>
                <a:cubicBezTo>
                  <a:pt x="235" y="0"/>
                  <a:pt x="295" y="151"/>
                  <a:pt x="318" y="1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74920" y="3645000"/>
            <a:ext cx="505080" cy="574560"/>
          </a:xfrm>
          <a:custGeom>
            <a:avLst/>
            <a:gdLst/>
            <a:ahLst/>
            <a:rect l="l" t="t" r="r" b="b"/>
            <a:pathLst>
              <a:path w="318" h="181">
                <a:moveTo>
                  <a:pt x="0" y="181"/>
                </a:moveTo>
                <a:cubicBezTo>
                  <a:pt x="64" y="90"/>
                  <a:pt x="129" y="0"/>
                  <a:pt x="182" y="0"/>
                </a:cubicBezTo>
                <a:cubicBezTo>
                  <a:pt x="235" y="0"/>
                  <a:pt x="295" y="151"/>
                  <a:pt x="318" y="1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78200" y="4076640"/>
            <a:ext cx="936720" cy="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786200" y="3716280"/>
            <a:ext cx="107964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W Headline OT-Book"/>
              </a:rPr>
              <a:t>Driving schedule </a:t>
            </a:r>
            <a:r>
              <a:rPr b="1" lang="en-GB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1000" spc="-1" strike="noStrike">
                <a:solidFill>
                  <a:srgbClr val="000000"/>
                </a:solidFill>
                <a:latin typeface="VW Headline OT-Book"/>
              </a:rPr>
              <a:t>ICE issue or durability ph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187280" y="4653000"/>
          <a:ext cx="7129440" cy="2017800"/>
        </p:xfrm>
        <a:graphic>
          <a:graphicData uri="http://schemas.openxmlformats.org/drawingml/2006/table">
            <a:tbl>
              <a:tblPr/>
              <a:tblGrid>
                <a:gridCol w="576000"/>
                <a:gridCol w="1224000"/>
                <a:gridCol w="1224000"/>
                <a:gridCol w="1368360"/>
                <a:gridCol w="1327320"/>
                <a:gridCol w="1409760"/>
              </a:tblGrid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 swit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iving schedu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n in mileage min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n in milea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ttery / ICE operation rati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 ICE / lat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km </a:t>
                      </a:r>
                      <a:r>
                        <a:rPr b="1" lang="en-US" sz="9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OIL No.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 ?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C HE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ou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 ICE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ase II (durability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 I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 I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c300e"/>
                          </a:solidFill>
                          <a:latin typeface="Arial"/>
                        </a:rPr>
                        <a:t>OIL</a:t>
                      </a:r>
                      <a:r>
                        <a:rPr b="1" lang="en-US" sz="9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. </a:t>
                      </a:r>
                      <a:r>
                        <a:rPr b="1" lang="en-US" sz="900" spc="-1" strike="noStrike">
                          <a:solidFill>
                            <a:srgbClr val="fc300e"/>
                          </a:solidFill>
                          <a:latin typeface="Arial"/>
                        </a:rPr>
                        <a:t>No.6 bi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(incl. pure EV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(no pure EV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C HE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ou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 ICE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ase II (durability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 I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 I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(incl. pure EV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(no pure EV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6588000" y="2060640"/>
            <a:ext cx="2376720" cy="792000"/>
          </a:xfrm>
          <a:prstGeom prst="wedgeRectCallout">
            <a:avLst>
              <a:gd name="adj1" fmla="val -34972"/>
              <a:gd name="adj2" fmla="val -7805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.1)OEM recommended wa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.2)Define the ratio of battery operation ratio (“CD run” rati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622840" y="3057480"/>
            <a:ext cx="7923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W Headline OT-Book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41400" y="857160"/>
            <a:ext cx="0" cy="3384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50920" y="115920"/>
          <a:ext cx="8569080" cy="73512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382680">
                <a:tc>
                  <a:txBody>
                    <a:bodyPr lIns="54000" rIns="54000" tIns="54000" bIns="54000" anchor="ctr">
                      <a:noAutofit/>
                    </a:bodyPr>
                    <a:p>
                      <a:pPr marL="361800" indent="-3618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361800"/>
                          <a:tab algn="l" pos="447840"/>
                          <a:tab algn="l" pos="809640"/>
                          <a:tab algn="l" pos="1047600"/>
                          <a:tab algn="l" pos="1571760"/>
                          <a:tab algn="l" pos="2095560"/>
                          <a:tab algn="l" pos="2619360"/>
                          <a:tab algn="l" pos="3143160"/>
                          <a:tab algn="l" pos="3666960"/>
                          <a:tab algn="l" pos="4191120"/>
                          <a:tab algn="l" pos="4714920"/>
                          <a:tab algn="l" pos="5238720"/>
                          <a:tab algn="l" pos="5762520"/>
                          <a:tab algn="l" pos="6286680"/>
                          <a:tab algn="l" pos="6810480"/>
                          <a:tab algn="l" pos="7334280"/>
                          <a:tab algn="l" pos="7858080"/>
                          <a:tab algn="l" pos="8381880"/>
                          <a:tab algn="l" pos="8906040"/>
                          <a:tab algn="l" pos="9429840"/>
                          <a:tab algn="l" pos="9953640"/>
                          <a:tab algn="l" pos="1047744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VW Headline OT-Book"/>
                        </a:rPr>
                        <a:t>Propos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5244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2160"/>
                          <a:tab algn="l" pos="447840"/>
                          <a:tab algn="l" pos="809640"/>
                          <a:tab algn="l" pos="1343160"/>
                          <a:tab algn="l" pos="1571760"/>
                          <a:tab algn="l" pos="2095560"/>
                          <a:tab algn="l" pos="2619360"/>
                          <a:tab algn="l" pos="3143160"/>
                          <a:tab algn="l" pos="3666960"/>
                          <a:tab algn="l" pos="4191120"/>
                          <a:tab algn="l" pos="4714920"/>
                          <a:tab algn="l" pos="5238720"/>
                          <a:tab algn="l" pos="5762520"/>
                          <a:tab algn="l" pos="6286680"/>
                          <a:tab algn="l" pos="6810480"/>
                          <a:tab algn="l" pos="7334280"/>
                          <a:tab algn="l" pos="7858080"/>
                          <a:tab algn="l" pos="8381880"/>
                          <a:tab algn="l" pos="8906040"/>
                          <a:tab algn="l" pos="9429840"/>
                          <a:tab algn="l" pos="9953640"/>
                          <a:tab algn="l" pos="1047744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W Headline OT-Book"/>
                        </a:rPr>
                        <a:t>Step2: Road Load Set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91" name=""/>
          <p:cNvSpPr/>
          <p:nvPr/>
        </p:nvSpPr>
        <p:spPr>
          <a:xfrm rot="16200000">
            <a:off x="-484560" y="1924200"/>
            <a:ext cx="2378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W Headline OT-Book"/>
              </a:rPr>
              <a:t>Dyno/Vehicle spe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13240" y="3632040"/>
            <a:ext cx="43200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W Headline OT-Book"/>
              </a:rPr>
              <a:t>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01760" y="1473120"/>
            <a:ext cx="72072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W Headline OT-Book"/>
              </a:rPr>
              <a:t>Dyno. Warm-up </a:t>
            </a:r>
            <a:r>
              <a:rPr b="1" lang="en-GB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1000" spc="-1" strike="noStrike">
                <a:solidFill>
                  <a:srgbClr val="000000"/>
                </a:solidFill>
                <a:latin typeface="VW Headline OT-Book"/>
              </a:rPr>
              <a:t>ICE iss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30480" y="2336760"/>
            <a:ext cx="86328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373040" y="1905120"/>
            <a:ext cx="14472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85760" y="2984400"/>
            <a:ext cx="561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317760" y="1833480"/>
            <a:ext cx="1223640" cy="1079280"/>
            <a:chOff x="3317760" y="1833480"/>
            <a:chExt cx="1223640" cy="1079280"/>
          </a:xfrm>
        </p:grpSpPr>
        <p:grpSp>
          <p:nvGrpSpPr>
            <p:cNvPr id="98" name=""/>
            <p:cNvGrpSpPr/>
            <p:nvPr/>
          </p:nvGrpSpPr>
          <p:grpSpPr>
            <a:xfrm>
              <a:off x="3317760" y="2101680"/>
              <a:ext cx="815760" cy="810360"/>
              <a:chOff x="3317760" y="2101680"/>
              <a:chExt cx="815760" cy="810360"/>
            </a:xfrm>
          </p:grpSpPr>
          <p:sp>
            <p:nvSpPr>
              <p:cNvPr id="99" name=""/>
              <p:cNvSpPr/>
              <p:nvPr/>
            </p:nvSpPr>
            <p:spPr>
              <a:xfrm>
                <a:off x="3317760" y="2372400"/>
                <a:ext cx="407880" cy="539280"/>
              </a:xfrm>
              <a:custGeom>
                <a:avLst/>
                <a:gdLst/>
                <a:ahLst/>
                <a:rect l="l" t="t" r="r" b="b"/>
                <a:pathLst>
                  <a:path w="318" h="181">
                    <a:moveTo>
                      <a:pt x="0" y="181"/>
                    </a:moveTo>
                    <a:cubicBezTo>
                      <a:pt x="64" y="90"/>
                      <a:pt x="129" y="0"/>
                      <a:pt x="182" y="0"/>
                    </a:cubicBezTo>
                    <a:cubicBezTo>
                      <a:pt x="235" y="0"/>
                      <a:pt x="295" y="151"/>
                      <a:pt x="318" y="181"/>
                    </a:cubicBez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725640" y="2101680"/>
                <a:ext cx="407880" cy="810360"/>
              </a:xfrm>
              <a:custGeom>
                <a:avLst/>
                <a:gdLst/>
                <a:ahLst/>
                <a:rect l="l" t="t" r="r" b="b"/>
                <a:pathLst>
                  <a:path w="318" h="181">
                    <a:moveTo>
                      <a:pt x="0" y="181"/>
                    </a:moveTo>
                    <a:cubicBezTo>
                      <a:pt x="64" y="90"/>
                      <a:pt x="129" y="0"/>
                      <a:pt x="182" y="0"/>
                    </a:cubicBezTo>
                    <a:cubicBezTo>
                      <a:pt x="235" y="0"/>
                      <a:pt x="295" y="151"/>
                      <a:pt x="318" y="181"/>
                    </a:cubicBez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4133520" y="1833480"/>
              <a:ext cx="407880" cy="1079280"/>
            </a:xfrm>
            <a:custGeom>
              <a:avLst/>
              <a:gdLst/>
              <a:ahLst/>
              <a:rect l="l" t="t" r="r" b="b"/>
              <a:pathLst>
                <a:path w="318" h="181">
                  <a:moveTo>
                    <a:pt x="0" y="181"/>
                  </a:moveTo>
                  <a:cubicBezTo>
                    <a:pt x="64" y="90"/>
                    <a:pt x="129" y="0"/>
                    <a:pt x="182" y="0"/>
                  </a:cubicBezTo>
                  <a:cubicBezTo>
                    <a:pt x="235" y="0"/>
                    <a:pt x="295" y="151"/>
                    <a:pt x="318" y="181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2" name=""/>
          <p:cNvGraphicFramePr/>
          <p:nvPr/>
        </p:nvGraphicFramePr>
        <p:xfrm>
          <a:off x="324000" y="4581360"/>
          <a:ext cx="8334360" cy="1898640"/>
        </p:xfrm>
        <a:graphic>
          <a:graphicData uri="http://schemas.openxmlformats.org/drawingml/2006/table">
            <a:tbl>
              <a:tblPr/>
              <a:tblGrid>
                <a:gridCol w="502920"/>
                <a:gridCol w="1278000"/>
                <a:gridCol w="1152720"/>
                <a:gridCol w="1152360"/>
                <a:gridCol w="1224000"/>
                <a:gridCol w="1440000"/>
                <a:gridCol w="1584360"/>
              </a:tblGrid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 swit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yno. warm-u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hicle sett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hicle warm-u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ast down mo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ad load setting criteri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7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 I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7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 I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 ICE 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7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IL. No.3bi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7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 I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C HE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ou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 I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(incl. pure EV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(no pure EV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C HE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ou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(incl. pure EV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5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(no pure EV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1157400" y="402120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309760" y="1074600"/>
            <a:ext cx="0" cy="333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6480" y="1074600"/>
            <a:ext cx="0" cy="333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14840" y="1074600"/>
            <a:ext cx="0" cy="333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86480" y="1074600"/>
            <a:ext cx="0" cy="333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7760" y="4021200"/>
            <a:ext cx="12258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382840" y="4021200"/>
            <a:ext cx="7905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86480" y="4021200"/>
            <a:ext cx="17287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085760" y="2336400"/>
            <a:ext cx="144720" cy="647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93760" y="2336760"/>
            <a:ext cx="144720" cy="647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4686480" y="1257120"/>
            <a:ext cx="144360" cy="1655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830480" y="1257480"/>
            <a:ext cx="14292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973760" y="1257480"/>
            <a:ext cx="1368360" cy="1655640"/>
          </a:xfrm>
          <a:custGeom>
            <a:avLst/>
            <a:gdLst/>
            <a:ahLst/>
            <a:rect l="l" t="t" r="r" b="b"/>
            <a:pathLst>
              <a:path w="862" h="1043">
                <a:moveTo>
                  <a:pt x="0" y="0"/>
                </a:moveTo>
                <a:cubicBezTo>
                  <a:pt x="0" y="102"/>
                  <a:pt x="1" y="204"/>
                  <a:pt x="46" y="317"/>
                </a:cubicBezTo>
                <a:cubicBezTo>
                  <a:pt x="91" y="430"/>
                  <a:pt x="182" y="574"/>
                  <a:pt x="273" y="680"/>
                </a:cubicBezTo>
                <a:cubicBezTo>
                  <a:pt x="364" y="786"/>
                  <a:pt x="492" y="891"/>
                  <a:pt x="590" y="952"/>
                </a:cubicBezTo>
                <a:cubicBezTo>
                  <a:pt x="688" y="1013"/>
                  <a:pt x="775" y="1028"/>
                  <a:pt x="862" y="1043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991200" y="2768760"/>
            <a:ext cx="1440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918480" y="824040"/>
            <a:ext cx="0" cy="20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991200" y="1112760"/>
            <a:ext cx="1392480" cy="1463760"/>
          </a:xfrm>
          <a:custGeom>
            <a:avLst/>
            <a:gdLst/>
            <a:ahLst/>
            <a:rect l="l" t="t" r="r" b="b"/>
            <a:pathLst>
              <a:path w="877" h="922">
                <a:moveTo>
                  <a:pt x="0" y="922"/>
                </a:moveTo>
                <a:cubicBezTo>
                  <a:pt x="113" y="895"/>
                  <a:pt x="227" y="869"/>
                  <a:pt x="318" y="831"/>
                </a:cubicBezTo>
                <a:cubicBezTo>
                  <a:pt x="409" y="793"/>
                  <a:pt x="484" y="740"/>
                  <a:pt x="544" y="695"/>
                </a:cubicBezTo>
                <a:cubicBezTo>
                  <a:pt x="604" y="650"/>
                  <a:pt x="643" y="612"/>
                  <a:pt x="681" y="559"/>
                </a:cubicBezTo>
                <a:cubicBezTo>
                  <a:pt x="719" y="506"/>
                  <a:pt x="741" y="461"/>
                  <a:pt x="771" y="378"/>
                </a:cubicBezTo>
                <a:cubicBezTo>
                  <a:pt x="801" y="295"/>
                  <a:pt x="847" y="120"/>
                  <a:pt x="862" y="60"/>
                </a:cubicBezTo>
                <a:cubicBezTo>
                  <a:pt x="877" y="0"/>
                  <a:pt x="869" y="7"/>
                  <a:pt x="862" y="15"/>
                </a:cubicBezTo>
              </a:path>
            </a:pathLst>
          </a:custGeom>
          <a:noFill/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062840" y="1184400"/>
            <a:ext cx="1392120" cy="1463400"/>
          </a:xfrm>
          <a:custGeom>
            <a:avLst/>
            <a:gdLst/>
            <a:ahLst/>
            <a:rect l="l" t="t" r="r" b="b"/>
            <a:pathLst>
              <a:path w="877" h="922">
                <a:moveTo>
                  <a:pt x="0" y="922"/>
                </a:moveTo>
                <a:cubicBezTo>
                  <a:pt x="113" y="895"/>
                  <a:pt x="227" y="869"/>
                  <a:pt x="318" y="831"/>
                </a:cubicBezTo>
                <a:cubicBezTo>
                  <a:pt x="409" y="793"/>
                  <a:pt x="484" y="740"/>
                  <a:pt x="544" y="695"/>
                </a:cubicBezTo>
                <a:cubicBezTo>
                  <a:pt x="604" y="650"/>
                  <a:pt x="643" y="612"/>
                  <a:pt x="681" y="559"/>
                </a:cubicBezTo>
                <a:cubicBezTo>
                  <a:pt x="719" y="506"/>
                  <a:pt x="741" y="461"/>
                  <a:pt x="771" y="378"/>
                </a:cubicBezTo>
                <a:cubicBezTo>
                  <a:pt x="801" y="295"/>
                  <a:pt x="847" y="120"/>
                  <a:pt x="862" y="60"/>
                </a:cubicBezTo>
                <a:cubicBezTo>
                  <a:pt x="877" y="0"/>
                  <a:pt x="869" y="7"/>
                  <a:pt x="862" y="1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918480" y="1039680"/>
            <a:ext cx="1392120" cy="1463760"/>
          </a:xfrm>
          <a:custGeom>
            <a:avLst/>
            <a:gdLst/>
            <a:ahLst/>
            <a:rect l="l" t="t" r="r" b="b"/>
            <a:pathLst>
              <a:path w="877" h="922">
                <a:moveTo>
                  <a:pt x="0" y="922"/>
                </a:moveTo>
                <a:cubicBezTo>
                  <a:pt x="113" y="895"/>
                  <a:pt x="227" y="869"/>
                  <a:pt x="318" y="831"/>
                </a:cubicBezTo>
                <a:cubicBezTo>
                  <a:pt x="409" y="793"/>
                  <a:pt x="484" y="740"/>
                  <a:pt x="544" y="695"/>
                </a:cubicBezTo>
                <a:cubicBezTo>
                  <a:pt x="604" y="650"/>
                  <a:pt x="643" y="612"/>
                  <a:pt x="681" y="559"/>
                </a:cubicBezTo>
                <a:cubicBezTo>
                  <a:pt x="719" y="506"/>
                  <a:pt x="741" y="461"/>
                  <a:pt x="771" y="378"/>
                </a:cubicBezTo>
                <a:cubicBezTo>
                  <a:pt x="801" y="295"/>
                  <a:pt x="847" y="120"/>
                  <a:pt x="862" y="60"/>
                </a:cubicBezTo>
                <a:cubicBezTo>
                  <a:pt x="877" y="0"/>
                  <a:pt x="869" y="7"/>
                  <a:pt x="862" y="1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991200" y="2913120"/>
            <a:ext cx="151308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W Headline OT-Book"/>
              </a:rPr>
              <a:t>Vehicle Speed (h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16200000">
            <a:off x="6435000" y="803880"/>
            <a:ext cx="5745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W Headline OT-Book"/>
              </a:rPr>
              <a:t>F(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54840" y="1905120"/>
            <a:ext cx="718920" cy="647640"/>
          </a:xfrm>
          <a:custGeom>
            <a:avLst/>
            <a:gdLst>
              <a:gd name="textAreaLeft" fmla="*/ 0 w 718920"/>
              <a:gd name="textAreaRight" fmla="*/ 719280 w 71892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660" stAng="10800000" swAng="5400000"/>
                <a:lnTo>
                  <a:pt x="16164" y="4500"/>
                </a:lnTo>
                <a:lnTo>
                  <a:pt x="16164" y="0"/>
                </a:lnTo>
                <a:lnTo>
                  <a:pt x="21600" y="6079"/>
                </a:lnTo>
                <a:lnTo>
                  <a:pt x="16164" y="12158"/>
                </a:lnTo>
                <a:lnTo>
                  <a:pt x="16164" y="7658"/>
                </a:lnTo>
                <a:lnTo>
                  <a:pt x="12427" y="7658"/>
                </a:lnTo>
                <a:arcTo wR="9269" hR="4502" stAng="16200000" swAng="-5400000"/>
                <a:lnTo>
                  <a:pt x="3158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157400" y="3666960"/>
            <a:ext cx="3384360" cy="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14840" y="3811680"/>
            <a:ext cx="2087640" cy="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157400" y="3666960"/>
            <a:ext cx="5328720" cy="144360"/>
            <a:chOff x="1157400" y="3666960"/>
            <a:chExt cx="5328720" cy="144360"/>
          </a:xfrm>
        </p:grpSpPr>
        <p:sp>
          <p:nvSpPr>
            <p:cNvPr id="127" name=""/>
            <p:cNvSpPr/>
            <p:nvPr/>
          </p:nvSpPr>
          <p:spPr>
            <a:xfrm>
              <a:off x="1157400" y="3811320"/>
              <a:ext cx="34574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614840" y="3666960"/>
              <a:ext cx="18712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614840" y="3666960"/>
              <a:ext cx="0" cy="144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1301760" y="4087800"/>
            <a:ext cx="792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VW Headline OT-Book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VW Headline OT-Book"/>
              </a:rPr>
              <a:t>Dyno. Warm-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382840" y="4092480"/>
            <a:ext cx="792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VW Headline OT-Book"/>
              </a:rPr>
              <a:t>Vehicle Se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606840" y="4092480"/>
            <a:ext cx="792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VW Headline OT-Book"/>
              </a:rPr>
              <a:t>Vehicle Warm-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91200" y="4092480"/>
            <a:ext cx="792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VW Headline OT-Book"/>
              </a:rPr>
              <a:t>Road Load Se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516720" y="3645000"/>
            <a:ext cx="201600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W Headline OT-Book"/>
              </a:rPr>
              <a:t>Coast down mode </a:t>
            </a:r>
            <a:r>
              <a:rPr b="1" lang="en-GB" sz="1000" spc="-1" strike="noStrike" u="sng">
                <a:solidFill>
                  <a:srgbClr val="fc300e"/>
                </a:solidFill>
                <a:uFillTx/>
                <a:latin typeface="VW Headline OT-Book"/>
              </a:rPr>
              <a:t>OIL No.3b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926480" y="1976400"/>
            <a:ext cx="215640" cy="144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062840" y="1184400"/>
            <a:ext cx="72072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W Headline OT-Book"/>
              </a:rPr>
              <a:t>Tolerance of R/L set </a:t>
            </a:r>
            <a:r>
              <a:rPr b="1" lang="en-GB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1000" spc="-1" strike="noStrike">
                <a:solidFill>
                  <a:srgbClr val="000000"/>
                </a:solidFill>
                <a:latin typeface="VW Headline OT-Book"/>
              </a:rPr>
              <a:t>ICE iss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566120" y="1616040"/>
            <a:ext cx="288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533760" y="968400"/>
            <a:ext cx="72072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W Headline OT-Book"/>
              </a:rPr>
              <a:t>Vehicle Warm-up </a:t>
            </a:r>
            <a:r>
              <a:rPr b="1" lang="en-GB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1000" spc="-1" strike="noStrike">
                <a:solidFill>
                  <a:srgbClr val="000000"/>
                </a:solidFill>
                <a:latin typeface="VW Headline OT-Book"/>
              </a:rPr>
              <a:t>ICE iss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22840" y="1471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64000" y="1125360"/>
            <a:ext cx="72072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W Headline OT-Book"/>
              </a:rPr>
              <a:t>Max. speed of RLD </a:t>
            </a:r>
            <a:r>
              <a:rPr b="1" lang="en-GB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1000" spc="-1" strike="noStrike">
                <a:solidFill>
                  <a:srgbClr val="000000"/>
                </a:solidFill>
                <a:latin typeface="VW Headline OT-Book"/>
              </a:rPr>
              <a:t>ICE iss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4973760" y="1197000"/>
            <a:ext cx="390240" cy="5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63560" y="6562800"/>
            <a:ext cx="43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) allow battery charging during vehicle warm-up to prevent empty batter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44440" y="3311640"/>
            <a:ext cx="2132280" cy="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76720" y="3456000"/>
            <a:ext cx="3413160" cy="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516720" y="3276720"/>
            <a:ext cx="201600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W Headline OT-Book"/>
              </a:rPr>
              <a:t>Dyno. mode </a:t>
            </a:r>
            <a:r>
              <a:rPr b="1" lang="en-GB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ICE iss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708360" y="3271680"/>
            <a:ext cx="43200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W Headline OT-Book"/>
              </a:rPr>
              <a:t>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144440" y="3311640"/>
            <a:ext cx="5299200" cy="150840"/>
            <a:chOff x="1144440" y="3311640"/>
            <a:chExt cx="5299200" cy="150840"/>
          </a:xfrm>
        </p:grpSpPr>
        <p:sp>
          <p:nvSpPr>
            <p:cNvPr id="148" name=""/>
            <p:cNvSpPr/>
            <p:nvPr/>
          </p:nvSpPr>
          <p:spPr>
            <a:xfrm>
              <a:off x="1144440" y="3452760"/>
              <a:ext cx="21322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36760" y="3311640"/>
              <a:ext cx="14065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251160" y="3324240"/>
              <a:ext cx="0" cy="115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618080" y="3316320"/>
              <a:ext cx="0" cy="115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594320" y="3462480"/>
              <a:ext cx="18493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6659640" y="4005360"/>
            <a:ext cx="194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ed to consider Electrified vehicle 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250920" y="115920"/>
          <a:ext cx="8569080" cy="73512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382680">
                <a:tc>
                  <a:txBody>
                    <a:bodyPr lIns="54000" rIns="54000" tIns="54000" bIns="54000" anchor="ctr">
                      <a:noAutofit/>
                    </a:bodyPr>
                    <a:p>
                      <a:pPr marL="361800" indent="-3618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361800"/>
                          <a:tab algn="l" pos="447840"/>
                          <a:tab algn="l" pos="809640"/>
                          <a:tab algn="l" pos="1047600"/>
                          <a:tab algn="l" pos="1571760"/>
                          <a:tab algn="l" pos="2095560"/>
                          <a:tab algn="l" pos="2619360"/>
                          <a:tab algn="l" pos="3143160"/>
                          <a:tab algn="l" pos="3666960"/>
                          <a:tab algn="l" pos="4191120"/>
                          <a:tab algn="l" pos="4714920"/>
                          <a:tab algn="l" pos="5238720"/>
                          <a:tab algn="l" pos="5762520"/>
                          <a:tab algn="l" pos="6286680"/>
                          <a:tab algn="l" pos="6810480"/>
                          <a:tab algn="l" pos="7334280"/>
                          <a:tab algn="l" pos="7858080"/>
                          <a:tab algn="l" pos="8381880"/>
                          <a:tab algn="l" pos="8906040"/>
                          <a:tab algn="l" pos="9429840"/>
                          <a:tab algn="l" pos="9953640"/>
                          <a:tab algn="l" pos="1047744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VW Headline OT-Book"/>
                        </a:rPr>
                        <a:t>Propos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5244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2160"/>
                          <a:tab algn="l" pos="447840"/>
                          <a:tab algn="l" pos="809640"/>
                          <a:tab algn="l" pos="1343160"/>
                          <a:tab algn="l" pos="1571760"/>
                          <a:tab algn="l" pos="2095560"/>
                          <a:tab algn="l" pos="2619360"/>
                          <a:tab algn="l" pos="3143160"/>
                          <a:tab algn="l" pos="3666960"/>
                          <a:tab algn="l" pos="4191120"/>
                          <a:tab algn="l" pos="4714920"/>
                          <a:tab algn="l" pos="5238720"/>
                          <a:tab algn="l" pos="5762520"/>
                          <a:tab algn="l" pos="6286680"/>
                          <a:tab algn="l" pos="6810480"/>
                          <a:tab algn="l" pos="7334280"/>
                          <a:tab algn="l" pos="7858080"/>
                          <a:tab algn="l" pos="8381880"/>
                          <a:tab algn="l" pos="8906040"/>
                          <a:tab algn="l" pos="9429840"/>
                          <a:tab algn="l" pos="9953640"/>
                          <a:tab algn="l" pos="1047744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W Headline OT-Book"/>
                        </a:rPr>
                        <a:t>Step 3 Charge Sustaining M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155" name=""/>
          <p:cNvSpPr/>
          <p:nvPr/>
        </p:nvSpPr>
        <p:spPr>
          <a:xfrm>
            <a:off x="1930320" y="969840"/>
            <a:ext cx="0" cy="2233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979640" y="898560"/>
            <a:ext cx="7984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W Headline OT-Book"/>
              </a:rPr>
              <a:t>Unknown SO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7956720" y="1762200"/>
            <a:ext cx="306360" cy="242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"/>
          <p:cNvGraphicFramePr/>
          <p:nvPr/>
        </p:nvGraphicFramePr>
        <p:xfrm>
          <a:off x="395280" y="3562200"/>
          <a:ext cx="7489800" cy="2459160"/>
        </p:xfrm>
        <a:graphic>
          <a:graphicData uri="http://schemas.openxmlformats.org/drawingml/2006/table">
            <a:tbl>
              <a:tblPr/>
              <a:tblGrid>
                <a:gridCol w="743040"/>
                <a:gridCol w="769680"/>
                <a:gridCol w="1079640"/>
                <a:gridCol w="1230480"/>
                <a:gridCol w="1027080"/>
                <a:gridCol w="982440"/>
                <a:gridCol w="1657440"/>
              </a:tblGrid>
              <a:tr h="596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operation switc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initial dischar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pre-conditioning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Soak ti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Charge sustaining te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Charg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9900"/>
                          </a:solidFill>
                          <a:latin typeface="ＭＳ Ｐゴシック"/>
                        </a:rPr>
                        <a:t>OIL No.8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 Charging metho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E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Consumptiontest</a:t>
                      </a:r>
                      <a:r>
                        <a:rPr b="1" lang="en-US" sz="1100" spc="-1" strike="noStrike">
                          <a:solidFill>
                            <a:srgbClr val="009900"/>
                          </a:solidFill>
                          <a:latin typeface="ＭＳ Ｐゴシック"/>
                        </a:rPr>
                        <a:t>OILNo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Charging time: </a:t>
                      </a:r>
                      <a:r>
                        <a:rPr b="1" lang="en-US" sz="1100" spc="-1" strike="noStrike">
                          <a:solidFill>
                            <a:srgbClr val="fc300e"/>
                          </a:solidFill>
                          <a:latin typeface="ＭＳ Ｐゴシック"/>
                        </a:rPr>
                        <a:t>OIL No.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Condition: </a:t>
                      </a:r>
                      <a:r>
                        <a:rPr b="1" lang="en-US" sz="1100" spc="-1" strike="noStrike">
                          <a:solidFill>
                            <a:srgbClr val="009900"/>
                          </a:solidFill>
                          <a:latin typeface="ＭＳ Ｐゴシック"/>
                        </a:rPr>
                        <a:t>OIL No.7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  end of charge :</a:t>
                      </a:r>
                      <a:r>
                        <a:rPr b="1" lang="en-US" sz="1100" spc="-1" strike="noStrike">
                          <a:solidFill>
                            <a:srgbClr val="fc300e"/>
                          </a:solidFill>
                          <a:latin typeface="ＭＳ Ｐゴシック"/>
                        </a:rPr>
                        <a:t>OIL No.10,10b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OVC HE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ithou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r>
                        <a:rPr b="1" lang="en-US" sz="1100" spc="-1" strike="noStrike">
                          <a:solidFill>
                            <a:srgbClr val="fc300e"/>
                          </a:solidFill>
                          <a:latin typeface="ＭＳ Ｐゴシック"/>
                        </a:rPr>
                        <a:t>OIL No.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discharge condi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follow I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follow I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c300e"/>
                          </a:solidFill>
                          <a:latin typeface="ＭＳ Ｐゴシック"/>
                        </a:rPr>
                        <a:t>OIL </a:t>
                      </a:r>
                      <a:r>
                        <a:rPr b="1" lang="en-US" sz="1100" spc="-1" strike="noStrike">
                          <a:solidFill>
                            <a:srgbClr val="009900"/>
                          </a:solidFill>
                          <a:latin typeface="ＭＳ Ｐゴシック"/>
                        </a:rPr>
                        <a:t>No.26</a:t>
                      </a:r>
                      <a:r>
                        <a:rPr b="1" lang="en-US" sz="1100" spc="-1" strike="noStrike">
                          <a:solidFill>
                            <a:srgbClr val="fc300e"/>
                          </a:solidFill>
                          <a:latin typeface="ＭＳ Ｐゴシック"/>
                        </a:rPr>
                        <a:t>,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RCB correction 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Ex; correct emission?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i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1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i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OVC HE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ithou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follow I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follow ICE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i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i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9" name=""/>
          <p:cNvSpPr/>
          <p:nvPr/>
        </p:nvSpPr>
        <p:spPr>
          <a:xfrm rot="2877600">
            <a:off x="1623600" y="2010960"/>
            <a:ext cx="1695240" cy="158760"/>
          </a:xfrm>
          <a:custGeom>
            <a:avLst/>
            <a:gdLst/>
            <a:ahLst/>
            <a:rect l="l" t="t" r="r" b="b"/>
            <a:pathLst>
              <a:path w="1806" h="312">
                <a:moveTo>
                  <a:pt x="0" y="72"/>
                </a:moveTo>
                <a:lnTo>
                  <a:pt x="84" y="276"/>
                </a:lnTo>
                <a:lnTo>
                  <a:pt x="174" y="36"/>
                </a:lnTo>
                <a:lnTo>
                  <a:pt x="330" y="294"/>
                </a:lnTo>
                <a:lnTo>
                  <a:pt x="450" y="36"/>
                </a:lnTo>
                <a:lnTo>
                  <a:pt x="534" y="282"/>
                </a:lnTo>
                <a:lnTo>
                  <a:pt x="624" y="192"/>
                </a:lnTo>
                <a:lnTo>
                  <a:pt x="678" y="102"/>
                </a:lnTo>
                <a:lnTo>
                  <a:pt x="702" y="252"/>
                </a:lnTo>
                <a:lnTo>
                  <a:pt x="834" y="6"/>
                </a:lnTo>
                <a:lnTo>
                  <a:pt x="852" y="294"/>
                </a:lnTo>
                <a:lnTo>
                  <a:pt x="1032" y="42"/>
                </a:lnTo>
                <a:lnTo>
                  <a:pt x="1080" y="288"/>
                </a:lnTo>
                <a:lnTo>
                  <a:pt x="1260" y="0"/>
                </a:lnTo>
                <a:lnTo>
                  <a:pt x="1338" y="186"/>
                </a:lnTo>
                <a:lnTo>
                  <a:pt x="1458" y="48"/>
                </a:lnTo>
                <a:lnTo>
                  <a:pt x="1506" y="312"/>
                </a:lnTo>
                <a:lnTo>
                  <a:pt x="1572" y="66"/>
                </a:lnTo>
                <a:lnTo>
                  <a:pt x="1662" y="246"/>
                </a:lnTo>
                <a:lnTo>
                  <a:pt x="1704" y="30"/>
                </a:lnTo>
                <a:lnTo>
                  <a:pt x="1806" y="168"/>
                </a:lnTo>
              </a:path>
            </a:pathLst>
          </a:custGeom>
          <a:noFill/>
          <a:ln w="698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907640" y="3244320"/>
            <a:ext cx="597708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987640" y="1123920"/>
            <a:ext cx="1800" cy="23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987640" y="2698920"/>
            <a:ext cx="1963800" cy="163440"/>
          </a:xfrm>
          <a:custGeom>
            <a:avLst/>
            <a:gdLst/>
            <a:ahLst/>
            <a:rect l="l" t="t" r="r" b="b"/>
            <a:pathLst>
              <a:path w="1806" h="312">
                <a:moveTo>
                  <a:pt x="0" y="72"/>
                </a:moveTo>
                <a:lnTo>
                  <a:pt x="84" y="276"/>
                </a:lnTo>
                <a:lnTo>
                  <a:pt x="174" y="36"/>
                </a:lnTo>
                <a:lnTo>
                  <a:pt x="330" y="294"/>
                </a:lnTo>
                <a:lnTo>
                  <a:pt x="450" y="36"/>
                </a:lnTo>
                <a:lnTo>
                  <a:pt x="534" y="282"/>
                </a:lnTo>
                <a:lnTo>
                  <a:pt x="624" y="192"/>
                </a:lnTo>
                <a:lnTo>
                  <a:pt x="678" y="102"/>
                </a:lnTo>
                <a:lnTo>
                  <a:pt x="702" y="252"/>
                </a:lnTo>
                <a:lnTo>
                  <a:pt x="834" y="6"/>
                </a:lnTo>
                <a:lnTo>
                  <a:pt x="852" y="294"/>
                </a:lnTo>
                <a:lnTo>
                  <a:pt x="1032" y="42"/>
                </a:lnTo>
                <a:lnTo>
                  <a:pt x="1080" y="288"/>
                </a:lnTo>
                <a:lnTo>
                  <a:pt x="1260" y="0"/>
                </a:lnTo>
                <a:lnTo>
                  <a:pt x="1338" y="186"/>
                </a:lnTo>
                <a:lnTo>
                  <a:pt x="1458" y="48"/>
                </a:lnTo>
                <a:lnTo>
                  <a:pt x="1506" y="312"/>
                </a:lnTo>
                <a:lnTo>
                  <a:pt x="1572" y="66"/>
                </a:lnTo>
                <a:lnTo>
                  <a:pt x="1662" y="246"/>
                </a:lnTo>
                <a:lnTo>
                  <a:pt x="1704" y="30"/>
                </a:lnTo>
                <a:lnTo>
                  <a:pt x="1806" y="168"/>
                </a:lnTo>
              </a:path>
            </a:pathLst>
          </a:custGeom>
          <a:noFill/>
          <a:ln w="7632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251320" y="2021040"/>
            <a:ext cx="5040" cy="146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292720" y="2674800"/>
            <a:ext cx="1639800" cy="165240"/>
          </a:xfrm>
          <a:custGeom>
            <a:avLst/>
            <a:gdLst/>
            <a:ahLst/>
            <a:rect l="l" t="t" r="r" b="b"/>
            <a:pathLst>
              <a:path w="1340" h="249">
                <a:moveTo>
                  <a:pt x="0" y="194"/>
                </a:moveTo>
                <a:lnTo>
                  <a:pt x="111" y="22"/>
                </a:lnTo>
                <a:lnTo>
                  <a:pt x="188" y="194"/>
                </a:lnTo>
                <a:lnTo>
                  <a:pt x="305" y="83"/>
                </a:lnTo>
                <a:lnTo>
                  <a:pt x="343" y="182"/>
                </a:lnTo>
                <a:lnTo>
                  <a:pt x="471" y="0"/>
                </a:lnTo>
                <a:lnTo>
                  <a:pt x="482" y="188"/>
                </a:lnTo>
                <a:lnTo>
                  <a:pt x="648" y="44"/>
                </a:lnTo>
                <a:lnTo>
                  <a:pt x="709" y="221"/>
                </a:lnTo>
                <a:lnTo>
                  <a:pt x="842" y="33"/>
                </a:lnTo>
                <a:lnTo>
                  <a:pt x="925" y="171"/>
                </a:lnTo>
                <a:lnTo>
                  <a:pt x="1036" y="50"/>
                </a:lnTo>
                <a:lnTo>
                  <a:pt x="1080" y="249"/>
                </a:lnTo>
                <a:lnTo>
                  <a:pt x="1157" y="55"/>
                </a:lnTo>
                <a:lnTo>
                  <a:pt x="1207" y="171"/>
                </a:lnTo>
                <a:lnTo>
                  <a:pt x="1257" y="16"/>
                </a:lnTo>
                <a:lnTo>
                  <a:pt x="1340" y="122"/>
                </a:lnTo>
              </a:path>
            </a:pathLst>
          </a:custGeom>
          <a:noFill/>
          <a:ln w="63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292720" y="1857240"/>
            <a:ext cx="1093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W Headline OT-Book"/>
              </a:rPr>
              <a:t>Cold start of 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3049800">
            <a:off x="5425560" y="2071440"/>
            <a:ext cx="162000" cy="717480"/>
          </a:xfrm>
          <a:prstGeom prst="lightningBol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219640" y="2755800"/>
            <a:ext cx="100080" cy="10188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11640" y="2349360"/>
            <a:ext cx="1001880" cy="57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979640" y="1206360"/>
            <a:ext cx="920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227640" y="2349360"/>
            <a:ext cx="1008360" cy="52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227640" y="1042920"/>
            <a:ext cx="15840" cy="24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16200000">
            <a:off x="789840" y="2251080"/>
            <a:ext cx="2027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W Headline OT-Book"/>
              </a:rPr>
              <a:t>Charging Condition Battery [Ah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565440" y="2265480"/>
            <a:ext cx="0" cy="97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968480" y="1500120"/>
            <a:ext cx="0" cy="1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6227640" y="1206360"/>
            <a:ext cx="649440" cy="1557360"/>
          </a:xfrm>
          <a:prstGeom prst="line">
            <a:avLst/>
          </a:prstGeom>
          <a:ln w="698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77080" y="1206360"/>
            <a:ext cx="1020600" cy="0"/>
          </a:xfrm>
          <a:prstGeom prst="line">
            <a:avLst/>
          </a:prstGeom>
          <a:ln w="698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227640" y="275580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885080" y="2755800"/>
            <a:ext cx="3240" cy="73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211640" y="2101680"/>
            <a:ext cx="3240" cy="138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885080" y="1206360"/>
            <a:ext cx="0" cy="1551240"/>
          </a:xfrm>
          <a:prstGeom prst="line">
            <a:avLst/>
          </a:prstGeom>
          <a:ln w="93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5280" y="1916280"/>
            <a:ext cx="1224000" cy="7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formance of Watt-hour meter, Am-me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c300e"/>
                </a:solidFill>
                <a:latin typeface="Arial"/>
              </a:rPr>
              <a:t>OIL No.15,16,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812000" y="4508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101080" y="4365720"/>
            <a:ext cx="1042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idation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250920" y="122400"/>
          <a:ext cx="8569080" cy="73476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382320">
                <a:tc>
                  <a:txBody>
                    <a:bodyPr lIns="54000" rIns="54000" tIns="54000" bIns="54000" anchor="ctr">
                      <a:noAutofit/>
                    </a:bodyPr>
                    <a:p>
                      <a:pPr marL="361800" indent="-3618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361800"/>
                          <a:tab algn="l" pos="447840"/>
                          <a:tab algn="l" pos="809640"/>
                          <a:tab algn="l" pos="1047600"/>
                          <a:tab algn="l" pos="1571760"/>
                          <a:tab algn="l" pos="2095560"/>
                          <a:tab algn="l" pos="2619360"/>
                          <a:tab algn="l" pos="3143160"/>
                          <a:tab algn="l" pos="3666960"/>
                          <a:tab algn="l" pos="4191120"/>
                          <a:tab algn="l" pos="4714920"/>
                          <a:tab algn="l" pos="5238720"/>
                          <a:tab algn="l" pos="5762520"/>
                          <a:tab algn="l" pos="6286680"/>
                          <a:tab algn="l" pos="6810480"/>
                          <a:tab algn="l" pos="7334280"/>
                          <a:tab algn="l" pos="7858080"/>
                          <a:tab algn="l" pos="8381880"/>
                          <a:tab algn="l" pos="8906040"/>
                          <a:tab algn="l" pos="9429840"/>
                          <a:tab algn="l" pos="9953640"/>
                          <a:tab algn="l" pos="1047744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VW Headline OT-Book"/>
                        </a:rPr>
                        <a:t>Propos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5244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2160"/>
                          <a:tab algn="l" pos="447840"/>
                          <a:tab algn="l" pos="809640"/>
                          <a:tab algn="l" pos="1343160"/>
                          <a:tab algn="l" pos="1571760"/>
                          <a:tab algn="l" pos="2095560"/>
                          <a:tab algn="l" pos="2619360"/>
                          <a:tab algn="l" pos="3143160"/>
                          <a:tab algn="l" pos="3666960"/>
                          <a:tab algn="l" pos="4191120"/>
                          <a:tab algn="l" pos="4714920"/>
                          <a:tab algn="l" pos="5238720"/>
                          <a:tab algn="l" pos="5762520"/>
                          <a:tab algn="l" pos="6286680"/>
                          <a:tab algn="l" pos="6810480"/>
                          <a:tab algn="l" pos="7334280"/>
                          <a:tab algn="l" pos="7858080"/>
                          <a:tab algn="l" pos="8381880"/>
                          <a:tab algn="l" pos="8906040"/>
                          <a:tab algn="l" pos="9429840"/>
                          <a:tab algn="l" pos="9953640"/>
                          <a:tab algn="l" pos="1047744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W Headline OT-Book"/>
                        </a:rPr>
                        <a:t>Appendix: RCB Compens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539640" y="4365720"/>
          <a:ext cx="7848720" cy="2127240"/>
        </p:xfrm>
        <a:graphic>
          <a:graphicData uri="http://schemas.openxmlformats.org/drawingml/2006/table">
            <a:tbl>
              <a:tblPr/>
              <a:tblGrid>
                <a:gridCol w="576360"/>
                <a:gridCol w="1295280"/>
                <a:gridCol w="649440"/>
                <a:gridCol w="1295280"/>
                <a:gridCol w="1297080"/>
                <a:gridCol w="1368360"/>
                <a:gridCol w="1366920"/>
              </a:tblGrid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 swit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ge tes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lutants (including AP/PN/PM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2/Fuel Consump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 tes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 tes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 tes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 tes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ou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7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C HE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(incl. pure EV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OIL26</a:t>
                      </a:r>
                      <a:r>
                        <a:rPr b="0" lang="en-US" sz="900" spc="-1" strike="noStrike">
                          <a:solidFill>
                            <a:srgbClr val="fc300e"/>
                          </a:solidFill>
                          <a:latin typeface="Arial"/>
                        </a:rPr>
                        <a:t>/</a:t>
                      </a:r>
                      <a:r>
                        <a:rPr b="1" lang="en-US" sz="900" spc="-1" strike="noStrike">
                          <a:solidFill>
                            <a:srgbClr val="fc300e"/>
                          </a:solidFill>
                          <a:latin typeface="Arial"/>
                        </a:rPr>
                        <a:t>26bis/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b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c300e"/>
                          </a:solidFill>
                          <a:latin typeface="Arial"/>
                        </a:rPr>
                        <a:t>OIL No.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(no pure EV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ou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C HE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(incl. pure EV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OIL26</a:t>
                      </a:r>
                      <a:r>
                        <a:rPr b="0" lang="en-US" sz="900" spc="-1" strike="noStrike">
                          <a:solidFill>
                            <a:srgbClr val="fc300e"/>
                          </a:solidFill>
                          <a:latin typeface="Arial"/>
                        </a:rPr>
                        <a:t>/</a:t>
                      </a:r>
                      <a:r>
                        <a:rPr b="1" lang="en-US" sz="900" spc="-1" strike="noStrike">
                          <a:solidFill>
                            <a:srgbClr val="fc300e"/>
                          </a:solidFill>
                          <a:latin typeface="Arial"/>
                        </a:rPr>
                        <a:t>26bis/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b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c300e"/>
                          </a:solidFill>
                          <a:latin typeface="Arial"/>
                        </a:rPr>
                        <a:t>OIL No.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(no pure EV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ou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>
            <a:off x="4067280" y="4005360"/>
            <a:ext cx="1296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W Headline OT-Book"/>
              </a:rPr>
              <a:t>Dischar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79280" y="907920"/>
            <a:ext cx="4680000" cy="3382200"/>
            <a:chOff x="179280" y="907920"/>
            <a:chExt cx="4680000" cy="3382200"/>
          </a:xfrm>
        </p:grpSpPr>
        <p:sp>
          <p:nvSpPr>
            <p:cNvPr id="188" name=""/>
            <p:cNvSpPr/>
            <p:nvPr/>
          </p:nvSpPr>
          <p:spPr>
            <a:xfrm>
              <a:off x="900000" y="1699920"/>
              <a:ext cx="3887640" cy="1295640"/>
            </a:xfrm>
            <a:prstGeom prst="line">
              <a:avLst/>
            </a:prstGeom>
            <a:ln w="698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82560" y="1196640"/>
              <a:ext cx="0" cy="2664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26920" y="3787560"/>
              <a:ext cx="4032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6560" y="4005000"/>
              <a:ext cx="1008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VW Headline OT-Book"/>
                </a:rPr>
                <a:t>Char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6200000">
              <a:off x="-1263240" y="2350440"/>
              <a:ext cx="309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VW Headline OT-Book"/>
                </a:rPr>
                <a:t>CO2/Fuel consumption/(Emission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050920" y="198756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700360" y="1339560"/>
              <a:ext cx="0" cy="2448000"/>
            </a:xfrm>
            <a:prstGeom prst="line">
              <a:avLst/>
            </a:prstGeom>
            <a:ln w="28440">
              <a:solidFill>
                <a:srgbClr val="00cc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682560" y="2347920"/>
              <a:ext cx="1944720" cy="0"/>
            </a:xfrm>
            <a:prstGeom prst="line">
              <a:avLst/>
            </a:prstGeom>
            <a:ln w="28440">
              <a:solidFill>
                <a:srgbClr val="00cc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82920" y="3863880"/>
              <a:ext cx="504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VW Headline OT-Book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124000" y="4076640"/>
              <a:ext cx="129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VW Headline OT-Book"/>
                </a:rPr>
                <a:t>∆</a:t>
              </a:r>
              <a:r>
                <a:rPr b="1" lang="de-DE" sz="1400" spc="-1" strike="noStrike">
                  <a:solidFill>
                    <a:srgbClr val="000000"/>
                  </a:solidFill>
                  <a:latin typeface="VW Headline OT-Book"/>
                </a:rPr>
                <a:t>RCB  (Ah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916000" y="2347920"/>
              <a:ext cx="144720" cy="1443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564000" y="2563560"/>
              <a:ext cx="144360" cy="1447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066920" y="2708280"/>
              <a:ext cx="144720" cy="1443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5148360" y="980640"/>
            <a:ext cx="3024000" cy="1798200"/>
            <a:chOff x="5148360" y="980640"/>
            <a:chExt cx="3024000" cy="1798200"/>
          </a:xfrm>
        </p:grpSpPr>
        <p:sp>
          <p:nvSpPr>
            <p:cNvPr id="202" name=""/>
            <p:cNvSpPr/>
            <p:nvPr/>
          </p:nvSpPr>
          <p:spPr>
            <a:xfrm flipV="1">
              <a:off x="7956720" y="1340640"/>
              <a:ext cx="144360" cy="647640"/>
            </a:xfrm>
            <a:prstGeom prst="upArrow">
              <a:avLst>
                <a:gd name="adj1" fmla="val 50000"/>
                <a:gd name="adj2" fmla="val 11215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667640" y="1125360"/>
              <a:ext cx="144360" cy="432000"/>
            </a:xfrm>
            <a:prstGeom prst="upArrow">
              <a:avLst>
                <a:gd name="adj1" fmla="val 50000"/>
                <a:gd name="adj2" fmla="val 74813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508720" y="2205000"/>
              <a:ext cx="2592360" cy="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651640" y="1125360"/>
              <a:ext cx="1800000" cy="1011240"/>
            </a:xfrm>
            <a:custGeom>
              <a:avLst/>
              <a:gdLst/>
              <a:ahLst/>
              <a:rect l="l" t="t" r="r" b="b"/>
              <a:pathLst>
                <a:path w="852" h="455">
                  <a:moveTo>
                    <a:pt x="0" y="211"/>
                  </a:moveTo>
                  <a:cubicBezTo>
                    <a:pt x="19" y="153"/>
                    <a:pt x="17" y="221"/>
                    <a:pt x="24" y="244"/>
                  </a:cubicBezTo>
                  <a:cubicBezTo>
                    <a:pt x="30" y="236"/>
                    <a:pt x="31" y="221"/>
                    <a:pt x="41" y="219"/>
                  </a:cubicBezTo>
                  <a:cubicBezTo>
                    <a:pt x="51" y="217"/>
                    <a:pt x="60" y="227"/>
                    <a:pt x="65" y="236"/>
                  </a:cubicBezTo>
                  <a:cubicBezTo>
                    <a:pt x="79" y="260"/>
                    <a:pt x="80" y="305"/>
                    <a:pt x="89" y="333"/>
                  </a:cubicBezTo>
                  <a:cubicBezTo>
                    <a:pt x="117" y="315"/>
                    <a:pt x="136" y="304"/>
                    <a:pt x="154" y="276"/>
                  </a:cubicBezTo>
                  <a:cubicBezTo>
                    <a:pt x="157" y="290"/>
                    <a:pt x="159" y="303"/>
                    <a:pt x="162" y="317"/>
                  </a:cubicBezTo>
                  <a:cubicBezTo>
                    <a:pt x="164" y="328"/>
                    <a:pt x="161" y="343"/>
                    <a:pt x="170" y="349"/>
                  </a:cubicBezTo>
                  <a:cubicBezTo>
                    <a:pt x="177" y="353"/>
                    <a:pt x="181" y="338"/>
                    <a:pt x="187" y="333"/>
                  </a:cubicBezTo>
                  <a:cubicBezTo>
                    <a:pt x="206" y="361"/>
                    <a:pt x="219" y="389"/>
                    <a:pt x="235" y="341"/>
                  </a:cubicBezTo>
                  <a:cubicBezTo>
                    <a:pt x="243" y="344"/>
                    <a:pt x="255" y="342"/>
                    <a:pt x="260" y="349"/>
                  </a:cubicBezTo>
                  <a:cubicBezTo>
                    <a:pt x="268" y="361"/>
                    <a:pt x="264" y="377"/>
                    <a:pt x="268" y="390"/>
                  </a:cubicBezTo>
                  <a:cubicBezTo>
                    <a:pt x="282" y="440"/>
                    <a:pt x="275" y="428"/>
                    <a:pt x="300" y="455"/>
                  </a:cubicBezTo>
                  <a:cubicBezTo>
                    <a:pt x="331" y="424"/>
                    <a:pt x="315" y="402"/>
                    <a:pt x="357" y="430"/>
                  </a:cubicBezTo>
                  <a:cubicBezTo>
                    <a:pt x="386" y="420"/>
                    <a:pt x="430" y="373"/>
                    <a:pt x="430" y="373"/>
                  </a:cubicBezTo>
                  <a:cubicBezTo>
                    <a:pt x="447" y="322"/>
                    <a:pt x="424" y="365"/>
                    <a:pt x="463" y="365"/>
                  </a:cubicBezTo>
                  <a:cubicBezTo>
                    <a:pt x="473" y="365"/>
                    <a:pt x="479" y="354"/>
                    <a:pt x="487" y="349"/>
                  </a:cubicBezTo>
                  <a:cubicBezTo>
                    <a:pt x="504" y="324"/>
                    <a:pt x="514" y="297"/>
                    <a:pt x="536" y="276"/>
                  </a:cubicBezTo>
                  <a:cubicBezTo>
                    <a:pt x="566" y="367"/>
                    <a:pt x="541" y="321"/>
                    <a:pt x="560" y="292"/>
                  </a:cubicBezTo>
                  <a:cubicBezTo>
                    <a:pt x="565" y="284"/>
                    <a:pt x="576" y="281"/>
                    <a:pt x="584" y="276"/>
                  </a:cubicBezTo>
                  <a:cubicBezTo>
                    <a:pt x="603" y="237"/>
                    <a:pt x="610" y="223"/>
                    <a:pt x="649" y="203"/>
                  </a:cubicBezTo>
                  <a:cubicBezTo>
                    <a:pt x="665" y="178"/>
                    <a:pt x="673" y="154"/>
                    <a:pt x="690" y="130"/>
                  </a:cubicBezTo>
                  <a:cubicBezTo>
                    <a:pt x="693" y="119"/>
                    <a:pt x="688" y="103"/>
                    <a:pt x="698" y="98"/>
                  </a:cubicBezTo>
                  <a:cubicBezTo>
                    <a:pt x="706" y="94"/>
                    <a:pt x="698" y="125"/>
                    <a:pt x="706" y="122"/>
                  </a:cubicBezTo>
                  <a:cubicBezTo>
                    <a:pt x="717" y="118"/>
                    <a:pt x="716" y="100"/>
                    <a:pt x="722" y="89"/>
                  </a:cubicBezTo>
                  <a:cubicBezTo>
                    <a:pt x="736" y="65"/>
                    <a:pt x="737" y="66"/>
                    <a:pt x="755" y="49"/>
                  </a:cubicBezTo>
                  <a:cubicBezTo>
                    <a:pt x="758" y="41"/>
                    <a:pt x="755" y="29"/>
                    <a:pt x="763" y="25"/>
                  </a:cubicBezTo>
                  <a:cubicBezTo>
                    <a:pt x="771" y="21"/>
                    <a:pt x="779" y="35"/>
                    <a:pt x="787" y="33"/>
                  </a:cubicBezTo>
                  <a:cubicBezTo>
                    <a:pt x="822" y="26"/>
                    <a:pt x="806" y="0"/>
                    <a:pt x="852" y="0"/>
                  </a:cubicBezTo>
                </a:path>
              </a:pathLst>
            </a:custGeom>
            <a:noFill/>
            <a:ln w="316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24360" y="1557360"/>
              <a:ext cx="1943280" cy="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451640" y="1125360"/>
              <a:ext cx="287280" cy="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651640" y="1052640"/>
              <a:ext cx="1776240" cy="966600"/>
            </a:xfrm>
            <a:custGeom>
              <a:avLst/>
              <a:gdLst/>
              <a:ahLst/>
              <a:rect l="l" t="t" r="r" b="b"/>
              <a:pathLst>
                <a:path w="1119" h="609">
                  <a:moveTo>
                    <a:pt x="0" y="195"/>
                  </a:moveTo>
                  <a:cubicBezTo>
                    <a:pt x="37" y="183"/>
                    <a:pt x="46" y="156"/>
                    <a:pt x="73" y="130"/>
                  </a:cubicBezTo>
                  <a:cubicBezTo>
                    <a:pt x="81" y="135"/>
                    <a:pt x="88" y="148"/>
                    <a:pt x="97" y="146"/>
                  </a:cubicBezTo>
                  <a:cubicBezTo>
                    <a:pt x="105" y="144"/>
                    <a:pt x="100" y="129"/>
                    <a:pt x="105" y="122"/>
                  </a:cubicBezTo>
                  <a:cubicBezTo>
                    <a:pt x="117" y="107"/>
                    <a:pt x="146" y="81"/>
                    <a:pt x="146" y="81"/>
                  </a:cubicBezTo>
                  <a:cubicBezTo>
                    <a:pt x="200" y="99"/>
                    <a:pt x="208" y="43"/>
                    <a:pt x="259" y="24"/>
                  </a:cubicBezTo>
                  <a:cubicBezTo>
                    <a:pt x="292" y="59"/>
                    <a:pt x="291" y="31"/>
                    <a:pt x="324" y="16"/>
                  </a:cubicBezTo>
                  <a:cubicBezTo>
                    <a:pt x="340" y="9"/>
                    <a:pt x="373" y="0"/>
                    <a:pt x="373" y="0"/>
                  </a:cubicBezTo>
                  <a:cubicBezTo>
                    <a:pt x="382" y="18"/>
                    <a:pt x="393" y="37"/>
                    <a:pt x="397" y="57"/>
                  </a:cubicBezTo>
                  <a:cubicBezTo>
                    <a:pt x="401" y="73"/>
                    <a:pt x="392" y="96"/>
                    <a:pt x="405" y="106"/>
                  </a:cubicBezTo>
                  <a:cubicBezTo>
                    <a:pt x="422" y="119"/>
                    <a:pt x="448" y="111"/>
                    <a:pt x="470" y="114"/>
                  </a:cubicBezTo>
                  <a:cubicBezTo>
                    <a:pt x="487" y="166"/>
                    <a:pt x="469" y="208"/>
                    <a:pt x="527" y="227"/>
                  </a:cubicBezTo>
                  <a:cubicBezTo>
                    <a:pt x="539" y="265"/>
                    <a:pt x="536" y="319"/>
                    <a:pt x="576" y="341"/>
                  </a:cubicBezTo>
                  <a:cubicBezTo>
                    <a:pt x="593" y="351"/>
                    <a:pt x="614" y="351"/>
                    <a:pt x="632" y="357"/>
                  </a:cubicBezTo>
                  <a:cubicBezTo>
                    <a:pt x="651" y="413"/>
                    <a:pt x="626" y="344"/>
                    <a:pt x="657" y="414"/>
                  </a:cubicBezTo>
                  <a:cubicBezTo>
                    <a:pt x="660" y="422"/>
                    <a:pt x="658" y="433"/>
                    <a:pt x="665" y="438"/>
                  </a:cubicBezTo>
                  <a:cubicBezTo>
                    <a:pt x="674" y="445"/>
                    <a:pt x="686" y="443"/>
                    <a:pt x="697" y="446"/>
                  </a:cubicBezTo>
                  <a:cubicBezTo>
                    <a:pt x="721" y="471"/>
                    <a:pt x="715" y="482"/>
                    <a:pt x="746" y="503"/>
                  </a:cubicBezTo>
                  <a:cubicBezTo>
                    <a:pt x="754" y="498"/>
                    <a:pt x="763" y="481"/>
                    <a:pt x="770" y="487"/>
                  </a:cubicBezTo>
                  <a:cubicBezTo>
                    <a:pt x="783" y="498"/>
                    <a:pt x="787" y="536"/>
                    <a:pt x="787" y="536"/>
                  </a:cubicBezTo>
                  <a:cubicBezTo>
                    <a:pt x="807" y="528"/>
                    <a:pt x="821" y="518"/>
                    <a:pt x="843" y="536"/>
                  </a:cubicBezTo>
                  <a:cubicBezTo>
                    <a:pt x="877" y="564"/>
                    <a:pt x="823" y="557"/>
                    <a:pt x="868" y="576"/>
                  </a:cubicBezTo>
                  <a:cubicBezTo>
                    <a:pt x="881" y="581"/>
                    <a:pt x="895" y="581"/>
                    <a:pt x="908" y="584"/>
                  </a:cubicBezTo>
                  <a:cubicBezTo>
                    <a:pt x="913" y="592"/>
                    <a:pt x="914" y="609"/>
                    <a:pt x="924" y="609"/>
                  </a:cubicBezTo>
                  <a:cubicBezTo>
                    <a:pt x="933" y="609"/>
                    <a:pt x="927" y="591"/>
                    <a:pt x="933" y="584"/>
                  </a:cubicBezTo>
                  <a:cubicBezTo>
                    <a:pt x="939" y="577"/>
                    <a:pt x="949" y="573"/>
                    <a:pt x="957" y="568"/>
                  </a:cubicBezTo>
                  <a:cubicBezTo>
                    <a:pt x="1010" y="538"/>
                    <a:pt x="1054" y="479"/>
                    <a:pt x="1119" y="479"/>
                  </a:cubicBezTo>
                </a:path>
              </a:pathLst>
            </a:custGeom>
            <a:noFill/>
            <a:ln w="3168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651640" y="1341360"/>
              <a:ext cx="2520720" cy="0"/>
            </a:xfrm>
            <a:prstGeom prst="line">
              <a:avLst/>
            </a:prstGeom>
            <a:ln w="25560">
              <a:solidFill>
                <a:srgbClr val="99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093080" y="1989000"/>
              <a:ext cx="1079280" cy="0"/>
            </a:xfrm>
            <a:prstGeom prst="line">
              <a:avLst/>
            </a:prstGeom>
            <a:ln w="25560">
              <a:solidFill>
                <a:srgbClr val="99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35640" y="981000"/>
              <a:ext cx="0" cy="12956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16200000">
              <a:off x="4679640" y="1449360"/>
              <a:ext cx="115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RCB  (Ah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012000" y="2349360"/>
              <a:ext cx="129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VW Headline OT-Book"/>
                </a:rPr>
                <a:t>Cyc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51640" y="1268280"/>
              <a:ext cx="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451640" y="119700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364000" y="2276640"/>
              <a:ext cx="72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VW Headline OT-Book"/>
                </a:rPr>
                <a:t>Sta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236000" y="2276640"/>
              <a:ext cx="72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VW Headline OT-Book"/>
                </a:rPr>
                <a:t>E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508720" y="2565360"/>
              <a:ext cx="1944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VW Headline OT-Book"/>
                </a:rPr>
                <a:t>EU) ECE101 Annex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6659640" y="3357720"/>
            <a:ext cx="647640" cy="2156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6659640" y="3573360"/>
            <a:ext cx="647640" cy="2160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516720" y="335772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516720" y="3789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516720" y="357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867280" y="3429000"/>
            <a:ext cx="72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W Headline OT-Book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867280" y="2997360"/>
            <a:ext cx="3097440" cy="1152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7596360" y="3357360"/>
            <a:ext cx="0" cy="4316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740720" y="3284640"/>
            <a:ext cx="10080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W Headline OT-Book"/>
              </a:rPr>
              <a:t>±x%of fuel energ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940360" y="2852640"/>
            <a:ext cx="2952720" cy="2746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c300e"/>
                </a:solidFill>
                <a:latin typeface="Arial"/>
              </a:rPr>
              <a:t>OIL No.27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400" spc="-1" strike="noStrike">
                <a:solidFill>
                  <a:srgbClr val="000000"/>
                </a:solidFill>
                <a:latin typeface="VW Headline OT-Book"/>
              </a:rPr>
              <a:t>RCB correction crite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843280" y="5589720"/>
            <a:ext cx="2305080" cy="287280"/>
          </a:xfrm>
          <a:prstGeom prst="wedgeRectCallout">
            <a:avLst>
              <a:gd name="adj1" fmla="val 38703"/>
              <a:gd name="adj2" fmla="val -9806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CB Correction for Emiss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132000" y="907920"/>
            <a:ext cx="1800360" cy="1368720"/>
          </a:xfrm>
          <a:prstGeom prst="wedgeRoundRectCallout">
            <a:avLst>
              <a:gd name="adj1" fmla="val 58819"/>
              <a:gd name="adj2" fmla="val 1148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300e"/>
                </a:solidFill>
                <a:latin typeface="Arial"/>
              </a:rPr>
              <a:t>OIL No.25b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measu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.1) Voltage [V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.2) Current [Ah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.3)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1" name=""/>
          <p:cNvGraphicFramePr/>
          <p:nvPr/>
        </p:nvGraphicFramePr>
        <p:xfrm>
          <a:off x="250920" y="115920"/>
          <a:ext cx="8569080" cy="73512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382680">
                <a:tc>
                  <a:txBody>
                    <a:bodyPr lIns="54000" rIns="54000" tIns="54000" bIns="54000" anchor="ctr">
                      <a:noAutofit/>
                    </a:bodyPr>
                    <a:p>
                      <a:pPr marL="361800" indent="-3618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361800"/>
                          <a:tab algn="l" pos="447840"/>
                          <a:tab algn="l" pos="809640"/>
                          <a:tab algn="l" pos="1047600"/>
                          <a:tab algn="l" pos="1571760"/>
                          <a:tab algn="l" pos="2095560"/>
                          <a:tab algn="l" pos="2619360"/>
                          <a:tab algn="l" pos="3143160"/>
                          <a:tab algn="l" pos="3666960"/>
                          <a:tab algn="l" pos="4191120"/>
                          <a:tab algn="l" pos="4714920"/>
                          <a:tab algn="l" pos="5238720"/>
                          <a:tab algn="l" pos="5762520"/>
                          <a:tab algn="l" pos="6286680"/>
                          <a:tab algn="l" pos="6810480"/>
                          <a:tab algn="l" pos="7334280"/>
                          <a:tab algn="l" pos="7858080"/>
                          <a:tab algn="l" pos="8381880"/>
                          <a:tab algn="l" pos="8906040"/>
                          <a:tab algn="l" pos="9429840"/>
                          <a:tab algn="l" pos="9953640"/>
                          <a:tab algn="l" pos="1047744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VW Headline OT-Book"/>
                        </a:rPr>
                        <a:t>Propos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5244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2160"/>
                          <a:tab algn="l" pos="447840"/>
                          <a:tab algn="l" pos="809640"/>
                          <a:tab algn="l" pos="1343160"/>
                          <a:tab algn="l" pos="1571760"/>
                          <a:tab algn="l" pos="2095560"/>
                          <a:tab algn="l" pos="2619360"/>
                          <a:tab algn="l" pos="3143160"/>
                          <a:tab algn="l" pos="3666960"/>
                          <a:tab algn="l" pos="4191120"/>
                          <a:tab algn="l" pos="4714920"/>
                          <a:tab algn="l" pos="5238720"/>
                          <a:tab algn="l" pos="5762520"/>
                          <a:tab algn="l" pos="6286680"/>
                          <a:tab algn="l" pos="6810480"/>
                          <a:tab algn="l" pos="7334280"/>
                          <a:tab algn="l" pos="7858080"/>
                          <a:tab algn="l" pos="8381880"/>
                          <a:tab algn="l" pos="8906040"/>
                          <a:tab algn="l" pos="9429840"/>
                          <a:tab algn="l" pos="9953640"/>
                          <a:tab algn="l" pos="1047744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W Headline OT-Book"/>
                        </a:rPr>
                        <a:t>Step 3 Charge Sustaining Mode (bi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232" name=""/>
          <p:cNvSpPr/>
          <p:nvPr/>
        </p:nvSpPr>
        <p:spPr>
          <a:xfrm flipV="1">
            <a:off x="5867280" y="1341360"/>
            <a:ext cx="289080" cy="7207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156360" y="1268280"/>
            <a:ext cx="504720" cy="155880"/>
          </a:xfrm>
          <a:custGeom>
            <a:avLst/>
            <a:gdLst/>
            <a:ahLst/>
            <a:rect l="l" t="t" r="r" b="b"/>
            <a:pathLst>
              <a:path w="318" h="98">
                <a:moveTo>
                  <a:pt x="0" y="45"/>
                </a:moveTo>
                <a:cubicBezTo>
                  <a:pt x="15" y="71"/>
                  <a:pt x="31" y="98"/>
                  <a:pt x="46" y="91"/>
                </a:cubicBezTo>
                <a:cubicBezTo>
                  <a:pt x="61" y="84"/>
                  <a:pt x="76" y="0"/>
                  <a:pt x="91" y="0"/>
                </a:cubicBezTo>
                <a:cubicBezTo>
                  <a:pt x="106" y="0"/>
                  <a:pt x="122" y="91"/>
                  <a:pt x="137" y="91"/>
                </a:cubicBezTo>
                <a:cubicBezTo>
                  <a:pt x="152" y="91"/>
                  <a:pt x="167" y="0"/>
                  <a:pt x="182" y="0"/>
                </a:cubicBezTo>
                <a:cubicBezTo>
                  <a:pt x="197" y="0"/>
                  <a:pt x="212" y="91"/>
                  <a:pt x="227" y="91"/>
                </a:cubicBezTo>
                <a:cubicBezTo>
                  <a:pt x="242" y="91"/>
                  <a:pt x="258" y="0"/>
                  <a:pt x="273" y="0"/>
                </a:cubicBezTo>
                <a:cubicBezTo>
                  <a:pt x="288" y="0"/>
                  <a:pt x="311" y="76"/>
                  <a:pt x="318" y="91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630840" y="1268280"/>
            <a:ext cx="505080" cy="155880"/>
          </a:xfrm>
          <a:custGeom>
            <a:avLst/>
            <a:gdLst/>
            <a:ahLst/>
            <a:rect l="l" t="t" r="r" b="b"/>
            <a:pathLst>
              <a:path w="318" h="98">
                <a:moveTo>
                  <a:pt x="0" y="45"/>
                </a:moveTo>
                <a:cubicBezTo>
                  <a:pt x="15" y="71"/>
                  <a:pt x="31" y="98"/>
                  <a:pt x="46" y="91"/>
                </a:cubicBezTo>
                <a:cubicBezTo>
                  <a:pt x="61" y="84"/>
                  <a:pt x="76" y="0"/>
                  <a:pt x="91" y="0"/>
                </a:cubicBezTo>
                <a:cubicBezTo>
                  <a:pt x="106" y="0"/>
                  <a:pt x="122" y="91"/>
                  <a:pt x="137" y="91"/>
                </a:cubicBezTo>
                <a:cubicBezTo>
                  <a:pt x="152" y="91"/>
                  <a:pt x="167" y="0"/>
                  <a:pt x="182" y="0"/>
                </a:cubicBezTo>
                <a:cubicBezTo>
                  <a:pt x="197" y="0"/>
                  <a:pt x="212" y="91"/>
                  <a:pt x="227" y="91"/>
                </a:cubicBezTo>
                <a:cubicBezTo>
                  <a:pt x="242" y="91"/>
                  <a:pt x="258" y="0"/>
                  <a:pt x="273" y="0"/>
                </a:cubicBezTo>
                <a:cubicBezTo>
                  <a:pt x="288" y="0"/>
                  <a:pt x="311" y="76"/>
                  <a:pt x="318" y="91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250920" y="2103480"/>
            <a:ext cx="7272360" cy="47545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6156360" y="1197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4360" y="1197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164360" y="1413000"/>
            <a:ext cx="720720" cy="712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885080" y="119700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V="1" rot="16200000">
            <a:off x="6588000" y="691200"/>
            <a:ext cx="144360" cy="865440"/>
          </a:xfrm>
          <a:custGeom>
            <a:avLst/>
            <a:gdLst>
              <a:gd name="textAreaLeft" fmla="*/ 0 w 144360"/>
              <a:gd name="textAreaRight" fmla="*/ 52200 w 144360"/>
              <a:gd name="textAreaTop" fmla="*/ 22320 h 865440"/>
              <a:gd name="textAreaBottom" fmla="*/ 843120 h 8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012000" y="765000"/>
            <a:ext cx="12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IL.10b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580000" y="1844640"/>
            <a:ext cx="1225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rge comple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804000" y="1844640"/>
            <a:ext cx="719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ug 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524720" y="1852560"/>
            <a:ext cx="719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 start (OIL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236000" y="1125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164360" y="836640"/>
            <a:ext cx="7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h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788000" y="907920"/>
            <a:ext cx="122544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 of charge cri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427640" y="260280"/>
            <a:ext cx="4716360" cy="2521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96360" y="2565360"/>
            <a:ext cx="21564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451640" y="3357720"/>
            <a:ext cx="15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idation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06:15:37Z</dcterms:created>
  <dc:creator>shinsa2</dc:creator>
  <dc:description/>
  <dc:language>en-US</dc:language>
  <cp:lastModifiedBy>Romain HUBERT</cp:lastModifiedBy>
  <dcterms:modified xsi:type="dcterms:W3CDTF">2011-06-14T09:33:33Z</dcterms:modified>
  <cp:revision>63</cp:revision>
  <dc:subject/>
  <dc:title>WLTP-E-Lab Sub Group 2nd Face to Face meeting</dc:title>
</cp:coreProperties>
</file>