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25A-0D0A-4F86-9B28-BAFB864B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049-AF28-498D-AFEA-AAC3031B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1F3-A13A-4398-A583-065CD5BC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E1D-1685-45D4-AE38-7A4F38D0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645-8D95-4DEC-B0A5-39CAE913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5DD-4F7B-44EA-B0FF-49E00B8D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2DE-35DE-4535-B21D-CC277AB4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6F8-2C81-4A09-AAA3-BC0C63C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3F3-3CBB-48CA-9B0B-AE118FC9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C37-B496-4A30-B48C-A98C10C1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66A-F2D4-4BC0-8346-4DC1D79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C1F-8BBB-4A50-A100-19F92072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926B-0991-4EB3-974C-017B87A4F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50920" y="115920"/>
          <a:ext cx="7992720" cy="734760"/>
        </p:xfrm>
        <a:graphic>
          <a:graphicData uri="http://schemas.openxmlformats.org/drawingml/2006/table">
            <a:tbl>
              <a:tblPr/>
              <a:tblGrid>
                <a:gridCol w="799272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0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4 Charge Deplet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 flipH="1">
            <a:off x="1312560" y="3803760"/>
            <a:ext cx="7435800" cy="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135320" y="2332080"/>
            <a:ext cx="7920" cy="19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1280" y="2789280"/>
            <a:ext cx="3240" cy="145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23080" y="1698480"/>
            <a:ext cx="1440" cy="25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3284640"/>
            <a:ext cx="1368360" cy="1443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22600" y="3905280"/>
            <a:ext cx="66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88040" y="3905280"/>
            <a:ext cx="39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35560" y="390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1560" y="1781280"/>
            <a:ext cx="271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683280" y="2440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7320" y="1550880"/>
            <a:ext cx="2911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Depleting Cycle Range RC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812000">
            <a:off x="3058920" y="2636640"/>
            <a:ext cx="2574720" cy="17460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1241280"/>
            <a:ext cx="0" cy="2979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4139600">
            <a:off x="3870720" y="2719800"/>
            <a:ext cx="149400" cy="79524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86280" y="2595600"/>
            <a:ext cx="0" cy="76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0040" y="239076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2225520"/>
            <a:ext cx="1654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baseline="-25000">
                <a:solidFill>
                  <a:srgbClr val="000000"/>
                </a:solidFill>
                <a:latin typeface="VW Headline OT-Book"/>
              </a:rPr>
              <a:t>All Electr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26040" y="2647800"/>
            <a:ext cx="125280" cy="117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2600" y="2525760"/>
            <a:ext cx="13176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23000" y="2487600"/>
            <a:ext cx="2292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baseline="-25000">
                <a:solidFill>
                  <a:srgbClr val="000000"/>
                </a:solidFill>
                <a:latin typeface="VW Headline OT-Book"/>
              </a:rPr>
              <a:t>Equivalent All Electr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76640" y="3368520"/>
            <a:ext cx="1285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4760" y="3319560"/>
            <a:ext cx="941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baseline="-25000">
                <a:solidFill>
                  <a:srgbClr val="000000"/>
                </a:solidFill>
                <a:latin typeface="VW Headline OT-Book"/>
              </a:rPr>
              <a:t>First start of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62640" y="277812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46800" y="19224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95720" y="2075040"/>
            <a:ext cx="224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9720" y="1866960"/>
            <a:ext cx="2289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Depleting Range RC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2924280"/>
            <a:ext cx="104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33880" y="141912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71680" y="1214280"/>
            <a:ext cx="843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Full 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372360" y="620640"/>
            <a:ext cx="1224000" cy="1224000"/>
            <a:chOff x="6372360" y="620640"/>
            <a:chExt cx="1224000" cy="1224000"/>
          </a:xfrm>
        </p:grpSpPr>
        <p:sp>
          <p:nvSpPr>
            <p:cNvPr id="282" name=""/>
            <p:cNvSpPr/>
            <p:nvPr/>
          </p:nvSpPr>
          <p:spPr>
            <a:xfrm>
              <a:off x="6372360" y="620640"/>
              <a:ext cx="1224000" cy="1224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3600" y="947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17080" y="155592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04000">
              <a:off x="6470640" y="1019160"/>
              <a:ext cx="888840" cy="419040"/>
            </a:xfrm>
            <a:custGeom>
              <a:avLst/>
              <a:gdLst/>
              <a:ahLst/>
              <a:rect l="l" t="t" r="r" b="b"/>
              <a:pathLst>
                <a:path w="534" h="375">
                  <a:moveTo>
                    <a:pt x="0" y="315"/>
                  </a:moveTo>
                  <a:cubicBezTo>
                    <a:pt x="25" y="175"/>
                    <a:pt x="50" y="36"/>
                    <a:pt x="72" y="27"/>
                  </a:cubicBezTo>
                  <a:cubicBezTo>
                    <a:pt x="94" y="18"/>
                    <a:pt x="116" y="259"/>
                    <a:pt x="132" y="261"/>
                  </a:cubicBezTo>
                  <a:cubicBezTo>
                    <a:pt x="148" y="263"/>
                    <a:pt x="137" y="23"/>
                    <a:pt x="168" y="39"/>
                  </a:cubicBezTo>
                  <a:cubicBezTo>
                    <a:pt x="199" y="55"/>
                    <a:pt x="281" y="351"/>
                    <a:pt x="318" y="357"/>
                  </a:cubicBezTo>
                  <a:cubicBezTo>
                    <a:pt x="355" y="363"/>
                    <a:pt x="375" y="75"/>
                    <a:pt x="390" y="75"/>
                  </a:cubicBezTo>
                  <a:cubicBezTo>
                    <a:pt x="405" y="75"/>
                    <a:pt x="391" y="363"/>
                    <a:pt x="408" y="357"/>
                  </a:cubicBezTo>
                  <a:cubicBezTo>
                    <a:pt x="425" y="351"/>
                    <a:pt x="475" y="78"/>
                    <a:pt x="492" y="39"/>
                  </a:cubicBezTo>
                  <a:cubicBezTo>
                    <a:pt x="509" y="0"/>
                    <a:pt x="503" y="67"/>
                    <a:pt x="510" y="123"/>
                  </a:cubicBezTo>
                  <a:cubicBezTo>
                    <a:pt x="517" y="179"/>
                    <a:pt x="530" y="335"/>
                    <a:pt x="534" y="375"/>
                  </a:cubicBezTo>
                </a:path>
              </a:pathLst>
            </a:custGeom>
            <a:noFill/>
            <a:ln w="69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45440" y="1154160"/>
              <a:ext cx="966960" cy="16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1947960" y="2045880"/>
            <a:ext cx="571320" cy="1314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2520" y="2063880"/>
            <a:ext cx="6732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13040" y="1187280"/>
            <a:ext cx="0" cy="30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940360" y="2060280"/>
            <a:ext cx="647640" cy="1368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0" y="2060640"/>
            <a:ext cx="108108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38920" y="3429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67640" y="2060640"/>
            <a:ext cx="0" cy="136836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79280" y="4292640"/>
          <a:ext cx="7488360" cy="2512800"/>
        </p:xfrm>
        <a:graphic>
          <a:graphicData uri="http://schemas.openxmlformats.org/drawingml/2006/table">
            <a:tbl>
              <a:tblPr/>
              <a:tblGrid>
                <a:gridCol w="792360"/>
                <a:gridCol w="936360"/>
                <a:gridCol w="1295640"/>
                <a:gridCol w="2736720"/>
                <a:gridCol w="172728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after CS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depleting test/EV rang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No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ion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 termination Condi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op Condition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 OILNo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fer to ste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reak off criteria: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5&amp; 25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eleration condition;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13bis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AER determina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 flipV="1">
            <a:off x="7667640" y="342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508360" y="1557360"/>
            <a:ext cx="9349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740720" y="2565360"/>
            <a:ext cx="306360" cy="2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5: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50920" y="4292640"/>
          <a:ext cx="8748720" cy="2235240"/>
        </p:xfrm>
        <a:graphic>
          <a:graphicData uri="http://schemas.openxmlformats.org/drawingml/2006/table">
            <a:tbl>
              <a:tblPr/>
              <a:tblGrid>
                <a:gridCol w="576000"/>
                <a:gridCol w="720720"/>
                <a:gridCol w="756000"/>
                <a:gridCol w="863280"/>
                <a:gridCol w="684360"/>
                <a:gridCol w="520560"/>
                <a:gridCol w="644760"/>
                <a:gridCol w="644400"/>
                <a:gridCol w="644400"/>
                <a:gridCol w="644760"/>
                <a:gridCol w="681120"/>
                <a:gridCol w="647640"/>
                <a:gridCol w="360360"/>
                <a:gridCol w="360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Ener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B(D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ege Du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327600" y="119700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/Fuel Consum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Energy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06960" y="90792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etailed calculation formula is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fter completion of WL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Utility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468360" y="4292640"/>
          <a:ext cx="8136000" cy="189864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53276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Fa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. No.1</a:t>
                      </a:r>
                      <a:r>
                        <a:rPr b="0" lang="zh-CN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method is acceptable. But to get the traffic data of all country is too difficul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issue what should be discussed in DTP meetin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971640" y="1052640"/>
            <a:ext cx="0" cy="28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16000" y="3716280"/>
            <a:ext cx="47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042920" y="1268280"/>
            <a:ext cx="4681440" cy="2376360"/>
            <a:chOff x="1042920" y="1268280"/>
            <a:chExt cx="4681440" cy="2376360"/>
          </a:xfrm>
        </p:grpSpPr>
        <p:sp>
          <p:nvSpPr>
            <p:cNvPr id="307" name=""/>
            <p:cNvSpPr/>
            <p:nvPr/>
          </p:nvSpPr>
          <p:spPr>
            <a:xfrm>
              <a:off x="1042920" y="1483920"/>
              <a:ext cx="4680000" cy="2135160"/>
            </a:xfrm>
            <a:custGeom>
              <a:avLst/>
              <a:gdLst/>
              <a:ahLst/>
              <a:rect l="l" t="t" r="r" b="b"/>
              <a:pathLst>
                <a:path w="2948" h="1345">
                  <a:moveTo>
                    <a:pt x="0" y="1345"/>
                  </a:moveTo>
                  <a:cubicBezTo>
                    <a:pt x="56" y="1167"/>
                    <a:pt x="113" y="990"/>
                    <a:pt x="272" y="846"/>
                  </a:cubicBezTo>
                  <a:cubicBezTo>
                    <a:pt x="431" y="702"/>
                    <a:pt x="560" y="611"/>
                    <a:pt x="953" y="483"/>
                  </a:cubicBezTo>
                  <a:cubicBezTo>
                    <a:pt x="1346" y="355"/>
                    <a:pt x="2314" y="150"/>
                    <a:pt x="2631" y="75"/>
                  </a:cubicBezTo>
                  <a:cubicBezTo>
                    <a:pt x="2948" y="0"/>
                    <a:pt x="2903" y="15"/>
                    <a:pt x="2858" y="3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42920" y="1268280"/>
              <a:ext cx="4608360" cy="2376360"/>
            </a:xfrm>
            <a:custGeom>
              <a:avLst/>
              <a:gdLst/>
              <a:ahLst/>
              <a:rect l="l" t="t" r="r" b="b"/>
              <a:pathLst>
                <a:path w="2903" h="1497">
                  <a:moveTo>
                    <a:pt x="0" y="1497"/>
                  </a:moveTo>
                  <a:cubicBezTo>
                    <a:pt x="95" y="1342"/>
                    <a:pt x="190" y="1187"/>
                    <a:pt x="318" y="1043"/>
                  </a:cubicBezTo>
                  <a:cubicBezTo>
                    <a:pt x="446" y="899"/>
                    <a:pt x="597" y="748"/>
                    <a:pt x="771" y="635"/>
                  </a:cubicBezTo>
                  <a:cubicBezTo>
                    <a:pt x="945" y="522"/>
                    <a:pt x="1142" y="438"/>
                    <a:pt x="1361" y="363"/>
                  </a:cubicBezTo>
                  <a:cubicBezTo>
                    <a:pt x="1580" y="288"/>
                    <a:pt x="1830" y="242"/>
                    <a:pt x="2087" y="182"/>
                  </a:cubicBezTo>
                  <a:cubicBezTo>
                    <a:pt x="2344" y="122"/>
                    <a:pt x="2623" y="61"/>
                    <a:pt x="290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2060280"/>
              <a:ext cx="4681440" cy="1584360"/>
            </a:xfrm>
            <a:custGeom>
              <a:avLst/>
              <a:gdLst/>
              <a:ahLst/>
              <a:rect l="l" t="t" r="r" b="b"/>
              <a:pathLst>
                <a:path w="2949" h="998">
                  <a:moveTo>
                    <a:pt x="0" y="998"/>
                  </a:moveTo>
                  <a:cubicBezTo>
                    <a:pt x="114" y="869"/>
                    <a:pt x="228" y="741"/>
                    <a:pt x="409" y="635"/>
                  </a:cubicBezTo>
                  <a:cubicBezTo>
                    <a:pt x="590" y="529"/>
                    <a:pt x="832" y="439"/>
                    <a:pt x="1089" y="363"/>
                  </a:cubicBezTo>
                  <a:cubicBezTo>
                    <a:pt x="1346" y="287"/>
                    <a:pt x="1641" y="243"/>
                    <a:pt x="1951" y="182"/>
                  </a:cubicBezTo>
                  <a:cubicBezTo>
                    <a:pt x="2261" y="121"/>
                    <a:pt x="2605" y="60"/>
                    <a:pt x="2949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97164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3640" y="2565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3933720"/>
            <a:ext cx="21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OVC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range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-284760" y="2525040"/>
            <a:ext cx="146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Utilit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76360" y="378936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922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98100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115884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J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1989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51640" y="1413000"/>
            <a:ext cx="50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(E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2492280"/>
            <a:ext cx="3095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:   SAE J1711 with US data JPN: SAE J1711 with JPN dat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U: CS weight is 25km (fix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932360" y="836640"/>
                <a:ext cx="3887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788000" y="328464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flipH="1">
            <a:off x="6732720" y="2565360"/>
            <a:ext cx="72720" cy="9349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48360" y="2276640"/>
            <a:ext cx="21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300e"/>
                </a:solidFill>
                <a:latin typeface="Arial"/>
              </a:rPr>
              <a:t>OIL No.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WLTP UF  SAE 1711 with    Opt.1) based on reagional data     Opt.2) based on worldwid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ad map for gtr 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630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: phone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6381720"/>
            <a:ext cx="144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630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ace to Face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4465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895480" cy="1209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7854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5376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6308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open Issues will be discussed according to  E-Lab group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7420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5516640"/>
            <a:ext cx="2881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) Overview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gtr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27.1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GTR structure/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23-24.2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GTR structure/Definition/CD&amp;CS test /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E  Utility Fact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UF indicates the limited utility of a particular initia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perating mode-for PHEVs, the CD mode. An operating mode with a very long range, for example, will have a very high utility and, thus , a UF that approaches 1.0. The UF result is for a distance R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based upon a set in-use data collected of daily miles traveled per day of a large sample group. The UF is defined by using the assumptions that (1)the vehicle starts the day from a routinely achieved ,fully charged state and (2)the vehicle is charged to said state before everyday of personal travel. The UF weighting for given R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is applied to the CD results , and the term (1-UF) is applied the CS mod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7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1.4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CD&amp;CS test /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based on ACE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12.4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Zu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/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7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st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9.5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Open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1.6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/gtr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eting will be held on 5th of July at Sw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H="1">
            <a:off x="2337840" y="2276640"/>
            <a:ext cx="4103640" cy="1150920"/>
          </a:xfrm>
          <a:prstGeom prst="rtTriangle">
            <a:avLst/>
          </a:prstGeom>
          <a:solidFill>
            <a:srgbClr val="ffff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2560" y="4319640"/>
            <a:ext cx="1295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Time (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81240" y="907920"/>
            <a:ext cx="0" cy="346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7840" y="2813040"/>
            <a:ext cx="6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1: Vehicle Run-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rot="16200000">
            <a:off x="12240" y="2297160"/>
            <a:ext cx="259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Run-in mileage [k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65480" y="1268280"/>
            <a:ext cx="4176720" cy="2159280"/>
          </a:xfrm>
          <a:prstGeom prst="line">
            <a:avLst/>
          </a:prstGeom>
          <a:ln w="69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4200" y="2276640"/>
            <a:ext cx="11653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inimum mileage for EV </a:t>
            </a:r>
            <a:r>
              <a:rPr b="1" lang="en-GB" sz="1000" spc="-1" strike="noStrike" u="sng">
                <a:solidFill>
                  <a:srgbClr val="009900"/>
                </a:solidFill>
                <a:uFillTx/>
                <a:latin typeface="VW Headline OT-Book"/>
              </a:rPr>
              <a:t>OIL No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2200" y="1339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4920" y="2276640"/>
            <a:ext cx="431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8920" y="2924280"/>
            <a:ext cx="11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4560" y="1411200"/>
            <a:ext cx="8636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ax./min mileage for H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93480" y="2563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7840" y="1195560"/>
            <a:ext cx="10098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Battery/ICE operation ratio </a:t>
            </a:r>
            <a:r>
              <a:rPr b="1" lang="en-GB" sz="1000" spc="-1" strike="noStrike" u="sng">
                <a:solidFill>
                  <a:srgbClr val="fc300e"/>
                </a:solidFill>
                <a:uFillTx/>
                <a:latin typeface="VW Headline OT-Book"/>
              </a:rPr>
              <a:t>OIL No.6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4560" y="170028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3840" y="2924280"/>
            <a:ext cx="1008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3840" y="2203560"/>
            <a:ext cx="2376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78200" y="2494080"/>
            <a:ext cx="360000" cy="213840"/>
            <a:chOff x="1978200" y="2494080"/>
            <a:chExt cx="360000" cy="213840"/>
          </a:xfrm>
        </p:grpSpPr>
        <p:sp>
          <p:nvSpPr>
            <p:cNvPr id="67" name=""/>
            <p:cNvSpPr/>
            <p:nvPr/>
          </p:nvSpPr>
          <p:spPr>
            <a:xfrm>
              <a:off x="1978200" y="2494080"/>
              <a:ext cx="360000" cy="10728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78200" y="2601360"/>
              <a:ext cx="360000" cy="10656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474920" y="2060640"/>
            <a:ext cx="64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min ex.3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3840" y="1268280"/>
            <a:ext cx="4176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978200" y="1627200"/>
            <a:ext cx="360000" cy="213840"/>
            <a:chOff x="1978200" y="1627200"/>
            <a:chExt cx="360000" cy="213840"/>
          </a:xfrm>
        </p:grpSpPr>
        <p:sp>
          <p:nvSpPr>
            <p:cNvPr id="72" name=""/>
            <p:cNvSpPr/>
            <p:nvPr/>
          </p:nvSpPr>
          <p:spPr>
            <a:xfrm>
              <a:off x="1978200" y="1627200"/>
              <a:ext cx="360000" cy="10728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78200" y="1734480"/>
              <a:ext cx="360000" cy="10656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401840" y="105264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Max ex.1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521600">
            <a:off x="5793840" y="213156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636800">
            <a:off x="5938200" y="2491920"/>
            <a:ext cx="144360" cy="216000"/>
          </a:xfrm>
          <a:prstGeom prst="upArrow">
            <a:avLst>
              <a:gd name="adj1" fmla="val 50000"/>
              <a:gd name="adj2" fmla="val 374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5120" y="177156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265120" y="133992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5480" y="3427560"/>
            <a:ext cx="47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5480" y="4292640"/>
            <a:ext cx="47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5480" y="3932280"/>
            <a:ext cx="504720" cy="28728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0200" y="3787920"/>
            <a:ext cx="504720" cy="43164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4920" y="3645000"/>
            <a:ext cx="505080" cy="57456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78200" y="4076640"/>
            <a:ext cx="9367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6200" y="3716280"/>
            <a:ext cx="10796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riving schedule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 or durability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87280" y="4653000"/>
          <a:ext cx="7129440" cy="201780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4000"/>
                <a:gridCol w="1368360"/>
                <a:gridCol w="1327320"/>
                <a:gridCol w="14097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sched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in mileage mi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in mile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/ ICE operation rat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/ la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m </a:t>
                      </a:r>
                      <a:r>
                        <a:rPr b="1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 No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dur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</a:t>
                      </a:r>
                      <a:r>
                        <a:rPr b="1" lang="en-US" sz="9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No.6 b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dur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588000" y="2060640"/>
            <a:ext cx="2376720" cy="792000"/>
          </a:xfrm>
          <a:prstGeom prst="wedgeRectCallout">
            <a:avLst>
              <a:gd name="adj1" fmla="val -34972"/>
              <a:gd name="adj2" fmla="val -78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1)OEM recommended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2)Define the ratio of battery operation ratio (“CD run” rat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622840" y="3057480"/>
            <a:ext cx="792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1400" y="857160"/>
            <a:ext cx="0" cy="338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2: Road Load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 rot="16200000">
            <a:off x="-484560" y="1924200"/>
            <a:ext cx="237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Dyno/Vehicl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13240" y="3632040"/>
            <a:ext cx="432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01760" y="147312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yno. Warm-up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0480" y="2336760"/>
            <a:ext cx="863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373040" y="1905120"/>
            <a:ext cx="144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5760" y="2984400"/>
            <a:ext cx="561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317760" y="1833480"/>
            <a:ext cx="1223640" cy="1079280"/>
            <a:chOff x="3317760" y="1833480"/>
            <a:chExt cx="1223640" cy="1079280"/>
          </a:xfrm>
        </p:grpSpPr>
        <p:grpSp>
          <p:nvGrpSpPr>
            <p:cNvPr id="98" name=""/>
            <p:cNvGrpSpPr/>
            <p:nvPr/>
          </p:nvGrpSpPr>
          <p:grpSpPr>
            <a:xfrm>
              <a:off x="3317760" y="2101680"/>
              <a:ext cx="815760" cy="810360"/>
              <a:chOff x="3317760" y="2101680"/>
              <a:chExt cx="815760" cy="810360"/>
            </a:xfrm>
          </p:grpSpPr>
          <p:sp>
            <p:nvSpPr>
              <p:cNvPr id="99" name=""/>
              <p:cNvSpPr/>
              <p:nvPr/>
            </p:nvSpPr>
            <p:spPr>
              <a:xfrm>
                <a:off x="3317760" y="2372400"/>
                <a:ext cx="407880" cy="539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0" y="181"/>
                    </a:moveTo>
                    <a:cubicBezTo>
                      <a:pt x="64" y="90"/>
                      <a:pt x="129" y="0"/>
                      <a:pt x="182" y="0"/>
                    </a:cubicBezTo>
                    <a:cubicBezTo>
                      <a:pt x="235" y="0"/>
                      <a:pt x="295" y="151"/>
                      <a:pt x="318" y="181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25640" y="2101680"/>
                <a:ext cx="407880" cy="81036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0" y="181"/>
                    </a:moveTo>
                    <a:cubicBezTo>
                      <a:pt x="64" y="90"/>
                      <a:pt x="129" y="0"/>
                      <a:pt x="182" y="0"/>
                    </a:cubicBezTo>
                    <a:cubicBezTo>
                      <a:pt x="235" y="0"/>
                      <a:pt x="295" y="151"/>
                      <a:pt x="318" y="181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133520" y="1833480"/>
              <a:ext cx="407880" cy="1079280"/>
            </a:xfrm>
            <a:custGeom>
              <a:avLst/>
              <a:gdLst/>
              <a:ahLst/>
              <a:rect l="l" t="t" r="r" b="b"/>
              <a:pathLst>
                <a:path w="318" h="181">
                  <a:moveTo>
                    <a:pt x="0" y="181"/>
                  </a:moveTo>
                  <a:cubicBezTo>
                    <a:pt x="64" y="90"/>
                    <a:pt x="129" y="0"/>
                    <a:pt x="182" y="0"/>
                  </a:cubicBezTo>
                  <a:cubicBezTo>
                    <a:pt x="235" y="0"/>
                    <a:pt x="295" y="151"/>
                    <a:pt x="318" y="181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" name=""/>
          <p:cNvGraphicFramePr/>
          <p:nvPr/>
        </p:nvGraphicFramePr>
        <p:xfrm>
          <a:off x="324000" y="4581360"/>
          <a:ext cx="8334360" cy="1898640"/>
        </p:xfrm>
        <a:graphic>
          <a:graphicData uri="http://schemas.openxmlformats.org/drawingml/2006/table">
            <a:tbl>
              <a:tblPr/>
              <a:tblGrid>
                <a:gridCol w="502920"/>
                <a:gridCol w="1278000"/>
                <a:gridCol w="1152720"/>
                <a:gridCol w="1152360"/>
                <a:gridCol w="1224000"/>
                <a:gridCol w="1440000"/>
                <a:gridCol w="1584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o. warm-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et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warm-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 down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 load setting crite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. No.3b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157400" y="40212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976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648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1484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648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7760" y="402120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82840" y="4021200"/>
            <a:ext cx="7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6480" y="40212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85760" y="2336400"/>
            <a:ext cx="144720" cy="64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93760" y="2336760"/>
            <a:ext cx="144720" cy="64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86480" y="1257120"/>
            <a:ext cx="144360" cy="165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30480" y="1257480"/>
            <a:ext cx="1429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73760" y="1257480"/>
            <a:ext cx="1368360" cy="1655640"/>
          </a:xfrm>
          <a:custGeom>
            <a:avLst/>
            <a:gdLst/>
            <a:ahLst/>
            <a:rect l="l" t="t" r="r" b="b"/>
            <a:pathLst>
              <a:path w="862" h="1043">
                <a:moveTo>
                  <a:pt x="0" y="0"/>
                </a:moveTo>
                <a:cubicBezTo>
                  <a:pt x="0" y="102"/>
                  <a:pt x="1" y="204"/>
                  <a:pt x="46" y="317"/>
                </a:cubicBezTo>
                <a:cubicBezTo>
                  <a:pt x="91" y="430"/>
                  <a:pt x="182" y="574"/>
                  <a:pt x="273" y="680"/>
                </a:cubicBezTo>
                <a:cubicBezTo>
                  <a:pt x="364" y="786"/>
                  <a:pt x="492" y="891"/>
                  <a:pt x="590" y="952"/>
                </a:cubicBezTo>
                <a:cubicBezTo>
                  <a:pt x="688" y="1013"/>
                  <a:pt x="775" y="1028"/>
                  <a:pt x="862" y="104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91200" y="276876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18480" y="82404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91200" y="1112760"/>
            <a:ext cx="1392480" cy="146376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62840" y="1184400"/>
            <a:ext cx="1392120" cy="146340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18480" y="1039680"/>
            <a:ext cx="1392120" cy="146376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91200" y="2913120"/>
            <a:ext cx="1513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Vehicle Speed (h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435000" y="803880"/>
            <a:ext cx="5745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F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4840" y="1905120"/>
            <a:ext cx="718920" cy="64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60" stAng="10800000" swAng="5400000"/>
                <a:lnTo>
                  <a:pt x="16164" y="4500"/>
                </a:lnTo>
                <a:lnTo>
                  <a:pt x="16164" y="0"/>
                </a:lnTo>
                <a:lnTo>
                  <a:pt x="21600" y="6079"/>
                </a:lnTo>
                <a:lnTo>
                  <a:pt x="16164" y="12158"/>
                </a:lnTo>
                <a:lnTo>
                  <a:pt x="16164" y="7658"/>
                </a:lnTo>
                <a:lnTo>
                  <a:pt x="12427" y="7658"/>
                </a:lnTo>
                <a:arcTo wR="9269" hR="4502" stAng="16200000" swAng="-5400000"/>
                <a:lnTo>
                  <a:pt x="3158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57400" y="3666960"/>
            <a:ext cx="33843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14840" y="3811680"/>
            <a:ext cx="208764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57400" y="3666960"/>
            <a:ext cx="5328720" cy="144360"/>
            <a:chOff x="1157400" y="3666960"/>
            <a:chExt cx="5328720" cy="144360"/>
          </a:xfrm>
        </p:grpSpPr>
        <p:sp>
          <p:nvSpPr>
            <p:cNvPr id="127" name=""/>
            <p:cNvSpPr/>
            <p:nvPr/>
          </p:nvSpPr>
          <p:spPr>
            <a:xfrm>
              <a:off x="1157400" y="3811320"/>
              <a:ext cx="34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14840" y="3666960"/>
              <a:ext cx="187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14840" y="3666960"/>
              <a:ext cx="0" cy="144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301760" y="408780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Dyno. Warm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8284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Vehicl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684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Vehicle Warm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9120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Road Load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16720" y="3645000"/>
            <a:ext cx="201600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oast down mode </a:t>
            </a:r>
            <a:r>
              <a:rPr b="1" lang="en-GB" sz="1000" spc="-1" strike="noStrike" u="sng">
                <a:solidFill>
                  <a:srgbClr val="fc300e"/>
                </a:solidFill>
                <a:uFillTx/>
                <a:latin typeface="VW Headline OT-Book"/>
              </a:rPr>
              <a:t>OIL No.3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6480" y="197640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62840" y="118440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Tolerance of R/L set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6120" y="161604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33760" y="96840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Vehicle Warm-up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22840" y="1471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12536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ax. speed of RLD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973760" y="1197000"/>
            <a:ext cx="3902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63560" y="6562800"/>
            <a:ext cx="43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) allow battery charging during vehicle warm-up to prevent empty batte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4440" y="3311640"/>
            <a:ext cx="213228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456000"/>
            <a:ext cx="34131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3276720"/>
            <a:ext cx="201600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yno. mode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3271680"/>
            <a:ext cx="432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44440" y="3311640"/>
            <a:ext cx="5299200" cy="150840"/>
            <a:chOff x="1144440" y="3311640"/>
            <a:chExt cx="5299200" cy="150840"/>
          </a:xfrm>
        </p:grpSpPr>
        <p:sp>
          <p:nvSpPr>
            <p:cNvPr id="148" name=""/>
            <p:cNvSpPr/>
            <p:nvPr/>
          </p:nvSpPr>
          <p:spPr>
            <a:xfrm>
              <a:off x="1144440" y="3452760"/>
              <a:ext cx="2132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6760" y="3311640"/>
              <a:ext cx="1406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51160" y="3324240"/>
              <a:ext cx="0" cy="11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18080" y="3316320"/>
              <a:ext cx="0" cy="11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94320" y="3462480"/>
              <a:ext cx="1849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659640" y="4005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 to consider Electrified vehicle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930320" y="969840"/>
            <a:ext cx="0" cy="223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898560"/>
            <a:ext cx="798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56720" y="1762200"/>
            <a:ext cx="306360" cy="24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395280" y="3562200"/>
          <a:ext cx="7489800" cy="2459160"/>
        </p:xfrm>
        <a:graphic>
          <a:graphicData uri="http://schemas.openxmlformats.org/drawingml/2006/table">
            <a:tbl>
              <a:tblPr/>
              <a:tblGrid>
                <a:gridCol w="743040"/>
                <a:gridCol w="769680"/>
                <a:gridCol w="1079640"/>
                <a:gridCol w="1230480"/>
                <a:gridCol w="1027080"/>
                <a:gridCol w="982440"/>
                <a:gridCol w="1657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 dis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e-cond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oak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sustaining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Charging 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sumptiontest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No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time: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dition: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end of charge :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10,10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charge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No.26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correction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; correct emission?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 rot="2877600">
            <a:off x="1623600" y="2010960"/>
            <a:ext cx="1695240" cy="1587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907640" y="3244320"/>
            <a:ext cx="597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1123920"/>
            <a:ext cx="180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2698920"/>
            <a:ext cx="1963800" cy="1634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1320" y="2021040"/>
            <a:ext cx="504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674800"/>
            <a:ext cx="1639800" cy="1652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2720" y="1857240"/>
            <a:ext cx="109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3049800">
            <a:off x="5425560" y="2071440"/>
            <a:ext cx="162000" cy="7174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2755800"/>
            <a:ext cx="100080" cy="10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2349360"/>
            <a:ext cx="1001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1206360"/>
            <a:ext cx="92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2349360"/>
            <a:ext cx="100836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1042920"/>
            <a:ext cx="158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789840" y="2251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5440" y="2265480"/>
            <a:ext cx="0" cy="9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68480" y="15001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227640" y="1206360"/>
            <a:ext cx="649440" cy="1557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77080" y="1206360"/>
            <a:ext cx="10206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27640" y="2755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5080" y="2755800"/>
            <a:ext cx="324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2101680"/>
            <a:ext cx="324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206360"/>
            <a:ext cx="0" cy="155124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916280"/>
            <a:ext cx="1224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ance of Watt-hour meter, Am-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300e"/>
                </a:solidFill>
                <a:latin typeface="Arial"/>
              </a:rPr>
              <a:t>OIL No.15,16,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12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101080" y="436572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RCB Compen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9640" y="4365720"/>
          <a:ext cx="7848720" cy="2127240"/>
        </p:xfrm>
        <a:graphic>
          <a:graphicData uri="http://schemas.openxmlformats.org/drawingml/2006/table">
            <a:tbl>
              <a:tblPr/>
              <a:tblGrid>
                <a:gridCol w="576360"/>
                <a:gridCol w="1295280"/>
                <a:gridCol w="649440"/>
                <a:gridCol w="1295280"/>
                <a:gridCol w="1297080"/>
                <a:gridCol w="1368360"/>
                <a:gridCol w="1366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 (including AP/PN/P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/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26bis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26bis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4067280" y="4005360"/>
            <a:ext cx="129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Dis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9280" y="907920"/>
            <a:ext cx="4680000" cy="3382200"/>
            <a:chOff x="179280" y="907920"/>
            <a:chExt cx="4680000" cy="3382200"/>
          </a:xfrm>
        </p:grpSpPr>
        <p:sp>
          <p:nvSpPr>
            <p:cNvPr id="188" name=""/>
            <p:cNvSpPr/>
            <p:nvPr/>
          </p:nvSpPr>
          <p:spPr>
            <a:xfrm>
              <a:off x="900000" y="1699920"/>
              <a:ext cx="3887640" cy="1295640"/>
            </a:xfrm>
            <a:prstGeom prst="line">
              <a:avLst/>
            </a:prstGeom>
            <a:ln w="69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560" y="1196640"/>
              <a:ext cx="0" cy="266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6920" y="3787560"/>
              <a:ext cx="403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6560" y="400500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har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-1263240" y="2350440"/>
              <a:ext cx="309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W Headline OT-Book"/>
                </a:rPr>
                <a:t>CO2/Fuel consumption/(Emiss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50920" y="19875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0360" y="1339560"/>
              <a:ext cx="0" cy="244800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82560" y="2347920"/>
              <a:ext cx="1944720" cy="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2920" y="3863880"/>
              <a:ext cx="50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4000" y="407664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16000" y="234792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4000" y="2563560"/>
              <a:ext cx="144360" cy="144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66920" y="270828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148360" y="980640"/>
            <a:ext cx="3024000" cy="1798200"/>
            <a:chOff x="5148360" y="980640"/>
            <a:chExt cx="3024000" cy="1798200"/>
          </a:xfrm>
        </p:grpSpPr>
        <p:sp>
          <p:nvSpPr>
            <p:cNvPr id="202" name=""/>
            <p:cNvSpPr/>
            <p:nvPr/>
          </p:nvSpPr>
          <p:spPr>
            <a:xfrm flipV="1">
              <a:off x="7956720" y="1340640"/>
              <a:ext cx="144360" cy="647640"/>
            </a:xfrm>
            <a:prstGeom prst="upArrow">
              <a:avLst>
                <a:gd name="adj1" fmla="val 50000"/>
                <a:gd name="adj2" fmla="val 11215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7640" y="1125360"/>
              <a:ext cx="144360" cy="432000"/>
            </a:xfrm>
            <a:prstGeom prst="upArrow">
              <a:avLst>
                <a:gd name="adj1" fmla="val 50000"/>
                <a:gd name="adj2" fmla="val 748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08720" y="2205000"/>
              <a:ext cx="259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1640" y="1125360"/>
              <a:ext cx="1800000" cy="1011240"/>
            </a:xfrm>
            <a:custGeom>
              <a:avLst/>
              <a:gdLst/>
              <a:ahLst/>
              <a:rect l="l" t="t" r="r" b="b"/>
              <a:pathLst>
                <a:path w="852" h="455">
                  <a:moveTo>
                    <a:pt x="0" y="211"/>
                  </a:moveTo>
                  <a:cubicBezTo>
                    <a:pt x="19" y="153"/>
                    <a:pt x="17" y="221"/>
                    <a:pt x="24" y="244"/>
                  </a:cubicBezTo>
                  <a:cubicBezTo>
                    <a:pt x="30" y="236"/>
                    <a:pt x="31" y="221"/>
                    <a:pt x="41" y="219"/>
                  </a:cubicBezTo>
                  <a:cubicBezTo>
                    <a:pt x="51" y="217"/>
                    <a:pt x="60" y="227"/>
                    <a:pt x="65" y="236"/>
                  </a:cubicBezTo>
                  <a:cubicBezTo>
                    <a:pt x="79" y="260"/>
                    <a:pt x="80" y="305"/>
                    <a:pt x="89" y="333"/>
                  </a:cubicBezTo>
                  <a:cubicBezTo>
                    <a:pt x="117" y="315"/>
                    <a:pt x="136" y="304"/>
                    <a:pt x="154" y="276"/>
                  </a:cubicBezTo>
                  <a:cubicBezTo>
                    <a:pt x="157" y="290"/>
                    <a:pt x="159" y="303"/>
                    <a:pt x="162" y="317"/>
                  </a:cubicBezTo>
                  <a:cubicBezTo>
                    <a:pt x="164" y="328"/>
                    <a:pt x="161" y="343"/>
                    <a:pt x="170" y="349"/>
                  </a:cubicBezTo>
                  <a:cubicBezTo>
                    <a:pt x="177" y="353"/>
                    <a:pt x="181" y="338"/>
                    <a:pt x="187" y="333"/>
                  </a:cubicBezTo>
                  <a:cubicBezTo>
                    <a:pt x="206" y="361"/>
                    <a:pt x="219" y="389"/>
                    <a:pt x="235" y="341"/>
                  </a:cubicBezTo>
                  <a:cubicBezTo>
                    <a:pt x="243" y="344"/>
                    <a:pt x="255" y="342"/>
                    <a:pt x="260" y="349"/>
                  </a:cubicBezTo>
                  <a:cubicBezTo>
                    <a:pt x="268" y="361"/>
                    <a:pt x="264" y="377"/>
                    <a:pt x="268" y="390"/>
                  </a:cubicBezTo>
                  <a:cubicBezTo>
                    <a:pt x="282" y="440"/>
                    <a:pt x="275" y="428"/>
                    <a:pt x="300" y="455"/>
                  </a:cubicBezTo>
                  <a:cubicBezTo>
                    <a:pt x="331" y="424"/>
                    <a:pt x="315" y="402"/>
                    <a:pt x="357" y="430"/>
                  </a:cubicBezTo>
                  <a:cubicBezTo>
                    <a:pt x="386" y="420"/>
                    <a:pt x="430" y="373"/>
                    <a:pt x="430" y="373"/>
                  </a:cubicBezTo>
                  <a:cubicBezTo>
                    <a:pt x="447" y="322"/>
                    <a:pt x="424" y="365"/>
                    <a:pt x="463" y="365"/>
                  </a:cubicBezTo>
                  <a:cubicBezTo>
                    <a:pt x="473" y="365"/>
                    <a:pt x="479" y="354"/>
                    <a:pt x="487" y="349"/>
                  </a:cubicBezTo>
                  <a:cubicBezTo>
                    <a:pt x="504" y="324"/>
                    <a:pt x="514" y="297"/>
                    <a:pt x="536" y="276"/>
                  </a:cubicBezTo>
                  <a:cubicBezTo>
                    <a:pt x="566" y="367"/>
                    <a:pt x="541" y="321"/>
                    <a:pt x="560" y="292"/>
                  </a:cubicBezTo>
                  <a:cubicBezTo>
                    <a:pt x="565" y="284"/>
                    <a:pt x="576" y="281"/>
                    <a:pt x="584" y="276"/>
                  </a:cubicBezTo>
                  <a:cubicBezTo>
                    <a:pt x="603" y="237"/>
                    <a:pt x="610" y="223"/>
                    <a:pt x="649" y="203"/>
                  </a:cubicBezTo>
                  <a:cubicBezTo>
                    <a:pt x="665" y="178"/>
                    <a:pt x="673" y="154"/>
                    <a:pt x="690" y="130"/>
                  </a:cubicBezTo>
                  <a:cubicBezTo>
                    <a:pt x="693" y="119"/>
                    <a:pt x="688" y="103"/>
                    <a:pt x="698" y="98"/>
                  </a:cubicBezTo>
                  <a:cubicBezTo>
                    <a:pt x="706" y="94"/>
                    <a:pt x="698" y="125"/>
                    <a:pt x="706" y="122"/>
                  </a:cubicBezTo>
                  <a:cubicBezTo>
                    <a:pt x="717" y="118"/>
                    <a:pt x="716" y="100"/>
                    <a:pt x="722" y="89"/>
                  </a:cubicBezTo>
                  <a:cubicBezTo>
                    <a:pt x="736" y="65"/>
                    <a:pt x="737" y="66"/>
                    <a:pt x="755" y="49"/>
                  </a:cubicBezTo>
                  <a:cubicBezTo>
                    <a:pt x="758" y="41"/>
                    <a:pt x="755" y="29"/>
                    <a:pt x="763" y="25"/>
                  </a:cubicBezTo>
                  <a:cubicBezTo>
                    <a:pt x="771" y="21"/>
                    <a:pt x="779" y="35"/>
                    <a:pt x="787" y="33"/>
                  </a:cubicBezTo>
                  <a:cubicBezTo>
                    <a:pt x="822" y="26"/>
                    <a:pt x="806" y="0"/>
                    <a:pt x="85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24360" y="1557360"/>
              <a:ext cx="1943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51640" y="112536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51640" y="1052640"/>
              <a:ext cx="1776240" cy="966600"/>
            </a:xfrm>
            <a:custGeom>
              <a:avLst/>
              <a:gdLst/>
              <a:ahLst/>
              <a:rect l="l" t="t" r="r" b="b"/>
              <a:pathLst>
                <a:path w="1119" h="609">
                  <a:moveTo>
                    <a:pt x="0" y="195"/>
                  </a:moveTo>
                  <a:cubicBezTo>
                    <a:pt x="37" y="183"/>
                    <a:pt x="46" y="156"/>
                    <a:pt x="73" y="130"/>
                  </a:cubicBezTo>
                  <a:cubicBezTo>
                    <a:pt x="81" y="135"/>
                    <a:pt x="88" y="148"/>
                    <a:pt x="97" y="146"/>
                  </a:cubicBezTo>
                  <a:cubicBezTo>
                    <a:pt x="105" y="144"/>
                    <a:pt x="100" y="129"/>
                    <a:pt x="105" y="122"/>
                  </a:cubicBezTo>
                  <a:cubicBezTo>
                    <a:pt x="117" y="107"/>
                    <a:pt x="146" y="81"/>
                    <a:pt x="146" y="81"/>
                  </a:cubicBezTo>
                  <a:cubicBezTo>
                    <a:pt x="200" y="99"/>
                    <a:pt x="208" y="43"/>
                    <a:pt x="259" y="24"/>
                  </a:cubicBezTo>
                  <a:cubicBezTo>
                    <a:pt x="292" y="59"/>
                    <a:pt x="291" y="31"/>
                    <a:pt x="324" y="16"/>
                  </a:cubicBezTo>
                  <a:cubicBezTo>
                    <a:pt x="340" y="9"/>
                    <a:pt x="373" y="0"/>
                    <a:pt x="373" y="0"/>
                  </a:cubicBezTo>
                  <a:cubicBezTo>
                    <a:pt x="382" y="18"/>
                    <a:pt x="393" y="37"/>
                    <a:pt x="397" y="57"/>
                  </a:cubicBezTo>
                  <a:cubicBezTo>
                    <a:pt x="401" y="73"/>
                    <a:pt x="392" y="96"/>
                    <a:pt x="405" y="106"/>
                  </a:cubicBezTo>
                  <a:cubicBezTo>
                    <a:pt x="422" y="119"/>
                    <a:pt x="448" y="111"/>
                    <a:pt x="470" y="114"/>
                  </a:cubicBezTo>
                  <a:cubicBezTo>
                    <a:pt x="487" y="166"/>
                    <a:pt x="469" y="208"/>
                    <a:pt x="527" y="227"/>
                  </a:cubicBezTo>
                  <a:cubicBezTo>
                    <a:pt x="539" y="265"/>
                    <a:pt x="536" y="319"/>
                    <a:pt x="576" y="341"/>
                  </a:cubicBezTo>
                  <a:cubicBezTo>
                    <a:pt x="593" y="351"/>
                    <a:pt x="614" y="351"/>
                    <a:pt x="632" y="357"/>
                  </a:cubicBezTo>
                  <a:cubicBezTo>
                    <a:pt x="651" y="413"/>
                    <a:pt x="626" y="344"/>
                    <a:pt x="657" y="414"/>
                  </a:cubicBezTo>
                  <a:cubicBezTo>
                    <a:pt x="660" y="422"/>
                    <a:pt x="658" y="433"/>
                    <a:pt x="665" y="438"/>
                  </a:cubicBezTo>
                  <a:cubicBezTo>
                    <a:pt x="674" y="445"/>
                    <a:pt x="686" y="443"/>
                    <a:pt x="697" y="446"/>
                  </a:cubicBezTo>
                  <a:cubicBezTo>
                    <a:pt x="721" y="471"/>
                    <a:pt x="715" y="482"/>
                    <a:pt x="746" y="503"/>
                  </a:cubicBezTo>
                  <a:cubicBezTo>
                    <a:pt x="754" y="498"/>
                    <a:pt x="763" y="481"/>
                    <a:pt x="770" y="487"/>
                  </a:cubicBezTo>
                  <a:cubicBezTo>
                    <a:pt x="783" y="498"/>
                    <a:pt x="787" y="536"/>
                    <a:pt x="787" y="536"/>
                  </a:cubicBezTo>
                  <a:cubicBezTo>
                    <a:pt x="807" y="528"/>
                    <a:pt x="821" y="518"/>
                    <a:pt x="843" y="536"/>
                  </a:cubicBezTo>
                  <a:cubicBezTo>
                    <a:pt x="877" y="564"/>
                    <a:pt x="823" y="557"/>
                    <a:pt x="868" y="576"/>
                  </a:cubicBezTo>
                  <a:cubicBezTo>
                    <a:pt x="881" y="581"/>
                    <a:pt x="895" y="581"/>
                    <a:pt x="908" y="584"/>
                  </a:cubicBezTo>
                  <a:cubicBezTo>
                    <a:pt x="913" y="592"/>
                    <a:pt x="914" y="609"/>
                    <a:pt x="924" y="609"/>
                  </a:cubicBezTo>
                  <a:cubicBezTo>
                    <a:pt x="933" y="609"/>
                    <a:pt x="927" y="591"/>
                    <a:pt x="933" y="584"/>
                  </a:cubicBezTo>
                  <a:cubicBezTo>
                    <a:pt x="939" y="577"/>
                    <a:pt x="949" y="573"/>
                    <a:pt x="957" y="568"/>
                  </a:cubicBezTo>
                  <a:cubicBezTo>
                    <a:pt x="1010" y="538"/>
                    <a:pt x="1054" y="479"/>
                    <a:pt x="1119" y="479"/>
                  </a:cubicBezTo>
                </a:path>
              </a:pathLst>
            </a:custGeom>
            <a:noFill/>
            <a:ln w="316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51640" y="1341360"/>
              <a:ext cx="252072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93080" y="1989000"/>
              <a:ext cx="107928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35640" y="981000"/>
              <a:ext cx="0" cy="1295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679640" y="1449360"/>
              <a:ext cx="115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12000" y="234936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51640" y="12682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1640" y="119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64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6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08720" y="2565360"/>
              <a:ext cx="19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U) ECE101 Anne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59640" y="3357720"/>
            <a:ext cx="64764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659640" y="3573360"/>
            <a:ext cx="647640" cy="21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16720" y="378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672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3429000"/>
            <a:ext cx="72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2997360"/>
            <a:ext cx="30974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596360" y="3357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3284640"/>
            <a:ext cx="100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±x%of fuel energ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2852640"/>
            <a:ext cx="2952720" cy="27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300e"/>
                </a:solidFill>
                <a:latin typeface="Arial"/>
              </a:rPr>
              <a:t>OIL No.2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RCB correct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43280" y="5589720"/>
            <a:ext cx="2305080" cy="287280"/>
          </a:xfrm>
          <a:prstGeom prst="wedgeRectCallout">
            <a:avLst>
              <a:gd name="adj1" fmla="val 38703"/>
              <a:gd name="adj2" fmla="val -98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 Correction for Emis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907920"/>
            <a:ext cx="1800360" cy="1368720"/>
          </a:xfrm>
          <a:prstGeom prst="wedgeRoundRectCallout">
            <a:avLst>
              <a:gd name="adj1" fmla="val 58819"/>
              <a:gd name="adj2" fmla="val 114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300e"/>
                </a:solidFill>
                <a:latin typeface="Arial"/>
              </a:rPr>
              <a:t>OIL No.25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eas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1) Voltage [V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2) Current [Ah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3)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 (b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 flipV="1">
            <a:off x="5867280" y="1341360"/>
            <a:ext cx="28908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1268280"/>
            <a:ext cx="50472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30840" y="1268280"/>
            <a:ext cx="50508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2103480"/>
            <a:ext cx="7272360" cy="4754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56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4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4360" y="1413000"/>
            <a:ext cx="720720" cy="71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508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 rot="16200000">
            <a:off x="6588000" y="69120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76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IL.10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1844640"/>
            <a:ext cx="122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84464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185256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tart (OIL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112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836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907920"/>
            <a:ext cx="1225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charg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27640" y="260280"/>
            <a:ext cx="471636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96360" y="2565360"/>
            <a:ext cx="215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51640" y="33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Romain HUBERT</cp:lastModifiedBy>
  <dcterms:modified xsi:type="dcterms:W3CDTF">2011-06-14T09:33:33Z</dcterms:modified>
  <cp:revision>63</cp:revision>
  <dc:subject/>
  <dc:title>WLTP-E-Lab Sub Group 2nd Face to Face meeting</dc:title>
</cp:coreProperties>
</file>