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D27888-02F7-40EA-81AA-648D63ED5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E824DF-21B2-4243-A4F6-74342D039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D27DF9-FFE0-43E4-9D5D-BD2B5D62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944958-FD6A-49E0-8109-6EDB4856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63A3E0-DBE8-4354-B5C4-3E814C378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2F43B1-6342-4B9F-BDC6-AD4AB8E3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AEE703A-B699-413F-A583-9D053AC0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A883B9-33DD-41B6-AA9C-032E78F6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E1F60D-2E62-4BDD-824C-AB335ED8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7EEFD5-8E1B-4ECC-A5C7-7C209134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B0ECF0-1FF5-466B-973B-6F941F5F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A8DB9D-96BA-4494-8ECA-71931AB9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9BECE9-139D-477D-B595-6B1A8D58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FFE590-338E-4C45-83B3-CEBB2452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C21DA7-809D-402C-A29C-FEC1F12B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D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hemiluminiscence Detector for 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QC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antum Cascade Tunable Infrared Laser Differential Absorption Spectrometer (QC-TILDAS) for Measurements of Atmospheric Ammon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LD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Diode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(in situ and tunable); Ammonia slip lost or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R non dispersive infra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FBB315-3932-4C2C-915D-E862B0D12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7D4-204F-4217-B009-38D1648F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99F-E91D-4972-87E3-36B56932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FDD-33D1-4CBA-A231-8646FFBA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567-F6F6-4D7D-BA71-5702CA39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CA6C-C1ED-459A-B37C-B8AEB936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8BC9-B404-4C72-8092-97CDAC41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65BC-6CC7-4073-8615-CB8609B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6907-6361-4951-BDFF-6823501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D6E5-4F68-457E-A03D-862FD9E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19BE-7C6A-48E3-98BD-4A07F6DD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92A-58C7-4029-B0C4-E36DF8B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965-ABA9-4FE0-B05E-06D0E3CD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6DCA-E0EE-4378-9663-23EB7653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5B94-B76A-4B0A-A210-196578B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D384-BA91-40A7-A10B-8823C6D7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873E-E28F-4CAF-A521-2EA580D5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750-7D93-4CFB-8120-B7D8113F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D10E-6580-4F4D-A62D-C29E016E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3F84-BD37-4DF4-A86F-8481EF94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C9BB-E3D6-4C44-A3DC-05506ED2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06E2-7F78-401B-AFF7-E4339C49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F949-B99A-49F7-8ADB-2D62D3C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C71-3049-49AE-B0B1-F3C9C16F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0A4A-ED92-4FA6-B1B2-52248817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3A3F-2123-44A6-9170-71720B8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CF5F-6863-4663-AF75-50F5480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6C8A-07E8-4CE0-A264-9EF2803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EFCC-6FF2-4740-B8AC-C45F638F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D50D-4389-4D16-9C95-7B076AB0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A7AA-B304-4AB2-9FE9-8F822DE6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D550-D32E-4F56-BA24-6D42ADC7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38DA-5963-47C4-B399-9FD10A6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B7B4-7ED6-429C-A21B-D3555CB9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32D-DBDF-48F9-8357-4211C94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6F0B-12FC-4EE5-AFFD-AE78C93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AF73-BDD9-4F46-A5E9-F3DB32C6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AF14-5BEF-4AFE-A52D-770A6DCC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A937-EB1B-469B-847B-00954E4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3AFD-4502-4D99-AB96-E094EFDA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12E7-D0A6-48EF-B1C9-E282911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0147-9F9C-4928-B6C5-5CEB26E6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06B6-DEAE-43E5-8FE9-4FCAF520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DAB3-6648-42A9-8872-0869D4B6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09AD-A45A-45A8-802F-74D674B8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40D-0562-45B5-854B-3559B9F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F08E-8A43-4F8C-914C-7299810B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78126-7C87-4E3C-AE63-A366E7F6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03EC-58F5-4FE2-8865-EAC84939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A51F-13D7-43AA-9F01-190E08FA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007F-3BDC-437B-A793-F064DED2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C0179-7F29-4769-A4EB-42BF282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08C1F-338F-42FB-9C03-70B126C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67498-5AAF-4DDD-84E4-676F87DC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177C-0BC3-4A2A-9C8F-0E866DA9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8E01-9138-4271-B0DF-AAB83F7C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A5B-A93F-48C3-AA38-48DDA30B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CE4DD-6A89-4209-9B49-0022F6B6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A5F7-5159-4D99-BD53-1E946645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65F4-2997-4E04-A3E6-0A0D0000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E93D1-173A-47FD-95F4-A77B3062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6E44-0805-4C07-84FB-732D2AA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56F38-A92E-436D-93E6-77DE48D6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6A40-5ED2-4ADE-A111-577B60D0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D1AE-024B-43F6-974D-25A784D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F4C3-B4CD-4DF7-879A-A1A70AF8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089D-7C98-4A8D-A2A7-EEA3BD5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766-9246-4B9B-991C-097D14A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953ED-5226-48B4-B03B-D14EF99F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E326-52D1-4903-A55C-49DB9BE4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B6B05-605A-43A2-B840-10D48750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59F-5956-4AC1-8957-93D0253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891-55D8-4312-86D7-1EA4372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6541-4980-4328-96D6-83B98051C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5210-2936-49DF-AACC-51920C050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C45C-C93B-400A-ACD4-E459BAEE7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C0F-26AA-405E-AC1A-19B22BFB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1AF-A44E-450A-9E72-AE93EB7A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1349280" y="22320"/>
            <a:ext cx="62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Report Jun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0" y="622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EDD4-3AED-476A-8481-CE56DBFBC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covadonga.astorga-llorens@jrc.ec.europa.eu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LTP-DTP Subgroup Additional Polluta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VA UN 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08.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854680" y="5592240"/>
            <a:ext cx="31258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. C. Astorga Llor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6176520" y="595800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800" spc="-1" strike="noStrike">
                <a:solidFill>
                  <a:srgbClr val="6b6bcf"/>
                </a:solidFill>
                <a:latin typeface="Arial Narrow"/>
              </a:rPr>
              <a:t>Sustainable Transport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060960" y="621180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400" spc="-1" strike="noStrike">
                <a:solidFill>
                  <a:srgbClr val="6b6bcf"/>
                </a:solidFill>
                <a:latin typeface="Arial Narrow"/>
              </a:rPr>
              <a:t>Institute for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400" spc="-1" strike="noStrike">
                <a:solidFill>
                  <a:srgbClr val="6b6bcf"/>
                </a:solidFill>
                <a:latin typeface="Arial Narrow"/>
              </a:rPr>
              <a:t>EC-DG JRC, Ispra (I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58280" y="81612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bbreviations/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0"/>
          <p:cNvSpPr/>
          <p:nvPr/>
        </p:nvSpPr>
        <p:spPr>
          <a:xfrm>
            <a:off x="522360" y="1393920"/>
            <a:ext cx="69627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RCH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Formaldehyde plus Acet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HCH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Form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CH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Acet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EtOH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Ethan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THC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Total Hydrocarbons (All compounds measurable by F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MOG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n-methane organic gases (NMHC plus  EtOH and R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MHC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n-methane hydrocarbons (THC excluding CH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4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 and EtOH, 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response factors are appli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x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Oxides of nit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itric ox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itrogen diox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itrous ox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2268"/>
                </a:solidFill>
                <a:latin typeface="Arial"/>
              </a:rPr>
              <a:t>Amm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ling of lost sample in raw exhaus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 sample flow (10 l/min) and return sample (no drying, heated or diluted retu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(at manufacturers requ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 of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it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men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ording to instrumen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manufacturer at least once a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ication of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it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ment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in 24 h at concentration of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IR: linearizatio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fter manufacture and after majo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analyzer re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IR: Verificatio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in 24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40280" y="8161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pen Issues -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68280" y="1866960"/>
            <a:ext cx="86868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calculation of NOx from NO + NO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QCL and other technologies for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NO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rom modal dilut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ibration/verification of CLD for NO-Mode 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 be done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 of CLD for NO-Mod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n be taken over from 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bility of ETOH and aldehy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21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40280" y="79056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Issues -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473040" y="1633680"/>
            <a:ext cx="8271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NH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sampling during engine off</a:t>
            </a:r>
            <a:r>
              <a:rPr b="0" lang="de-DE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Temperature for NH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sampling (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110 – 190?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proposal: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set-point between 110 °C and 190 °C with range of +/- 1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JAMA position: between 110 °C and 133 °C due to decomposition of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Traceability to national standards of calibration gas for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DTP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gas industry </a:t>
            </a:r>
            <a:r>
              <a:rPr b="0" lang="en-GB" sz="18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 difficulties for NH</a:t>
            </a:r>
            <a:r>
              <a:rPr b="1" lang="en-GB" sz="2400" spc="-1" strike="noStrike" baseline="-25000">
                <a:solidFill>
                  <a:srgbClr val="222268"/>
                </a:solidFill>
                <a:latin typeface="Arial"/>
                <a:ea typeface="ＭＳ Ｐゴシック"/>
              </a:rPr>
              <a:t>3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, EtOH to be expected, achievable accuracy/stability has to be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40280" y="81612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pen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drafting of GTR [*] in small groups (as well as OI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s have been assigned within group and the out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be delivered for the next meet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xt face-to-face 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el/web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47200" y="8161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787480" y="6105600"/>
            <a:ext cx="62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[*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itional pollutants contact per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5322960" y="974880"/>
            <a:ext cx="2448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293840" y="2543040"/>
            <a:ext cx="61927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i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mler-Stuttg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oliver.moersch@daiml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chair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-DG JRC Institute for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covadonga.astorga-llorens@jrc.ec.europa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1049040" y="912960"/>
            <a:ext cx="682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Ref.: CIRCA documents WLTP-DTP-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GTR 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LTP-DTP-LabProcICE-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4835880" y="5070600"/>
            <a:ext cx="3667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i="1" lang="fr-FR" sz="1400" spc="-1" strike="noStrike">
                <a:solidFill>
                  <a:srgbClr val="333399"/>
                </a:solidFill>
                <a:latin typeface="Comic Sans MS"/>
              </a:rPr>
              <a:t>THANKS FOR YOUR ATTEN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mic Sans MS"/>
              </a:rPr>
              <a:t>C. Asto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483080" y="5889240"/>
            <a:ext cx="44402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donga.astorga-llorens@jrc.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333399"/>
                </a:solidFill>
                <a:uFillTx/>
                <a:latin typeface="Arial"/>
              </a:rPr>
              <a:t>http://ies.jrc.cec.eu.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fr-BE" sz="1600" spc="-1" strike="noStrike" u="sng">
                <a:solidFill>
                  <a:srgbClr val="000099"/>
                </a:solidFill>
                <a:uFillTx/>
                <a:latin typeface="Arial"/>
              </a:rPr>
              <a:t>http://ie.jrc.cec.eu.int/Unit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006560" y="3159000"/>
            <a:ext cx="74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&amp; open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WLTP-D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P-07-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 Issues Ma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18" descr="Slide_template_IE_logo"/>
          <p:cNvPicPr/>
          <p:nvPr/>
        </p:nvPicPr>
        <p:blipFill>
          <a:blip r:embed="rId2"/>
          <a:stretch/>
        </p:blipFill>
        <p:spPr>
          <a:xfrm>
            <a:off x="3755880" y="6208560"/>
            <a:ext cx="576360" cy="462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1" descr="SlidesJRC_bannerLogoJRC"/>
          <p:cNvPicPr/>
          <p:nvPr/>
        </p:nvPicPr>
        <p:blipFill>
          <a:blip r:embed="rId3"/>
          <a:stretch/>
        </p:blipFill>
        <p:spPr>
          <a:xfrm>
            <a:off x="4387680" y="6283440"/>
            <a:ext cx="9064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38120" y="1497960"/>
            <a:ext cx="79675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erms of reference and scope of the work of this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Pollutants addressed and General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etings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o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candidat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finitions/ Abbr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n questions in the GTR Draf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clusions and next steps; documents loaded in CIRCA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665280" y="1330920"/>
            <a:ext cx="779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dditional Pollutants subgroup received a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mandate for the development of test procedures for pollutants not currently regul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uch a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, N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, N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ing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 equip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ormulae for the measu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light duty vehic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59520" y="83340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pollutants subgroup – Terms of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14520" y="2739960"/>
            <a:ext cx="812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ubgroup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undertakes the follow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asks on th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asis of procedures in existing legis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xpert knowledge within the gro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g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 additional pollutants to be addres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dent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ppropriat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tho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each pollu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scrib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easu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lib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cedures as well as calculations based on existing legislation and on output from lab procedure sub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268200"/>
                <a:tab algn="l" pos="72072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raf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GTR legislatio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7"/>
          <p:cNvSpPr/>
          <p:nvPr/>
        </p:nvSpPr>
        <p:spPr>
          <a:xfrm>
            <a:off x="6105600" y="3676680"/>
            <a:ext cx="360360" cy="3222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 rot="20514600">
            <a:off x="7201080" y="49766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cc00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>
            <a:hlinkClick r:id="rId1" action="ppaction://hlinksldjump"/>
          </p:cNvPr>
          <p:cNvSpPr/>
          <p:nvPr/>
        </p:nvSpPr>
        <p:spPr>
          <a:xfrm>
            <a:off x="6661080" y="3719520"/>
            <a:ext cx="352440" cy="260280"/>
          </a:xfrm>
          <a:custGeom>
            <a:avLst/>
            <a:gdLst>
              <a:gd name="textAreaLeft" fmla="*/ 16560 w 352440"/>
              <a:gd name="textAreaRight" fmla="*/ 335880 w 352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9238" h="21600">
                <a:moveTo>
                  <a:pt x="0" y="0"/>
                </a:moveTo>
                <a:lnTo>
                  <a:pt x="29238" y="0"/>
                </a:lnTo>
                <a:lnTo>
                  <a:pt x="29238" y="21600"/>
                </a:lnTo>
                <a:lnTo>
                  <a:pt x="0" y="21600"/>
                </a:lnTo>
                <a:close/>
              </a:path>
              <a:path fill="lightenLess" w="29238" h="21600">
                <a:moveTo>
                  <a:pt x="0" y="0"/>
                </a:moveTo>
                <a:lnTo>
                  <a:pt x="29238" y="0"/>
                </a:lnTo>
                <a:lnTo>
                  <a:pt x="27838" y="1400"/>
                </a:lnTo>
                <a:lnTo>
                  <a:pt x="1400" y="1400"/>
                </a:lnTo>
                <a:close/>
              </a:path>
              <a:path fill="darken" w="29238" h="21600">
                <a:moveTo>
                  <a:pt x="29238" y="0"/>
                </a:moveTo>
                <a:lnTo>
                  <a:pt x="29238" y="21600"/>
                </a:lnTo>
                <a:lnTo>
                  <a:pt x="27838" y="20200"/>
                </a:lnTo>
                <a:lnTo>
                  <a:pt x="27838" y="1400"/>
                </a:lnTo>
                <a:close/>
              </a:path>
              <a:path fill="darkenLess" w="29238" h="21600">
                <a:moveTo>
                  <a:pt x="29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38" y="20200"/>
                </a:lnTo>
                <a:close/>
              </a:path>
              <a:path fill="lighten" w="29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38" h="21600">
                <a:moveTo>
                  <a:pt x="1461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238" h="21600">
                <a:moveTo>
                  <a:pt x="1461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238" h="21600">
                <a:moveTo>
                  <a:pt x="12042" y="8224"/>
                </a:moveTo>
                <a:lnTo>
                  <a:pt x="15907" y="8224"/>
                </a:lnTo>
                <a:lnTo>
                  <a:pt x="15907" y="15221"/>
                </a:lnTo>
                <a:lnTo>
                  <a:pt x="17195" y="15221"/>
                </a:lnTo>
                <a:lnTo>
                  <a:pt x="17195" y="16144"/>
                </a:lnTo>
                <a:lnTo>
                  <a:pt x="12042" y="16144"/>
                </a:lnTo>
                <a:lnTo>
                  <a:pt x="12042" y="15221"/>
                </a:lnTo>
                <a:lnTo>
                  <a:pt x="13331" y="15221"/>
                </a:lnTo>
                <a:lnTo>
                  <a:pt x="13331" y="9129"/>
                </a:lnTo>
                <a:lnTo>
                  <a:pt x="12042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7"/>
          <p:cNvSpPr/>
          <p:nvPr/>
        </p:nvSpPr>
        <p:spPr>
          <a:xfrm>
            <a:off x="7496280" y="4168800"/>
            <a:ext cx="360360" cy="3222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 rot="20514600">
            <a:off x="3877560" y="5435280"/>
            <a:ext cx="16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cc00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e Placeholder 2"/>
          <p:cNvSpPr/>
          <p:nvPr/>
        </p:nvSpPr>
        <p:spPr>
          <a:xfrm>
            <a:off x="206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53320" y="881280"/>
            <a:ext cx="590184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20th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lephone/Web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20th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rd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JRC/Is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9/10 Dec.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th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e to face meeting at BMW/Mun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7/8 March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particip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5th Meeting: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Face to face meeting at JRC/Is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10/11 Ma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832440" y="1798560"/>
            <a:ext cx="2119320" cy="3056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meetings (2 phone conferences and 3 face to face meetings in December  2010, March and May 201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the time being, no further face to face meeting 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446040" y="1468080"/>
            <a:ext cx="8413920" cy="4207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N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thano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(Et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ldehyd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 Formaldehyde, Acetaldehyd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CHO, R = H or 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425520" y="5797440"/>
            <a:ext cx="436320" cy="354240"/>
          </a:xfrm>
          <a:custGeom>
            <a:avLst/>
            <a:gdLst>
              <a:gd name="textAreaLeft" fmla="*/ 22680 w 436320"/>
              <a:gd name="textAreaRight" fmla="*/ 413640 w 436320"/>
              <a:gd name="textAreaTop" fmla="*/ 22680 h 354240"/>
              <a:gd name="textAreaBottom" fmla="*/ 331560 h 354240"/>
            </a:gdLst>
            <a:ahLst/>
            <a:rect l="textAreaLeft" t="textAreaTop" r="textAreaRight" b="textAreaBottom"/>
            <a:pathLst>
              <a:path w="26600" h="21600">
                <a:moveTo>
                  <a:pt x="0" y="0"/>
                </a:moveTo>
                <a:lnTo>
                  <a:pt x="26600" y="0"/>
                </a:lnTo>
                <a:lnTo>
                  <a:pt x="26600" y="21600"/>
                </a:lnTo>
                <a:lnTo>
                  <a:pt x="0" y="21600"/>
                </a:lnTo>
                <a:close/>
              </a:path>
              <a:path fill="lightenLess" w="26600" h="21600">
                <a:moveTo>
                  <a:pt x="0" y="0"/>
                </a:moveTo>
                <a:lnTo>
                  <a:pt x="26600" y="0"/>
                </a:lnTo>
                <a:lnTo>
                  <a:pt x="25200" y="1400"/>
                </a:lnTo>
                <a:lnTo>
                  <a:pt x="1400" y="1400"/>
                </a:lnTo>
                <a:close/>
              </a:path>
              <a:path fill="darken" w="26600" h="21600">
                <a:moveTo>
                  <a:pt x="26600" y="0"/>
                </a:moveTo>
                <a:lnTo>
                  <a:pt x="26600" y="21600"/>
                </a:lnTo>
                <a:lnTo>
                  <a:pt x="25200" y="20200"/>
                </a:lnTo>
                <a:lnTo>
                  <a:pt x="25200" y="1400"/>
                </a:lnTo>
                <a:close/>
              </a:path>
              <a:path fill="darkenLess" w="26600" h="21600">
                <a:moveTo>
                  <a:pt x="26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0" y="20200"/>
                </a:lnTo>
                <a:close/>
              </a:path>
              <a:path fill="lighten" w="26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0" h="21600">
                <a:moveTo>
                  <a:pt x="6293" y="10800"/>
                </a:moveTo>
                <a:lnTo>
                  <a:pt x="20306" y="3794"/>
                </a:lnTo>
                <a:lnTo>
                  <a:pt x="203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41440" y="8827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lutants to be address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521160" y="1693800"/>
            <a:ext cx="517356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TE: Any other pollutants not included in this list should be supported by an assessment on negative effects to health or to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438120" y="1497960"/>
            <a:ext cx="79675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erms of reference and scope of the work of this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Pollutants addressed and General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etings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c9cdf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of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candidat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c9cdf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finitions/ Abbr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pen questions in the GTR Draf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clusions and next steps; documents loaded in CIRCA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. Mörsch / 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05920" y="3317400"/>
            <a:ext cx="8466120" cy="34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reference methods have been identified. Possible source of text has been added whe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ormance cri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thering of performance data 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andidate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tasked within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Range of emission level to be measured performance criteria  (LoD, LoQ, rise time and max. interference) have been deriv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ble of candidate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evaluated has been set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46160" y="655560"/>
            <a:ext cx="882180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372"/>
          <p:cNvSpPr/>
          <p:nvPr/>
        </p:nvSpPr>
        <p:spPr>
          <a:xfrm>
            <a:off x="195120" y="974880"/>
            <a:ext cx="77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ble of candidate methods for additional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76320" y="1554120"/>
            <a:ext cx="8899560" cy="4633920"/>
          </a:xfrm>
          <a:prstGeom prst="rect">
            <a:avLst/>
          </a:prstGeom>
          <a:ln w="0">
            <a:noFill/>
          </a:ln>
        </p:spPr>
      </p:pic>
      <p:sp>
        <p:nvSpPr>
          <p:cNvPr id="28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Ol. Mörs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TP-DTP-AP, Mörsch/Asto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60440" y="1427040"/>
            <a:ext cx="827064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of a range of concentrations or materials including zero to 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establis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mathematical relationship between concentration and sy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rization che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of a range of concentrations or materials including zero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GB" sz="1800" spc="-1" strike="noStrike">
                <a:solidFill>
                  <a:srgbClr val="222268"/>
                </a:solidFill>
                <a:latin typeface="Arial"/>
                <a:ea typeface="ＭＳ Ｐゴシック"/>
              </a:rPr>
              <a:t>verif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mathematical relationship between concentrati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ib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, span adjustment with calibration gases or calibration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, span check with calibration gases or calibration materials, no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8560" y="816120"/>
            <a:ext cx="18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57:13Z</dcterms:created>
  <dc:creator>Moersch, Oliver (019)</dc:creator>
  <dc:description/>
  <dc:language>en-US</dc:language>
  <cp:lastModifiedBy>Romain HUBERT</cp:lastModifiedBy>
  <cp:lastPrinted>2011-06-06T14:15:26Z</cp:lastPrinted>
  <dcterms:modified xsi:type="dcterms:W3CDTF">2011-06-14T09:32:28Z</dcterms:modified>
  <cp:revision>75</cp:revision>
  <dc:subject/>
  <dc:title>Folie 1</dc:title>
</cp:coreProperties>
</file>