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9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0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21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5A6B673-C820-44DB-96DC-C10BDB850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80077B0-4126-4086-A3C9-5517769E1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168784C-9DD8-4ED6-BCD0-C802529D4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30B88DF-703D-4DDE-A8C4-75C28F413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C9B1808-90FA-4CC3-97ED-92E2B2034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4896B36-30BE-42C4-9EDE-21A137F68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A3915B1-2D71-4D4C-B975-EF667E3DE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86186C4-EA5F-4078-A198-7B514E1A3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EDF0724-B5D3-4B71-A17A-8071EB6D0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9087DD9-D0F0-4F66-87DA-CAAC7FB76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36E5C2A-7A41-4A52-814C-77B4948B5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F1AC767-D951-4916-A9F8-AA2B1ACC5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1D42A2E-C3EA-4673-8352-EEDFF6503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0F496CF-6242-449C-9FD6-3ABEF4074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3C6A9A8-5FE2-4B4F-AE69-4967BD720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D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Chemiluminiscence Detector for 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QCL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Quantum Cascade Tunable Infrared Laser Differential Absorption Spectrometer (QC-TILDAS) for Measurements of Atmospheric Ammon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LD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Diode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(in situ and tunable); Ammonia slip lost or 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DIR non dispersive infra 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9DCDFD8-565E-4E90-8B60-B1CE28FE3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8EB5-703F-44B7-B431-3222D661B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987D-116D-466F-9AAB-CAE562C8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2A26-0F06-46E3-B5A6-F851E1DAA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BBDB-CCB2-4E7F-8E5B-F44029C46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6F92-2A95-4A6A-8D46-BFE1A5B43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010E-05BD-4574-8597-6095D9B1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1763-5E05-46EF-B3BA-DB5CCC62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671E-26C7-4F79-A96B-C1327117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6187-14E9-44AD-A6BB-BABC3534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2EB6-AC29-496D-B3A5-4ACA9CAC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8A4B-E0B4-4563-BC3E-8F80B81C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AE7B-8DA3-4DA8-A751-98F6411C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623A-D179-4140-A023-7FA62B87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2479-35F4-413E-B97A-FC3DAC72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FF36-4FB5-4475-A9FC-8200B72B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A86B-3613-41DF-B5E5-87EA9772E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8223-9F4F-43B5-94F3-D315D0EF0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84E4F-7C3A-4BB9-9452-1714C82F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DF6A5-E2C2-415D-BD9D-F9075EB0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D4F0C-1FE7-43E6-B627-47ABB8E5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9A0C5-9C6C-4810-A8F4-7B4BB60E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39469-A67C-44CA-88D3-04A2B93C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D74D-DBEA-42A6-B74C-2054664C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F37FD-C709-4A00-88E5-94E46A35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E9625-E9C4-4397-8955-7E284140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C0EAB-5F6A-4813-9E4A-00010088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3AD9E-18EE-450E-B881-B4F51F2D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5BEFF-7D0D-4338-9A44-2CBE64A0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F5AE9-7CA3-460F-9F01-CDCB04DBD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9E627-1810-4991-BFA5-EC99E7651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E8178-9DD0-4FAD-9E0D-BCC6EAE0D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02AD1-3D16-4FA5-8183-6F43F909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350AD-C639-4DF8-8412-3618667D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431C-CD91-4DBC-AB85-A89F9873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F4709-44DA-429D-A7F3-9817CE32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3EC02-73D0-4078-B8F9-7D306B9B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4D9B0-A2DF-4971-BBB8-30B83FB9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98B24-D85D-496A-8086-214A58A1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B588E-A3F4-4B82-8E6C-FA12E04D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28F98-4284-47E3-9C65-E757CB5F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C7DE1-836C-4849-AA82-CA49D69C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10540-714B-4B00-854B-1F2B8E883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16364-A428-4460-8788-DEB02D4C9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E895F-E527-4143-BAC9-323FE8978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433C-DC15-4AB4-BD09-BE3D3034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700AF-C280-4CC7-B8F6-AD7A4960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5E820-51BA-4956-B632-474CFD65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3A41E-2BCA-4361-9DE9-C8348F20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733F3-EA73-4CF8-8D33-4F1D9295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4C04A-67C1-4AC1-B8E4-8D4561CA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F79CA-7F2C-40B2-8F59-9EE1E499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E8F5A-C3B9-485B-9D09-5E88B0E5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24EA4-10CA-46DA-9CA4-DEF363D6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2E219-DFC8-4CB9-B90F-A16178DF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932C3-C5F7-4874-9637-95E8E614F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2BCD-B743-428D-AC49-DB8A5DCF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BD2B8-41F4-4C9E-86A3-8ACC3B842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56991-0B36-4EE2-BBC8-195BCD347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001CB-3DBD-4EDC-8581-E6E2AE17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20B6B-99CB-4695-BA4F-C5EC5407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AC27B-4701-48A8-BEAC-AAD5E64A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87F56-CF0E-4A96-8B0F-B374A5A7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F0FF4-F9D0-433A-97CA-364C2034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7D6F0-DEF3-4838-995B-69A78DF8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3C00C-C982-4637-82FC-B86FDCC5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7E135-08AA-4298-A723-8BFD5B77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19F7-9D23-4939-9C84-C94DFB1B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D02C5-DA59-428A-90E5-B2B7F2DA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1058A-EB6F-460C-A24D-54B6FE1C1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4A7DE-37C3-43EA-935A-D521C4C56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9EF9-E546-4BCE-B244-137B94D6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4F55-DD85-4D55-AB31-EA233471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AEDF-CAE3-4C76-949D-B978DF6C6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1349280" y="22320"/>
            <a:ext cx="62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TP-DTP Subgroup Additional Pollu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ess Report Jun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8"/>
          <p:cNvSpPr/>
          <p:nvPr/>
        </p:nvSpPr>
        <p:spPr>
          <a:xfrm>
            <a:off x="0" y="622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1349280" y="22320"/>
            <a:ext cx="62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TP-DTP Subgroup Additional Pollu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ess Report Jun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8"/>
          <p:cNvSpPr/>
          <p:nvPr/>
        </p:nvSpPr>
        <p:spPr>
          <a:xfrm>
            <a:off x="0" y="622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Ol. Mörs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 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21A9-2ACF-4732-B1EF-8B6FD3E6A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7"/>
          <p:cNvSpPr/>
          <p:nvPr/>
        </p:nvSpPr>
        <p:spPr>
          <a:xfrm>
            <a:off x="1349280" y="22320"/>
            <a:ext cx="62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TP-DTP Subgroup Additional Pollu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ess Report Jun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0" y="622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Ol. Mörs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 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7921-6ACD-4C98-8A1C-74AB9065C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7"/>
          <p:cNvSpPr/>
          <p:nvPr/>
        </p:nvSpPr>
        <p:spPr>
          <a:xfrm>
            <a:off x="1349280" y="22320"/>
            <a:ext cx="62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TP-DTP Subgroup Additional Pollu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ess Report Jun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0" y="622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Ol. Mörs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 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6071-F203-40E6-BE46-E05B45361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7"/>
          <p:cNvSpPr/>
          <p:nvPr/>
        </p:nvSpPr>
        <p:spPr>
          <a:xfrm>
            <a:off x="1349280" y="22320"/>
            <a:ext cx="62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TP-DTP Subgroup Additional Pollu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ess Report Jun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8"/>
          <p:cNvSpPr/>
          <p:nvPr/>
        </p:nvSpPr>
        <p:spPr>
          <a:xfrm>
            <a:off x="0" y="622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Ol. Mörs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 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D3BC-52C7-491E-A932-474946817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7"/>
          <p:cNvSpPr/>
          <p:nvPr/>
        </p:nvSpPr>
        <p:spPr>
          <a:xfrm>
            <a:off x="1349280" y="22320"/>
            <a:ext cx="62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TP-DTP Subgroup Additional Pollu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ess Report Jun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0" y="622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Ol. Mörs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 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5CB9-F0E0-4EEF-B57A-0B8656C9E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covadonga.astorga-llorens@jrc.ec.europa.eu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LTP-DTP Subgroup Additional Pollutant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ess repor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VA UN 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: 08. June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5854680" y="5592240"/>
            <a:ext cx="31258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pPr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M. C. Astorga Llor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6176520" y="5958000"/>
            <a:ext cx="25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i="1" lang="en-US" sz="1800" spc="-1" strike="noStrike">
                <a:solidFill>
                  <a:srgbClr val="6b6bcf"/>
                </a:solidFill>
                <a:latin typeface="Arial Narrow"/>
              </a:rPr>
              <a:t>Sustainable Transport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6060960" y="6211800"/>
            <a:ext cx="24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i="1" lang="en-US" sz="1400" spc="-1" strike="noStrike">
                <a:solidFill>
                  <a:srgbClr val="6b6bcf"/>
                </a:solidFill>
                <a:latin typeface="Arial Narrow"/>
              </a:rPr>
              <a:t>Institute for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i="1" lang="en-US" sz="1400" spc="-1" strike="noStrike">
                <a:solidFill>
                  <a:srgbClr val="6b6bcf"/>
                </a:solidFill>
                <a:latin typeface="Arial Narrow"/>
              </a:rPr>
              <a:t>EC-DG JRC, Ispra (IT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458280" y="816120"/>
            <a:ext cx="39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Abbreviations/Defin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80"/>
          <p:cNvSpPr/>
          <p:nvPr/>
        </p:nvSpPr>
        <p:spPr>
          <a:xfrm>
            <a:off x="522360" y="1393920"/>
            <a:ext cx="6962760" cy="55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RCHO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Formaldehyde plus Acetaldehy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HCHO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Formaldehy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CH</a:t>
            </a:r>
            <a:r>
              <a:rPr b="1" lang="en-US" sz="2400" spc="-1" strike="noStrike" baseline="-25000">
                <a:solidFill>
                  <a:srgbClr val="222268"/>
                </a:solidFill>
                <a:latin typeface="Arial"/>
                <a:ea typeface="ＭＳ Ｐゴシック"/>
              </a:rPr>
              <a:t>3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CHO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Acetaldehy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EtOH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Ethan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THC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Total Hydrocarbons (All compounds measurable by F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NMOG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Non-methane organic gases (NMHC plus  EtOH and RCH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NMHC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Non-methane hydrocarbons (THC excluding CH</a:t>
            </a:r>
            <a:r>
              <a:rPr b="1" lang="en-US" sz="2400" spc="-1" strike="noStrike" baseline="-25000">
                <a:solidFill>
                  <a:srgbClr val="222268"/>
                </a:solidFill>
                <a:latin typeface="Arial"/>
                <a:ea typeface="ＭＳ Ｐゴシック"/>
              </a:rPr>
              <a:t>4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 and EtOH, 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response factors are applied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NOx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Oxides of nitro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NO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Nitric ox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NO</a:t>
            </a:r>
            <a:r>
              <a:rPr b="1" lang="en-US" sz="2400" spc="-1" strike="noStrike" baseline="-25000">
                <a:solidFill>
                  <a:srgbClr val="222268"/>
                </a:solidFill>
                <a:latin typeface="Arial"/>
                <a:ea typeface="ＭＳ Ｐゴシック"/>
              </a:rPr>
              <a:t>2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Nitrogen diox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222268"/>
                </a:solidFill>
                <a:latin typeface="Arial"/>
                <a:ea typeface="ＭＳ Ｐゴシック"/>
              </a:rPr>
              <a:t>2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O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Nitrous ox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NH</a:t>
            </a:r>
            <a:r>
              <a:rPr b="1" lang="en-US" sz="2400" spc="-1" strike="noStrike" baseline="-25000">
                <a:solidFill>
                  <a:srgbClr val="222268"/>
                </a:solidFill>
                <a:latin typeface="Arial"/>
                <a:ea typeface="ＭＳ Ｐゴシック"/>
              </a:rPr>
              <a:t>3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Ammo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ndling of lost sample in raw exhaust 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os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mit sample flow (10 l/min) and return sample (no drying, heated or diluted retur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 (at manufacturers reque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nearization of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situ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ments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ccording to instrument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manufacturer at least once a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ification of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situ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ments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ithin 24 h at concentration of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TIR: linearization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fter manufacture and after major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analyzer rep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TIR: Verification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ithin 24 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440280" y="816120"/>
            <a:ext cx="35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Open Issues - res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68280" y="1866960"/>
            <a:ext cx="8686800" cy="33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 calculation of NOx from NO + NO</a:t>
            </a:r>
            <a:r>
              <a:rPr b="1" lang="en-GB" sz="2400" spc="-1" strike="noStrike" baseline="-25000">
                <a:solidFill>
                  <a:srgbClr val="222268"/>
                </a:solidFill>
                <a:latin typeface="Arial"/>
                <a:ea typeface="ＭＳ Ｐゴシック"/>
              </a:rPr>
              <a:t>2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 QCL and other technologies for 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NO</a:t>
            </a:r>
            <a:r>
              <a:rPr b="1" lang="en-GB" sz="2400" spc="-1" strike="noStrike" baseline="-25000">
                <a:solidFill>
                  <a:srgbClr val="222268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from modal dilut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ibration/verification of CLD for NO-Mode </a:t>
            </a:r>
            <a:r>
              <a:rPr b="1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o be done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nearization of CLD for NO-Mod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an be taken over from N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bility of ETOH and aldehy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ment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21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440280" y="790560"/>
            <a:ext cx="35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n Issues - res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473040" y="1633680"/>
            <a:ext cx="827100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NH</a:t>
            </a:r>
            <a:r>
              <a:rPr b="1" lang="en-GB" sz="2400" spc="-1" strike="noStrike" baseline="-25000">
                <a:solidFill>
                  <a:srgbClr val="222268"/>
                </a:solidFill>
                <a:latin typeface="Arial"/>
                <a:ea typeface="ＭＳ Ｐゴシック"/>
              </a:rPr>
              <a:t>3</a:t>
            </a:r>
            <a:r>
              <a:rPr b="1" lang="en-GB" sz="18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 sampling during engine off</a:t>
            </a:r>
            <a:r>
              <a:rPr b="0" lang="de-DE" sz="18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Temperature for NH</a:t>
            </a:r>
            <a:r>
              <a:rPr b="1" lang="en-GB" sz="2400" spc="-1" strike="noStrike" baseline="-25000">
                <a:solidFill>
                  <a:srgbClr val="222268"/>
                </a:solidFill>
                <a:latin typeface="Arial"/>
                <a:ea typeface="ＭＳ Ｐゴシック"/>
              </a:rPr>
              <a:t>3</a:t>
            </a:r>
            <a:r>
              <a:rPr b="1" lang="en-GB" sz="18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 sampling (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110 – 190?°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proposal: </a:t>
            </a:r>
            <a:r>
              <a:rPr b="0" lang="en-GB" sz="1800" spc="-1" strike="noStrike">
                <a:solidFill>
                  <a:srgbClr val="222268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 set-point between 110 °C and 190 °C with range of +/- 10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	</a:t>
            </a:r>
            <a:r>
              <a:rPr b="0" lang="en-GB" sz="1800" spc="-1" strike="noStrike">
                <a:solidFill>
                  <a:srgbClr val="222268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JAMA position: between 110 °C and 133 °C due to decomposition of u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Traceability to national standards of calibration gas for 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222268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DTP </a:t>
            </a:r>
            <a:r>
              <a:rPr b="0" lang="en-GB" sz="1800" spc="-1" strike="noStrike">
                <a:solidFill>
                  <a:srgbClr val="222268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 gas industry </a:t>
            </a:r>
            <a:r>
              <a:rPr b="0" lang="en-GB" sz="1800" spc="-1" strike="noStrike">
                <a:solidFill>
                  <a:srgbClr val="222268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 difficulties for NH</a:t>
            </a:r>
            <a:r>
              <a:rPr b="1" lang="en-GB" sz="2400" spc="-1" strike="noStrike" baseline="-25000">
                <a:solidFill>
                  <a:srgbClr val="222268"/>
                </a:solidFill>
                <a:latin typeface="Arial"/>
                <a:ea typeface="ＭＳ Ｐゴシック"/>
              </a:rPr>
              <a:t>3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, EtOH to be expected, achievable accuracy/stability has to be esta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440280" y="81612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Open Iss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drafting of GTR [*] in small groups (as well as OI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sks have been assigned within group and the out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ll be delivered for the next meeti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ext face-to-face worksho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…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itional Tel/web co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547200" y="81612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2787480" y="6105600"/>
            <a:ext cx="62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[*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ft GTR proposal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LTP-DTP-LabProcICE-0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Additional pollutants contact pers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5322960" y="974880"/>
            <a:ext cx="24480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1293840" y="2543040"/>
            <a:ext cx="619272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i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imler-Stuttg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3399"/>
                </a:solidFill>
                <a:uFillTx/>
                <a:latin typeface="Arial"/>
              </a:rPr>
              <a:t>oliver.moersch@daimler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-chair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-DG JRC Institute for ENER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3399"/>
                </a:solidFill>
                <a:uFillTx/>
                <a:latin typeface="Arial"/>
              </a:rPr>
              <a:t>covadonga.astorga-llorens@jrc.ec.europa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1049040" y="912960"/>
            <a:ext cx="6828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Ref.: CIRCA documents WLTP-DTP-A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ft GTR proposa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LTP-DTP-LabProcICE-0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2"/>
          <p:cNvSpPr/>
          <p:nvPr/>
        </p:nvSpPr>
        <p:spPr>
          <a:xfrm>
            <a:off x="4835880" y="5070600"/>
            <a:ext cx="36676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i="1" lang="fr-FR" sz="1400" spc="-1" strike="noStrike">
                <a:solidFill>
                  <a:srgbClr val="333399"/>
                </a:solidFill>
                <a:latin typeface="Comic Sans MS"/>
              </a:rPr>
              <a:t>THANKS FOR YOUR ATTEN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333399"/>
                </a:solidFill>
                <a:latin typeface="Comic Sans MS"/>
              </a:rPr>
              <a:t>C. Astor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4483080" y="5889240"/>
            <a:ext cx="4440240" cy="8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pPr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vadonga.astorga-llorens@jrc.ec.europa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fr-BE" sz="1600" spc="-1" strike="noStrike" u="sng">
                <a:solidFill>
                  <a:srgbClr val="333399"/>
                </a:solidFill>
                <a:uFillTx/>
                <a:latin typeface="Arial"/>
              </a:rPr>
              <a:t>http://ies.jrc.cec.eu.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fr-BE" sz="1600" spc="-1" strike="noStrike" u="sng">
                <a:solidFill>
                  <a:srgbClr val="000099"/>
                </a:solidFill>
                <a:uFillTx/>
                <a:latin typeface="Arial"/>
              </a:rPr>
              <a:t>http://ie.jrc.cec.eu.int/Unit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. Mörsch / C. 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1006560" y="3159000"/>
            <a:ext cx="741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&amp; open question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WLTP-DT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AP-07-0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pen Issues May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118" descr="Slide_template_IE_logo"/>
          <p:cNvPicPr/>
          <p:nvPr/>
        </p:nvPicPr>
        <p:blipFill>
          <a:blip r:embed="rId2"/>
          <a:stretch/>
        </p:blipFill>
        <p:spPr>
          <a:xfrm>
            <a:off x="3755880" y="6208560"/>
            <a:ext cx="576360" cy="4622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1" descr="SlidesJRC_bannerLogoJRC"/>
          <p:cNvPicPr/>
          <p:nvPr/>
        </p:nvPicPr>
        <p:blipFill>
          <a:blip r:embed="rId3"/>
          <a:stretch/>
        </p:blipFill>
        <p:spPr>
          <a:xfrm>
            <a:off x="4387680" y="6283440"/>
            <a:ext cx="906480" cy="3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438120" y="1497960"/>
            <a:ext cx="796752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pPr algn="just">
              <a:buClr>
                <a:srgbClr val="000099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c9cdf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9c9cdf"/>
                </a:solidFill>
                <a:latin typeface="Arial"/>
              </a:rPr>
              <a:t>Terms of reference and scope of the work of this sub-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c9cdf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9c9cdf"/>
                </a:solidFill>
                <a:latin typeface="Arial"/>
              </a:rPr>
              <a:t>Pollutants addressed and General guid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c9cdf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9c9cdf"/>
                </a:solidFill>
                <a:latin typeface="Arial"/>
              </a:rPr>
              <a:t>Meetings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c9cdf"/>
                </a:solidFill>
                <a:latin typeface="Arial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c9cdf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9c9cdf"/>
                </a:solidFill>
                <a:latin typeface="Arial"/>
              </a:rPr>
              <a:t>Table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c9cdf"/>
                </a:solidFill>
                <a:latin typeface="Arial"/>
              </a:rPr>
              <a:t>of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c9cdf"/>
                </a:solidFill>
                <a:latin typeface="Arial"/>
              </a:rPr>
              <a:t>candidate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c9cdf"/>
                </a:solidFill>
                <a:latin typeface="Arial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efinitions/ Abbrev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pen questions in the GTR Draft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nclusions and next steps; documents loaded in CIRCA Datab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. Mörsch / C. 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4"/>
          <p:cNvSpPr/>
          <p:nvPr/>
        </p:nvSpPr>
        <p:spPr>
          <a:xfrm>
            <a:off x="665280" y="1330920"/>
            <a:ext cx="779148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dditional Pollutants subgroup received a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mandate for the development of test procedures for pollutants not currently regulat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uch as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N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, NH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3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, N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luding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easurement equip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d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formulae for the measure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for light duty vehic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659520" y="833400"/>
            <a:ext cx="77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itional pollutants subgroup – Terms of 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614520" y="2739960"/>
            <a:ext cx="8126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268200"/>
                <a:tab algn="l" pos="720720"/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e of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68200"/>
                <a:tab algn="l" pos="720720"/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subgroup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undertakes the follow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asks on th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basis of procedures in existing legisl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d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expert knowledge within the grou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68200"/>
                <a:tab algn="l" pos="720720"/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99"/>
              </a:buClr>
              <a:buFont typeface="Arial"/>
              <a:buAutoNum type="arabicPeriod"/>
              <a:tabLst>
                <a:tab algn="l" pos="268200"/>
                <a:tab algn="l" pos="720720"/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gr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n additional pollutants to be address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68200"/>
                <a:tab algn="l" pos="720720"/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99"/>
              </a:buClr>
              <a:buFont typeface="Arial"/>
              <a:buAutoNum type="arabicPeriod"/>
              <a:tabLst>
                <a:tab algn="l" pos="268200"/>
                <a:tab algn="l" pos="720720"/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Identif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ppropriat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easure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ethod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for each pollut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68200"/>
                <a:tab algn="l" pos="720720"/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99"/>
              </a:buClr>
              <a:buFont typeface="Arial"/>
              <a:buAutoNum type="arabicPeriod"/>
              <a:tabLst>
                <a:tab algn="l" pos="268200"/>
                <a:tab algn="l" pos="720720"/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Describ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easure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calib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rocedures as well as calculations based on existing legislation and on output from lab procedure subgrou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68200"/>
                <a:tab algn="l" pos="720720"/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99"/>
              </a:buClr>
              <a:buFont typeface="Arial"/>
              <a:buAutoNum type="arabicPeriod"/>
              <a:tabLst>
                <a:tab algn="l" pos="268200"/>
                <a:tab algn="l" pos="720720"/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Draft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f GTR legislatio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7"/>
          <p:cNvSpPr/>
          <p:nvPr/>
        </p:nvSpPr>
        <p:spPr>
          <a:xfrm>
            <a:off x="6105600" y="3676680"/>
            <a:ext cx="360360" cy="322200"/>
          </a:xfrm>
          <a:prstGeom prst="pi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 rot="20514600">
            <a:off x="7201080" y="497664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cc00"/>
                </a:solidFill>
                <a:latin typeface="Arial"/>
              </a:rPr>
              <a:t>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2">
            <a:hlinkClick r:id="rId1" action="ppaction://hlinksldjump"/>
          </p:cNvPr>
          <p:cNvSpPr/>
          <p:nvPr/>
        </p:nvSpPr>
        <p:spPr>
          <a:xfrm>
            <a:off x="6661080" y="3719520"/>
            <a:ext cx="352440" cy="260280"/>
          </a:xfrm>
          <a:custGeom>
            <a:avLst/>
            <a:gdLst>
              <a:gd name="textAreaLeft" fmla="*/ 16560 w 352440"/>
              <a:gd name="textAreaRight" fmla="*/ 335880 w 3524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9238" h="21600">
                <a:moveTo>
                  <a:pt x="0" y="0"/>
                </a:moveTo>
                <a:lnTo>
                  <a:pt x="29238" y="0"/>
                </a:lnTo>
                <a:lnTo>
                  <a:pt x="29238" y="21600"/>
                </a:lnTo>
                <a:lnTo>
                  <a:pt x="0" y="21600"/>
                </a:lnTo>
                <a:close/>
              </a:path>
              <a:path fill="lightenLess" w="29238" h="21600">
                <a:moveTo>
                  <a:pt x="0" y="0"/>
                </a:moveTo>
                <a:lnTo>
                  <a:pt x="29238" y="0"/>
                </a:lnTo>
                <a:lnTo>
                  <a:pt x="27838" y="1400"/>
                </a:lnTo>
                <a:lnTo>
                  <a:pt x="1400" y="1400"/>
                </a:lnTo>
                <a:close/>
              </a:path>
              <a:path fill="darken" w="29238" h="21600">
                <a:moveTo>
                  <a:pt x="29238" y="0"/>
                </a:moveTo>
                <a:lnTo>
                  <a:pt x="29238" y="21600"/>
                </a:lnTo>
                <a:lnTo>
                  <a:pt x="27838" y="20200"/>
                </a:lnTo>
                <a:lnTo>
                  <a:pt x="27838" y="1400"/>
                </a:lnTo>
                <a:close/>
              </a:path>
              <a:path fill="darkenLess" w="29238" h="21600">
                <a:moveTo>
                  <a:pt x="29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38" y="20200"/>
                </a:lnTo>
                <a:close/>
              </a:path>
              <a:path fill="lighten" w="29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38" h="21600">
                <a:moveTo>
                  <a:pt x="14619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9238" h="21600">
                <a:moveTo>
                  <a:pt x="14619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9238" h="21600">
                <a:moveTo>
                  <a:pt x="12042" y="8224"/>
                </a:moveTo>
                <a:lnTo>
                  <a:pt x="15907" y="8224"/>
                </a:lnTo>
                <a:lnTo>
                  <a:pt x="15907" y="15221"/>
                </a:lnTo>
                <a:lnTo>
                  <a:pt x="17195" y="15221"/>
                </a:lnTo>
                <a:lnTo>
                  <a:pt x="17195" y="16144"/>
                </a:lnTo>
                <a:lnTo>
                  <a:pt x="12042" y="16144"/>
                </a:lnTo>
                <a:lnTo>
                  <a:pt x="12042" y="15221"/>
                </a:lnTo>
                <a:lnTo>
                  <a:pt x="13331" y="15221"/>
                </a:lnTo>
                <a:lnTo>
                  <a:pt x="13331" y="9129"/>
                </a:lnTo>
                <a:lnTo>
                  <a:pt x="12042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7"/>
          <p:cNvSpPr/>
          <p:nvPr/>
        </p:nvSpPr>
        <p:spPr>
          <a:xfrm>
            <a:off x="7496280" y="4168800"/>
            <a:ext cx="360360" cy="322200"/>
          </a:xfrm>
          <a:prstGeom prst="pi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 rot="20514600">
            <a:off x="3877560" y="5435280"/>
            <a:ext cx="16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cc00"/>
                </a:solidFill>
                <a:latin typeface="Arial"/>
              </a:rPr>
              <a:t>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ate Placeholder 2"/>
          <p:cNvSpPr/>
          <p:nvPr/>
        </p:nvSpPr>
        <p:spPr>
          <a:xfrm>
            <a:off x="2062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. Mörsch / C. 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553320" y="881280"/>
            <a:ext cx="5901840" cy="55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eting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rst Meeting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lephone/Web Con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: 20th July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 particip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nd Meeting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lephone/Web Con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: 20th July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 particip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rd Meeting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e to face meeting at JRC/Isp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: 9/10 Dec.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4 particip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th Meeting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e to face meeting at BMW/Mun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: 7/8 March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8 particip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5th Meeting:</a:t>
            </a:r>
            <a:r>
              <a:rPr b="1" lang="en-US" sz="14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	</a:t>
            </a:r>
            <a:r>
              <a:rPr b="1" lang="en-US" sz="14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	</a:t>
            </a:r>
            <a:r>
              <a:rPr b="1" lang="en-US" sz="14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Face to face meeting at JRC/Isp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	</a:t>
            </a:r>
            <a:r>
              <a:rPr b="1" lang="en-US" sz="14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	</a:t>
            </a:r>
            <a:r>
              <a:rPr b="1" lang="en-US" sz="14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	</a:t>
            </a:r>
            <a:r>
              <a:rPr b="1" lang="en-US" sz="14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10/11 May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6832440" y="1798560"/>
            <a:ext cx="2119320" cy="3056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meetings (2 phone conferences and 3 face to face meetings in December  2010, March and May 2011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the time being, no further face to face meeting 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4"/>
          <p:cNvSpPr/>
          <p:nvPr/>
        </p:nvSpPr>
        <p:spPr>
          <a:xfrm>
            <a:off x="446040" y="1468080"/>
            <a:ext cx="8413920" cy="42076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NO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NH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N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Ethanol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(EtO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ldehyde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: Formaldehyde, Acetaldehyde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RCHO, R = H or 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5">
            <a:hlinkClick r:id="rId1" action="ppaction://hlinksldjump"/>
          </p:cNvPr>
          <p:cNvSpPr/>
          <p:nvPr/>
        </p:nvSpPr>
        <p:spPr>
          <a:xfrm>
            <a:off x="425520" y="5797440"/>
            <a:ext cx="436320" cy="354240"/>
          </a:xfrm>
          <a:custGeom>
            <a:avLst/>
            <a:gdLst>
              <a:gd name="textAreaLeft" fmla="*/ 22680 w 436320"/>
              <a:gd name="textAreaRight" fmla="*/ 413640 w 436320"/>
              <a:gd name="textAreaTop" fmla="*/ 22680 h 354240"/>
              <a:gd name="textAreaBottom" fmla="*/ 331560 h 354240"/>
            </a:gdLst>
            <a:ahLst/>
            <a:rect l="textAreaLeft" t="textAreaTop" r="textAreaRight" b="textAreaBottom"/>
            <a:pathLst>
              <a:path w="26600" h="21600">
                <a:moveTo>
                  <a:pt x="0" y="0"/>
                </a:moveTo>
                <a:lnTo>
                  <a:pt x="26600" y="0"/>
                </a:lnTo>
                <a:lnTo>
                  <a:pt x="26600" y="21600"/>
                </a:lnTo>
                <a:lnTo>
                  <a:pt x="0" y="21600"/>
                </a:lnTo>
                <a:close/>
              </a:path>
              <a:path fill="lightenLess" w="26600" h="21600">
                <a:moveTo>
                  <a:pt x="0" y="0"/>
                </a:moveTo>
                <a:lnTo>
                  <a:pt x="26600" y="0"/>
                </a:lnTo>
                <a:lnTo>
                  <a:pt x="25200" y="1400"/>
                </a:lnTo>
                <a:lnTo>
                  <a:pt x="1400" y="1400"/>
                </a:lnTo>
                <a:close/>
              </a:path>
              <a:path fill="darken" w="26600" h="21600">
                <a:moveTo>
                  <a:pt x="26600" y="0"/>
                </a:moveTo>
                <a:lnTo>
                  <a:pt x="26600" y="21600"/>
                </a:lnTo>
                <a:lnTo>
                  <a:pt x="25200" y="20200"/>
                </a:lnTo>
                <a:lnTo>
                  <a:pt x="25200" y="1400"/>
                </a:lnTo>
                <a:close/>
              </a:path>
              <a:path fill="darkenLess" w="26600" h="21600">
                <a:moveTo>
                  <a:pt x="26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00" y="20200"/>
                </a:lnTo>
                <a:close/>
              </a:path>
              <a:path fill="lighten" w="26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00" h="21600">
                <a:moveTo>
                  <a:pt x="6293" y="10800"/>
                </a:moveTo>
                <a:lnTo>
                  <a:pt x="20306" y="3794"/>
                </a:lnTo>
                <a:lnTo>
                  <a:pt x="203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541440" y="882720"/>
            <a:ext cx="41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lutants to be addressed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3521160" y="1693800"/>
            <a:ext cx="5173560" cy="1191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OTE: Any other pollutants not included in this list should be supported by an assessment on negative effects to health or to the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438120" y="1497960"/>
            <a:ext cx="796752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pPr algn="just">
              <a:buClr>
                <a:srgbClr val="000099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c9cdf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9c9cdf"/>
                </a:solidFill>
                <a:latin typeface="Arial"/>
              </a:rPr>
              <a:t>Terms of reference and scope of the work of this sub-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c9cdf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9c9cdf"/>
                </a:solidFill>
                <a:latin typeface="Arial"/>
              </a:rPr>
              <a:t>Pollutants addressed and General guid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c9cdf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9c9cdf"/>
                </a:solidFill>
                <a:latin typeface="Arial"/>
              </a:rPr>
              <a:t>Meetings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c9cdf"/>
                </a:solidFill>
                <a:latin typeface="Arial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c9cdf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9c9cdf"/>
                </a:solidFill>
                <a:latin typeface="Arial"/>
              </a:rPr>
              <a:t>Table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c9cdf"/>
                </a:solidFill>
                <a:latin typeface="Arial"/>
              </a:rPr>
              <a:t>of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c9cdf"/>
                </a:solidFill>
                <a:latin typeface="Arial"/>
              </a:rPr>
              <a:t>candidate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c9cdf"/>
                </a:solidFill>
                <a:latin typeface="Arial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efinitions/ Abbrev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pen questions in the GTR Draft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nclusions and next steps; documents loaded in CIRCA Datab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. Mörsch / C. 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205920" y="3317400"/>
            <a:ext cx="8466120" cy="34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reference methods have been identified. Possible source of text has been added where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formance crite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thering of performance data for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candidate metho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been tasked within gro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the Range of emission level to be measured performance criteria  (LoD, LoQ, rise time and max. interference) have been deriv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able of candidate metho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e evaluated has been set 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146160" y="655560"/>
            <a:ext cx="8821800" cy="28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372"/>
          <p:cNvSpPr/>
          <p:nvPr/>
        </p:nvSpPr>
        <p:spPr>
          <a:xfrm>
            <a:off x="195120" y="974880"/>
            <a:ext cx="77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ble of candidate methods for additional pollu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8" descr=""/>
          <p:cNvPicPr/>
          <p:nvPr/>
        </p:nvPicPr>
        <p:blipFill>
          <a:blip r:embed="rId1"/>
          <a:stretch/>
        </p:blipFill>
        <p:spPr>
          <a:xfrm>
            <a:off x="76320" y="1554120"/>
            <a:ext cx="8899560" cy="4633920"/>
          </a:xfrm>
          <a:prstGeom prst="rect">
            <a:avLst/>
          </a:prstGeom>
          <a:ln w="0">
            <a:noFill/>
          </a:ln>
        </p:spPr>
      </p:pic>
      <p:sp>
        <p:nvSpPr>
          <p:cNvPr id="289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Ol. Mörs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 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460440" y="1427040"/>
            <a:ext cx="8270640" cy="45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neariz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of a range of concentrations or materials including zero to </a:t>
            </a:r>
            <a:r>
              <a:rPr b="1" lang="en-GB" sz="18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establis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mathematical relationship between concentration and system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nearization che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of a range of concentrations or materials including zero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8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verif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mathematical relationship between concentration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stem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ibr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zero, span adjustment with calibration gases or calibration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zero, span check with calibration gases or calibration materials, no adju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448560" y="816120"/>
            <a:ext cx="185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efin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2:57:13Z</dcterms:created>
  <dc:creator>Moersch, Oliver (019)</dc:creator>
  <dc:description/>
  <dc:language>en-US</dc:language>
  <cp:lastModifiedBy>Romain HUBERT</cp:lastModifiedBy>
  <cp:lastPrinted>2011-06-06T14:15:26Z</cp:lastPrinted>
  <dcterms:modified xsi:type="dcterms:W3CDTF">2011-06-14T09:32:28Z</dcterms:modified>
  <cp:revision>75</cp:revision>
  <dc:subject/>
  <dc:title>Folie 1</dc:title>
</cp:coreProperties>
</file>