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55840"/>
          </a:xfrm>
          <a:prstGeom prst="rect">
            <a:avLst/>
          </a:prstGeom>
          <a:solidFill>
            <a:srgbClr val="016e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531200" y="0"/>
            <a:ext cx="1612800" cy="7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LTP DTP PM-PN Subgroup Activities, Progress &amp; Future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T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n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 Par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mendments to GT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M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9 background correc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ximum permissible PN correction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utio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i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ackground measurement (rolling average or on day of te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15 Tunnel pre-conditioning procedur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view during validation whether recommended 20 mins at 120kph is sufficient, text amended to clarify that longer, hotter pre-conditioning is permi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M weighing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3 PM sample filter conditioning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viewing minimum filter conditioning period based on data from different labs and different vehicl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6 Reference filter weighing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 reference filters of same size and media as test filters, replace every 30 days or more frequently. Still considering acceptance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7 PM calculati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waiting propose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1 PN measurement during regener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imited available studies suggest current VPR and PNC cut-off are suitable for regeneration measurements. Propose making additional experimental measurements during Validation 2 to confirm. Need to consider regeneration test procedure/weighting, repeat hot start cycles during regen testing will artificially depress P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1 VPR minimum solid particle penetration efficiency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70% at 100nm proposed, plus current max ratios for pcr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30n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pcr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00n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pcr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50n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pcr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00n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Reviewing whether ratios could be tightened based on availabl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5 PNC calibration aeroso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bgroup will develop updated calibration guidance documents in parallel to Validation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mendments to GT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 construction should permit use of PM single filter for all hot start phases, i.e. no phase weighting factors, to minimise measuremen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F regeneration testing procedures should permit repeat cycles to be run back to back without intermediate cold starts or hot so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gather data during validation on PN during DPF re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rm PN measurement system is capable of excluding worst case volatile material during DPF re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S and filter face temperatures during regener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gather data during validation on tunnel background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20 minutes pre-conditioning at 120kph suffic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 PN background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s to GT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ments to GT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TP-DTP-PMPN-09-06 rev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oyancy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ignition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te matter weighing cha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ignition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ments to GT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Symbols &amp; Acronyms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haust transfer tub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ting added as an optional alternative to insulation. Connection sealing elastomers should be thermally stable and not bridg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lution tunnel mixing point pressure vari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. Dealt with by pressure variation requirements at tail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DP &amp; CFV Dilution system schemat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updated and made 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M &amp; PN background measure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dilution air or tunnel background permitted at discretion of contracting party up to maxima of 1mg/km an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N/km. Tunnel background measurements must be on day of test after any tunnel pre-cond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M filter weighing procedur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and reference filter weighing procedur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ments to GT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ibration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gram balance, VPR and PNC requirements ins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nnel pre-conditio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mended to explicitly permit longer and/or higher speed running if requi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di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ext added to permit this as an option provided dilution system accuracy requirements are still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 &amp; PN calcul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ext amended to reflect option to use double dilution and introduction on PN background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al flow dilution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ext deleted, not permitted for WLTP ph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 &amp; PN Measurement &amp; weighing chamber specific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oved to Annex III (measurement equipment) and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eneration test proced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ext amended to explicitly permit use of a single filter for PM measurement over repeat cycles required to complete re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mendments to GT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s to GT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/Jul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final agreement on remaining Ope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se PM-PN elements of GT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N calibration guidanc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ata from Validation 2 on tunnel background, tunnel pre-conditioning &amp; PN during re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mendments to GT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group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eting –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Open Issues were review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ion air filtr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correc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ol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hut-off valve loc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media specification, conditioning &amp;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 Microbalance precision and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filter weig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group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 review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 during 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R solid particle penetra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C calibration aer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raft GTR text was reviewed. An updated text has been circulated as document PMPN-09-06 rev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mendments to GT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8 Dilution air filtration efficienc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.95% agreed [JASIC would prefer 99.97%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artial) A9 Background corre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nnel or dilution air background included as regional options. Tunnel background should be measured on day of test, following any tunnel pre-cond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16 Sampling cool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is acceptable as is, without explicit reference to sample 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20 Data logging frequenc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Hz for all parameters for 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27 proportionality of PM sample flow ra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ify on system commissioning and then as required by technical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ose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 Sampling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5 Shut-off valve lo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wnstream of filter 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8 Filter med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ther membrane or coated filter, collection efficiency specification corrected based on input from P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 wei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2 Microbalance preci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as per GTR 4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4 PNC Calibration frequenc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3 month interval agreed with a requirement to either monitor PNC counting efficiency versus a reference or change PNC wick every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osed subject to review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g. due to Validation 2 or DHC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M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2 CVS temperature during regen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0C maximum subject to valida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26 Number of PM sample filters required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e for cold start phase, one for all hot start phases combined, subject to DHC cycle design/we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04:26Z</dcterms:created>
  <dc:creator>Chris Parkin</dc:creator>
  <dc:description/>
  <dc:language>en-US</dc:language>
  <cp:lastModifiedBy>Romain HUBERT</cp:lastModifiedBy>
  <dcterms:modified xsi:type="dcterms:W3CDTF">2011-06-14T09:31:16Z</dcterms:modified>
  <cp:revision>40</cp:revision>
  <dc:subject/>
  <dc:title>WLTP DTP PM-PN Subgroup Activities, Progress &amp; Future P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