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59EFA7-8145-4B9C-9593-CBC0DFE605AE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A0F7AC-45E0-4D18-B3FF-FE39CCA52D23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6DB-3517-43FA-B3EC-F0B9DE0204D1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6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8th June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4000"/>
            </a:b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6th Meeting of WLTP DTP</a:t>
            </a: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8th June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lanning of validation p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28480" y="1700280"/>
            <a:ext cx="8229600" cy="2984400"/>
          </a:xfrm>
          <a:prstGeom prst="rect">
            <a:avLst/>
          </a:prstGeom>
          <a:ln w="0">
            <a:noFill/>
          </a:ln>
        </p:spPr>
      </p:pic>
      <p:sp>
        <p:nvSpPr>
          <p:cNvPr id="109" name="Textfeld 4"/>
          <p:cNvSpPr/>
          <p:nvPr/>
        </p:nvSpPr>
        <p:spPr>
          <a:xfrm>
            <a:off x="4788000" y="522936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urce: Validation Task Force, lead J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oR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me essential aspect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the objectives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rticipation in valida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nouncement of interest from tes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ring this 6th DTP meeting: inform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confirmation of participation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vide regional contact point (EU, Japan, Korea, India, China, USA)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oR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4000" y="938160"/>
            <a:ext cx="8391240" cy="5172120"/>
          </a:xfrm>
          <a:prstGeom prst="rect">
            <a:avLst/>
          </a:prstGeom>
          <a:ln w="0">
            <a:noFill/>
          </a:ln>
        </p:spPr>
      </p:pic>
      <p:sp>
        <p:nvSpPr>
          <p:cNvPr id="114" name="Pfeil nach rechts 3"/>
          <p:cNvSpPr/>
          <p:nvPr/>
        </p:nvSpPr>
        <p:spPr>
          <a:xfrm>
            <a:off x="2268360" y="2060640"/>
            <a:ext cx="4751640" cy="2448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4"/>
          <p:cNvSpPr/>
          <p:nvPr/>
        </p:nvSpPr>
        <p:spPr>
          <a:xfrm>
            <a:off x="2771640" y="30495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ee ad ho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test matrix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feil nach rechts 4"/>
          <p:cNvSpPr/>
          <p:nvPr/>
        </p:nvSpPr>
        <p:spPr>
          <a:xfrm>
            <a:off x="2340000" y="2133720"/>
            <a:ext cx="4753080" cy="244764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e ad hoc presentation from Ichikawa-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5. General issues (DTP level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(DTP 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pen issues not essential for the start of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ak and test temperature (UTAC and J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finiton of vehicle test mass (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ertia classes (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mily concept (postpo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r. Krause, secretary of DTP, is unfortunately not present at this meeting for health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remarkable, nevertherless still many open issues to be addressed until June GR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t up of a GTR drafting group is not available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planning of the validation phases is an urgent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vant parameters for implementation of validation phase 2 have to be provid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bjectives of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objectives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how working progress from the subgroup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e the parameter setting needed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ree on further actions to be taken regarding other open issues, which are not absolutely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epare DTP report to G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modif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4628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agenda modified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273320" y="1052640"/>
            <a:ext cx="7475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9336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8620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3. Report from the Subgrou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85920" y="1736280"/>
            <a:ext cx="62388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6000" spc="-1" strike="noStrike">
                <a:solidFill>
                  <a:srgbClr val="000000"/>
                </a:solidFill>
                <a:latin typeface="Arial"/>
              </a:rPr>
              <a:t>4. Planning of validation ph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Romain HUBERT</cp:lastModifiedBy>
  <cp:lastPrinted>2003-11-14T16:51:38Z</cp:lastPrinted>
  <dcterms:modified xsi:type="dcterms:W3CDTF">2011-06-14T09:28:36Z</dcterms:modified>
  <cp:revision>409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