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8A205F3-A1C7-46D1-9954-3CE67534BC0A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393782-5074-4386-BBD8-9F9889DB8A03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14D3-3D57-404C-84C1-D13C947ECF02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6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8th June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6th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8th June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lanning of validation p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28480" y="1700280"/>
            <a:ext cx="8229600" cy="2984400"/>
          </a:xfrm>
          <a:prstGeom prst="rect">
            <a:avLst/>
          </a:prstGeom>
          <a:ln w="0">
            <a:noFill/>
          </a:ln>
        </p:spPr>
      </p:pic>
      <p:sp>
        <p:nvSpPr>
          <p:cNvPr id="109" name="Textfeld 4"/>
          <p:cNvSpPr/>
          <p:nvPr/>
        </p:nvSpPr>
        <p:spPr>
          <a:xfrm>
            <a:off x="4788000" y="5229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urce: Validation Task Force, lead J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oR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me essential aspect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objectives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rticipation in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nouncement of interest from tes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ring this 6th DTP meeting: inform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confirmation of participation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e regional contact point (EU, Japan, Korea, India, China, USA)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oR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4000" y="938160"/>
            <a:ext cx="8391240" cy="5172120"/>
          </a:xfrm>
          <a:prstGeom prst="rect">
            <a:avLst/>
          </a:prstGeom>
          <a:ln w="0">
            <a:noFill/>
          </a:ln>
        </p:spPr>
      </p:pic>
      <p:sp>
        <p:nvSpPr>
          <p:cNvPr id="114" name="Pfeil nach rechts 3"/>
          <p:cNvSpPr/>
          <p:nvPr/>
        </p:nvSpPr>
        <p:spPr>
          <a:xfrm>
            <a:off x="2268360" y="2060640"/>
            <a:ext cx="4751640" cy="2448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4"/>
          <p:cNvSpPr/>
          <p:nvPr/>
        </p:nvSpPr>
        <p:spPr>
          <a:xfrm>
            <a:off x="2771640" y="30495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e ad ho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test matrix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feil nach rechts 4"/>
          <p:cNvSpPr/>
          <p:nvPr/>
        </p:nvSpPr>
        <p:spPr>
          <a:xfrm>
            <a:off x="2340000" y="2133720"/>
            <a:ext cx="4753080" cy="244764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e ad hoc presentation from Ichikawa-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5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en issues not essential for the start of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ak and test temperature (UTAC and J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ton of vehicle test mass (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ertia classes (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postp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r. Krause, secretary of DTP, is unfortunately not present at this meeting for health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remarkable, nevertherless still many open issues to be addressed until June GR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t up of a GTR drafting group is not available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planning of the validation phases is an urgent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vant parameters for implementation of validation phase 2 have to be provid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objectives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the parameter setting needed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further actions to be taken regarding other open issues, which are not absolutely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DTP report to G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mod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462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modified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273320" y="1052640"/>
            <a:ext cx="7475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9336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8620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Report from the Subgrou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Planning of validation ph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Romain HUBERT</cp:lastModifiedBy>
  <cp:lastPrinted>2003-11-14T16:51:38Z</cp:lastPrinted>
  <dcterms:modified xsi:type="dcterms:W3CDTF">2011-06-14T09:28:36Z</dcterms:modified>
  <cp:revision>409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