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DA1-2540-46BE-A1A3-147B4A2A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B31-9CEF-4DA8-867A-F105479D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F69-20AF-4F7B-96CF-39693ACE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E9B-A728-4A75-8420-73626F5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4E6-AA02-4510-B66F-82C4655F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586-AB7A-4B25-B764-46441013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153-2AB6-4186-B50C-5180012E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743-65AD-4FB9-8CF4-4EC6BCD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624-D412-42C5-8E94-EA413D06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744-0446-41CF-B9E5-6DFB5170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ECE-20EF-44B0-BD45-061B4F4E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B77-8B63-40C4-83AB-76CE156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AB8-9EE9-41DE-B2C8-40EED66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159-616D-4FBA-B29B-19EAE1B3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20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33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Rectangle 21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22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23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24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25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26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27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28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7" descr="Logo UTAC couleur (B2a)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1EBD-AF9E-45F9-8133-4DE6B36BC4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5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53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5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6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5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5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6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6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" name="Picture 32" descr="Logo UTAC couleur (B2a) fond transaparent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fluence of the Temperature over CO2 Emissions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First Results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LTP/D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urich 12/04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Arial"/>
              </a:rPr>
              <a:t>Test Conditions (1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Vehicles (10 kk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Diesel (D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Gasoline (G1 &amp; 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2 Test Cy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emper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pied de page 1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space réservé du numéro de diapositive 2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1DD-433B-4DDA-B8EE-6EDE1A90F3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Test Conditions (2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king &amp; Test cell at T ± 2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pproval CD values at 20°C corrected with test temperature (GTR draft RL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 of T on forces (compared to 20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°C =&gt; ~ +1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°C =&gt; ~ +2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5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°C =&gt; ~ -2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5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9C99-0291-4641-9C88-05D0C7EF34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1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C4CC-559A-4F85-BA90-E47082CBE0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Espace réservé du contenu 6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2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8A4-5781-4864-8E45-68B36CD779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pace réservé du contenu 9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4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EAD-C761-4DC9-B5D6-86022C8D98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Espace réservé du contenu 5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3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98BD-017B-4CC4-BE47-AE3834EF47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Espace réservé du contenu 6" descr=""/>
          <p:cNvPicPr/>
          <p:nvPr/>
        </p:nvPicPr>
        <p:blipFill>
          <a:blip r:embed="rId1"/>
          <a:stretch/>
        </p:blipFill>
        <p:spPr>
          <a:xfrm>
            <a:off x="4698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results take us to the following 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influence of the cycle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fluence of 15°C (compared to 22/25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influence at 25°C compared to 22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6E0-E846-4EF3-9DBD-A7128356D52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23:07Z</dcterms:created>
  <dc:creator>François MINNE</dc:creator>
  <dc:description/>
  <dc:language>en-US</dc:language>
  <cp:lastModifiedBy>vallaude</cp:lastModifiedBy>
  <dcterms:modified xsi:type="dcterms:W3CDTF">2011-04-13T07:09:44Z</dcterms:modified>
  <cp:revision>39</cp:revision>
  <dc:subject/>
  <dc:title>Diapositive 1</dc:title>
</cp:coreProperties>
</file>