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9F07-3B9B-47EE-A402-C50DEF465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A473-4439-4327-A50E-329561C47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2270-D15F-4665-9110-03248C81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83AA-BF85-4A32-88D7-526C3B7D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5C7E-4E20-48DC-84CD-7BCFF9A1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E519-0EDE-4E89-B4E2-5E5381ED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692000" y="0"/>
            <a:ext cx="74516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E410-C75B-4071-B853-EEE1D7F8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E8E3-F131-4F5B-9503-B07E93A0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8A34-BC73-427E-8588-00792EFD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7523-D810-4730-B534-2899D4D2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692000" y="0"/>
            <a:ext cx="74516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2DE4-997A-4D3A-AA4F-6EBC86A3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71F1-89C9-455B-9DC2-05264823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619F-831B-4BFC-A80B-A4334B06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1E2F-6AA6-4EDD-8815-6FA5A733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8"/>
          <p:cNvSpPr/>
          <p:nvPr/>
        </p:nvSpPr>
        <p:spPr>
          <a:xfrm>
            <a:off x="719280" y="62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" name="Rectangle 20"/>
            <p:cNvSpPr/>
            <p:nvPr/>
          </p:nvSpPr>
          <p:spPr>
            <a:xfrm>
              <a:off x="0" y="0"/>
              <a:ext cx="28584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33"/>
            <p:cNvGrpSpPr/>
            <p:nvPr/>
          </p:nvGrpSpPr>
          <p:grpSpPr>
            <a:xfrm>
              <a:off x="131760" y="0"/>
              <a:ext cx="9012240" cy="546120"/>
              <a:chOff x="131760" y="0"/>
              <a:chExt cx="9012240" cy="546120"/>
            </a:xfrm>
          </p:grpSpPr>
          <p:sp>
            <p:nvSpPr>
              <p:cNvPr id="4" name="Rectangle 21"/>
              <p:cNvSpPr/>
              <p:nvPr/>
            </p:nvSpPr>
            <p:spPr>
              <a:xfrm>
                <a:off x="412920" y="135000"/>
                <a:ext cx="8731080" cy="274680"/>
              </a:xfrm>
              <a:prstGeom prst="rect">
                <a:avLst/>
              </a:prstGeom>
              <a:gradFill rotWithShape="0">
                <a:gsLst>
                  <a:gs pos="0">
                    <a:srgbClr val="00007d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22"/>
              <p:cNvSpPr/>
              <p:nvPr/>
            </p:nvSpPr>
            <p:spPr>
              <a:xfrm>
                <a:off x="409680" y="135000"/>
                <a:ext cx="137880" cy="1411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23"/>
              <p:cNvSpPr/>
              <p:nvPr/>
            </p:nvSpPr>
            <p:spPr>
              <a:xfrm>
                <a:off x="547560" y="0"/>
                <a:ext cx="139680" cy="138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24"/>
              <p:cNvSpPr/>
              <p:nvPr/>
            </p:nvSpPr>
            <p:spPr>
              <a:xfrm>
                <a:off x="547560" y="135000"/>
                <a:ext cx="139680" cy="1411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25"/>
              <p:cNvSpPr/>
              <p:nvPr/>
            </p:nvSpPr>
            <p:spPr>
              <a:xfrm>
                <a:off x="274680" y="274680"/>
                <a:ext cx="136440" cy="138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26"/>
              <p:cNvSpPr/>
              <p:nvPr/>
            </p:nvSpPr>
            <p:spPr>
              <a:xfrm>
                <a:off x="131760" y="136440"/>
                <a:ext cx="141120" cy="138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27"/>
              <p:cNvSpPr/>
              <p:nvPr/>
            </p:nvSpPr>
            <p:spPr>
              <a:xfrm>
                <a:off x="409680" y="271440"/>
                <a:ext cx="137880" cy="138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28"/>
              <p:cNvSpPr/>
              <p:nvPr/>
            </p:nvSpPr>
            <p:spPr>
              <a:xfrm>
                <a:off x="274680" y="409680"/>
                <a:ext cx="136440" cy="1364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ftr" idx="1"/>
          </p:nvPr>
        </p:nvSpPr>
        <p:spPr>
          <a:xfrm>
            <a:off x="2050560" y="6453000"/>
            <a:ext cx="49690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LTP/DTP/12-04-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Picture 7" descr="Logo UTAC couleur (B2a)"/>
          <p:cNvPicPr/>
          <p:nvPr/>
        </p:nvPicPr>
        <p:blipFill>
          <a:blip r:embed="rId2"/>
          <a:stretch/>
        </p:blipFill>
        <p:spPr>
          <a:xfrm>
            <a:off x="433440" y="450720"/>
            <a:ext cx="1042920" cy="241560"/>
          </a:xfrm>
          <a:prstGeom prst="rect">
            <a:avLst/>
          </a:prstGeom>
          <a:ln w="0">
            <a:noFill/>
          </a:ln>
        </p:spPr>
      </p:pic>
      <p:sp>
        <p:nvSpPr>
          <p:cNvPr id="16" name="PlaceHolder 4"/>
          <p:cNvSpPr>
            <a:spLocks noGrp="1"/>
          </p:cNvSpPr>
          <p:nvPr>
            <p:ph type="dt" idx="2"/>
          </p:nvPr>
        </p:nvSpPr>
        <p:spPr>
          <a:xfrm>
            <a:off x="394920" y="6453000"/>
            <a:ext cx="1368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7596000" y="6453000"/>
            <a:ext cx="10904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FE22-0B5C-46C3-BA7C-4883E4B095E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5" name="Rectangle 50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51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Group 5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8" name="Rectangle 53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Rectangle 54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Rectangle 55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56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57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58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59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Rectangle 60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Rectangle 61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Rectangle 62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8" name="Picture 32" descr="Logo UTAC couleur (B2a) fond transaparent"/>
          <p:cNvPicPr/>
          <p:nvPr/>
        </p:nvPicPr>
        <p:blipFill>
          <a:blip r:embed="rId2"/>
          <a:stretch/>
        </p:blipFill>
        <p:spPr>
          <a:xfrm>
            <a:off x="1187280" y="77760"/>
            <a:ext cx="3903840" cy="9032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4"/>
          </p:nvPr>
        </p:nvSpPr>
        <p:spPr>
          <a:xfrm>
            <a:off x="826920" y="6381360"/>
            <a:ext cx="338472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LTP/DTP/12-04-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Influence of the Temperature over CO2 Emissions</a:t>
            </a:r>
            <a:br>
              <a:rPr sz="3200"/>
            </a:b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(First Results)</a:t>
            </a: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987640" y="4268880"/>
            <a:ext cx="5975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WLTP/D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Zurich 12/04/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97d"/>
                </a:solidFill>
                <a:latin typeface="Arial"/>
              </a:rPr>
              <a:t>Test Conditions (1)</a:t>
            </a: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3 Vehicles (10 kkm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Diesel (D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Gasoline (G1 &amp; 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2 Test Cyc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TP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3 Temperatu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2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5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5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Espace réservé du pied de page 1"/>
          <p:cNvSpPr/>
          <p:nvPr/>
        </p:nvSpPr>
        <p:spPr>
          <a:xfrm>
            <a:off x="2050920" y="6453360"/>
            <a:ext cx="496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LTP/DTP/12-04-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Espace réservé du numéro de diapositive 2"/>
          <p:cNvSpPr/>
          <p:nvPr/>
        </p:nvSpPr>
        <p:spPr>
          <a:xfrm>
            <a:off x="7596360" y="6453360"/>
            <a:ext cx="109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2BA0-CD75-45A0-8B81-C73D750D597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Test Conditions (2)</a:t>
            </a: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aking &amp; Test cell at T ± 2°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approval CD values at 20°C corrected with test temperature (GTR draft RLD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uence of T on forces (compared to 20°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°C =&gt; ~ +1.0%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2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°C =&gt; ~ +2.0%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5.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°C =&gt; ~ -2.0%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5.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space réservé du pied de page 3"/>
          <p:cNvSpPr/>
          <p:nvPr/>
        </p:nvSpPr>
        <p:spPr>
          <a:xfrm>
            <a:off x="2050920" y="6453360"/>
            <a:ext cx="496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LTP/DTP/12-04-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Espace réservé du numéro de diapositive 4"/>
          <p:cNvSpPr/>
          <p:nvPr/>
        </p:nvSpPr>
        <p:spPr>
          <a:xfrm>
            <a:off x="7596360" y="6453360"/>
            <a:ext cx="109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28EB-F20C-4E40-9335-36421E2CF80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Results (1)</a:t>
            </a: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6" name="Espace réservé du pied de page 3"/>
          <p:cNvSpPr/>
          <p:nvPr/>
        </p:nvSpPr>
        <p:spPr>
          <a:xfrm>
            <a:off x="2050920" y="6453360"/>
            <a:ext cx="496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LTP/DTP/12-04-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Espace réservé du numéro de diapositive 4"/>
          <p:cNvSpPr/>
          <p:nvPr/>
        </p:nvSpPr>
        <p:spPr>
          <a:xfrm>
            <a:off x="7596360" y="6453360"/>
            <a:ext cx="109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4008-486B-4BB4-82A3-9CD58225609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Espace réservé du contenu 6" descr=""/>
          <p:cNvPicPr/>
          <p:nvPr/>
        </p:nvPicPr>
        <p:blipFill>
          <a:blip r:embed="rId1"/>
          <a:stretch/>
        </p:blipFill>
        <p:spPr>
          <a:xfrm>
            <a:off x="457200" y="1268280"/>
            <a:ext cx="82296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Results (2)</a:t>
            </a: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0" name="Espace réservé du pied de page 3"/>
          <p:cNvSpPr/>
          <p:nvPr/>
        </p:nvSpPr>
        <p:spPr>
          <a:xfrm>
            <a:off x="2050920" y="6453360"/>
            <a:ext cx="496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LTP/DTP/12-04-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Espace réservé du numéro de diapositive 4"/>
          <p:cNvSpPr/>
          <p:nvPr/>
        </p:nvSpPr>
        <p:spPr>
          <a:xfrm>
            <a:off x="7596360" y="6453360"/>
            <a:ext cx="109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10EC-8650-4BA6-B324-8E2CDA769EB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Espace réservé du contenu 9" descr=""/>
          <p:cNvPicPr/>
          <p:nvPr/>
        </p:nvPicPr>
        <p:blipFill>
          <a:blip r:embed="rId1"/>
          <a:stretch/>
        </p:blipFill>
        <p:spPr>
          <a:xfrm>
            <a:off x="457200" y="1268280"/>
            <a:ext cx="82296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Results (4)</a:t>
            </a: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4" name="Espace réservé du pied de page 3"/>
          <p:cNvSpPr/>
          <p:nvPr/>
        </p:nvSpPr>
        <p:spPr>
          <a:xfrm>
            <a:off x="2050920" y="6453360"/>
            <a:ext cx="496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LTP/DTP/12-04-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Espace réservé du numéro de diapositive 4"/>
          <p:cNvSpPr/>
          <p:nvPr/>
        </p:nvSpPr>
        <p:spPr>
          <a:xfrm>
            <a:off x="7596360" y="6453360"/>
            <a:ext cx="109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5F81-80E8-4161-84B7-B24DC60E2BA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Espace réservé du contenu 5" descr=""/>
          <p:cNvPicPr/>
          <p:nvPr/>
        </p:nvPicPr>
        <p:blipFill>
          <a:blip r:embed="rId1"/>
          <a:stretch/>
        </p:blipFill>
        <p:spPr>
          <a:xfrm>
            <a:off x="457200" y="1268280"/>
            <a:ext cx="82296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Results (3)</a:t>
            </a: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8" name="Espace réservé du pied de page 3"/>
          <p:cNvSpPr/>
          <p:nvPr/>
        </p:nvSpPr>
        <p:spPr>
          <a:xfrm>
            <a:off x="2050920" y="6453360"/>
            <a:ext cx="496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LTP/DTP/12-04-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Espace réservé du numéro de diapositive 4"/>
          <p:cNvSpPr/>
          <p:nvPr/>
        </p:nvSpPr>
        <p:spPr>
          <a:xfrm>
            <a:off x="7596360" y="6453360"/>
            <a:ext cx="109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603E-9507-4137-A276-651BE3BE495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Espace réservé du contenu 6" descr=""/>
          <p:cNvPicPr/>
          <p:nvPr/>
        </p:nvPicPr>
        <p:blipFill>
          <a:blip r:embed="rId1"/>
          <a:stretch/>
        </p:blipFill>
        <p:spPr>
          <a:xfrm>
            <a:off x="469800" y="1268280"/>
            <a:ext cx="82296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results take us to the following conclu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ignificant influence of the cycle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influence of 15°C (compared to 22/25°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ignificant influence at 25°C compared to 22°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pied de page 3"/>
          <p:cNvSpPr/>
          <p:nvPr/>
        </p:nvSpPr>
        <p:spPr>
          <a:xfrm>
            <a:off x="2050920" y="6453360"/>
            <a:ext cx="496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LTP/DTP/12-04-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Espace réservé du numéro de diapositive 4"/>
          <p:cNvSpPr/>
          <p:nvPr/>
        </p:nvSpPr>
        <p:spPr>
          <a:xfrm>
            <a:off x="7596360" y="6453360"/>
            <a:ext cx="109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CE17-C9B7-426C-9C36-B44EDC978DC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8T10:23:07Z</dcterms:created>
  <dc:creator>François MINNE</dc:creator>
  <dc:description/>
  <dc:language>en-US</dc:language>
  <cp:lastModifiedBy>vallaude</cp:lastModifiedBy>
  <dcterms:modified xsi:type="dcterms:W3CDTF">2011-04-13T07:09:44Z</dcterms:modified>
  <cp:revision>39</cp:revision>
  <dc:subject/>
  <dc:title>Diapositive 1</dc:title>
</cp:coreProperties>
</file>