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7B92A-C41C-4A9C-A219-6197AE27A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49CE1-CD06-4720-893E-15B5449E6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E1987-E77F-4422-85DC-FD17D5222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90A63-070E-4383-B2F1-A1E310F9D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64BDE-14B0-48A5-A7AE-B9D5B8E7A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9B5FA-7E81-4DC0-ABCB-A8EA64FEA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DE317-208D-472A-B77F-98E3615D9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E0404-AE80-4B73-899C-A43375164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16B32-6095-4118-8992-586C3D397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62028-9043-4AE6-9BE0-3551CD0E8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145A-DCA5-4C70-AE4B-CE53917D4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DB0D7-5667-45A3-A57A-EC250A465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TP-DTP-AP, Oliver Mörsch</a:t>
            </a:r>
            <a:endParaRPr b="0" lang="en-US" sz="10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982C-534B-46B0-9D82-803DCFDC55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1349280" y="22320"/>
            <a:ext cx="625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TP-DTP Subgroup Additional Polluta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ess Report April 2011</a:t>
            </a:r>
            <a:endParaRPr b="0" lang="en-US" sz="1600" spc="-1" strike="noStrike">
              <a:solidFill>
                <a:srgbClr val="000000"/>
              </a:solidFill>
              <a:latin typeface="Arial"/>
            </a:endParaRPr>
          </a:p>
        </p:txBody>
      </p:sp>
      <p:sp>
        <p:nvSpPr>
          <p:cNvPr id="5" name=""/>
          <p:cNvSpPr/>
          <p:nvPr/>
        </p:nvSpPr>
        <p:spPr>
          <a:xfrm>
            <a:off x="0" y="6224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LTP-DTP Subgroup Additional Pollutants</a:t>
            </a:r>
            <a:br>
              <a:rPr sz="2400"/>
            </a:br>
            <a:br>
              <a:rPr sz="2400"/>
            </a:br>
            <a:r>
              <a:rPr b="1" lang="en-US" sz="2400" spc="-1" strike="noStrike">
                <a:solidFill>
                  <a:srgbClr val="000000"/>
                </a:solidFill>
                <a:latin typeface="Arial"/>
              </a:rPr>
              <a:t>Progress report</a:t>
            </a:r>
            <a:br>
              <a:rPr sz="2400"/>
            </a:br>
            <a:endParaRPr b="0" lang="en-US" sz="2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13. April 201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ue drafting of GTR for reference metho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solve open iss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sks have been assigned within grou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547200" y="81612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xt Ste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1300320" y="1268280"/>
          <a:ext cx="3555720" cy="4889520"/>
        </p:xfrm>
        <a:graphic>
          <a:graphicData uri="http://schemas.openxmlformats.org/drawingml/2006/table">
            <a:tbl>
              <a:tblPr/>
              <a:tblGrid>
                <a:gridCol w="1068120"/>
                <a:gridCol w="900000"/>
                <a:gridCol w="15876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örsc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liv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iml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torga-Ilor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adang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R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kar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k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erss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card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OYA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uich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SIC-contac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r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vo Ca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r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ha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MW 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steel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C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fedd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m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sch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jkhuiz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j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elejehring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ur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L List Gmb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l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lmstro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a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m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card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rchn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d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o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P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f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h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C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iqu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an-Claud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6" name=""/>
          <p:cNvGraphicFramePr/>
          <p:nvPr/>
        </p:nvGraphicFramePr>
        <p:xfrm>
          <a:off x="5043600" y="1268280"/>
          <a:ext cx="3765600" cy="4889520"/>
        </p:xfrm>
        <a:graphic>
          <a:graphicData uri="http://schemas.openxmlformats.org/drawingml/2006/table">
            <a:tbl>
              <a:tblPr/>
              <a:tblGrid>
                <a:gridCol w="990360"/>
                <a:gridCol w="787680"/>
                <a:gridCol w="198756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oriy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idenor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A/Toy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g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ym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jor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a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ti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au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ho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rean Ministry of Environmen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ach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joer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kswagen Grou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de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h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chez</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wa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uta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ust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ber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d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rm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k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lv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i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k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ysl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ining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kolau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ob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rst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lfga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MW A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vr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isti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HA-AI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k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ric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et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an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ss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hmo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ysl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750960" y="693720"/>
            <a:ext cx="684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dditional pollutants subgroup - Members list</a:t>
            </a:r>
            <a:endParaRPr b="0" lang="en-US" sz="2400" spc="-1" strike="noStrike">
              <a:solidFill>
                <a:srgbClr val="000000"/>
              </a:solidFill>
              <a:latin typeface="Arial"/>
            </a:endParaRPr>
          </a:p>
        </p:txBody>
      </p:sp>
      <p:sp>
        <p:nvSpPr>
          <p:cNvPr id="48" name=""/>
          <p:cNvSpPr/>
          <p:nvPr/>
        </p:nvSpPr>
        <p:spPr>
          <a:xfrm>
            <a:off x="352440" y="12636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hair:</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o-cha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36680" y="1456560"/>
            <a:ext cx="779148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Additional Pollutants subgroup shall be responsible for the development of test procedures for pollutants not currently regulated such as NO2, NH3, N2O including measurement equipment and formulae for the measurement for light duty vehicles.</a:t>
            </a:r>
            <a:endParaRPr b="0" lang="en-US" sz="1600" spc="-1" strike="noStrike">
              <a:solidFill>
                <a:srgbClr val="000000"/>
              </a:solidFill>
              <a:latin typeface="Arial"/>
            </a:endParaRPr>
          </a:p>
        </p:txBody>
      </p:sp>
      <p:sp>
        <p:nvSpPr>
          <p:cNvPr id="51" name=""/>
          <p:cNvSpPr/>
          <p:nvPr/>
        </p:nvSpPr>
        <p:spPr>
          <a:xfrm>
            <a:off x="659520" y="833400"/>
            <a:ext cx="778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dditional pollutants subgroup – Terms of reference</a:t>
            </a:r>
            <a:endParaRPr b="0" lang="en-US" sz="2400" spc="-1" strike="noStrike">
              <a:solidFill>
                <a:srgbClr val="000000"/>
              </a:solidFill>
              <a:latin typeface="Arial"/>
            </a:endParaRPr>
          </a:p>
        </p:txBody>
      </p:sp>
      <p:sp>
        <p:nvSpPr>
          <p:cNvPr id="52" name=""/>
          <p:cNvSpPr/>
          <p:nvPr/>
        </p:nvSpPr>
        <p:spPr>
          <a:xfrm>
            <a:off x="458640" y="2727360"/>
            <a:ext cx="812664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cope of Activity</a:t>
            </a:r>
            <a:endParaRPr b="0" lang="en-US" sz="1600" spc="-1" strike="noStrike">
              <a:solidFill>
                <a:srgbClr val="000000"/>
              </a:solidFill>
              <a:latin typeface="Arial"/>
            </a:endParaRPr>
          </a:p>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subgroup will undertake the following tasks on the basis of procedures in existing</a:t>
            </a:r>
            <a:endParaRPr b="0" lang="en-US" sz="1600" spc="-1" strike="noStrike">
              <a:solidFill>
                <a:srgbClr val="000000"/>
              </a:solidFill>
              <a:latin typeface="Arial"/>
            </a:endParaRPr>
          </a:p>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egislation and expert knowledge within the group:</a:t>
            </a:r>
            <a:endParaRPr b="0" lang="en-US" sz="1600" spc="-1" strike="noStrike">
              <a:solidFill>
                <a:srgbClr val="000000"/>
              </a:solidFill>
              <a:latin typeface="Arial"/>
            </a:endParaRPr>
          </a:p>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gree on additional pollutants to be addressed.</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dentify appropriate measurement methods for each of the pollutants.</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scribe measurement and calibration procedures and calculations based on existing legislation and on output from lab procedure subgroup.</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afting of legislation text.</a:t>
            </a:r>
            <a:endParaRPr b="0" lang="en-US" sz="1600" spc="-1" strike="noStrike">
              <a:solidFill>
                <a:srgbClr val="000000"/>
              </a:solidFill>
              <a:latin typeface="Arial"/>
            </a:endParaRPr>
          </a:p>
        </p:txBody>
      </p:sp>
      <p:sp>
        <p:nvSpPr>
          <p:cNvPr id="53" name=""/>
          <p:cNvSpPr/>
          <p:nvPr/>
        </p:nvSpPr>
        <p:spPr>
          <a:xfrm>
            <a:off x="5877000" y="3664080"/>
            <a:ext cx="360360" cy="322200"/>
          </a:xfrm>
          <a:custGeom>
            <a:avLst/>
            <a:gdLst/>
            <a:ahLst/>
            <a:rect l="l" t="t" r="r" b="b"/>
            <a:pathLst>
              <a:path w="628" h="471">
                <a:moveTo>
                  <a:pt x="0" y="221"/>
                </a:moveTo>
                <a:lnTo>
                  <a:pt x="140" y="471"/>
                </a:lnTo>
                <a:lnTo>
                  <a:pt x="628" y="0"/>
                </a:lnTo>
                <a:lnTo>
                  <a:pt x="186" y="326"/>
                </a:lnTo>
                <a:lnTo>
                  <a:pt x="41" y="192"/>
                </a:lnTo>
                <a:lnTo>
                  <a:pt x="0" y="22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rot="20514600">
            <a:off x="6972480" y="496404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cc00"/>
                </a:solidFill>
                <a:latin typeface="Arial"/>
              </a:rPr>
              <a:t>in progress</a:t>
            </a:r>
            <a:endParaRPr b="0" lang="en-US" sz="2400" spc="-1" strike="noStrike">
              <a:solidFill>
                <a:srgbClr val="000000"/>
              </a:solidFill>
              <a:latin typeface="Arial"/>
            </a:endParaRPr>
          </a:p>
        </p:txBody>
      </p:sp>
      <p:sp>
        <p:nvSpPr>
          <p:cNvPr id="55" name=""/>
          <p:cNvSpPr/>
          <p:nvPr/>
        </p:nvSpPr>
        <p:spPr>
          <a:xfrm rot="20514600">
            <a:off x="3543480" y="532116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cc00"/>
                </a:solidFill>
                <a:latin typeface="Arial"/>
              </a:rPr>
              <a:t>in progress</a:t>
            </a:r>
            <a:endParaRPr b="0" lang="en-US" sz="2400" spc="-1" strike="noStrike">
              <a:solidFill>
                <a:srgbClr val="000000"/>
              </a:solidFill>
              <a:latin typeface="Arial"/>
            </a:endParaRPr>
          </a:p>
        </p:txBody>
      </p:sp>
      <p:sp>
        <p:nvSpPr>
          <p:cNvPr id="56" name=""/>
          <p:cNvSpPr/>
          <p:nvPr/>
        </p:nvSpPr>
        <p:spPr>
          <a:xfrm>
            <a:off x="7680240" y="4094280"/>
            <a:ext cx="360360" cy="322200"/>
          </a:xfrm>
          <a:custGeom>
            <a:avLst/>
            <a:gdLst/>
            <a:ahLst/>
            <a:rect l="l" t="t" r="r" b="b"/>
            <a:pathLst>
              <a:path w="628" h="471">
                <a:moveTo>
                  <a:pt x="0" y="221"/>
                </a:moveTo>
                <a:lnTo>
                  <a:pt x="140" y="471"/>
                </a:lnTo>
                <a:lnTo>
                  <a:pt x="628" y="0"/>
                </a:lnTo>
                <a:lnTo>
                  <a:pt x="186" y="326"/>
                </a:lnTo>
                <a:lnTo>
                  <a:pt x="41" y="192"/>
                </a:lnTo>
                <a:lnTo>
                  <a:pt x="0" y="22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25960" y="987840"/>
            <a:ext cx="5901840" cy="530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eeting schedu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irst Meeting:</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lephone/Web Con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Date: 20th July 2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16 participa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2nd Meeting:</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lephone/Web Con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Date: 20th July 2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20 participa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rd Meeting:</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Face to face meeting at JRC/Isp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Date: 9/10 Dec. 2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14 participa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th Meeting:</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Face to face meeting at BMW/Mun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Date: 7/8 March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18 participa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5th Meeting:</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Face to face meeting at JRC/Isp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gistration in progres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10/11 Mai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46040" y="895680"/>
            <a:ext cx="841392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llutants to be addressed</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2</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H3</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2O</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thanol</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dehydes (Formaldehyde, Acetaldehyd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95120" y="974880"/>
            <a:ext cx="77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able of candidate methods for additional pollutants</a:t>
            </a:r>
            <a:endParaRPr b="0" lang="en-US" sz="2400" spc="-1" strike="noStrike">
              <a:solidFill>
                <a:srgbClr val="000000"/>
              </a:solidFill>
              <a:latin typeface="Arial"/>
            </a:endParaRPr>
          </a:p>
        </p:txBody>
      </p:sp>
      <p:pic>
        <p:nvPicPr>
          <p:cNvPr id="60" name="" descr=""/>
          <p:cNvPicPr/>
          <p:nvPr/>
        </p:nvPicPr>
        <p:blipFill>
          <a:blip r:embed="rId1"/>
          <a:stretch/>
        </p:blipFill>
        <p:spPr>
          <a:xfrm>
            <a:off x="195120" y="1876320"/>
            <a:ext cx="8659800" cy="395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alternative methods be qualified/admit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How will the testing of additional pollutants in WLTP phase 2 be performed?</a:t>
            </a:r>
            <a:r>
              <a:rPr b="0" lang="de-DE"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Traceability to national standards of cal gas for AP</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libration, verification, linearizati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439200" y="816120"/>
            <a:ext cx="236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n Issues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0440" y="1427040"/>
            <a:ext cx="8270640" cy="738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2:</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llow calculation of NOx from NO + NO2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llow QCL and other technologies for NO and NO2</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for NH3 sampling: 110 – 190 °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ing of lost sample in raw exhaust samp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imit sample flow (10 l/mi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eturn sample (no drying, heated retu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dditional cyc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3 sampling during engine of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ibration/Verification of in situ instru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438840" y="816120"/>
            <a:ext cx="245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n Issues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73040" y="1427040"/>
            <a:ext cx="8271000" cy="738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C-Methods (N2O, ETO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Peak resolution for GC metho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Colum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thermal pre-concentr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ization/verificatio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O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ol response factor of the F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dehyd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factors</a:t>
            </a:r>
            <a:endParaRPr b="0" lang="en-US" sz="2400" spc="-1" strike="noStrike">
              <a:solidFill>
                <a:srgbClr val="000000"/>
              </a:solidFill>
              <a:latin typeface="Arial"/>
            </a:endParaRPr>
          </a:p>
        </p:txBody>
      </p:sp>
      <p:sp>
        <p:nvSpPr>
          <p:cNvPr id="66" name=""/>
          <p:cNvSpPr/>
          <p:nvPr/>
        </p:nvSpPr>
        <p:spPr>
          <a:xfrm>
            <a:off x="438120" y="816120"/>
            <a:ext cx="25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n Issues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2:57:13Z</dcterms:created>
  <dc:creator>Moersch, Oliver (019)</dc:creator>
  <dc:description/>
  <dc:language>en-US</dc:language>
  <cp:lastModifiedBy>OMOERSC</cp:lastModifiedBy>
  <dcterms:modified xsi:type="dcterms:W3CDTF">2011-04-10T19:46:32Z</dcterms:modified>
  <cp:revision>12</cp:revision>
  <dc:subject/>
  <dc:title>Folie 1</dc:title>
</cp:coreProperties>
</file>