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59693-715C-44B2-AF91-7D2CC3218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148B6-F410-4CB5-9F21-FFBF0028E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526CF-0830-4240-9FCC-F8C2B4BB1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C5DC9-0680-45B8-9E31-DCF1329C1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311F4-1499-4DE2-BDB0-0D424B163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96563-FCDE-4CDA-9F16-2B868471E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A4F6C-EFEF-4756-8BF8-1F1AB334F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04003-D5D5-47F3-BBAD-825E05A1A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74689-965D-4329-9405-460D11C8E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02593-0343-481C-B62D-87F655452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4FB54-7381-4AAE-9012-3685CED9C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B2CD-C67D-4F23-8B29-DD6E437D0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TP-DTP-AP, Oliver Mörsch</a:t>
            </a:r>
            <a:endParaRPr b="0" lang="en-US" sz="10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4563-33B7-4C5E-A78D-E572DA9F3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1349280" y="22320"/>
            <a:ext cx="625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TP-DTP Subgroup Additional Polluta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Report April 2011</a:t>
            </a:r>
            <a:endParaRPr b="0" lang="en-US" sz="1600" spc="-1" strike="noStrike">
              <a:solidFill>
                <a:srgbClr val="000000"/>
              </a:solidFill>
              <a:latin typeface="Arial"/>
            </a:endParaRPr>
          </a:p>
        </p:txBody>
      </p:sp>
      <p:sp>
        <p:nvSpPr>
          <p:cNvPr id="5" name=""/>
          <p:cNvSpPr/>
          <p:nvPr/>
        </p:nvSpPr>
        <p:spPr>
          <a:xfrm>
            <a:off x="0" y="6224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LTP-DTP Subgroup Additional Pollutants</a:t>
            </a:r>
            <a:br>
              <a:rPr sz="2400"/>
            </a:br>
            <a:br>
              <a:rPr sz="2400"/>
            </a:br>
            <a:r>
              <a:rPr b="1" lang="en-US" sz="2400" spc="-1" strike="noStrike">
                <a:solidFill>
                  <a:srgbClr val="000000"/>
                </a:solidFill>
                <a:latin typeface="Arial"/>
              </a:rPr>
              <a:t>Progress report</a:t>
            </a:r>
            <a:br>
              <a:rPr sz="2400"/>
            </a:br>
            <a:endParaRPr b="0" lang="en-US" sz="2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13. April 201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ue drafting of GTR for reference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solve open iss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sks have been assigned within grou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547200" y="81612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xt Ste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1300320" y="1268280"/>
          <a:ext cx="3555720" cy="4889520"/>
        </p:xfrm>
        <a:graphic>
          <a:graphicData uri="http://schemas.openxmlformats.org/drawingml/2006/table">
            <a:tbl>
              <a:tblPr/>
              <a:tblGrid>
                <a:gridCol w="1068120"/>
                <a:gridCol w="900000"/>
                <a:gridCol w="15876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örsc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liv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im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torga-Ilor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adang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R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ka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k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erss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car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OY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ich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SIC-contac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r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vo Ca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r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ha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W 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steel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C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fedd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m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sch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jkhuiz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j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elejehring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r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L List Gmb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lmstro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m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car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rchn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o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P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f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C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iqu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an-Claud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6" name=""/>
          <p:cNvGraphicFramePr/>
          <p:nvPr/>
        </p:nvGraphicFramePr>
        <p:xfrm>
          <a:off x="5043600" y="1268280"/>
          <a:ext cx="3765600" cy="4889520"/>
        </p:xfrm>
        <a:graphic>
          <a:graphicData uri="http://schemas.openxmlformats.org/drawingml/2006/table">
            <a:tbl>
              <a:tblPr/>
              <a:tblGrid>
                <a:gridCol w="990360"/>
                <a:gridCol w="787680"/>
                <a:gridCol w="198756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riy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denor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A/Toy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g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ym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jo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i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au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ho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rean Ministry of Environme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ach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joe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kswagen Grou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de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chez</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wa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ta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ust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ber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rm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k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lv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i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k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ys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ining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kolau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b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rst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lfga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W A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vr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ti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A-AI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ric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et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an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s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m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ys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750960" y="693720"/>
            <a:ext cx="684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dditional pollutants subgroup - Members list</a:t>
            </a:r>
            <a:endParaRPr b="0" lang="en-US" sz="2400" spc="-1" strike="noStrike">
              <a:solidFill>
                <a:srgbClr val="000000"/>
              </a:solidFill>
              <a:latin typeface="Arial"/>
            </a:endParaRPr>
          </a:p>
        </p:txBody>
      </p:sp>
      <p:sp>
        <p:nvSpPr>
          <p:cNvPr id="48" name=""/>
          <p:cNvSpPr/>
          <p:nvPr/>
        </p:nvSpPr>
        <p:spPr>
          <a:xfrm>
            <a:off x="352440" y="12636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hair:</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o-cha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36680" y="1456560"/>
            <a:ext cx="779148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Additional Pollutants subgroup shall be responsible for the development of test procedures for pollutants not currently regulated such as NO2, NH3, N2O including measurement equipment and formulae for the measurement for light duty vehicles.</a:t>
            </a:r>
            <a:endParaRPr b="0" lang="en-US" sz="1600" spc="-1" strike="noStrike">
              <a:solidFill>
                <a:srgbClr val="000000"/>
              </a:solidFill>
              <a:latin typeface="Arial"/>
            </a:endParaRPr>
          </a:p>
        </p:txBody>
      </p:sp>
      <p:sp>
        <p:nvSpPr>
          <p:cNvPr id="51" name=""/>
          <p:cNvSpPr/>
          <p:nvPr/>
        </p:nvSpPr>
        <p:spPr>
          <a:xfrm>
            <a:off x="659520" y="833400"/>
            <a:ext cx="778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dditional pollutants subgroup – Terms of reference</a:t>
            </a:r>
            <a:endParaRPr b="0" lang="en-US" sz="2400" spc="-1" strike="noStrike">
              <a:solidFill>
                <a:srgbClr val="000000"/>
              </a:solidFill>
              <a:latin typeface="Arial"/>
            </a:endParaRPr>
          </a:p>
        </p:txBody>
      </p:sp>
      <p:sp>
        <p:nvSpPr>
          <p:cNvPr id="52" name=""/>
          <p:cNvSpPr/>
          <p:nvPr/>
        </p:nvSpPr>
        <p:spPr>
          <a:xfrm>
            <a:off x="458640" y="2727360"/>
            <a:ext cx="812664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ope of Activity</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subgroup will undertake the following tasks on the basis of procedures in existing</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egislation and expert knowledge within the group:</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gree on additional pollutants to be addressed.</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dentify appropriate measurement methods for each of the pollutants.</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scribe measurement and calibration procedures and calculations based on existing legislation and on output from lab procedure subgroup.</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fting of legislation text.</a:t>
            </a:r>
            <a:endParaRPr b="0" lang="en-US" sz="1600" spc="-1" strike="noStrike">
              <a:solidFill>
                <a:srgbClr val="000000"/>
              </a:solidFill>
              <a:latin typeface="Arial"/>
            </a:endParaRPr>
          </a:p>
        </p:txBody>
      </p:sp>
      <p:sp>
        <p:nvSpPr>
          <p:cNvPr id="53" name=""/>
          <p:cNvSpPr/>
          <p:nvPr/>
        </p:nvSpPr>
        <p:spPr>
          <a:xfrm>
            <a:off x="5877000" y="3664080"/>
            <a:ext cx="360360" cy="322200"/>
          </a:xfrm>
          <a:custGeom>
            <a:avLst/>
            <a:gdLst/>
            <a:ahLst/>
            <a:rect l="l" t="t" r="r" b="b"/>
            <a:pathLst>
              <a:path w="628" h="471">
                <a:moveTo>
                  <a:pt x="0" y="221"/>
                </a:moveTo>
                <a:lnTo>
                  <a:pt x="140" y="471"/>
                </a:lnTo>
                <a:lnTo>
                  <a:pt x="628" y="0"/>
                </a:lnTo>
                <a:lnTo>
                  <a:pt x="186" y="326"/>
                </a:lnTo>
                <a:lnTo>
                  <a:pt x="41" y="192"/>
                </a:lnTo>
                <a:lnTo>
                  <a:pt x="0" y="22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20514600">
            <a:off x="6972480" y="496404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in progress</a:t>
            </a:r>
            <a:endParaRPr b="0" lang="en-US" sz="2400" spc="-1" strike="noStrike">
              <a:solidFill>
                <a:srgbClr val="000000"/>
              </a:solidFill>
              <a:latin typeface="Arial"/>
            </a:endParaRPr>
          </a:p>
        </p:txBody>
      </p:sp>
      <p:sp>
        <p:nvSpPr>
          <p:cNvPr id="55" name=""/>
          <p:cNvSpPr/>
          <p:nvPr/>
        </p:nvSpPr>
        <p:spPr>
          <a:xfrm rot="20514600">
            <a:off x="3543480" y="532116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in progress</a:t>
            </a:r>
            <a:endParaRPr b="0" lang="en-US" sz="2400" spc="-1" strike="noStrike">
              <a:solidFill>
                <a:srgbClr val="000000"/>
              </a:solidFill>
              <a:latin typeface="Arial"/>
            </a:endParaRPr>
          </a:p>
        </p:txBody>
      </p:sp>
      <p:sp>
        <p:nvSpPr>
          <p:cNvPr id="56" name=""/>
          <p:cNvSpPr/>
          <p:nvPr/>
        </p:nvSpPr>
        <p:spPr>
          <a:xfrm>
            <a:off x="7680240" y="4094280"/>
            <a:ext cx="360360" cy="322200"/>
          </a:xfrm>
          <a:custGeom>
            <a:avLst/>
            <a:gdLst/>
            <a:ahLst/>
            <a:rect l="l" t="t" r="r" b="b"/>
            <a:pathLst>
              <a:path w="628" h="471">
                <a:moveTo>
                  <a:pt x="0" y="221"/>
                </a:moveTo>
                <a:lnTo>
                  <a:pt x="140" y="471"/>
                </a:lnTo>
                <a:lnTo>
                  <a:pt x="628" y="0"/>
                </a:lnTo>
                <a:lnTo>
                  <a:pt x="186" y="326"/>
                </a:lnTo>
                <a:lnTo>
                  <a:pt x="41" y="192"/>
                </a:lnTo>
                <a:lnTo>
                  <a:pt x="0" y="22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25960" y="987840"/>
            <a:ext cx="5901840" cy="530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eeting schedu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irst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lephone/Web Co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Date: 20th July 2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16 participa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2nd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elephone/Web Co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Date: 20th July 2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20 participa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3rd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ace to face meeting at JRC/Isp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Date: 9/10 Dec. 2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14 participa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4th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ace to face meeting at BMW/Mun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Date: 7/8 March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18 participa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5th Meeting:</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ace to face meeting at JRC/Isp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gistration in progres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10/11 Mai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46040" y="895680"/>
            <a:ext cx="841392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llutants to be addressed</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2</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H3</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2O</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thanol</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dehydes (Formaldehyde, Acetaldehyd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5120" y="974880"/>
            <a:ext cx="77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of candidate methods for additional pollutants</a:t>
            </a:r>
            <a:endParaRPr b="0" lang="en-US" sz="2400" spc="-1" strike="noStrike">
              <a:solidFill>
                <a:srgbClr val="000000"/>
              </a:solidFill>
              <a:latin typeface="Arial"/>
            </a:endParaRPr>
          </a:p>
        </p:txBody>
      </p:sp>
      <p:pic>
        <p:nvPicPr>
          <p:cNvPr id="60" name="" descr=""/>
          <p:cNvPicPr/>
          <p:nvPr/>
        </p:nvPicPr>
        <p:blipFill>
          <a:blip r:embed="rId1"/>
          <a:stretch/>
        </p:blipFill>
        <p:spPr>
          <a:xfrm>
            <a:off x="195120" y="1876320"/>
            <a:ext cx="8659800" cy="395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alternative methods be qualified/admit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How will the testing of additional pollutants in WLTP phase 2 be performed?</a:t>
            </a:r>
            <a:r>
              <a:rPr b="0" lang="de-DE"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Traceability to national standards of cal gas for AP</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libration, verification, linearizati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439200" y="816120"/>
            <a:ext cx="236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n Issues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0440" y="1427040"/>
            <a:ext cx="8270640" cy="738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2:</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llow calculation of NOx from NO + NO2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llow QCL and other technologies for NO and NO2</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for NH3 sampling: 110 – 190 °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of lost sample in raw exhaust samp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imit sample flow (10 l/m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eturn sample (no drying, heated retu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dditional cyc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3 sampling during engine of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bration/Verification of in situ instru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438840" y="816120"/>
            <a:ext cx="245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n Issues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73040" y="1427040"/>
            <a:ext cx="8271000" cy="738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C-Methods (N2O, ETO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Peak resolution for GC metho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Colum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hermal pre-concent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zation/verificatio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O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ol response factor of the F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dehy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factors</a:t>
            </a:r>
            <a:endParaRPr b="0" lang="en-US" sz="2400" spc="-1" strike="noStrike">
              <a:solidFill>
                <a:srgbClr val="000000"/>
              </a:solidFill>
              <a:latin typeface="Arial"/>
            </a:endParaRPr>
          </a:p>
        </p:txBody>
      </p:sp>
      <p:sp>
        <p:nvSpPr>
          <p:cNvPr id="66" name=""/>
          <p:cNvSpPr/>
          <p:nvPr/>
        </p:nvSpPr>
        <p:spPr>
          <a:xfrm>
            <a:off x="438120" y="816120"/>
            <a:ext cx="25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n Issues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2:57:13Z</dcterms:created>
  <dc:creator>Moersch, Oliver (019)</dc:creator>
  <dc:description/>
  <dc:language>en-US</dc:language>
  <cp:lastModifiedBy>OMOERSC</cp:lastModifiedBy>
  <dcterms:modified xsi:type="dcterms:W3CDTF">2011-04-10T19:46:32Z</dcterms:modified>
  <cp:revision>12</cp:revision>
  <dc:subject/>
  <dc:title>Folie 1</dc:title>
</cp:coreProperties>
</file>