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5FF-4C66-43F2-BD76-18D7F56F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45E-FAB6-4CB7-9891-C280A7C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78B-8413-4377-811B-EA9D697C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746-786F-41AE-BBAA-AF2CF3FF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408-F6CA-43AF-8C91-1390A7D1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E9A-1D46-4B94-912E-99A8767D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9E8-9454-4A88-8C8B-93A21E0D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268-3761-474B-967C-C640039F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7EC-93FF-4EC3-804F-7AED58CF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179-28DD-4EC4-AB13-43F5AA06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169-50F8-4A16-B5B6-65C839F0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267-F95D-4018-8069-BFC03E1B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96C6-21FB-40FE-98C0-E91FFD5BD89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LTP-E-Lab Sub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TP-DTP-E-LabProc-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36640"/>
            <a:ext cx="7489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: Per Ohlund / Kazuki Kobay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クリックすると新しいウィンドウで開きます"/>
          <p:cNvPicPr/>
          <p:nvPr/>
        </p:nvPicPr>
        <p:blipFill>
          <a:blip r:embed="rId1"/>
          <a:stretch/>
        </p:blipFill>
        <p:spPr>
          <a:xfrm>
            <a:off x="2843280" y="5013360"/>
            <a:ext cx="37335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H="1">
            <a:off x="732960" y="4338720"/>
            <a:ext cx="405468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11320" y="2836800"/>
            <a:ext cx="7920" cy="19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97280" y="3294000"/>
            <a:ext cx="3240" cy="145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9080" y="2203560"/>
            <a:ext cx="1440" cy="27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4200" y="3733920"/>
            <a:ext cx="2230200" cy="26028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98600" y="4410000"/>
            <a:ext cx="66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4040" y="4410000"/>
            <a:ext cx="39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11560" y="4410000"/>
            <a:ext cx="67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7560" y="2286000"/>
            <a:ext cx="2719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3400" y="4794120"/>
            <a:ext cx="2685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5440" y="4846680"/>
            <a:ext cx="1398600" cy="17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</a:t>
            </a:r>
            <a:r>
              <a:rPr b="1" lang="de-DE" sz="1000" spc="-1" strike="noStrike" baseline="-25000">
                <a:solidFill>
                  <a:srgbClr val="000000"/>
                </a:solidFill>
                <a:latin typeface="VW Headline OT-Book"/>
              </a:rPr>
              <a:t>2</a:t>
            </a: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-emissions 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541800" y="294552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3320" y="2055960"/>
            <a:ext cx="2911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harge Depleting Cycle Range RC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4800">
            <a:off x="1852200" y="3110040"/>
            <a:ext cx="2576520" cy="1760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2880" y="1746360"/>
            <a:ext cx="0" cy="34671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4139600">
            <a:off x="2647080" y="3224880"/>
            <a:ext cx="149040" cy="79524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62280" y="3100320"/>
            <a:ext cx="0" cy="76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6040" y="2895480"/>
            <a:ext cx="0" cy="76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19400" y="2730600"/>
            <a:ext cx="1654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baseline="-25000">
                <a:solidFill>
                  <a:srgbClr val="000000"/>
                </a:solidFill>
                <a:latin typeface="VW Headline OT-Book"/>
              </a:rPr>
              <a:t>All Electr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02040" y="3152880"/>
            <a:ext cx="125280" cy="117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38600" y="3030480"/>
            <a:ext cx="13176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99000" y="2992320"/>
            <a:ext cx="2292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baseline="-25000">
                <a:solidFill>
                  <a:srgbClr val="000000"/>
                </a:solidFill>
                <a:latin typeface="VW Headline OT-Book"/>
              </a:rPr>
              <a:t>Equivalent All Electr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52640" y="3873600"/>
            <a:ext cx="128520" cy="23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8640" y="3824280"/>
            <a:ext cx="941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baseline="-25000">
                <a:solidFill>
                  <a:srgbClr val="000000"/>
                </a:solidFill>
                <a:latin typeface="VW Headline OT-Book"/>
              </a:rPr>
              <a:t>First start of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38640" y="3282840"/>
            <a:ext cx="0" cy="76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22800" y="24271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1720" y="2579760"/>
            <a:ext cx="224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25720" y="2371680"/>
            <a:ext cx="2289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harge Depleting Range RC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49840" y="3541680"/>
            <a:ext cx="2300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268280"/>
            <a:ext cx="27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Step2  Charge Depleting M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09880" y="1924200"/>
            <a:ext cx="97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8040" y="1719360"/>
            <a:ext cx="842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Full 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5280" y="189000"/>
          <a:ext cx="8569080" cy="9795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for on OVC Hybrids at WLTP / Charge Depleting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968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Overview, methodology for determination of different ranges, fuel and electric energy consumptions and emissions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219640" y="3068640"/>
            <a:ext cx="1538280" cy="1590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08640" y="3583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42120" y="4191120"/>
            <a:ext cx="89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787640" y="3890880"/>
            <a:ext cx="431640" cy="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04000">
            <a:off x="5395680" y="3654360"/>
            <a:ext cx="888840" cy="419040"/>
          </a:xfrm>
          <a:custGeom>
            <a:avLst/>
            <a:gdLst/>
            <a:ahLst/>
            <a:rect l="l" t="t" r="r" b="b"/>
            <a:pathLst>
              <a:path w="534" h="375">
                <a:moveTo>
                  <a:pt x="0" y="315"/>
                </a:moveTo>
                <a:cubicBezTo>
                  <a:pt x="25" y="175"/>
                  <a:pt x="50" y="36"/>
                  <a:pt x="72" y="27"/>
                </a:cubicBezTo>
                <a:cubicBezTo>
                  <a:pt x="94" y="18"/>
                  <a:pt x="116" y="259"/>
                  <a:pt x="132" y="261"/>
                </a:cubicBezTo>
                <a:cubicBezTo>
                  <a:pt x="148" y="263"/>
                  <a:pt x="137" y="23"/>
                  <a:pt x="168" y="39"/>
                </a:cubicBezTo>
                <a:cubicBezTo>
                  <a:pt x="199" y="55"/>
                  <a:pt x="281" y="351"/>
                  <a:pt x="318" y="357"/>
                </a:cubicBezTo>
                <a:cubicBezTo>
                  <a:pt x="355" y="363"/>
                  <a:pt x="375" y="75"/>
                  <a:pt x="390" y="75"/>
                </a:cubicBezTo>
                <a:cubicBezTo>
                  <a:pt x="405" y="75"/>
                  <a:pt x="391" y="363"/>
                  <a:pt x="408" y="357"/>
                </a:cubicBezTo>
                <a:cubicBezTo>
                  <a:pt x="425" y="351"/>
                  <a:pt x="475" y="78"/>
                  <a:pt x="492" y="39"/>
                </a:cubicBezTo>
                <a:cubicBezTo>
                  <a:pt x="509" y="0"/>
                  <a:pt x="503" y="67"/>
                  <a:pt x="510" y="123"/>
                </a:cubicBezTo>
                <a:cubicBezTo>
                  <a:pt x="517" y="179"/>
                  <a:pt x="530" y="335"/>
                  <a:pt x="534" y="375"/>
                </a:cubicBezTo>
              </a:path>
            </a:pathLst>
          </a:custGeom>
          <a:noFill/>
          <a:ln w="69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70480" y="3789360"/>
            <a:ext cx="966960" cy="16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797360"/>
            <a:ext cx="1584360" cy="110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-25000">
                <a:solidFill>
                  <a:srgbClr val="000000"/>
                </a:solidFill>
                <a:latin typeface="VW Headline OT-Book"/>
              </a:rPr>
              <a:t>RCB break off criter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-25000">
                <a:solidFill>
                  <a:srgbClr val="000000"/>
                </a:solidFill>
                <a:latin typeface="VW Headline OT-Book"/>
              </a:rPr>
              <a:t>OIL No.25 &amp; 25bis      Battery Volu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23960" y="2550960"/>
            <a:ext cx="571320" cy="131472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8520" y="2568600"/>
            <a:ext cx="6732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9040" y="1692360"/>
            <a:ext cx="0" cy="346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9160" y="4784760"/>
            <a:ext cx="11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4365720"/>
            <a:ext cx="9511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baseline="-25000">
                <a:solidFill>
                  <a:srgbClr val="000000"/>
                </a:solidFill>
                <a:latin typeface="VW Headline OT-Book"/>
              </a:rPr>
              <a:t>Charging after  CS 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5229360"/>
            <a:ext cx="259236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-22000">
                <a:solidFill>
                  <a:srgbClr val="000000"/>
                </a:solidFill>
                <a:latin typeface="VW Headline OT-Book"/>
              </a:rPr>
              <a:t>Energy consumption test condition: OIL No.2                              Temperatu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86864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858920" y="1989000"/>
            <a:ext cx="576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1844640"/>
            <a:ext cx="266400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EAER determination(CO2 compensation): OIL No.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92720" y="4436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5280" y="1268280"/>
            <a:ext cx="230508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alculation of electric consumption:  OIL No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995640" y="1557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ad map for gtr 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630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: phone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3640" y="6381720"/>
            <a:ext cx="144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ace to Face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1th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27.1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GTR structure/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23-24.2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Bru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GTR structure/Definition/CD&amp;CS test /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7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1th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th meet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:1.4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s:CD&amp;CS test /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based on ACEA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th meet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:12.4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Zu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s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issues/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eting will be held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y ph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eting will be hel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une by ph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40431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755640"/>
            <a:ext cx="83534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259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308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open Issues will be discussed according to  E-Lab group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085760"/>
            <a:ext cx="878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7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768240"/>
            <a:ext cx="889308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2766600">
            <a:off x="993240" y="3189600"/>
            <a:ext cx="1673280" cy="759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332000" y="4334040"/>
            <a:ext cx="4464000" cy="2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38560" y="1700280"/>
            <a:ext cx="1440" cy="31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33520" y="3724200"/>
            <a:ext cx="2230560" cy="1652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5200" y="4389480"/>
            <a:ext cx="124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at least 1 Cycle Precond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28840" y="2703600"/>
            <a:ext cx="137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5000" y="4784760"/>
            <a:ext cx="1014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8920" y="2446200"/>
            <a:ext cx="1152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Precond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3440" y="4894200"/>
            <a:ext cx="1873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ischarging according manufacturer’s require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1773360"/>
            <a:ext cx="0" cy="346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72160" y="2610000"/>
            <a:ext cx="4680" cy="20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72160" y="2722680"/>
            <a:ext cx="985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72160" y="4648320"/>
            <a:ext cx="1003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9960" y="3718080"/>
            <a:ext cx="1737000" cy="188640"/>
          </a:xfrm>
          <a:custGeom>
            <a:avLst/>
            <a:gdLst/>
            <a:ahLst/>
            <a:rect l="l" t="t" r="r" b="b"/>
            <a:pathLst>
              <a:path w="1340" h="249">
                <a:moveTo>
                  <a:pt x="0" y="194"/>
                </a:moveTo>
                <a:lnTo>
                  <a:pt x="111" y="22"/>
                </a:lnTo>
                <a:lnTo>
                  <a:pt x="188" y="194"/>
                </a:lnTo>
                <a:lnTo>
                  <a:pt x="305" y="83"/>
                </a:lnTo>
                <a:lnTo>
                  <a:pt x="343" y="182"/>
                </a:lnTo>
                <a:lnTo>
                  <a:pt x="471" y="0"/>
                </a:lnTo>
                <a:lnTo>
                  <a:pt x="482" y="188"/>
                </a:lnTo>
                <a:lnTo>
                  <a:pt x="648" y="44"/>
                </a:lnTo>
                <a:lnTo>
                  <a:pt x="709" y="221"/>
                </a:lnTo>
                <a:lnTo>
                  <a:pt x="842" y="33"/>
                </a:lnTo>
                <a:lnTo>
                  <a:pt x="925" y="171"/>
                </a:lnTo>
                <a:lnTo>
                  <a:pt x="1036" y="50"/>
                </a:lnTo>
                <a:lnTo>
                  <a:pt x="1080" y="249"/>
                </a:lnTo>
                <a:lnTo>
                  <a:pt x="1157" y="55"/>
                </a:lnTo>
                <a:lnTo>
                  <a:pt x="1207" y="171"/>
                </a:lnTo>
                <a:lnTo>
                  <a:pt x="1257" y="16"/>
                </a:lnTo>
                <a:lnTo>
                  <a:pt x="1340" y="122"/>
                </a:lnTo>
              </a:path>
            </a:pathLst>
          </a:custGeom>
          <a:noFill/>
          <a:ln w="63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9720" y="3844800"/>
            <a:ext cx="663480" cy="324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7040" y="4387680"/>
            <a:ext cx="92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Test (cold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35520" y="2982960"/>
            <a:ext cx="11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ld start of 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049800">
            <a:off x="4902480" y="3116520"/>
            <a:ext cx="185760" cy="7588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43360" y="3778200"/>
            <a:ext cx="106560" cy="1159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4775040"/>
            <a:ext cx="1109880" cy="17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</a:t>
            </a:r>
            <a:r>
              <a:rPr b="1" lang="de-DE" sz="1000" spc="-1" strike="noStrike" baseline="-25000">
                <a:solidFill>
                  <a:srgbClr val="000000"/>
                </a:solidFill>
                <a:latin typeface="VW Headline OT-Book"/>
              </a:rPr>
              <a:t>2</a:t>
            </a: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-emissions 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3532320"/>
            <a:ext cx="1025640" cy="68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125360"/>
            <a:ext cx="374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Charge Sustaining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3840" y="1933560"/>
            <a:ext cx="97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1484280"/>
            <a:ext cx="84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Unknown S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32360" y="3645000"/>
            <a:ext cx="755640" cy="60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1880" y="2349360"/>
            <a:ext cx="817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harge Sust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76920" y="1916280"/>
            <a:ext cx="19080" cy="27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15920"/>
          <a:ext cx="8569080" cy="9795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OVC and NOVC Hybrids at WLTP / Charge Sustaining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968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Overview, methodology for determination of fuel and electric energy consumptions and emissions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708360" y="3284640"/>
            <a:ext cx="965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Soak Time before cold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24200" y="3846600"/>
            <a:ext cx="97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104040" y="322884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2773440"/>
            <a:ext cx="1800" cy="15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23432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62400" y="2158920"/>
            <a:ext cx="1873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NOVC veh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2119320"/>
            <a:ext cx="61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0560" y="1928880"/>
            <a:ext cx="1873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OVC veh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00320" y="210348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67280" y="2538000"/>
            <a:ext cx="586080" cy="132228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2492280"/>
            <a:ext cx="108108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73760" y="3903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08880" y="2532240"/>
            <a:ext cx="0" cy="13716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4653000"/>
            <a:ext cx="1605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43880" y="304956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15360" y="3917880"/>
            <a:ext cx="28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076640"/>
            <a:ext cx="122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time:     OIL No.9             How Lo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7524360" y="3933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84720" y="4724280"/>
            <a:ext cx="1429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300640"/>
            <a:ext cx="151308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:    OIL No.7            Temperature?             Out side 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88000" y="501300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5300640"/>
            <a:ext cx="12236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RCB correction:  OIL No.26,27      emission correc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5516640"/>
            <a:ext cx="1656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nitial discharge condition: OIL No.14         temperatur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92360" y="5229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2565360"/>
            <a:ext cx="3240" cy="21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1280" y="4221000"/>
            <a:ext cx="12618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End of charge:     OIL No.10,10bis     Plug Off?         Charging lengt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05640" y="1889280"/>
            <a:ext cx="468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15:37Z</dcterms:created>
  <dc:creator>shinsa2</dc:creator>
  <dc:description/>
  <dc:language>en-US</dc:language>
  <cp:lastModifiedBy>shinsa2</cp:lastModifiedBy>
  <dcterms:modified xsi:type="dcterms:W3CDTF">2011-04-13T05:28:10Z</dcterms:modified>
  <cp:revision>29</cp:revision>
  <dc:subject/>
  <dc:title>WLTP-E-Lab Sub Group 2nd Face to Face meeting</dc:title>
</cp:coreProperties>
</file>