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433F-5EF3-43E5-8B2B-FB66941E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D5D4-AE71-4B62-936D-7B680E05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6DD0-5E8A-479A-9D67-9A7FAF68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45B9-9824-4202-B1F2-14B34E40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9A3-56EA-445D-887D-C2AB0746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009C-2D2E-4A83-9A5E-87764FA4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03B8-02FB-45EA-BDAF-919E349C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F504-79FF-4948-8D13-465DE0D4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B8FF-5D7C-447F-943D-7B1C1F4D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FFC2-5474-43A2-81F0-B7F29C05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7D99-0E40-4FF0-8CDB-C6F26EF0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63E3-5C9C-4BFD-AD5F-CCCF0256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09A8-BDD7-4A40-9FE7-703CA0C63606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38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LTP-E-Lab Sub Grou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ess report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LTP-DTP-E-LabProc-0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4436640"/>
            <a:ext cx="74898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: Per Ohlund / Kazuki Kobayas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クリックすると新しいウィンドウで開きます"/>
          <p:cNvPicPr/>
          <p:nvPr/>
        </p:nvPicPr>
        <p:blipFill>
          <a:blip r:embed="rId1"/>
          <a:stretch/>
        </p:blipFill>
        <p:spPr>
          <a:xfrm>
            <a:off x="2843280" y="5013360"/>
            <a:ext cx="37335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flipH="1">
            <a:off x="732960" y="4338720"/>
            <a:ext cx="4054680" cy="4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911320" y="2836800"/>
            <a:ext cx="7920" cy="19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97280" y="3294000"/>
            <a:ext cx="3240" cy="145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99080" y="2203560"/>
            <a:ext cx="1440" cy="27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64200" y="3733920"/>
            <a:ext cx="2230200" cy="260280"/>
          </a:xfrm>
          <a:custGeom>
            <a:avLst/>
            <a:gdLst/>
            <a:ahLst/>
            <a:rect l="l" t="t" r="r" b="b"/>
            <a:pathLst>
              <a:path w="1806" h="312">
                <a:moveTo>
                  <a:pt x="0" y="72"/>
                </a:moveTo>
                <a:lnTo>
                  <a:pt x="84" y="276"/>
                </a:lnTo>
                <a:lnTo>
                  <a:pt x="174" y="36"/>
                </a:lnTo>
                <a:lnTo>
                  <a:pt x="330" y="294"/>
                </a:lnTo>
                <a:lnTo>
                  <a:pt x="450" y="36"/>
                </a:lnTo>
                <a:lnTo>
                  <a:pt x="534" y="282"/>
                </a:lnTo>
                <a:lnTo>
                  <a:pt x="624" y="192"/>
                </a:lnTo>
                <a:lnTo>
                  <a:pt x="678" y="102"/>
                </a:lnTo>
                <a:lnTo>
                  <a:pt x="702" y="252"/>
                </a:lnTo>
                <a:lnTo>
                  <a:pt x="834" y="6"/>
                </a:lnTo>
                <a:lnTo>
                  <a:pt x="852" y="294"/>
                </a:lnTo>
                <a:lnTo>
                  <a:pt x="1032" y="42"/>
                </a:lnTo>
                <a:lnTo>
                  <a:pt x="1080" y="288"/>
                </a:lnTo>
                <a:lnTo>
                  <a:pt x="1260" y="0"/>
                </a:lnTo>
                <a:lnTo>
                  <a:pt x="1338" y="186"/>
                </a:lnTo>
                <a:lnTo>
                  <a:pt x="1458" y="48"/>
                </a:lnTo>
                <a:lnTo>
                  <a:pt x="1506" y="312"/>
                </a:lnTo>
                <a:lnTo>
                  <a:pt x="1572" y="66"/>
                </a:lnTo>
                <a:lnTo>
                  <a:pt x="1662" y="246"/>
                </a:lnTo>
                <a:lnTo>
                  <a:pt x="1704" y="30"/>
                </a:lnTo>
                <a:lnTo>
                  <a:pt x="1806" y="168"/>
                </a:lnTo>
              </a:path>
            </a:pathLst>
          </a:custGeom>
          <a:noFill/>
          <a:ln w="7632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98600" y="4410000"/>
            <a:ext cx="66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Tes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64040" y="4410000"/>
            <a:ext cx="39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Test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11560" y="4410000"/>
            <a:ext cx="673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Tes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87560" y="2286000"/>
            <a:ext cx="2719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03400" y="4794120"/>
            <a:ext cx="26859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65440" y="4846680"/>
            <a:ext cx="1398600" cy="17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CO</a:t>
            </a:r>
            <a:r>
              <a:rPr b="1" lang="de-DE" sz="1000" spc="-1" strike="noStrike" baseline="-25000">
                <a:solidFill>
                  <a:srgbClr val="000000"/>
                </a:solidFill>
                <a:latin typeface="VW Headline OT-Book"/>
              </a:rPr>
              <a:t>2</a:t>
            </a: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-emissions C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-541800" y="2945520"/>
            <a:ext cx="202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Charging Condition Battery [Ah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3320" y="2055960"/>
            <a:ext cx="29116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Charge Depleting Cycle Range RCD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4800">
            <a:off x="1852200" y="3110040"/>
            <a:ext cx="2576520" cy="176040"/>
          </a:xfrm>
          <a:custGeom>
            <a:avLst/>
            <a:gdLst/>
            <a:ahLst/>
            <a:rect l="l" t="t" r="r" b="b"/>
            <a:pathLst>
              <a:path w="1806" h="312">
                <a:moveTo>
                  <a:pt x="0" y="72"/>
                </a:moveTo>
                <a:lnTo>
                  <a:pt x="84" y="276"/>
                </a:lnTo>
                <a:lnTo>
                  <a:pt x="174" y="36"/>
                </a:lnTo>
                <a:lnTo>
                  <a:pt x="330" y="294"/>
                </a:lnTo>
                <a:lnTo>
                  <a:pt x="450" y="36"/>
                </a:lnTo>
                <a:lnTo>
                  <a:pt x="534" y="282"/>
                </a:lnTo>
                <a:lnTo>
                  <a:pt x="624" y="192"/>
                </a:lnTo>
                <a:lnTo>
                  <a:pt x="678" y="102"/>
                </a:lnTo>
                <a:lnTo>
                  <a:pt x="702" y="252"/>
                </a:lnTo>
                <a:lnTo>
                  <a:pt x="834" y="6"/>
                </a:lnTo>
                <a:lnTo>
                  <a:pt x="852" y="294"/>
                </a:lnTo>
                <a:lnTo>
                  <a:pt x="1032" y="42"/>
                </a:lnTo>
                <a:lnTo>
                  <a:pt x="1080" y="288"/>
                </a:lnTo>
                <a:lnTo>
                  <a:pt x="1260" y="0"/>
                </a:lnTo>
                <a:lnTo>
                  <a:pt x="1338" y="186"/>
                </a:lnTo>
                <a:lnTo>
                  <a:pt x="1458" y="48"/>
                </a:lnTo>
                <a:lnTo>
                  <a:pt x="1506" y="312"/>
                </a:lnTo>
                <a:lnTo>
                  <a:pt x="1572" y="66"/>
                </a:lnTo>
                <a:lnTo>
                  <a:pt x="1662" y="246"/>
                </a:lnTo>
                <a:lnTo>
                  <a:pt x="1704" y="30"/>
                </a:lnTo>
                <a:lnTo>
                  <a:pt x="1806" y="168"/>
                </a:lnTo>
              </a:path>
            </a:pathLst>
          </a:custGeom>
          <a:noFill/>
          <a:ln w="69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82880" y="1746360"/>
            <a:ext cx="0" cy="34671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4139600">
            <a:off x="2647080" y="3224880"/>
            <a:ext cx="149040" cy="79524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62280" y="3100320"/>
            <a:ext cx="0" cy="76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56040" y="2895480"/>
            <a:ext cx="0" cy="76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19400" y="2730600"/>
            <a:ext cx="16542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baseline="-25000">
                <a:solidFill>
                  <a:srgbClr val="000000"/>
                </a:solidFill>
                <a:latin typeface="VW Headline OT-Book"/>
              </a:rPr>
              <a:t>All Electric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02040" y="3152880"/>
            <a:ext cx="125280" cy="1173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38600" y="3030480"/>
            <a:ext cx="13176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99000" y="2992320"/>
            <a:ext cx="2292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baseline="-25000">
                <a:solidFill>
                  <a:srgbClr val="000000"/>
                </a:solidFill>
                <a:latin typeface="VW Headline OT-Book"/>
              </a:rPr>
              <a:t>Equivalent All Electric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52640" y="3873600"/>
            <a:ext cx="128520" cy="23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68640" y="3824280"/>
            <a:ext cx="9410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baseline="-25000">
                <a:solidFill>
                  <a:srgbClr val="000000"/>
                </a:solidFill>
                <a:latin typeface="VW Headline OT-Book"/>
              </a:rPr>
              <a:t>First start of 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38640" y="3282840"/>
            <a:ext cx="0" cy="76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22800" y="242712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1720" y="2579760"/>
            <a:ext cx="22431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25720" y="2371680"/>
            <a:ext cx="22892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Charge Depleting Range RC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49840" y="3541680"/>
            <a:ext cx="2300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1268280"/>
            <a:ext cx="27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Step2  Charge Depleting Mo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09880" y="1924200"/>
            <a:ext cx="97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8040" y="1719360"/>
            <a:ext cx="8427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Full Cha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95280" y="189000"/>
          <a:ext cx="8569080" cy="97956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for on OVC Hybrids at WLTP / Charge Depleting 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9688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Overview, methodology for determination of different ranges, fuel and electric energy consumptions and emissions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5219640" y="3068640"/>
            <a:ext cx="1538280" cy="15908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08640" y="3583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42120" y="4191120"/>
            <a:ext cx="89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787640" y="3890880"/>
            <a:ext cx="431640" cy="6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504000">
            <a:off x="5395680" y="3654360"/>
            <a:ext cx="888840" cy="419040"/>
          </a:xfrm>
          <a:custGeom>
            <a:avLst/>
            <a:gdLst/>
            <a:ahLst/>
            <a:rect l="l" t="t" r="r" b="b"/>
            <a:pathLst>
              <a:path w="534" h="375">
                <a:moveTo>
                  <a:pt x="0" y="315"/>
                </a:moveTo>
                <a:cubicBezTo>
                  <a:pt x="25" y="175"/>
                  <a:pt x="50" y="36"/>
                  <a:pt x="72" y="27"/>
                </a:cubicBezTo>
                <a:cubicBezTo>
                  <a:pt x="94" y="18"/>
                  <a:pt x="116" y="259"/>
                  <a:pt x="132" y="261"/>
                </a:cubicBezTo>
                <a:cubicBezTo>
                  <a:pt x="148" y="263"/>
                  <a:pt x="137" y="23"/>
                  <a:pt x="168" y="39"/>
                </a:cubicBezTo>
                <a:cubicBezTo>
                  <a:pt x="199" y="55"/>
                  <a:pt x="281" y="351"/>
                  <a:pt x="318" y="357"/>
                </a:cubicBezTo>
                <a:cubicBezTo>
                  <a:pt x="355" y="363"/>
                  <a:pt x="375" y="75"/>
                  <a:pt x="390" y="75"/>
                </a:cubicBezTo>
                <a:cubicBezTo>
                  <a:pt x="405" y="75"/>
                  <a:pt x="391" y="363"/>
                  <a:pt x="408" y="357"/>
                </a:cubicBezTo>
                <a:cubicBezTo>
                  <a:pt x="425" y="351"/>
                  <a:pt x="475" y="78"/>
                  <a:pt x="492" y="39"/>
                </a:cubicBezTo>
                <a:cubicBezTo>
                  <a:pt x="509" y="0"/>
                  <a:pt x="503" y="67"/>
                  <a:pt x="510" y="123"/>
                </a:cubicBezTo>
                <a:cubicBezTo>
                  <a:pt x="517" y="179"/>
                  <a:pt x="530" y="335"/>
                  <a:pt x="534" y="375"/>
                </a:cubicBezTo>
              </a:path>
            </a:pathLst>
          </a:custGeom>
          <a:noFill/>
          <a:ln w="698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70480" y="3789360"/>
            <a:ext cx="966960" cy="16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4797360"/>
            <a:ext cx="1584360" cy="110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baseline="-25000">
                <a:solidFill>
                  <a:srgbClr val="000000"/>
                </a:solidFill>
                <a:latin typeface="VW Headline OT-Book"/>
              </a:rPr>
              <a:t>RCB break off criteri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baseline="-25000">
                <a:solidFill>
                  <a:srgbClr val="000000"/>
                </a:solidFill>
                <a:latin typeface="VW Headline OT-Book"/>
              </a:rPr>
              <a:t>OIL No.25 &amp; 25bis      Battery Volu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23960" y="2550960"/>
            <a:ext cx="571320" cy="1314720"/>
          </a:xfrm>
          <a:prstGeom prst="line">
            <a:avLst/>
          </a:prstGeom>
          <a:ln w="69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8520" y="2568600"/>
            <a:ext cx="673200" cy="0"/>
          </a:xfrm>
          <a:prstGeom prst="line">
            <a:avLst/>
          </a:prstGeom>
          <a:ln w="69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9040" y="1692360"/>
            <a:ext cx="0" cy="3467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9160" y="4784760"/>
            <a:ext cx="1157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4365720"/>
            <a:ext cx="9511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baseline="-25000">
                <a:solidFill>
                  <a:srgbClr val="000000"/>
                </a:solidFill>
                <a:latin typeface="VW Headline OT-Book"/>
              </a:rPr>
              <a:t>Charging after  CS 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0920" y="5229360"/>
            <a:ext cx="259236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baseline="-22000">
                <a:solidFill>
                  <a:srgbClr val="000000"/>
                </a:solidFill>
                <a:latin typeface="VW Headline OT-Book"/>
              </a:rPr>
              <a:t>Energy consumption test condition: OIL No.2                              Temperatu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484360" y="4868640"/>
            <a:ext cx="7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858920" y="1989000"/>
            <a:ext cx="57636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1844640"/>
            <a:ext cx="2664000" cy="3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EAER determination(CO2 compensation): OIL No.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292720" y="443664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35280" y="1268280"/>
            <a:ext cx="2305080" cy="3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Calculation of electric consumption:  OIL No.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995640" y="155736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6275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ad map for gtr dra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6308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: phone con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03640" y="6381720"/>
            <a:ext cx="144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19640" y="6308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ace to Face me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7138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777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ting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fter 61th GRP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th meet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:27.1.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: Phon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: GTR structure/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th meet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:23-24.2.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: Bruss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: GTR structure/Definition/CD&amp;CS test /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7777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ting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fter 61th GRP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6421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th meet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:1.4.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: Phone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s:CD&amp;CS test /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based on ACEA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th meet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:12.4.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: Zur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s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issues/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eting will be held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by ph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eting will be held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une by ph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40431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755640"/>
            <a:ext cx="835344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762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6407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42591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630864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open Issues will be discussed according to  E-Lab group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085760"/>
            <a:ext cx="8785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827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768240"/>
            <a:ext cx="889308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rot="2766600">
            <a:off x="993240" y="3189600"/>
            <a:ext cx="1673280" cy="75960"/>
          </a:xfrm>
          <a:custGeom>
            <a:avLst/>
            <a:gdLst/>
            <a:ahLst/>
            <a:rect l="l" t="t" r="r" b="b"/>
            <a:pathLst>
              <a:path w="1806" h="312">
                <a:moveTo>
                  <a:pt x="0" y="72"/>
                </a:moveTo>
                <a:lnTo>
                  <a:pt x="84" y="276"/>
                </a:lnTo>
                <a:lnTo>
                  <a:pt x="174" y="36"/>
                </a:lnTo>
                <a:lnTo>
                  <a:pt x="330" y="294"/>
                </a:lnTo>
                <a:lnTo>
                  <a:pt x="450" y="36"/>
                </a:lnTo>
                <a:lnTo>
                  <a:pt x="534" y="282"/>
                </a:lnTo>
                <a:lnTo>
                  <a:pt x="624" y="192"/>
                </a:lnTo>
                <a:lnTo>
                  <a:pt x="678" y="102"/>
                </a:lnTo>
                <a:lnTo>
                  <a:pt x="702" y="252"/>
                </a:lnTo>
                <a:lnTo>
                  <a:pt x="834" y="6"/>
                </a:lnTo>
                <a:lnTo>
                  <a:pt x="852" y="294"/>
                </a:lnTo>
                <a:lnTo>
                  <a:pt x="1032" y="42"/>
                </a:lnTo>
                <a:lnTo>
                  <a:pt x="1080" y="288"/>
                </a:lnTo>
                <a:lnTo>
                  <a:pt x="1260" y="0"/>
                </a:lnTo>
                <a:lnTo>
                  <a:pt x="1338" y="186"/>
                </a:lnTo>
                <a:lnTo>
                  <a:pt x="1458" y="48"/>
                </a:lnTo>
                <a:lnTo>
                  <a:pt x="1506" y="312"/>
                </a:lnTo>
                <a:lnTo>
                  <a:pt x="1572" y="66"/>
                </a:lnTo>
                <a:lnTo>
                  <a:pt x="1662" y="246"/>
                </a:lnTo>
                <a:lnTo>
                  <a:pt x="1704" y="30"/>
                </a:lnTo>
                <a:lnTo>
                  <a:pt x="1806" y="168"/>
                </a:lnTo>
              </a:path>
            </a:pathLst>
          </a:custGeom>
          <a:noFill/>
          <a:ln w="69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332000" y="4334040"/>
            <a:ext cx="4464000" cy="2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38560" y="1700280"/>
            <a:ext cx="1440" cy="319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33520" y="3724200"/>
            <a:ext cx="2230560" cy="165240"/>
          </a:xfrm>
          <a:custGeom>
            <a:avLst/>
            <a:gdLst/>
            <a:ahLst/>
            <a:rect l="l" t="t" r="r" b="b"/>
            <a:pathLst>
              <a:path w="1806" h="312">
                <a:moveTo>
                  <a:pt x="0" y="72"/>
                </a:moveTo>
                <a:lnTo>
                  <a:pt x="84" y="276"/>
                </a:lnTo>
                <a:lnTo>
                  <a:pt x="174" y="36"/>
                </a:lnTo>
                <a:lnTo>
                  <a:pt x="330" y="294"/>
                </a:lnTo>
                <a:lnTo>
                  <a:pt x="450" y="36"/>
                </a:lnTo>
                <a:lnTo>
                  <a:pt x="534" y="282"/>
                </a:lnTo>
                <a:lnTo>
                  <a:pt x="624" y="192"/>
                </a:lnTo>
                <a:lnTo>
                  <a:pt x="678" y="102"/>
                </a:lnTo>
                <a:lnTo>
                  <a:pt x="702" y="252"/>
                </a:lnTo>
                <a:lnTo>
                  <a:pt x="834" y="6"/>
                </a:lnTo>
                <a:lnTo>
                  <a:pt x="852" y="294"/>
                </a:lnTo>
                <a:lnTo>
                  <a:pt x="1032" y="42"/>
                </a:lnTo>
                <a:lnTo>
                  <a:pt x="1080" y="288"/>
                </a:lnTo>
                <a:lnTo>
                  <a:pt x="1260" y="0"/>
                </a:lnTo>
                <a:lnTo>
                  <a:pt x="1338" y="186"/>
                </a:lnTo>
                <a:lnTo>
                  <a:pt x="1458" y="48"/>
                </a:lnTo>
                <a:lnTo>
                  <a:pt x="1506" y="312"/>
                </a:lnTo>
                <a:lnTo>
                  <a:pt x="1572" y="66"/>
                </a:lnTo>
                <a:lnTo>
                  <a:pt x="1662" y="246"/>
                </a:lnTo>
                <a:lnTo>
                  <a:pt x="1704" y="30"/>
                </a:lnTo>
                <a:lnTo>
                  <a:pt x="1806" y="168"/>
                </a:lnTo>
              </a:path>
            </a:pathLst>
          </a:custGeom>
          <a:noFill/>
          <a:ln w="7632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5200" y="4389480"/>
            <a:ext cx="124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at least 1 Cycle Precondit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28840" y="2703600"/>
            <a:ext cx="1379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05000" y="4784760"/>
            <a:ext cx="1014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28920" y="2446200"/>
            <a:ext cx="11523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Precondit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3440" y="4894200"/>
            <a:ext cx="1873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Discharging according manufacturer’s requirem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1773360"/>
            <a:ext cx="0" cy="3466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72160" y="2610000"/>
            <a:ext cx="4680" cy="20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72160" y="2722680"/>
            <a:ext cx="9856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72160" y="4648320"/>
            <a:ext cx="1003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09960" y="3718080"/>
            <a:ext cx="1737000" cy="188640"/>
          </a:xfrm>
          <a:custGeom>
            <a:avLst/>
            <a:gdLst/>
            <a:ahLst/>
            <a:rect l="l" t="t" r="r" b="b"/>
            <a:pathLst>
              <a:path w="1340" h="249">
                <a:moveTo>
                  <a:pt x="0" y="194"/>
                </a:moveTo>
                <a:lnTo>
                  <a:pt x="111" y="22"/>
                </a:lnTo>
                <a:lnTo>
                  <a:pt x="188" y="194"/>
                </a:lnTo>
                <a:lnTo>
                  <a:pt x="305" y="83"/>
                </a:lnTo>
                <a:lnTo>
                  <a:pt x="343" y="182"/>
                </a:lnTo>
                <a:lnTo>
                  <a:pt x="471" y="0"/>
                </a:lnTo>
                <a:lnTo>
                  <a:pt x="482" y="188"/>
                </a:lnTo>
                <a:lnTo>
                  <a:pt x="648" y="44"/>
                </a:lnTo>
                <a:lnTo>
                  <a:pt x="709" y="221"/>
                </a:lnTo>
                <a:lnTo>
                  <a:pt x="842" y="33"/>
                </a:lnTo>
                <a:lnTo>
                  <a:pt x="925" y="171"/>
                </a:lnTo>
                <a:lnTo>
                  <a:pt x="1036" y="50"/>
                </a:lnTo>
                <a:lnTo>
                  <a:pt x="1080" y="249"/>
                </a:lnTo>
                <a:lnTo>
                  <a:pt x="1157" y="55"/>
                </a:lnTo>
                <a:lnTo>
                  <a:pt x="1207" y="171"/>
                </a:lnTo>
                <a:lnTo>
                  <a:pt x="1257" y="16"/>
                </a:lnTo>
                <a:lnTo>
                  <a:pt x="1340" y="122"/>
                </a:lnTo>
              </a:path>
            </a:pathLst>
          </a:custGeom>
          <a:noFill/>
          <a:ln w="63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49720" y="3844800"/>
            <a:ext cx="663480" cy="324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37040" y="4387680"/>
            <a:ext cx="92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Test (cold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35520" y="2982960"/>
            <a:ext cx="1157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Cold start of 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3049800">
            <a:off x="4902480" y="3116520"/>
            <a:ext cx="185760" cy="7588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43360" y="3778200"/>
            <a:ext cx="106560" cy="1159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16360" y="4775040"/>
            <a:ext cx="1109880" cy="17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CO</a:t>
            </a:r>
            <a:r>
              <a:rPr b="1" lang="de-DE" sz="1000" spc="-1" strike="noStrike" baseline="-25000">
                <a:solidFill>
                  <a:srgbClr val="000000"/>
                </a:solidFill>
                <a:latin typeface="VW Headline OT-Book"/>
              </a:rPr>
              <a:t>2</a:t>
            </a: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-emissions 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08360" y="3532320"/>
            <a:ext cx="1025640" cy="68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1125360"/>
            <a:ext cx="374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ep 1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Charge Sustaining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93840" y="1933560"/>
            <a:ext cx="97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32000" y="1484280"/>
            <a:ext cx="84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Unknown S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32360" y="3645000"/>
            <a:ext cx="755640" cy="60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1880" y="2349360"/>
            <a:ext cx="817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Charge Sust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76920" y="1916280"/>
            <a:ext cx="19080" cy="27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50920" y="115920"/>
          <a:ext cx="8569080" cy="97956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OVC and NOVC Hybrids at WLTP / Charge Sustaining 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9688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Overview, methodology for determination of fuel and electric energy consumptions and emissions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3708360" y="3284640"/>
            <a:ext cx="9651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Soak Time before cold 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24200" y="3846600"/>
            <a:ext cx="97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104040" y="3228840"/>
            <a:ext cx="202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Charging Condition Battery [Ah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87640" y="2773440"/>
            <a:ext cx="1800" cy="15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234324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62400" y="2158920"/>
            <a:ext cx="1873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NOVC vehi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2119320"/>
            <a:ext cx="61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0560" y="1928880"/>
            <a:ext cx="1873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OVC vehi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00320" y="210348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867280" y="2538000"/>
            <a:ext cx="586080" cy="1322280"/>
          </a:xfrm>
          <a:prstGeom prst="line">
            <a:avLst/>
          </a:prstGeom>
          <a:ln w="69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43640" y="2492280"/>
            <a:ext cx="1081080" cy="0"/>
          </a:xfrm>
          <a:prstGeom prst="line">
            <a:avLst/>
          </a:prstGeom>
          <a:ln w="69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73760" y="39038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08880" y="2532240"/>
            <a:ext cx="0" cy="1371600"/>
          </a:xfrm>
          <a:prstGeom prst="line">
            <a:avLst/>
          </a:prstGeom>
          <a:ln w="93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4653000"/>
            <a:ext cx="1605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43880" y="3049560"/>
            <a:ext cx="323640" cy="314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515360" y="3917880"/>
            <a:ext cx="288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4076640"/>
            <a:ext cx="12240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Charging time:     OIL No.9             How Lo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7524360" y="3933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084720" y="4724280"/>
            <a:ext cx="1429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5300640"/>
            <a:ext cx="151308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Charging condition:    OIL No.7            Temperature?             Out side O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788000" y="5013000"/>
            <a:ext cx="28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5300640"/>
            <a:ext cx="12236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RCB correction:  OIL No.26,27      emission correc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5516640"/>
            <a:ext cx="16560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Initial discharge condition: OIL No.14         temperatur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692360" y="522936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08360" y="2565360"/>
            <a:ext cx="3240" cy="210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31280" y="4221000"/>
            <a:ext cx="126180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End of charge:     OIL No.10,10bis     Plug Off?         Charging length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05640" y="1889280"/>
            <a:ext cx="4680" cy="60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06:15:37Z</dcterms:created>
  <dc:creator>shinsa2</dc:creator>
  <dc:description/>
  <dc:language>en-US</dc:language>
  <cp:lastModifiedBy>shinsa2</cp:lastModifiedBy>
  <dcterms:modified xsi:type="dcterms:W3CDTF">2011-04-13T05:28:10Z</dcterms:modified>
  <cp:revision>29</cp:revision>
  <dc:subject/>
  <dc:title>WLTP-E-Lab Sub Group 2nd Face to Face meeting</dc:title>
</cp:coreProperties>
</file>