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64B03-D1A3-49B8-9A92-82EBFC981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9AA7-4B99-4D16-9805-49EC35D7F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1903-2406-419B-A1A9-FF5710D6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EB37E-86A8-48CD-B0AD-E50491DF3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7E02-526C-4D02-9BE1-5E90B1A4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00B39-DB5B-44B3-8D51-B7CF20F7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F34E-0453-4FC7-9112-E8376CF7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AA913-187D-4852-8C20-25C1D30ED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7FE7D-8ABB-4799-8333-70F02534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1245-F0CC-447E-B04B-7427F66D5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393F-E4D1-4CEA-9AAF-842A2F54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5912-750F-460F-B3B4-C0B38FBC3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TP-DTP-AP, Oliver Mörsch</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DC12-7C31-4142-82EE-A09796803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349280" y="22320"/>
            <a:ext cx="62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TP Subgroup Additional Polluta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 Dec. 2010</a:t>
            </a:r>
            <a:endParaRPr b="0" lang="en-US" sz="1600" spc="-1" strike="noStrike">
              <a:solidFill>
                <a:srgbClr val="000000"/>
              </a:solidFill>
              <a:latin typeface="Arial"/>
            </a:endParaRPr>
          </a:p>
        </p:txBody>
      </p:sp>
      <p:sp>
        <p:nvSpPr>
          <p:cNvPr id="5" name=""/>
          <p:cNvSpPr/>
          <p:nvPr/>
        </p:nvSpPr>
        <p:spPr>
          <a:xfrm>
            <a:off x="0" y="6224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 Subgroup Additional Pollutants</a:t>
            </a:r>
            <a:br>
              <a:rPr sz="2400"/>
            </a:br>
            <a:br>
              <a:rPr sz="2400"/>
            </a:br>
            <a:r>
              <a:rPr b="1" lang="en-US" sz="2400" spc="-1" strike="noStrike">
                <a:solidFill>
                  <a:srgbClr val="000000"/>
                </a:solidFill>
                <a:latin typeface="Arial"/>
              </a:rPr>
              <a:t>Progress report</a:t>
            </a:r>
            <a:br>
              <a:rPr sz="2400"/>
            </a:br>
            <a:endParaRPr b="0" lang="en-US" sz="2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22. Dec. 2010</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ng of GTR for reference metho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2 and NH3 based on OICA proposal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2O, Ethanol and Aldehydes based on existing legisl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athering of performance data for candidate metho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sks have been assigned within group and will be performed until nex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eting in Apri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47200" y="81612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xt St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1300320" y="1268280"/>
          <a:ext cx="3555720" cy="4889520"/>
        </p:xfrm>
        <a:graphic>
          <a:graphicData uri="http://schemas.openxmlformats.org/drawingml/2006/table">
            <a:tbl>
              <a:tblPr/>
              <a:tblGrid>
                <a:gridCol w="1068120"/>
                <a:gridCol w="900000"/>
                <a:gridCol w="1587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örs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liv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im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torga-Ilor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adang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R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a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ers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OY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ich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SIC-conta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vo Ca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ha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steel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fedd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m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sch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jkhuiz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elejehr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 List Gmb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mstro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m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rchn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iqu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an-Clau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6" name=""/>
          <p:cNvGraphicFramePr/>
          <p:nvPr/>
        </p:nvGraphicFramePr>
        <p:xfrm>
          <a:off x="5043600" y="1268280"/>
          <a:ext cx="3765600" cy="4889520"/>
        </p:xfrm>
        <a:graphic>
          <a:graphicData uri="http://schemas.openxmlformats.org/drawingml/2006/table">
            <a:tbl>
              <a:tblPr/>
              <a:tblGrid>
                <a:gridCol w="990360"/>
                <a:gridCol w="787680"/>
                <a:gridCol w="198756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riy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deno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Toy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g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au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ho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rean Ministry of Environ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ac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e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Gro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d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che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w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ta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us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be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r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lv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k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in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kola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b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st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A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v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AI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an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s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m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750960" y="69372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Members list</a:t>
            </a:r>
            <a:endParaRPr b="0" lang="en-US" sz="2400" spc="-1" strike="noStrike">
              <a:solidFill>
                <a:srgbClr val="000000"/>
              </a:solidFill>
              <a:latin typeface="Arial"/>
            </a:endParaRPr>
          </a:p>
        </p:txBody>
      </p:sp>
      <p:sp>
        <p:nvSpPr>
          <p:cNvPr id="48" name=""/>
          <p:cNvSpPr/>
          <p:nvPr/>
        </p:nvSpPr>
        <p:spPr>
          <a:xfrm>
            <a:off x="352440" y="12636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ai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cha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514600">
            <a:off x="7247160" y="421020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1" name=""/>
          <p:cNvSpPr/>
          <p:nvPr/>
        </p:nvSpPr>
        <p:spPr>
          <a:xfrm>
            <a:off x="665280" y="1469160"/>
            <a:ext cx="7791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Additional Pollutants subgroup shall be responsible for the development of test procedures for pollutants not currently regulated such as NO2, NH3, N2O including measurement equipment and formulae for the measurement for light duty vehicles.</a:t>
            </a:r>
            <a:endParaRPr b="0" lang="en-US" sz="1600" spc="-1" strike="noStrike">
              <a:solidFill>
                <a:srgbClr val="000000"/>
              </a:solidFill>
              <a:latin typeface="Arial"/>
            </a:endParaRPr>
          </a:p>
        </p:txBody>
      </p:sp>
      <p:sp>
        <p:nvSpPr>
          <p:cNvPr id="52" name=""/>
          <p:cNvSpPr/>
          <p:nvPr/>
        </p:nvSpPr>
        <p:spPr>
          <a:xfrm>
            <a:off x="659520" y="833400"/>
            <a:ext cx="77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Terms of reference</a:t>
            </a:r>
            <a:endParaRPr b="0" lang="en-US" sz="2400" spc="-1" strike="noStrike">
              <a:solidFill>
                <a:srgbClr val="000000"/>
              </a:solidFill>
              <a:latin typeface="Arial"/>
            </a:endParaRPr>
          </a:p>
        </p:txBody>
      </p:sp>
      <p:sp>
        <p:nvSpPr>
          <p:cNvPr id="53" name=""/>
          <p:cNvSpPr/>
          <p:nvPr/>
        </p:nvSpPr>
        <p:spPr>
          <a:xfrm>
            <a:off x="687240" y="2739960"/>
            <a:ext cx="812664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ope of Activity</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subgroup will undertake the following tasks on the basis of procedures in existing</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egislation and expert knowledge within the group:</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gree on additional pollutants to be addressed.</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appropriate measurement methods for each of the pollutants.</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 measurement and calibration procedures and calculations based on existing legislation and on output from lab procedure subgroup.</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fting of legislation text.</a:t>
            </a:r>
            <a:endParaRPr b="0" lang="en-US" sz="1600" spc="-1" strike="noStrike">
              <a:solidFill>
                <a:srgbClr val="000000"/>
              </a:solidFill>
              <a:latin typeface="Arial"/>
            </a:endParaRPr>
          </a:p>
        </p:txBody>
      </p:sp>
      <p:sp>
        <p:nvSpPr>
          <p:cNvPr id="54" name=""/>
          <p:cNvSpPr/>
          <p:nvPr/>
        </p:nvSpPr>
        <p:spPr>
          <a:xfrm>
            <a:off x="6105600" y="36766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20514600">
            <a:off x="7201080" y="49766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6" name=""/>
          <p:cNvSpPr/>
          <p:nvPr/>
        </p:nvSpPr>
        <p:spPr>
          <a:xfrm rot="20514600">
            <a:off x="3783960" y="5424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8920" y="792000"/>
            <a:ext cx="6310080" cy="5692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eting sched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irst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lephone/Web Confer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20th July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6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nd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lephone/Web Confer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20th July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0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3rd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JRC/Isp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9/10 Dec.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4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4th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BMW/Mu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ed)</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7/8 Apr. 20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5th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JRC/Isp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ed)</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June 2011 (TB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46040" y="895680"/>
            <a:ext cx="84139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llutants to be addressed</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2</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H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O</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thano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dehydes (Formaldehyde, Acetaldehyd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on performance criteri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interfere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e 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lternative metho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on existing legislation where suitab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raw measurement where possible</a:t>
            </a:r>
            <a:endParaRPr b="0" lang="en-US" sz="1800" spc="-1" strike="noStrike">
              <a:solidFill>
                <a:srgbClr val="000000"/>
              </a:solidFill>
              <a:latin typeface="Arial"/>
            </a:endParaRPr>
          </a:p>
        </p:txBody>
      </p:sp>
      <p:sp>
        <p:nvSpPr>
          <p:cNvPr id="60" name=""/>
          <p:cNvSpPr/>
          <p:nvPr/>
        </p:nvSpPr>
        <p:spPr>
          <a:xfrm>
            <a:off x="554040" y="8161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eneral guidel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0160" y="974880"/>
            <a:ext cx="43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performance criteria</a:t>
            </a:r>
            <a:endParaRPr b="0" lang="en-US" sz="2400" spc="-1" strike="noStrike">
              <a:solidFill>
                <a:srgbClr val="000000"/>
              </a:solidFill>
              <a:latin typeface="Arial"/>
            </a:endParaRPr>
          </a:p>
        </p:txBody>
      </p:sp>
      <p:pic>
        <p:nvPicPr>
          <p:cNvPr id="62" name="" descr=""/>
          <p:cNvPicPr/>
          <p:nvPr/>
        </p:nvPicPr>
        <p:blipFill>
          <a:blip r:embed="rId1"/>
          <a:stretch/>
        </p:blipFill>
        <p:spPr>
          <a:xfrm>
            <a:off x="219240" y="1758960"/>
            <a:ext cx="8638920" cy="33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95120" y="97488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candidate methods for additional pollutants</a:t>
            </a:r>
            <a:endParaRPr b="0" lang="en-US" sz="2400" spc="-1" strike="noStrike">
              <a:solidFill>
                <a:srgbClr val="000000"/>
              </a:solidFill>
              <a:latin typeface="Arial"/>
            </a:endParaRPr>
          </a:p>
        </p:txBody>
      </p:sp>
      <p:pic>
        <p:nvPicPr>
          <p:cNvPr id="64" name="" descr=""/>
          <p:cNvPicPr/>
          <p:nvPr/>
        </p:nvPicPr>
        <p:blipFill>
          <a:blip r:embed="rId1"/>
          <a:stretch/>
        </p:blipFill>
        <p:spPr>
          <a:xfrm>
            <a:off x="169920" y="1712880"/>
            <a:ext cx="8656560" cy="42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lternative methods be qualified/admit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明朝"/>
              </a:rPr>
              <a:t>How will the testing of additional pollutants in WLTP phase 2 be performed?</a:t>
            </a:r>
            <a:r>
              <a:rPr b="0" lang="de-DE"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55480" y="81612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2:57:13Z</dcterms:created>
  <dc:creator>Moersch, Oliver (019)</dc:creator>
  <dc:description/>
  <dc:language>en-US</dc:language>
  <cp:lastModifiedBy>Romain HUBERT</cp:lastModifiedBy>
  <dcterms:modified xsi:type="dcterms:W3CDTF">2011-01-12T17:45:05Z</dcterms:modified>
  <cp:revision>8</cp:revision>
  <dc:subject/>
  <dc:title>Folie 1</dc:title>
</cp:coreProperties>
</file>