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0883D-B27E-431F-9BAA-6690F7750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9B363-15D4-4264-80DC-B1873DAE4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1CE14-4009-4D2A-B961-8076D0182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448FE-4B7B-4BC9-8918-4C5C36C61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2272A-77C3-45CF-AC36-8C67CD113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BC9C7-E4A0-4BB2-92FF-22F7EC277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40CAE-D69E-4298-982F-6A8E38C5D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E62D1-44DA-4FF3-9A9D-2FD8226DE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7B3DE-BE89-4CE7-8BB4-534FEB4F2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B8DAE-B890-44E4-A840-CCC209305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B4DB8-B7CC-4976-BE4F-A62BAFCEB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3A2AB-4588-4E10-85A6-C21A4CDD3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5A2D6-967F-4A27-84C4-1B8BE92CD3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268280"/>
            <a:ext cx="7773840" cy="23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LTP-E-Lab Sub Group</a:t>
            </a:r>
            <a:br>
              <a:rPr sz="4000"/>
            </a:br>
            <a:r>
              <a:rPr b="0" lang="en-US" sz="4000" spc="-1" strike="noStrike">
                <a:solidFill>
                  <a:srgbClr val="000000"/>
                </a:solidFill>
                <a:latin typeface="Arial"/>
              </a:rPr>
              <a:t>Progress report</a:t>
            </a:r>
            <a:br>
              <a:rPr sz="4000"/>
            </a:br>
            <a:br>
              <a:rPr sz="4000"/>
            </a:br>
            <a:r>
              <a:rPr b="0" lang="en-US" sz="3200" spc="-1" strike="noStrike">
                <a:solidFill>
                  <a:srgbClr val="000000"/>
                </a:solidFill>
                <a:latin typeface="Arial"/>
              </a:rPr>
              <a:t>WLTP-DTP-E-LabProc-012</a:t>
            </a:r>
            <a:endParaRPr b="0" lang="en-US" sz="3200" spc="-1" strike="noStrike">
              <a:solidFill>
                <a:srgbClr val="000000"/>
              </a:solidFill>
              <a:latin typeface="Arial"/>
            </a:endParaRPr>
          </a:p>
        </p:txBody>
      </p:sp>
      <p:sp>
        <p:nvSpPr>
          <p:cNvPr id="42" name="PlaceHolder 2"/>
          <p:cNvSpPr>
            <a:spLocks noGrp="1"/>
          </p:cNvSpPr>
          <p:nvPr>
            <p:ph type="subTitle"/>
          </p:nvPr>
        </p:nvSpPr>
        <p:spPr>
          <a:xfrm>
            <a:off x="1042560" y="4869000"/>
            <a:ext cx="7489800" cy="769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 Per Ohlund / Kazuki Kobayash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188640"/>
            <a:ext cx="274608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eting</a:t>
            </a:r>
            <a:endParaRPr b="0" lang="en-US" sz="4000" spc="-1" strike="noStrike">
              <a:solidFill>
                <a:srgbClr val="000000"/>
              </a:solidFill>
              <a:latin typeface="Arial"/>
            </a:endParaRPr>
          </a:p>
        </p:txBody>
      </p:sp>
      <p:sp>
        <p:nvSpPr>
          <p:cNvPr id="44" name="PlaceHolder 2"/>
          <p:cNvSpPr>
            <a:spLocks noGrp="1"/>
          </p:cNvSpPr>
          <p:nvPr>
            <p:ph/>
          </p:nvPr>
        </p:nvSpPr>
        <p:spPr>
          <a:xfrm>
            <a:off x="457200" y="907920"/>
            <a:ext cx="8229600" cy="5545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1</a:t>
            </a:r>
            <a:r>
              <a:rPr b="0" lang="ja-JP" sz="2800" spc="-1" strike="noStrike" baseline="30000">
                <a:solidFill>
                  <a:srgbClr val="000000"/>
                </a:solidFill>
                <a:latin typeface="Arial"/>
              </a:rPr>
              <a:t>st</a:t>
            </a:r>
            <a:r>
              <a:rPr b="0" lang="ja-JP" sz="2800" spc="-1" strike="noStrike">
                <a:solidFill>
                  <a:srgbClr val="000000"/>
                </a:solidFill>
                <a:latin typeface="Arial"/>
              </a:rPr>
              <a:t> meet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Date:30.9.2010</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Location: Phone conferen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Topics: Terms of reference &amp; action plan was propos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a:t>
            </a:r>
            <a:r>
              <a:rPr b="0" lang="ja-JP" sz="2800" spc="-1" strike="noStrike" baseline="30000">
                <a:solidFill>
                  <a:srgbClr val="000000"/>
                </a:solidFill>
                <a:latin typeface="Arial"/>
              </a:rPr>
              <a:t>nd</a:t>
            </a:r>
            <a:r>
              <a:rPr b="0" lang="ja-JP" sz="2800" spc="-1" strike="noStrike">
                <a:solidFill>
                  <a:srgbClr val="000000"/>
                </a:solidFill>
                <a:latin typeface="Arial"/>
              </a:rPr>
              <a:t> meet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Date:13-14.10.2010</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Location: Vienn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Topics: Terms of reference &amp; action plan was agre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Top 5 issues were discuss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To make a comparison table.( to compare the details of Jp/EU/US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457200" y="692280"/>
            <a:ext cx="8229600" cy="597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baseline="30000">
                <a:solidFill>
                  <a:srgbClr val="000000"/>
                </a:solidFill>
                <a:latin typeface="Arial"/>
              </a:rPr>
              <a:t>rd</a:t>
            </a:r>
            <a:r>
              <a:rPr b="0" lang="en-US" sz="3200" spc="-1" strike="noStrike">
                <a:solidFill>
                  <a:srgbClr val="000000"/>
                </a:solidFill>
                <a:latin typeface="Arial"/>
              </a:rPr>
              <a:t> mee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ate:24-25.11.201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cation: Brusse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pics: Discussion open iss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tr text: part of BE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en-US" sz="3200" spc="-1" strike="noStrike" baseline="30000">
                <a:solidFill>
                  <a:srgbClr val="000000"/>
                </a:solidFill>
                <a:latin typeface="Arial"/>
              </a:rPr>
              <a:t>th</a:t>
            </a:r>
            <a:r>
              <a:rPr b="0" lang="en-US" sz="3200" spc="-1" strike="noStrike">
                <a:solidFill>
                  <a:srgbClr val="000000"/>
                </a:solidFill>
                <a:latin typeface="Arial"/>
              </a:rPr>
              <a:t> mee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ate:16.12.201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cation: Phone confer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pics: working schedule for gtr tex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tr text :part of Defi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88640"/>
            <a:ext cx="4897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 issue list1</a:t>
            </a:r>
            <a:endParaRPr b="0" lang="en-US" sz="4000" spc="-1" strike="noStrike">
              <a:solidFill>
                <a:srgbClr val="000000"/>
              </a:solidFill>
              <a:latin typeface="Arial"/>
            </a:endParaRPr>
          </a:p>
        </p:txBody>
      </p:sp>
      <p:graphicFrame>
        <p:nvGraphicFramePr>
          <p:cNvPr id="48" name=""/>
          <p:cNvGraphicFramePr/>
          <p:nvPr/>
        </p:nvGraphicFramePr>
        <p:xfrm>
          <a:off x="324000" y="836640"/>
          <a:ext cx="8229600" cy="5772240"/>
        </p:xfrm>
        <a:graphic>
          <a:graphicData uri="http://schemas.openxmlformats.org/drawingml/2006/table">
            <a:tbl>
              <a:tblPr/>
              <a:tblGrid>
                <a:gridCol w="525600"/>
                <a:gridCol w="809640"/>
                <a:gridCol w="3755880"/>
                <a:gridCol w="3138480"/>
              </a:tblGrid>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P/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te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ssu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c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tility facto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The us and jp regulation has methods which include statistical analysis. ( EU:25k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se methods will be considered.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OC</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or CS mode, it could be necessary to compensate the CO2/fuel consumption based on SOC balance to obtain correct value. (for CD mode, no need to compensate).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eed results about the driving cycle from the DHC group to continue the discussion.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P</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horten the test procedu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Current requirement (full charge to empty) is basic procedure. As an option, need to adapt the shorten procedure to reduce testing burden (i. e. SAE J16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Arial"/>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2 compensation for range tes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eparation point of CD mode and CS mode in one cycle is agreed but the method on how is still an open issu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ill an open issu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nergy consumption</a:t>
                      </a:r>
                      <a:br>
                        <a:rPr sz="1100"/>
                      </a:br>
                      <a:r>
                        <a:rPr b="0" lang="en-US" sz="1100" spc="-1" strike="noStrike">
                          <a:solidFill>
                            <a:srgbClr val="000000"/>
                          </a:solidFill>
                          <a:latin typeface="Arial"/>
                          <a:ea typeface="Arial"/>
                        </a:rPr>
                        <a:t>test condi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Battery temperature requir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ollow recommendation from ICE group regarding ambient temperature, in phase 1 only normal ambient temperature and in phase 2 consider cold ambient temperatu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65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Road loa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case of the vehicle with no mechanical neut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ollow recommendations from ICE group except in cases where there are differences for example no mechanical neutral gear. Agreed to consider minimum requirement. This will make flexibility for future technical development and prevent judgment variation by contracting parti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Weighting facto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vehicles which have difficulty to follow the prescribed cycle.</a:t>
                      </a:r>
                      <a:br>
                        <a:rPr sz="1100"/>
                      </a:br>
                      <a:r>
                        <a:rPr b="0" lang="en-US" sz="1100" spc="-1" strike="noStrike">
                          <a:solidFill>
                            <a:srgbClr val="000000"/>
                          </a:solidFill>
                          <a:latin typeface="Arial"/>
                          <a:ea typeface="Arial"/>
                        </a:rPr>
                        <a:t>(like as electrified vehicles for only urba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ollow development in the DHC group. Vehicles that will have problem following the driving cycle will be considered by the DHC group.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88640"/>
            <a:ext cx="4897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 issue list2</a:t>
            </a:r>
            <a:endParaRPr b="0" lang="en-US" sz="4000" spc="-1" strike="noStrike">
              <a:solidFill>
                <a:srgbClr val="000000"/>
              </a:solidFill>
              <a:latin typeface="Arial"/>
            </a:endParaRPr>
          </a:p>
        </p:txBody>
      </p:sp>
      <p:graphicFrame>
        <p:nvGraphicFramePr>
          <p:cNvPr id="50" name=""/>
          <p:cNvGraphicFramePr/>
          <p:nvPr/>
        </p:nvGraphicFramePr>
        <p:xfrm>
          <a:off x="539640" y="907920"/>
          <a:ext cx="8229600" cy="5111640"/>
        </p:xfrm>
        <a:graphic>
          <a:graphicData uri="http://schemas.openxmlformats.org/drawingml/2006/table">
            <a:tbl>
              <a:tblPr/>
              <a:tblGrid>
                <a:gridCol w="525600"/>
                <a:gridCol w="809640"/>
                <a:gridCol w="3755880"/>
                <a:gridCol w="3138480"/>
              </a:tblGrid>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P/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te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ssu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c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mission worst tes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General opinion to avoid to large number of test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ill an open issu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Run in mileag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Run in mileage for tes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km or mo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harging condi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to not regulate the possibility to soak outdoor. (proposed by Jp)</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t could be a safety issue for by some contracting parties if we do not allow charging outdoor.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harging metho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harging metho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manufacture's recommend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harging tim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oak time:12 hr or more, less than 36hr.Charging time: Stop with full charg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pper limit for charging time is 36 h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riteria for end of charg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which is the criteria  ”plug-off” or indication of charging completed from the vehicle.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ill an open issu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P</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terruption condi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Less than 3 minutes interruption is possible for every one cycle.</a:t>
                      </a:r>
                      <a:br>
                        <a:rPr sz="1100"/>
                      </a:br>
                      <a:r>
                        <a:rPr b="0" lang="en-US" sz="1100" spc="-1" strike="noStrike">
                          <a:solidFill>
                            <a:srgbClr val="000000"/>
                          </a:solidFill>
                          <a:latin typeface="Arial"/>
                          <a:ea typeface="Arial"/>
                        </a:rPr>
                        <a:t>During interruption, main power may be OFF.</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ill an open issue. Needs the driving cycle from DHC.</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est termination condi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est termination condition for range measuremen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ill an open issu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op condi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Proposed stop condition :Accel Off ,and press braking pedal when 5 km/h or lower to stop.</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greemen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259920"/>
            <a:ext cx="469116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 issue list3</a:t>
            </a:r>
            <a:endParaRPr b="0" lang="en-US" sz="4000" spc="-1" strike="noStrike">
              <a:solidFill>
                <a:srgbClr val="000000"/>
              </a:solidFill>
              <a:latin typeface="Arial"/>
            </a:endParaRPr>
          </a:p>
        </p:txBody>
      </p:sp>
      <p:graphicFrame>
        <p:nvGraphicFramePr>
          <p:cNvPr id="52" name=""/>
          <p:cNvGraphicFramePr/>
          <p:nvPr/>
        </p:nvGraphicFramePr>
        <p:xfrm>
          <a:off x="468360" y="1125360"/>
          <a:ext cx="8229600" cy="4568760"/>
        </p:xfrm>
        <a:graphic>
          <a:graphicData uri="http://schemas.openxmlformats.org/drawingml/2006/table">
            <a:tbl>
              <a:tblPr/>
              <a:tblGrid>
                <a:gridCol w="525600"/>
                <a:gridCol w="809640"/>
                <a:gridCol w="3755880"/>
                <a:gridCol w="3138480"/>
              </a:tblGrid>
              <a:tr h="55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P/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te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ssu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c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1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ischarge condi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ischarge condition before test: Discharge until manufacture's recommended leve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greement on the proposal and a wish that this should be optional and not a requirement. And also to add temperature condition for the discharge driving.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06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Watt-hour meter measurement accurac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S and JP:+/-2%   EU:+/-0.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o be discus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ccuracy of ammete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P:+/-1% F.S.   EU:+/- 0.5%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o be discus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2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LOD of ammete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JP:0.0001Ah (&lt;=50A)  0.001Ah(&gt;50A)  EU:Regulation 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o be discus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OC toleranc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alculation method for delta SOC</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o be discus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D tes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alculation method for CD test (fuel consump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o be discus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94920" y="404280"/>
            <a:ext cx="525636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ad map for gtr draft</a:t>
            </a:r>
            <a:endParaRPr b="0" lang="en-US" sz="4000" spc="-1" strike="noStrike">
              <a:solidFill>
                <a:srgbClr val="000000"/>
              </a:solidFill>
              <a:latin typeface="Arial"/>
            </a:endParaRPr>
          </a:p>
        </p:txBody>
      </p:sp>
      <p:pic>
        <p:nvPicPr>
          <p:cNvPr id="54" name="" descr=""/>
          <p:cNvPicPr/>
          <p:nvPr/>
        </p:nvPicPr>
        <p:blipFill>
          <a:blip r:embed="rId1"/>
          <a:stretch/>
        </p:blipFill>
        <p:spPr>
          <a:xfrm>
            <a:off x="324000" y="1052640"/>
            <a:ext cx="8604000" cy="4938480"/>
          </a:xfrm>
          <a:prstGeom prst="rect">
            <a:avLst/>
          </a:prstGeom>
          <a:ln w="0">
            <a:noFill/>
          </a:ln>
        </p:spPr>
      </p:pic>
      <p:sp>
        <p:nvSpPr>
          <p:cNvPr id="55" name=""/>
          <p:cNvSpPr/>
          <p:nvPr/>
        </p:nvSpPr>
        <p:spPr>
          <a:xfrm>
            <a:off x="1258920" y="6093000"/>
            <a:ext cx="69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phone con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2819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endix</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s of refer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 table (for exam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r text (for exam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06:15:37Z</dcterms:created>
  <dc:creator>shinsa2</dc:creator>
  <dc:description/>
  <dc:language>en-US</dc:language>
  <cp:lastModifiedBy>Romain HUBERT</cp:lastModifiedBy>
  <dcterms:modified xsi:type="dcterms:W3CDTF">2011-01-12T17:42:59Z</dcterms:modified>
  <cp:revision>12</cp:revision>
  <dc:subject/>
  <dc:title>WLTP-E-Lab Sub Group 2nd Face to Face meeting</dc:title>
</cp:coreProperties>
</file>