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A52CE5F2-EE29-4BE4-9A01-779E823E393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E407ED4B-2CBD-476B-A66A-065EAEF72C0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CB513-7A65-4046-B7BC-3DB4ABFAE6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60040" y="1841400"/>
            <a:ext cx="75214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60040" y="4002480"/>
            <a:ext cx="75214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317E9-AD1B-4637-9034-28D0840E7D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60040" y="1841400"/>
            <a:ext cx="36702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200" y="1841400"/>
            <a:ext cx="36702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60040" y="4002480"/>
            <a:ext cx="36702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200" y="4002480"/>
            <a:ext cx="36702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6A93A-AEA5-4D14-A9C4-56689E61D5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60040" y="1841400"/>
            <a:ext cx="24217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03080" y="1841400"/>
            <a:ext cx="24217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6480" y="1841400"/>
            <a:ext cx="24217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60040" y="4002480"/>
            <a:ext cx="24217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03080" y="4002480"/>
            <a:ext cx="24217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6480" y="4002480"/>
            <a:ext cx="24217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B52C0-D2D6-40DF-B653-794D968F56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60040" y="1841400"/>
            <a:ext cx="75214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D95FE-A09A-41F7-9CA7-23F4085209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60040" y="1841400"/>
            <a:ext cx="75214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7733B-790C-4EA2-8B8B-E38BE9C1BB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60040" y="1841400"/>
            <a:ext cx="36702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200" y="1841400"/>
            <a:ext cx="36702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A1EE1-F439-4B3C-BD76-FBB961F044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6CBB6-6ABA-4741-A925-931DF4819B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600" y="7621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9F623-2A5F-4DB9-BADB-F4E8F28DF0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60040" y="1841400"/>
            <a:ext cx="36702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200" y="1841400"/>
            <a:ext cx="36702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60040" y="4002480"/>
            <a:ext cx="36702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B6D9A-F83C-4810-88E4-728E0CCA48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60040" y="1841400"/>
            <a:ext cx="36702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200" y="1841400"/>
            <a:ext cx="36702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200" y="4002480"/>
            <a:ext cx="36702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6832E-21C9-4D1B-8527-BAD99DC14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60040" y="1841400"/>
            <a:ext cx="36702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200" y="1841400"/>
            <a:ext cx="36702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60040" y="4002480"/>
            <a:ext cx="75214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5CF46-B16D-48C4-9871-2FFCAD6C9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0040" y="1841400"/>
            <a:ext cx="75214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2" marL="12952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3" marL="17146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4" marL="2133720" indent="-3049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5" marL="2133720" indent="-3049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6" marL="2133720" indent="-3049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18160" y="6257520"/>
            <a:ext cx="1600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slide </a:t>
            </a:r>
            <a:fld id="{41F34D3B-7686-4207-A36E-30CE96AFACE3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14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15"/>
          <p:cNvSpPr/>
          <p:nvPr/>
        </p:nvSpPr>
        <p:spPr>
          <a:xfrm>
            <a:off x="2451960" y="6129360"/>
            <a:ext cx="208872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WLTP 4th DTP</a:t>
            </a:r>
            <a:r>
              <a:rPr b="0" lang="en-GB" sz="1400" spc="-1" strike="noStrike">
                <a:solidFill>
                  <a:srgbClr val="808080"/>
                </a:solidFill>
                <a:latin typeface="Tahoma"/>
              </a:rPr>
              <a:t> Meetin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Geneva 12.01.20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Line 18"/>
          <p:cNvSpPr/>
          <p:nvPr/>
        </p:nvSpPr>
        <p:spPr>
          <a:xfrm>
            <a:off x="7981920" y="6019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21" descr=""/>
          <p:cNvPicPr/>
          <p:nvPr/>
        </p:nvPicPr>
        <p:blipFill>
          <a:blip r:embed="rId2"/>
          <a:stretch/>
        </p:blipFill>
        <p:spPr>
          <a:xfrm>
            <a:off x="0" y="0"/>
            <a:ext cx="19050120" cy="552600"/>
          </a:xfrm>
          <a:prstGeom prst="rect">
            <a:avLst/>
          </a:prstGeom>
          <a:ln w="0">
            <a:noFill/>
          </a:ln>
        </p:spPr>
      </p:pic>
      <p:sp>
        <p:nvSpPr>
          <p:cNvPr id="7" name="Line 22"/>
          <p:cNvSpPr/>
          <p:nvPr/>
        </p:nvSpPr>
        <p:spPr>
          <a:xfrm>
            <a:off x="2190600" y="6019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23"/>
          <p:cNvSpPr/>
          <p:nvPr/>
        </p:nvSpPr>
        <p:spPr>
          <a:xfrm>
            <a:off x="270000" y="6114960"/>
            <a:ext cx="19382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DTP Subgroup LabProcICE</a:t>
            </a:r>
            <a:r>
              <a:rPr b="1" lang="de-DE" sz="1400" spc="-1" strike="noStrike">
                <a:solidFill>
                  <a:srgbClr val="80808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irca.europa.eu/Public/irc/enterprise/wltp-dtp/libadmin?l=/wltp-dtp_procedures/brussels_2223112010&amp;a=cp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irca.europa.eu/Public/irc/enterprise/wltp-dtp/library?l=/wltp-dtp_procedures&amp;vm=detailed&amp;sb=Title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irca.europa.eu/Public/irc/enterprise/wltp-dtp/library?l=/wltp-dtp_procedures/brussels_2223112010/wltp-dtp-labprocice-025-/_EN_1.0_&amp;a=d" TargetMode="External"/><Relationship Id="rId2" Type="http://schemas.openxmlformats.org/officeDocument/2006/relationships/hyperlink" Target="http://circa.europa.eu/Public/irc/enterprise/wltp-dtp/library?l=/wltp-dtp_procedures/brussels_2223112010/wltp-dtp-labprocice-030-/_EN_1.0_&amp;a=d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unece.org/trans/doc/2011/wp29grpe/ECE-TRANS-WP29-GRPE-2011-05e.pdf" TargetMode="External"/><Relationship Id="rId2" Type="http://schemas.openxmlformats.org/officeDocument/2006/relationships/hyperlink" Target="http://www.unece.org/trans/doc/2011/wp29grpe/ECE-TRANS-WP29-GRPE-2011-06e.pdf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liennummernplatzhalter 3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slide </a:t>
            </a:r>
            <a:fld id="{C1A0CD22-42DD-4079-9BD8-AF36B2534AF1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2418840" y="1741320"/>
            <a:ext cx="4423680" cy="29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Progress Repor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TP Subgroup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Lab Process Internal Combustion Engines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(LabProcICE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Geneva, 12. January 2011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8077320" y="6141960"/>
            <a:ext cx="952560" cy="6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liennummernplatzhalter 3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slide </a:t>
            </a:r>
            <a:fld id="{17380392-F464-4054-8A57-907F9F96DD25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60040" y="1841400"/>
            <a:ext cx="782964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Interval of calibration frequency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85960" y="1735200"/>
            <a:ext cx="78292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A summary of harmonized intervals of calibration frequency to be included 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LTP-DTP-LabProcICE-033-calibration_VOLVO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Experts need to modify the procedure for the check of the linearity of analyzers.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Remote mixing chamber, dilution tunnel still needed? </a:t>
            </a:r>
            <a:br>
              <a:rPr sz="20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Discussion with PM/PN sub-group coming next step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400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812880" y="673200"/>
            <a:ext cx="7937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33"/>
                </a:solidFill>
                <a:latin typeface="Arial"/>
                <a:ea typeface="Arial"/>
              </a:rPr>
              <a:t>1.4) Work in Progres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liennummernplatzhalter 3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slide </a:t>
            </a:r>
            <a:fld id="{B9328715-B7D9-47A6-ABED-2883EF23C20C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969840" y="1568520"/>
            <a:ext cx="789012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After several discussions the “stepless inertia” concept was rejected. The following points summarizes the decision points: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- Refined inertia classes enable more accurate CO2 values. Effect of down-weighting would be better represente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- a stepless function with a tolerance does not fit to the US certification system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- steps that would result in CO2 emission changes of less than 1g/km would be meaningles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- the step function provides an important disincentive to weight increas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EPA are considering a calculated incentive to weight decreas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A concept with reduced steps in inertia classes is accepted. Steps of 60 kg are in line with 125 lbs of EPA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Draft proposal: LabProcICE-034 (to be published on circa soon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812880" y="673200"/>
            <a:ext cx="7937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1.4) Work in progress- Inertia class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liennummernplatzhalter 2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slide </a:t>
            </a:r>
            <a:fld id="{43B8C986-9BC6-4E1A-A26F-A84D1DDEDAF1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3" name="Group 2"/>
          <p:cNvGrpSpPr/>
          <p:nvPr/>
        </p:nvGrpSpPr>
        <p:grpSpPr>
          <a:xfrm>
            <a:off x="190440" y="1357200"/>
            <a:ext cx="8766000" cy="5168880"/>
            <a:chOff x="190440" y="1357200"/>
            <a:chExt cx="8766000" cy="5168880"/>
          </a:xfrm>
        </p:grpSpPr>
        <p:pic>
          <p:nvPicPr>
            <p:cNvPr id="114" name="Picture 3" descr=""/>
            <p:cNvPicPr/>
            <p:nvPr/>
          </p:nvPicPr>
          <p:blipFill>
            <a:blip r:embed="rId1"/>
            <a:stretch/>
          </p:blipFill>
          <p:spPr>
            <a:xfrm>
              <a:off x="190440" y="1357200"/>
              <a:ext cx="8766000" cy="516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Line 4"/>
            <p:cNvSpPr/>
            <p:nvPr/>
          </p:nvSpPr>
          <p:spPr>
            <a:xfrm flipV="1">
              <a:off x="3981240" y="1946160"/>
              <a:ext cx="1800" cy="3888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Line 5"/>
            <p:cNvSpPr/>
            <p:nvPr/>
          </p:nvSpPr>
          <p:spPr>
            <a:xfrm flipH="1">
              <a:off x="3983040" y="4419720"/>
              <a:ext cx="769680" cy="1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2609640" y="5445000"/>
              <a:ext cx="9018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eb5bc"/>
                  </a:solidFill>
                  <a:latin typeface="Arial"/>
                  <a:ea typeface="ＭＳ Ｐゴシック"/>
                </a:rPr>
                <a:t>EU/JPN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Text Box 7"/>
            <p:cNvSpPr/>
            <p:nvPr/>
          </p:nvSpPr>
          <p:spPr>
            <a:xfrm>
              <a:off x="4109760" y="4487760"/>
              <a:ext cx="5637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JPN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Line 8"/>
            <p:cNvSpPr/>
            <p:nvPr/>
          </p:nvSpPr>
          <p:spPr>
            <a:xfrm flipV="1">
              <a:off x="4768560" y="1946160"/>
              <a:ext cx="1800" cy="3888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Line 9"/>
            <p:cNvSpPr/>
            <p:nvPr/>
          </p:nvSpPr>
          <p:spPr>
            <a:xfrm flipH="1" flipV="1">
              <a:off x="2115720" y="5346360"/>
              <a:ext cx="1811160" cy="1260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Line 10"/>
            <p:cNvSpPr/>
            <p:nvPr/>
          </p:nvSpPr>
          <p:spPr>
            <a:xfrm flipH="1" flipV="1">
              <a:off x="2075760" y="2581200"/>
              <a:ext cx="1800" cy="3252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Line 11"/>
            <p:cNvSpPr/>
            <p:nvPr/>
          </p:nvSpPr>
          <p:spPr>
            <a:xfrm flipH="1" flipV="1">
              <a:off x="1620720" y="5346720"/>
              <a:ext cx="465120" cy="144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Text Box 12"/>
            <p:cNvSpPr/>
            <p:nvPr/>
          </p:nvSpPr>
          <p:spPr>
            <a:xfrm>
              <a:off x="1136520" y="5457960"/>
              <a:ext cx="9018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cc00"/>
                  </a:solidFill>
                  <a:latin typeface="Arial"/>
                  <a:ea typeface="ＭＳ Ｐゴシック"/>
                </a:rPr>
                <a:t>EU/JPN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Line 13"/>
            <p:cNvSpPr/>
            <p:nvPr/>
          </p:nvSpPr>
          <p:spPr>
            <a:xfrm flipH="1" flipV="1">
              <a:off x="4770360" y="3250800"/>
              <a:ext cx="681120" cy="12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Text Box 14"/>
            <p:cNvSpPr/>
            <p:nvPr/>
          </p:nvSpPr>
          <p:spPr>
            <a:xfrm>
              <a:off x="4846320" y="3471840"/>
              <a:ext cx="4622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US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Line 15"/>
            <p:cNvSpPr/>
            <p:nvPr/>
          </p:nvSpPr>
          <p:spPr>
            <a:xfrm flipV="1">
              <a:off x="5391000" y="5362560"/>
              <a:ext cx="1440" cy="471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7" name="Text Box 16"/>
          <p:cNvSpPr/>
          <p:nvPr/>
        </p:nvSpPr>
        <p:spPr>
          <a:xfrm>
            <a:off x="1134000" y="755640"/>
            <a:ext cx="51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Inertia classes proposal overview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(based on WLTP-DTP-LabProcICE-011 by JASIC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liennummernplatzhalter 3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slide </a:t>
            </a:r>
            <a:fld id="{E88D74AA-2F13-4ED0-8CD0-C40D88E0F36B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12520" y="1841400"/>
            <a:ext cx="782964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812880" y="1504800"/>
            <a:ext cx="78296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Separate Annex [9] incl.:</a:t>
            </a:r>
            <a:br>
              <a:rPr sz="1800"/>
            </a:b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- RLD</a:t>
            </a:r>
            <a:br>
              <a:rPr sz="1800"/>
            </a:b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- Reproduction on Chassis Dynamometer </a:t>
            </a:r>
            <a:br>
              <a:rPr sz="1800"/>
            </a:b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- Table of running resistanc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gtr basis: ISO 10521-1 &amp; 2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Next Steps: take into account the results of the following paper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ad load determination Representative road load test procedure [WLTP-DTP-LabProcICE-029-RLD presentation STA T&amp;E]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812880" y="673200"/>
            <a:ext cx="7937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33"/>
                </a:solidFill>
                <a:latin typeface="Arial"/>
                <a:ea typeface="Arial"/>
              </a:rPr>
              <a:t>1.4) Work in Progress – road load determin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liennummernplatzhalter 3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slide </a:t>
            </a:r>
            <a:fld id="{7AF49D49-2B9B-492E-A8E0-DB4502CAFD2A}" type="slidenum">
              <a:rPr b="0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60040" y="1625400"/>
            <a:ext cx="7521480" cy="41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Already taken into account</a:t>
            </a:r>
            <a:endParaRPr b="1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452520" indent="-45252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tightening of tolerances </a:t>
            </a:r>
            <a:endParaRPr b="1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452520" indent="-45252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interval of calibration frequency</a:t>
            </a:r>
            <a:endParaRPr b="1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452520" indent="-45252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tightening of instrument specifications</a:t>
            </a:r>
            <a:endParaRPr b="1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4525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Next Steps: take into account the results of the following papers</a:t>
            </a:r>
            <a:endParaRPr b="1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452520" indent="-45252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Factors influencing NEDC CO2 emissions during type approval of passenger cars By order of the Federal Environment Agency Germany (UBA)  [WLTP-DTP-LabProcICE-023-CO2_WLTP_UBA] </a:t>
            </a:r>
            <a:endParaRPr b="1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452520" indent="-45252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Road load determination Representative road load test procedure [WLTP-DTP-LabProcICE-029-RLD presentation STA T&amp;E]</a:t>
            </a:r>
            <a:endParaRPr b="1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452520" indent="-45252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Study of JRC on influence of  temperature of lab and soak on CO2 announced by EU Comm</a:t>
            </a:r>
            <a:endParaRPr b="1" lang="en-US" sz="1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812880" y="673200"/>
            <a:ext cx="8331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33"/>
                </a:solidFill>
                <a:latin typeface="Arial"/>
                <a:ea typeface="Arial"/>
              </a:rPr>
              <a:t>1.5)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Improvements in CO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 representativity/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reproducibility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liennummernplatzhalter 3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slide </a:t>
            </a:r>
            <a:fld id="{10A090B9-B8E2-4A26-ADF0-30316FF4BDA8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863640" y="1650960"/>
            <a:ext cx="782964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 of the working progres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1) Course of ac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2) Approach to develop the DTP proposa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1.3) Meetings since June GRPE 2010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1.4) Work in progres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5) Improvements in CO2 representativity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roducibilit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2) List of the open issu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) Planning of the next steps / Outlook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812880" y="673200"/>
            <a:ext cx="7962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Arial"/>
                <a:ea typeface="Arial"/>
              </a:rPr>
              <a:t>Overview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liennummernplatzhalter 3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slide </a:t>
            </a:r>
            <a:fld id="{02FAC817-D172-47CB-B604-559885F334C2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800280" y="1752480"/>
            <a:ext cx="81388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There is an ongoing discussion about the test room and soak area temperature during the WLTP DTP ICE workshops.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Current situation: JP, ECE, US: 20-30 °C  and  GTR 2 &amp; 4:  25 ± 5 °C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LabProcICE proposal:  setpoint (25 ± 5) °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ahoma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812880" y="673200"/>
            <a:ext cx="7962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2) List of open issues – Test Room and Soak area temperature (1/2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811080" y="3736800"/>
          <a:ext cx="8080560" cy="2248200"/>
        </p:xfrm>
        <a:graphic>
          <a:graphicData uri="http://schemas.openxmlformats.org/drawingml/2006/table">
            <a:tbl>
              <a:tblPr/>
              <a:tblGrid>
                <a:gridCol w="4224600"/>
                <a:gridCol w="3855960"/>
              </a:tblGrid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ro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Co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3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harmonization with gtr’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not representative for some regio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technical feasible in the laboratories  worldwi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improved reproducibility by set poin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acceptable labour conditions for operators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liennummernplatzhalter 3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slide </a:t>
            </a:r>
            <a:fld id="{4FCF38F4-2325-4491-875B-97417369EF9A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973080" y="1639800"/>
            <a:ext cx="7829640" cy="40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Alternative proposal (by European Commission) for  lower temperature, e.g. 22°C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Problem:  Lack of data to estimate the impact of temperature on measurement  resul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 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LabProcICE unable to decide on the issue.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Open issue needs decision before the beginning of the correlation tes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Next steps: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 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1) Detailed and data supported counterproposal from COM needed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 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2) advice by DTP or political decision by GRPE expected before start of the correlation measurements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ahoma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812880" y="673200"/>
            <a:ext cx="7962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2) List of open issues – Test Room and Soak area temperature (2/2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liennummernplatzhalter 3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slide </a:t>
            </a:r>
            <a:fld id="{23F022EC-D11D-441E-B8D4-FB8A37AC85A2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60040" y="1841400"/>
            <a:ext cx="782964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38080" y="1700280"/>
            <a:ext cx="7829640" cy="42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Proposal for advanced CVS-method for measuring low pollutant mass with high accuracy introduced by experts (Method for subtraction of pollutant mass in intake air (WLTP-DTP-LabProcICE-020)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Next steps: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Technical evaluation of the advanced method by experts of other dtp subgroups (Is the method applicable for additional pollutant, PM/PN and EV requirements?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)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political discussion of the definition of exhaust emission necessary: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standard CVS method: determination of gross tailpipe emissions (molecules generated / transformed in combustion processes + ambient background aspirated by the engine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vs.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advanced CVS method: net amount of pollutants added to the atmosphere by the vehicle (molecules generated / transformed in combustion processes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and improved precision for all non-stochiometric engine concepts through determination of real dilution ratio (DR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812880" y="673200"/>
            <a:ext cx="7937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2) List of open issues – Method for substraction of pollutant mass in intake ai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liennummernplatzhalter 1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slide </a:t>
            </a:r>
            <a:fld id="{325A8995-1F21-4A52-A728-0791C7CFE8A3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542960" y="582120"/>
            <a:ext cx="64008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898989"/>
                </a:solidFill>
                <a:latin typeface="Tahoma"/>
              </a:rPr>
              <a:t>Different meanings of the word „background“ as a contribution to mass</a:t>
            </a:r>
            <a:endParaRPr b="1" lang="en-US" sz="21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1052640" y="1378080"/>
            <a:ext cx="6643440" cy="4498920"/>
          </a:xfrm>
          <a:prstGeom prst="rect">
            <a:avLst/>
          </a:prstGeom>
          <a:ln w="0">
            <a:noFill/>
          </a:ln>
        </p:spPr>
      </p:pic>
      <p:sp>
        <p:nvSpPr>
          <p:cNvPr id="152" name="Textfeld 4"/>
          <p:cNvSpPr/>
          <p:nvPr/>
        </p:nvSpPr>
        <p:spPr>
          <a:xfrm>
            <a:off x="2877480" y="2565360"/>
            <a:ext cx="1344960" cy="520200"/>
          </a:xfrm>
          <a:prstGeom prst="rect">
            <a:avLst/>
          </a:prstGeom>
          <a:solidFill>
            <a:srgbClr val="ceceef"/>
          </a:solidFill>
          <a:ln w="1260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Background 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diluent ai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feld 5"/>
          <p:cNvSpPr/>
          <p:nvPr/>
        </p:nvSpPr>
        <p:spPr>
          <a:xfrm>
            <a:off x="4315320" y="3141720"/>
            <a:ext cx="1915200" cy="733320"/>
          </a:xfrm>
          <a:prstGeom prst="rect">
            <a:avLst/>
          </a:prstGeom>
          <a:solidFill>
            <a:srgbClr val="ceceef"/>
          </a:solidFill>
          <a:ln w="1260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Background 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from mixing poin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to point of sampling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feil nach unten 6"/>
          <p:cNvSpPr/>
          <p:nvPr/>
        </p:nvSpPr>
        <p:spPr>
          <a:xfrm>
            <a:off x="3564000" y="3068640"/>
            <a:ext cx="46080" cy="14436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bbe0e3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feil nach unten 7"/>
          <p:cNvSpPr/>
          <p:nvPr/>
        </p:nvSpPr>
        <p:spPr>
          <a:xfrm>
            <a:off x="5580000" y="3860640"/>
            <a:ext cx="71640" cy="360360"/>
          </a:xfrm>
          <a:prstGeom prst="downArrow">
            <a:avLst>
              <a:gd name="adj1" fmla="val 50000"/>
              <a:gd name="adj2" fmla="val 49859"/>
            </a:avLst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feld 8"/>
          <p:cNvSpPr/>
          <p:nvPr/>
        </p:nvSpPr>
        <p:spPr>
          <a:xfrm>
            <a:off x="3961800" y="5373720"/>
            <a:ext cx="1820520" cy="520200"/>
          </a:xfrm>
          <a:prstGeom prst="rect">
            <a:avLst/>
          </a:prstGeom>
          <a:solidFill>
            <a:srgbClr val="ceceef"/>
          </a:solidFill>
          <a:ln w="1260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Background 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inside transfer tub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feil nach oben 12"/>
          <p:cNvSpPr/>
          <p:nvPr/>
        </p:nvSpPr>
        <p:spPr>
          <a:xfrm>
            <a:off x="5173560" y="4724280"/>
            <a:ext cx="46080" cy="649440"/>
          </a:xfrm>
          <a:prstGeom prst="upArrow">
            <a:avLst>
              <a:gd name="adj1" fmla="val 50000"/>
              <a:gd name="adj2" fmla="val 49981"/>
            </a:avLst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feil nach links 13"/>
          <p:cNvSpPr/>
          <p:nvPr/>
        </p:nvSpPr>
        <p:spPr>
          <a:xfrm>
            <a:off x="4788000" y="4724280"/>
            <a:ext cx="431640" cy="46080"/>
          </a:xfrm>
          <a:prstGeom prst="leftArrow">
            <a:avLst>
              <a:gd name="adj1" fmla="val 50000"/>
              <a:gd name="adj2" fmla="val 49915"/>
            </a:avLst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feld 14"/>
          <p:cNvSpPr/>
          <p:nvPr/>
        </p:nvSpPr>
        <p:spPr>
          <a:xfrm>
            <a:off x="1425600" y="3409920"/>
            <a:ext cx="1931760" cy="520200"/>
          </a:xfrm>
          <a:prstGeom prst="rect">
            <a:avLst/>
          </a:prstGeom>
          <a:solidFill>
            <a:srgbClr val="ceceef"/>
          </a:solidFill>
          <a:ln w="1260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Background 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Intake air from room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feil nach unten 15"/>
          <p:cNvSpPr/>
          <p:nvPr/>
        </p:nvSpPr>
        <p:spPr>
          <a:xfrm>
            <a:off x="2556000" y="3933720"/>
            <a:ext cx="46080" cy="14292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4" descr="Glass Fiber Filters"/>
          <p:cNvPicPr/>
          <p:nvPr/>
        </p:nvPicPr>
        <p:blipFill>
          <a:blip r:embed="rId2"/>
          <a:stretch/>
        </p:blipFill>
        <p:spPr>
          <a:xfrm>
            <a:off x="7956720" y="4797360"/>
            <a:ext cx="1079280" cy="1079640"/>
          </a:xfrm>
          <a:prstGeom prst="rect">
            <a:avLst/>
          </a:prstGeom>
          <a:ln w="0">
            <a:noFill/>
          </a:ln>
        </p:spPr>
      </p:pic>
      <p:sp>
        <p:nvSpPr>
          <p:cNvPr id="162" name="Textfeld 17"/>
          <p:cNvSpPr/>
          <p:nvPr/>
        </p:nvSpPr>
        <p:spPr>
          <a:xfrm>
            <a:off x="6363360" y="5354640"/>
            <a:ext cx="1605600" cy="520200"/>
          </a:xfrm>
          <a:prstGeom prst="rect">
            <a:avLst/>
          </a:prstGeom>
          <a:solidFill>
            <a:srgbClr val="ceceef"/>
          </a:solidFill>
          <a:ln w="1260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Background 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Artifacts on Fil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feil nach rechts 18"/>
          <p:cNvSpPr/>
          <p:nvPr/>
        </p:nvSpPr>
        <p:spPr>
          <a:xfrm>
            <a:off x="7812000" y="5589720"/>
            <a:ext cx="216000" cy="4608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liennummernplatzhalter 3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slide </a:t>
            </a:r>
            <a:fld id="{D1D5B39A-F423-4145-83C8-4FF26CD8F182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863640" y="1650960"/>
            <a:ext cx="782964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 of the working progres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1) Course of ac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2) Approach to develop the DTP proposa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1.3) Meetings since June GRPE 2010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1.4) Work in progres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5) Improvements in CO2 representativity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roducibilit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28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) List of the open issu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) Planning of the next steps / Outlook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812880" y="673200"/>
            <a:ext cx="7962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Arial"/>
                <a:ea typeface="Arial"/>
              </a:rPr>
              <a:t>Overview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liennummernplatzhalter 1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slide </a:t>
            </a:r>
            <a:fld id="{C915EC83-8384-49E3-8989-6854390E9852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feld 3"/>
          <p:cNvSpPr/>
          <p:nvPr/>
        </p:nvSpPr>
        <p:spPr>
          <a:xfrm>
            <a:off x="529560" y="1484280"/>
            <a:ext cx="1344960" cy="520200"/>
          </a:xfrm>
          <a:prstGeom prst="rect">
            <a:avLst/>
          </a:prstGeom>
          <a:solidFill>
            <a:srgbClr val="ceceef"/>
          </a:solidFill>
          <a:ln w="1260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ackground 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luent ai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feld 4"/>
          <p:cNvSpPr/>
          <p:nvPr/>
        </p:nvSpPr>
        <p:spPr>
          <a:xfrm>
            <a:off x="498960" y="2349360"/>
            <a:ext cx="1915200" cy="733320"/>
          </a:xfrm>
          <a:prstGeom prst="rect">
            <a:avLst/>
          </a:prstGeom>
          <a:solidFill>
            <a:srgbClr val="ceceef"/>
          </a:solidFill>
          <a:ln w="1260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ackground 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from mixing poin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to point of sampling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feld 5"/>
          <p:cNvSpPr/>
          <p:nvPr/>
        </p:nvSpPr>
        <p:spPr>
          <a:xfrm>
            <a:off x="505800" y="3265560"/>
            <a:ext cx="1820520" cy="520200"/>
          </a:xfrm>
          <a:prstGeom prst="rect">
            <a:avLst/>
          </a:prstGeom>
          <a:solidFill>
            <a:srgbClr val="ceceef"/>
          </a:solidFill>
          <a:ln w="1260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ackground 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side transfer tub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feld 6"/>
          <p:cNvSpPr/>
          <p:nvPr/>
        </p:nvSpPr>
        <p:spPr>
          <a:xfrm>
            <a:off x="489240" y="4130640"/>
            <a:ext cx="1931760" cy="520200"/>
          </a:xfrm>
          <a:prstGeom prst="rect">
            <a:avLst/>
          </a:prstGeom>
          <a:solidFill>
            <a:srgbClr val="ceceef"/>
          </a:solidFill>
          <a:ln w="1260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ackground 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ake air from room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feld 7"/>
          <p:cNvSpPr/>
          <p:nvPr/>
        </p:nvSpPr>
        <p:spPr>
          <a:xfrm>
            <a:off x="531000" y="4941720"/>
            <a:ext cx="1605600" cy="520200"/>
          </a:xfrm>
          <a:prstGeom prst="rect">
            <a:avLst/>
          </a:prstGeom>
          <a:solidFill>
            <a:srgbClr val="ceceef"/>
          </a:solidFill>
          <a:ln w="1260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ackground 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rtifacts on Fil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hteck 8"/>
          <p:cNvSpPr/>
          <p:nvPr/>
        </p:nvSpPr>
        <p:spPr>
          <a:xfrm>
            <a:off x="2700360" y="2330280"/>
            <a:ext cx="597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t point of sampling means there are some left overs, contaminations of THC, PM, PN inside the surface of tubes an pipe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hteck 9"/>
          <p:cNvSpPr/>
          <p:nvPr/>
        </p:nvSpPr>
        <p:spPr>
          <a:xfrm>
            <a:off x="2736720" y="1484280"/>
            <a:ext cx="56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ll constituents are important including CH4, N2O for the near futur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hteck 10"/>
          <p:cNvSpPr/>
          <p:nvPr/>
        </p:nvSpPr>
        <p:spPr>
          <a:xfrm>
            <a:off x="2700360" y="3284640"/>
            <a:ext cx="626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eft overs, contamination of PM, PN, H2O and THC are important, with the option - Cap end of tub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hteck 11"/>
          <p:cNvSpPr/>
          <p:nvPr/>
        </p:nvSpPr>
        <p:spPr>
          <a:xfrm>
            <a:off x="2771640" y="4149720"/>
            <a:ext cx="532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ll constituents are important including CH4, N2O for the near futur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hteck 12"/>
          <p:cNvSpPr/>
          <p:nvPr/>
        </p:nvSpPr>
        <p:spPr>
          <a:xfrm>
            <a:off x="2843280" y="4941720"/>
            <a:ext cx="525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lter material gains weight from something unknown called artifacts, just in air or other gase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Untertitel 2"/>
          <p:cNvSpPr/>
          <p:nvPr/>
        </p:nvSpPr>
        <p:spPr>
          <a:xfrm>
            <a:off x="1666800" y="544680"/>
            <a:ext cx="6256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Tahoma"/>
              </a:rPr>
              <a:t>Different meanings of the word „background“ as a contribution to mass</a:t>
            </a:r>
            <a:endParaRPr b="1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liennummernplatzhalter 3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slide </a:t>
            </a:r>
            <a:fld id="{3493D2A9-71BE-45F0-A8E1-5A1C27CE77E0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973080" y="1639800"/>
            <a:ext cx="7829640" cy="40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ahoma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812880" y="673200"/>
            <a:ext cx="7962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2) List of open issues – certification iss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1360" y="1292400"/>
          <a:ext cx="8370720" cy="4652640"/>
        </p:xfrm>
        <a:graphic>
          <a:graphicData uri="http://schemas.openxmlformats.org/drawingml/2006/table">
            <a:tbl>
              <a:tblPr/>
              <a:tblGrid>
                <a:gridCol w="446040"/>
                <a:gridCol w="1808280"/>
                <a:gridCol w="1990800"/>
                <a:gridCol w="2471400"/>
                <a:gridCol w="165420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N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te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escrip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No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gtr tas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17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amily criteri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 Emission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riteria which the representative data cover the group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deally yes, if time permits (DTP top level responsibility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amily criteri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 Fuel Economy / CO2 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deally yes, if time permits (DTP top level responsibility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amily criteri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 Road Load 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deally yes, if time permits (DTP top level responsibility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est Vehicle Selec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 Emission 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ehicle condition of representative data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im: worst case,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onnected with family criteri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deally yes, if time permits (DTP top level responsibility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est Vehicle Selec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 Fuel Economy / CO2 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im: worst/best/representative?,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onnected with family criteri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deally yes, if time permits (DTP top level responsibility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est Vehicle Selec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 Road Load 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.g. aerodynamic bodywork typ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im: worst/best/representative?,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onnected with family criteri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deally yes, if time permits (DTP top level responsibility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slide </a:t>
            </a:r>
            <a:fld id="{1F4C5013-AAB6-46BC-8808-16879C590CE9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973080" y="1639800"/>
            <a:ext cx="7829640" cy="40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Tahoma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812880" y="673200"/>
            <a:ext cx="7962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2) List of open issues – certification iss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98440" y="1371600"/>
          <a:ext cx="8515440" cy="4506840"/>
        </p:xfrm>
        <a:graphic>
          <a:graphicData uri="http://schemas.openxmlformats.org/drawingml/2006/table">
            <a:tbl>
              <a:tblPr/>
              <a:tblGrid>
                <a:gridCol w="536760"/>
                <a:gridCol w="1442880"/>
                <a:gridCol w="1646280"/>
                <a:gridCol w="2940120"/>
                <a:gridCol w="1949400"/>
              </a:tblGrid>
              <a:tr h="21348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N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te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escrip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No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gtr tas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49220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ehicle Test / Reference Weigh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Emission / Fuel Economy / CO2 / Road Load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efinition of calculated part(s) &amp; weight for testing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est weight needs to be defined for validation test in 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quarter of 20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est weight: yes;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eference weight (short term): no, (long term): to be decid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08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ire Selec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lready discussed in ICE sub-Gr, and will make draft proposal…(may combine with item #4-6?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deally yes, but final decision depends on available technical proposals and acceptance by other parties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ire Condi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riteria for valid tire condition. (e.g. Tred dep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0 to 50%)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lready discussed in ICE sub-Gr, Sweden/T&amp;E and will make draft proposal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yes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labProcICE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est Fue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lready considered in RF sub-Gr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yes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RF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Number of tes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lready discussed in ICE sub-Gr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yes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LabProcICE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liennummernplatzhalter 3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slide </a:t>
            </a:r>
            <a:fld id="{F5A97DDD-444F-466C-853A-6176FA10EBA4}" type="slidenum">
              <a:rPr b="0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12520" y="1841400"/>
            <a:ext cx="782964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812880" y="1670040"/>
            <a:ext cx="78296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20000"/>
              </a:lnSpc>
              <a:spcBef>
                <a:spcPts val="499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It is necessary that the definitions and the procedures fit together?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20000"/>
              </a:lnSpc>
              <a:spcBef>
                <a:spcPts val="499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Who will take care of this topic?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20000"/>
              </a:lnSpc>
              <a:spcBef>
                <a:spcPts val="499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812880" y="673200"/>
            <a:ext cx="7937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2) List of open issues – Defini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liennummernplatzhalter 3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slide </a:t>
            </a:r>
            <a:fld id="{0FE7799D-9635-4F1E-981F-509939AA4E87}" type="slidenum">
              <a:rPr b="0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88840" y="1522440"/>
            <a:ext cx="742824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Next Informal meeting of WLTP DPT ICE lab proc 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Feb 2011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March 2011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4251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May 2011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425160" indent="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exact date and Location t.b.d.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425160" indent="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425160" indent="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3</a:t>
            </a:r>
            <a:r>
              <a:rPr b="0" lang="en-GB" sz="20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rd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 quarter of 2011: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begin validations tests with new test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procedure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0" name="Rectangle 14"/>
          <p:cNvSpPr/>
          <p:nvPr/>
        </p:nvSpPr>
        <p:spPr>
          <a:xfrm>
            <a:off x="812880" y="673200"/>
            <a:ext cx="8331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) Planning of the next steps / Outlook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liennummernplatzhalter 3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slide </a:t>
            </a:r>
            <a:fld id="{C35333A7-8F41-4190-A950-1A6D20F16674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1833480" y="1914480"/>
            <a:ext cx="553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Thanks for your attention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825560" y="2919240"/>
            <a:ext cx="6461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</a:rPr>
              <a:t>LabProcICE contact: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Béatrice Lopez de Rodas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- beatrice.lopez(at)utac.com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Werner Kummer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- werner.kummer(at)audi.d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Stephan Redmann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– stephan.redmann(at)bmvbs.bund.d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liennummernplatzhalter 3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slide </a:t>
            </a:r>
            <a:fld id="{A7ADBAF7-C20A-4C67-88D4-DEA3F72B9CEF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12880" y="673200"/>
            <a:ext cx="4216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33"/>
                </a:solidFill>
                <a:latin typeface="Arial"/>
                <a:ea typeface="Arial"/>
              </a:rPr>
              <a:t>1.1) Course of action</a:t>
            </a:r>
            <a:r>
              <a:rPr b="1" lang="en-GB" sz="24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12520" y="1752480"/>
            <a:ext cx="782964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812880" y="1519200"/>
            <a:ext cx="78296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ahoma"/>
              </a:rPr>
              <a:t>ToR &amp; Plan of Activity</a:t>
            </a:r>
            <a:r>
              <a:rPr b="0" lang="en-GB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Tahoma"/>
              </a:rPr>
              <a:t>(WLTP-DTP-LabProcICE-002_rev3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ahoma"/>
              </a:rPr>
              <a:t>Tasks:</a:t>
            </a:r>
            <a:r>
              <a:rPr b="0" lang="en-GB" sz="1800" spc="-1" strike="noStrike">
                <a:solidFill>
                  <a:srgbClr val="000099"/>
                </a:solidFill>
                <a:latin typeface="Tahoma"/>
              </a:rPr>
              <a:t> Harmonization &amp; improvement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ahoma"/>
              </a:rPr>
              <a:t>Basis documents</a:t>
            </a:r>
            <a:r>
              <a:rPr b="0" lang="en-GB" sz="1800" spc="-1" strike="noStrike">
                <a:solidFill>
                  <a:srgbClr val="000099"/>
                </a:solidFill>
                <a:latin typeface="Tahoma"/>
              </a:rPr>
              <a:t>:</a:t>
            </a:r>
            <a:br>
              <a:rPr sz="1800"/>
            </a:br>
            <a:r>
              <a:rPr b="0" lang="en-GB" sz="1800" spc="-1" strike="noStrike">
                <a:solidFill>
                  <a:srgbClr val="000099"/>
                </a:solidFill>
                <a:latin typeface="Tahoma"/>
              </a:rPr>
              <a:t>- GTR draft </a:t>
            </a:r>
            <a:br>
              <a:rPr sz="1800"/>
            </a:br>
            <a:r>
              <a:rPr b="0" lang="en-GB" sz="1800" spc="-1" strike="noStrike">
                <a:solidFill>
                  <a:srgbClr val="000099"/>
                </a:solidFill>
                <a:latin typeface="Tahoma"/>
              </a:rPr>
              <a:t>- US, JP, ECE regional legislations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ahoma"/>
              </a:rPr>
              <a:t>3 experts groups</a:t>
            </a:r>
            <a:r>
              <a:rPr b="0" lang="en-GB" sz="1800" spc="-1" strike="noStrike">
                <a:solidFill>
                  <a:srgbClr val="000099"/>
                </a:solidFill>
                <a:latin typeface="Tahoma"/>
              </a:rPr>
              <a:t>:</a:t>
            </a:r>
            <a:br>
              <a:rPr sz="1800"/>
            </a:br>
            <a:r>
              <a:rPr b="0" lang="en-GB" sz="1800" spc="-1" strike="noStrike">
                <a:solidFill>
                  <a:srgbClr val="000099"/>
                </a:solidFill>
                <a:latin typeface="Tahoma"/>
              </a:rPr>
              <a:t>- Lab Process </a:t>
            </a:r>
            <a:br>
              <a:rPr sz="1800"/>
            </a:br>
            <a:r>
              <a:rPr b="0" lang="en-GB" sz="1800" spc="-1" strike="noStrike">
                <a:solidFill>
                  <a:srgbClr val="000099"/>
                </a:solidFill>
                <a:latin typeface="Tahoma"/>
              </a:rPr>
              <a:t>- Measurement / Equipment / Calculations</a:t>
            </a:r>
            <a:br>
              <a:rPr sz="1800"/>
            </a:br>
            <a:r>
              <a:rPr b="0" lang="en-GB" sz="1800" spc="-1" strike="noStrike">
                <a:solidFill>
                  <a:srgbClr val="000099"/>
                </a:solidFill>
                <a:latin typeface="Tahoma"/>
              </a:rPr>
              <a:t>- Road Load Determinatio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ahoma"/>
              </a:rPr>
              <a:t>documentation</a:t>
            </a:r>
            <a:r>
              <a:rPr b="0" lang="en-GB" sz="1800" spc="-1" strike="noStrike">
                <a:solidFill>
                  <a:srgbClr val="000099"/>
                </a:solidFill>
                <a:latin typeface="Tahoma"/>
              </a:rPr>
              <a:t>: </a:t>
            </a:r>
            <a:br>
              <a:rPr sz="1800"/>
            </a:br>
            <a:r>
              <a:rPr b="0" lang="en-GB" sz="1800" spc="-1" strike="noStrike">
                <a:solidFill>
                  <a:srgbClr val="000099"/>
                </a:solidFill>
                <a:latin typeface="Tahoma"/>
              </a:rPr>
              <a:t>- GTR draft </a:t>
            </a:r>
            <a:r>
              <a:rPr b="0" lang="en-GB" sz="1600" spc="-1" strike="noStrike">
                <a:solidFill>
                  <a:srgbClr val="000099"/>
                </a:solidFill>
                <a:latin typeface="Tahoma"/>
              </a:rPr>
              <a:t>(WLTP-DTP-LabProcICE-021)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Tahoma"/>
              </a:rPr>
              <a:t>-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circa website: 3. WLTP-DTP: lab procedur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liennummernplatzhalter 3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slide </a:t>
            </a:r>
            <a:fld id="{AA77F96E-A0EC-4AB1-88C7-4E979501AFF5}" type="slidenum">
              <a:rPr b="0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12520" y="673200"/>
            <a:ext cx="7264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1.2) Approach to develop the DTP proposal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759040" y="1349280"/>
            <a:ext cx="14986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1. step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dentification of relevant content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1438200" y="2146320"/>
            <a:ext cx="1258920" cy="1122480"/>
          </a:xfrm>
          <a:prstGeom prst="verticalScroll">
            <a:avLst>
              <a:gd name="adj" fmla="val 125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EU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E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500 pages+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896760" y="1433520"/>
            <a:ext cx="14972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ta basi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Regulation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AutoShape 9"/>
          <p:cNvSpPr/>
          <p:nvPr/>
        </p:nvSpPr>
        <p:spPr>
          <a:xfrm>
            <a:off x="1438200" y="3467160"/>
            <a:ext cx="1258920" cy="112392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U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PA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ARB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3000 pages +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1438200" y="4789440"/>
            <a:ext cx="1258920" cy="1122480"/>
          </a:xfrm>
          <a:prstGeom prst="verticalScroll">
            <a:avLst>
              <a:gd name="adj" fmla="val 125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Jap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400 pages+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9" name="Gruppieren 28"/>
          <p:cNvGrpSpPr/>
          <p:nvPr/>
        </p:nvGrpSpPr>
        <p:grpSpPr>
          <a:xfrm>
            <a:off x="2840040" y="2146320"/>
            <a:ext cx="1260360" cy="1122480"/>
            <a:chOff x="2840040" y="2146320"/>
            <a:chExt cx="1260360" cy="1122480"/>
          </a:xfrm>
        </p:grpSpPr>
        <p:sp>
          <p:nvSpPr>
            <p:cNvPr id="70" name="AutoShape 3"/>
            <p:cNvSpPr/>
            <p:nvPr/>
          </p:nvSpPr>
          <p:spPr>
            <a:xfrm>
              <a:off x="2840040" y="2146320"/>
              <a:ext cx="1260360" cy="1122480"/>
            </a:xfrm>
            <a:prstGeom prst="verticalScroll">
              <a:avLst>
                <a:gd name="adj" fmla="val 125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" name="Rectangle 11"/>
            <p:cNvSpPr/>
            <p:nvPr/>
          </p:nvSpPr>
          <p:spPr>
            <a:xfrm>
              <a:off x="2984400" y="2543040"/>
              <a:ext cx="957960" cy="28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2" name="Gruppieren 27"/>
          <p:cNvGrpSpPr/>
          <p:nvPr/>
        </p:nvGrpSpPr>
        <p:grpSpPr>
          <a:xfrm>
            <a:off x="2840040" y="3467160"/>
            <a:ext cx="1260360" cy="1123920"/>
            <a:chOff x="2840040" y="3467160"/>
            <a:chExt cx="1260360" cy="1123920"/>
          </a:xfrm>
        </p:grpSpPr>
        <p:sp>
          <p:nvSpPr>
            <p:cNvPr id="73" name="AutoShape 5"/>
            <p:cNvSpPr/>
            <p:nvPr/>
          </p:nvSpPr>
          <p:spPr>
            <a:xfrm>
              <a:off x="2840040" y="3467160"/>
              <a:ext cx="1260360" cy="1123920"/>
            </a:xfrm>
            <a:prstGeom prst="verticalScroll">
              <a:avLst>
                <a:gd name="adj" fmla="val 125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" name="Rectangle 12"/>
            <p:cNvSpPr/>
            <p:nvPr/>
          </p:nvSpPr>
          <p:spPr>
            <a:xfrm>
              <a:off x="2980080" y="3995640"/>
              <a:ext cx="974160" cy="28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5" name="Gruppieren 26"/>
          <p:cNvGrpSpPr/>
          <p:nvPr/>
        </p:nvGrpSpPr>
        <p:grpSpPr>
          <a:xfrm>
            <a:off x="2840040" y="4789440"/>
            <a:ext cx="1260360" cy="1122480"/>
            <a:chOff x="2840040" y="4789440"/>
            <a:chExt cx="1260360" cy="1122480"/>
          </a:xfrm>
        </p:grpSpPr>
        <p:sp>
          <p:nvSpPr>
            <p:cNvPr id="76" name="AutoShape 6"/>
            <p:cNvSpPr/>
            <p:nvPr/>
          </p:nvSpPr>
          <p:spPr>
            <a:xfrm>
              <a:off x="2840040" y="4789440"/>
              <a:ext cx="1260360" cy="1122480"/>
            </a:xfrm>
            <a:prstGeom prst="verticalScroll">
              <a:avLst>
                <a:gd name="adj" fmla="val 125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2975040" y="5157000"/>
              <a:ext cx="979200" cy="328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8" name="Text Box 14"/>
          <p:cNvSpPr/>
          <p:nvPr/>
        </p:nvSpPr>
        <p:spPr>
          <a:xfrm>
            <a:off x="4067280" y="1336680"/>
            <a:ext cx="1782720" cy="11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2. step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mparison of content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.g. soak time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5932440" y="1432080"/>
            <a:ext cx="14972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3. step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ke a decisio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7443720" y="1455840"/>
            <a:ext cx="14972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final step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odification of contents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=&gt; DTP gtr Proposa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Rectangle 17"/>
          <p:cNvSpPr/>
          <p:nvPr/>
        </p:nvSpPr>
        <p:spPr>
          <a:xfrm>
            <a:off x="4245120" y="2614680"/>
            <a:ext cx="1211040" cy="263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18"/>
          <p:cNvSpPr/>
          <p:nvPr/>
        </p:nvSpPr>
        <p:spPr>
          <a:xfrm>
            <a:off x="4287960" y="4071960"/>
            <a:ext cx="1211040" cy="263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Rectangle 19"/>
          <p:cNvSpPr/>
          <p:nvPr/>
        </p:nvSpPr>
        <p:spPr>
          <a:xfrm>
            <a:off x="4351320" y="5165640"/>
            <a:ext cx="1211400" cy="289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Rectangle 20"/>
          <p:cNvSpPr/>
          <p:nvPr/>
        </p:nvSpPr>
        <p:spPr>
          <a:xfrm>
            <a:off x="5918040" y="3933720"/>
            <a:ext cx="1212840" cy="263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21"/>
          <p:cNvSpPr/>
          <p:nvPr/>
        </p:nvSpPr>
        <p:spPr>
          <a:xfrm>
            <a:off x="7585200" y="3929040"/>
            <a:ext cx="1212840" cy="263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22"/>
          <p:cNvSpPr/>
          <p:nvPr/>
        </p:nvSpPr>
        <p:spPr>
          <a:xfrm>
            <a:off x="7585200" y="3929040"/>
            <a:ext cx="215640" cy="2649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23"/>
          <p:cNvSpPr/>
          <p:nvPr/>
        </p:nvSpPr>
        <p:spPr>
          <a:xfrm>
            <a:off x="8442360" y="3929040"/>
            <a:ext cx="357120" cy="2649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24"/>
          <p:cNvSpPr/>
          <p:nvPr/>
        </p:nvSpPr>
        <p:spPr>
          <a:xfrm>
            <a:off x="7585200" y="3929040"/>
            <a:ext cx="1212840" cy="2635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47520" y="2152800"/>
            <a:ext cx="1258920" cy="3773160"/>
          </a:xfrm>
          <a:prstGeom prst="verticalScroll">
            <a:avLst>
              <a:gd name="adj" fmla="val 12500"/>
            </a:avLst>
          </a:prstGeom>
          <a:solidFill>
            <a:srgbClr val="5eb5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tr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raft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(combination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gtr 2 &amp; gtr 4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liennummernplatzhalter 3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slide </a:t>
            </a:r>
            <a:fld id="{DCE0E7BA-7CC0-4564-9A14-71E3BFABC552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812520" y="1727280"/>
            <a:ext cx="782964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lnSpc>
                <a:spcPct val="120000"/>
              </a:lnSpc>
              <a:spcBef>
                <a:spcPts val="499"/>
              </a:spcBef>
              <a:spcAft>
                <a:spcPts val="2500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99"/>
                </a:solidFill>
                <a:uFillTx/>
                <a:latin typeface="Tahoma"/>
              </a:rPr>
              <a:t>03.-06.08.2010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: 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Ingolstadt workshop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83760" indent="-383760">
              <a:lnSpc>
                <a:spcPct val="120000"/>
              </a:lnSpc>
              <a:spcBef>
                <a:spcPts val="499"/>
              </a:spcBef>
              <a:spcAft>
                <a:spcPts val="2500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99"/>
                </a:solidFill>
                <a:uFillTx/>
                <a:latin typeface="Tahoma"/>
              </a:rPr>
              <a:t>15.09.2010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: 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tel/web conference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83760" indent="-383760">
              <a:lnSpc>
                <a:spcPct val="120000"/>
              </a:lnSpc>
              <a:spcBef>
                <a:spcPts val="499"/>
              </a:spcBef>
              <a:spcAft>
                <a:spcPts val="2500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99"/>
                </a:solidFill>
                <a:uFillTx/>
                <a:latin typeface="Tahoma"/>
              </a:rPr>
              <a:t>29.09.2010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: 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tel/web conference (reg. systems)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83760" indent="-383760">
              <a:lnSpc>
                <a:spcPct val="120000"/>
              </a:lnSpc>
              <a:spcBef>
                <a:spcPts val="499"/>
              </a:spcBef>
              <a:spcAft>
                <a:spcPts val="2500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99"/>
                </a:solidFill>
                <a:uFillTx/>
                <a:latin typeface="Tahoma"/>
              </a:rPr>
              <a:t>5./6.10.2010: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Brussels workshop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83760" indent="-383760">
              <a:lnSpc>
                <a:spcPct val="120000"/>
              </a:lnSpc>
              <a:spcBef>
                <a:spcPts val="499"/>
              </a:spcBef>
              <a:spcAft>
                <a:spcPts val="2500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13.10.2010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Vienna DTP meeting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83760" indent="-383760">
              <a:lnSpc>
                <a:spcPct val="120000"/>
              </a:lnSpc>
              <a:spcBef>
                <a:spcPts val="499"/>
              </a:spcBef>
              <a:spcAft>
                <a:spcPts val="2500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22./23.11.2010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Brussels workshop 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837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812880" y="673200"/>
            <a:ext cx="5892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33"/>
                </a:solidFill>
                <a:latin typeface="Arial"/>
                <a:ea typeface="Arial"/>
              </a:rPr>
              <a:t>1.3) Meetings since June GRPE 2010</a:t>
            </a:r>
            <a:r>
              <a:rPr b="1" lang="en-GB" sz="28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liennummernplatzhalter 3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slide </a:t>
            </a:r>
            <a:fld id="{40FB21CC-6FFF-400C-87F7-C57D68602517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863640" y="1650960"/>
            <a:ext cx="78296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raft gtr prepar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gress report of Vienna WLTP DTP meeting and minutes include the agreed points [</a:t>
            </a:r>
            <a:r>
              <a:rPr b="0" lang="de-DE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LTP-DTP-LabProcICE-025-Minutes of meeting Vienn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WLTP-DTP-LabProcICE-030-Minutes of meeting Brussels 22./23.11.20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k in progress including feedback from the last meetings in Vienna and Brussels and open issues (technically and political) are shown in the next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en issues requires higher lever discussion and decis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812880" y="673200"/>
            <a:ext cx="7962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1.4) Work in progres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liennummernplatzhalter 3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slide </a:t>
            </a:r>
            <a:fld id="{C5323CDD-D52D-43B4-99FC-F00998B1939F}" type="slidenum">
              <a:rPr b="0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863640" y="1650960"/>
            <a:ext cx="782964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The need for safe and proper operation of the car on the dyno was confirmed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Dyno mode, if any, shall be activated by using a manufacturer's instruction (e.g. using vehicle steering buttons in a special "pressing order", by using the manufacturer work shop tester)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Activation or not of the dyno mode shall be recorded in the test report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"Dyno mode" shall not activate, modulate, delay or deactivate the operation of any part, that affects the emissions and fuel consumption under the test conditions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Next Steps: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Rename “dyno-mode” to avoid any confusion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Improvements of the gtr text are needed to ensure transparency of the mode (no cycle beating, application in ISC programs, use only if needed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–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777960" y="720720"/>
            <a:ext cx="7962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33"/>
                </a:solidFill>
                <a:latin typeface="Arial"/>
                <a:ea typeface="Arial"/>
              </a:rPr>
              <a:t>1.4) Work in Progress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– ”Vehicle Dyno Mode“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liennummernplatzhalter 3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slide </a:t>
            </a:r>
            <a:fld id="{0C29607B-D93F-4CFE-871C-2995AF94EFD4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863640" y="1650960"/>
            <a:ext cx="7829640" cy="41036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Ongoing discussion of the specification of the cooling fan in ECE R83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LabProc ICE will wait for the results of the GRPE discussion and decision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  <a:ea typeface="Arial"/>
              </a:rPr>
              <a:t>ECE/TRANS/WP29/GRPE/2011/5</a:t>
            </a:r>
            <a:br>
              <a:rPr sz="2000"/>
            </a:br>
            <a:r>
              <a:rPr b="0" lang="de-DE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unece.org/trans/doc/2011/wp29grpe/ECE-TRANS-WP29-GRPE-2011-05e.pdf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  <a:ea typeface="Arial"/>
              </a:rPr>
              <a:t>ECE/TRANS/WP29/GRPE/2011/6</a:t>
            </a:r>
            <a:br>
              <a:rPr sz="2000"/>
            </a:br>
            <a:r>
              <a:rPr b="0" lang="de-DE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ww.unece.org/trans/doc/2011/wp29grpe/ECE-TRANS-WP29-GRPE-2011-06e.pd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812880" y="673200"/>
            <a:ext cx="7962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33"/>
                </a:solidFill>
                <a:latin typeface="Arial"/>
                <a:ea typeface="Arial"/>
              </a:rPr>
              <a:t>1.4) Work in Progress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– ”Cooling Fan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liennummernplatzhalter 3"/>
          <p:cNvSpPr/>
          <p:nvPr/>
        </p:nvSpPr>
        <p:spPr>
          <a:xfrm>
            <a:off x="7418520" y="6257880"/>
            <a:ext cx="1600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slide </a:t>
            </a:r>
            <a:fld id="{49D91DF4-A911-4DEB-A7A9-26BD838BF787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800280" y="1752480"/>
            <a:ext cx="8343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How to test a multimode gearbox if no “default mode on” is present?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Common understanding: Compliance of emissions standards in all mod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CO2 / FE testing proposal: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No switch / mode: nothing to choose =&gt; standard test procedure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Default mode on – use standard test procedure in the default mod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Last mode on – use of standard test procedure in the best and worst case mode, the CO2 / FE result is the average of both mod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ahoma"/>
              </a:rPr>
              <a:t>Next Steps:</a:t>
            </a:r>
            <a:r>
              <a:rPr b="1" lang="en-GB" sz="1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99"/>
                </a:solidFill>
                <a:latin typeface="Tahoma"/>
              </a:rPr>
              <a:t>Further discussion in the LabProcICE subgroup meetings in close connection with the LabProcEV subgroup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400"/>
              </a:spcBef>
              <a:spcAft>
                <a:spcPts val="2001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spcAft>
                <a:spcPts val="1599"/>
              </a:spcAft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812880" y="673200"/>
            <a:ext cx="7962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33"/>
                </a:solidFill>
                <a:latin typeface="Arial"/>
                <a:ea typeface="Arial"/>
              </a:rPr>
              <a:t>1.4) Work in Progress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– ”Multimode gearbox / mode switch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19:58:14Z</dcterms:created>
  <dc:creator>Stephan Redmann</dc:creator>
  <dc:description/>
  <dc:language>en-US</dc:language>
  <cp:lastModifiedBy>Romain HUBERT</cp:lastModifiedBy>
  <dcterms:modified xsi:type="dcterms:W3CDTF">2011-01-12T17:41:59Z</dcterms:modified>
  <cp:revision>264</cp:revision>
  <dc:subject/>
  <dc:title>Slide 1</dc:title>
</cp:coreProperties>
</file>