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wmf" ContentType="image/x-wmf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move the slide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16093AB0-1B8D-4653-AE7C-B3DC1B8EC45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1A3EE02D-3E58-45D1-85E7-2C1B258839B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6A9F1-84F5-4537-8BD5-41BAC6DC9E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7621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60040" y="1841400"/>
            <a:ext cx="75214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60040" y="4002480"/>
            <a:ext cx="75214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71C8B-947C-456D-BBA4-A5760967DA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" y="7621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60040" y="1841400"/>
            <a:ext cx="36702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200" y="1841400"/>
            <a:ext cx="36702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60040" y="4002480"/>
            <a:ext cx="36702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200" y="4002480"/>
            <a:ext cx="36702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46690-D21B-4CEA-8CFF-06883FA9F3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8600" y="7621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60040" y="1841400"/>
            <a:ext cx="24217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03080" y="1841400"/>
            <a:ext cx="24217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6480" y="1841400"/>
            <a:ext cx="24217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60040" y="4002480"/>
            <a:ext cx="24217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03080" y="4002480"/>
            <a:ext cx="24217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6480" y="4002480"/>
            <a:ext cx="24217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F9DE8-CC39-4643-820B-4DBEF59179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621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60040" y="1841400"/>
            <a:ext cx="752148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5B990-16BD-4240-A435-D9DF39C077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7621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60040" y="1841400"/>
            <a:ext cx="752148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089F5-0BDC-4292-B0C0-1369F702AB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7621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60040" y="1841400"/>
            <a:ext cx="36702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200" y="1841400"/>
            <a:ext cx="36702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3326D-0F58-43A2-BA34-611D91DB41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7621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FE8CC-0335-42EA-A9C2-E392D43DB4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28600" y="76212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74365-E26A-46DE-9E91-B604467183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621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60040" y="1841400"/>
            <a:ext cx="36702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200" y="1841400"/>
            <a:ext cx="36702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60040" y="4002480"/>
            <a:ext cx="36702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D4220-54A2-4258-AFB7-725D6E5EB3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621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60040" y="1841400"/>
            <a:ext cx="36702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200" y="1841400"/>
            <a:ext cx="36702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200" y="4002480"/>
            <a:ext cx="36702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99330-E4BB-48C6-A7EE-6B5F99E58B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621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60040" y="1841400"/>
            <a:ext cx="36702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200" y="1841400"/>
            <a:ext cx="36702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60040" y="4002480"/>
            <a:ext cx="75214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60768-B8CC-4777-BE77-6C6A685912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621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60040" y="1841400"/>
            <a:ext cx="752148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00099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2" marL="12952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3" marL="17146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4" marL="2133720" indent="-3049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5" marL="2133720" indent="-3049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6" marL="2133720" indent="-3049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18160" y="6257520"/>
            <a:ext cx="1600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8080"/>
                </a:solidFill>
                <a:latin typeface="Tahoma"/>
              </a:rPr>
              <a:t>slide </a:t>
            </a:r>
            <a:fld id="{5FBAAFF2-9084-48D1-B4EE-42439EB51AB1}" type="slidenum">
              <a:rPr b="0" lang="de-DE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14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15"/>
          <p:cNvSpPr/>
          <p:nvPr/>
        </p:nvSpPr>
        <p:spPr>
          <a:xfrm>
            <a:off x="2451960" y="6129360"/>
            <a:ext cx="208872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8080"/>
                </a:solidFill>
                <a:latin typeface="Tahoma"/>
              </a:rPr>
              <a:t>WLTP 4th DTP</a:t>
            </a:r>
            <a:r>
              <a:rPr b="0" lang="en-GB" sz="1400" spc="-1" strike="noStrike">
                <a:solidFill>
                  <a:srgbClr val="808080"/>
                </a:solidFill>
                <a:latin typeface="Tahoma"/>
              </a:rPr>
              <a:t> Meetin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8080"/>
                </a:solidFill>
                <a:latin typeface="Tahoma"/>
              </a:rPr>
              <a:t>Geneva 12.01.201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Line 18"/>
          <p:cNvSpPr/>
          <p:nvPr/>
        </p:nvSpPr>
        <p:spPr>
          <a:xfrm>
            <a:off x="7981920" y="6019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" name="Picture 21" descr=""/>
          <p:cNvPicPr/>
          <p:nvPr/>
        </p:nvPicPr>
        <p:blipFill>
          <a:blip r:embed="rId2"/>
          <a:stretch/>
        </p:blipFill>
        <p:spPr>
          <a:xfrm>
            <a:off x="0" y="0"/>
            <a:ext cx="19050120" cy="552600"/>
          </a:xfrm>
          <a:prstGeom prst="rect">
            <a:avLst/>
          </a:prstGeom>
          <a:ln w="0">
            <a:noFill/>
          </a:ln>
        </p:spPr>
      </p:pic>
      <p:sp>
        <p:nvSpPr>
          <p:cNvPr id="7" name="Line 22"/>
          <p:cNvSpPr/>
          <p:nvPr/>
        </p:nvSpPr>
        <p:spPr>
          <a:xfrm>
            <a:off x="2190600" y="6019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Text Box 23"/>
          <p:cNvSpPr/>
          <p:nvPr/>
        </p:nvSpPr>
        <p:spPr>
          <a:xfrm>
            <a:off x="270000" y="6114960"/>
            <a:ext cx="193824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8080"/>
                </a:solidFill>
                <a:latin typeface="Tahoma"/>
              </a:rPr>
              <a:t>DTP Subgroup LabProcICE</a:t>
            </a:r>
            <a:r>
              <a:rPr b="1" lang="de-DE" sz="1400" spc="-1" strike="noStrike">
                <a:solidFill>
                  <a:srgbClr val="80808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circa.europa.eu/Public/irc/enterprise/wltp-dtp/libadmin?l=/wltp-dtp_procedures/brussels_2223112010&amp;a=cp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circa.europa.eu/Public/irc/enterprise/wltp-dtp/library?l=/wltp-dtp_procedures&amp;vm=detailed&amp;sb=Title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2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irca.europa.eu/Public/irc/enterprise/wltp-dtp/library?l=/wltp-dtp_procedures/brussels_2223112010/wltp-dtp-labprocice-025-/_EN_1.0_&amp;a=d" TargetMode="External"/><Relationship Id="rId2" Type="http://schemas.openxmlformats.org/officeDocument/2006/relationships/hyperlink" Target="http://circa.europa.eu/Public/irc/enterprise/wltp-dtp/library?l=/wltp-dtp_procedures/brussels_2223112010/wltp-dtp-labprocice-030-/_EN_1.0_&amp;a=d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unece.org/trans/doc/2011/wp29grpe/ECE-TRANS-WP29-GRPE-2011-05e.pdf" TargetMode="External"/><Relationship Id="rId2" Type="http://schemas.openxmlformats.org/officeDocument/2006/relationships/hyperlink" Target="http://www.unece.org/trans/doc/2011/wp29grpe/ECE-TRANS-WP29-GRPE-2011-06e.pdf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liennummernplatzhalter 3"/>
          <p:cNvSpPr/>
          <p:nvPr/>
        </p:nvSpPr>
        <p:spPr>
          <a:xfrm>
            <a:off x="7418520" y="6257880"/>
            <a:ext cx="1600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8080"/>
                </a:solidFill>
                <a:latin typeface="Tahoma"/>
              </a:rPr>
              <a:t>slide </a:t>
            </a:r>
            <a:fld id="{5E5CF3EE-2C95-4210-B2C0-1622DD00C1BA}" type="slidenum">
              <a:rPr b="0" lang="de-DE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2418840" y="1741320"/>
            <a:ext cx="4423680" cy="29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Progress Repor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DTP Subgroup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Lab Process Internal Combustion Engines 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(LabProcICE)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Geneva, 12. January 2011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Rectangle 16"/>
          <p:cNvSpPr/>
          <p:nvPr/>
        </p:nvSpPr>
        <p:spPr>
          <a:xfrm>
            <a:off x="8077320" y="6141960"/>
            <a:ext cx="952560" cy="6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liennummernplatzhalter 3"/>
          <p:cNvSpPr/>
          <p:nvPr/>
        </p:nvSpPr>
        <p:spPr>
          <a:xfrm>
            <a:off x="7418520" y="6257880"/>
            <a:ext cx="1600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8080"/>
                </a:solidFill>
                <a:latin typeface="Tahoma"/>
              </a:rPr>
              <a:t>slide </a:t>
            </a:r>
            <a:fld id="{9F3697A9-F51F-453A-955E-2E4E5A9DA9E2}" type="slidenum">
              <a:rPr b="0" lang="de-DE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60040" y="1841400"/>
            <a:ext cx="782964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Interval of calibration frequency</a:t>
            </a: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4572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885960" y="1735200"/>
            <a:ext cx="782928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A summary of harmonized intervals of calibration frequency to be included (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WLTP-DTP-LabProcICE-033-calibration_VOLVO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).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Experts need to modify the procedure for the check of the linearity of analyzers.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Remote mixing chamber, dilution tunnel still needed? </a:t>
            </a:r>
            <a:br>
              <a:rPr sz="2000"/>
            </a:b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Discussion with PM/PN sub-group coming next step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400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4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812880" y="673200"/>
            <a:ext cx="7937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33"/>
                </a:solidFill>
                <a:latin typeface="Arial"/>
                <a:ea typeface="Arial"/>
              </a:rPr>
              <a:t>1.4) Work in Progres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liennummernplatzhalter 3"/>
          <p:cNvSpPr/>
          <p:nvPr/>
        </p:nvSpPr>
        <p:spPr>
          <a:xfrm>
            <a:off x="7418520" y="6257880"/>
            <a:ext cx="1600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8080"/>
                </a:solidFill>
                <a:latin typeface="Tahoma"/>
              </a:rPr>
              <a:t>slide </a:t>
            </a:r>
            <a:fld id="{33951139-BE9A-444C-AAD5-4E24AECAF9F5}" type="slidenum">
              <a:rPr b="0" lang="de-DE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969840" y="1568520"/>
            <a:ext cx="789012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  <a:ea typeface="Arial"/>
              </a:rPr>
              <a:t>After several discussions the “stepless inertia” concept was rejected. The following points summarizes the decision points: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- Refined inertia classes enable more accurate CO2 values. Effect of down-weighting would be better represented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  <a:ea typeface="Arial"/>
              </a:rPr>
              <a:t>- a stepless function with a tolerance does not fit to the US certification system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  <a:ea typeface="Arial"/>
              </a:rPr>
              <a:t>- steps that would result in CO2 emission changes of less than 1g/km would be meaningless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  <a:ea typeface="Arial"/>
              </a:rPr>
              <a:t>- the step function provides an important disincentive to weight increase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  <a:ea typeface="Arial"/>
              </a:rPr>
              <a:t>EPA are considering a calculated incentive to weight decrease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  <a:ea typeface="Arial"/>
              </a:rPr>
              <a:t>A concept with reduced steps in inertia classes is accepted. Steps of 60 kg are in line with 125 lbs of EPA.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  <a:ea typeface="Arial"/>
              </a:rPr>
              <a:t>Draft proposal: LabProcICE-034 (to be published on circa soon)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812880" y="673200"/>
            <a:ext cx="7937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  <a:ea typeface="Arial"/>
              </a:rPr>
              <a:t>1.4) Work in progress- Inertia class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liennummernplatzhalter 2"/>
          <p:cNvSpPr/>
          <p:nvPr/>
        </p:nvSpPr>
        <p:spPr>
          <a:xfrm>
            <a:off x="7418520" y="6257880"/>
            <a:ext cx="1600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8080"/>
                </a:solidFill>
                <a:latin typeface="Tahoma"/>
              </a:rPr>
              <a:t>slide </a:t>
            </a:r>
            <a:fld id="{EC79FCE2-12A2-4F87-9620-DF981D55AD24}" type="slidenum">
              <a:rPr b="0" lang="de-DE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3" name="Group 2"/>
          <p:cNvGrpSpPr/>
          <p:nvPr/>
        </p:nvGrpSpPr>
        <p:grpSpPr>
          <a:xfrm>
            <a:off x="190440" y="1357200"/>
            <a:ext cx="8766000" cy="5168880"/>
            <a:chOff x="190440" y="1357200"/>
            <a:chExt cx="8766000" cy="5168880"/>
          </a:xfrm>
        </p:grpSpPr>
        <p:pic>
          <p:nvPicPr>
            <p:cNvPr id="114" name="Picture 3" descr=""/>
            <p:cNvPicPr/>
            <p:nvPr/>
          </p:nvPicPr>
          <p:blipFill>
            <a:blip r:embed="rId1"/>
            <a:stretch/>
          </p:blipFill>
          <p:spPr>
            <a:xfrm>
              <a:off x="190440" y="1357200"/>
              <a:ext cx="8766000" cy="516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Line 4"/>
            <p:cNvSpPr/>
            <p:nvPr/>
          </p:nvSpPr>
          <p:spPr>
            <a:xfrm flipV="1">
              <a:off x="3981240" y="1946160"/>
              <a:ext cx="1800" cy="3888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" name="Line 5"/>
            <p:cNvSpPr/>
            <p:nvPr/>
          </p:nvSpPr>
          <p:spPr>
            <a:xfrm flipH="1">
              <a:off x="3983040" y="4419720"/>
              <a:ext cx="769680" cy="1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" name="Text Box 6"/>
            <p:cNvSpPr/>
            <p:nvPr/>
          </p:nvSpPr>
          <p:spPr>
            <a:xfrm>
              <a:off x="2609640" y="5445000"/>
              <a:ext cx="9018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5eb5bc"/>
                  </a:solidFill>
                  <a:latin typeface="Arial"/>
                  <a:ea typeface="ＭＳ Ｐゴシック"/>
                </a:rPr>
                <a:t>EU/JPN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" name="Text Box 7"/>
            <p:cNvSpPr/>
            <p:nvPr/>
          </p:nvSpPr>
          <p:spPr>
            <a:xfrm>
              <a:off x="4109760" y="4487760"/>
              <a:ext cx="5637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  <a:ea typeface="ＭＳ Ｐゴシック"/>
                </a:rPr>
                <a:t>JPN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" name="Line 8"/>
            <p:cNvSpPr/>
            <p:nvPr/>
          </p:nvSpPr>
          <p:spPr>
            <a:xfrm flipV="1">
              <a:off x="4768560" y="1946160"/>
              <a:ext cx="1800" cy="3888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Line 9"/>
            <p:cNvSpPr/>
            <p:nvPr/>
          </p:nvSpPr>
          <p:spPr>
            <a:xfrm flipH="1" flipV="1">
              <a:off x="2115720" y="5346360"/>
              <a:ext cx="1811160" cy="12600"/>
            </a:xfrm>
            <a:prstGeom prst="line">
              <a:avLst/>
            </a:prstGeom>
            <a:ln w="38160">
              <a:solidFill>
                <a:srgbClr val="33cccc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Line 10"/>
            <p:cNvSpPr/>
            <p:nvPr/>
          </p:nvSpPr>
          <p:spPr>
            <a:xfrm flipH="1" flipV="1">
              <a:off x="2075760" y="2581200"/>
              <a:ext cx="1800" cy="3252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Line 11"/>
            <p:cNvSpPr/>
            <p:nvPr/>
          </p:nvSpPr>
          <p:spPr>
            <a:xfrm flipH="1" flipV="1">
              <a:off x="1620720" y="5346720"/>
              <a:ext cx="465120" cy="1440"/>
            </a:xfrm>
            <a:prstGeom prst="line">
              <a:avLst/>
            </a:prstGeom>
            <a:ln w="38160">
              <a:solidFill>
                <a:srgbClr val="99cc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" name="Text Box 12"/>
            <p:cNvSpPr/>
            <p:nvPr/>
          </p:nvSpPr>
          <p:spPr>
            <a:xfrm>
              <a:off x="1136520" y="5457960"/>
              <a:ext cx="9018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cc00"/>
                  </a:solidFill>
                  <a:latin typeface="Arial"/>
                  <a:ea typeface="ＭＳ Ｐゴシック"/>
                </a:rPr>
                <a:t>EU/JPN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Line 13"/>
            <p:cNvSpPr/>
            <p:nvPr/>
          </p:nvSpPr>
          <p:spPr>
            <a:xfrm flipH="1" flipV="1">
              <a:off x="4770360" y="3250800"/>
              <a:ext cx="681120" cy="12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Text Box 14"/>
            <p:cNvSpPr/>
            <p:nvPr/>
          </p:nvSpPr>
          <p:spPr>
            <a:xfrm>
              <a:off x="4846320" y="3471840"/>
              <a:ext cx="4622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  <a:ea typeface="ＭＳ Ｐゴシック"/>
                </a:rPr>
                <a:t>US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" name="Line 15"/>
            <p:cNvSpPr/>
            <p:nvPr/>
          </p:nvSpPr>
          <p:spPr>
            <a:xfrm flipV="1">
              <a:off x="5391000" y="5362560"/>
              <a:ext cx="1440" cy="4716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7" name="Text Box 16"/>
          <p:cNvSpPr/>
          <p:nvPr/>
        </p:nvSpPr>
        <p:spPr>
          <a:xfrm>
            <a:off x="1134000" y="755640"/>
            <a:ext cx="516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000000"/>
                </a:solidFill>
                <a:uFillTx/>
                <a:latin typeface="Verdana"/>
              </a:rPr>
              <a:t>Inertia classes proposal overview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(based on WLTP-DTP-LabProcICE-011 by JASIC)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liennummernplatzhalter 3"/>
          <p:cNvSpPr/>
          <p:nvPr/>
        </p:nvSpPr>
        <p:spPr>
          <a:xfrm>
            <a:off x="7418520" y="6257880"/>
            <a:ext cx="1600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8080"/>
                </a:solidFill>
                <a:latin typeface="Tahoma"/>
              </a:rPr>
              <a:t>slide </a:t>
            </a:r>
            <a:fld id="{710F8DBD-D02A-4CF1-9B05-6125AEDC0226}" type="slidenum">
              <a:rPr b="0" lang="de-DE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12520" y="1841400"/>
            <a:ext cx="782964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812880" y="1504800"/>
            <a:ext cx="782964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  <a:ea typeface="Arial"/>
              </a:rPr>
              <a:t>Separate Annex [9] incl.:</a:t>
            </a:r>
            <a:br>
              <a:rPr sz="1800"/>
            </a:br>
            <a:r>
              <a:rPr b="0" lang="en-GB" sz="1800" spc="-1" strike="noStrike">
                <a:solidFill>
                  <a:srgbClr val="000099"/>
                </a:solidFill>
                <a:latin typeface="Arial"/>
                <a:ea typeface="Arial"/>
              </a:rPr>
              <a:t>- RLD</a:t>
            </a:r>
            <a:br>
              <a:rPr sz="1800"/>
            </a:br>
            <a:r>
              <a:rPr b="0" lang="en-GB" sz="1800" spc="-1" strike="noStrike">
                <a:solidFill>
                  <a:srgbClr val="000099"/>
                </a:solidFill>
                <a:latin typeface="Arial"/>
                <a:ea typeface="Arial"/>
              </a:rPr>
              <a:t>- Reproduction on Chassis Dynamometer </a:t>
            </a:r>
            <a:br>
              <a:rPr sz="1800"/>
            </a:br>
            <a:r>
              <a:rPr b="0" lang="en-GB" sz="1800" spc="-1" strike="noStrike">
                <a:solidFill>
                  <a:srgbClr val="000099"/>
                </a:solidFill>
                <a:latin typeface="Arial"/>
                <a:ea typeface="Arial"/>
              </a:rPr>
              <a:t>- Table of running resistance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  <a:ea typeface="Arial"/>
              </a:rPr>
              <a:t>gtr basis: ISO 10521-1 &amp; 2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  <a:ea typeface="Arial"/>
              </a:rPr>
              <a:t>Next Steps: take into account the results of the following paper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oad load determination Representative road load test procedure [WLTP-DTP-LabProcICE-029-RLD presentation STA T&amp;E]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812880" y="673200"/>
            <a:ext cx="7937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33"/>
                </a:solidFill>
                <a:latin typeface="Arial"/>
                <a:ea typeface="Arial"/>
              </a:rPr>
              <a:t>1.4) Work in Progress – road load determinatio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liennummernplatzhalter 3"/>
          <p:cNvSpPr/>
          <p:nvPr/>
        </p:nvSpPr>
        <p:spPr>
          <a:xfrm>
            <a:off x="7418520" y="6257880"/>
            <a:ext cx="1600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8080"/>
                </a:solidFill>
                <a:latin typeface="Arial"/>
                <a:ea typeface="Arial"/>
              </a:rPr>
              <a:t>slide </a:t>
            </a:r>
            <a:fld id="{5ED78971-99A8-44BF-8E87-E23E00CBDD01}" type="slidenum">
              <a:rPr b="0" lang="de-DE" sz="1400" spc="-1" strike="noStrike">
                <a:solidFill>
                  <a:srgbClr val="80808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60040" y="1625400"/>
            <a:ext cx="7521480" cy="41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  <a:ea typeface="Arial"/>
              </a:rPr>
              <a:t>Already taken into account</a:t>
            </a:r>
            <a:endParaRPr b="1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452520" indent="-45252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  <a:ea typeface="Arial"/>
              </a:rPr>
              <a:t>tightening of tolerances </a:t>
            </a:r>
            <a:endParaRPr b="1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452520" indent="-45252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  <a:ea typeface="Arial"/>
              </a:rPr>
              <a:t>interval of calibration frequency</a:t>
            </a:r>
            <a:endParaRPr b="1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452520" indent="-45252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  <a:ea typeface="Arial"/>
              </a:rPr>
              <a:t>tightening of instrument specifications</a:t>
            </a:r>
            <a:endParaRPr b="1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45252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  <a:ea typeface="Arial"/>
              </a:rPr>
              <a:t>Next Steps: take into account the results of the following papers</a:t>
            </a:r>
            <a:endParaRPr b="1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452520" indent="-45252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Factors influencing NEDC CO2 emissions during type approval of passenger cars By order of the Federal Environment Agency Germany (UBA)  [WLTP-DTP-LabProcICE-023-CO2_WLTP_UBA] </a:t>
            </a:r>
            <a:endParaRPr b="1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452520" indent="-45252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Road load determination Representative road load test procedure [WLTP-DTP-LabProcICE-029-RLD presentation STA T&amp;E]</a:t>
            </a:r>
            <a:endParaRPr b="1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452520" indent="-45252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  <a:ea typeface="Arial"/>
              </a:rPr>
              <a:t>Study of JRC on influence of  temperature of lab and soak on CO2 announced by EU Comm</a:t>
            </a:r>
            <a:endParaRPr b="1" lang="en-US" sz="1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812880" y="673200"/>
            <a:ext cx="8331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33"/>
                </a:solidFill>
                <a:latin typeface="Arial"/>
                <a:ea typeface="Arial"/>
              </a:rPr>
              <a:t>1.5) 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  <a:ea typeface="Arial"/>
              </a:rPr>
              <a:t>Improvements in CO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Arial"/>
                <a:ea typeface="Arial"/>
              </a:rPr>
              <a:t>2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  <a:ea typeface="Arial"/>
              </a:rPr>
              <a:t> representativity/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  <a:ea typeface="Arial"/>
              </a:rPr>
              <a:t>reproducibility: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liennummernplatzhalter 3"/>
          <p:cNvSpPr/>
          <p:nvPr/>
        </p:nvSpPr>
        <p:spPr>
          <a:xfrm>
            <a:off x="7418520" y="6257880"/>
            <a:ext cx="1600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8080"/>
                </a:solidFill>
                <a:latin typeface="Tahoma"/>
              </a:rPr>
              <a:t>slide </a:t>
            </a:r>
            <a:fld id="{5A8FCCF4-E8F0-4E0F-BFC2-FFABA0E8F539}" type="slidenum">
              <a:rPr b="0" lang="de-DE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863640" y="1650960"/>
            <a:ext cx="7829640" cy="42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e of the working progres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1) Course of actio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2) Approach to develop the DTP proposa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Arial"/>
              </a:rPr>
              <a:t>1.3) Meetings since June GRPE 2010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Arial"/>
              </a:rPr>
              <a:t>1.4) Work in progres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5) Improvements in CO2 representativity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producibility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2) List of the open issu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) Planning of the next steps / Outlook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812880" y="673200"/>
            <a:ext cx="7962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33"/>
                </a:solidFill>
                <a:latin typeface="Arial"/>
                <a:ea typeface="Arial"/>
              </a:rPr>
              <a:t>Overview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liennummernplatzhalter 3"/>
          <p:cNvSpPr/>
          <p:nvPr/>
        </p:nvSpPr>
        <p:spPr>
          <a:xfrm>
            <a:off x="7418520" y="6257880"/>
            <a:ext cx="1600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8080"/>
                </a:solidFill>
                <a:latin typeface="Tahoma"/>
              </a:rPr>
              <a:t>slide </a:t>
            </a:r>
            <a:fld id="{FE56B862-BAEF-4811-986B-D3B071976EF2}" type="slidenum">
              <a:rPr b="0" lang="de-DE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800280" y="1752480"/>
            <a:ext cx="813888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There is an ongoing discussion about the test room and soak area temperature during the WLTP DTP ICE workshops.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  <a:ea typeface="Arial"/>
              </a:rPr>
              <a:t>Current situation: JP, ECE, US: 20-30 °C  and  GTR 2 &amp; 4:  25 ± 5 °C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Arial"/>
              </a:rPr>
              <a:t>LabProcICE proposal:  setpoint (25 ± 5) °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Tahoma"/>
              </a:rPr>
              <a:t> 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812880" y="673200"/>
            <a:ext cx="7962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  <a:ea typeface="Arial"/>
              </a:rPr>
              <a:t>2) List of open issues – Test Room and Soak area temperature (1/2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811080" y="3736800"/>
          <a:ext cx="8080560" cy="2248200"/>
        </p:xfrm>
        <a:graphic>
          <a:graphicData uri="http://schemas.openxmlformats.org/drawingml/2006/table">
            <a:tbl>
              <a:tblPr/>
              <a:tblGrid>
                <a:gridCol w="4224600"/>
                <a:gridCol w="3855960"/>
              </a:tblGrid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Pro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Con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437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harmonization with gtr’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not representative for some region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technical feasible in the laboratories  worldwid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improved reproducibility by set poin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acceptable labour conditions for operators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liennummernplatzhalter 3"/>
          <p:cNvSpPr/>
          <p:nvPr/>
        </p:nvSpPr>
        <p:spPr>
          <a:xfrm>
            <a:off x="7418520" y="6257880"/>
            <a:ext cx="1600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8080"/>
                </a:solidFill>
                <a:latin typeface="Tahoma"/>
              </a:rPr>
              <a:t>slide </a:t>
            </a:r>
            <a:fld id="{2B216BE7-1E79-4356-85B7-14507EFD14C4}" type="slidenum">
              <a:rPr b="0" lang="de-DE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973080" y="1639800"/>
            <a:ext cx="7829640" cy="40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  <a:ea typeface="Arial"/>
              </a:rPr>
              <a:t>Alternative proposal (by European Commission) for  lower temperature, e.g. 22°C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  <a:ea typeface="Arial"/>
              </a:rPr>
              <a:t>Problem:  Lack of data to estimate the impact of temperature on measurement  result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  <a:ea typeface="Arial"/>
              </a:rPr>
              <a:t> 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  <a:ea typeface="Arial"/>
              </a:rPr>
              <a:t>LabProcICE unable to decide on the issue.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  <a:ea typeface="Arial"/>
              </a:rPr>
              <a:t>Open issue needs decision before the beginning of the correlation tes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  <a:ea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  <a:ea typeface="Arial"/>
              </a:rPr>
              <a:t>Next steps: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  <a:ea typeface="Arial"/>
              </a:rPr>
              <a:t> 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  <a:ea typeface="Arial"/>
              </a:rPr>
              <a:t>1) Detailed and data supported counterproposal from COM needed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  <a:ea typeface="Arial"/>
              </a:rPr>
              <a:t> 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  <a:ea typeface="Arial"/>
              </a:rPr>
              <a:t>2) advice by DTP or political decision by GRPE expected before start of the correlation measurements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Tahoma"/>
              </a:rPr>
              <a:t> 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812880" y="673200"/>
            <a:ext cx="7962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  <a:ea typeface="Arial"/>
              </a:rPr>
              <a:t>2) List of open issues – Test Room and Soak area temperature (2/2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liennummernplatzhalter 3"/>
          <p:cNvSpPr/>
          <p:nvPr/>
        </p:nvSpPr>
        <p:spPr>
          <a:xfrm>
            <a:off x="7418520" y="6257880"/>
            <a:ext cx="1600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8080"/>
                </a:solidFill>
                <a:latin typeface="Tahoma"/>
              </a:rPr>
              <a:t>slide </a:t>
            </a:r>
            <a:fld id="{384829F0-C3CC-42E8-9B5C-CC038633F447}" type="slidenum">
              <a:rPr b="0" lang="de-DE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60040" y="1841400"/>
            <a:ext cx="782964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838080" y="1700280"/>
            <a:ext cx="7829640" cy="42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  <a:ea typeface="Arial"/>
              </a:rPr>
              <a:t>Proposal for advanced CVS-method for measuring low pollutant mass with high accuracy introduced by experts (Method for subtraction of pollutant mass in intake air (WLTP-DTP-LabProcICE-020))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  <a:ea typeface="Arial"/>
              </a:rPr>
              <a:t>Next steps: 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  <a:ea typeface="Arial"/>
              </a:rPr>
              <a:t>Technical evaluation of the advanced method by experts of other dtp subgroups (Is the method applicable for additional pollutant, PM/PN and EV requirements?)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)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political discussion of the definition of exhaust emission necessary: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standard CVS method: determination of gross tailpipe emissions (molecules generated / transformed in combustion processes + ambient background aspirated by the engine)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vs. 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advanced CVS method: net amount of pollutants added to the atmosphere by the vehicle (molecules generated / transformed in combustion processes)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and improved precision for all non-stochiometric engine concepts through determination of real dilution ratio (DR)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812880" y="673200"/>
            <a:ext cx="7937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  <a:ea typeface="Arial"/>
              </a:rPr>
              <a:t>2) List of open issues – Method for substraction of pollutant mass in intake air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liennummernplatzhalter 1"/>
          <p:cNvSpPr/>
          <p:nvPr/>
        </p:nvSpPr>
        <p:spPr>
          <a:xfrm>
            <a:off x="7418520" y="6257880"/>
            <a:ext cx="1600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8080"/>
                </a:solidFill>
                <a:latin typeface="Tahoma"/>
              </a:rPr>
              <a:t>slide </a:t>
            </a:r>
            <a:fld id="{7F137F8C-7361-4485-85C3-BDAA9C2A4EF6}" type="slidenum">
              <a:rPr b="0" lang="de-DE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1542960" y="582120"/>
            <a:ext cx="64008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2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898989"/>
                </a:solidFill>
                <a:latin typeface="Tahoma"/>
              </a:rPr>
              <a:t>Different meanings of the word „background“ as a contribution to mass</a:t>
            </a:r>
            <a:endParaRPr b="1" lang="en-US" sz="21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1052640" y="1378080"/>
            <a:ext cx="6643440" cy="4498920"/>
          </a:xfrm>
          <a:prstGeom prst="rect">
            <a:avLst/>
          </a:prstGeom>
          <a:ln w="0">
            <a:noFill/>
          </a:ln>
        </p:spPr>
      </p:pic>
      <p:sp>
        <p:nvSpPr>
          <p:cNvPr id="152" name="Textfeld 4"/>
          <p:cNvSpPr/>
          <p:nvPr/>
        </p:nvSpPr>
        <p:spPr>
          <a:xfrm>
            <a:off x="2877480" y="2565360"/>
            <a:ext cx="1344960" cy="520200"/>
          </a:xfrm>
          <a:prstGeom prst="rect">
            <a:avLst/>
          </a:prstGeom>
          <a:solidFill>
            <a:srgbClr val="ceceef"/>
          </a:solidFill>
          <a:ln w="1260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Background 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diluent air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Textfeld 5"/>
          <p:cNvSpPr/>
          <p:nvPr/>
        </p:nvSpPr>
        <p:spPr>
          <a:xfrm>
            <a:off x="4315320" y="3141720"/>
            <a:ext cx="1915200" cy="733320"/>
          </a:xfrm>
          <a:prstGeom prst="rect">
            <a:avLst/>
          </a:prstGeom>
          <a:solidFill>
            <a:srgbClr val="ceceef"/>
          </a:solidFill>
          <a:ln w="1260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Background 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from mixing point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to point of sampling 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feil nach unten 6"/>
          <p:cNvSpPr/>
          <p:nvPr/>
        </p:nvSpPr>
        <p:spPr>
          <a:xfrm>
            <a:off x="3564000" y="3068640"/>
            <a:ext cx="46080" cy="144360"/>
          </a:xfrm>
          <a:prstGeom prst="downArrow">
            <a:avLst>
              <a:gd name="adj1" fmla="val 50000"/>
              <a:gd name="adj2" fmla="val 49922"/>
            </a:avLst>
          </a:prstGeom>
          <a:solidFill>
            <a:srgbClr val="bbe0e3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feil nach unten 7"/>
          <p:cNvSpPr/>
          <p:nvPr/>
        </p:nvSpPr>
        <p:spPr>
          <a:xfrm>
            <a:off x="5580000" y="3860640"/>
            <a:ext cx="71640" cy="360360"/>
          </a:xfrm>
          <a:prstGeom prst="downArrow">
            <a:avLst>
              <a:gd name="adj1" fmla="val 50000"/>
              <a:gd name="adj2" fmla="val 49859"/>
            </a:avLst>
          </a:prstGeom>
          <a:solidFill>
            <a:srgbClr val="bbe0e3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Textfeld 8"/>
          <p:cNvSpPr/>
          <p:nvPr/>
        </p:nvSpPr>
        <p:spPr>
          <a:xfrm>
            <a:off x="3961800" y="5373720"/>
            <a:ext cx="1820520" cy="520200"/>
          </a:xfrm>
          <a:prstGeom prst="rect">
            <a:avLst/>
          </a:prstGeom>
          <a:solidFill>
            <a:srgbClr val="ceceef"/>
          </a:solidFill>
          <a:ln w="1260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Background 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inside transfer tub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feil nach oben 12"/>
          <p:cNvSpPr/>
          <p:nvPr/>
        </p:nvSpPr>
        <p:spPr>
          <a:xfrm>
            <a:off x="5173560" y="4724280"/>
            <a:ext cx="46080" cy="649440"/>
          </a:xfrm>
          <a:prstGeom prst="upArrow">
            <a:avLst>
              <a:gd name="adj1" fmla="val 50000"/>
              <a:gd name="adj2" fmla="val 49981"/>
            </a:avLst>
          </a:prstGeom>
          <a:solidFill>
            <a:srgbClr val="bbe0e3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feil nach links 13"/>
          <p:cNvSpPr/>
          <p:nvPr/>
        </p:nvSpPr>
        <p:spPr>
          <a:xfrm>
            <a:off x="4788000" y="4724280"/>
            <a:ext cx="431640" cy="46080"/>
          </a:xfrm>
          <a:prstGeom prst="leftArrow">
            <a:avLst>
              <a:gd name="adj1" fmla="val 50000"/>
              <a:gd name="adj2" fmla="val 49915"/>
            </a:avLst>
          </a:prstGeom>
          <a:solidFill>
            <a:srgbClr val="bbe0e3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Textfeld 14"/>
          <p:cNvSpPr/>
          <p:nvPr/>
        </p:nvSpPr>
        <p:spPr>
          <a:xfrm>
            <a:off x="1425600" y="3409920"/>
            <a:ext cx="1931760" cy="520200"/>
          </a:xfrm>
          <a:prstGeom prst="rect">
            <a:avLst/>
          </a:prstGeom>
          <a:solidFill>
            <a:srgbClr val="ceceef"/>
          </a:solidFill>
          <a:ln w="1260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Background 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Intake air from room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feil nach unten 15"/>
          <p:cNvSpPr/>
          <p:nvPr/>
        </p:nvSpPr>
        <p:spPr>
          <a:xfrm>
            <a:off x="2556000" y="3933720"/>
            <a:ext cx="46080" cy="142920"/>
          </a:xfrm>
          <a:prstGeom prst="downArrow">
            <a:avLst>
              <a:gd name="adj1" fmla="val 50000"/>
              <a:gd name="adj2" fmla="val 49970"/>
            </a:avLst>
          </a:prstGeom>
          <a:solidFill>
            <a:srgbClr val="bbe0e3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1" name="Picture 4" descr="Glass Fiber Filters"/>
          <p:cNvPicPr/>
          <p:nvPr/>
        </p:nvPicPr>
        <p:blipFill>
          <a:blip r:embed="rId2"/>
          <a:stretch/>
        </p:blipFill>
        <p:spPr>
          <a:xfrm>
            <a:off x="7956720" y="4797360"/>
            <a:ext cx="1079280" cy="1079640"/>
          </a:xfrm>
          <a:prstGeom prst="rect">
            <a:avLst/>
          </a:prstGeom>
          <a:ln w="0">
            <a:noFill/>
          </a:ln>
        </p:spPr>
      </p:pic>
      <p:sp>
        <p:nvSpPr>
          <p:cNvPr id="162" name="Textfeld 17"/>
          <p:cNvSpPr/>
          <p:nvPr/>
        </p:nvSpPr>
        <p:spPr>
          <a:xfrm>
            <a:off x="6363360" y="5354640"/>
            <a:ext cx="1605600" cy="520200"/>
          </a:xfrm>
          <a:prstGeom prst="rect">
            <a:avLst/>
          </a:prstGeom>
          <a:solidFill>
            <a:srgbClr val="ceceef"/>
          </a:solidFill>
          <a:ln w="1260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Background 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Artifacts on Filter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feil nach rechts 18"/>
          <p:cNvSpPr/>
          <p:nvPr/>
        </p:nvSpPr>
        <p:spPr>
          <a:xfrm>
            <a:off x="7812000" y="5589720"/>
            <a:ext cx="216000" cy="46080"/>
          </a:xfrm>
          <a:prstGeom prst="rightArrow">
            <a:avLst>
              <a:gd name="adj1" fmla="val 50000"/>
              <a:gd name="adj2" fmla="val 49978"/>
            </a:avLst>
          </a:prstGeom>
          <a:solidFill>
            <a:srgbClr val="bbe0e3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Foliennummernplatzhalter 3"/>
          <p:cNvSpPr/>
          <p:nvPr/>
        </p:nvSpPr>
        <p:spPr>
          <a:xfrm>
            <a:off x="7418520" y="6257880"/>
            <a:ext cx="1600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8080"/>
                </a:solidFill>
                <a:latin typeface="Tahoma"/>
              </a:rPr>
              <a:t>slide </a:t>
            </a:r>
            <a:fld id="{28DEB373-2C5F-437F-828A-3DFF2530F70C}" type="slidenum">
              <a:rPr b="0" lang="de-DE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863640" y="1650960"/>
            <a:ext cx="7829640" cy="42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e of the working progres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1) Course of actio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2) Approach to develop the DTP proposa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Arial"/>
              </a:rPr>
              <a:t>1.3) Meetings since June GRPE 2010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Arial"/>
              </a:rPr>
              <a:t>1.4) Work in progres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5) Improvements in CO2 representativity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producibility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) List of the open issu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) Planning of the next steps / Outlook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812880" y="673200"/>
            <a:ext cx="7962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33"/>
                </a:solidFill>
                <a:latin typeface="Arial"/>
                <a:ea typeface="Arial"/>
              </a:rPr>
              <a:t>Overview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liennummernplatzhalter 1"/>
          <p:cNvSpPr/>
          <p:nvPr/>
        </p:nvSpPr>
        <p:spPr>
          <a:xfrm>
            <a:off x="7418520" y="6257880"/>
            <a:ext cx="1600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8080"/>
                </a:solidFill>
                <a:latin typeface="Tahoma"/>
              </a:rPr>
              <a:t>slide </a:t>
            </a:r>
            <a:fld id="{3F3CC587-87EB-4DB1-BB87-A64D9D4363F5}" type="slidenum">
              <a:rPr b="0" lang="de-DE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Textfeld 3"/>
          <p:cNvSpPr/>
          <p:nvPr/>
        </p:nvSpPr>
        <p:spPr>
          <a:xfrm>
            <a:off x="529560" y="1484280"/>
            <a:ext cx="1344960" cy="520200"/>
          </a:xfrm>
          <a:prstGeom prst="rect">
            <a:avLst/>
          </a:prstGeom>
          <a:solidFill>
            <a:srgbClr val="ceceef"/>
          </a:solidFill>
          <a:ln w="1260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ackground 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luent air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Textfeld 4"/>
          <p:cNvSpPr/>
          <p:nvPr/>
        </p:nvSpPr>
        <p:spPr>
          <a:xfrm>
            <a:off x="498960" y="2349360"/>
            <a:ext cx="1915200" cy="733320"/>
          </a:xfrm>
          <a:prstGeom prst="rect">
            <a:avLst/>
          </a:prstGeom>
          <a:solidFill>
            <a:srgbClr val="ceceef"/>
          </a:solidFill>
          <a:ln w="1260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ackground 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from mixing point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to point of sampling 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Textfeld 5"/>
          <p:cNvSpPr/>
          <p:nvPr/>
        </p:nvSpPr>
        <p:spPr>
          <a:xfrm>
            <a:off x="505800" y="3265560"/>
            <a:ext cx="1820520" cy="520200"/>
          </a:xfrm>
          <a:prstGeom prst="rect">
            <a:avLst/>
          </a:prstGeom>
          <a:solidFill>
            <a:srgbClr val="ceceef"/>
          </a:solidFill>
          <a:ln w="1260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ackground 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side transfer tub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Textfeld 6"/>
          <p:cNvSpPr/>
          <p:nvPr/>
        </p:nvSpPr>
        <p:spPr>
          <a:xfrm>
            <a:off x="489240" y="4130640"/>
            <a:ext cx="1931760" cy="520200"/>
          </a:xfrm>
          <a:prstGeom prst="rect">
            <a:avLst/>
          </a:prstGeom>
          <a:solidFill>
            <a:srgbClr val="ceceef"/>
          </a:solidFill>
          <a:ln w="1260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ackground 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ake air from room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Textfeld 7"/>
          <p:cNvSpPr/>
          <p:nvPr/>
        </p:nvSpPr>
        <p:spPr>
          <a:xfrm>
            <a:off x="531000" y="4941720"/>
            <a:ext cx="1605600" cy="520200"/>
          </a:xfrm>
          <a:prstGeom prst="rect">
            <a:avLst/>
          </a:prstGeom>
          <a:solidFill>
            <a:srgbClr val="ceceef"/>
          </a:solidFill>
          <a:ln w="1260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ackground 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rtifacts on Filter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Rechteck 8"/>
          <p:cNvSpPr/>
          <p:nvPr/>
        </p:nvSpPr>
        <p:spPr>
          <a:xfrm>
            <a:off x="2700360" y="2330280"/>
            <a:ext cx="597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t point of sampling means there are some left overs, contaminations of THC, PM, PN inside the surface of tubes an pipe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Rechteck 9"/>
          <p:cNvSpPr/>
          <p:nvPr/>
        </p:nvSpPr>
        <p:spPr>
          <a:xfrm>
            <a:off x="2736720" y="1484280"/>
            <a:ext cx="565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ll constituents are important including CH4, N2O for the near futur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Rechteck 10"/>
          <p:cNvSpPr/>
          <p:nvPr/>
        </p:nvSpPr>
        <p:spPr>
          <a:xfrm>
            <a:off x="2700360" y="3284640"/>
            <a:ext cx="6264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eft overs, contamination of PM, PN, H2O and THC are important, with the option - Cap end of tub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Rechteck 11"/>
          <p:cNvSpPr/>
          <p:nvPr/>
        </p:nvSpPr>
        <p:spPr>
          <a:xfrm>
            <a:off x="2771640" y="4149720"/>
            <a:ext cx="532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ll constituents are important including CH4, N2O for the near futur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Rechteck 12"/>
          <p:cNvSpPr/>
          <p:nvPr/>
        </p:nvSpPr>
        <p:spPr>
          <a:xfrm>
            <a:off x="2843280" y="4941720"/>
            <a:ext cx="525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lter material gains weight from something unknown called artifacts, just in air or other gase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Untertitel 2"/>
          <p:cNvSpPr/>
          <p:nvPr/>
        </p:nvSpPr>
        <p:spPr>
          <a:xfrm>
            <a:off x="1666800" y="544680"/>
            <a:ext cx="6256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Tahoma"/>
              </a:rPr>
              <a:t>Different meanings of the word „background“ as a contribution to mass</a:t>
            </a:r>
            <a:endParaRPr b="1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liennummernplatzhalter 3"/>
          <p:cNvSpPr/>
          <p:nvPr/>
        </p:nvSpPr>
        <p:spPr>
          <a:xfrm>
            <a:off x="7418520" y="6257880"/>
            <a:ext cx="1600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8080"/>
                </a:solidFill>
                <a:latin typeface="Tahoma"/>
              </a:rPr>
              <a:t>slide </a:t>
            </a:r>
            <a:fld id="{2D36C207-B56B-464A-A007-A5675F257B75}" type="slidenum">
              <a:rPr b="0" lang="de-DE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973080" y="1639800"/>
            <a:ext cx="7829640" cy="40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Tahoma"/>
              </a:rPr>
              <a:t> 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812880" y="673200"/>
            <a:ext cx="7962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  <a:ea typeface="Arial"/>
              </a:rPr>
              <a:t>2) List of open issues – certification issu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1360" y="1292400"/>
          <a:ext cx="8370720" cy="4652640"/>
        </p:xfrm>
        <a:graphic>
          <a:graphicData uri="http://schemas.openxmlformats.org/drawingml/2006/table">
            <a:tbl>
              <a:tblPr/>
              <a:tblGrid>
                <a:gridCol w="446040"/>
                <a:gridCol w="1808280"/>
                <a:gridCol w="1990800"/>
                <a:gridCol w="2471400"/>
                <a:gridCol w="1654200"/>
              </a:tblGrid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No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Item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Descrip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Not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gtr task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717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Family criteri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( Emission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riteria which the representative data cover the group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Ideally yes, if time permits (DTP top level responsibility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Family criteri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( Fuel Economy / CO2 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Ideally yes, if time permits (DTP top level responsibility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Family criteri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( Road Load 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Ideally yes, if time permits (DTP top level responsibility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Test Vehicle Selec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( Emission 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Vehicle condition of representative data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aim: worst case,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onnected with family criteri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Ideally yes, if time permits (DTP top level responsibility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Test Vehicle Selec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( Fuel Economy / CO2 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aim: worst/best/representative?,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onnected with family criteri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Ideally yes, if time permits (DTP top level responsibility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6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Test Vehicle Selec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( Road Load 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.g. aerodynamic bodywork typ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aim: worst/best/representative?,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onnected with family criteri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Ideally yes, if time permits (DTP top level responsibility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liennummernplatzhalter 3"/>
          <p:cNvSpPr/>
          <p:nvPr/>
        </p:nvSpPr>
        <p:spPr>
          <a:xfrm>
            <a:off x="7418520" y="6257880"/>
            <a:ext cx="1600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8080"/>
                </a:solidFill>
                <a:latin typeface="Tahoma"/>
              </a:rPr>
              <a:t>slide </a:t>
            </a:r>
            <a:fld id="{938AE6C5-F6CF-41DC-B2D1-3F0A9BD97480}" type="slidenum">
              <a:rPr b="0" lang="de-DE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973080" y="1639800"/>
            <a:ext cx="7829640" cy="40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Tahoma"/>
              </a:rPr>
              <a:t> 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812880" y="673200"/>
            <a:ext cx="7962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  <a:ea typeface="Arial"/>
              </a:rPr>
              <a:t>2) List of open issues – certification issu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298440" y="1371600"/>
          <a:ext cx="8515440" cy="4506840"/>
        </p:xfrm>
        <a:graphic>
          <a:graphicData uri="http://schemas.openxmlformats.org/drawingml/2006/table">
            <a:tbl>
              <a:tblPr/>
              <a:tblGrid>
                <a:gridCol w="536760"/>
                <a:gridCol w="1442880"/>
                <a:gridCol w="1646280"/>
                <a:gridCol w="2940120"/>
                <a:gridCol w="1949400"/>
              </a:tblGrid>
              <a:tr h="213480"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No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Item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Descrip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Not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gtr task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492200"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Vehicle Test / Reference Weigh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(Emission / Fuel Economy / CO2 / Road Load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Definition of calculated part(s) &amp; weight for testing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test weight needs to be defined for validation test in 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th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quarter of 201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test weight: yes;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reference weight (short term): no, (long term): to be decide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9080"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Tire Selec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Already discussed in ICE sub-Gr, and will make draft proposal…(may combine with item #4-6?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Ideally yes, but final decision depends on available technical proposals and acceptance by other parties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840"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Tire Condi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riteria for valid tire condition. (e.g. Tred depth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0 to 50%)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Already discussed in ICE sub-Gr, Sweden/T&amp;E and will make draft proposal…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yes 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(labProcICE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Test Fue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Already considered in RF sub-Gr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yes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(RF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Number of test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Already discussed in ICE sub-Gr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yes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(LabProcICE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liennummernplatzhalter 3"/>
          <p:cNvSpPr/>
          <p:nvPr/>
        </p:nvSpPr>
        <p:spPr>
          <a:xfrm>
            <a:off x="7418520" y="6257880"/>
            <a:ext cx="1600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8080"/>
                </a:solidFill>
                <a:latin typeface="Arial"/>
                <a:ea typeface="Arial"/>
              </a:rPr>
              <a:t>slide </a:t>
            </a:r>
            <a:fld id="{3247DA8C-56AA-4D94-80CE-45E5F9B2DFE7}" type="slidenum">
              <a:rPr b="0" lang="de-DE" sz="1400" spc="-1" strike="noStrike">
                <a:solidFill>
                  <a:srgbClr val="80808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812520" y="1841400"/>
            <a:ext cx="782964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812880" y="1670040"/>
            <a:ext cx="782964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20000"/>
              </a:lnSpc>
              <a:spcBef>
                <a:spcPts val="499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  <a:ea typeface="Arial"/>
              </a:rPr>
              <a:t>It is necessary that the definitions and the procedures fit together?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120000"/>
              </a:lnSpc>
              <a:spcBef>
                <a:spcPts val="499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  <a:ea typeface="Arial"/>
              </a:rPr>
              <a:t>Who will take care of this topic?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120000"/>
              </a:lnSpc>
              <a:spcBef>
                <a:spcPts val="499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812880" y="673200"/>
            <a:ext cx="7937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  <a:ea typeface="Arial"/>
              </a:rPr>
              <a:t>2) List of open issues – Definition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liennummernplatzhalter 3"/>
          <p:cNvSpPr/>
          <p:nvPr/>
        </p:nvSpPr>
        <p:spPr>
          <a:xfrm>
            <a:off x="7418520" y="6257880"/>
            <a:ext cx="1600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8080"/>
                </a:solidFill>
                <a:latin typeface="Arial"/>
                <a:ea typeface="Arial"/>
              </a:rPr>
              <a:t>slide </a:t>
            </a:r>
            <a:fld id="{8CF0467F-6604-4195-88F4-003CBD8C406C}" type="slidenum">
              <a:rPr b="0" lang="de-DE" sz="1400" spc="-1" strike="noStrike">
                <a:solidFill>
                  <a:srgbClr val="80808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888840" y="1522440"/>
            <a:ext cx="742824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  <a:ea typeface="Arial"/>
              </a:rPr>
              <a:t>Next Informal meeting of WLTP DPT ICE lab proc </a:t>
            </a: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42516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  <a:ea typeface="Arial"/>
              </a:rPr>
              <a:t>Feb 2011</a:t>
            </a: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42516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  <a:ea typeface="Arial"/>
              </a:rPr>
              <a:t>March 2011</a:t>
            </a: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42516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  <a:ea typeface="Arial"/>
              </a:rPr>
              <a:t>May 2011</a:t>
            </a: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425160" indent="0">
              <a:lnSpc>
                <a:spcPct val="100000"/>
              </a:lnSpc>
              <a:spcBef>
                <a:spcPts val="11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  <a:ea typeface="Arial"/>
              </a:rPr>
              <a:t>exact date and Location t.b.d.</a:t>
            </a: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425160" indent="0">
              <a:lnSpc>
                <a:spcPct val="100000"/>
              </a:lnSpc>
              <a:spcBef>
                <a:spcPts val="11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425160" indent="0">
              <a:lnSpc>
                <a:spcPct val="100000"/>
              </a:lnSpc>
              <a:spcBef>
                <a:spcPts val="11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  <a:ea typeface="Arial"/>
              </a:rPr>
              <a:t>3</a:t>
            </a:r>
            <a:r>
              <a:rPr b="0" lang="en-GB" sz="2000" spc="-1" strike="noStrike" baseline="30000">
                <a:solidFill>
                  <a:srgbClr val="000099"/>
                </a:solidFill>
                <a:latin typeface="Arial"/>
                <a:ea typeface="Arial"/>
              </a:rPr>
              <a:t>rd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  <a:ea typeface="Arial"/>
              </a:rPr>
              <a:t> quarter of 2011: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  <a:ea typeface="Arial"/>
              </a:rPr>
              <a:t>begin validations tests with new test 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  <a:ea typeface="Arial"/>
              </a:rPr>
              <a:t>procedure</a:t>
            </a: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0" name="Rectangle 14"/>
          <p:cNvSpPr/>
          <p:nvPr/>
        </p:nvSpPr>
        <p:spPr>
          <a:xfrm>
            <a:off x="812880" y="673200"/>
            <a:ext cx="8331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) Planning of the next steps / Outlook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liennummernplatzhalter 3"/>
          <p:cNvSpPr/>
          <p:nvPr/>
        </p:nvSpPr>
        <p:spPr>
          <a:xfrm>
            <a:off x="7418520" y="6257880"/>
            <a:ext cx="1600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8080"/>
                </a:solidFill>
                <a:latin typeface="Tahoma"/>
              </a:rPr>
              <a:t>slide </a:t>
            </a:r>
            <a:fld id="{CAF3EBA9-FFD0-4D15-BC9D-F1186892634F}" type="slidenum">
              <a:rPr b="0" lang="de-DE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1833480" y="1914480"/>
            <a:ext cx="5534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Thanks for your attention.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1825560" y="2919240"/>
            <a:ext cx="6461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</a:rPr>
              <a:t>LabProcICE contact: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Béatrice Lopez de Rodas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- beatrice.lopez(at)utac.com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Werner Kummer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- werner.kummer(at)audi.de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Stephan Redmann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– stephan.redmann(at)bmvbs.bund.de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liennummernplatzhalter 3"/>
          <p:cNvSpPr/>
          <p:nvPr/>
        </p:nvSpPr>
        <p:spPr>
          <a:xfrm>
            <a:off x="7418520" y="6257880"/>
            <a:ext cx="1600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8080"/>
                </a:solidFill>
                <a:latin typeface="Tahoma"/>
              </a:rPr>
              <a:t>slide </a:t>
            </a:r>
            <a:fld id="{4BB4E5F0-CECD-4F5C-B298-510A0EC36A1E}" type="slidenum">
              <a:rPr b="0" lang="de-DE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12880" y="673200"/>
            <a:ext cx="4216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33"/>
                </a:solidFill>
                <a:latin typeface="Arial"/>
                <a:ea typeface="Arial"/>
              </a:rPr>
              <a:t>1.1) Course of action</a:t>
            </a:r>
            <a:r>
              <a:rPr b="1" lang="en-GB" sz="2400" spc="-1" strike="noStrike">
                <a:solidFill>
                  <a:srgbClr val="333333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12520" y="1752480"/>
            <a:ext cx="782964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812880" y="1519200"/>
            <a:ext cx="782964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Tahoma"/>
              </a:rPr>
              <a:t>ToR &amp; Plan of Activity</a:t>
            </a:r>
            <a:r>
              <a:rPr b="0" lang="en-GB" sz="1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Tahoma"/>
              </a:rPr>
              <a:t>(WLTP-DTP-LabProcICE-002_rev3)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Tahoma"/>
              </a:rPr>
              <a:t>Tasks:</a:t>
            </a:r>
            <a:r>
              <a:rPr b="0" lang="en-GB" sz="1800" spc="-1" strike="noStrike">
                <a:solidFill>
                  <a:srgbClr val="000099"/>
                </a:solidFill>
                <a:latin typeface="Tahoma"/>
              </a:rPr>
              <a:t> Harmonization &amp; improvement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Tahoma"/>
              </a:rPr>
              <a:t>Basis documents</a:t>
            </a:r>
            <a:r>
              <a:rPr b="0" lang="en-GB" sz="1800" spc="-1" strike="noStrike">
                <a:solidFill>
                  <a:srgbClr val="000099"/>
                </a:solidFill>
                <a:latin typeface="Tahoma"/>
              </a:rPr>
              <a:t>:</a:t>
            </a:r>
            <a:br>
              <a:rPr sz="1800"/>
            </a:br>
            <a:r>
              <a:rPr b="0" lang="en-GB" sz="1800" spc="-1" strike="noStrike">
                <a:solidFill>
                  <a:srgbClr val="000099"/>
                </a:solidFill>
                <a:latin typeface="Tahoma"/>
              </a:rPr>
              <a:t>- GTR draft </a:t>
            </a:r>
            <a:br>
              <a:rPr sz="1800"/>
            </a:br>
            <a:r>
              <a:rPr b="0" lang="en-GB" sz="1800" spc="-1" strike="noStrike">
                <a:solidFill>
                  <a:srgbClr val="000099"/>
                </a:solidFill>
                <a:latin typeface="Tahoma"/>
              </a:rPr>
              <a:t>- US, JP, ECE regional legislations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Tahoma"/>
              </a:rPr>
              <a:t>3 experts groups</a:t>
            </a:r>
            <a:r>
              <a:rPr b="0" lang="en-GB" sz="1800" spc="-1" strike="noStrike">
                <a:solidFill>
                  <a:srgbClr val="000099"/>
                </a:solidFill>
                <a:latin typeface="Tahoma"/>
              </a:rPr>
              <a:t>:</a:t>
            </a:r>
            <a:br>
              <a:rPr sz="1800"/>
            </a:br>
            <a:r>
              <a:rPr b="0" lang="en-GB" sz="1800" spc="-1" strike="noStrike">
                <a:solidFill>
                  <a:srgbClr val="000099"/>
                </a:solidFill>
                <a:latin typeface="Tahoma"/>
              </a:rPr>
              <a:t>- Lab Process </a:t>
            </a:r>
            <a:br>
              <a:rPr sz="1800"/>
            </a:br>
            <a:r>
              <a:rPr b="0" lang="en-GB" sz="1800" spc="-1" strike="noStrike">
                <a:solidFill>
                  <a:srgbClr val="000099"/>
                </a:solidFill>
                <a:latin typeface="Tahoma"/>
              </a:rPr>
              <a:t>- Measurement / Equipment / Calculations</a:t>
            </a:r>
            <a:br>
              <a:rPr sz="1800"/>
            </a:br>
            <a:r>
              <a:rPr b="0" lang="en-GB" sz="1800" spc="-1" strike="noStrike">
                <a:solidFill>
                  <a:srgbClr val="000099"/>
                </a:solidFill>
                <a:latin typeface="Tahoma"/>
              </a:rPr>
              <a:t>- Road Load Determinatio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Tahoma"/>
              </a:rPr>
              <a:t>documentation</a:t>
            </a:r>
            <a:r>
              <a:rPr b="0" lang="en-GB" sz="1800" spc="-1" strike="noStrike">
                <a:solidFill>
                  <a:srgbClr val="000099"/>
                </a:solidFill>
                <a:latin typeface="Tahoma"/>
              </a:rPr>
              <a:t>: </a:t>
            </a:r>
            <a:br>
              <a:rPr sz="1800"/>
            </a:br>
            <a:r>
              <a:rPr b="0" lang="en-GB" sz="1800" spc="-1" strike="noStrike">
                <a:solidFill>
                  <a:srgbClr val="000099"/>
                </a:solidFill>
                <a:latin typeface="Tahoma"/>
              </a:rPr>
              <a:t>- GTR draft </a:t>
            </a:r>
            <a:r>
              <a:rPr b="0" lang="en-GB" sz="1600" spc="-1" strike="noStrike">
                <a:solidFill>
                  <a:srgbClr val="000099"/>
                </a:solidFill>
                <a:latin typeface="Tahoma"/>
              </a:rPr>
              <a:t>(WLTP-DTP-LabProcICE-021) 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99"/>
                </a:solidFill>
                <a:latin typeface="Tahoma"/>
              </a:rPr>
              <a:t>- 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circa website: 3. WLTP-DTP: lab procedure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Foliennummernplatzhalter 3"/>
          <p:cNvSpPr/>
          <p:nvPr/>
        </p:nvSpPr>
        <p:spPr>
          <a:xfrm>
            <a:off x="7418520" y="6257880"/>
            <a:ext cx="1600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8080"/>
                </a:solidFill>
                <a:latin typeface="Arial"/>
                <a:ea typeface="Arial"/>
              </a:rPr>
              <a:t>slide </a:t>
            </a:r>
            <a:fld id="{F17A8BCB-AE88-42BA-83E5-CD1296925009}" type="slidenum">
              <a:rPr b="0" lang="de-DE" sz="1400" spc="-1" strike="noStrike">
                <a:solidFill>
                  <a:srgbClr val="80808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12520" y="673200"/>
            <a:ext cx="72644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  <a:ea typeface="Arial"/>
              </a:rPr>
              <a:t>1.2) Approach to develop the DTP proposal</a:t>
            </a: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2759040" y="1349280"/>
            <a:ext cx="149868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1. step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dentification of relevant contents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AutoShape 7"/>
          <p:cNvSpPr/>
          <p:nvPr/>
        </p:nvSpPr>
        <p:spPr>
          <a:xfrm>
            <a:off x="1438200" y="2146320"/>
            <a:ext cx="1258920" cy="1122480"/>
          </a:xfrm>
          <a:prstGeom prst="verticalScroll">
            <a:avLst>
              <a:gd name="adj" fmla="val 125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EU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ECE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500 pages+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896760" y="1433520"/>
            <a:ext cx="149724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ata basi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Regulations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AutoShape 9"/>
          <p:cNvSpPr/>
          <p:nvPr/>
        </p:nvSpPr>
        <p:spPr>
          <a:xfrm>
            <a:off x="1438200" y="3467160"/>
            <a:ext cx="1258920" cy="1123920"/>
          </a:xfrm>
          <a:prstGeom prst="verticalScrol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U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EPA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CARB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3000 pages +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AutoShape 10"/>
          <p:cNvSpPr/>
          <p:nvPr/>
        </p:nvSpPr>
        <p:spPr>
          <a:xfrm>
            <a:off x="1438200" y="4789440"/>
            <a:ext cx="1258920" cy="1122480"/>
          </a:xfrm>
          <a:prstGeom prst="verticalScroll">
            <a:avLst>
              <a:gd name="adj" fmla="val 125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Jap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400 pages+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9" name="Gruppieren 28"/>
          <p:cNvGrpSpPr/>
          <p:nvPr/>
        </p:nvGrpSpPr>
        <p:grpSpPr>
          <a:xfrm>
            <a:off x="2840040" y="2146320"/>
            <a:ext cx="1260360" cy="1122480"/>
            <a:chOff x="2840040" y="2146320"/>
            <a:chExt cx="1260360" cy="1122480"/>
          </a:xfrm>
        </p:grpSpPr>
        <p:sp>
          <p:nvSpPr>
            <p:cNvPr id="70" name="AutoShape 3"/>
            <p:cNvSpPr/>
            <p:nvPr/>
          </p:nvSpPr>
          <p:spPr>
            <a:xfrm>
              <a:off x="2840040" y="2146320"/>
              <a:ext cx="1260360" cy="1122480"/>
            </a:xfrm>
            <a:prstGeom prst="verticalScroll">
              <a:avLst>
                <a:gd name="adj" fmla="val 12500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" name="Rectangle 11"/>
            <p:cNvSpPr/>
            <p:nvPr/>
          </p:nvSpPr>
          <p:spPr>
            <a:xfrm>
              <a:off x="2984400" y="2543040"/>
              <a:ext cx="957960" cy="288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2" name="Gruppieren 27"/>
          <p:cNvGrpSpPr/>
          <p:nvPr/>
        </p:nvGrpSpPr>
        <p:grpSpPr>
          <a:xfrm>
            <a:off x="2840040" y="3467160"/>
            <a:ext cx="1260360" cy="1123920"/>
            <a:chOff x="2840040" y="3467160"/>
            <a:chExt cx="1260360" cy="1123920"/>
          </a:xfrm>
        </p:grpSpPr>
        <p:sp>
          <p:nvSpPr>
            <p:cNvPr id="73" name="AutoShape 5"/>
            <p:cNvSpPr/>
            <p:nvPr/>
          </p:nvSpPr>
          <p:spPr>
            <a:xfrm>
              <a:off x="2840040" y="3467160"/>
              <a:ext cx="1260360" cy="1123920"/>
            </a:xfrm>
            <a:prstGeom prst="verticalScroll">
              <a:avLst>
                <a:gd name="adj" fmla="val 125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4" name="Rectangle 12"/>
            <p:cNvSpPr/>
            <p:nvPr/>
          </p:nvSpPr>
          <p:spPr>
            <a:xfrm>
              <a:off x="2980080" y="3995640"/>
              <a:ext cx="974160" cy="28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5" name="Gruppieren 26"/>
          <p:cNvGrpSpPr/>
          <p:nvPr/>
        </p:nvGrpSpPr>
        <p:grpSpPr>
          <a:xfrm>
            <a:off x="2840040" y="4789440"/>
            <a:ext cx="1260360" cy="1122480"/>
            <a:chOff x="2840040" y="4789440"/>
            <a:chExt cx="1260360" cy="1122480"/>
          </a:xfrm>
        </p:grpSpPr>
        <p:sp>
          <p:nvSpPr>
            <p:cNvPr id="76" name="AutoShape 6"/>
            <p:cNvSpPr/>
            <p:nvPr/>
          </p:nvSpPr>
          <p:spPr>
            <a:xfrm>
              <a:off x="2840040" y="4789440"/>
              <a:ext cx="1260360" cy="1122480"/>
            </a:xfrm>
            <a:prstGeom prst="verticalScroll">
              <a:avLst>
                <a:gd name="adj" fmla="val 125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" name="Rectangle 13"/>
            <p:cNvSpPr/>
            <p:nvPr/>
          </p:nvSpPr>
          <p:spPr>
            <a:xfrm>
              <a:off x="2975040" y="5157000"/>
              <a:ext cx="979200" cy="3286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8" name="Text Box 14"/>
          <p:cNvSpPr/>
          <p:nvPr/>
        </p:nvSpPr>
        <p:spPr>
          <a:xfrm>
            <a:off x="4067280" y="1336680"/>
            <a:ext cx="1782720" cy="11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2. step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omparison of contents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e.g. soak time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Text Box 15"/>
          <p:cNvSpPr/>
          <p:nvPr/>
        </p:nvSpPr>
        <p:spPr>
          <a:xfrm>
            <a:off x="5932440" y="1432080"/>
            <a:ext cx="149724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3. step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Make a decision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7443720" y="1455840"/>
            <a:ext cx="14972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final step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Modification of contents 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=&gt; DTP gtr Proposa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Rectangle 17"/>
          <p:cNvSpPr/>
          <p:nvPr/>
        </p:nvSpPr>
        <p:spPr>
          <a:xfrm>
            <a:off x="4245120" y="2614680"/>
            <a:ext cx="1211040" cy="263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Rectangle 18"/>
          <p:cNvSpPr/>
          <p:nvPr/>
        </p:nvSpPr>
        <p:spPr>
          <a:xfrm>
            <a:off x="4287960" y="4071960"/>
            <a:ext cx="1211040" cy="2635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Rectangle 19"/>
          <p:cNvSpPr/>
          <p:nvPr/>
        </p:nvSpPr>
        <p:spPr>
          <a:xfrm>
            <a:off x="4351320" y="5165640"/>
            <a:ext cx="1211400" cy="2890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Rectangle 20"/>
          <p:cNvSpPr/>
          <p:nvPr/>
        </p:nvSpPr>
        <p:spPr>
          <a:xfrm>
            <a:off x="5918040" y="3933720"/>
            <a:ext cx="1212840" cy="263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Rectangle 21"/>
          <p:cNvSpPr/>
          <p:nvPr/>
        </p:nvSpPr>
        <p:spPr>
          <a:xfrm>
            <a:off x="7585200" y="3929040"/>
            <a:ext cx="1212840" cy="2635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Rectangle 22"/>
          <p:cNvSpPr/>
          <p:nvPr/>
        </p:nvSpPr>
        <p:spPr>
          <a:xfrm>
            <a:off x="7585200" y="3929040"/>
            <a:ext cx="215640" cy="2649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Rectangle 23"/>
          <p:cNvSpPr/>
          <p:nvPr/>
        </p:nvSpPr>
        <p:spPr>
          <a:xfrm>
            <a:off x="8442360" y="3929040"/>
            <a:ext cx="357120" cy="2649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Rectangle 24"/>
          <p:cNvSpPr/>
          <p:nvPr/>
        </p:nvSpPr>
        <p:spPr>
          <a:xfrm>
            <a:off x="7585200" y="3929040"/>
            <a:ext cx="1212840" cy="2635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AutoShape 7"/>
          <p:cNvSpPr/>
          <p:nvPr/>
        </p:nvSpPr>
        <p:spPr>
          <a:xfrm>
            <a:off x="47520" y="2152800"/>
            <a:ext cx="1258920" cy="3773160"/>
          </a:xfrm>
          <a:prstGeom prst="verticalScroll">
            <a:avLst>
              <a:gd name="adj" fmla="val 12500"/>
            </a:avLst>
          </a:prstGeom>
          <a:solidFill>
            <a:srgbClr val="5eb5b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tr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Draft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(combination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of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gtr 2 &amp; gtr 4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Foliennummernplatzhalter 3"/>
          <p:cNvSpPr/>
          <p:nvPr/>
        </p:nvSpPr>
        <p:spPr>
          <a:xfrm>
            <a:off x="7418520" y="6257880"/>
            <a:ext cx="1600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8080"/>
                </a:solidFill>
                <a:latin typeface="Tahoma"/>
              </a:rPr>
              <a:t>slide </a:t>
            </a:r>
            <a:fld id="{6BF17D75-DC75-4848-A615-801A8005606B}" type="slidenum">
              <a:rPr b="0" lang="de-DE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812520" y="1727280"/>
            <a:ext cx="782964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83760" indent="-383760">
              <a:lnSpc>
                <a:spcPct val="120000"/>
              </a:lnSpc>
              <a:spcBef>
                <a:spcPts val="499"/>
              </a:spcBef>
              <a:spcAft>
                <a:spcPts val="2500"/>
              </a:spcAft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99"/>
                </a:solidFill>
                <a:uFillTx/>
                <a:latin typeface="Tahoma"/>
              </a:rPr>
              <a:t>03.-06.08.2010</a:t>
            </a:r>
            <a:r>
              <a:rPr b="0" lang="en-GB" sz="2000" spc="-1" strike="noStrike">
                <a:solidFill>
                  <a:srgbClr val="000099"/>
                </a:solidFill>
                <a:latin typeface="Tahoma"/>
              </a:rPr>
              <a:t>: </a:t>
            </a:r>
            <a:r>
              <a:rPr b="0" lang="en-GB" sz="2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Tahoma"/>
              </a:rPr>
              <a:t>Ingolstadt workshop</a:t>
            </a: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383760" indent="-383760">
              <a:lnSpc>
                <a:spcPct val="120000"/>
              </a:lnSpc>
              <a:spcBef>
                <a:spcPts val="499"/>
              </a:spcBef>
              <a:spcAft>
                <a:spcPts val="2500"/>
              </a:spcAft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99"/>
                </a:solidFill>
                <a:uFillTx/>
                <a:latin typeface="Tahoma"/>
              </a:rPr>
              <a:t>15.09.2010</a:t>
            </a:r>
            <a:r>
              <a:rPr b="0" lang="en-GB" sz="2000" spc="-1" strike="noStrike">
                <a:solidFill>
                  <a:srgbClr val="000099"/>
                </a:solidFill>
                <a:latin typeface="Tahoma"/>
              </a:rPr>
              <a:t>: </a:t>
            </a:r>
            <a:r>
              <a:rPr b="0" lang="en-GB" sz="2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Tahoma"/>
              </a:rPr>
              <a:t>tel/web conference</a:t>
            </a:r>
            <a:r>
              <a:rPr b="0" lang="en-GB" sz="2000" spc="-1" strike="noStrike">
                <a:solidFill>
                  <a:srgbClr val="000099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383760" indent="-383760">
              <a:lnSpc>
                <a:spcPct val="120000"/>
              </a:lnSpc>
              <a:spcBef>
                <a:spcPts val="499"/>
              </a:spcBef>
              <a:spcAft>
                <a:spcPts val="2500"/>
              </a:spcAft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99"/>
                </a:solidFill>
                <a:uFillTx/>
                <a:latin typeface="Tahoma"/>
              </a:rPr>
              <a:t>29.09.2010</a:t>
            </a:r>
            <a:r>
              <a:rPr b="0" lang="en-GB" sz="2000" spc="-1" strike="noStrike">
                <a:solidFill>
                  <a:srgbClr val="000099"/>
                </a:solidFill>
                <a:latin typeface="Tahoma"/>
              </a:rPr>
              <a:t>: </a:t>
            </a:r>
            <a:r>
              <a:rPr b="0" lang="en-GB" sz="2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Tahoma"/>
              </a:rPr>
              <a:t>tel/web conference (reg. systems)</a:t>
            </a: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383760" indent="-383760">
              <a:lnSpc>
                <a:spcPct val="120000"/>
              </a:lnSpc>
              <a:spcBef>
                <a:spcPts val="499"/>
              </a:spcBef>
              <a:spcAft>
                <a:spcPts val="2500"/>
              </a:spcAft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99"/>
                </a:solidFill>
                <a:uFillTx/>
                <a:latin typeface="Tahoma"/>
              </a:rPr>
              <a:t>5./6.10.2010:</a:t>
            </a:r>
            <a:r>
              <a:rPr b="0" lang="en-GB" sz="2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Tahoma"/>
              </a:rPr>
              <a:t>Brussels workshop</a:t>
            </a: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383760" indent="-383760">
              <a:lnSpc>
                <a:spcPct val="120000"/>
              </a:lnSpc>
              <a:spcBef>
                <a:spcPts val="499"/>
              </a:spcBef>
              <a:spcAft>
                <a:spcPts val="2500"/>
              </a:spcAft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Tahoma"/>
              </a:rPr>
              <a:t>13.10.2010</a:t>
            </a:r>
            <a:r>
              <a:rPr b="0" lang="en-GB" sz="2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Tahoma"/>
              </a:rPr>
              <a:t>Vienna DTP meeting</a:t>
            </a: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383760" indent="-383760">
              <a:lnSpc>
                <a:spcPct val="120000"/>
              </a:lnSpc>
              <a:spcBef>
                <a:spcPts val="499"/>
              </a:spcBef>
              <a:spcAft>
                <a:spcPts val="2500"/>
              </a:spcAft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Tahoma"/>
              </a:rPr>
              <a:t>22./23.11.2010</a:t>
            </a:r>
            <a:r>
              <a:rPr b="0" lang="en-GB" sz="2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Tahoma"/>
              </a:rPr>
              <a:t>Brussels workshop </a:t>
            </a: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3837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812880" y="673200"/>
            <a:ext cx="5892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33"/>
                </a:solidFill>
                <a:latin typeface="Arial"/>
                <a:ea typeface="Arial"/>
              </a:rPr>
              <a:t>1.3) Meetings since June GRPE 2010</a:t>
            </a:r>
            <a:r>
              <a:rPr b="1" lang="en-GB" sz="2800" spc="-1" strike="noStrike">
                <a:solidFill>
                  <a:srgbClr val="333333"/>
                </a:solidFill>
                <a:latin typeface="Arial"/>
                <a:ea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liennummernplatzhalter 3"/>
          <p:cNvSpPr/>
          <p:nvPr/>
        </p:nvSpPr>
        <p:spPr>
          <a:xfrm>
            <a:off x="7418520" y="6257880"/>
            <a:ext cx="1600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8080"/>
                </a:solidFill>
                <a:latin typeface="Tahoma"/>
              </a:rPr>
              <a:t>slide </a:t>
            </a:r>
            <a:fld id="{936C9B03-4221-4C62-B66F-DCCCF2367475}" type="slidenum">
              <a:rPr b="0" lang="de-DE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863640" y="1650960"/>
            <a:ext cx="782964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raft gtr prepare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gress report of Vienna WLTP DTP meeting and minutes include the agreed points [</a:t>
            </a:r>
            <a:r>
              <a:rPr b="0" lang="de-DE" sz="20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WLTP-DTP-LabProcICE-025-Minutes of meeting Vienna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WLTP-DTP-LabProcICE-030-Minutes of meeting Brussels 22./23.11.20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]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ork in progress including feedback from the last meetings in Vienna and Brussels and open issues (technically and political) are shown in the next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en issues requires higher lever discussion and decisio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812880" y="673200"/>
            <a:ext cx="7962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  <a:ea typeface="Arial"/>
              </a:rPr>
              <a:t>1.4) Work in progres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liennummernplatzhalter 3"/>
          <p:cNvSpPr/>
          <p:nvPr/>
        </p:nvSpPr>
        <p:spPr>
          <a:xfrm>
            <a:off x="7418520" y="6257880"/>
            <a:ext cx="1600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8080"/>
                </a:solidFill>
                <a:latin typeface="Arial"/>
                <a:ea typeface="Arial"/>
              </a:rPr>
              <a:t>slide </a:t>
            </a:r>
            <a:fld id="{A0FC25EF-6839-4663-A816-18C68D4EAE59}" type="slidenum">
              <a:rPr b="0" lang="de-DE" sz="1400" spc="-1" strike="noStrike">
                <a:solidFill>
                  <a:srgbClr val="80808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863640" y="1650960"/>
            <a:ext cx="782964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  <a:ea typeface="Arial"/>
              </a:rPr>
              <a:t>The need for safe and proper operation of the car on the dyno was confirmed.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  <a:ea typeface="Arial"/>
              </a:rPr>
              <a:t>Dyno mode, if any, shall be activated by using a manufacturer's instruction (e.g. using vehicle steering buttons in a special "pressing order", by using the manufacturer work shop tester).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  <a:ea typeface="Arial"/>
              </a:rPr>
              <a:t>Activation or not of the dyno mode shall be recorded in the test report.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  <a:ea typeface="Arial"/>
              </a:rPr>
              <a:t>"Dyno mode" shall not activate, modulate, delay or deactivate the operation of any part, that affects the emissions and fuel consumption under the test conditions.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  <a:ea typeface="Arial"/>
              </a:rPr>
              <a:t>Next Steps: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  <a:ea typeface="Arial"/>
              </a:rPr>
              <a:t>Rename “dyno-mode” to avoid any confusion.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  <a:ea typeface="Arial"/>
              </a:rPr>
              <a:t>Improvements of the gtr text are needed to ensure transparency of the mode (no cycle beating, application in ISC programs, use only if needed)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  <a:ea typeface="Arial"/>
              </a:rPr>
              <a:t>– 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777960" y="720720"/>
            <a:ext cx="7962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33"/>
                </a:solidFill>
                <a:latin typeface="Arial"/>
                <a:ea typeface="Arial"/>
              </a:rPr>
              <a:t>1.4) Work in Progress 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  <a:ea typeface="Arial"/>
              </a:rPr>
              <a:t>– ”Vehicle Dyno Mode“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liennummernplatzhalter 3"/>
          <p:cNvSpPr/>
          <p:nvPr/>
        </p:nvSpPr>
        <p:spPr>
          <a:xfrm>
            <a:off x="7418520" y="6257880"/>
            <a:ext cx="1600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8080"/>
                </a:solidFill>
                <a:latin typeface="Tahoma"/>
              </a:rPr>
              <a:t>slide </a:t>
            </a:r>
            <a:fld id="{ADDCC323-9DC3-408E-8AFB-7C20071A4A40}" type="slidenum">
              <a:rPr b="0" lang="de-DE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863640" y="1650960"/>
            <a:ext cx="7829640" cy="4103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  <a:ea typeface="Arial"/>
              </a:rPr>
              <a:t>Ongoing discussion of the specification of the cooling fan in ECE R83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  <a:ea typeface="Arial"/>
              </a:rPr>
              <a:t>LabProc ICE will wait for the results of the GRPE discussion and decision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99"/>
                </a:solidFill>
                <a:latin typeface="Arial"/>
                <a:ea typeface="Arial"/>
              </a:rPr>
              <a:t>ECE/TRANS/WP29/GRPE/2011/5</a:t>
            </a:r>
            <a:br>
              <a:rPr sz="2000"/>
            </a:br>
            <a:r>
              <a:rPr b="0" lang="de-DE" sz="20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http://www.unece.org/trans/doc/2011/wp29grpe/ECE-TRANS-WP29-GRPE-2011-05e.pdf</a:t>
            </a:r>
            <a:r>
              <a:rPr b="0" lang="de-DE" sz="20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99"/>
                </a:solidFill>
                <a:latin typeface="Arial"/>
                <a:ea typeface="Arial"/>
              </a:rPr>
              <a:t>ECE/TRANS/WP29/GRPE/2011/6</a:t>
            </a:r>
            <a:br>
              <a:rPr sz="2000"/>
            </a:br>
            <a:r>
              <a:rPr b="0" lang="de-DE" sz="20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http://www.unece.org/trans/doc/2011/wp29grpe/ECE-TRANS-WP29-GRPE-2011-06e.pd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812880" y="673200"/>
            <a:ext cx="7962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33"/>
                </a:solidFill>
                <a:latin typeface="Arial"/>
                <a:ea typeface="Arial"/>
              </a:rPr>
              <a:t>1.4) Work in Progress 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  <a:ea typeface="Arial"/>
              </a:rPr>
              <a:t>– ”Cooling Fan”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liennummernplatzhalter 3"/>
          <p:cNvSpPr/>
          <p:nvPr/>
        </p:nvSpPr>
        <p:spPr>
          <a:xfrm>
            <a:off x="7418520" y="6257880"/>
            <a:ext cx="1600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8080"/>
                </a:solidFill>
                <a:latin typeface="Tahoma"/>
              </a:rPr>
              <a:t>slide </a:t>
            </a:r>
            <a:fld id="{E9393047-F776-4746-BA31-ADD3DF8B7609}" type="slidenum">
              <a:rPr b="0" lang="de-DE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800280" y="1752480"/>
            <a:ext cx="8343720" cy="42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  <a:ea typeface="Arial"/>
              </a:rPr>
              <a:t>How to test a multimode gearbox if no “default mode on” is present?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  <a:ea typeface="Arial"/>
              </a:rPr>
              <a:t>Common understanding: Compliance of emissions standards in all modes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  <a:ea typeface="Arial"/>
              </a:rPr>
              <a:t>CO2 / FE testing proposal: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  <a:ea typeface="Arial"/>
              </a:rPr>
              <a:t>No switch / mode: nothing to choose =&gt; standard test procedure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  <a:ea typeface="Arial"/>
              </a:rPr>
              <a:t>Default mode on – use standard test procedure in the default mode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  <a:ea typeface="Arial"/>
              </a:rPr>
              <a:t>Last mode on – use of standard test procedure in the best and worst case mode, the CO2 / FE result is the average of both modes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Tahoma"/>
              </a:rPr>
              <a:t>Next Steps:</a:t>
            </a:r>
            <a:r>
              <a:rPr b="1" lang="en-GB" sz="1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99"/>
                </a:solidFill>
                <a:latin typeface="Tahoma"/>
              </a:rPr>
              <a:t>Further discussion in the LabProcICE subgroup meetings in close connection with the LabProcEV subgroup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400"/>
              </a:spcBef>
              <a:spcAft>
                <a:spcPts val="2001"/>
              </a:spcAft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spcAft>
                <a:spcPts val="1599"/>
              </a:spcAft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812880" y="673200"/>
            <a:ext cx="7962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33"/>
                </a:solidFill>
                <a:latin typeface="Arial"/>
                <a:ea typeface="Arial"/>
              </a:rPr>
              <a:t>1.4) Work in Progress 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  <a:ea typeface="Arial"/>
              </a:rPr>
              <a:t>– ”Multimode gearbox / mode switch”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1T19:58:14Z</dcterms:created>
  <dc:creator>Stephan Redmann</dc:creator>
  <dc:description/>
  <dc:language>en-US</dc:language>
  <cp:lastModifiedBy>Romain HUBERT</cp:lastModifiedBy>
  <dcterms:modified xsi:type="dcterms:W3CDTF">2011-01-12T17:41:59Z</dcterms:modified>
  <cp:revision>264</cp:revision>
  <dc:subject/>
  <dc:title>Slide 1</dc:title>
</cp:coreProperties>
</file>