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7C40A-9B8B-4667-AFEA-C6778856AB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76480"/>
            <a:ext cx="822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25890-88B0-44E8-A618-81A2ED5904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7648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7648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2A92C-5B9C-488D-BA80-0FB05682E6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98064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98064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7648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7648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7648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3A1D1-309C-461B-A6C2-49909B026D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0B3D9-54F6-46C0-9DD3-B6B2A237A4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97B3B-5039-4561-97FF-AA440208D2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E108A-3E22-47A1-B33B-7485052613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3589F-C11E-433C-B9E4-8F89092FC5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8720" y="19080"/>
            <a:ext cx="91249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69540-4D2E-486E-8EAF-68C8D53FDC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7648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2F866-F1C5-4E85-8847-7993A1BBEC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7648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583A8-719D-445C-9930-78F0CF9F10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76480"/>
            <a:ext cx="822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A1528-3A18-4379-804A-EC542BA8E2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3240" y="6670800"/>
            <a:ext cx="9144000" cy="71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533520"/>
            <a:ext cx="914400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610480" y="6635520"/>
            <a:ext cx="533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AFCDE-E5AF-4697-8808-64E818C90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6588000" y="0"/>
            <a:ext cx="25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LTP-DHC-10-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スライド番号プレースホルダ 1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F3DD7-7A8C-4E6A-9749-70D1C8CB0A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2"/>
          <p:cNvSpPr/>
          <p:nvPr/>
        </p:nvSpPr>
        <p:spPr>
          <a:xfrm>
            <a:off x="19080" y="19080"/>
            <a:ext cx="912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228600" y="855720"/>
            <a:ext cx="8693280" cy="393228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16"/>
          <p:cNvSpPr/>
          <p:nvPr/>
        </p:nvSpPr>
        <p:spPr>
          <a:xfrm>
            <a:off x="546120" y="1643040"/>
            <a:ext cx="819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DH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134"/>
          <p:cNvSpPr/>
          <p:nvPr/>
        </p:nvSpPr>
        <p:spPr>
          <a:xfrm>
            <a:off x="7848720" y="1295280"/>
            <a:ext cx="304560" cy="289080"/>
          </a:xfrm>
          <a:custGeom>
            <a:avLst/>
            <a:gdLst>
              <a:gd name="textAreaLeft" fmla="*/ 93960 w 304560"/>
              <a:gd name="textAreaRight" fmla="*/ 210600 w 304560"/>
              <a:gd name="textAreaTop" fmla="*/ 110520 h 289080"/>
              <a:gd name="textAreaBottom" fmla="*/ 221040 h 289080"/>
            </a:gdLst>
            <a:ahLst/>
            <a:rect l="textAreaLeft" t="textAreaTop" r="textAreaRight" b="textAreaBottom"/>
            <a:pathLst>
              <a:path w="304800" h="288925">
                <a:moveTo>
                  <a:pt x="0" y="110359"/>
                </a:moveTo>
                <a:lnTo>
                  <a:pt x="116424" y="110360"/>
                </a:lnTo>
                <a:lnTo>
                  <a:pt x="152400" y="0"/>
                </a:lnTo>
                <a:lnTo>
                  <a:pt x="188376" y="110360"/>
                </a:lnTo>
                <a:lnTo>
                  <a:pt x="304800" y="110359"/>
                </a:lnTo>
                <a:lnTo>
                  <a:pt x="210611" y="178565"/>
                </a:lnTo>
                <a:lnTo>
                  <a:pt x="246588" y="288924"/>
                </a:lnTo>
                <a:lnTo>
                  <a:pt x="152400" y="220718"/>
                </a:lnTo>
                <a:lnTo>
                  <a:pt x="58212" y="288924"/>
                </a:lnTo>
                <a:lnTo>
                  <a:pt x="94189" y="178565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35"/>
          <p:cNvSpPr/>
          <p:nvPr/>
        </p:nvSpPr>
        <p:spPr>
          <a:xfrm>
            <a:off x="7550280" y="1752480"/>
            <a:ext cx="91548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DH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3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GR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36"/>
          <p:cNvSpPr/>
          <p:nvPr/>
        </p:nvSpPr>
        <p:spPr>
          <a:xfrm>
            <a:off x="927000" y="1338120"/>
            <a:ext cx="304920" cy="289080"/>
          </a:xfrm>
          <a:custGeom>
            <a:avLst/>
            <a:gdLst>
              <a:gd name="textAreaLeft" fmla="*/ 94320 w 304920"/>
              <a:gd name="textAreaRight" fmla="*/ 210600 w 304920"/>
              <a:gd name="textAreaTop" fmla="*/ 110520 h 289080"/>
              <a:gd name="textAreaBottom" fmla="*/ 221040 h 289080"/>
            </a:gdLst>
            <a:ahLst/>
            <a:rect l="textAreaLeft" t="textAreaTop" r="textAreaRight" b="textAreaBottom"/>
            <a:pathLst>
              <a:path w="304800" h="288925">
                <a:moveTo>
                  <a:pt x="0" y="110359"/>
                </a:moveTo>
                <a:lnTo>
                  <a:pt x="116424" y="110360"/>
                </a:lnTo>
                <a:lnTo>
                  <a:pt x="152400" y="0"/>
                </a:lnTo>
                <a:lnTo>
                  <a:pt x="188376" y="110360"/>
                </a:lnTo>
                <a:lnTo>
                  <a:pt x="304800" y="110359"/>
                </a:lnTo>
                <a:lnTo>
                  <a:pt x="210611" y="178565"/>
                </a:lnTo>
                <a:lnTo>
                  <a:pt x="246588" y="288924"/>
                </a:lnTo>
                <a:lnTo>
                  <a:pt x="152400" y="220718"/>
                </a:lnTo>
                <a:lnTo>
                  <a:pt x="58212" y="288924"/>
                </a:lnTo>
                <a:lnTo>
                  <a:pt x="94189" y="17856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7"/>
          <p:cNvSpPr/>
          <p:nvPr/>
        </p:nvSpPr>
        <p:spPr>
          <a:xfrm>
            <a:off x="380880" y="1905120"/>
            <a:ext cx="1828800" cy="59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eport of Validation 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evelopment of revised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oadma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6"/>
          <p:cNvSpPr/>
          <p:nvPr/>
        </p:nvSpPr>
        <p:spPr>
          <a:xfrm>
            <a:off x="2286000" y="1600200"/>
            <a:ext cx="14479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Nov.,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lephone con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37"/>
          <p:cNvSpPr/>
          <p:nvPr/>
        </p:nvSpPr>
        <p:spPr>
          <a:xfrm>
            <a:off x="7238880" y="2209680"/>
            <a:ext cx="1524240" cy="42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resentation of DHC current statu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39"/>
          <p:cNvSpPr/>
          <p:nvPr/>
        </p:nvSpPr>
        <p:spPr>
          <a:xfrm>
            <a:off x="1066680" y="3505320"/>
            <a:ext cx="1295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0"/>
          <p:cNvSpPr/>
          <p:nvPr/>
        </p:nvSpPr>
        <p:spPr>
          <a:xfrm>
            <a:off x="917280" y="2590920"/>
            <a:ext cx="349920" cy="337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テキスト ボックス 51"/>
          <p:cNvSpPr/>
          <p:nvPr/>
        </p:nvSpPr>
        <p:spPr>
          <a:xfrm>
            <a:off x="304920" y="4572000"/>
            <a:ext cx="8610480" cy="201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HC developing revised roadm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U data analysis, communicating to WLTP (DHC) with EU position of the problems of representativeness solution (EU propos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vember, Telephone conference. (hosted by E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P discussion on EU data analysis and propos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December, Telephone conference. (hosted by E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idation tes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paration of validation tes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idation tes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40"/>
          <p:cNvSpPr/>
          <p:nvPr/>
        </p:nvSpPr>
        <p:spPr>
          <a:xfrm>
            <a:off x="1461600" y="3048120"/>
            <a:ext cx="349920" cy="337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39"/>
          <p:cNvSpPr/>
          <p:nvPr/>
        </p:nvSpPr>
        <p:spPr>
          <a:xfrm>
            <a:off x="2666880" y="3733920"/>
            <a:ext cx="22100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40"/>
          <p:cNvSpPr/>
          <p:nvPr/>
        </p:nvSpPr>
        <p:spPr>
          <a:xfrm>
            <a:off x="3431880" y="3276720"/>
            <a:ext cx="349920" cy="337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39"/>
          <p:cNvSpPr/>
          <p:nvPr/>
        </p:nvSpPr>
        <p:spPr>
          <a:xfrm>
            <a:off x="1219320" y="4267080"/>
            <a:ext cx="6781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39"/>
          <p:cNvSpPr/>
          <p:nvPr/>
        </p:nvSpPr>
        <p:spPr>
          <a:xfrm>
            <a:off x="8153280" y="449568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39"/>
          <p:cNvSpPr/>
          <p:nvPr/>
        </p:nvSpPr>
        <p:spPr>
          <a:xfrm>
            <a:off x="914400" y="30052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ひし形 61"/>
          <p:cNvSpPr/>
          <p:nvPr/>
        </p:nvSpPr>
        <p:spPr>
          <a:xfrm>
            <a:off x="2514600" y="1371600"/>
            <a:ext cx="228600" cy="228600"/>
          </a:xfrm>
          <a:prstGeom prst="diamond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39"/>
          <p:cNvSpPr/>
          <p:nvPr/>
        </p:nvSpPr>
        <p:spPr>
          <a:xfrm>
            <a:off x="7010280" y="365760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37"/>
          <p:cNvSpPr/>
          <p:nvPr/>
        </p:nvSpPr>
        <p:spPr>
          <a:xfrm>
            <a:off x="2286000" y="2057400"/>
            <a:ext cx="2209680" cy="93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eport of  EU data analys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scussion on proposed  revised WLTC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scussion on low power vehicles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ひし形 27"/>
          <p:cNvSpPr/>
          <p:nvPr/>
        </p:nvSpPr>
        <p:spPr>
          <a:xfrm>
            <a:off x="5181480" y="1371600"/>
            <a:ext cx="228600" cy="228600"/>
          </a:xfrm>
          <a:prstGeom prst="diamond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37"/>
          <p:cNvSpPr/>
          <p:nvPr/>
        </p:nvSpPr>
        <p:spPr>
          <a:xfrm>
            <a:off x="4952880" y="2133720"/>
            <a:ext cx="2133720" cy="42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greement of 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evised WLTC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16"/>
          <p:cNvSpPr/>
          <p:nvPr/>
        </p:nvSpPr>
        <p:spPr>
          <a:xfrm>
            <a:off x="4952880" y="1676520"/>
            <a:ext cx="14479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Dec.,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lephone con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40"/>
          <p:cNvSpPr/>
          <p:nvPr/>
        </p:nvSpPr>
        <p:spPr>
          <a:xfrm>
            <a:off x="2898360" y="1295280"/>
            <a:ext cx="349920" cy="337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40"/>
          <p:cNvSpPr/>
          <p:nvPr/>
        </p:nvSpPr>
        <p:spPr>
          <a:xfrm>
            <a:off x="5489280" y="1295280"/>
            <a:ext cx="349920" cy="337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40"/>
          <p:cNvSpPr/>
          <p:nvPr/>
        </p:nvSpPr>
        <p:spPr>
          <a:xfrm>
            <a:off x="7698960" y="3200400"/>
            <a:ext cx="349920" cy="337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40"/>
          <p:cNvSpPr/>
          <p:nvPr/>
        </p:nvSpPr>
        <p:spPr>
          <a:xfrm>
            <a:off x="4422240" y="3886200"/>
            <a:ext cx="349920" cy="337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40"/>
          <p:cNvSpPr/>
          <p:nvPr/>
        </p:nvSpPr>
        <p:spPr>
          <a:xfrm>
            <a:off x="8384760" y="4038480"/>
            <a:ext cx="349920" cy="337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shii</dc:creator>
  <dc:description/>
  <dc:language>en-US</dc:language>
  <cp:lastModifiedBy>ishii</cp:lastModifiedBy>
  <dcterms:modified xsi:type="dcterms:W3CDTF">2011-10-14T09:07:32Z</dcterms:modified>
  <cp:revision>15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