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5780-ADBA-451B-898A-C39E53A08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58D7-D088-46BE-A99B-D0DE4A9DD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0D76-B5A0-40DD-B535-DD2C0D6FF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CC41-CE45-4A93-8D3B-EE781EC9C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42F5-E5C8-4743-BD1B-F7F661D7C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6B6F-888F-483E-9449-B17BF1A5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C4E8-126C-4F06-81A1-297790F36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1415-A01D-4839-9DA8-E14C2916C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EEE1-BA03-4110-9455-F996EF5B7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DAB1-253E-4FBF-85A4-7A36D88AB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100B-A7A3-4245-BD91-28CAEC942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7C32-0DAC-474B-BFF1-28612BC33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F8A-8E43-4016-A794-496060CE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108000" y="6192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for Roadmap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24000" y="981000"/>
            <a:ext cx="842472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as proposed by EU to postpone the validation 2 test program due to further analysis on WLTC ver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are the possible conditions to take into account of EU proposal by keeping the current dead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e the timeframe between preparation and test execution for confirmation test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fection of Round-Robin test results to gtr can be done later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ossibility to hold the interim GRPE meeting between 6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RPE and 16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P.29twe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3175" t="17557" r="4183" b="15736"/>
          <a:stretch/>
        </p:blipFill>
        <p:spPr>
          <a:xfrm>
            <a:off x="0" y="1052640"/>
            <a:ext cx="9144000" cy="493848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>
            <a:off x="1700280" y="6165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700280" y="6432480"/>
            <a:ext cx="100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724840" y="5989680"/>
            <a:ext cx="63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roadmap described in ECE-TRANS-WP29-2009-x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revision of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879" t="19900" r="14567" b="10720"/>
          <a:stretch/>
        </p:blipFill>
        <p:spPr>
          <a:xfrm>
            <a:off x="171360" y="793800"/>
            <a:ext cx="8748720" cy="551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2735" t="19270" r="19761" b="10484"/>
          <a:stretch/>
        </p:blipFill>
        <p:spPr>
          <a:xfrm>
            <a:off x="307800" y="765000"/>
            <a:ext cx="8388360" cy="5702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7:10:01Z</dcterms:created>
  <dc:creator>トヨタ自動車株式会社</dc:creator>
  <dc:description/>
  <dc:language>en-US</dc:language>
  <cp:lastModifiedBy>ishii</cp:lastModifiedBy>
  <dcterms:modified xsi:type="dcterms:W3CDTF">2011-10-14T09:06:35Z</dcterms:modified>
  <cp:revision>13</cp:revision>
  <dc:subject/>
  <dc:title>スライド 1</dc:title>
</cp:coreProperties>
</file>