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FE6E-0204-46F2-9B0E-BE5970FD2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12B0-44AC-4A13-A014-51876B3EB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B355-BEF1-452B-88F4-2CC61F584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06B6-C2B1-4EB2-8045-0FF59005C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7F91-50E5-420E-BB0B-56BFA3154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2190-6B0F-4326-8B24-204A14350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E449-8CA9-412E-A974-D50150B5B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71C5-2408-4BAD-8010-7F536DDB6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5BD5-85DE-4485-8695-3C8A82827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30D8-7F98-422C-82C4-49D21A07F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1BAA-CE87-424E-BB45-798FE2497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0C6B-E65E-41F4-9F3E-371BB6DC5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F3C-2DC9-4C05-B244-43338FEEF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P-DHC-10-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108000" y="6192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for Roadmap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24000" y="981000"/>
            <a:ext cx="842472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as proposed by EU to postpone the validation 2 test program due to further analysis on WLTC ver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are the possible conditions to take into account of EU proposal by keeping the current dead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e the timeframe between preparation and test execution for confirmation test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fection of Round-Robin test results to gtr can be done later s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possibility to hold the interim GRPE meeting between 6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RPE and 16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P.29twe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04400" y="619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.) Roadmap Revision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rcRect l="3175" t="17557" r="4183" b="15736"/>
          <a:stretch/>
        </p:blipFill>
        <p:spPr>
          <a:xfrm>
            <a:off x="0" y="1052640"/>
            <a:ext cx="9144000" cy="4938480"/>
          </a:xfrm>
          <a:prstGeom prst="rect">
            <a:avLst/>
          </a:prstGeom>
          <a:ln w="0">
            <a:noFill/>
          </a:ln>
        </p:spPr>
      </p:pic>
      <p:sp>
        <p:nvSpPr>
          <p:cNvPr id="44" name="Line 6"/>
          <p:cNvSpPr/>
          <p:nvPr/>
        </p:nvSpPr>
        <p:spPr>
          <a:xfrm>
            <a:off x="1700280" y="61657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1700280" y="6432480"/>
            <a:ext cx="100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724840" y="5989680"/>
            <a:ext cx="63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roadmap described in ECE-TRANS-WP29-2009-x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revision of 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879" t="19900" r="14567" b="10720"/>
          <a:stretch/>
        </p:blipFill>
        <p:spPr>
          <a:xfrm>
            <a:off x="171360" y="793800"/>
            <a:ext cx="8748720" cy="5514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04400" y="619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.) Roadmap Revis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2735" t="19270" r="19761" b="10484"/>
          <a:stretch/>
        </p:blipFill>
        <p:spPr>
          <a:xfrm>
            <a:off x="307800" y="765000"/>
            <a:ext cx="8388360" cy="5702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04400" y="619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.) Roadmap Revision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7:10:01Z</dcterms:created>
  <dc:creator>トヨタ自動車株式会社</dc:creator>
  <dc:description/>
  <dc:language>en-US</dc:language>
  <cp:lastModifiedBy>ishii</cp:lastModifiedBy>
  <dcterms:modified xsi:type="dcterms:W3CDTF">2011-10-14T09:06:35Z</dcterms:modified>
  <cp:revision>13</cp:revision>
  <dc:subject/>
  <dc:title>スライド 1</dc:title>
</cp:coreProperties>
</file>