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FF86-C3C6-45A7-AE0F-95FBB42EB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0037-FA91-4F2C-9E0A-28FC4A0DD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87D9-F381-4202-BDDA-1D95FFDE9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1C86-49D5-46CF-B46A-27A2F42862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4D61-A06C-4BBA-96D0-1835F8FDB3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96F1-377C-4567-A3EA-02CE39D81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00A8-13E8-4F85-9F11-A976BFFF8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9684-9F0B-472A-BAE6-3729E6EA2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BAE9-25CE-4C12-AB69-3D9EF02F0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A1C9-1480-4239-A86E-77D1236F4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303B-9ADD-44A4-972B-CB4454600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D803-5A86-4757-A831-E33CF1968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4442-CC4C-4992-8B48-C7F872B0A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TP-DHC-10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C91E-4F98-4D91-A806-C56BE5532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t factor to develop test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sub-group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Octo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ssels,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914400" y="37339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0F60-86B5-4A46-81F5-86A6F218C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48924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422280" y="1576440"/>
                <a:ext cx="76550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μr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μ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+</m:t>
                            </m:r>
                            <m:r>
                              <m:t xml:space="preserve">ΔW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r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μa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W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W</m:t>
                                    </m:r>
                                  </m:e>
                                </m:d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μr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μa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+</m:t>
                            </m:r>
                            <m:r>
                              <m:t xml:space="preserve">ΔW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" name="Text Box 4"/>
          <p:cNvSpPr/>
          <p:nvPr/>
        </p:nvSpPr>
        <p:spPr>
          <a:xfrm>
            <a:off x="3492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hen the road gradient is small, it is able to estimate cosθ≒1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nθ≒θ/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4920" y="76212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 general, there are relationship between Fuel consumption (L/km) and Driving energy (Wh/km=J/km). Driving energy can be calculated as follow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839880" y="5349960"/>
                <a:ext cx="49719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7"/>
          <p:cNvSpPr/>
          <p:nvPr/>
        </p:nvSpPr>
        <p:spPr>
          <a:xfrm>
            <a:off x="3852720" y="201132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*) Work [Nm=J]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* Dist.,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[J/s=W] = Work /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852720" y="242100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*) Driving energy [J/km]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. Work [Wh] / Dist. [k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295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peed and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124080" y="64008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peed*Acceleration and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H="1">
            <a:off x="2286000" y="6019920"/>
            <a:ext cx="763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3809880" y="6019920"/>
            <a:ext cx="1526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2057400" y="6019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352680" y="6019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FC5A-28CD-43A0-8D94-E482EBCBC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t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t factors are “speed”, “speed * acceleration” and “Time (frequency)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eans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speed-acceleration distribution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speed frequency distribution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HC method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-acceleration distribution (the least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frequenc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peed”, “acc./dec./cruise/idle ratio”,  RPA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387440" y="5619600"/>
            <a:ext cx="1374840" cy="116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911320" y="5692680"/>
            <a:ext cx="1649520" cy="108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4816440" y="5772240"/>
            <a:ext cx="3336840" cy="78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947C-2F71-41D1-BEA5-9E3ED5559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A (Dynamics) is one of important factor. However we should also consider other parameter / frequency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5F7B-A718-4F0D-B6C9-0B6FB0007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We can modify test cycle which have dynamics based on original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494080" y="2914560"/>
            <a:ext cx="4124160" cy="3486240"/>
          </a:xfrm>
          <a:prstGeom prst="rect">
            <a:avLst/>
          </a:prstGeom>
          <a:ln w="0">
            <a:noFill/>
          </a:ln>
        </p:spPr>
      </p:pic>
      <p:sp>
        <p:nvSpPr>
          <p:cNvPr id="73" name="Freeform 5"/>
          <p:cNvSpPr/>
          <p:nvPr/>
        </p:nvSpPr>
        <p:spPr>
          <a:xfrm>
            <a:off x="3657600" y="3753000"/>
            <a:ext cx="2106720" cy="642960"/>
          </a:xfrm>
          <a:custGeom>
            <a:avLst/>
            <a:gdLst>
              <a:gd name="textAreaLeft" fmla="*/ 0 w 2106720"/>
              <a:gd name="textAreaRight" fmla="*/ 2107080 w 210672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327" h="405">
                <a:moveTo>
                  <a:pt x="0" y="240"/>
                </a:moveTo>
                <a:cubicBezTo>
                  <a:pt x="60" y="164"/>
                  <a:pt x="120" y="88"/>
                  <a:pt x="192" y="48"/>
                </a:cubicBezTo>
                <a:cubicBezTo>
                  <a:pt x="264" y="8"/>
                  <a:pt x="352" y="0"/>
                  <a:pt x="432" y="0"/>
                </a:cubicBezTo>
                <a:cubicBezTo>
                  <a:pt x="512" y="0"/>
                  <a:pt x="572" y="5"/>
                  <a:pt x="672" y="48"/>
                </a:cubicBezTo>
                <a:cubicBezTo>
                  <a:pt x="772" y="91"/>
                  <a:pt x="926" y="200"/>
                  <a:pt x="1035" y="259"/>
                </a:cubicBezTo>
                <a:cubicBezTo>
                  <a:pt x="1144" y="318"/>
                  <a:pt x="1266" y="375"/>
                  <a:pt x="1327" y="40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029200" y="3462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 least XX%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65D6-C239-441B-99C8-116EE10FA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592200" y="1103400"/>
                <a:ext cx="40323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:Re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bi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C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862280"/>
                <a:ext cx="5226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:Re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sitiv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celeration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P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592200" y="2577960"/>
                <a:ext cx="4797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:Re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sitiv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radient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P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スライド番号プレースホルダ 2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C8AA-AE47-4C2C-A64A-A9539CAFD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"/>
          <p:cNvSpPr/>
          <p:nvPr/>
        </p:nvSpPr>
        <p:spPr>
          <a:xfrm>
            <a:off x="3121200" y="3027240"/>
            <a:ext cx="0" cy="719280"/>
          </a:xfrm>
          <a:prstGeom prst="line">
            <a:avLst/>
          </a:prstGeom>
          <a:ln w="19080">
            <a:solidFill>
              <a:srgbClr val="96969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2052720" y="43448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"/>
          <p:cNvSpPr/>
          <p:nvPr/>
        </p:nvSpPr>
        <p:spPr>
          <a:xfrm>
            <a:off x="2627280" y="2162160"/>
            <a:ext cx="3449520" cy="2365560"/>
          </a:xfrm>
          <a:custGeom>
            <a:avLst/>
            <a:gdLst>
              <a:gd name="textAreaLeft" fmla="*/ 0 w 3449520"/>
              <a:gd name="textAreaRight" fmla="*/ 3449880 w 3449520"/>
              <a:gd name="textAreaTop" fmla="*/ 0 h 2365560"/>
              <a:gd name="textAreaBottom" fmla="*/ 2365920 h 2365560"/>
            </a:gdLst>
            <a:ahLst/>
            <a:rect l="textAreaLeft" t="textAreaTop" r="textAreaRight" b="textAreaBottom"/>
            <a:pathLst>
              <a:path w="2173" h="1490">
                <a:moveTo>
                  <a:pt x="0" y="0"/>
                </a:moveTo>
                <a:cubicBezTo>
                  <a:pt x="55" y="134"/>
                  <a:pt x="210" y="593"/>
                  <a:pt x="340" y="803"/>
                </a:cubicBezTo>
                <a:cubicBezTo>
                  <a:pt x="470" y="1013"/>
                  <a:pt x="629" y="1149"/>
                  <a:pt x="780" y="1262"/>
                </a:cubicBezTo>
                <a:cubicBezTo>
                  <a:pt x="931" y="1375"/>
                  <a:pt x="1091" y="1478"/>
                  <a:pt x="1247" y="1484"/>
                </a:cubicBezTo>
                <a:cubicBezTo>
                  <a:pt x="1403" y="1490"/>
                  <a:pt x="1560" y="1418"/>
                  <a:pt x="1714" y="1295"/>
                </a:cubicBezTo>
                <a:cubicBezTo>
                  <a:pt x="1868" y="1172"/>
                  <a:pt x="2077" y="863"/>
                  <a:pt x="2173" y="749"/>
                </a:cubicBezTo>
              </a:path>
            </a:pathLst>
          </a:custGeom>
          <a:noFill/>
          <a:ln w="316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48924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Average speed an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2340000" y="137160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1763640" y="533232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3132000" y="5187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3851280" y="5187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4572000" y="5187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5292720" y="5187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6012000" y="5187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2771640" y="55483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3492360" y="55483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284720" y="55483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4932360" y="55483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5651640" y="55483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132000" y="5900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speed [km/h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971640" y="3027240"/>
            <a:ext cx="12967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/k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0"/>
          <p:cNvSpPr/>
          <p:nvPr/>
        </p:nvSpPr>
        <p:spPr>
          <a:xfrm>
            <a:off x="3024360" y="3352680"/>
            <a:ext cx="179280" cy="179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1"/>
          <p:cNvSpPr/>
          <p:nvPr/>
        </p:nvSpPr>
        <p:spPr>
          <a:xfrm>
            <a:off x="3768840" y="4119480"/>
            <a:ext cx="179280" cy="179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4336920" y="4378320"/>
            <a:ext cx="179640" cy="17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3"/>
          <p:cNvSpPr/>
          <p:nvPr/>
        </p:nvSpPr>
        <p:spPr>
          <a:xfrm>
            <a:off x="5364000" y="3990960"/>
            <a:ext cx="179640" cy="17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3546360" y="4251240"/>
            <a:ext cx="162000" cy="16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3973680" y="4240080"/>
            <a:ext cx="215640" cy="216000"/>
          </a:xfrm>
          <a:custGeom>
            <a:avLst/>
            <a:gdLst>
              <a:gd name="textAreaLeft" fmla="*/ 66600 w 215640"/>
              <a:gd name="textAreaRight" fmla="*/ 149040 w 215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6"/>
          <p:cNvSpPr/>
          <p:nvPr/>
        </p:nvSpPr>
        <p:spPr>
          <a:xfrm flipH="1">
            <a:off x="3924000" y="2955960"/>
            <a:ext cx="36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4211640" y="30988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LTC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8"/>
          <p:cNvSpPr/>
          <p:nvPr/>
        </p:nvSpPr>
        <p:spPr>
          <a:xfrm flipH="1">
            <a:off x="4140000" y="3532320"/>
            <a:ext cx="431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851280" y="25891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C 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3059280" y="19414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C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5003640" y="46767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C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6143760" y="38736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C Ex-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 flipH="1">
            <a:off x="3203280" y="2306520"/>
            <a:ext cx="360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H="1">
            <a:off x="5638320" y="4097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5"/>
          <p:cNvSpPr/>
          <p:nvPr/>
        </p:nvSpPr>
        <p:spPr>
          <a:xfrm flipH="1" flipV="1">
            <a:off x="4571640" y="46116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 flipV="1">
            <a:off x="3132000" y="439596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2554200" y="46054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4859280" y="1371600"/>
            <a:ext cx="40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 *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b * V + c *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9"/>
          <p:cNvSpPr/>
          <p:nvPr/>
        </p:nvSpPr>
        <p:spPr>
          <a:xfrm>
            <a:off x="1906560" y="3887640"/>
            <a:ext cx="2089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+/-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0"/>
          <p:cNvSpPr/>
          <p:nvPr/>
        </p:nvSpPr>
        <p:spPr>
          <a:xfrm>
            <a:off x="2465280" y="2424240"/>
            <a:ext cx="3727440" cy="2332080"/>
          </a:xfrm>
          <a:custGeom>
            <a:avLst/>
            <a:gdLst>
              <a:gd name="textAreaLeft" fmla="*/ 0 w 3727440"/>
              <a:gd name="textAreaRight" fmla="*/ 3727800 w 3727440"/>
              <a:gd name="textAreaTop" fmla="*/ 0 h 2332080"/>
              <a:gd name="textAreaBottom" fmla="*/ 2332440 h 2332080"/>
            </a:gdLst>
            <a:ahLst/>
            <a:rect l="textAreaLeft" t="textAreaTop" r="textAreaRight" b="textAreaBottom"/>
            <a:pathLst>
              <a:path w="2348" h="1469">
                <a:moveTo>
                  <a:pt x="0" y="0"/>
                </a:moveTo>
                <a:cubicBezTo>
                  <a:pt x="65" y="130"/>
                  <a:pt x="257" y="574"/>
                  <a:pt x="397" y="781"/>
                </a:cubicBezTo>
                <a:cubicBezTo>
                  <a:pt x="537" y="988"/>
                  <a:pt x="686" y="1127"/>
                  <a:pt x="837" y="1240"/>
                </a:cubicBezTo>
                <a:cubicBezTo>
                  <a:pt x="988" y="1353"/>
                  <a:pt x="1141" y="1455"/>
                  <a:pt x="1304" y="1462"/>
                </a:cubicBezTo>
                <a:cubicBezTo>
                  <a:pt x="1467" y="1469"/>
                  <a:pt x="1642" y="1400"/>
                  <a:pt x="1816" y="1284"/>
                </a:cubicBezTo>
                <a:cubicBezTo>
                  <a:pt x="1990" y="1168"/>
                  <a:pt x="2237" y="874"/>
                  <a:pt x="2348" y="766"/>
                </a:cubicBezTo>
              </a:path>
            </a:pathLst>
          </a:custGeom>
          <a:noFill/>
          <a:ln w="1908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1"/>
          <p:cNvSpPr/>
          <p:nvPr/>
        </p:nvSpPr>
        <p:spPr>
          <a:xfrm>
            <a:off x="2894040" y="2251080"/>
            <a:ext cx="3040200" cy="2050920"/>
          </a:xfrm>
          <a:custGeom>
            <a:avLst/>
            <a:gdLst>
              <a:gd name="textAreaLeft" fmla="*/ 0 w 3040200"/>
              <a:gd name="textAreaRight" fmla="*/ 3040560 w 3040200"/>
              <a:gd name="textAreaTop" fmla="*/ 0 h 2050920"/>
              <a:gd name="textAreaBottom" fmla="*/ 2051280 h 2050920"/>
            </a:gdLst>
            <a:ahLst/>
            <a:rect l="textAreaLeft" t="textAreaTop" r="textAreaRight" b="textAreaBottom"/>
            <a:pathLst>
              <a:path w="1915" h="1292">
                <a:moveTo>
                  <a:pt x="0" y="0"/>
                </a:moveTo>
                <a:cubicBezTo>
                  <a:pt x="41" y="100"/>
                  <a:pt x="151" y="429"/>
                  <a:pt x="248" y="591"/>
                </a:cubicBezTo>
                <a:cubicBezTo>
                  <a:pt x="345" y="753"/>
                  <a:pt x="460" y="856"/>
                  <a:pt x="583" y="970"/>
                </a:cubicBezTo>
                <a:cubicBezTo>
                  <a:pt x="706" y="1084"/>
                  <a:pt x="844" y="1254"/>
                  <a:pt x="989" y="1273"/>
                </a:cubicBezTo>
                <a:cubicBezTo>
                  <a:pt x="1134" y="1292"/>
                  <a:pt x="1302" y="1207"/>
                  <a:pt x="1456" y="1084"/>
                </a:cubicBezTo>
                <a:cubicBezTo>
                  <a:pt x="1610" y="961"/>
                  <a:pt x="1819" y="652"/>
                  <a:pt x="1915" y="538"/>
                </a:cubicBezTo>
              </a:path>
            </a:pathLst>
          </a:custGeom>
          <a:noFill/>
          <a:ln w="1908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6248520" y="2971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ve on transient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スライド番号プレースホルダ 2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D8B7-6F11-4DDC-9B1F-543025224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48924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 / Ho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411280" y="1582560"/>
            <a:ext cx="288144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971640" y="1582560"/>
            <a:ext cx="1439640" cy="719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411280" y="3741840"/>
            <a:ext cx="5040360" cy="718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971640" y="3741840"/>
            <a:ext cx="1439640" cy="718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971640" y="1143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197080" y="26622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989440" y="4888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 rot="5400000">
            <a:off x="4068000" y="1438920"/>
            <a:ext cx="215640" cy="6408720"/>
          </a:xfrm>
          <a:custGeom>
            <a:avLst/>
            <a:gdLst>
              <a:gd name="textAreaLeft" fmla="*/ 0 w 215640"/>
              <a:gd name="textAreaRight" fmla="*/ 77760 w 215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 rot="5400000">
            <a:off x="2987280" y="285480"/>
            <a:ext cx="289080" cy="4321080"/>
          </a:xfrm>
          <a:custGeom>
            <a:avLst/>
            <a:gdLst>
              <a:gd name="textAreaLeft" fmla="*/ 0 w 289080"/>
              <a:gd name="textAreaRight" fmla="*/ 104400 w 28908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042920" y="330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28600" y="5715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/Hot ratio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hii</dc:creator>
  <dc:description/>
  <dc:language>en-US</dc:language>
  <cp:lastModifiedBy>ishii</cp:lastModifiedBy>
  <dcterms:modified xsi:type="dcterms:W3CDTF">2011-10-14T09:05:45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