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wmf" ContentType="image/x-wmf"/>
  <Override PartName="/ppt/media/image4.jpeg" ContentType="image/jpeg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907588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2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9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2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9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92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99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92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99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44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30040"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2" name="Picture 111" descr="SlidesJRC_bannerLogoJRC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18" descr="Slide_template_IES_logo"/>
          <p:cNvPicPr/>
          <p:nvPr/>
        </p:nvPicPr>
        <p:blipFill>
          <a:blip r:embed="rId3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119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" name="Rectangle 120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21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russels, 22 September 2009 – 101st MVE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22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84E6744-FD5B-456C-BD46-F9FDFA5FB058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8" descr="SlidesJRC_bannerLogoJRC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4" descr=""/>
          <p:cNvPicPr/>
          <p:nvPr/>
        </p:nvPicPr>
        <p:blipFill>
          <a:blip r:embed="rId3"/>
          <a:stretch/>
        </p:blipFill>
        <p:spPr>
          <a:xfrm>
            <a:off x="7162920" y="4267080"/>
            <a:ext cx="1933560" cy="1957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0"/>
          <p:cNvSpPr/>
          <p:nvPr/>
        </p:nvSpPr>
        <p:spPr>
          <a:xfrm>
            <a:off x="838080" y="4876920"/>
            <a:ext cx="5715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Aft>
                <a:spcPts val="561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IES - Institute for Environment and Sustain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Transport and Air Quality U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4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Alessandro.Marotta@jrc.ec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2"/>
          <p:cNvSpPr/>
          <p:nvPr/>
        </p:nvSpPr>
        <p:spPr>
          <a:xfrm>
            <a:off x="609480" y="1600200"/>
            <a:ext cx="8534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WLTP - Development of the Harmonized driving Cyc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Proposed methodology for assessing the suitability of existing in-use driving data through comparison with newly collected dat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(Ref. WLTP-DHC-02-1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74" descr="Slide_template_IES_logo"/>
          <p:cNvPicPr/>
          <p:nvPr/>
        </p:nvPicPr>
        <p:blipFill>
          <a:blip r:embed="rId4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75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0" name="Rectangle 176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77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8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3EF62E2-BFA0-45BD-899C-35F3AF414964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44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30040"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59788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WLTP – DHC</a:t>
            </a: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73"/>
                </a:solidFill>
                <a:latin typeface="Arial"/>
                <a:ea typeface="ＭＳ Ｐゴシック"/>
              </a:rPr>
              <a:t>Results of Validation Phase 1 tests</a:t>
            </a: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73"/>
                </a:solidFill>
                <a:latin typeface="Arial"/>
                <a:ea typeface="ＭＳ Ｐゴシック"/>
              </a:rPr>
              <a:t>(drivability of the new test cycle)</a:t>
            </a: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277"/>
                </a:solidFill>
                <a:latin typeface="Comic Sans MS"/>
                <a:ea typeface="ＭＳ Ｐゴシック"/>
              </a:rPr>
              <a:t>Alessandro.Marotta@jrc.ec.europa.eu</a:t>
            </a:r>
            <a:endParaRPr b="1" lang="en-US" sz="14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277"/>
                </a:solidFill>
                <a:latin typeface="Comic Sans MS"/>
                <a:ea typeface="ＭＳ Ｐゴシック"/>
              </a:rPr>
              <a:t>Monica.Tutuianu@jrc.ec.europa.eu</a:t>
            </a:r>
            <a:endParaRPr b="1" lang="en-US" sz="14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2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Brussels, 11 October 2011 – DHC 10 meeting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7391520" y="1066680"/>
            <a:ext cx="2514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LTP-DHC-10-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Medium Speed Phase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7677360" cy="5572080"/>
          </a:xfrm>
          <a:prstGeom prst="rect">
            <a:avLst/>
          </a:prstGeom>
          <a:ln w="0">
            <a:noFill/>
          </a:ln>
        </p:spPr>
      </p:pic>
      <p:grpSp>
        <p:nvGrpSpPr>
          <p:cNvPr id="125" name="Oval 4"/>
          <p:cNvGrpSpPr/>
          <p:nvPr/>
        </p:nvGrpSpPr>
        <p:grpSpPr>
          <a:xfrm>
            <a:off x="2620800" y="5059440"/>
            <a:ext cx="1013040" cy="1012680"/>
            <a:chOff x="2620800" y="5059440"/>
            <a:chExt cx="1013040" cy="1012680"/>
          </a:xfrm>
        </p:grpSpPr>
        <p:pic>
          <p:nvPicPr>
            <p:cNvPr id="126" name="Oval 4" descr=""/>
            <p:cNvPicPr/>
            <p:nvPr/>
          </p:nvPicPr>
          <p:blipFill>
            <a:blip r:embed="rId3"/>
            <a:stretch/>
          </p:blipFill>
          <p:spPr>
            <a:xfrm>
              <a:off x="2620800" y="5059440"/>
              <a:ext cx="101304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854440" y="52927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High Speed Phase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7743960" cy="5619600"/>
          </a:xfrm>
          <a:prstGeom prst="rect">
            <a:avLst/>
          </a:prstGeom>
          <a:ln w="0">
            <a:noFill/>
          </a:ln>
        </p:spPr>
      </p:pic>
      <p:grpSp>
        <p:nvGrpSpPr>
          <p:cNvPr id="131" name="Oval 4"/>
          <p:cNvGrpSpPr/>
          <p:nvPr/>
        </p:nvGrpSpPr>
        <p:grpSpPr>
          <a:xfrm>
            <a:off x="2011320" y="5138640"/>
            <a:ext cx="1013040" cy="1013040"/>
            <a:chOff x="2011320" y="5138640"/>
            <a:chExt cx="1013040" cy="1013040"/>
          </a:xfrm>
        </p:grpSpPr>
        <p:pic>
          <p:nvPicPr>
            <p:cNvPr id="132" name="Oval 4" descr=""/>
            <p:cNvPicPr/>
            <p:nvPr/>
          </p:nvPicPr>
          <p:blipFill>
            <a:blip r:embed="rId3"/>
            <a:stretch/>
          </p:blipFill>
          <p:spPr>
            <a:xfrm>
              <a:off x="2011320" y="5138640"/>
              <a:ext cx="10130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244600" y="5369040"/>
              <a:ext cx="5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Oval 5"/>
          <p:cNvGrpSpPr/>
          <p:nvPr/>
        </p:nvGrpSpPr>
        <p:grpSpPr>
          <a:xfrm>
            <a:off x="3309840" y="5138640"/>
            <a:ext cx="1013040" cy="1013040"/>
            <a:chOff x="3309840" y="5138640"/>
            <a:chExt cx="1013040" cy="1013040"/>
          </a:xfrm>
        </p:grpSpPr>
        <p:pic>
          <p:nvPicPr>
            <p:cNvPr id="135" name="Oval 5" descr=""/>
            <p:cNvPicPr/>
            <p:nvPr/>
          </p:nvPicPr>
          <p:blipFill>
            <a:blip r:embed="rId4"/>
            <a:stretch/>
          </p:blipFill>
          <p:spPr>
            <a:xfrm>
              <a:off x="3309840" y="5138640"/>
              <a:ext cx="10130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540240" y="536904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Extra-High Speed Phase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638840" cy="5553000"/>
          </a:xfrm>
          <a:prstGeom prst="rect">
            <a:avLst/>
          </a:prstGeom>
          <a:ln w="0">
            <a:noFill/>
          </a:ln>
        </p:spPr>
      </p:pic>
      <p:grpSp>
        <p:nvGrpSpPr>
          <p:cNvPr id="139" name="Oval 3"/>
          <p:cNvGrpSpPr/>
          <p:nvPr/>
        </p:nvGrpSpPr>
        <p:grpSpPr>
          <a:xfrm>
            <a:off x="2335320" y="1359000"/>
            <a:ext cx="1285920" cy="2506680"/>
            <a:chOff x="2335320" y="1359000"/>
            <a:chExt cx="1285920" cy="2506680"/>
          </a:xfrm>
        </p:grpSpPr>
        <p:pic>
          <p:nvPicPr>
            <p:cNvPr id="140" name="Oval 3" descr=""/>
            <p:cNvPicPr/>
            <p:nvPr/>
          </p:nvPicPr>
          <p:blipFill>
            <a:blip r:embed="rId2"/>
            <a:stretch/>
          </p:blipFill>
          <p:spPr>
            <a:xfrm>
              <a:off x="2335320" y="1359000"/>
              <a:ext cx="1285920" cy="25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1054800">
              <a:off x="2696760" y="1782720"/>
              <a:ext cx="56052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530280" y="1298520"/>
          <a:ext cx="8907480" cy="495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298520"/>
                    <a:ext cx="890748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440" y="1295280"/>
            <a:ext cx="859788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Tested Vehicles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066680"/>
          <a:ext cx="8049960" cy="4897440"/>
        </p:xfrm>
        <a:graphic>
          <a:graphicData uri="http://schemas.openxmlformats.org/drawingml/2006/table">
            <a:tbl>
              <a:tblPr/>
              <a:tblGrid>
                <a:gridCol w="2133360"/>
                <a:gridCol w="1447920"/>
                <a:gridCol w="1523880"/>
                <a:gridCol w="1447920"/>
                <a:gridCol w="1496880"/>
              </a:tblGrid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r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r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r 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r 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hicles categor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CV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PC/LCV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anufactur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or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i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itsubish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del 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ransi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ss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2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uel typ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es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es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etro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es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gine displacement [cm³]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19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6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47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ax. rated power [kW/mi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]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3/262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/42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2.5/412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/3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hicle test mass [kg]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8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88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ftertreatm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O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OC + SC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W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O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mission standar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uro 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uro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uro 5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uro 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ransmiss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M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M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M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Tests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371600" y="990720"/>
          <a:ext cx="7238880" cy="3382920"/>
        </p:xfrm>
        <a:graphic>
          <a:graphicData uri="http://schemas.openxmlformats.org/drawingml/2006/table">
            <a:tbl>
              <a:tblPr/>
              <a:tblGrid>
                <a:gridCol w="1738440"/>
                <a:gridCol w="1809720"/>
                <a:gridCol w="2058840"/>
                <a:gridCol w="1631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hic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ear Shift Strateg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hicle Condi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est Ser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ord Transi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iat 5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itsubishi L2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l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o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 2, 3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U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l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o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 2, 3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W Pass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ld - day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ld - day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ot - day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ot - day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 2;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 2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66680" y="4419720"/>
          <a:ext cx="7848720" cy="2384280"/>
        </p:xfrm>
        <a:graphic>
          <a:graphicData uri="http://schemas.openxmlformats.org/drawingml/2006/table">
            <a:tbl>
              <a:tblPr/>
              <a:tblGrid>
                <a:gridCol w="2262240"/>
                <a:gridCol w="1785960"/>
                <a:gridCol w="1900440"/>
                <a:gridCol w="190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AY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AY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AY 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AY 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73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hicle preparation and pre-test of WLTC with the 2 GS strategies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itioning and soak at 22 º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ECD co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LTC JP cold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LTC HS cold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LTC JP hot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LTC JP hot 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LTC HS hot 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LTC JP hot 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LTC HS hot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LTC HS hot 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Test Results – Mandatory Information - 1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9061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Test Results – Mandatory Information - 2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990612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Test Results – Voluntary Information - 1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39116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Test Results – Voluntary Information - 2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0" t="0" r="0" b="15394"/>
          <a:stretch/>
        </p:blipFill>
        <p:spPr>
          <a:xfrm>
            <a:off x="1295280" y="990720"/>
            <a:ext cx="6656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Vehicle Tolerance Calculations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2"/>
          <a:srcRect l="0" t="17500" r="10624" b="20157"/>
          <a:stretch/>
        </p:blipFill>
        <p:spPr>
          <a:xfrm>
            <a:off x="304920" y="1143000"/>
            <a:ext cx="9467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Low Speed Phase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86520" cy="5734080"/>
          </a:xfrm>
          <a:prstGeom prst="rect">
            <a:avLst/>
          </a:prstGeom>
          <a:ln w="0">
            <a:noFill/>
          </a:ln>
        </p:spPr>
      </p:pic>
      <p:grpSp>
        <p:nvGrpSpPr>
          <p:cNvPr id="116" name="Oval 4"/>
          <p:cNvGrpSpPr/>
          <p:nvPr/>
        </p:nvGrpSpPr>
        <p:grpSpPr>
          <a:xfrm>
            <a:off x="3535200" y="5059440"/>
            <a:ext cx="1013040" cy="1012680"/>
            <a:chOff x="3535200" y="5059440"/>
            <a:chExt cx="1013040" cy="1012680"/>
          </a:xfrm>
        </p:grpSpPr>
        <p:pic>
          <p:nvPicPr>
            <p:cNvPr id="117" name="Oval 4" descr=""/>
            <p:cNvPicPr/>
            <p:nvPr/>
          </p:nvPicPr>
          <p:blipFill>
            <a:blip r:embed="rId3"/>
            <a:stretch/>
          </p:blipFill>
          <p:spPr>
            <a:xfrm>
              <a:off x="3535200" y="5059440"/>
              <a:ext cx="101304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768840" y="52927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Oval 5"/>
          <p:cNvGrpSpPr/>
          <p:nvPr/>
        </p:nvGrpSpPr>
        <p:grpSpPr>
          <a:xfrm>
            <a:off x="7272360" y="5059440"/>
            <a:ext cx="1012680" cy="1012680"/>
            <a:chOff x="7272360" y="5059440"/>
            <a:chExt cx="1012680" cy="1012680"/>
          </a:xfrm>
        </p:grpSpPr>
        <p:pic>
          <p:nvPicPr>
            <p:cNvPr id="120" name="Oval 5" descr=""/>
            <p:cNvPicPr/>
            <p:nvPr/>
          </p:nvPicPr>
          <p:blipFill>
            <a:blip r:embed="rId4"/>
            <a:stretch/>
          </p:blipFill>
          <p:spPr>
            <a:xfrm>
              <a:off x="7272360" y="5059440"/>
              <a:ext cx="101268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502400" y="5292720"/>
              <a:ext cx="5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27:22Z</dcterms:created>
  <dc:creator>marotal</dc:creator>
  <dc:description>© European Communities, 2007</dc:description>
  <cp:keywords/>
  <dc:language>en-US</dc:language>
  <cp:lastModifiedBy>ishii</cp:lastModifiedBy>
  <cp:lastPrinted>2003-09-04T09:59:31Z</cp:lastPrinted>
  <dcterms:modified xsi:type="dcterms:W3CDTF">2011-10-14T09:02:53Z</dcterms:modified>
  <cp:revision>97</cp:revision>
  <dc:subject>JRC Corporate Image Toolkit (CIT)</dc:subject>
  <dc:title>Slide 1</dc:title>
</cp:coreProperties>
</file>