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8E96-E8F8-4E5D-9927-162E20F92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7B1E-7B5E-4417-A468-A5C0853EB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0360-C36B-464A-9025-E1FDD8B25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41DC-56BD-4D30-8861-50898A9DD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6BC6-3BC2-42EF-A08B-B45694C51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2C13-BBD1-4EA3-8355-306233042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2A36-B298-4613-93D0-C85BA5C07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FC51-E4CF-404A-BCD9-956C7DE34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B535-63E3-40CC-A4E8-B60CC26BC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FB35-7946-4768-AECE-06BEC29B6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17A5-F61F-4472-828E-9A6EA3BE6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F697-970A-497D-BB5F-566F919A0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3DDF-6919-4070-868D-8080BA62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 OCT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y on cycle modific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Reflect validation test 1 result 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F656-49D1-4B47-A97E-E2A861246D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38440" y="2590920"/>
            <a:ext cx="23623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1337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. replace short trips according to  JRC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07648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91640" y="2305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0292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EF50-5D0B-4238-9376-90C6A91C00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pic>
        <p:nvPicPr>
          <p:cNvPr id="191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14600" y="1828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428640" y="213372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581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695920" y="29718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8080" y="5578560"/>
            <a:ext cx="0" cy="44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62784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 become low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18288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267600" y="2209680"/>
            <a:ext cx="209520" cy="7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876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94360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52520" y="518148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28440" y="60958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56386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285640" y="54097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0928-E79C-4032-9784-EEF55736F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ectangle 5" descr=""/>
          <p:cNvPicPr/>
          <p:nvPr/>
        </p:nvPicPr>
        <p:blipFill>
          <a:blip r:embed="rId2"/>
          <a:stretch/>
        </p:blipFill>
        <p:spPr>
          <a:xfrm>
            <a:off x="162000" y="384804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19320" y="1905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4.15.1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761840" y="217188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2666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7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714640" y="24840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08764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8. replace accelera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6857640" y="18586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4038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9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9738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2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420228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743200" y="426708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90960" y="4476600"/>
            <a:ext cx="759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162920" y="5714640"/>
            <a:ext cx="5331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483084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1. smooth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543440" y="51055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5181480"/>
            <a:ext cx="0" cy="65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2286000"/>
            <a:ext cx="561960" cy="4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209680"/>
            <a:ext cx="152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1F34-B377-4466-AF18-6112551A2D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. VA distribution of WLTC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Rectangle 5" descr=""/>
          <p:cNvPicPr/>
          <p:nvPr/>
        </p:nvPicPr>
        <p:blipFill>
          <a:blip r:embed="rId1"/>
          <a:stretch/>
        </p:blipFill>
        <p:spPr>
          <a:xfrm>
            <a:off x="457200" y="105552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106-2BF4-4F06-A404-D9A702F794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5" descr=""/>
          <p:cNvPicPr/>
          <p:nvPr/>
        </p:nvPicPr>
        <p:blipFill>
          <a:blip r:embed="rId1"/>
          <a:stretch/>
        </p:blipFill>
        <p:spPr>
          <a:xfrm>
            <a:off x="457200" y="1055520"/>
            <a:ext cx="8229600" cy="5394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. VA distribution of WLTC v2 r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5105520"/>
            <a:ext cx="7429680" cy="685800"/>
          </a:xfrm>
          <a:prstGeom prst="rect">
            <a:avLst/>
          </a:prstGeom>
          <a:solidFill>
            <a:srgbClr val="99ccff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282200">
            <a:off x="2286000" y="1676160"/>
            <a:ext cx="6632640" cy="691920"/>
          </a:xfrm>
          <a:prstGeom prst="ellipse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3AE-E50A-4AE8-BD39-B4191579D8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5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49579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Influence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838080"/>
            <a:ext cx="600120" cy="502920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94360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IGH and Ex-high phase, When the cycle was modified, X2 value become smaller and then test cycle have more representa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57C5-8131-43A1-B1E2-D5CBEBBA73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Comparison of VA distribution – LOW &amp; 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6600" y="1362240"/>
            <a:ext cx="2922840" cy="2315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05280" y="13622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943600" y="13622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6600" y="4200480"/>
            <a:ext cx="2922840" cy="2316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005280" y="42004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943600" y="4200480"/>
            <a:ext cx="2922480" cy="2316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6320" y="1219320"/>
            <a:ext cx="88390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1219320"/>
            <a:ext cx="29718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Unified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3856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8380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 re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723960"/>
            <a:ext cx="883908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723960"/>
            <a:ext cx="29718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E2F2-DE96-4142-9CEB-FD3AC6256B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Comparison of VA distribution – HIGH &amp; Ex-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40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0528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943600" y="1482840"/>
            <a:ext cx="2922480" cy="2315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8400" y="41608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005280" y="4160880"/>
            <a:ext cx="2922480" cy="2316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5943600" y="4160880"/>
            <a:ext cx="2922480" cy="231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320" y="1219320"/>
            <a:ext cx="88390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1219320"/>
            <a:ext cx="29718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Unified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3856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8380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WLTC v2 re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723960"/>
            <a:ext cx="883908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723960"/>
            <a:ext cx="29718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77D6-4124-443B-B0D7-CFFD37BCD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1. Review acceleration for MIDD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Rectangle 5" descr=""/>
          <p:cNvPicPr/>
          <p:nvPr/>
        </p:nvPicPr>
        <p:blipFill>
          <a:blip r:embed="rId1"/>
          <a:stretch/>
        </p:blipFill>
        <p:spPr>
          <a:xfrm>
            <a:off x="15228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60720" y="2341440"/>
            <a:ext cx="1443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4840" y="15238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) 30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3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43360" y="7300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30~35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95360" y="2361960"/>
            <a:ext cx="22860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03640" y="2341440"/>
            <a:ext cx="1443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93800" y="152388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) 3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2819520"/>
            <a:ext cx="2133720" cy="18288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angle 5" descr=""/>
          <p:cNvPicPr/>
          <p:nvPr/>
        </p:nvPicPr>
        <p:blipFill>
          <a:blip r:embed="rId2"/>
          <a:stretch/>
        </p:blipFill>
        <p:spPr>
          <a:xfrm>
            <a:off x="4757760" y="981000"/>
            <a:ext cx="3819600" cy="269568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5" descr=""/>
          <p:cNvPicPr/>
          <p:nvPr/>
        </p:nvPicPr>
        <p:blipFill>
          <a:blip r:embed="rId3"/>
          <a:stretch/>
        </p:blipFill>
        <p:spPr>
          <a:xfrm>
            <a:off x="4757760" y="3828960"/>
            <a:ext cx="3819600" cy="26956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24480" y="14130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4.0 ~ 92.5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43657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8.1 ~ 94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10360" y="4324320"/>
            <a:ext cx="0" cy="125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10360" y="1488960"/>
            <a:ext cx="0" cy="12542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IDDLE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5105520"/>
            <a:ext cx="41911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acceleration in middle phase keep in 95parcentiles, it is not necessary to modify the acceleration parts in middle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76480" y="2133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35~4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16765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45720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953C-AB59-4690-8507-06232C825A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2. Review acceleration for HIGH phase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297320" cy="3403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Rectangle 5" descr=""/>
          <p:cNvPicPr/>
          <p:nvPr/>
        </p:nvPicPr>
        <p:blipFill>
          <a:blip r:embed="rId2"/>
          <a:stretch/>
        </p:blipFill>
        <p:spPr>
          <a:xfrm>
            <a:off x="5514840" y="533520"/>
            <a:ext cx="3195720" cy="6161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35 – 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40 – 4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45 – 5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 50 – 5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38920" y="83808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2.8 ~ 91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24800" y="879480"/>
            <a:ext cx="0" cy="8730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38920" y="235116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6.1 ~ 93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24800" y="228600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8640" y="3798720"/>
            <a:ext cx="18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9.5 ~ 95.1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4160" y="373392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67560" y="52182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4.2 ~ 92.2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5153040"/>
            <a:ext cx="0" cy="68580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844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50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256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462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7160" y="2336760"/>
            <a:ext cx="1155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8776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098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00160" y="2087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2 3 4 5 6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38920" y="1036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3892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8640" y="40384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7560" y="5486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401D-4299-4167-9EFA-23CBAFB9D9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Validation test 1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Modification p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points of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WLTC v2 re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 f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. Review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. Review de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. Review minimum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1759-B880-406F-B95F-DD77BC96B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5" descr=""/>
          <p:cNvPicPr/>
          <p:nvPr/>
        </p:nvPicPr>
        <p:blipFill>
          <a:blip r:embed="rId1"/>
          <a:stretch/>
        </p:blipFill>
        <p:spPr>
          <a:xfrm>
            <a:off x="5562720" y="1114560"/>
            <a:ext cx="3152520" cy="46767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3. Review acceleration for HIGH phase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5" descr=""/>
          <p:cNvPicPr/>
          <p:nvPr/>
        </p:nvPicPr>
        <p:blipFill>
          <a:blip r:embed="rId2"/>
          <a:stretch/>
        </p:blipFill>
        <p:spPr>
          <a:xfrm>
            <a:off x="152280" y="1701720"/>
            <a:ext cx="4297320" cy="3403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70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86640" y="15238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88.1 ~ 94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91240" y="1371600"/>
            <a:ext cx="0" cy="83808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4388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2.0 ~ 96.5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72160" y="2743200"/>
            <a:ext cx="0" cy="10191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62600" y="434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4.6 ~ 97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1880" y="419112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5108400"/>
            <a:ext cx="3962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IGH phase, acceleration exceed 95 percentiles in the range of 60 to 70 km/h, Therefore it is necessary to reduce accel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55 – 6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60 – 6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) 65 – 7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844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50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256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62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67160" y="2336760"/>
            <a:ext cx="11556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8776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09800" y="2336760"/>
            <a:ext cx="115920" cy="792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00160" y="2087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2 3 4 5 6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43880" y="3154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86640" y="1782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62600" y="4572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6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62600" y="483084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011A-0F22-409E-A344-E96EF0D33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5" descr=""/>
          <p:cNvPicPr/>
          <p:nvPr/>
        </p:nvPicPr>
        <p:blipFill>
          <a:blip r:embed="rId1"/>
          <a:stretch/>
        </p:blipFill>
        <p:spPr>
          <a:xfrm>
            <a:off x="5553000" y="571680"/>
            <a:ext cx="3167280" cy="61070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4. Review acceleration for Ex-HIGH phase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7621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90.0 ~ 95.1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62920" y="2392200"/>
            <a:ext cx="19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3 ~ 98.4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3840120"/>
            <a:ext cx="19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7.3 ~ 98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15040" y="5218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2 ~ 98.3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25 – 3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35 – 4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40 – 4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 50 – 5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666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62920" y="4054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115040" y="5486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995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o 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0" y="214164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0" y="3551400"/>
            <a:ext cx="15228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67560" y="49719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946920" y="274320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6870600" y="41911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718320" y="5562720"/>
            <a:ext cx="216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5.8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28954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6.2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15040" y="5715000"/>
            <a:ext cx="16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5.2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DB2B-4EB9-4395-9081-2DB53B715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5" descr=""/>
          <p:cNvPicPr/>
          <p:nvPr/>
        </p:nvPicPr>
        <p:blipFill>
          <a:blip r:embed="rId1"/>
          <a:stretch/>
        </p:blipFill>
        <p:spPr>
          <a:xfrm>
            <a:off x="5548320" y="571680"/>
            <a:ext cx="3166920" cy="61070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5. Review acceleration for Ex-HIGH phas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762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7.3 ~ 99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2392200"/>
            <a:ext cx="18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3 ~ 99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38401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5 ~ 99.8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521820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9.1 ~ 99.7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43880" y="50292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118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75 – 8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2575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80 – 8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4022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) 85 – 9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54705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)  90 – 9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362916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2644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0687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5467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34320" y="990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214164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86680" y="3551400"/>
            <a:ext cx="15228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86680" y="49719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73332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477120" y="144792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629040" y="274320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552720" y="41911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00440" y="55627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28954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6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16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3.1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12193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4.0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6CA7-195C-45A7-9642-9D9B5EB73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5" descr=""/>
          <p:cNvPicPr/>
          <p:nvPr/>
        </p:nvPicPr>
        <p:blipFill>
          <a:blip r:embed="rId1"/>
          <a:stretch/>
        </p:blipFill>
        <p:spPr>
          <a:xfrm>
            <a:off x="5548320" y="571680"/>
            <a:ext cx="3166920" cy="61070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.6. Review acceleration for Ex-HIGH phas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Rectangle 5" descr=""/>
          <p:cNvPicPr/>
          <p:nvPr/>
        </p:nvPicPr>
        <p:blipFill>
          <a:blip r:embed="rId2"/>
          <a:stretch/>
        </p:blipFill>
        <p:spPr>
          <a:xfrm>
            <a:off x="122400" y="1711440"/>
            <a:ext cx="4297320" cy="3403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3352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762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8.1 ~ 99.4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392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8.6 ~ 99.6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108400"/>
            <a:ext cx="39621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Ex-HIGH phase, acceleration exceed 95 percentiles in the rang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and 75 to 115 km/h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refore it is necessary to reduce accel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96880" y="1554120"/>
            <a:ext cx="23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15 km/h, 5km/h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1155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9) 95 – 10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2546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) 100 – 10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3790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1) 105 – 110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5181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2) 110 – 11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431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258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5724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273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526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04804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888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2396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67000" y="2124000"/>
            <a:ext cx="8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   2 3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400480" y="21337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5 6 7 8 9101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304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32280" y="2351160"/>
            <a:ext cx="10764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13380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35320" y="2351160"/>
            <a:ext cx="108000" cy="792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05720" y="38098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6.0 ~ 99.0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705720" y="52117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5.6 ~ 96.9 percen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2644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40766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5464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9907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ed to be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4960" y="2141640"/>
            <a:ext cx="15264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4960" y="3551400"/>
            <a:ext cx="152640" cy="125856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96040" y="722160"/>
            <a:ext cx="152280" cy="1258920"/>
          </a:xfrm>
          <a:prstGeom prst="rect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400440" y="144792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248520" y="2743200"/>
            <a:ext cx="304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248160" y="4191120"/>
            <a:ext cx="152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5715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= 2.3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5720" y="4267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4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28954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5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05720" y="1219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95% ≒ 2.8 km/h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664D-3D97-4986-9AD4-1C3F6EDA1D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1. Acceleration portion for Ex-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76280" y="981000"/>
            <a:ext cx="8153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95% of cumulative frequency in each speed range are as follow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486080" y="2362320"/>
          <a:ext cx="6172200" cy="1752480"/>
        </p:xfrm>
        <a:graphic>
          <a:graphicData uri="http://schemas.openxmlformats.org/drawingml/2006/table">
            <a:tbl>
              <a:tblPr/>
              <a:tblGrid>
                <a:gridCol w="2613960"/>
                <a:gridCol w="3558240"/>
              </a:tblGrid>
              <a:tr h="4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percent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– 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– 4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-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– 3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- 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– 2.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485640" y="4495680"/>
            <a:ext cx="8153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cceleration portion which meet the above criteria from in-us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shortest / highest acceleration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42D2-8BA3-40F2-B1A6-BD3BD75DDF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5" descr=""/>
          <p:cNvPicPr/>
          <p:nvPr/>
        </p:nvPicPr>
        <p:blipFill>
          <a:blip r:embed="rId1"/>
          <a:stretch/>
        </p:blipFill>
        <p:spPr>
          <a:xfrm>
            <a:off x="4680" y="2606760"/>
            <a:ext cx="4491000" cy="286056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5" descr=""/>
          <p:cNvPicPr/>
          <p:nvPr/>
        </p:nvPicPr>
        <p:blipFill>
          <a:blip r:embed="rId2"/>
          <a:stretch/>
        </p:blipFill>
        <p:spPr>
          <a:xfrm>
            <a:off x="4576680" y="2606760"/>
            <a:ext cx="4491000" cy="2860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.2. Ex-HIGH (65-13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1143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-130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までの区間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で到達する加速データを選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10240" y="3133800"/>
            <a:ext cx="533520" cy="25704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53120" y="3409920"/>
            <a:ext cx="68580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7360" y="3657600"/>
            <a:ext cx="685800" cy="25704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Time series 60 – 130 km/h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Speed vs. Accelera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1D00-BC92-442C-A73C-F326BA0F55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. maximum decel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056960"/>
            <a:ext cx="838188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ight duty truck and/or FR (front engine – rear drive) vehicle, maximum deceleration should be reviewed. Maximum deceleration of current test cycle for certification is as foll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838080" y="2971800"/>
          <a:ext cx="7467840" cy="140976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96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0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389 m/s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31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-1.475 m/s</a:t>
                      </a:r>
                      <a:r>
                        <a:rPr b="0" lang="ja-JP" sz="20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5 km/h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25 m/s</a:t>
                      </a:r>
                      <a:r>
                        <a:rPr b="0" lang="ja-JP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57200" y="5029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t's preferable to be the maximum deceleration of -5.31 km/h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6F30-4A89-4549-BFB9-61A95D3767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.4. Minimum speed of short trip (Vidle of 1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g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9680" y="1020600"/>
            <a:ext cx="8305560" cy="49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vehicle speed should be  6.2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5745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*) Vidle: Vehicle speed @ idling engin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95280" y="2009880"/>
          <a:ext cx="6477120" cy="3552840"/>
        </p:xfrm>
        <a:graphic>
          <a:graphicData uri="http://schemas.openxmlformats.org/drawingml/2006/table">
            <a:tbl>
              <a:tblPr/>
              <a:tblGrid>
                <a:gridCol w="2159280"/>
                <a:gridCol w="2158920"/>
                <a:gridCol w="2158920"/>
              </a:tblGrid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V</a:t>
                      </a:r>
                      <a:r>
                        <a:rPr b="0" lang="ja-JP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"/>
          <p:cNvSpPr/>
          <p:nvPr/>
        </p:nvSpPr>
        <p:spPr>
          <a:xfrm>
            <a:off x="1371600" y="60199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Calculated based on vehicle specification of submitted in-use driving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1706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nite: 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FF58-6762-41DE-801F-FABD812E63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5000" y="1906560"/>
            <a:ext cx="8856720" cy="457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Overview of Validation test 1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8800" y="251460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76640" y="267012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293364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4440" y="2362320"/>
            <a:ext cx="215640" cy="2156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5320" y="237492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3240" y="2286000"/>
            <a:ext cx="21564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56440" y="2467080"/>
            <a:ext cx="216000" cy="2156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76960" y="284148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81000" y="3457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57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7160" y="352440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8200" y="346716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79720" y="351468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13200" y="362916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72120" y="364824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46880" y="3629160"/>
            <a:ext cx="21564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34000" y="364824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505320"/>
            <a:ext cx="21600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51920" y="3610080"/>
            <a:ext cx="215640" cy="21564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86728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60520" y="5753160"/>
            <a:ext cx="21600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32120" y="5715000"/>
            <a:ext cx="216000" cy="30492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7480" y="5715000"/>
            <a:ext cx="152280" cy="36828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562720"/>
            <a:ext cx="21600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0400" y="57150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94440" y="5791320"/>
            <a:ext cx="21564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7816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736640"/>
            <a:ext cx="21600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27944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822240"/>
            <a:ext cx="216000" cy="21600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7621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n not follow the target speed during acceleration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2193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not trace the target speed during deceleration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16765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have adverse influence on drivability / reproduc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5486400"/>
            <a:ext cx="215640" cy="2160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4648320"/>
            <a:ext cx="216000" cy="21564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72560" y="3562200"/>
            <a:ext cx="21564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10400" y="3581280"/>
            <a:ext cx="216000" cy="216000"/>
          </a:xfrm>
          <a:prstGeom prst="ellipse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638680"/>
            <a:ext cx="152280" cy="457200"/>
          </a:xfrm>
          <a:prstGeom prst="ellipse">
            <a:avLst/>
          </a:prstGeom>
          <a:noFill/>
          <a:ln w="3168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C104-21B0-40CA-B14F-6A7D71434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Potential area need to be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5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229600" cy="5394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4924440"/>
            <a:ext cx="7429680" cy="866880"/>
          </a:xfrm>
          <a:prstGeom prst="rect">
            <a:avLst/>
          </a:prstGeom>
          <a:solidFill>
            <a:srgbClr val="99ccff">
              <a:alpha val="3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1722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re are possibility that some vehicles can not trace the target, due to tire lock, shortage of brake power of rear whe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7621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re are possibility that low/middle powered vehicles can not follow th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794400">
            <a:off x="2323800" y="1450440"/>
            <a:ext cx="6632640" cy="1595520"/>
          </a:xfrm>
          <a:prstGeom prst="ellipse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5AD7-B9EA-4CD1-BEF7-95755BC5D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Proposal for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5080" y="2971800"/>
            <a:ext cx="85680" cy="17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81320" y="2771640"/>
            <a:ext cx="193680" cy="27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782800"/>
            <a:ext cx="15264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4680" y="5772240"/>
            <a:ext cx="1218960" cy="533160"/>
          </a:xfrm>
          <a:prstGeom prst="ellipse">
            <a:avLst/>
          </a:prstGeom>
          <a:solidFill>
            <a:srgbClr val="ff99cc">
              <a:alpha val="30000"/>
            </a:srgbClr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05240" y="5734080"/>
            <a:ext cx="142920" cy="33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1760" y="5686560"/>
            <a:ext cx="142920" cy="330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429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 delete creep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3162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. increase vehicl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4290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84668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. replace short trips according to  JRC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1480" y="5029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5040" y="5029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47840" y="3123720"/>
            <a:ext cx="76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5909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067280" y="312372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1960" y="54864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7184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76800" y="5257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2400" y="2781360"/>
            <a:ext cx="95040" cy="5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FAF1-4105-4CF9-A324-92D861029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5" descr=""/>
          <p:cNvPicPr/>
          <p:nvPr/>
        </p:nvPicPr>
        <p:blipFill>
          <a:blip r:embed="rId1"/>
          <a:stretch/>
        </p:blipFill>
        <p:spPr>
          <a:xfrm>
            <a:off x="162000" y="819000"/>
            <a:ext cx="8799480" cy="27576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Proposal for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8960" y="2629080"/>
            <a:ext cx="171360" cy="50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920" y="2666880"/>
            <a:ext cx="104760" cy="37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440" y="2800440"/>
            <a:ext cx="114120" cy="25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0120" y="2792520"/>
            <a:ext cx="7632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14680" y="2057400"/>
            <a:ext cx="82440" cy="247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9600" y="5438880"/>
            <a:ext cx="95400" cy="32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334120"/>
            <a:ext cx="152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19080" y="4495680"/>
            <a:ext cx="38124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4776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3611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8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706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. reduce low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50532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83084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4.15.16. 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5592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7. reduce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72080" y="502920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8. replace acc. por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3640" y="4791240"/>
            <a:ext cx="759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39160" y="5562720"/>
            <a:ext cx="763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67200" y="4038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9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34040" y="589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2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41450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61800" y="2209680"/>
            <a:ext cx="15228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29040" y="289548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1520" y="213372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257440" y="3162240"/>
            <a:ext cx="609480" cy="419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409720" y="22856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04640" y="514368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276360" y="54097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924000" y="48002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29320" y="426708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86600" y="4419720"/>
            <a:ext cx="7632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05640" y="56383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99072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6520" y="2809800"/>
            <a:ext cx="76320" cy="360360"/>
          </a:xfrm>
          <a:prstGeom prst="rect">
            <a:avLst/>
          </a:prstGeom>
          <a:solidFill>
            <a:srgbClr val="ff99cc">
              <a:alpha val="30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524400" y="1371600"/>
            <a:ext cx="342720" cy="132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24480" y="2247840"/>
            <a:ext cx="29880" cy="6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86160" y="2286000"/>
            <a:ext cx="22860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43480" y="33526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 reduce de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9360" y="5162400"/>
            <a:ext cx="7632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525780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5829480"/>
            <a:ext cx="1018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754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21. smooth d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924680" y="50292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29600" y="5029200"/>
            <a:ext cx="7632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5562720"/>
            <a:ext cx="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0320" y="5791320"/>
            <a:ext cx="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676160" y="5105520"/>
            <a:ext cx="75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518148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0A1F-1DC0-4558-8AC0-FC43264A4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List of proposed modification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777960"/>
          <a:ext cx="8229600" cy="5867280"/>
        </p:xfrm>
        <a:graphic>
          <a:graphicData uri="http://schemas.openxmlformats.org/drawingml/2006/table">
            <a:tbl>
              <a:tblPr/>
              <a:tblGrid>
                <a:gridCol w="480960"/>
                <a:gridCol w="1143000"/>
                <a:gridCol w="66056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creep por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– 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deceleration portion during low speed 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 – 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 – 5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d ST4 and ST5 based on J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 – 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 – 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 –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7 – 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 – 1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7 -1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 -1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 -1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 translation to be minimum speed of 6.2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7 – 1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8 -1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 – 1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3 – 1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3 – 1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 – 1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acceleration p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 – 1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 - 1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3, 1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oth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 - 1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de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7886-7F1A-433B-990E-659F732B7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iewpoints of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view acceleration portions based on comments from the participant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 maximum acceleration ratio 95 percentiles of cumulative frequency in each speed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-HIGH: replace high acceleration part (65 - 130km/h) by alternative acceleration part from in-use database which match the 95 percen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avoid tire lock and/or shortage of brake power, set maximum deceleration to appropriate value (- 5.31 km/h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rivability /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cause Low speed portion (e.g. creep drive) have an adverse influence on drivability and reproducibility, minimum speed should be set to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on 1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854C-0675-456B-AD79-4647ECF08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5" descr=""/>
          <p:cNvPicPr/>
          <p:nvPr/>
        </p:nvPicPr>
        <p:blipFill>
          <a:blip r:embed="rId1"/>
          <a:stretch/>
        </p:blipFill>
        <p:spPr>
          <a:xfrm>
            <a:off x="162000" y="824040"/>
            <a:ext cx="8799480" cy="275724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5" descr=""/>
          <p:cNvPicPr/>
          <p:nvPr/>
        </p:nvPicPr>
        <p:blipFill>
          <a:blip r:embed="rId2"/>
          <a:stretch/>
        </p:blipFill>
        <p:spPr>
          <a:xfrm>
            <a:off x="162000" y="3852720"/>
            <a:ext cx="8799480" cy="275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Proposal f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4592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 delete creep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3153960"/>
            <a:ext cx="76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4290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. increase vehicle speed (parallel trans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67680" y="312372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0574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. increase vehicle speed  (delete deceleration por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248436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0E2B-AA2B-4540-BFFB-8AA3610E87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トヨタ自動車株式会社</cp:lastModifiedBy>
  <dcterms:modified xsi:type="dcterms:W3CDTF">2011-10-06T23:13:0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