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A0DA-194E-4872-9220-90589B6A2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C94C-5118-4D24-B13D-40D5FE2FA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A2CDE-3320-4F8B-ABCE-675B70F69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D388-2725-4BFF-B8CF-BE9F70E8CE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F3F9-176A-4886-91B3-7F88B500B7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B4B0C-0E42-4F96-A409-CE4B91BC6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4E2A-A0E0-43F2-85B7-8279C6CBF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7A10-7099-4A82-A9A2-FBC280D63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CAF8-6528-4745-8B19-40D1E30F6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E8AE-7102-4AC9-AD60-0F9784CD7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51D2-A773-4130-B159-272974716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3A7B-8D5D-417E-B95C-776384407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6913-E187-4326-BD3B-ED1A90F0D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588000" y="0"/>
            <a:ext cx="25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X OCT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520" y="6669000"/>
            <a:ext cx="572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pan Automobile Research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y on cycle modific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 Reflect validation test 1 result 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HC sub-group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-12 Octo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ssels,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914400" y="373392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F2D5-55FC-4A3B-8F68-F999D34F1B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ctangle 5" descr=""/>
          <p:cNvPicPr/>
          <p:nvPr/>
        </p:nvPicPr>
        <p:blipFill>
          <a:blip r:embed="rId1"/>
          <a:stretch/>
        </p:blipFill>
        <p:spPr>
          <a:xfrm>
            <a:off x="162000" y="819000"/>
            <a:ext cx="8799480" cy="27576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 Proposal for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Rectangle 5" descr=""/>
          <p:cNvPicPr/>
          <p:nvPr/>
        </p:nvPicPr>
        <p:blipFill>
          <a:blip r:embed="rId2"/>
          <a:stretch/>
        </p:blipFill>
        <p:spPr>
          <a:xfrm>
            <a:off x="162000" y="3852720"/>
            <a:ext cx="8799480" cy="2757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638440" y="2590920"/>
            <a:ext cx="2362320" cy="8380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213372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4. replace short trips according to  JRC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29400" y="2076480"/>
            <a:ext cx="24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5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91640" y="23050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50292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52578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06CF-21BB-4773-85A7-BDF4774FB8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. Proposal for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Rectangle 5" descr=""/>
          <p:cNvPicPr/>
          <p:nvPr/>
        </p:nvPicPr>
        <p:blipFill>
          <a:blip r:embed="rId1"/>
          <a:stretch/>
        </p:blipFill>
        <p:spPr>
          <a:xfrm>
            <a:off x="162000" y="819000"/>
            <a:ext cx="8799480" cy="2757600"/>
          </a:xfrm>
          <a:prstGeom prst="rect">
            <a:avLst/>
          </a:prstGeom>
          <a:ln w="0">
            <a:noFill/>
          </a:ln>
        </p:spPr>
      </p:pic>
      <p:pic>
        <p:nvPicPr>
          <p:cNvPr id="191" name="Rectangle 5" descr=""/>
          <p:cNvPicPr/>
          <p:nvPr/>
        </p:nvPicPr>
        <p:blipFill>
          <a:blip r:embed="rId2"/>
          <a:stretch/>
        </p:blipFill>
        <p:spPr>
          <a:xfrm>
            <a:off x="162000" y="3852720"/>
            <a:ext cx="8799480" cy="2757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514600" y="182880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7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428640" y="2133720"/>
            <a:ext cx="15228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35812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8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695920" y="2971800"/>
            <a:ext cx="3808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8080" y="5578560"/>
            <a:ext cx="0" cy="441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320" y="62784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0. become low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182880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. increase vehicle speed (parallel transl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267600" y="2209680"/>
            <a:ext cx="209520" cy="79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48769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1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594360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. increase vehicle speed (parallel transl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52520" y="5181480"/>
            <a:ext cx="1522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828440" y="609588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56386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3. reduce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2285640" y="540972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40A76-9C59-467D-8E61-0FC2B010ED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Rectangle 5" descr=""/>
          <p:cNvPicPr/>
          <p:nvPr/>
        </p:nvPicPr>
        <p:blipFill>
          <a:blip r:embed="rId1"/>
          <a:stretch/>
        </p:blipFill>
        <p:spPr>
          <a:xfrm>
            <a:off x="162000" y="824040"/>
            <a:ext cx="8799480" cy="27572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4. Proposal for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Rectangle 5" descr=""/>
          <p:cNvPicPr/>
          <p:nvPr/>
        </p:nvPicPr>
        <p:blipFill>
          <a:blip r:embed="rId2"/>
          <a:stretch/>
        </p:blipFill>
        <p:spPr>
          <a:xfrm>
            <a:off x="162000" y="3848040"/>
            <a:ext cx="8799480" cy="2757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219320" y="19051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4.15.16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761840" y="2171880"/>
            <a:ext cx="1522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26668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7. reduce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714640" y="248400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53080" y="208764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8. replace acceleration por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6857640" y="185868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40384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9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59738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2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62720" y="420228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0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743200" y="4267080"/>
            <a:ext cx="763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790960" y="4476600"/>
            <a:ext cx="75960" cy="704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162920" y="5714640"/>
            <a:ext cx="53316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10280" y="483084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1. smooth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7543440" y="510552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077320" y="5181480"/>
            <a:ext cx="0" cy="655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2286000"/>
            <a:ext cx="561960" cy="4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209680"/>
            <a:ext cx="1522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D941-9231-4F7D-B331-FC80D0ADE8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. VA distribution of WLTC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Rectangle 5" descr=""/>
          <p:cNvPicPr/>
          <p:nvPr/>
        </p:nvPicPr>
        <p:blipFill>
          <a:blip r:embed="rId1"/>
          <a:stretch/>
        </p:blipFill>
        <p:spPr>
          <a:xfrm>
            <a:off x="457200" y="1055520"/>
            <a:ext cx="8229600" cy="539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E15B-F57C-490D-831D-597AC5571C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5" descr=""/>
          <p:cNvPicPr/>
          <p:nvPr/>
        </p:nvPicPr>
        <p:blipFill>
          <a:blip r:embed="rId1"/>
          <a:stretch/>
        </p:blipFill>
        <p:spPr>
          <a:xfrm>
            <a:off x="457200" y="1055520"/>
            <a:ext cx="8229600" cy="53946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6. VA distribution of WLTC v2 re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5105520"/>
            <a:ext cx="7429680" cy="685800"/>
          </a:xfrm>
          <a:prstGeom prst="rect">
            <a:avLst/>
          </a:prstGeom>
          <a:solidFill>
            <a:srgbClr val="99ccff">
              <a:alpha val="3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282200">
            <a:off x="2286000" y="1676160"/>
            <a:ext cx="6632640" cy="691920"/>
          </a:xfrm>
          <a:prstGeom prst="ellipse">
            <a:avLst/>
          </a:prstGeom>
          <a:solidFill>
            <a:srgbClr val="ff99cc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DE07-7F2A-4F7F-B1CC-7AF39B6F8D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5" descr=""/>
          <p:cNvPicPr/>
          <p:nvPr/>
        </p:nvPicPr>
        <p:blipFill>
          <a:blip r:embed="rId1"/>
          <a:stretch/>
        </p:blipFill>
        <p:spPr>
          <a:xfrm>
            <a:off x="457200" y="833400"/>
            <a:ext cx="8229600" cy="49579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. Influence for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838080"/>
            <a:ext cx="600120" cy="50292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594360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IGH and Ex-high phase, When the cycle was modified, X2 value become smaller and then test cycle have more representat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ED51-9840-4389-967F-017218B84E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. Comparison of VA distribution – LOW &amp; MID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6600" y="1362240"/>
            <a:ext cx="2922840" cy="2315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005280" y="1362240"/>
            <a:ext cx="2922480" cy="2315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943600" y="1362240"/>
            <a:ext cx="2922480" cy="23158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6600" y="4200480"/>
            <a:ext cx="2922840" cy="2316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3005280" y="4200480"/>
            <a:ext cx="2922480" cy="2316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5943600" y="4200480"/>
            <a:ext cx="2922480" cy="23162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6320" y="1219320"/>
            <a:ext cx="88390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1219320"/>
            <a:ext cx="297180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96252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8380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Unified distribution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38560" y="8380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WLTC v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8380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WLTC v2 rev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723960"/>
            <a:ext cx="883908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723960"/>
            <a:ext cx="29718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8E05-306C-4721-AC7F-BB8CE5BC53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. Comparison of VA distribution – HIGH &amp; Ex-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8400" y="1482840"/>
            <a:ext cx="2922480" cy="2315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005280" y="1482840"/>
            <a:ext cx="2922480" cy="2315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5943600" y="1482840"/>
            <a:ext cx="2922480" cy="23158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8400" y="4160880"/>
            <a:ext cx="2922480" cy="23162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3005280" y="4160880"/>
            <a:ext cx="2922480" cy="23162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5943600" y="4160880"/>
            <a:ext cx="2922480" cy="231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6320" y="1219320"/>
            <a:ext cx="88390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1219320"/>
            <a:ext cx="297180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96252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8380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Unified distribution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38560" y="8380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WLTC v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8380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WLTC v2 rev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320" y="723960"/>
            <a:ext cx="883908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723960"/>
            <a:ext cx="29718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97FC-27B0-4918-B55E-91DBDBD014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.1. Review acceleration for MIDDLE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Rectangle 5" descr=""/>
          <p:cNvPicPr/>
          <p:nvPr/>
        </p:nvPicPr>
        <p:blipFill>
          <a:blip r:embed="rId1"/>
          <a:stretch/>
        </p:blipFill>
        <p:spPr>
          <a:xfrm>
            <a:off x="152280" y="1711440"/>
            <a:ext cx="4297320" cy="34034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160720" y="2341440"/>
            <a:ext cx="14436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74840" y="15238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) 30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3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43360" y="7300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30~35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95360" y="2361960"/>
            <a:ext cx="2286000" cy="152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03640" y="2341440"/>
            <a:ext cx="14436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93800" y="1523880"/>
            <a:ext cx="13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) 35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4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38280" y="2819520"/>
            <a:ext cx="2133720" cy="18288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Rectangle 5" descr=""/>
          <p:cNvPicPr/>
          <p:nvPr/>
        </p:nvPicPr>
        <p:blipFill>
          <a:blip r:embed="rId2"/>
          <a:stretch/>
        </p:blipFill>
        <p:spPr>
          <a:xfrm>
            <a:off x="4757760" y="981000"/>
            <a:ext cx="3819600" cy="2695680"/>
          </a:xfrm>
          <a:prstGeom prst="rect">
            <a:avLst/>
          </a:prstGeom>
          <a:ln w="0">
            <a:noFill/>
          </a:ln>
        </p:spPr>
      </p:pic>
      <p:pic>
        <p:nvPicPr>
          <p:cNvPr id="276" name="Rectangle 5" descr=""/>
          <p:cNvPicPr/>
          <p:nvPr/>
        </p:nvPicPr>
        <p:blipFill>
          <a:blip r:embed="rId3"/>
          <a:stretch/>
        </p:blipFill>
        <p:spPr>
          <a:xfrm>
            <a:off x="4757760" y="3828960"/>
            <a:ext cx="3819600" cy="26956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324480" y="141300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84.0 ~ 92.5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436572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88.1 ~ 94.7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10360" y="4324320"/>
            <a:ext cx="0" cy="125424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210360" y="1488960"/>
            <a:ext cx="0" cy="125424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914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MIDDLE ph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5105520"/>
            <a:ext cx="419112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ause acceleration in middle phase keep in 95parcentiles, it is not necessary to modify the acceleration parts in middle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76480" y="21337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35~40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24480" y="16765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o 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00800" y="45720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o 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B818-6DC9-4A47-9489-C1F93BAEA2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.2. Review acceleration for HIGH phase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Rectangle 5" descr=""/>
          <p:cNvPicPr/>
          <p:nvPr/>
        </p:nvPicPr>
        <p:blipFill>
          <a:blip r:embed="rId1"/>
          <a:stretch/>
        </p:blipFill>
        <p:spPr>
          <a:xfrm>
            <a:off x="152280" y="1701720"/>
            <a:ext cx="4297320" cy="34038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496880" y="1554120"/>
            <a:ext cx="23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35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55 km/h, 5km/h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Rectangle 5" descr=""/>
          <p:cNvPicPr/>
          <p:nvPr/>
        </p:nvPicPr>
        <p:blipFill>
          <a:blip r:embed="rId2"/>
          <a:stretch/>
        </p:blipFill>
        <p:spPr>
          <a:xfrm>
            <a:off x="5514840" y="533520"/>
            <a:ext cx="3195720" cy="61610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267080" y="1184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35 – 4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67080" y="2575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 40 – 4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4022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) 45 – 5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54705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  50 – 5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38920" y="838080"/>
            <a:ext cx="184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82.8 ~ 91.0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24800" y="879480"/>
            <a:ext cx="0" cy="8730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38920" y="2351160"/>
            <a:ext cx="184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86.1 ~ 93.0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24800" y="2286000"/>
            <a:ext cx="0" cy="6858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8640" y="3798720"/>
            <a:ext cx="18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89.5 ~ 95.1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734160" y="3733920"/>
            <a:ext cx="0" cy="6858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67560" y="521820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84.2 ~ 92.2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53080" y="5153040"/>
            <a:ext cx="0" cy="6858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914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HIGH ph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8440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0500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2560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4620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67160" y="2336760"/>
            <a:ext cx="11556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8776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80980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00160" y="208764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 2 3 4 5 6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38920" y="10368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o 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3892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o 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48640" y="40384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o 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67560" y="54864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o 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BC85-94FB-417A-8740-665BFB66D3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Validation test 1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or Modification p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points of Mod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or WLTC v2 rev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 f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. Review 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2. Review de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3. Review minimum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D704-0AAE-4872-93A6-E88887B9B2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5" descr=""/>
          <p:cNvPicPr/>
          <p:nvPr/>
        </p:nvPicPr>
        <p:blipFill>
          <a:blip r:embed="rId1"/>
          <a:stretch/>
        </p:blipFill>
        <p:spPr>
          <a:xfrm>
            <a:off x="5562720" y="1114560"/>
            <a:ext cx="3152520" cy="467676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.3. Review acceleration for HIGH phase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ctangle 5" descr=""/>
          <p:cNvPicPr/>
          <p:nvPr/>
        </p:nvPicPr>
        <p:blipFill>
          <a:blip r:embed="rId2"/>
          <a:stretch/>
        </p:blipFill>
        <p:spPr>
          <a:xfrm>
            <a:off x="152280" y="1701720"/>
            <a:ext cx="4297320" cy="34038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496880" y="1554120"/>
            <a:ext cx="23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55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70 km/h, 5km/h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86640" y="15238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88.1 ~ 94.7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591240" y="1371600"/>
            <a:ext cx="0" cy="83808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74388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2.0 ~ 96.5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72160" y="2743200"/>
            <a:ext cx="0" cy="10191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62600" y="43434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4.6 ~ 97.8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581880" y="4191120"/>
            <a:ext cx="0" cy="8380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914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HIGH ph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5108400"/>
            <a:ext cx="39621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IGH phase, acceleration exceed 95 percentiles in the range of 60 to 70 km/h, Therefore it is necessary to reduce accel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67080" y="1184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) 55 – 6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267080" y="2575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6) 60 – 6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4022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7) 65 – 7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8440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0500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2560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4620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67160" y="2336760"/>
            <a:ext cx="11556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68776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0980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000160" y="208764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 2 3 4 5 6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743880" y="31543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86640" y="17827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o 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62600" y="45720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429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3.6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62600" y="483084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3.3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EF9F-66F5-4CD2-B14B-DA38214A7F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5" descr=""/>
          <p:cNvPicPr/>
          <p:nvPr/>
        </p:nvPicPr>
        <p:blipFill>
          <a:blip r:embed="rId1"/>
          <a:stretch/>
        </p:blipFill>
        <p:spPr>
          <a:xfrm>
            <a:off x="5553000" y="571680"/>
            <a:ext cx="3167280" cy="610704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.4. Review acceleration for Ex-HIGH phase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Rectangle 5" descr=""/>
          <p:cNvPicPr/>
          <p:nvPr/>
        </p:nvPicPr>
        <p:blipFill>
          <a:blip r:embed="rId2"/>
          <a:stretch/>
        </p:blipFill>
        <p:spPr>
          <a:xfrm>
            <a:off x="122400" y="1711440"/>
            <a:ext cx="4297320" cy="34034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74312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62584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914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x-HIGH ph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85724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72736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10280" y="7621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90.0 ~ 95.1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162920" y="2392200"/>
            <a:ext cx="196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6.3 ~ 98.4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3840120"/>
            <a:ext cx="196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7.3 ~ 98.8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115040" y="52182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6.2 ~ 98.3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5268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48040" y="2351160"/>
            <a:ext cx="10764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82888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2396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96880" y="1554120"/>
            <a:ext cx="23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5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15 km/h, 5km/h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1184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25 – 3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2575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 35 – 4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267080" y="4022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) 40 – 4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67080" y="54705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  50 – 5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67000" y="2124000"/>
            <a:ext cx="8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   2 3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00480" y="213372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5 6 7 8 91011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3040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32280" y="2351160"/>
            <a:ext cx="10764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13380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3532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162920" y="2666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162920" y="40543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115040" y="54864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10280" y="9954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o 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0" y="2141640"/>
            <a:ext cx="152280" cy="125892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0" y="3551400"/>
            <a:ext cx="152280" cy="125856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667560" y="4971960"/>
            <a:ext cx="152280" cy="125892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6946920" y="2743200"/>
            <a:ext cx="2160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6870600" y="4191120"/>
            <a:ext cx="2160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6718320" y="5562720"/>
            <a:ext cx="2160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162920" y="4267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5.8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238880" y="28954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6.2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15040" y="5715000"/>
            <a:ext cx="164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5.2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B240-CC53-4C04-A5A1-24B63EC106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5" descr=""/>
          <p:cNvPicPr/>
          <p:nvPr/>
        </p:nvPicPr>
        <p:blipFill>
          <a:blip r:embed="rId1"/>
          <a:stretch/>
        </p:blipFill>
        <p:spPr>
          <a:xfrm>
            <a:off x="5548320" y="571680"/>
            <a:ext cx="3166920" cy="61070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.5. Review acceleration for Ex-HIGH phase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Rectangle 5" descr=""/>
          <p:cNvPicPr/>
          <p:nvPr/>
        </p:nvPicPr>
        <p:blipFill>
          <a:blip r:embed="rId2"/>
          <a:stretch/>
        </p:blipFill>
        <p:spPr>
          <a:xfrm>
            <a:off x="122400" y="1711440"/>
            <a:ext cx="4297320" cy="34034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533520" y="914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x-HIGH ph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7621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7.3 ~ 99.0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10280" y="2392200"/>
            <a:ext cx="189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9.3 ~ 99.7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10280" y="38401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9.5 ~ 99.8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34320" y="521820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9.1 ~ 99.7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96880" y="1554120"/>
            <a:ext cx="23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5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15 km/h, 5km/h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743880" y="5029200"/>
            <a:ext cx="0" cy="9144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67080" y="1184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) 75 – 8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67080" y="2575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6) 80 – 8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267080" y="4022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7) 85 – 9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54705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8)  90 – 9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3629160"/>
            <a:ext cx="0" cy="11430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4312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62584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85724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2736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5268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048040" y="2351160"/>
            <a:ext cx="10764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82888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2396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467000" y="2124000"/>
            <a:ext cx="8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   2 3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400480" y="213372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5 6 7 8 91011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3040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32280" y="2351160"/>
            <a:ext cx="10764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13380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3532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10280" y="26449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40687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34320" y="54673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934320" y="9907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2141640"/>
            <a:ext cx="152280" cy="125892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286680" y="3551400"/>
            <a:ext cx="152280" cy="125856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286680" y="4971960"/>
            <a:ext cx="152280" cy="125892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477120" y="733320"/>
            <a:ext cx="152280" cy="125892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6477120" y="1447920"/>
            <a:ext cx="304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6629040" y="2743200"/>
            <a:ext cx="304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6552720" y="4191120"/>
            <a:ext cx="304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6400440" y="5562720"/>
            <a:ext cx="304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010280" y="4267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3.3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10280" y="28954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3.6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5715000"/>
            <a:ext cx="164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3.1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10280" y="12193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4.0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8D07-A478-4D47-925D-4017FFE133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5" descr=""/>
          <p:cNvPicPr/>
          <p:nvPr/>
        </p:nvPicPr>
        <p:blipFill>
          <a:blip r:embed="rId1"/>
          <a:stretch/>
        </p:blipFill>
        <p:spPr>
          <a:xfrm>
            <a:off x="5548320" y="571680"/>
            <a:ext cx="3166920" cy="610704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.6. Review acceleration for Ex-HIGH phase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Rectangle 5" descr=""/>
          <p:cNvPicPr/>
          <p:nvPr/>
        </p:nvPicPr>
        <p:blipFill>
          <a:blip r:embed="rId2"/>
          <a:stretch/>
        </p:blipFill>
        <p:spPr>
          <a:xfrm>
            <a:off x="122400" y="1711440"/>
            <a:ext cx="4297320" cy="34034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533520" y="914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x-HIGH ph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7621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8.1 ~ 99.4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705720" y="23922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8.6 ~ 99.6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5108400"/>
            <a:ext cx="39621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Ex-HIGH phase, acceleration exceed 95 percentiles in the range of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m/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and 75 to 115 km/h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refore it is necessary to reduce accel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496880" y="1554120"/>
            <a:ext cx="23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5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15 km/h, 5km/h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67080" y="1155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9) 95 – 10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67080" y="2546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0) 100 – 10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343400" y="37908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1) 105 – 11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43400" y="5181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2) 110 – 11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74312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62584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85724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72736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55268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048040" y="2351160"/>
            <a:ext cx="10764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82888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2396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67000" y="2124000"/>
            <a:ext cx="8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   2 3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400480" y="213372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5 6 7 8 91011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3040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32280" y="2351160"/>
            <a:ext cx="10764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13380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3532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705720" y="38098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6.0 ~ 99.0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705720" y="52117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85.6 ~ 96.9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705720" y="2644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705720" y="407664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705720" y="54640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705720" y="9907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14960" y="2141640"/>
            <a:ext cx="152640" cy="125892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14960" y="3551400"/>
            <a:ext cx="152640" cy="125856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296040" y="722160"/>
            <a:ext cx="152280" cy="125892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400440" y="1447920"/>
            <a:ext cx="304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248520" y="2743200"/>
            <a:ext cx="304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6248160" y="4191120"/>
            <a:ext cx="1522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05720" y="57150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= 2.3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05720" y="4267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2.4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705720" y="289548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2.5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705720" y="1219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2.8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332FA-9D19-4E4F-A9D7-EAF5B85BCA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.1. Acceleration portion for Ex-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76280" y="981000"/>
            <a:ext cx="8153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95% of cumulative frequency in each speed range are as follow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486080" y="2362320"/>
          <a:ext cx="6172200" cy="1752480"/>
        </p:xfrm>
        <a:graphic>
          <a:graphicData uri="http://schemas.openxmlformats.org/drawingml/2006/table">
            <a:tbl>
              <a:tblPr/>
              <a:tblGrid>
                <a:gridCol w="2613960"/>
                <a:gridCol w="3558240"/>
              </a:tblGrid>
              <a:tr h="438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-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 percent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– 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– 4.5 km/h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-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– 3.5 km/h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- 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– 2.5 km/h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4" name=""/>
          <p:cNvSpPr/>
          <p:nvPr/>
        </p:nvSpPr>
        <p:spPr>
          <a:xfrm>
            <a:off x="485640" y="4495680"/>
            <a:ext cx="8153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acceleration portion which meet the above criteria from in-us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shortest / highest acceleration 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1ECC-9F7E-4446-86A2-8EBB6F0BE4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Rectangle 5" descr=""/>
          <p:cNvPicPr/>
          <p:nvPr/>
        </p:nvPicPr>
        <p:blipFill>
          <a:blip r:embed="rId1"/>
          <a:stretch/>
        </p:blipFill>
        <p:spPr>
          <a:xfrm>
            <a:off x="4680" y="2606760"/>
            <a:ext cx="4491000" cy="2860560"/>
          </a:xfrm>
          <a:prstGeom prst="rect">
            <a:avLst/>
          </a:prstGeom>
          <a:ln w="0">
            <a:noFill/>
          </a:ln>
        </p:spPr>
      </p:pic>
      <p:pic>
        <p:nvPicPr>
          <p:cNvPr id="476" name="Rectangle 5" descr=""/>
          <p:cNvPicPr/>
          <p:nvPr/>
        </p:nvPicPr>
        <p:blipFill>
          <a:blip r:embed="rId2"/>
          <a:stretch/>
        </p:blipFill>
        <p:spPr>
          <a:xfrm>
            <a:off x="4576680" y="2606760"/>
            <a:ext cx="4491000" cy="2860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.2. Ex-HIGH (65-130 km/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480" y="1143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-130km/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までの区間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秒で到達する加速データを選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610240" y="3133800"/>
            <a:ext cx="533520" cy="257040"/>
          </a:xfrm>
          <a:prstGeom prst="rect">
            <a:avLst/>
          </a:prstGeom>
          <a:solidFill>
            <a:srgbClr val="ff99cc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53120" y="3409920"/>
            <a:ext cx="685800" cy="247680"/>
          </a:xfrm>
          <a:prstGeom prst="rect">
            <a:avLst/>
          </a:prstGeom>
          <a:solidFill>
            <a:srgbClr val="ff99cc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67360" y="3657600"/>
            <a:ext cx="685800" cy="257040"/>
          </a:xfrm>
          <a:prstGeom prst="rect">
            <a:avLst/>
          </a:prstGeom>
          <a:solidFill>
            <a:srgbClr val="ff99cc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" y="21337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Time series 60 – 130 km/h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76920" y="21337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Speed vs. Acceleratio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F892-3800-481E-82B0-09A3A116BB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. maximum decel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056960"/>
            <a:ext cx="838188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ight duty truck and/or FR (front engine – rear drive) vehicle, maximum deceleration should be reviewed. Maximum deceleration of current test cycle for certification is as follow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838080" y="2971800"/>
          <a:ext cx="7467840" cy="1409760"/>
        </p:xfrm>
        <a:graphic>
          <a:graphicData uri="http://schemas.openxmlformats.org/drawingml/2006/table">
            <a:tbl>
              <a:tblPr/>
              <a:tblGrid>
                <a:gridCol w="1866960"/>
                <a:gridCol w="1866960"/>
                <a:gridCol w="1866960"/>
                <a:gridCol w="1866960"/>
              </a:tblGrid>
              <a:tr h="60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decel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0 km/h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389 m/s</a:t>
                      </a:r>
                      <a:r>
                        <a:rPr b="0" lang="ja-JP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5.31 km/h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-1.475 m/s</a:t>
                      </a:r>
                      <a:r>
                        <a:rPr b="0" lang="ja-JP" sz="20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05 km/h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125 m/s</a:t>
                      </a:r>
                      <a:r>
                        <a:rPr b="0" lang="ja-JP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"/>
          <p:cNvSpPr/>
          <p:nvPr/>
        </p:nvSpPr>
        <p:spPr>
          <a:xfrm>
            <a:off x="457200" y="502920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t's preferable to be the maximum deceleration of -5.31 km/h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8041-7C85-4D06-A266-E8AE599E9A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6.4. Minimum speed of short trip (Vidle of 1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g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9680" y="1020600"/>
            <a:ext cx="8305560" cy="49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vehicle speed should be  6.2km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71600" y="5745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*) Vidle: Vehicle speed @ idling engine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295280" y="2009880"/>
          <a:ext cx="6477120" cy="3552840"/>
        </p:xfrm>
        <a:graphic>
          <a:graphicData uri="http://schemas.openxmlformats.org/drawingml/2006/table">
            <a:tbl>
              <a:tblPr/>
              <a:tblGrid>
                <a:gridCol w="2159280"/>
                <a:gridCol w="2158920"/>
                <a:gridCol w="215892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of 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of V</a:t>
                      </a:r>
                      <a:r>
                        <a:rPr b="0" lang="ja-JP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2" name=""/>
          <p:cNvSpPr/>
          <p:nvPr/>
        </p:nvSpPr>
        <p:spPr>
          <a:xfrm>
            <a:off x="1371600" y="601992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) Calculated based on vehicle specification of submitted in-use driving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791320" y="17064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nite: km/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7C98-76FD-44E8-820B-7A91B388F9C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5" descr=""/>
          <p:cNvPicPr/>
          <p:nvPr/>
        </p:nvPicPr>
        <p:blipFill>
          <a:blip r:embed="rId1"/>
          <a:stretch/>
        </p:blipFill>
        <p:spPr>
          <a:xfrm>
            <a:off x="135000" y="1906560"/>
            <a:ext cx="8856720" cy="4570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 Overview of Validation test 1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98800" y="2514600"/>
            <a:ext cx="216000" cy="21600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76640" y="2670120"/>
            <a:ext cx="216000" cy="21600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43800" y="2933640"/>
            <a:ext cx="216000" cy="21600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94440" y="2362320"/>
            <a:ext cx="215640" cy="21564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75320" y="2374920"/>
            <a:ext cx="216000" cy="21600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23240" y="2286000"/>
            <a:ext cx="215640" cy="21600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56440" y="2467080"/>
            <a:ext cx="216000" cy="21564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76960" y="2841480"/>
            <a:ext cx="216000" cy="21600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81000" y="3457440"/>
            <a:ext cx="216000" cy="21600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457440"/>
            <a:ext cx="216000" cy="21600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67160" y="3524400"/>
            <a:ext cx="216000" cy="21564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48200" y="3467160"/>
            <a:ext cx="216000" cy="21600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79720" y="3514680"/>
            <a:ext cx="216000" cy="21600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13200" y="3629160"/>
            <a:ext cx="216000" cy="21564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72120" y="3648240"/>
            <a:ext cx="216000" cy="21564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46880" y="3629160"/>
            <a:ext cx="215640" cy="21564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34000" y="3648240"/>
            <a:ext cx="216000" cy="21564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3505320"/>
            <a:ext cx="216000" cy="21564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51920" y="3610080"/>
            <a:ext cx="215640" cy="21564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867280"/>
            <a:ext cx="215640" cy="21600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60520" y="5753160"/>
            <a:ext cx="216000" cy="21600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32120" y="5715000"/>
            <a:ext cx="216000" cy="30492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7480" y="5715000"/>
            <a:ext cx="152280" cy="36828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5562720"/>
            <a:ext cx="216000" cy="21564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0400" y="5715000"/>
            <a:ext cx="215640" cy="21600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94440" y="5791320"/>
            <a:ext cx="215640" cy="21564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5781600"/>
            <a:ext cx="215640" cy="21600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1736640"/>
            <a:ext cx="216000" cy="21600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1279440"/>
            <a:ext cx="216000" cy="21600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822240"/>
            <a:ext cx="216000" cy="21600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76212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an not follow the target speed during acceleration p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121932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an not trace the target speed during deceleration p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167652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Arial"/>
              </a:rPr>
              <a:t>have adverse influence on drivability / reproduc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05920" y="5486400"/>
            <a:ext cx="215640" cy="21600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29600" y="4648320"/>
            <a:ext cx="216000" cy="21564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72560" y="3562200"/>
            <a:ext cx="215640" cy="21600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10400" y="3581280"/>
            <a:ext cx="216000" cy="21600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5638680"/>
            <a:ext cx="152280" cy="45720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9E33-B6D1-4399-846E-A281D80766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. Potential area need to be mod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5" descr=""/>
          <p:cNvPicPr/>
          <p:nvPr/>
        </p:nvPicPr>
        <p:blipFill>
          <a:blip r:embed="rId1"/>
          <a:stretch/>
        </p:blipFill>
        <p:spPr>
          <a:xfrm>
            <a:off x="457200" y="979560"/>
            <a:ext cx="8229600" cy="5394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66680" y="4924440"/>
            <a:ext cx="7429680" cy="866880"/>
          </a:xfrm>
          <a:prstGeom prst="rect">
            <a:avLst/>
          </a:prstGeom>
          <a:solidFill>
            <a:srgbClr val="99ccff">
              <a:alpha val="3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617220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ere are possibility that some vehicles can not trace the target, due to tire lock, shortage of brake power of rear whe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76212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re are possibility that low/middle powered vehicles can not follow th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794400">
            <a:off x="2323800" y="1450440"/>
            <a:ext cx="6632640" cy="1595520"/>
          </a:xfrm>
          <a:prstGeom prst="ellipse">
            <a:avLst/>
          </a:prstGeom>
          <a:solidFill>
            <a:srgbClr val="ff99cc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F698-0543-4DA8-AA32-432693297F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5" descr=""/>
          <p:cNvPicPr/>
          <p:nvPr/>
        </p:nvPicPr>
        <p:blipFill>
          <a:blip r:embed="rId1"/>
          <a:stretch/>
        </p:blipFill>
        <p:spPr>
          <a:xfrm>
            <a:off x="162000" y="824040"/>
            <a:ext cx="8799480" cy="275724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5" descr=""/>
          <p:cNvPicPr/>
          <p:nvPr/>
        </p:nvPicPr>
        <p:blipFill>
          <a:blip r:embed="rId2"/>
          <a:stretch/>
        </p:blipFill>
        <p:spPr>
          <a:xfrm>
            <a:off x="162000" y="3852720"/>
            <a:ext cx="8799480" cy="2757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Proposal for modification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05080" y="2971800"/>
            <a:ext cx="85680" cy="177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181320" y="2771640"/>
            <a:ext cx="193680" cy="276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782800"/>
            <a:ext cx="152640" cy="360360"/>
          </a:xfrm>
          <a:prstGeom prst="rect">
            <a:avLst/>
          </a:prstGeom>
          <a:solidFill>
            <a:srgbClr val="ff99cc">
              <a:alpha val="30000"/>
            </a:srgbClr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14680" y="5772240"/>
            <a:ext cx="1218960" cy="533160"/>
          </a:xfrm>
          <a:prstGeom prst="ellipse">
            <a:avLst/>
          </a:prstGeom>
          <a:solidFill>
            <a:srgbClr val="ff99cc">
              <a:alpha val="30000"/>
            </a:srgbClr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05240" y="5734080"/>
            <a:ext cx="142920" cy="330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81760" y="5686560"/>
            <a:ext cx="142920" cy="330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42900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. delete creep dr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23162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. increase vehicle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342900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. increase vehicle speed (parallel transl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4846680"/>
            <a:ext cx="175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4. replace short trips according to  JRC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81480" y="50292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5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15040" y="50292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247840" y="3123720"/>
            <a:ext cx="763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2590920"/>
            <a:ext cx="2286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067280" y="3123720"/>
            <a:ext cx="7596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361960" y="5486400"/>
            <a:ext cx="7596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71840" y="52578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76800" y="52578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62400" y="2781360"/>
            <a:ext cx="95040" cy="5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3D76-EFE2-4FAE-9C80-5F4D54CA69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5" descr=""/>
          <p:cNvPicPr/>
          <p:nvPr/>
        </p:nvPicPr>
        <p:blipFill>
          <a:blip r:embed="rId1"/>
          <a:stretch/>
        </p:blipFill>
        <p:spPr>
          <a:xfrm>
            <a:off x="162000" y="819000"/>
            <a:ext cx="8799480" cy="275760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5" descr=""/>
          <p:cNvPicPr/>
          <p:nvPr/>
        </p:nvPicPr>
        <p:blipFill>
          <a:blip r:embed="rId2"/>
          <a:stretch/>
        </p:blipFill>
        <p:spPr>
          <a:xfrm>
            <a:off x="162000" y="3852720"/>
            <a:ext cx="8799480" cy="27576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 Proposal for modification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28960" y="2629080"/>
            <a:ext cx="171360" cy="501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920" y="2666880"/>
            <a:ext cx="104760" cy="37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4440" y="2800440"/>
            <a:ext cx="114120" cy="253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10120" y="2792520"/>
            <a:ext cx="76320" cy="360360"/>
          </a:xfrm>
          <a:prstGeom prst="rect">
            <a:avLst/>
          </a:prstGeom>
          <a:solidFill>
            <a:srgbClr val="ff99cc">
              <a:alpha val="30000"/>
            </a:srgbClr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314680" y="2057400"/>
            <a:ext cx="82440" cy="247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9600" y="5438880"/>
            <a:ext cx="95400" cy="320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040" y="5334120"/>
            <a:ext cx="15228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619080" y="4495680"/>
            <a:ext cx="38124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47760" y="19051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7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3611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8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170640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1. reduce low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350532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. increase vehicle speed (parallel transl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10080" y="25146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3. reduce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483084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4.15.16. 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55926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7. reduce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72080" y="5029200"/>
            <a:ext cx="28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8. replace acc. por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43640" y="4791240"/>
            <a:ext cx="7596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39160" y="5562720"/>
            <a:ext cx="7632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67200" y="4038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9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34040" y="5897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2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0" y="414504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0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161800" y="2209680"/>
            <a:ext cx="15228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029040" y="2895480"/>
            <a:ext cx="3808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81520" y="2133720"/>
            <a:ext cx="1522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257440" y="3162240"/>
            <a:ext cx="609480" cy="419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5409720" y="228564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304640" y="5143680"/>
            <a:ext cx="1522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276360" y="540972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924000" y="480024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629320" y="4267080"/>
            <a:ext cx="763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086600" y="4419720"/>
            <a:ext cx="76320" cy="704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505640" y="563832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99072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. increase vehicle speed (parallel transl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76520" y="2809800"/>
            <a:ext cx="76320" cy="360360"/>
          </a:xfrm>
          <a:prstGeom prst="rect">
            <a:avLst/>
          </a:prstGeom>
          <a:solidFill>
            <a:srgbClr val="ff99cc">
              <a:alpha val="30000"/>
            </a:srgbClr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524400" y="1371600"/>
            <a:ext cx="342720" cy="132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24480" y="2247840"/>
            <a:ext cx="29880" cy="66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86160" y="2286000"/>
            <a:ext cx="22860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43480" y="33526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0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29360" y="5162400"/>
            <a:ext cx="7632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848720" y="525780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5829480"/>
            <a:ext cx="10188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7545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21. smooth d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924680" y="502920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29600" y="5029200"/>
            <a:ext cx="7632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5562720"/>
            <a:ext cx="0" cy="7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00320" y="5791320"/>
            <a:ext cx="0" cy="7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676160" y="5105520"/>
            <a:ext cx="7596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5181480"/>
            <a:ext cx="1522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EA78-8272-4F09-B7FD-3C0FF54C1F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 List of proposed modification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777960"/>
          <a:ext cx="8229600" cy="5867280"/>
        </p:xfrm>
        <a:graphic>
          <a:graphicData uri="http://schemas.openxmlformats.org/drawingml/2006/table">
            <a:tbl>
              <a:tblPr/>
              <a:tblGrid>
                <a:gridCol w="480960"/>
                <a:gridCol w="1143000"/>
                <a:gridCol w="660564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– 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creep por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 – 1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deceleration portion during low speed p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 – 2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translation to be minimum speed of 6.2 km/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 – 5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laced ST4 and ST5 based on JR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 – 6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1 – 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4 – 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7 – 10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1 – 10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translation to be minimum speed of 6.2 km/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7 -1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8 -1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0 -11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translation to be minimum speed of 6.2 km/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7 – 1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ac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8 -1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5 – 1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3 – 1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3 – 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ac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0 – 15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lace acceleration ph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0 – 15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0 - 17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3, 17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oth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0 - 17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9F6EB-0CA3-4162-9C49-F38F9C7B76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Viewpoints of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view acceleration portions based on comments from the participant labora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 maximum acceleration ratio 95 percentiles of cumulative frequency in each speed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x-HIGH: replace high acceleration part (65 - 130km/h) by alternative acceleration part from in-use database which match the 95 percen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 avoid tire lock and/or shortage of brake power, set maximum deceleration to appropriate value (- 5.31 km/h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rivability / reproduc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cause Low speed portion (e.g. creep drive) have an adverse influence on drivability and reproducibility, minimum speed should be set to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idl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on 1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g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5B6D-E5E0-4AC6-8F47-F2929FFCE1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5" descr=""/>
          <p:cNvPicPr/>
          <p:nvPr/>
        </p:nvPicPr>
        <p:blipFill>
          <a:blip r:embed="rId1"/>
          <a:stretch/>
        </p:blipFill>
        <p:spPr>
          <a:xfrm>
            <a:off x="162000" y="824040"/>
            <a:ext cx="8799480" cy="275724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5" descr=""/>
          <p:cNvPicPr/>
          <p:nvPr/>
        </p:nvPicPr>
        <p:blipFill>
          <a:blip r:embed="rId2"/>
          <a:stretch/>
        </p:blipFill>
        <p:spPr>
          <a:xfrm>
            <a:off x="162000" y="3852720"/>
            <a:ext cx="8799480" cy="27576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 Proposal for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34592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. delete creep dr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924360" y="3153960"/>
            <a:ext cx="763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342900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. increase vehicle speed (parallel transl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267680" y="3123720"/>
            <a:ext cx="7596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205740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. increase vehicle speed  (delete deceleration por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2484360"/>
            <a:ext cx="22860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D10CB-B25A-4442-B020-1CEF21A6FF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トヨタ自動車株式会社</cp:lastModifiedBy>
  <dcterms:modified xsi:type="dcterms:W3CDTF">2011-10-06T23:13:09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