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8380-F637-43F4-BF9D-42A39EA91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4E67-C738-44AC-BA1C-F1A5421BC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5FB5-9615-4734-AC24-64D44592C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DF45-F605-411B-A59D-024A4629D1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BFAF-1366-4660-A56A-E53CE09F4B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4A31-E41C-4382-B5D3-D4B6B2475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3AF3-6585-4DB9-B984-3DD1F089A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431A-1DC4-4186-95BE-721C1C097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E667-E939-45EE-A15A-E2AE7080C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BDD4-F90E-451F-91B8-32306D837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08CC-E122-486D-A550-07979F15A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3BC1-F1F1-427B-9E0E-3F84DF5AC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F4EC-AF05-4C69-B30D-BB76825DF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OCT 2011/WLT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国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6669000"/>
            <a:ext cx="572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pan Automobile Research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tive study on the threshold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sub-group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ssels,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914400" y="3733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7E2B-F3B0-49A6-9248-671B2CEDF0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Data analysis on India ~ Speed cum.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5" descr=""/>
          <p:cNvPicPr/>
          <p:nvPr/>
        </p:nvPicPr>
        <p:blipFill>
          <a:blip r:embed="rId1"/>
          <a:stretch/>
        </p:blipFill>
        <p:spPr>
          <a:xfrm>
            <a:off x="457200" y="825480"/>
            <a:ext cx="4038480" cy="25272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5" descr=""/>
          <p:cNvPicPr/>
          <p:nvPr/>
        </p:nvPicPr>
        <p:blipFill>
          <a:blip r:embed="rId2"/>
          <a:stretch/>
        </p:blipFill>
        <p:spPr>
          <a:xfrm>
            <a:off x="4648320" y="825480"/>
            <a:ext cx="4038480" cy="25272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5" descr=""/>
          <p:cNvPicPr/>
          <p:nvPr/>
        </p:nvPicPr>
        <p:blipFill>
          <a:blip r:embed="rId3"/>
          <a:stretch/>
        </p:blipFill>
        <p:spPr>
          <a:xfrm>
            <a:off x="457200" y="3492360"/>
            <a:ext cx="40384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5" descr=""/>
          <p:cNvPicPr/>
          <p:nvPr/>
        </p:nvPicPr>
        <p:blipFill>
          <a:blip r:embed="rId4"/>
          <a:stretch/>
        </p:blipFill>
        <p:spPr>
          <a:xfrm>
            <a:off x="4648320" y="3492360"/>
            <a:ext cx="4038480" cy="252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flipV="1">
            <a:off x="1752480" y="1206360"/>
            <a:ext cx="6098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828800" y="1434960"/>
            <a:ext cx="53352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434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U/R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1160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/80/110//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333840" y="1176120"/>
            <a:ext cx="6094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248160" y="1358640"/>
            <a:ext cx="53316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1359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U/R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113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/80/110//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438280" y="3921120"/>
            <a:ext cx="6098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361960" y="4073400"/>
            <a:ext cx="53316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4103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U/R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8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/80/110//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9436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mulative frequency distributions of vehicle speed are similar as 60/80/110/~ and U/R/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094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LOW / Urban ph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6094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IDDLE / Rural ph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9076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IGH / Motorway ph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329076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x-HIGH ph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F278-5025-4591-B57A-2B2252C2B2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Data analysis on India ~ Para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Rectangle 5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C226-DD82-4BC9-8192-1161C881FA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viewpoints of Indian driving behavior, the current threshold speed of [60/80/110/~] is the most appropriate cri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25B4-19E4-4C60-BDDA-5CE27F77C4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threshold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n India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3E29-5A4E-4A77-80AF-D7D252DDEB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440" y="990720"/>
            <a:ext cx="876312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534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ative study was conducted between the following additional threshold speed from Indian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/ 70 / 80 /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/ 70 / 90 /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/ 60 / 80 /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/ 60 / 90 /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4A52-A081-4DD5-9E15-3EDAAF954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Review the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7040" y="828720"/>
            <a:ext cx="8610840" cy="1380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shold speed was reviewed based on 3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speed-acceler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speed frequenc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65616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Rectangle 5" descr=""/>
          <p:cNvPicPr/>
          <p:nvPr/>
        </p:nvPicPr>
        <p:blipFill>
          <a:blip r:embed="rId2"/>
          <a:stretch/>
        </p:blipFill>
        <p:spPr>
          <a:xfrm>
            <a:off x="3048120" y="3124080"/>
            <a:ext cx="3655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Rectangle 5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3655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53F7-A056-4484-891D-7542B1FAEB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Result of comparativ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1640" y="2917800"/>
            <a:ext cx="8255160" cy="1730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1640" y="936720"/>
            <a:ext cx="8255160" cy="1730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380880" y="6094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 value on VA distribu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80880" y="2612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 value on Speed frequenc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80880" y="46483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SD on Average spee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0440" y="4952880"/>
            <a:ext cx="8254800" cy="17305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2"/>
          <p:cNvSpPr/>
          <p:nvPr/>
        </p:nvSpPr>
        <p:spPr>
          <a:xfrm>
            <a:off x="6629400" y="96840"/>
            <a:ext cx="1959120" cy="665280"/>
          </a:xfrm>
          <a:prstGeom prst="wedgeRoundRectCallout">
            <a:avLst>
              <a:gd name="adj1" fmla="val 41490"/>
              <a:gd name="adj2" fmla="val 81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value in column is small, the criteria have similarity between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4E94-FCF1-4EDA-858B-A890982601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C7C1-A71C-4B6C-97F0-019C77CCF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Conclusion &lt; appropriate threshold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381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old speed was considered based on 3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imilarity of V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imilarity of V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imilarity of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 speed of [60/80/110/~] are best choice for less difference for all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AA4C-2BAF-467A-A372-DCB885DEE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5" descr=""/>
          <p:cNvPicPr/>
          <p:nvPr/>
        </p:nvPicPr>
        <p:blipFill>
          <a:blip r:embed="rId1"/>
          <a:stretch/>
        </p:blipFill>
        <p:spPr>
          <a:xfrm>
            <a:off x="438120" y="965160"/>
            <a:ext cx="7421760" cy="4597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Data analysis on India ~ Average sp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22840"/>
            <a:ext cx="8163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average speed of the threshold speed of 60/80/110/~ are similar to that of Urban/Rural/Motorway 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3124080"/>
            <a:ext cx="99036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00640" y="2666880"/>
            <a:ext cx="99036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429000"/>
            <a:ext cx="9907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AF5D-B6B1-4B1A-B6E5-24DAD5EB0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Data analysis on India ~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ectangle 5" descr=""/>
          <p:cNvPicPr/>
          <p:nvPr/>
        </p:nvPicPr>
        <p:blipFill>
          <a:blip r:embed="rId1"/>
          <a:stretch/>
        </p:blipFill>
        <p:spPr>
          <a:xfrm>
            <a:off x="247680" y="676440"/>
            <a:ext cx="8618400" cy="59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FE92-9CB4-4FC4-9F3E-F81EC4E83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Data analysis on India ~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5" descr=""/>
          <p:cNvPicPr/>
          <p:nvPr/>
        </p:nvPicPr>
        <p:blipFill>
          <a:blip r:embed="rId1"/>
          <a:stretch/>
        </p:blipFill>
        <p:spPr>
          <a:xfrm>
            <a:off x="250920" y="676440"/>
            <a:ext cx="8626320" cy="5994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6172200"/>
            <a:ext cx="89154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 seems that the threshold speed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or 40 km/h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 Low phase i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8A5B-70F5-4D67-A88D-263681FBF3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RI</cp:lastModifiedBy>
  <dcterms:modified xsi:type="dcterms:W3CDTF">2011-10-06T09:41:4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