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2069-2E33-4E0C-BB29-6A7BEA5AE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DAA9-5DBE-4601-BBAC-F8F32E2AE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07A8-24A0-49AA-B6D3-57FD073DE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38C0-4231-4D92-BFEB-90E932F24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A62B-E0C0-4CEB-87E8-0DB523BB2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191C-44DC-4F8E-8FDD-29133A367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F2CB-C8B4-4FBD-8E97-E097BEFDC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24F9-012C-4A0D-8CC6-2749A6671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6772-2F3A-4653-8F31-A42249A24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8674-D1A4-4A13-8948-652F22CB2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BE90-9DDB-4CA4-94BD-7355BC287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0EB0-B0C1-486D-A124-3C787FD7F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C6ED-5C78-4DE2-B2FD-D9313FC9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OCT 2011/WLT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国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pan Automobile Research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study on the threshold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sub-grou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5ECD-C9B9-4D42-AAFB-F2D3045350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Data analysis on India ~ Speed cum.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5" descr=""/>
          <p:cNvPicPr/>
          <p:nvPr/>
        </p:nvPicPr>
        <p:blipFill>
          <a:blip r:embed="rId1"/>
          <a:stretch/>
        </p:blipFill>
        <p:spPr>
          <a:xfrm>
            <a:off x="457200" y="825480"/>
            <a:ext cx="4038480" cy="25272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2"/>
          <a:stretch/>
        </p:blipFill>
        <p:spPr>
          <a:xfrm>
            <a:off x="4648320" y="825480"/>
            <a:ext cx="4038480" cy="25272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5" descr=""/>
          <p:cNvPicPr/>
          <p:nvPr/>
        </p:nvPicPr>
        <p:blipFill>
          <a:blip r:embed="rId3"/>
          <a:stretch/>
        </p:blipFill>
        <p:spPr>
          <a:xfrm>
            <a:off x="457200" y="3492360"/>
            <a:ext cx="40384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5" descr=""/>
          <p:cNvPicPr/>
          <p:nvPr/>
        </p:nvPicPr>
        <p:blipFill>
          <a:blip r:embed="rId4"/>
          <a:stretch/>
        </p:blipFill>
        <p:spPr>
          <a:xfrm>
            <a:off x="4648320" y="3492360"/>
            <a:ext cx="4038480" cy="252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flipV="1">
            <a:off x="1752480" y="1206360"/>
            <a:ext cx="6098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828800" y="1434960"/>
            <a:ext cx="53352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434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/R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160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/80/110//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333840" y="1176120"/>
            <a:ext cx="6094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248160" y="1358640"/>
            <a:ext cx="53316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1359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/R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113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/80/110//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38280" y="3921120"/>
            <a:ext cx="6098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361960" y="4073400"/>
            <a:ext cx="53316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4103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/R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/80/110//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943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mulative frequency distributions of vehicle speed are similar as 60/80/110/~ and U/R/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LOW / Urban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094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IDDLE / Rural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9076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IGH / Motorway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329076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ABF6-E301-4AFA-A75C-82C6866330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Data analysis on India ~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BF05-B2D8-42E6-9155-35AACB2C05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viewpoints of Indian driving behavior, the current threshold speed of [60/80/110/~] is the most appropriate cri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1BA1-7A38-4AF0-B350-0F69FAC3B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threshol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n India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62C2-057D-43F1-B25A-DFD29F848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440" y="990720"/>
            <a:ext cx="876312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534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ative study was conducted between the following additional threshold speed from Indian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/ 70 / 8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/ 70 / 9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/ 60 / 8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/ 60 / 9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F78E-F18B-4830-AAB0-D35108ABB1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Review the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7040" y="828720"/>
            <a:ext cx="8610840" cy="1380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speed was reviewed based on 3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speed-acceler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speed frequenc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65616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Rectangle 5" descr=""/>
          <p:cNvPicPr/>
          <p:nvPr/>
        </p:nvPicPr>
        <p:blipFill>
          <a:blip r:embed="rId2"/>
          <a:stretch/>
        </p:blipFill>
        <p:spPr>
          <a:xfrm>
            <a:off x="3048120" y="3124080"/>
            <a:ext cx="3655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Rectangle 5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3655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4B35-47C2-4BAB-A81F-157328470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Result of comparativ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1640" y="2917800"/>
            <a:ext cx="8255160" cy="1730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1640" y="936720"/>
            <a:ext cx="8255160" cy="1730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80880" y="6094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 value on VA distrib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80880" y="2612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 value on Speed frequenc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80880" y="46483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SD on Average spe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0440" y="4952880"/>
            <a:ext cx="8254800" cy="17305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2"/>
          <p:cNvSpPr/>
          <p:nvPr/>
        </p:nvSpPr>
        <p:spPr>
          <a:xfrm>
            <a:off x="6629400" y="96840"/>
            <a:ext cx="195912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2B45-7D08-4110-B4C8-FFCADA207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29C2-81B4-434B-A8F2-1D36893F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Conclusion &lt; appropriate threshold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381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old speed was considered based on 3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imilarity of V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imilarity of V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imilarity of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speed of [60/80/110/~] are best choice for less difference for all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7C22-A006-4FD8-91DC-572E17770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5" descr=""/>
          <p:cNvPicPr/>
          <p:nvPr/>
        </p:nvPicPr>
        <p:blipFill>
          <a:blip r:embed="rId1"/>
          <a:stretch/>
        </p:blipFill>
        <p:spPr>
          <a:xfrm>
            <a:off x="438120" y="965160"/>
            <a:ext cx="7421760" cy="4597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Data analysis on India ~ Average sp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22840"/>
            <a:ext cx="8163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average speed of the threshold speed of 60/80/110/~ are similar to that of Urban/Rural/Motorway 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3124080"/>
            <a:ext cx="99036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00640" y="2666880"/>
            <a:ext cx="99036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429000"/>
            <a:ext cx="9907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592A-8359-48E3-970C-27670A7A9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Data analysis on India ~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1"/>
          <a:stretch/>
        </p:blipFill>
        <p:spPr>
          <a:xfrm>
            <a:off x="247680" y="676440"/>
            <a:ext cx="8618400" cy="59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A2C7-8E2C-4F26-8000-7B772AF8B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Data analysis on India ~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5" descr=""/>
          <p:cNvPicPr/>
          <p:nvPr/>
        </p:nvPicPr>
        <p:blipFill>
          <a:blip r:embed="rId1"/>
          <a:stretch/>
        </p:blipFill>
        <p:spPr>
          <a:xfrm>
            <a:off x="250920" y="676440"/>
            <a:ext cx="8626320" cy="5994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6172200"/>
            <a:ext cx="89154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seems that the threshold speed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or 40 km/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Low phase 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A43F-4749-49B8-95A8-930DEB48B8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RI</cp:lastModifiedBy>
  <dcterms:modified xsi:type="dcterms:W3CDTF">2011-10-06T09:41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