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97CF-3591-45F6-B5C9-BBCF4995B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EF6F-349F-4318-BB79-5DD515910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B564-7BE9-43B5-A117-6628898B9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D94E-764F-42E7-9528-6BC5CCEB2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D9BB-24AE-49CF-9FD5-72E8C88DC7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F15F-FF2C-490A-9330-7DC160716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6631-1B3B-4675-9647-B770189C9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DE1C-D670-4916-AFBF-FF8051464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FCFB-6775-4DF6-A9CE-744A97E9E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1670-0BC7-4E87-8D62-BDAAB22F2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467C-ED7A-452B-8FBF-34A0F0DFD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3F1D-1768-4290-B953-47C53700D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1CB5-0726-4F84-8153-49D6145C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588000" y="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8-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hyperlink" Target="http://www.irfnet.org/statistics.php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7BD-7ED9-471D-AE4E-2670026B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velopment of World-wide Light-duty Tes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3580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ed by JRC, Ms. Ericsson, Mr. St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009880" y="452448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Jun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5870520" cy="447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5935680" y="1295280"/>
            <a:ext cx="2903400" cy="4478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 Possible options for regional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8088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study was conducted without Chines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1819440" y="1447920"/>
            <a:ext cx="380880" cy="3276360"/>
            <a:chOff x="1819440" y="1447920"/>
            <a:chExt cx="380880" cy="3276360"/>
          </a:xfrm>
        </p:grpSpPr>
        <p:sp>
          <p:nvSpPr>
            <p:cNvPr id="92" name="AutoShape 7"/>
            <p:cNvSpPr/>
            <p:nvPr/>
          </p:nvSpPr>
          <p:spPr>
            <a:xfrm>
              <a:off x="1876320" y="1447920"/>
              <a:ext cx="85680" cy="65700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000"/>
                <a:gd name="textAreaBottom" fmla="*/ 629640 h 65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8"/>
            <p:cNvSpPr/>
            <p:nvPr/>
          </p:nvSpPr>
          <p:spPr>
            <a:xfrm>
              <a:off x="1876320" y="2103480"/>
              <a:ext cx="85680" cy="65736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360"/>
                <a:gd name="textAreaBottom" fmla="*/ 630000 h 6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>
              <a:off x="1876320" y="2757600"/>
              <a:ext cx="85680" cy="65700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000"/>
                <a:gd name="textAreaBottom" fmla="*/ 629640 h 65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>
              <a:off x="1876320" y="3413160"/>
              <a:ext cx="85680" cy="65736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360"/>
                <a:gd name="textAreaBottom" fmla="*/ 630000 h 6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1"/>
            <p:cNvSpPr/>
            <p:nvPr/>
          </p:nvSpPr>
          <p:spPr>
            <a:xfrm>
              <a:off x="1876320" y="4067280"/>
              <a:ext cx="85680" cy="657000"/>
            </a:xfrm>
            <a:custGeom>
              <a:avLst/>
              <a:gdLst>
                <a:gd name="textAreaLeft" fmla="*/ 0 w 85680"/>
                <a:gd name="textAreaRight" fmla="*/ 60120 w 85680"/>
                <a:gd name="textAreaTop" fmla="*/ 27360 h 657000"/>
                <a:gd name="textAreaBottom" fmla="*/ 629640 h 65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1819440" y="16002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1819440" y="225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1819440" y="2914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1819440" y="35719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1819440" y="4229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7"/>
          <p:cNvGrpSpPr/>
          <p:nvPr/>
        </p:nvGrpSpPr>
        <p:grpSpPr>
          <a:xfrm>
            <a:off x="2895480" y="1457280"/>
            <a:ext cx="381240" cy="3257640"/>
            <a:chOff x="2895480" y="1457280"/>
            <a:chExt cx="381240" cy="3257640"/>
          </a:xfrm>
        </p:grpSpPr>
        <p:sp>
          <p:nvSpPr>
            <p:cNvPr id="103" name="AutoShape 18"/>
            <p:cNvSpPr/>
            <p:nvPr/>
          </p:nvSpPr>
          <p:spPr>
            <a:xfrm>
              <a:off x="2971800" y="1457280"/>
              <a:ext cx="76320" cy="16002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9"/>
            <p:cNvSpPr/>
            <p:nvPr/>
          </p:nvSpPr>
          <p:spPr>
            <a:xfrm>
              <a:off x="2971800" y="3114720"/>
              <a:ext cx="76320" cy="16002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0"/>
            <p:cNvSpPr/>
            <p:nvPr/>
          </p:nvSpPr>
          <p:spPr>
            <a:xfrm>
              <a:off x="2895480" y="21337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1"/>
            <p:cNvSpPr/>
            <p:nvPr/>
          </p:nvSpPr>
          <p:spPr>
            <a:xfrm>
              <a:off x="2895480" y="37339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2"/>
          <p:cNvSpPr/>
          <p:nvPr/>
        </p:nvSpPr>
        <p:spPr>
          <a:xfrm>
            <a:off x="3524400" y="1714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4610160" y="1619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572160" y="1438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8467560" y="1476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515360" y="1314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(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304920" y="579132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tal traffic volume of India is estimated based on WORLD ROAD STSTISTICS 2009 DATA 2002-2007  (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irfnet.org/statistics.ph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using an average speed of 27 km/h and an increase of traffic volume of 51% between 2002 and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952880" y="1219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reference 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スライド番号プレースホルダ 28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2463-3852-40C7-821E-C0250A1F3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828800"/>
          <a:ext cx="8832960" cy="3352680"/>
        </p:xfrm>
        <a:graphic>
          <a:graphicData uri="http://schemas.openxmlformats.org/drawingml/2006/table">
            <a:tbl>
              <a:tblPr/>
              <a:tblGrid>
                <a:gridCol w="679680"/>
                <a:gridCol w="679320"/>
                <a:gridCol w="679320"/>
                <a:gridCol w="679680"/>
                <a:gridCol w="679320"/>
                <a:gridCol w="679680"/>
                <a:gridCol w="679320"/>
                <a:gridCol w="679320"/>
                <a:gridCol w="679680"/>
                <a:gridCol w="679320"/>
                <a:gridCol w="679320"/>
                <a:gridCol w="679680"/>
                <a:gridCol w="679320"/>
              </a:tblGrid>
              <a:tr h="568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egional weigh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dia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Ko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Jap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Ko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3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明朝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5"/>
          <p:cNvSpPr/>
          <p:nvPr/>
        </p:nvSpPr>
        <p:spPr>
          <a:xfrm>
            <a:off x="228600" y="8380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order for data weighting when developing the unified reference database for Low/Middle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8"/>
          <p:cNvSpPr/>
          <p:nvPr/>
        </p:nvSpPr>
        <p:spPr>
          <a:xfrm>
            <a:off x="219240" y="5257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expect to change after obtaining the traffic statistical data from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9"/>
          <p:cNvSpPr/>
          <p:nvPr/>
        </p:nvSpPr>
        <p:spPr>
          <a:xfrm>
            <a:off x="219240" y="556272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tal traffic volume of India is estimated based on WORLD ROAD STSTISTICS 2009 DATA 2002-2007   using an average speed of 27 km/h and an increase of traffic volume of 51% between 2002 and 2006.(http://www.irfnet.org/statistics.ph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スライド番号プレースホルダ 87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73CB-183B-41B3-B375-C93FDF5D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A078-D492-4A10-BB39-74FF018D8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E485-9846-4979-B102-97EBDEA0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47840" y="990720"/>
            <a:ext cx="822960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HC meeting held on 16 May 2011, the possible six(6) options of mode construction were pro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udy on each option to consider the following 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Test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Investment (hard and/or sof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Required measuremen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Low concentration poll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 Regional weighting fa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 others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EFCC-798E-4E2D-878F-F64FCB750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8520" y="685800"/>
          <a:ext cx="8885160" cy="5506920"/>
        </p:xfrm>
        <a:graphic>
          <a:graphicData uri="http://schemas.openxmlformats.org/drawingml/2006/table">
            <a:tbl>
              <a:tblPr/>
              <a:tblGrid>
                <a:gridCol w="547920"/>
                <a:gridCol w="4429080"/>
                <a:gridCol w="761760"/>
                <a:gridCol w="1524240"/>
                <a:gridCol w="1622160"/>
              </a:tblGrid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ef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s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&amp;HIGH1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ar to US proced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IGH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&amp;MIDD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hases test as a se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 Possible mode co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4"/>
          <p:cNvSpPr/>
          <p:nvPr/>
        </p:nvSpPr>
        <p:spPr>
          <a:xfrm>
            <a:off x="1346040" y="1714680"/>
            <a:ext cx="719280" cy="50292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5"/>
          <p:cNvSpPr/>
          <p:nvPr/>
        </p:nvSpPr>
        <p:spPr>
          <a:xfrm>
            <a:off x="2141640" y="1714680"/>
            <a:ext cx="718920" cy="50292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6"/>
          <p:cNvSpPr/>
          <p:nvPr/>
        </p:nvSpPr>
        <p:spPr>
          <a:xfrm>
            <a:off x="2979720" y="1714680"/>
            <a:ext cx="719280" cy="50292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6519960" y="172404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8"/>
          <p:cNvSpPr/>
          <p:nvPr/>
        </p:nvSpPr>
        <p:spPr>
          <a:xfrm>
            <a:off x="4154400" y="1714680"/>
            <a:ext cx="719280" cy="50292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9"/>
          <p:cNvSpPr/>
          <p:nvPr/>
        </p:nvSpPr>
        <p:spPr>
          <a:xfrm rot="16200000">
            <a:off x="3601080" y="1821240"/>
            <a:ext cx="6332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0"/>
          <p:cNvSpPr/>
          <p:nvPr/>
        </p:nvSpPr>
        <p:spPr>
          <a:xfrm>
            <a:off x="728640" y="156852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1"/>
          <p:cNvGrpSpPr/>
          <p:nvPr/>
        </p:nvGrpSpPr>
        <p:grpSpPr>
          <a:xfrm>
            <a:off x="4916520" y="1677960"/>
            <a:ext cx="865080" cy="576360"/>
            <a:chOff x="4916520" y="1677960"/>
            <a:chExt cx="865080" cy="576360"/>
          </a:xfrm>
        </p:grpSpPr>
        <p:sp>
          <p:nvSpPr>
            <p:cNvPr id="138" name="AutoShape 52"/>
            <p:cNvSpPr/>
            <p:nvPr/>
          </p:nvSpPr>
          <p:spPr>
            <a:xfrm>
              <a:off x="4989240" y="1717560"/>
              <a:ext cx="71892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53"/>
            <p:cNvSpPr/>
            <p:nvPr/>
          </p:nvSpPr>
          <p:spPr>
            <a:xfrm>
              <a:off x="4916520" y="167796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54"/>
          <p:cNvSpPr/>
          <p:nvPr/>
        </p:nvSpPr>
        <p:spPr>
          <a:xfrm>
            <a:off x="5943600" y="1622520"/>
            <a:ext cx="50472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5"/>
          <p:cNvSpPr/>
          <p:nvPr/>
        </p:nvSpPr>
        <p:spPr>
          <a:xfrm>
            <a:off x="1325520" y="25178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6"/>
          <p:cNvSpPr/>
          <p:nvPr/>
        </p:nvSpPr>
        <p:spPr>
          <a:xfrm>
            <a:off x="2892600" y="2517840"/>
            <a:ext cx="71892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7"/>
          <p:cNvSpPr/>
          <p:nvPr/>
        </p:nvSpPr>
        <p:spPr>
          <a:xfrm>
            <a:off x="5003640" y="25178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8"/>
          <p:cNvSpPr/>
          <p:nvPr/>
        </p:nvSpPr>
        <p:spPr>
          <a:xfrm rot="16200000">
            <a:off x="4464720" y="2622960"/>
            <a:ext cx="6332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9"/>
          <p:cNvSpPr/>
          <p:nvPr/>
        </p:nvSpPr>
        <p:spPr>
          <a:xfrm>
            <a:off x="728640" y="2376360"/>
            <a:ext cx="504720" cy="4194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0"/>
          <p:cNvGrpSpPr/>
          <p:nvPr/>
        </p:nvGrpSpPr>
        <p:grpSpPr>
          <a:xfrm>
            <a:off x="5765760" y="2481120"/>
            <a:ext cx="865080" cy="576360"/>
            <a:chOff x="5765760" y="2481120"/>
            <a:chExt cx="865080" cy="576360"/>
          </a:xfrm>
        </p:grpSpPr>
        <p:sp>
          <p:nvSpPr>
            <p:cNvPr id="147" name="AutoShape 61"/>
            <p:cNvSpPr/>
            <p:nvPr/>
          </p:nvSpPr>
          <p:spPr>
            <a:xfrm>
              <a:off x="5838480" y="2520720"/>
              <a:ext cx="71892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2"/>
            <p:cNvSpPr/>
            <p:nvPr/>
          </p:nvSpPr>
          <p:spPr>
            <a:xfrm>
              <a:off x="5765760" y="248112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63"/>
          <p:cNvSpPr/>
          <p:nvPr/>
        </p:nvSpPr>
        <p:spPr>
          <a:xfrm>
            <a:off x="2100240" y="251784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4"/>
          <p:cNvSpPr/>
          <p:nvPr/>
        </p:nvSpPr>
        <p:spPr>
          <a:xfrm>
            <a:off x="3730680" y="251784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5"/>
          <p:cNvSpPr/>
          <p:nvPr/>
        </p:nvSpPr>
        <p:spPr>
          <a:xfrm>
            <a:off x="1339920" y="327348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6"/>
          <p:cNvSpPr/>
          <p:nvPr/>
        </p:nvSpPr>
        <p:spPr>
          <a:xfrm>
            <a:off x="2133720" y="327348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7"/>
          <p:cNvSpPr/>
          <p:nvPr/>
        </p:nvSpPr>
        <p:spPr>
          <a:xfrm>
            <a:off x="5727600" y="326376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8"/>
          <p:cNvSpPr/>
          <p:nvPr/>
        </p:nvSpPr>
        <p:spPr>
          <a:xfrm>
            <a:off x="3263760" y="327348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9"/>
          <p:cNvSpPr/>
          <p:nvPr/>
        </p:nvSpPr>
        <p:spPr>
          <a:xfrm rot="16200000">
            <a:off x="2748600" y="338544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0"/>
          <p:cNvSpPr/>
          <p:nvPr/>
        </p:nvSpPr>
        <p:spPr>
          <a:xfrm>
            <a:off x="728640" y="315756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1"/>
          <p:cNvGrpSpPr/>
          <p:nvPr/>
        </p:nvGrpSpPr>
        <p:grpSpPr>
          <a:xfrm>
            <a:off x="4025880" y="3236760"/>
            <a:ext cx="865080" cy="576360"/>
            <a:chOff x="4025880" y="3236760"/>
            <a:chExt cx="865080" cy="576360"/>
          </a:xfrm>
        </p:grpSpPr>
        <p:sp>
          <p:nvSpPr>
            <p:cNvPr id="158" name="AutoShape 72"/>
            <p:cNvSpPr/>
            <p:nvPr/>
          </p:nvSpPr>
          <p:spPr>
            <a:xfrm>
              <a:off x="4098600" y="3276360"/>
              <a:ext cx="71892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3"/>
            <p:cNvSpPr/>
            <p:nvPr/>
          </p:nvSpPr>
          <p:spPr>
            <a:xfrm>
              <a:off x="4025880" y="323676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74"/>
          <p:cNvSpPr/>
          <p:nvPr/>
        </p:nvSpPr>
        <p:spPr>
          <a:xfrm>
            <a:off x="6519960" y="327168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5"/>
          <p:cNvSpPr/>
          <p:nvPr/>
        </p:nvSpPr>
        <p:spPr>
          <a:xfrm>
            <a:off x="5181480" y="3154320"/>
            <a:ext cx="50508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6"/>
          <p:cNvSpPr/>
          <p:nvPr/>
        </p:nvSpPr>
        <p:spPr>
          <a:xfrm>
            <a:off x="1327320" y="402912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7"/>
          <p:cNvSpPr/>
          <p:nvPr/>
        </p:nvSpPr>
        <p:spPr>
          <a:xfrm>
            <a:off x="2120760" y="402912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8"/>
          <p:cNvSpPr/>
          <p:nvPr/>
        </p:nvSpPr>
        <p:spPr>
          <a:xfrm>
            <a:off x="2882880" y="402912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9"/>
          <p:cNvSpPr/>
          <p:nvPr/>
        </p:nvSpPr>
        <p:spPr>
          <a:xfrm>
            <a:off x="4079880" y="402912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0"/>
          <p:cNvSpPr/>
          <p:nvPr/>
        </p:nvSpPr>
        <p:spPr>
          <a:xfrm rot="16200000">
            <a:off x="3532680" y="4136040"/>
            <a:ext cx="6336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1"/>
          <p:cNvSpPr/>
          <p:nvPr/>
        </p:nvSpPr>
        <p:spPr>
          <a:xfrm>
            <a:off x="728640" y="390672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2"/>
          <p:cNvGrpSpPr/>
          <p:nvPr/>
        </p:nvGrpSpPr>
        <p:grpSpPr>
          <a:xfrm>
            <a:off x="4863960" y="3992400"/>
            <a:ext cx="865080" cy="576360"/>
            <a:chOff x="4863960" y="3992400"/>
            <a:chExt cx="865080" cy="576360"/>
          </a:xfrm>
        </p:grpSpPr>
        <p:sp>
          <p:nvSpPr>
            <p:cNvPr id="169" name="AutoShape 83"/>
            <p:cNvSpPr/>
            <p:nvPr/>
          </p:nvSpPr>
          <p:spPr>
            <a:xfrm>
              <a:off x="4936680" y="4032000"/>
              <a:ext cx="71928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4"/>
            <p:cNvSpPr/>
            <p:nvPr/>
          </p:nvSpPr>
          <p:spPr>
            <a:xfrm>
              <a:off x="4863960" y="399240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85"/>
          <p:cNvSpPr/>
          <p:nvPr/>
        </p:nvSpPr>
        <p:spPr>
          <a:xfrm>
            <a:off x="1327320" y="486900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6"/>
          <p:cNvSpPr/>
          <p:nvPr/>
        </p:nvSpPr>
        <p:spPr>
          <a:xfrm>
            <a:off x="2894040" y="486900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7"/>
          <p:cNvSpPr/>
          <p:nvPr/>
        </p:nvSpPr>
        <p:spPr>
          <a:xfrm>
            <a:off x="5005440" y="486900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8"/>
          <p:cNvSpPr/>
          <p:nvPr/>
        </p:nvSpPr>
        <p:spPr>
          <a:xfrm rot="16200000">
            <a:off x="4448880" y="491256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9"/>
          <p:cNvSpPr/>
          <p:nvPr/>
        </p:nvSpPr>
        <p:spPr>
          <a:xfrm>
            <a:off x="728640" y="469584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0"/>
          <p:cNvGrpSpPr/>
          <p:nvPr/>
        </p:nvGrpSpPr>
        <p:grpSpPr>
          <a:xfrm>
            <a:off x="5781600" y="4832280"/>
            <a:ext cx="865080" cy="576360"/>
            <a:chOff x="5781600" y="4832280"/>
            <a:chExt cx="865080" cy="576360"/>
          </a:xfrm>
        </p:grpSpPr>
        <p:sp>
          <p:nvSpPr>
            <p:cNvPr id="177" name="AutoShape 91"/>
            <p:cNvSpPr/>
            <p:nvPr/>
          </p:nvSpPr>
          <p:spPr>
            <a:xfrm>
              <a:off x="5854320" y="4871880"/>
              <a:ext cx="71928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92"/>
            <p:cNvSpPr/>
            <p:nvPr/>
          </p:nvSpPr>
          <p:spPr>
            <a:xfrm>
              <a:off x="5781600" y="483228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93"/>
          <p:cNvSpPr/>
          <p:nvPr/>
        </p:nvSpPr>
        <p:spPr>
          <a:xfrm>
            <a:off x="2106720" y="486900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4"/>
          <p:cNvSpPr/>
          <p:nvPr/>
        </p:nvSpPr>
        <p:spPr>
          <a:xfrm>
            <a:off x="3686040" y="486900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5"/>
          <p:cNvSpPr/>
          <p:nvPr/>
        </p:nvSpPr>
        <p:spPr>
          <a:xfrm>
            <a:off x="1378080" y="560232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6"/>
          <p:cNvSpPr/>
          <p:nvPr/>
        </p:nvSpPr>
        <p:spPr>
          <a:xfrm>
            <a:off x="2944800" y="5602320"/>
            <a:ext cx="719280" cy="50328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4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7"/>
          <p:cNvSpPr/>
          <p:nvPr/>
        </p:nvSpPr>
        <p:spPr>
          <a:xfrm>
            <a:off x="5056200" y="5602320"/>
            <a:ext cx="719280" cy="503280"/>
          </a:xfrm>
          <a:prstGeom prst="beve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82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8"/>
          <p:cNvSpPr/>
          <p:nvPr/>
        </p:nvSpPr>
        <p:spPr>
          <a:xfrm rot="16200000">
            <a:off x="4475880" y="5671440"/>
            <a:ext cx="6336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9"/>
          <p:cNvSpPr/>
          <p:nvPr/>
        </p:nvSpPr>
        <p:spPr>
          <a:xfrm>
            <a:off x="728640" y="5481720"/>
            <a:ext cx="504720" cy="419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p.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A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00"/>
          <p:cNvGrpSpPr/>
          <p:nvPr/>
        </p:nvGrpSpPr>
        <p:grpSpPr>
          <a:xfrm>
            <a:off x="5832360" y="5565600"/>
            <a:ext cx="865080" cy="576360"/>
            <a:chOff x="5832360" y="5565600"/>
            <a:chExt cx="865080" cy="576360"/>
          </a:xfrm>
        </p:grpSpPr>
        <p:sp>
          <p:nvSpPr>
            <p:cNvPr id="187" name="AutoShape 101"/>
            <p:cNvSpPr/>
            <p:nvPr/>
          </p:nvSpPr>
          <p:spPr>
            <a:xfrm>
              <a:off x="5905080" y="5605200"/>
              <a:ext cx="719280" cy="503280"/>
            </a:xfrm>
            <a:prstGeom prst="bevel">
              <a:avLst>
                <a:gd name="adj" fmla="val 125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* 439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2"/>
            <p:cNvSpPr/>
            <p:nvPr/>
          </p:nvSpPr>
          <p:spPr>
            <a:xfrm>
              <a:off x="5832360" y="5565600"/>
              <a:ext cx="865080" cy="576360"/>
            </a:xfrm>
            <a:prstGeom prst="bracketPair">
              <a:avLst>
                <a:gd name="adj" fmla="val 9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03"/>
          <p:cNvSpPr/>
          <p:nvPr/>
        </p:nvSpPr>
        <p:spPr>
          <a:xfrm>
            <a:off x="2157480" y="5602320"/>
            <a:ext cx="718920" cy="50328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439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4"/>
          <p:cNvSpPr/>
          <p:nvPr/>
        </p:nvSpPr>
        <p:spPr>
          <a:xfrm>
            <a:off x="3736800" y="5602320"/>
            <a:ext cx="828720" cy="5032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-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338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5"/>
          <p:cNvSpPr/>
          <p:nvPr/>
        </p:nvSpPr>
        <p:spPr>
          <a:xfrm rot="16200000">
            <a:off x="1993680" y="402588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6"/>
          <p:cNvSpPr/>
          <p:nvPr/>
        </p:nvSpPr>
        <p:spPr>
          <a:xfrm rot="16200000">
            <a:off x="2743200" y="1713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7"/>
          <p:cNvSpPr/>
          <p:nvPr/>
        </p:nvSpPr>
        <p:spPr>
          <a:xfrm>
            <a:off x="919800" y="6172200"/>
            <a:ext cx="8059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phase duration subject to change after obtaining the statistical information from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) middle phase test after intermediate soak may be required for HEV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8"/>
          <p:cNvSpPr/>
          <p:nvPr/>
        </p:nvSpPr>
        <p:spPr>
          <a:xfrm rot="16200000">
            <a:off x="3632040" y="47872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9"/>
          <p:cNvSpPr/>
          <p:nvPr/>
        </p:nvSpPr>
        <p:spPr>
          <a:xfrm>
            <a:off x="2453760" y="233352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0"/>
          <p:cNvSpPr/>
          <p:nvPr/>
        </p:nvSpPr>
        <p:spPr>
          <a:xfrm>
            <a:off x="1671120" y="46702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1"/>
          <p:cNvSpPr/>
          <p:nvPr/>
        </p:nvSpPr>
        <p:spPr>
          <a:xfrm>
            <a:off x="3245760" y="54100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amp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2"/>
          <p:cNvSpPr/>
          <p:nvPr/>
        </p:nvSpPr>
        <p:spPr>
          <a:xfrm>
            <a:off x="4945680" y="1509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3"/>
          <p:cNvSpPr/>
          <p:nvPr/>
        </p:nvSpPr>
        <p:spPr>
          <a:xfrm>
            <a:off x="5796360" y="23083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4"/>
          <p:cNvSpPr/>
          <p:nvPr/>
        </p:nvSpPr>
        <p:spPr>
          <a:xfrm>
            <a:off x="4042440" y="30686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5"/>
          <p:cNvSpPr/>
          <p:nvPr/>
        </p:nvSpPr>
        <p:spPr>
          <a:xfrm>
            <a:off x="4894920" y="38289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6"/>
          <p:cNvSpPr/>
          <p:nvPr/>
        </p:nvSpPr>
        <p:spPr>
          <a:xfrm>
            <a:off x="5823360" y="4659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7"/>
          <p:cNvSpPr/>
          <p:nvPr/>
        </p:nvSpPr>
        <p:spPr>
          <a:xfrm>
            <a:off x="5856840" y="54007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スライド番号プレースホルダ 117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5025-2F57-4B25-86FB-3EC7BBA1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.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44440" y="1143000"/>
          <a:ext cx="8594640" cy="5337000"/>
        </p:xfrm>
        <a:graphic>
          <a:graphicData uri="http://schemas.openxmlformats.org/drawingml/2006/table">
            <a:tbl>
              <a:tblPr/>
              <a:tblGrid>
                <a:gridCol w="822240"/>
                <a:gridCol w="914400"/>
                <a:gridCol w="1219320"/>
                <a:gridCol w="1447920"/>
                <a:gridCol w="1447560"/>
                <a:gridCol w="1752840"/>
                <a:gridCol w="990360"/>
              </a:tblGrid>
              <a:tr h="87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bur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rd and/or sof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concentration pollut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F (weighting fact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f necessar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61"/>
          <p:cNvSpPr/>
          <p:nvPr/>
        </p:nvSpPr>
        <p:spPr>
          <a:xfrm>
            <a:off x="253080" y="7621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: BAD,  W : WORSE,   C 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6"/>
          <p:cNvSpPr/>
          <p:nvPr/>
        </p:nvSpPr>
        <p:spPr>
          <a:xfrm>
            <a:off x="1600200" y="3164040"/>
            <a:ext cx="5905440" cy="1595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tudy on each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o get agreement before starting validation tes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スライド番号プレースホルダ 70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3840-7BDE-49AA-B6DE-71FC3306F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7697-1265-4743-8587-80E4A68B1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57200" y="981000"/>
            <a:ext cx="82296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EB09-AA8B-4EB8-B97B-A97B7AE5B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. Validation - Over View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21560" y="95256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Jul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501120" y="22096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783080" y="37004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p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636840" y="5348160"/>
            <a:ext cx="807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start each te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phase is necessary taking into account of the follo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est plan, 2) Participant CPs, Laboratories, 3) Vehicle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Measurement Items, 5) Test Criteria, 6)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5"/>
          <p:cNvSpPr/>
          <p:nvPr/>
        </p:nvSpPr>
        <p:spPr>
          <a:xfrm>
            <a:off x="3409920" y="1114560"/>
            <a:ext cx="23889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e New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3405600" y="2328840"/>
            <a:ext cx="52617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e new Test Procedure with New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the OIL (Open Issue List)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3407040" y="3548160"/>
            <a:ext cx="548136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rm the Adaptability of Existing Equi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Additional Pollutants Meas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Correlation between the Laborat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1"/>
          <p:cNvSpPr/>
          <p:nvPr/>
        </p:nvSpPr>
        <p:spPr>
          <a:xfrm>
            <a:off x="1747800" y="1109520"/>
            <a:ext cx="1662120" cy="1143000"/>
          </a:xfrm>
          <a:prstGeom prst="downArrowCallout">
            <a:avLst>
              <a:gd name="adj1" fmla="val 36358"/>
              <a:gd name="adj2" fmla="val 363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2"/>
          <p:cNvSpPr/>
          <p:nvPr/>
        </p:nvSpPr>
        <p:spPr>
          <a:xfrm>
            <a:off x="1747800" y="2328840"/>
            <a:ext cx="1662120" cy="1143000"/>
          </a:xfrm>
          <a:prstGeom prst="downArrowCallout">
            <a:avLst>
              <a:gd name="adj1" fmla="val 36358"/>
              <a:gd name="adj2" fmla="val 363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3"/>
          <p:cNvSpPr/>
          <p:nvPr/>
        </p:nvSpPr>
        <p:spPr>
          <a:xfrm>
            <a:off x="1747800" y="3548160"/>
            <a:ext cx="1662120" cy="1143000"/>
          </a:xfrm>
          <a:prstGeom prst="downArrowCallout">
            <a:avLst>
              <a:gd name="adj1" fmla="val 36358"/>
              <a:gd name="adj2" fmla="val 363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4"/>
          <p:cNvSpPr/>
          <p:nvPr/>
        </p:nvSpPr>
        <p:spPr>
          <a:xfrm>
            <a:off x="1569960" y="4743360"/>
            <a:ext cx="1986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493920" y="34146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p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3"/>
          <p:cNvSpPr/>
          <p:nvPr/>
        </p:nvSpPr>
        <p:spPr>
          <a:xfrm rot="5148600">
            <a:off x="1455480" y="97776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4"/>
          <p:cNvSpPr/>
          <p:nvPr/>
        </p:nvSpPr>
        <p:spPr>
          <a:xfrm rot="5148600">
            <a:off x="1479240" y="22111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5"/>
          <p:cNvSpPr/>
          <p:nvPr/>
        </p:nvSpPr>
        <p:spPr>
          <a:xfrm rot="5148600">
            <a:off x="1460160" y="341604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スライド番号プレースホルダ 17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6FCA-E785-46A5-8344-12F91C01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Test Plan for Validation 1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90960" y="685800"/>
            <a:ext cx="550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 CP and/or Labor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hic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Japa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95240" y="3886200"/>
          <a:ext cx="7967880" cy="1676520"/>
        </p:xfrm>
        <a:graphic>
          <a:graphicData uri="http://schemas.openxmlformats.org/drawingml/2006/table">
            <a:tbl>
              <a:tblPr/>
              <a:tblGrid>
                <a:gridCol w="1139760"/>
                <a:gridCol w="4186440"/>
                <a:gridCol w="1398600"/>
                <a:gridCol w="1243080"/>
              </a:tblGrid>
              <a:tr h="349200"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to mass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vol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end (20~40 kW/t ) : Passenger &amp;Tru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end (100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/t or more ) : Passen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Top 5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veh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1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V/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must during validation 1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851040" y="1155600"/>
          <a:ext cx="6019560" cy="2208240"/>
        </p:xfrm>
        <a:graphic>
          <a:graphicData uri="http://schemas.openxmlformats.org/drawingml/2006/table">
            <a:tbl>
              <a:tblPr/>
              <a:tblGrid>
                <a:gridCol w="3009600"/>
                <a:gridCol w="3009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ng Par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a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EL, JARI, J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C, U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A, J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23"/>
          <p:cNvSpPr/>
          <p:nvPr/>
        </p:nvSpPr>
        <p:spPr>
          <a:xfrm>
            <a:off x="731160" y="5605560"/>
            <a:ext cx="508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Start Test : LOW and MIDDLE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tart Test : ALL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スライド番号プレースホルダ 49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0E87-E314-4122-901C-DDAFF44E8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457200" y="1295280"/>
          <a:ext cx="8229600" cy="4991400"/>
        </p:xfrm>
        <a:graphic>
          <a:graphicData uri="http://schemas.openxmlformats.org/drawingml/2006/table">
            <a:tbl>
              <a:tblPr/>
              <a:tblGrid>
                <a:gridCol w="2514600"/>
                <a:gridCol w="3429000"/>
                <a:gridCol w="2286000"/>
              </a:tblGrid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ach mou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ing index by SAE J2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n roller counter(10Hz or mo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 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re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roller speed and tire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l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priate shift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tch off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 3kph within +/-1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 Pedal An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al Sen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of Test Dri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 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nai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Pollutants - CO2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ach ph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 (&amp; continuous)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Pollutants - others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ach ph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g (&amp; continuous)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29"/>
          <p:cNvSpPr/>
          <p:nvPr/>
        </p:nvSpPr>
        <p:spPr>
          <a:xfrm>
            <a:off x="393840" y="72396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Measurement Items and Test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6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 Test Plan for Validation 1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6"/>
          <p:cNvSpPr/>
          <p:nvPr/>
        </p:nvSpPr>
        <p:spPr>
          <a:xfrm>
            <a:off x="444240" y="6299280"/>
            <a:ext cx="133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NOT MU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5"/>
          <p:cNvSpPr/>
          <p:nvPr/>
        </p:nvSpPr>
        <p:spPr>
          <a:xfrm>
            <a:off x="5704560" y="9288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tests : at least 3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スライド番号プレースホルダ 4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4340-25F8-467E-9D0E-7687F296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88A4-C8F5-41B7-8535-200E1AEE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855C-6242-4D01-ACF1-E1C7C5DEA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A08D-135E-46D3-960F-26DBD3C3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4351-0386-469A-8F1B-1C6E5DE75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Nex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280" y="812880"/>
          <a:ext cx="8864640" cy="5742000"/>
        </p:xfrm>
        <a:graphic>
          <a:graphicData uri="http://schemas.openxmlformats.org/drawingml/2006/table">
            <a:tbl>
              <a:tblPr/>
              <a:tblGrid>
                <a:gridCol w="1729080"/>
                <a:gridCol w="714240"/>
                <a:gridCol w="714240"/>
                <a:gridCol w="714600"/>
                <a:gridCol w="699840"/>
                <a:gridCol w="725760"/>
                <a:gridCol w="712800"/>
                <a:gridCol w="714240"/>
                <a:gridCol w="712800"/>
                <a:gridCol w="714240"/>
                <a:gridCol w="712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                                                                       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use data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harmonized 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104"/>
          <p:cNvSpPr/>
          <p:nvPr/>
        </p:nvSpPr>
        <p:spPr>
          <a:xfrm>
            <a:off x="1514160" y="1905120"/>
            <a:ext cx="153720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hreshold of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phase constr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ment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hreshold of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5"/>
          <p:cNvSpPr/>
          <p:nvPr/>
        </p:nvSpPr>
        <p:spPr>
          <a:xfrm>
            <a:off x="1905120" y="3048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6"/>
          <p:cNvSpPr/>
          <p:nvPr/>
        </p:nvSpPr>
        <p:spPr>
          <a:xfrm flipH="1">
            <a:off x="6400800" y="5041800"/>
            <a:ext cx="2603520" cy="457200"/>
          </a:xfrm>
          <a:prstGeom prst="rightArrow">
            <a:avLst>
              <a:gd name="adj1" fmla="val 50000"/>
              <a:gd name="adj2" fmla="val 9279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7"/>
          <p:cNvSpPr/>
          <p:nvPr/>
        </p:nvSpPr>
        <p:spPr>
          <a:xfrm>
            <a:off x="4648320" y="5041800"/>
            <a:ext cx="1523880" cy="484200"/>
          </a:xfrm>
          <a:prstGeom prst="rightArrow">
            <a:avLst>
              <a:gd name="adj1" fmla="val 50000"/>
              <a:gd name="adj2" fmla="val 5128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8"/>
          <p:cNvSpPr/>
          <p:nvPr/>
        </p:nvSpPr>
        <p:spPr>
          <a:xfrm>
            <a:off x="1981080" y="4102200"/>
            <a:ext cx="2133720" cy="304560"/>
          </a:xfrm>
          <a:prstGeom prst="rightArrow">
            <a:avLst>
              <a:gd name="adj1" fmla="val 50000"/>
              <a:gd name="adj2" fmla="val 13606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9"/>
          <p:cNvSpPr/>
          <p:nvPr/>
        </p:nvSpPr>
        <p:spPr>
          <a:xfrm>
            <a:off x="1981080" y="4483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0"/>
          <p:cNvSpPr/>
          <p:nvPr/>
        </p:nvSpPr>
        <p:spPr>
          <a:xfrm>
            <a:off x="1828080" y="4483080"/>
            <a:ext cx="7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1"/>
          <p:cNvSpPr/>
          <p:nvPr/>
        </p:nvSpPr>
        <p:spPr>
          <a:xfrm>
            <a:off x="2666880" y="4483080"/>
            <a:ext cx="1435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2"/>
          <p:cNvSpPr/>
          <p:nvPr/>
        </p:nvSpPr>
        <p:spPr>
          <a:xfrm>
            <a:off x="2819520" y="4559400"/>
            <a:ext cx="129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raft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3"/>
          <p:cNvSpPr/>
          <p:nvPr/>
        </p:nvSpPr>
        <p:spPr>
          <a:xfrm>
            <a:off x="1935000" y="3505320"/>
            <a:ext cx="1417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EAD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4"/>
          <p:cNvSpPr/>
          <p:nvPr/>
        </p:nvSpPr>
        <p:spPr>
          <a:xfrm>
            <a:off x="1981080" y="1676520"/>
            <a:ext cx="735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15"/>
          <p:cNvSpPr/>
          <p:nvPr/>
        </p:nvSpPr>
        <p:spPr>
          <a:xfrm>
            <a:off x="2743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6"/>
          <p:cNvSpPr/>
          <p:nvPr/>
        </p:nvSpPr>
        <p:spPr>
          <a:xfrm>
            <a:off x="5257800" y="1676520"/>
            <a:ext cx="81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17"/>
          <p:cNvSpPr/>
          <p:nvPr/>
        </p:nvSpPr>
        <p:spPr>
          <a:xfrm>
            <a:off x="242568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18"/>
          <p:cNvSpPr/>
          <p:nvPr/>
        </p:nvSpPr>
        <p:spPr>
          <a:xfrm>
            <a:off x="4191120" y="4025880"/>
            <a:ext cx="1981080" cy="457200"/>
          </a:xfrm>
          <a:prstGeom prst="rightArrow">
            <a:avLst>
              <a:gd name="adj1" fmla="val 50000"/>
              <a:gd name="adj2" fmla="val 6417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y, if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0"/>
          <p:cNvSpPr/>
          <p:nvPr/>
        </p:nvSpPr>
        <p:spPr>
          <a:xfrm>
            <a:off x="3353400" y="5270400"/>
            <a:ext cx="102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21"/>
          <p:cNvSpPr/>
          <p:nvPr/>
        </p:nvSpPr>
        <p:spPr>
          <a:xfrm>
            <a:off x="6248520" y="5334120"/>
            <a:ext cx="228600" cy="850680"/>
          </a:xfrm>
          <a:custGeom>
            <a:avLst/>
            <a:gdLst>
              <a:gd name="textAreaLeft" fmla="*/ 0 w 228600"/>
              <a:gd name="textAreaRight" fmla="*/ 228960 w 2286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44" h="240">
                <a:moveTo>
                  <a:pt x="0" y="240"/>
                </a:moveTo>
                <a:lnTo>
                  <a:pt x="144" y="24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2"/>
          <p:cNvSpPr/>
          <p:nvPr/>
        </p:nvSpPr>
        <p:spPr>
          <a:xfrm>
            <a:off x="2977560" y="6172200"/>
            <a:ext cx="1828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raft test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3"/>
          <p:cNvSpPr/>
          <p:nvPr/>
        </p:nvSpPr>
        <p:spPr>
          <a:xfrm>
            <a:off x="3200400" y="5270400"/>
            <a:ext cx="143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4"/>
          <p:cNvSpPr/>
          <p:nvPr/>
        </p:nvSpPr>
        <p:spPr>
          <a:xfrm>
            <a:off x="1892160" y="6184800"/>
            <a:ext cx="4280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5"/>
          <p:cNvSpPr/>
          <p:nvPr/>
        </p:nvSpPr>
        <p:spPr>
          <a:xfrm>
            <a:off x="3589920" y="1523880"/>
            <a:ext cx="933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6"/>
          <p:cNvSpPr/>
          <p:nvPr/>
        </p:nvSpPr>
        <p:spPr>
          <a:xfrm>
            <a:off x="32767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27"/>
          <p:cNvSpPr/>
          <p:nvPr/>
        </p:nvSpPr>
        <p:spPr>
          <a:xfrm>
            <a:off x="1981080" y="5638680"/>
            <a:ext cx="130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8"/>
          <p:cNvSpPr/>
          <p:nvPr/>
        </p:nvSpPr>
        <p:spPr>
          <a:xfrm>
            <a:off x="205884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29"/>
          <p:cNvSpPr/>
          <p:nvPr/>
        </p:nvSpPr>
        <p:spPr>
          <a:xfrm>
            <a:off x="4191120" y="565164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0"/>
          <p:cNvSpPr/>
          <p:nvPr/>
        </p:nvSpPr>
        <p:spPr>
          <a:xfrm>
            <a:off x="4649760" y="56386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 6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2"/>
          <p:cNvSpPr/>
          <p:nvPr/>
        </p:nvSpPr>
        <p:spPr>
          <a:xfrm>
            <a:off x="4114800" y="198108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3"/>
          <p:cNvSpPr/>
          <p:nvPr/>
        </p:nvSpPr>
        <p:spPr>
          <a:xfrm>
            <a:off x="4419720" y="1981080"/>
            <a:ext cx="734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4"/>
          <p:cNvSpPr/>
          <p:nvPr/>
        </p:nvSpPr>
        <p:spPr>
          <a:xfrm>
            <a:off x="8534520" y="1600200"/>
            <a:ext cx="304560" cy="289080"/>
          </a:xfrm>
          <a:custGeom>
            <a:avLst/>
            <a:gdLst>
              <a:gd name="textAreaLeft" fmla="*/ 93960 w 304560"/>
              <a:gd name="textAreaRight" fmla="*/ 210600 w 30456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5"/>
          <p:cNvSpPr/>
          <p:nvPr/>
        </p:nvSpPr>
        <p:spPr>
          <a:xfrm>
            <a:off x="7550280" y="1676520"/>
            <a:ext cx="915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6"/>
          <p:cNvSpPr/>
          <p:nvPr/>
        </p:nvSpPr>
        <p:spPr>
          <a:xfrm>
            <a:off x="6172200" y="1600200"/>
            <a:ext cx="304920" cy="289080"/>
          </a:xfrm>
          <a:custGeom>
            <a:avLst/>
            <a:gdLst>
              <a:gd name="textAreaLeft" fmla="*/ 94320 w 304920"/>
              <a:gd name="textAreaRight" fmla="*/ 210600 w 304920"/>
              <a:gd name="textAreaTop" fmla="*/ 110520 h 289080"/>
              <a:gd name="textAreaBottom" fmla="*/ 221040 h 289080"/>
            </a:gdLst>
            <a:ahLst/>
            <a:rect l="textAreaLeft" t="textAreaTop" r="textAreaRight" b="textAreaBottom"/>
            <a:pathLst>
              <a:path w="304800" h="288925">
                <a:moveTo>
                  <a:pt x="0" y="110359"/>
                </a:moveTo>
                <a:lnTo>
                  <a:pt x="116424" y="110360"/>
                </a:lnTo>
                <a:lnTo>
                  <a:pt x="152400" y="0"/>
                </a:lnTo>
                <a:lnTo>
                  <a:pt x="188376" y="110360"/>
                </a:lnTo>
                <a:lnTo>
                  <a:pt x="304800" y="110359"/>
                </a:lnTo>
                <a:lnTo>
                  <a:pt x="210611" y="178565"/>
                </a:lnTo>
                <a:lnTo>
                  <a:pt x="246588" y="288924"/>
                </a:lnTo>
                <a:lnTo>
                  <a:pt x="152400" y="220718"/>
                </a:lnTo>
                <a:lnTo>
                  <a:pt x="58212" y="288924"/>
                </a:lnTo>
                <a:lnTo>
                  <a:pt x="94189" y="1785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7"/>
          <p:cNvSpPr/>
          <p:nvPr/>
        </p:nvSpPr>
        <p:spPr>
          <a:xfrm>
            <a:off x="5549760" y="1955880"/>
            <a:ext cx="184176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im Report of Valida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ed plan for Valid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reement of  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nd WLTC for Validatio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8"/>
          <p:cNvSpPr/>
          <p:nvPr/>
        </p:nvSpPr>
        <p:spPr>
          <a:xfrm>
            <a:off x="7696080" y="2133720"/>
            <a:ext cx="1447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Interim Report of Valid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9"/>
          <p:cNvSpPr/>
          <p:nvPr/>
        </p:nvSpPr>
        <p:spPr>
          <a:xfrm>
            <a:off x="3352680" y="57913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0"/>
          <p:cNvSpPr/>
          <p:nvPr/>
        </p:nvSpPr>
        <p:spPr>
          <a:xfrm>
            <a:off x="353268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2"/>
          <p:cNvSpPr/>
          <p:nvPr/>
        </p:nvSpPr>
        <p:spPr>
          <a:xfrm>
            <a:off x="2629080" y="30607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3"/>
          <p:cNvSpPr/>
          <p:nvPr/>
        </p:nvSpPr>
        <p:spPr>
          <a:xfrm>
            <a:off x="3291120" y="3429000"/>
            <a:ext cx="26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ADLINE for cycl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4"/>
          <p:cNvSpPr/>
          <p:nvPr/>
        </p:nvSpPr>
        <p:spPr>
          <a:xfrm>
            <a:off x="3213000" y="3289320"/>
            <a:ext cx="304920" cy="263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4"/>
          <p:cNvSpPr/>
          <p:nvPr/>
        </p:nvSpPr>
        <p:spPr>
          <a:xfrm>
            <a:off x="3180600" y="2438280"/>
            <a:ext cx="12445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al of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線コネクタ 48"/>
          <p:cNvSpPr/>
          <p:nvPr/>
        </p:nvSpPr>
        <p:spPr>
          <a:xfrm>
            <a:off x="34290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9"/>
          <p:cNvSpPr/>
          <p:nvPr/>
        </p:nvSpPr>
        <p:spPr>
          <a:xfrm>
            <a:off x="4419720" y="2209680"/>
            <a:ext cx="114300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tion of Draft  WL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 for Validatio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スライド番号プレースホルダ 4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54D9-2A54-4830-AC19-638C4197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469A-576F-4DF7-B1C5-9DEDC7495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C3F4-288A-43EA-A67F-03046BFAF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09600" y="6224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 In-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125360"/>
          <a:ext cx="8223480" cy="2171880"/>
        </p:xfrm>
        <a:graphic>
          <a:graphicData uri="http://schemas.openxmlformats.org/drawingml/2006/table">
            <a:tbl>
              <a:tblPr/>
              <a:tblGrid>
                <a:gridCol w="1370160"/>
                <a:gridCol w="3225600"/>
                <a:gridCol w="3627720"/>
              </a:tblGrid>
              <a:tr h="32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use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Statistical Inform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7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-202680" y="3517920"/>
            <a:ext cx="854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Methodolog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as agreed by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 to WLTP-DHC-06-03e.rev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6227640" y="72072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3 June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8"/>
          <p:cNvSpPr/>
          <p:nvPr/>
        </p:nvSpPr>
        <p:spPr>
          <a:xfrm>
            <a:off x="309600" y="4379760"/>
            <a:ext cx="830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Threshold spe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as agreed by 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fer to WLTP-DHC-07-02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71680" y="5181480"/>
          <a:ext cx="8191440" cy="1535400"/>
        </p:xfrm>
        <a:graphic>
          <a:graphicData uri="http://schemas.openxmlformats.org/drawingml/2006/table">
            <a:tbl>
              <a:tblPr/>
              <a:tblGrid>
                <a:gridCol w="2503440"/>
                <a:gridCol w="56880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vehicle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*≦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km/h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*≦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km/h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*≦110 km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km/h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ax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スライド番号プレースホルダ 4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ED1F-186F-4BDC-8227-C3FBF456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AF8A-E448-4B42-81A6-84D3B012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B6B1-61EA-4EFE-896C-08C6B7B27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4445-5F7B-4854-B964-A49F8A7E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pen Issue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2000" y="762120"/>
          <a:ext cx="8800920" cy="5816520"/>
        </p:xfrm>
        <a:graphic>
          <a:graphicData uri="http://schemas.openxmlformats.org/drawingml/2006/table">
            <a:tbl>
              <a:tblPr/>
              <a:tblGrid>
                <a:gridCol w="419040"/>
                <a:gridCol w="2514600"/>
                <a:gridCol w="2467080"/>
                <a:gridCol w="340020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/ 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line for submission of driving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 and China requested deadline be extended to M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ycle development should be started just after 8</a:t>
                      </a:r>
                      <a:r>
                        <a:rPr b="1" lang="en-US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DHC meeting. Later data submission is still open for analysi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39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Weighting when developing the WL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ed weigh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pect to get agreement during the 8</a:t>
                      </a:r>
                      <a:r>
                        <a:rPr b="1" lang="en-US" sz="16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 for L/M/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DHC-06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’s requi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 speeds of 60, 80 and 110km/h were agreed for the cycle phases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4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 indent="921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hase Cycle Construction (US&amp;EU versus other reg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ONE unified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17280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ess TWO types of High phase cyc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21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as agreed to possess two (2) types of HIGH phase cycle during 7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389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cold start test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cold start &amp; hot soak 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mode constructions are introduced during 8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HC meeting. Further analysis is necessary during the validation 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9" name="WordArt 65"/>
          <p:cNvSpPr txBox="1"/>
          <p:nvPr/>
        </p:nvSpPr>
        <p:spPr>
          <a:xfrm>
            <a:off x="1943280" y="40384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LOS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スライド番号プレースホルダ 6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5A52-94CC-4AD5-8585-B98580B41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スライド番号プレースホルダ 1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7B91-EAE5-4148-B082-209C1EB69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Open Issues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33520" y="9144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762120"/>
          <a:ext cx="8839440" cy="5833800"/>
        </p:xfrm>
        <a:graphic>
          <a:graphicData uri="http://schemas.openxmlformats.org/drawingml/2006/table">
            <a:tbl>
              <a:tblPr/>
              <a:tblGrid>
                <a:gridCol w="381240"/>
                <a:gridCol w="2666880"/>
                <a:gridCol w="2743200"/>
                <a:gridCol w="30481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que Weighting Factor for L/M/H 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 regional weighting fac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s target of Informal Gro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 the possibility to accept b) for only CO2/Fuel consum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r Shift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vehicle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. Ericsson, Mr. Steven, JRC and JARI work together to finalize the method before developing the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L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treat the vehicles which are not able to follow the prescribed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to drive with wide-open-thro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t the H (or M&amp;H) phase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the proposal during validation 1 tes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the driving profile based on the vehicle 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the in-use data based on vehicle characteristic  (i.e. power to mass rat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スライド番号プレースホルダ 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F02B-3913-4E13-B782-3E2641CAC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スライド番号プレースホルダ 3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646B-E114-4948-AC69-B26A4942D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pen issu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we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Mod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Valid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x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スライド番号プレースホルダ 4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FE59-4CCB-4D2E-B5D9-0D7761CEA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Possible options for regional 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options for regional weighting when developing the unified driving characteristic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/Middle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85840" y="1920960"/>
          <a:ext cx="8705880" cy="2106360"/>
        </p:xfrm>
        <a:graphic>
          <a:graphicData uri="http://schemas.openxmlformats.org/drawingml/2006/table">
            <a:tbl>
              <a:tblPr/>
              <a:tblGrid>
                <a:gridCol w="933480"/>
                <a:gridCol w="1066680"/>
                <a:gridCol w="1066680"/>
                <a:gridCol w="1067040"/>
                <a:gridCol w="1066680"/>
                <a:gridCol w="1066680"/>
                <a:gridCol w="1067040"/>
                <a:gridCol w="1371600"/>
              </a:tblGrid>
              <a:tr h="54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ndia 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Jus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3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raffic volume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 :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M :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53"/>
          <p:cNvSpPr/>
          <p:nvPr/>
        </p:nvSpPr>
        <p:spPr>
          <a:xfrm>
            <a:off x="304920" y="4114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expect to change after obtaining the traffic statistical data from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4"/>
          <p:cNvSpPr/>
          <p:nvPr/>
        </p:nvSpPr>
        <p:spPr>
          <a:xfrm>
            <a:off x="304920" y="5210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 equal weighting for contracting parties submit in-use driving data ( consider Switzerland as part of EU reg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: based on population, vehicle density and increasing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: based on traffic volume, same logic as High/extra-High phases we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5"/>
          <p:cNvSpPr/>
          <p:nvPr/>
        </p:nvSpPr>
        <p:spPr>
          <a:xfrm>
            <a:off x="304920" y="441972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tal traffic volume of India is estimated based on WORLD ROAD STSTISTICS 2009 DATA 2002-2007   using an average speed of 27 km/h and an increase of traffic volume of 51% between 2002 and 2006.(http://www.irfnet.org/statistics.ph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スライド番号プレースホルダ 55"/>
          <p:cNvSpPr/>
          <p:nvPr/>
        </p:nvSpPr>
        <p:spPr>
          <a:xfrm>
            <a:off x="8610480" y="663588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3CE2-6C9B-4A77-9A24-7B56A403B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hii</dc:creator>
  <dc:description/>
  <dc:language>en-US</dc:language>
  <cp:lastModifiedBy>ishii</cp:lastModifiedBy>
  <dcterms:modified xsi:type="dcterms:W3CDTF">2011-06-06T14:52:13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