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6381-D52B-4280-AAA6-ABF9F5F9B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908B-98B2-4367-B0A4-F1E6DAE6E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D133-7B2E-48C1-A714-C413403C6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FAFC-E40A-4547-B4B7-B21D53C01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63F1-A21F-4D8E-A00B-3003446BD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A6E7-6397-4EDD-B651-43C5344ED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5DE1-F4E9-457B-80C0-0B407804C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F96F-AF78-42EC-B52A-1B46B2718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053F-5493-450C-B5BB-253C1709A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CEE1-7ED0-425A-AD23-3DD4ABA0B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878D-FF6F-4F23-B658-9B9446F46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F939-EA43-4D4E-8C0A-F8506CC88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E644-F1A6-42F5-B588-12ED6EA50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7-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867-3E44-41F0-8B02-718476BB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velopment of World-wide Light-duty Test Cycle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- Proposal for the threshold vehicle speed of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/Middle/High(/extra-High) phase -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78144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ed by JRC, Mr. Steven and Ms. Eric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009880" y="477216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Ma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A, 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13DA-0731-4B1E-B169-BE463180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U/R/M analysis – other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219240" y="6176880"/>
            <a:ext cx="8686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each distribution was observed in each road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0"/>
          <p:cNvGrpSpPr/>
          <p:nvPr/>
        </p:nvGrpSpPr>
        <p:grpSpPr>
          <a:xfrm>
            <a:off x="76320" y="809640"/>
            <a:ext cx="8975520" cy="5286240"/>
            <a:chOff x="76320" y="809640"/>
            <a:chExt cx="8975520" cy="5286240"/>
          </a:xfrm>
        </p:grpSpPr>
        <p:pic>
          <p:nvPicPr>
            <p:cNvPr id="97" name="Picture 27" descr=""/>
            <p:cNvPicPr/>
            <p:nvPr/>
          </p:nvPicPr>
          <p:blipFill>
            <a:blip r:embed="rId1"/>
            <a:stretch/>
          </p:blipFill>
          <p:spPr>
            <a:xfrm>
              <a:off x="76320" y="809640"/>
              <a:ext cx="8975520" cy="19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8" descr=""/>
            <p:cNvPicPr/>
            <p:nvPr/>
          </p:nvPicPr>
          <p:blipFill>
            <a:blip r:embed="rId2"/>
            <a:stretch/>
          </p:blipFill>
          <p:spPr>
            <a:xfrm>
              <a:off x="76320" y="2695320"/>
              <a:ext cx="8975520" cy="17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9" descr=""/>
            <p:cNvPicPr/>
            <p:nvPr/>
          </p:nvPicPr>
          <p:blipFill>
            <a:blip r:embed="rId3"/>
            <a:stretch/>
          </p:blipFill>
          <p:spPr>
            <a:xfrm>
              <a:off x="76320" y="4386240"/>
              <a:ext cx="8975520" cy="17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AutoShape 31"/>
          <p:cNvSpPr/>
          <p:nvPr/>
        </p:nvSpPr>
        <p:spPr>
          <a:xfrm>
            <a:off x="7620120" y="144792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2"/>
          <p:cNvSpPr/>
          <p:nvPr/>
        </p:nvSpPr>
        <p:spPr>
          <a:xfrm>
            <a:off x="4724280" y="1447920"/>
            <a:ext cx="304920" cy="152280"/>
          </a:xfrm>
          <a:prstGeom prst="leftRightArrow">
            <a:avLst>
              <a:gd name="adj1" fmla="val 50000"/>
              <a:gd name="adj2" fmla="val 398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3"/>
          <p:cNvSpPr/>
          <p:nvPr/>
        </p:nvSpPr>
        <p:spPr>
          <a:xfrm>
            <a:off x="1905120" y="14479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4"/>
          <p:cNvSpPr/>
          <p:nvPr/>
        </p:nvSpPr>
        <p:spPr>
          <a:xfrm>
            <a:off x="6934320" y="327672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419720" y="3276720"/>
            <a:ext cx="533160" cy="152280"/>
          </a:xfrm>
          <a:prstGeom prst="leftRightArrow">
            <a:avLst>
              <a:gd name="adj1" fmla="val 50000"/>
              <a:gd name="adj2" fmla="val 696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6"/>
          <p:cNvSpPr/>
          <p:nvPr/>
        </p:nvSpPr>
        <p:spPr>
          <a:xfrm>
            <a:off x="2057400" y="3276720"/>
            <a:ext cx="228600" cy="15228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847C-21E4-48B1-B5DC-D6834043B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Summary of U/R/M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120" y="838080"/>
            <a:ext cx="8877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observed that speed-acceleration distribution/driving characteristics in each region have difference in same road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ecessary to convert to L/M/H category in where driving characteristics are less difference in each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the threshold vehicl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52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V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52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V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252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oth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5612400" y="4867920"/>
            <a:ext cx="3455280" cy="1686960"/>
            <a:chOff x="5612400" y="4867920"/>
            <a:chExt cx="3455280" cy="1686960"/>
          </a:xfrm>
        </p:grpSpPr>
        <p:sp>
          <p:nvSpPr>
            <p:cNvPr id="110" name="Text Box 15"/>
            <p:cNvSpPr/>
            <p:nvPr/>
          </p:nvSpPr>
          <p:spPr>
            <a:xfrm>
              <a:off x="7792920" y="530028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"/>
            <p:cNvSpPr/>
            <p:nvPr/>
          </p:nvSpPr>
          <p:spPr>
            <a:xfrm>
              <a:off x="5972040" y="5082840"/>
              <a:ext cx="0" cy="11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>
              <a:off x="5972040" y="6198840"/>
              <a:ext cx="232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6483240" y="5422680"/>
              <a:ext cx="1393920" cy="785520"/>
            </a:xfrm>
            <a:custGeom>
              <a:avLst/>
              <a:gdLst>
                <a:gd name="textAreaLeft" fmla="*/ 0 w 1393920"/>
                <a:gd name="textAreaRight" fmla="*/ 1394280 w 13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296" h="776">
                  <a:moveTo>
                    <a:pt x="0" y="776"/>
                  </a:moveTo>
                  <a:cubicBezTo>
                    <a:pt x="128" y="680"/>
                    <a:pt x="256" y="584"/>
                    <a:pt x="336" y="488"/>
                  </a:cubicBezTo>
                  <a:cubicBezTo>
                    <a:pt x="416" y="392"/>
                    <a:pt x="424" y="280"/>
                    <a:pt x="480" y="200"/>
                  </a:cubicBezTo>
                  <a:cubicBezTo>
                    <a:pt x="536" y="120"/>
                    <a:pt x="600" y="16"/>
                    <a:pt x="672" y="8"/>
                  </a:cubicBezTo>
                  <a:cubicBezTo>
                    <a:pt x="744" y="0"/>
                    <a:pt x="848" y="88"/>
                    <a:pt x="912" y="152"/>
                  </a:cubicBezTo>
                  <a:cubicBezTo>
                    <a:pt x="976" y="216"/>
                    <a:pt x="992" y="288"/>
                    <a:pt x="1056" y="392"/>
                  </a:cubicBezTo>
                  <a:cubicBezTo>
                    <a:pt x="1120" y="496"/>
                    <a:pt x="1256" y="712"/>
                    <a:pt x="1296" y="7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>
              <a:off x="6832800" y="5422680"/>
              <a:ext cx="96012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>
              <a:off x="6483240" y="6198840"/>
              <a:ext cx="0" cy="14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7877160" y="6198840"/>
              <a:ext cx="0" cy="14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>
              <a:off x="6483240" y="6297480"/>
              <a:ext cx="1393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6424560" y="630864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hort t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8280360" y="606384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7"/>
            <p:cNvSpPr/>
            <p:nvPr/>
          </p:nvSpPr>
          <p:spPr>
            <a:xfrm>
              <a:off x="7674120" y="5541840"/>
              <a:ext cx="121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ed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5997600" y="5068800"/>
              <a:ext cx="154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-A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H="1">
              <a:off x="7750080" y="5790960"/>
              <a:ext cx="152640" cy="2156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1"/>
            <p:cNvSpPr/>
            <p:nvPr/>
          </p:nvSpPr>
          <p:spPr>
            <a:xfrm>
              <a:off x="6454800" y="5389200"/>
              <a:ext cx="685800" cy="325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 rot="16220400">
              <a:off x="5061240" y="5424480"/>
              <a:ext cx="150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icle speed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km/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5997600" y="6303600"/>
              <a:ext cx="4381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997600" y="6227640"/>
              <a:ext cx="0" cy="145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5845320" y="63086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Id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759720" y="5867280"/>
              <a:ext cx="9604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5997600" y="573696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e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57A-8441-4BE6-AEF3-4BF8C893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56DD-703A-4DC1-9E8A-87A0EB9B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Study of 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52280" y="907920"/>
            <a:ext cx="8839440" cy="1033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arative study was conducted between the following candidat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order to find appropriate criteria, the in-use driving data were converted to L/M/H according to the following criteria, then distributions and parameters were compa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257040" y="2135160"/>
            <a:ext cx="86108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8757-A4C5-4171-B616-9A93C78E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16160" y="2349360"/>
            <a:ext cx="2587680" cy="1932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238720" y="2349360"/>
            <a:ext cx="2587680" cy="19321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Similarity of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837720"/>
            <a:ext cx="85150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average speed acceleration distribution with each region’s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s are evaluated by a normalized chi-squar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1835280" y="3571560"/>
            <a:ext cx="15552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144440" y="4508640"/>
            <a:ext cx="2922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,j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Frequency of Average distrib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084720" y="3573000"/>
            <a:ext cx="182880" cy="792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076720" y="4508640"/>
            <a:ext cx="2952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i,j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: Frequency of each region’s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4770360" y="5369040"/>
                <a:ext cx="28972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χ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Text Box 11"/>
          <p:cNvSpPr/>
          <p:nvPr/>
        </p:nvSpPr>
        <p:spPr>
          <a:xfrm>
            <a:off x="1042920" y="576432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chi-squared val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4048200" y="2851200"/>
            <a:ext cx="1008000" cy="793800"/>
          </a:xfrm>
          <a:prstGeom prst="leftRightArrow">
            <a:avLst>
              <a:gd name="adj1" fmla="val 50000"/>
              <a:gd name="adj2" fmla="val 2527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924360" y="3716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900000" y="5191200"/>
            <a:ext cx="712800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1332000" y="2036880"/>
            <a:ext cx="24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of 5 region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292720" y="2036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egion 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DB0C-24FE-4DDE-B0B5-5F544A56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76320" y="1265400"/>
            <a:ext cx="8997840" cy="4135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 Similarity of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8000" y="83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rmalized chi-squared valu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5240" y="5427720"/>
            <a:ext cx="879156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bserved that the less difference can be obtained at the threshold speed of [60/80/110/~], [60/90/110/~], [70/90/110/~] and [70/90/12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8485200" y="1230480"/>
            <a:ext cx="611280" cy="4176720"/>
          </a:xfrm>
          <a:prstGeom prst="rect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6934320" y="476280"/>
            <a:ext cx="1958760" cy="665280"/>
          </a:xfrm>
          <a:prstGeom prst="wedgeRoundRectCallout">
            <a:avLst>
              <a:gd name="adj1" fmla="val 41490"/>
              <a:gd name="adj2" fmla="val 8126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value in column is small, the criteria have similarity between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57D7-3913-4A13-90D9-37D581B79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01560" y="2349360"/>
            <a:ext cx="3297240" cy="203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5248440" y="2349360"/>
            <a:ext cx="3300120" cy="2065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Similarity of speed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837720"/>
            <a:ext cx="85150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average speed frequency distribution with each region’s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are evaluated by a normalized chi-squar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 flipV="1">
            <a:off x="1763640" y="3789360"/>
            <a:ext cx="21600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755640" y="4508640"/>
            <a:ext cx="2922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Frequency of Average distrib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 flipV="1">
            <a:off x="6372360" y="3644640"/>
            <a:ext cx="37800" cy="93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291280" y="4508640"/>
            <a:ext cx="2952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: Frequency of each region’s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5003640" y="5470560"/>
                <a:ext cx="2430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χ</m:t>
                            </m:r>
                          </m:e>
                        </m:ba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1042920" y="576432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chi-squared val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048200" y="2851200"/>
            <a:ext cx="1008000" cy="793800"/>
          </a:xfrm>
          <a:prstGeom prst="leftRightArrow">
            <a:avLst>
              <a:gd name="adj1" fmla="val 50000"/>
              <a:gd name="adj2" fmla="val 2527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924360" y="3716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900000" y="5191200"/>
            <a:ext cx="712800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684360" y="2036880"/>
            <a:ext cx="243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of 5 region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292720" y="2036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egion 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AA8-2F56-4D8E-9223-B80850F5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"/>
          <p:cNvPicPr/>
          <p:nvPr/>
        </p:nvPicPr>
        <p:blipFill>
          <a:blip r:embed="rId1"/>
          <a:stretch/>
        </p:blipFill>
        <p:spPr>
          <a:xfrm>
            <a:off x="69840" y="1257480"/>
            <a:ext cx="8997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Similarity of speed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8000" y="83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rmalized chi-squared valu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485200" y="1230480"/>
            <a:ext cx="611280" cy="4176720"/>
          </a:xfrm>
          <a:prstGeom prst="rect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52280" y="5419800"/>
            <a:ext cx="88394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bserved that the less difference can be obtained at the threshold speed of [50/80/110/~], [50/90/110/~], [60/80/110/~] and [70/90/11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934320" y="476280"/>
            <a:ext cx="1958760" cy="665280"/>
          </a:xfrm>
          <a:prstGeom prst="wedgeRoundRectCallout">
            <a:avLst>
              <a:gd name="adj1" fmla="val 41490"/>
              <a:gd name="adj2" fmla="val 8126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value in column is small, the criteria have similarity between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EAD4-A599-43DC-AD0E-A9D8EE79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9" descr=""/>
          <p:cNvPicPr/>
          <p:nvPr/>
        </p:nvPicPr>
        <p:blipFill>
          <a:blip r:embed="rId1"/>
          <a:stretch/>
        </p:blipFill>
        <p:spPr>
          <a:xfrm>
            <a:off x="1123920" y="2590920"/>
            <a:ext cx="6181920" cy="3828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Similarity of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838080"/>
            <a:ext cx="8496000" cy="136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average speed with each region’s average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are evaluated by a Relative standard deviation (RS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D(%) = Standard Deviation / Average value *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050920" y="3124080"/>
            <a:ext cx="1152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ve: 2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.D.: 1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SD: 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76720" y="3124080"/>
            <a:ext cx="1152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ve: 3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.D.: 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SD: 6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716360" y="3124080"/>
            <a:ext cx="1152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ve: 5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.D.: 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SD: 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012000" y="3124080"/>
            <a:ext cx="1152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ve: 8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.D.: 8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SD: 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35280" y="2276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Examp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040200" y="5257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375080" y="470052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5715000" y="4113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7054920" y="3276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310C-74FA-4B37-AAA3-B3BB082E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9" descr=""/>
          <p:cNvPicPr/>
          <p:nvPr/>
        </p:nvPicPr>
        <p:blipFill>
          <a:blip r:embed="rId1"/>
          <a:stretch/>
        </p:blipFill>
        <p:spPr>
          <a:xfrm>
            <a:off x="76320" y="1276200"/>
            <a:ext cx="8997840" cy="4135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2. Similarity of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65240" y="5435640"/>
            <a:ext cx="879156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bserved that the less difference can be obtained at the threshold speed of [50/70/100/~], [50/70/110/~], [60/80/110/~] and [70/90/11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08000" y="836640"/>
            <a:ext cx="64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verage speed and Relative standard deviation (RSD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8485200" y="1230480"/>
            <a:ext cx="611280" cy="4176720"/>
          </a:xfrm>
          <a:prstGeom prst="rect">
            <a:avLst/>
          </a:prstGeom>
          <a:noFill/>
          <a:ln w="316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7"/>
          <p:cNvSpPr/>
          <p:nvPr/>
        </p:nvSpPr>
        <p:spPr>
          <a:xfrm>
            <a:off x="6934320" y="476280"/>
            <a:ext cx="1958760" cy="665280"/>
          </a:xfrm>
          <a:prstGeom prst="wedgeRoundRectCallout">
            <a:avLst>
              <a:gd name="adj1" fmla="val 41490"/>
              <a:gd name="adj2" fmla="val 8126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value in column is small, the criteria have similarity between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358-AD76-4E33-8B28-3C856F061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or the threshold vehicle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939-88B0-461B-93E2-561480C3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Conclusion &lt; appropriate threshold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4280" y="980640"/>
            <a:ext cx="4114800" cy="554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shold speed was considered based on 3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V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V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imilarity of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shold speed of [60/80/110/~] and [70/90/110/~] are best choice for less difference for all condition. Phase duration balance (refer slide 37) of [60/80/110/~] is better than that of [70/90/11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133640"/>
          <a:ext cx="4267080" cy="5343480"/>
        </p:xfrm>
        <a:graphic>
          <a:graphicData uri="http://schemas.openxmlformats.org/drawingml/2006/table">
            <a:tbl>
              <a:tblPr/>
              <a:tblGrid>
                <a:gridCol w="1143000"/>
                <a:gridCol w="663480"/>
                <a:gridCol w="820800"/>
                <a:gridCol w="819360"/>
                <a:gridCol w="820440"/>
              </a:tblGrid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-A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70/10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7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8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8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9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/9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/80/110/~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ood</a:t>
                      </a:r>
                      <a:r>
                        <a:rPr b="1" lang="ja-JP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◎</a:t>
                      </a:r>
                      <a:r>
                        <a:rPr b="1" lang="ja-JP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/8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/9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/9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/90/11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/9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/100/120/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458"/>
          <p:cNvSpPr/>
          <p:nvPr/>
        </p:nvSpPr>
        <p:spPr>
          <a:xfrm>
            <a:off x="228600" y="8380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Similarit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89D5-794A-4310-9ECB-31375D076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9B2A-B002-4155-9681-2E4F224D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8" descr=""/>
          <p:cNvPicPr/>
          <p:nvPr/>
        </p:nvPicPr>
        <p:blipFill>
          <a:blip r:embed="rId1"/>
          <a:stretch/>
        </p:blipFill>
        <p:spPr>
          <a:xfrm>
            <a:off x="4748040" y="2016000"/>
            <a:ext cx="4351680" cy="2702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0" descr=""/>
          <p:cNvPicPr/>
          <p:nvPr/>
        </p:nvPicPr>
        <p:blipFill>
          <a:blip r:embed="rId2"/>
          <a:stretch/>
        </p:blipFill>
        <p:spPr>
          <a:xfrm>
            <a:off x="-7920" y="2016000"/>
            <a:ext cx="4351320" cy="2689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1. L/M/H analysis @60/80/110/~ –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80880" y="9144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verage spee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1309680" y="3730680"/>
            <a:ext cx="108000" cy="287280"/>
          </a:xfrm>
          <a:prstGeom prst="upDownArrow">
            <a:avLst>
              <a:gd name="adj1" fmla="val 50000"/>
              <a:gd name="adj2" fmla="val 52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2771640" y="3282840"/>
            <a:ext cx="108000" cy="381240"/>
          </a:xfrm>
          <a:prstGeom prst="upDownArrow">
            <a:avLst>
              <a:gd name="adj1" fmla="val 50000"/>
              <a:gd name="adj2" fmla="val 702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3995640" y="2654280"/>
            <a:ext cx="114480" cy="762120"/>
          </a:xfrm>
          <a:prstGeom prst="upDownArrow">
            <a:avLst>
              <a:gd name="adj1" fmla="val 50000"/>
              <a:gd name="adj2" fmla="val 132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822240" y="372096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2041560" y="327348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3413160" y="26449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5"/>
          <p:cNvSpPr/>
          <p:nvPr/>
        </p:nvSpPr>
        <p:spPr>
          <a:xfrm>
            <a:off x="4381560" y="2917800"/>
            <a:ext cx="3808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83016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U/R/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541008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L/M/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331920" y="5568840"/>
            <a:ext cx="84582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is less difference in L/M/H phase but slight difference in Ex-High phase still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9"/>
          <p:cNvSpPr/>
          <p:nvPr/>
        </p:nvSpPr>
        <p:spPr>
          <a:xfrm>
            <a:off x="5324400" y="3898800"/>
            <a:ext cx="914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6248520" y="3594240"/>
            <a:ext cx="914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7162920" y="3159000"/>
            <a:ext cx="9144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2"/>
          <p:cNvSpPr/>
          <p:nvPr/>
        </p:nvSpPr>
        <p:spPr>
          <a:xfrm>
            <a:off x="8686800" y="2832120"/>
            <a:ext cx="93600" cy="352440"/>
          </a:xfrm>
          <a:prstGeom prst="upDownArrow">
            <a:avLst>
              <a:gd name="adj1" fmla="val 50000"/>
              <a:gd name="adj2" fmla="val 749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>
            <a:off x="8305920" y="282096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>
            <a:off x="8334360" y="320364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5334120" y="47242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 Indian extra-high phase data is used as reference because there is f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5081-9D09-45F6-9EBE-CE1EB9F81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4" descr=""/>
          <p:cNvPicPr/>
          <p:nvPr/>
        </p:nvPicPr>
        <p:blipFill>
          <a:blip r:embed="rId1"/>
          <a:stretch/>
        </p:blipFill>
        <p:spPr>
          <a:xfrm>
            <a:off x="0" y="2022480"/>
            <a:ext cx="4325760" cy="2673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5" descr=""/>
          <p:cNvPicPr/>
          <p:nvPr/>
        </p:nvPicPr>
        <p:blipFill>
          <a:blip r:embed="rId2"/>
          <a:stretch/>
        </p:blipFill>
        <p:spPr>
          <a:xfrm>
            <a:off x="4741920" y="2016000"/>
            <a:ext cx="4325760" cy="2686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2. L/M/H analysis @60/80/110/~ – Average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80880" y="914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verage ST duratio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4381560" y="2917800"/>
            <a:ext cx="3808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83016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U/R/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41008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L/M/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331920" y="5694480"/>
            <a:ext cx="84582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rt trip duration become closer except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6"/>
          <p:cNvSpPr/>
          <p:nvPr/>
        </p:nvSpPr>
        <p:spPr>
          <a:xfrm>
            <a:off x="5380200" y="4092480"/>
            <a:ext cx="695160" cy="2383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6"/>
          <p:cNvSpPr/>
          <p:nvPr/>
        </p:nvSpPr>
        <p:spPr>
          <a:xfrm>
            <a:off x="6305400" y="3962520"/>
            <a:ext cx="695520" cy="3492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7"/>
          <p:cNvSpPr/>
          <p:nvPr/>
        </p:nvSpPr>
        <p:spPr>
          <a:xfrm>
            <a:off x="7229520" y="3516480"/>
            <a:ext cx="695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34120" y="47242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 Indian extra-high phase data is used as reference because there is f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5EF-E43B-4C50-B99E-77E16D435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 L/M/H analysis @60/80/110/~ – speed acceler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confirmed that VA distribution is less difference in L/M phase but slight difference in Extra-High phase still ex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"/>
          <p:cNvPicPr/>
          <p:nvPr/>
        </p:nvPicPr>
        <p:blipFill>
          <a:blip r:embed="rId1"/>
          <a:stretch/>
        </p:blipFill>
        <p:spPr>
          <a:xfrm>
            <a:off x="31680" y="907920"/>
            <a:ext cx="905508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8C39-4110-4FBF-AF5B-CD3298B54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3. L/M/H analysis @60/80/110/~ – speed acceler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28600" y="5689440"/>
            <a:ext cx="86868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confirmed that VA distribution is less difference in L/M/H phase but slight difference in Extra-High phase still ex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31680" y="914400"/>
            <a:ext cx="9055080" cy="3218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7094520" y="2676600"/>
            <a:ext cx="1941480" cy="14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319D-36E0-4D57-B41C-86721DB64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. L/M/H analysis @60/80/110/~ – Other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5715000"/>
            <a:ext cx="86868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confirmed that vehicle speed frequency distribution is less difference in L/M/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54000" y="1222200"/>
            <a:ext cx="9010800" cy="4066920"/>
            <a:chOff x="54000" y="1222200"/>
            <a:chExt cx="9010800" cy="4066920"/>
          </a:xfrm>
        </p:grpSpPr>
        <p:pic>
          <p:nvPicPr>
            <p:cNvPr id="259" name="Picture 13" descr=""/>
            <p:cNvPicPr/>
            <p:nvPr/>
          </p:nvPicPr>
          <p:blipFill>
            <a:blip r:embed="rId1"/>
            <a:stretch/>
          </p:blipFill>
          <p:spPr>
            <a:xfrm>
              <a:off x="54000" y="1222200"/>
              <a:ext cx="9010800" cy="14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6" descr=""/>
            <p:cNvPicPr/>
            <p:nvPr/>
          </p:nvPicPr>
          <p:blipFill>
            <a:blip r:embed="rId2"/>
            <a:stretch/>
          </p:blipFill>
          <p:spPr>
            <a:xfrm>
              <a:off x="54000" y="3965400"/>
              <a:ext cx="901080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7" descr=""/>
            <p:cNvPicPr/>
            <p:nvPr/>
          </p:nvPicPr>
          <p:blipFill>
            <a:blip r:embed="rId3"/>
            <a:stretch/>
          </p:blipFill>
          <p:spPr>
            <a:xfrm>
              <a:off x="54000" y="2669760"/>
              <a:ext cx="9010800" cy="13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Text Box 20"/>
          <p:cNvSpPr/>
          <p:nvPr/>
        </p:nvSpPr>
        <p:spPr>
          <a:xfrm>
            <a:off x="0" y="52578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) Indian extra-high phase data is used as reference because there is fe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8F0E-B7A9-49FA-BA5C-FD95FD86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. Conclusion of verification of L/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confirmed that each region’s driving characteristics and VA distributions comparatively show less difference by converting into Low/Middle/High/Extra-High phase based on threshold speed at 60/80/110/~ km/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in Extra-High phase is still observed among US/EU and other reg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3DFC-2FDB-41AE-AB75-DA789FFB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E8F-CF1C-470E-9FDD-8B41F6AE3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1" descr=""/>
          <p:cNvPicPr/>
          <p:nvPr/>
        </p:nvPicPr>
        <p:blipFill>
          <a:blip r:embed="rId1"/>
          <a:stretch/>
        </p:blipFill>
        <p:spPr>
          <a:xfrm>
            <a:off x="1704960" y="1868400"/>
            <a:ext cx="5711760" cy="3589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Regional weighting for distributions/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52280" y="762120"/>
            <a:ext cx="88394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weighting for L/M/H phase is necessary to represent each region driving when developing the unified distributions and harmonized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425680" y="15177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egional weighting for each phase (Image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419720" y="5638680"/>
            <a:ext cx="43434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ffic volum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ue to difference characteristics, apply absolute traffic volume ratio at each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80880" y="5638680"/>
            <a:ext cx="43434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qual we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ue to same characteristics, apply equal weighting at each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 rot="1823400">
            <a:off x="3123720" y="52858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 rot="19885800">
            <a:off x="5486040" y="52909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 rot="5400000">
            <a:off x="5638680" y="4354560"/>
            <a:ext cx="228600" cy="1752480"/>
          </a:xfrm>
          <a:custGeom>
            <a:avLst/>
            <a:gdLst>
              <a:gd name="textAreaLeft" fmla="*/ 0 w 228600"/>
              <a:gd name="textAreaRight" fmla="*/ 160560 w 228600"/>
              <a:gd name="textAreaTop" fmla="*/ 72720 h 1752480"/>
              <a:gd name="textAreaBottom" fmla="*/ 16797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 rot="5400000">
            <a:off x="3428640" y="4354560"/>
            <a:ext cx="228600" cy="1752840"/>
          </a:xfrm>
          <a:custGeom>
            <a:avLst/>
            <a:gdLst>
              <a:gd name="textAreaLeft" fmla="*/ 0 w 228600"/>
              <a:gd name="textAreaRight" fmla="*/ 160560 w 228600"/>
              <a:gd name="textAreaTop" fmla="*/ 72720 h 1752840"/>
              <a:gd name="textAreaBottom" fmla="*/ 1680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768760" y="18162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*) Traffic volume ratio is tentativ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3"/>
          <p:cNvGrpSpPr/>
          <p:nvPr/>
        </p:nvGrpSpPr>
        <p:grpSpPr>
          <a:xfrm>
            <a:off x="3209760" y="2081160"/>
            <a:ext cx="304920" cy="2952720"/>
            <a:chOff x="3209760" y="2081160"/>
            <a:chExt cx="304920" cy="2952720"/>
          </a:xfrm>
        </p:grpSpPr>
        <p:sp>
          <p:nvSpPr>
            <p:cNvPr id="282" name="AutoShape 14"/>
            <p:cNvSpPr/>
            <p:nvPr/>
          </p:nvSpPr>
          <p:spPr>
            <a:xfrm>
              <a:off x="3276720" y="208116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3209760" y="21337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6"/>
            <p:cNvSpPr/>
            <p:nvPr/>
          </p:nvSpPr>
          <p:spPr>
            <a:xfrm>
              <a:off x="3276720" y="257328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>
              <a:off x="3209760" y="26258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8"/>
            <p:cNvSpPr/>
            <p:nvPr/>
          </p:nvSpPr>
          <p:spPr>
            <a:xfrm>
              <a:off x="3276720" y="306540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9"/>
            <p:cNvSpPr/>
            <p:nvPr/>
          </p:nvSpPr>
          <p:spPr>
            <a:xfrm>
              <a:off x="3209760" y="3117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3276720" y="355752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3209760" y="3610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2"/>
            <p:cNvSpPr/>
            <p:nvPr/>
          </p:nvSpPr>
          <p:spPr>
            <a:xfrm>
              <a:off x="3276720" y="404964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3"/>
            <p:cNvSpPr/>
            <p:nvPr/>
          </p:nvSpPr>
          <p:spPr>
            <a:xfrm>
              <a:off x="3209760" y="4102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4"/>
            <p:cNvSpPr/>
            <p:nvPr/>
          </p:nvSpPr>
          <p:spPr>
            <a:xfrm>
              <a:off x="3276720" y="4543560"/>
              <a:ext cx="74520" cy="49032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320"/>
                <a:gd name="textAreaBottom" fmla="*/ 470160 h 49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3209760" y="45957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4324320" y="2076480"/>
            <a:ext cx="304920" cy="2952720"/>
            <a:chOff x="4324320" y="2076480"/>
            <a:chExt cx="304920" cy="2952720"/>
          </a:xfrm>
        </p:grpSpPr>
        <p:sp>
          <p:nvSpPr>
            <p:cNvPr id="295" name="AutoShape 27"/>
            <p:cNvSpPr/>
            <p:nvPr/>
          </p:nvSpPr>
          <p:spPr>
            <a:xfrm>
              <a:off x="4391280" y="207648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>
              <a:off x="4324320" y="2129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9"/>
            <p:cNvSpPr/>
            <p:nvPr/>
          </p:nvSpPr>
          <p:spPr>
            <a:xfrm>
              <a:off x="4391280" y="256860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0"/>
            <p:cNvSpPr/>
            <p:nvPr/>
          </p:nvSpPr>
          <p:spPr>
            <a:xfrm>
              <a:off x="4324320" y="26211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31"/>
            <p:cNvSpPr/>
            <p:nvPr/>
          </p:nvSpPr>
          <p:spPr>
            <a:xfrm>
              <a:off x="4391280" y="306072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2"/>
            <p:cNvSpPr/>
            <p:nvPr/>
          </p:nvSpPr>
          <p:spPr>
            <a:xfrm>
              <a:off x="4324320" y="31132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33"/>
            <p:cNvSpPr/>
            <p:nvPr/>
          </p:nvSpPr>
          <p:spPr>
            <a:xfrm>
              <a:off x="4391280" y="355284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4"/>
            <p:cNvSpPr/>
            <p:nvPr/>
          </p:nvSpPr>
          <p:spPr>
            <a:xfrm>
              <a:off x="4324320" y="36054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35"/>
            <p:cNvSpPr/>
            <p:nvPr/>
          </p:nvSpPr>
          <p:spPr>
            <a:xfrm>
              <a:off x="4391280" y="4044960"/>
              <a:ext cx="74520" cy="4906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680"/>
                <a:gd name="textAreaBottom" fmla="*/ 470520 h 49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6"/>
            <p:cNvSpPr/>
            <p:nvPr/>
          </p:nvSpPr>
          <p:spPr>
            <a:xfrm>
              <a:off x="4324320" y="4097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37"/>
            <p:cNvSpPr/>
            <p:nvPr/>
          </p:nvSpPr>
          <p:spPr>
            <a:xfrm>
              <a:off x="4391280" y="4538880"/>
              <a:ext cx="74520" cy="49032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20160 h 490320"/>
                <a:gd name="textAreaBottom" fmla="*/ 470160 h 49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8"/>
            <p:cNvSpPr/>
            <p:nvPr/>
          </p:nvSpPr>
          <p:spPr>
            <a:xfrm>
              <a:off x="4324320" y="459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43"/>
          <p:cNvSpPr/>
          <p:nvPr/>
        </p:nvSpPr>
        <p:spPr>
          <a:xfrm>
            <a:off x="76320" y="54244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recommendation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6"/>
          <p:cNvSpPr/>
          <p:nvPr/>
        </p:nvSpPr>
        <p:spPr>
          <a:xfrm>
            <a:off x="76320" y="4267080"/>
            <a:ext cx="1981080" cy="1219320"/>
          </a:xfrm>
          <a:prstGeom prst="wedgeRoundRectCallout">
            <a:avLst>
              <a:gd name="adj1" fmla="val 128125"/>
              <a:gd name="adj2" fmla="val -93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other recommendations are welcome for more appropr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8124-CBC3-4347-A30A-11C29B65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FB5-DE3E-4529-8F2E-84D6E283F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3" descr=""/>
          <p:cNvPicPr/>
          <p:nvPr/>
        </p:nvPicPr>
        <p:blipFill>
          <a:blip r:embed="rId1"/>
          <a:stretch/>
        </p:blipFill>
        <p:spPr>
          <a:xfrm>
            <a:off x="857160" y="998640"/>
            <a:ext cx="7410600" cy="48924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1. Influence of the Regional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28600" y="5791320"/>
            <a:ext cx="853452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speed will be similar in L/M/H phase but slight difference in Extra-High phase will be occur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143000" y="685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speed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/80/1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 flipV="1">
            <a:off x="3171960" y="11426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 flipV="1">
            <a:off x="4861080" y="11426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 flipV="1">
            <a:off x="6534000" y="11426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906560" y="1143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659040" y="114300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487840" y="11430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792840" y="11430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-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2514600" y="3352680"/>
            <a:ext cx="7621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4"/>
          <p:cNvSpPr/>
          <p:nvPr/>
        </p:nvSpPr>
        <p:spPr>
          <a:xfrm>
            <a:off x="4191120" y="2895480"/>
            <a:ext cx="761760" cy="53352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5905440" y="2362320"/>
            <a:ext cx="762120" cy="533160"/>
          </a:xfrm>
          <a:prstGeom prst="ellipse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7620120" y="1600200"/>
            <a:ext cx="8380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2476440" y="29718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4152960" y="259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9"/>
          <p:cNvSpPr/>
          <p:nvPr/>
        </p:nvSpPr>
        <p:spPr>
          <a:xfrm>
            <a:off x="5867280" y="2057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20120" y="1339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6690-B7A8-4E99-A3C4-24762DA1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0" descr=""/>
          <p:cNvPicPr/>
          <p:nvPr/>
        </p:nvPicPr>
        <p:blipFill>
          <a:blip r:embed="rId1"/>
          <a:stretch/>
        </p:blipFill>
        <p:spPr>
          <a:xfrm>
            <a:off x="76320" y="676440"/>
            <a:ext cx="8972280" cy="1677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3" descr=""/>
          <p:cNvPicPr/>
          <p:nvPr/>
        </p:nvPicPr>
        <p:blipFill>
          <a:blip r:embed="rId2"/>
          <a:stretch/>
        </p:blipFill>
        <p:spPr>
          <a:xfrm>
            <a:off x="76320" y="2341440"/>
            <a:ext cx="8972280" cy="1516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4" descr=""/>
          <p:cNvPicPr/>
          <p:nvPr/>
        </p:nvPicPr>
        <p:blipFill>
          <a:blip r:embed="rId3"/>
          <a:stretch/>
        </p:blipFill>
        <p:spPr>
          <a:xfrm>
            <a:off x="76320" y="4098960"/>
            <a:ext cx="8972280" cy="1515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2. Influence of Regional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8160" y="127620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ffic volume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0" y="2876400"/>
            <a:ext cx="10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 we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0" y="4462560"/>
            <a:ext cx="1006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pos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/M: eq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/ExH: Traf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28600" y="5918040"/>
            <a:ext cx="861048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acceleration distributions are similar in L/M phase but slight difference in High/Extra-High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1981080" y="5546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qual we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5715000" y="5546880"/>
            <a:ext cx="26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ffic volum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1752480" y="209556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7924680" y="209556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3809880" y="209556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"/>
          <p:cNvSpPr/>
          <p:nvPr/>
        </p:nvSpPr>
        <p:spPr>
          <a:xfrm>
            <a:off x="7924680" y="1981080"/>
            <a:ext cx="152640" cy="609840"/>
          </a:xfrm>
          <a:prstGeom prst="upDownArrow">
            <a:avLst>
              <a:gd name="adj1" fmla="val 50000"/>
              <a:gd name="adj2" fmla="val 795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952560" y="4098960"/>
            <a:ext cx="4038480" cy="1523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5010120" y="4098960"/>
            <a:ext cx="4011480" cy="1523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676520" y="1981080"/>
            <a:ext cx="152280" cy="609840"/>
          </a:xfrm>
          <a:prstGeom prst="upDownArrow">
            <a:avLst>
              <a:gd name="adj1" fmla="val 50000"/>
              <a:gd name="adj2" fmla="val 797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3759120" y="1981080"/>
            <a:ext cx="152640" cy="609840"/>
          </a:xfrm>
          <a:prstGeom prst="upDownArrow">
            <a:avLst>
              <a:gd name="adj1" fmla="val 50000"/>
              <a:gd name="adj2" fmla="val 795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5791320" y="2095560"/>
            <a:ext cx="838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i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5791320" y="1981080"/>
            <a:ext cx="152280" cy="609840"/>
          </a:xfrm>
          <a:prstGeom prst="upDownArrow">
            <a:avLst>
              <a:gd name="adj1" fmla="val 50000"/>
              <a:gd name="adj2" fmla="val 79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5"/>
          <p:cNvSpPr/>
          <p:nvPr/>
        </p:nvSpPr>
        <p:spPr>
          <a:xfrm>
            <a:off x="4343400" y="3733920"/>
            <a:ext cx="12193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2A7-0E89-4E34-B878-BBF043B9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. L/M/H traffic volume ratio @ 60/80/110/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2" descr=""/>
          <p:cNvPicPr/>
          <p:nvPr/>
        </p:nvPicPr>
        <p:blipFill>
          <a:blip r:embed="rId1"/>
          <a:stretch/>
        </p:blipFill>
        <p:spPr>
          <a:xfrm>
            <a:off x="76320" y="3643200"/>
            <a:ext cx="4448160" cy="2584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190440" y="723960"/>
            <a:ext cx="8763120" cy="220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fied distributions of High/Extra-High phase should be based on traffic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ue to the fact that the difference of VA distributions still exists in High/Extra-High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ue to the fact that the ratio of High/Extra-High phase of Japan, Korea and India are smaller than EU and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828800" y="2971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raffic volume ratio between L/M/H/ExH pha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4" descr=""/>
          <p:cNvPicPr/>
          <p:nvPr/>
        </p:nvPicPr>
        <p:blipFill>
          <a:blip r:embed="rId2"/>
          <a:stretch/>
        </p:blipFill>
        <p:spPr>
          <a:xfrm>
            <a:off x="4648320" y="3643200"/>
            <a:ext cx="4448160" cy="25844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5"/>
          <p:cNvSpPr/>
          <p:nvPr/>
        </p:nvSpPr>
        <p:spPr>
          <a:xfrm>
            <a:off x="609480" y="33386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60/80/110/~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105520" y="33386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70/90/110/~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6C3F-9ED7-44AD-8AE9-713F57F70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f data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E9FF-CA33-409C-B9D9-C6F46742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"/>
          <p:cNvSpPr/>
          <p:nvPr/>
        </p:nvSpPr>
        <p:spPr>
          <a:xfrm>
            <a:off x="380880" y="4343400"/>
            <a:ext cx="8458200" cy="2158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43080" y="942840"/>
            <a:ext cx="8458200" cy="2159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d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 flipV="1">
            <a:off x="1143000" y="5181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"/>
          <p:cNvSpPr/>
          <p:nvPr/>
        </p:nvSpPr>
        <p:spPr>
          <a:xfrm>
            <a:off x="1066680" y="6324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"/>
          <p:cNvSpPr/>
          <p:nvPr/>
        </p:nvSpPr>
        <p:spPr>
          <a:xfrm>
            <a:off x="1143000" y="5854680"/>
            <a:ext cx="2133720" cy="469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344" h="296">
                <a:moveTo>
                  <a:pt x="0" y="296"/>
                </a:moveTo>
                <a:cubicBezTo>
                  <a:pt x="48" y="224"/>
                  <a:pt x="96" y="152"/>
                  <a:pt x="192" y="104"/>
                </a:cubicBezTo>
                <a:cubicBezTo>
                  <a:pt x="288" y="56"/>
                  <a:pt x="424" y="16"/>
                  <a:pt x="576" y="8"/>
                </a:cubicBezTo>
                <a:cubicBezTo>
                  <a:pt x="728" y="0"/>
                  <a:pt x="976" y="8"/>
                  <a:pt x="1104" y="56"/>
                </a:cubicBezTo>
                <a:cubicBezTo>
                  <a:pt x="1232" y="104"/>
                  <a:pt x="1288" y="200"/>
                  <a:pt x="1344" y="29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8"/>
          <p:cNvSpPr/>
          <p:nvPr/>
        </p:nvSpPr>
        <p:spPr>
          <a:xfrm>
            <a:off x="3276720" y="5543640"/>
            <a:ext cx="1295280" cy="7808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816" h="492">
                <a:moveTo>
                  <a:pt x="0" y="492"/>
                </a:moveTo>
                <a:cubicBezTo>
                  <a:pt x="35" y="421"/>
                  <a:pt x="107" y="132"/>
                  <a:pt x="210" y="66"/>
                </a:cubicBezTo>
                <a:cubicBezTo>
                  <a:pt x="313" y="0"/>
                  <a:pt x="517" y="25"/>
                  <a:pt x="618" y="96"/>
                </a:cubicBezTo>
                <a:cubicBezTo>
                  <a:pt x="719" y="167"/>
                  <a:pt x="775" y="410"/>
                  <a:pt x="816" y="492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1600200" y="6019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www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276720" y="60199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xxx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2133720" y="51814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+M = 120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"/>
          <p:cNvSpPr/>
          <p:nvPr/>
        </p:nvSpPr>
        <p:spPr>
          <a:xfrm flipV="1">
            <a:off x="5410080" y="52574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5334120" y="63086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4"/>
          <p:cNvSpPr/>
          <p:nvPr/>
        </p:nvSpPr>
        <p:spPr>
          <a:xfrm>
            <a:off x="5410080" y="5257800"/>
            <a:ext cx="990720" cy="1084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960" h="683">
                <a:moveTo>
                  <a:pt x="0" y="683"/>
                </a:moveTo>
                <a:cubicBezTo>
                  <a:pt x="10" y="616"/>
                  <a:pt x="26" y="377"/>
                  <a:pt x="60" y="281"/>
                </a:cubicBezTo>
                <a:cubicBezTo>
                  <a:pt x="94" y="185"/>
                  <a:pt x="140" y="153"/>
                  <a:pt x="204" y="107"/>
                </a:cubicBezTo>
                <a:cubicBezTo>
                  <a:pt x="268" y="61"/>
                  <a:pt x="361" y="10"/>
                  <a:pt x="444" y="5"/>
                </a:cubicBezTo>
                <a:cubicBezTo>
                  <a:pt x="527" y="0"/>
                  <a:pt x="636" y="31"/>
                  <a:pt x="702" y="77"/>
                </a:cubicBezTo>
                <a:cubicBezTo>
                  <a:pt x="768" y="123"/>
                  <a:pt x="797" y="180"/>
                  <a:pt x="840" y="281"/>
                </a:cubicBezTo>
                <a:cubicBezTo>
                  <a:pt x="883" y="382"/>
                  <a:pt x="935" y="599"/>
                  <a:pt x="960" y="6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5257800" y="5958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= yyy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47242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 flipV="1">
            <a:off x="1138320" y="1499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8"/>
          <p:cNvSpPr/>
          <p:nvPr/>
        </p:nvSpPr>
        <p:spPr>
          <a:xfrm>
            <a:off x="1062000" y="2643120"/>
            <a:ext cx="693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9"/>
          <p:cNvSpPr/>
          <p:nvPr/>
        </p:nvSpPr>
        <p:spPr>
          <a:xfrm>
            <a:off x="1138320" y="2173320"/>
            <a:ext cx="2133360" cy="469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344" h="296">
                <a:moveTo>
                  <a:pt x="0" y="296"/>
                </a:moveTo>
                <a:cubicBezTo>
                  <a:pt x="48" y="224"/>
                  <a:pt x="96" y="152"/>
                  <a:pt x="192" y="104"/>
                </a:cubicBezTo>
                <a:cubicBezTo>
                  <a:pt x="288" y="56"/>
                  <a:pt x="424" y="16"/>
                  <a:pt x="576" y="8"/>
                </a:cubicBezTo>
                <a:cubicBezTo>
                  <a:pt x="728" y="0"/>
                  <a:pt x="976" y="8"/>
                  <a:pt x="1104" y="56"/>
                </a:cubicBezTo>
                <a:cubicBezTo>
                  <a:pt x="1232" y="104"/>
                  <a:pt x="1288" y="200"/>
                  <a:pt x="1344" y="29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0"/>
          <p:cNvSpPr/>
          <p:nvPr/>
        </p:nvSpPr>
        <p:spPr>
          <a:xfrm>
            <a:off x="3271680" y="1862280"/>
            <a:ext cx="1295640" cy="7808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816" h="492">
                <a:moveTo>
                  <a:pt x="0" y="492"/>
                </a:moveTo>
                <a:cubicBezTo>
                  <a:pt x="35" y="421"/>
                  <a:pt x="107" y="132"/>
                  <a:pt x="210" y="66"/>
                </a:cubicBezTo>
                <a:cubicBezTo>
                  <a:pt x="313" y="0"/>
                  <a:pt x="517" y="25"/>
                  <a:pt x="618" y="96"/>
                </a:cubicBezTo>
                <a:cubicBezTo>
                  <a:pt x="719" y="167"/>
                  <a:pt x="775" y="410"/>
                  <a:pt x="816" y="492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1595520" y="233856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www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3271680" y="2338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xxx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3276720" y="1066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+M+H+ExH = 180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4"/>
          <p:cNvSpPr/>
          <p:nvPr/>
        </p:nvSpPr>
        <p:spPr>
          <a:xfrm>
            <a:off x="4643280" y="1576440"/>
            <a:ext cx="1524240" cy="10843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960" h="683">
                <a:moveTo>
                  <a:pt x="0" y="683"/>
                </a:moveTo>
                <a:cubicBezTo>
                  <a:pt x="10" y="616"/>
                  <a:pt x="26" y="377"/>
                  <a:pt x="60" y="281"/>
                </a:cubicBezTo>
                <a:cubicBezTo>
                  <a:pt x="94" y="185"/>
                  <a:pt x="140" y="153"/>
                  <a:pt x="204" y="107"/>
                </a:cubicBezTo>
                <a:cubicBezTo>
                  <a:pt x="268" y="61"/>
                  <a:pt x="361" y="10"/>
                  <a:pt x="444" y="5"/>
                </a:cubicBezTo>
                <a:cubicBezTo>
                  <a:pt x="527" y="0"/>
                  <a:pt x="636" y="31"/>
                  <a:pt x="702" y="77"/>
                </a:cubicBezTo>
                <a:cubicBezTo>
                  <a:pt x="768" y="123"/>
                  <a:pt x="797" y="180"/>
                  <a:pt x="840" y="281"/>
                </a:cubicBezTo>
                <a:cubicBezTo>
                  <a:pt x="883" y="382"/>
                  <a:pt x="935" y="599"/>
                  <a:pt x="960" y="68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4643280" y="22766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=yyy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1752480" y="269568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: M : H : ExH = based on traffic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7"/>
          <p:cNvSpPr/>
          <p:nvPr/>
        </p:nvSpPr>
        <p:spPr>
          <a:xfrm>
            <a:off x="1981080" y="334476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2895480" y="3276720"/>
            <a:ext cx="609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igh phase duration is not enough long for stable sampling, divide into L+M and H+ExH mode constr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9"/>
          <p:cNvSpPr/>
          <p:nvPr/>
        </p:nvSpPr>
        <p:spPr>
          <a:xfrm>
            <a:off x="609480" y="4114800"/>
            <a:ext cx="1371600" cy="4096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0"/>
          <p:cNvSpPr/>
          <p:nvPr/>
        </p:nvSpPr>
        <p:spPr>
          <a:xfrm>
            <a:off x="609480" y="762120"/>
            <a:ext cx="1371600" cy="409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1"/>
          <p:cNvSpPr/>
          <p:nvPr/>
        </p:nvSpPr>
        <p:spPr>
          <a:xfrm>
            <a:off x="6172200" y="1095480"/>
            <a:ext cx="1523880" cy="15620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960" h="683">
                <a:moveTo>
                  <a:pt x="0" y="683"/>
                </a:moveTo>
                <a:cubicBezTo>
                  <a:pt x="10" y="616"/>
                  <a:pt x="26" y="377"/>
                  <a:pt x="60" y="281"/>
                </a:cubicBezTo>
                <a:cubicBezTo>
                  <a:pt x="94" y="185"/>
                  <a:pt x="140" y="153"/>
                  <a:pt x="204" y="107"/>
                </a:cubicBezTo>
                <a:cubicBezTo>
                  <a:pt x="268" y="61"/>
                  <a:pt x="361" y="10"/>
                  <a:pt x="444" y="5"/>
                </a:cubicBezTo>
                <a:cubicBezTo>
                  <a:pt x="527" y="0"/>
                  <a:pt x="636" y="31"/>
                  <a:pt x="702" y="77"/>
                </a:cubicBezTo>
                <a:cubicBezTo>
                  <a:pt x="768" y="123"/>
                  <a:pt x="797" y="180"/>
                  <a:pt x="840" y="281"/>
                </a:cubicBezTo>
                <a:cubicBezTo>
                  <a:pt x="883" y="382"/>
                  <a:pt x="935" y="599"/>
                  <a:pt x="960" y="683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2"/>
          <p:cNvSpPr/>
          <p:nvPr/>
        </p:nvSpPr>
        <p:spPr>
          <a:xfrm>
            <a:off x="6172200" y="227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 =zzz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3"/>
          <p:cNvSpPr/>
          <p:nvPr/>
        </p:nvSpPr>
        <p:spPr>
          <a:xfrm>
            <a:off x="6400800" y="4786200"/>
            <a:ext cx="1143000" cy="1562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960" h="683">
                <a:moveTo>
                  <a:pt x="0" y="683"/>
                </a:moveTo>
                <a:cubicBezTo>
                  <a:pt x="10" y="616"/>
                  <a:pt x="26" y="377"/>
                  <a:pt x="60" y="281"/>
                </a:cubicBezTo>
                <a:cubicBezTo>
                  <a:pt x="94" y="185"/>
                  <a:pt x="140" y="153"/>
                  <a:pt x="204" y="107"/>
                </a:cubicBezTo>
                <a:cubicBezTo>
                  <a:pt x="268" y="61"/>
                  <a:pt x="361" y="10"/>
                  <a:pt x="444" y="5"/>
                </a:cubicBezTo>
                <a:cubicBezTo>
                  <a:pt x="527" y="0"/>
                  <a:pt x="636" y="31"/>
                  <a:pt x="702" y="77"/>
                </a:cubicBezTo>
                <a:cubicBezTo>
                  <a:pt x="768" y="123"/>
                  <a:pt x="797" y="180"/>
                  <a:pt x="840" y="281"/>
                </a:cubicBezTo>
                <a:cubicBezTo>
                  <a:pt x="883" y="382"/>
                  <a:pt x="935" y="599"/>
                  <a:pt x="960" y="683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4"/>
          <p:cNvSpPr/>
          <p:nvPr/>
        </p:nvSpPr>
        <p:spPr>
          <a:xfrm>
            <a:off x="6248520" y="5958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 =zzz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5562720" y="4419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+ExH = 60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6D5-98EB-42FE-B678-704CA035D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f data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C0BF-E3A1-4F73-98E6-0425AE89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52280" y="812880"/>
          <a:ext cx="8864640" cy="574200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                                                                       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use data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harmonized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Text Box 104"/>
          <p:cNvSpPr/>
          <p:nvPr/>
        </p:nvSpPr>
        <p:spPr>
          <a:xfrm>
            <a:off x="1449360" y="1905120"/>
            <a:ext cx="1666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threshold of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 phase 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5"/>
          <p:cNvSpPr/>
          <p:nvPr/>
        </p:nvSpPr>
        <p:spPr>
          <a:xfrm>
            <a:off x="190512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6"/>
          <p:cNvSpPr/>
          <p:nvPr/>
        </p:nvSpPr>
        <p:spPr>
          <a:xfrm flipH="1">
            <a:off x="6400800" y="5041800"/>
            <a:ext cx="2603520" cy="457200"/>
          </a:xfrm>
          <a:prstGeom prst="rightArrow">
            <a:avLst>
              <a:gd name="adj1" fmla="val 50000"/>
              <a:gd name="adj2" fmla="val 9279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7"/>
          <p:cNvSpPr/>
          <p:nvPr/>
        </p:nvSpPr>
        <p:spPr>
          <a:xfrm>
            <a:off x="4648320" y="5041800"/>
            <a:ext cx="1523880" cy="484200"/>
          </a:xfrm>
          <a:prstGeom prst="rightArrow">
            <a:avLst>
              <a:gd name="adj1" fmla="val 50000"/>
              <a:gd name="adj2" fmla="val 5128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08"/>
          <p:cNvSpPr/>
          <p:nvPr/>
        </p:nvSpPr>
        <p:spPr>
          <a:xfrm>
            <a:off x="1981080" y="4102200"/>
            <a:ext cx="2133720" cy="304560"/>
          </a:xfrm>
          <a:prstGeom prst="rightArrow">
            <a:avLst>
              <a:gd name="adj1" fmla="val 50000"/>
              <a:gd name="adj2" fmla="val 13606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9"/>
          <p:cNvSpPr/>
          <p:nvPr/>
        </p:nvSpPr>
        <p:spPr>
          <a:xfrm>
            <a:off x="1981080" y="4483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0"/>
          <p:cNvSpPr/>
          <p:nvPr/>
        </p:nvSpPr>
        <p:spPr>
          <a:xfrm>
            <a:off x="1828080" y="4483080"/>
            <a:ext cx="7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1"/>
          <p:cNvSpPr/>
          <p:nvPr/>
        </p:nvSpPr>
        <p:spPr>
          <a:xfrm>
            <a:off x="2666880" y="4483080"/>
            <a:ext cx="1435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2"/>
          <p:cNvSpPr/>
          <p:nvPr/>
        </p:nvSpPr>
        <p:spPr>
          <a:xfrm>
            <a:off x="2819520" y="4559400"/>
            <a:ext cx="842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3"/>
          <p:cNvSpPr/>
          <p:nvPr/>
        </p:nvSpPr>
        <p:spPr>
          <a:xfrm>
            <a:off x="1935000" y="3505320"/>
            <a:ext cx="1417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4"/>
          <p:cNvSpPr/>
          <p:nvPr/>
        </p:nvSpPr>
        <p:spPr>
          <a:xfrm>
            <a:off x="1981080" y="1676520"/>
            <a:ext cx="735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5"/>
          <p:cNvSpPr/>
          <p:nvPr/>
        </p:nvSpPr>
        <p:spPr>
          <a:xfrm>
            <a:off x="2743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6"/>
          <p:cNvSpPr/>
          <p:nvPr/>
        </p:nvSpPr>
        <p:spPr>
          <a:xfrm>
            <a:off x="5334120" y="1600200"/>
            <a:ext cx="81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7"/>
          <p:cNvSpPr/>
          <p:nvPr/>
        </p:nvSpPr>
        <p:spPr>
          <a:xfrm>
            <a:off x="242568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18"/>
          <p:cNvSpPr/>
          <p:nvPr/>
        </p:nvSpPr>
        <p:spPr>
          <a:xfrm>
            <a:off x="4191120" y="4025880"/>
            <a:ext cx="1981080" cy="457200"/>
          </a:xfrm>
          <a:prstGeom prst="rightArrow">
            <a:avLst>
              <a:gd name="adj1" fmla="val 50000"/>
              <a:gd name="adj2" fmla="val 6417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9"/>
          <p:cNvSpPr/>
          <p:nvPr/>
        </p:nvSpPr>
        <p:spPr>
          <a:xfrm>
            <a:off x="4356000" y="2070000"/>
            <a:ext cx="1338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oduction of Draft 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0"/>
          <p:cNvSpPr/>
          <p:nvPr/>
        </p:nvSpPr>
        <p:spPr>
          <a:xfrm>
            <a:off x="3353400" y="5270400"/>
            <a:ext cx="102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1"/>
          <p:cNvSpPr/>
          <p:nvPr/>
        </p:nvSpPr>
        <p:spPr>
          <a:xfrm>
            <a:off x="6248520" y="5334120"/>
            <a:ext cx="228600" cy="850680"/>
          </a:xfrm>
          <a:custGeom>
            <a:avLst/>
            <a:gdLst>
              <a:gd name="textAreaLeft" fmla="*/ 0 w 228600"/>
              <a:gd name="textAreaRight" fmla="*/ 228960 w 2286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44" h="240">
                <a:moveTo>
                  <a:pt x="0" y="240"/>
                </a:moveTo>
                <a:lnTo>
                  <a:pt x="144" y="24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22"/>
          <p:cNvSpPr/>
          <p:nvPr/>
        </p:nvSpPr>
        <p:spPr>
          <a:xfrm>
            <a:off x="2977560" y="6172200"/>
            <a:ext cx="182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raft test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23"/>
          <p:cNvSpPr/>
          <p:nvPr/>
        </p:nvSpPr>
        <p:spPr>
          <a:xfrm>
            <a:off x="3200400" y="5270400"/>
            <a:ext cx="143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4"/>
          <p:cNvSpPr/>
          <p:nvPr/>
        </p:nvSpPr>
        <p:spPr>
          <a:xfrm>
            <a:off x="1892160" y="6184800"/>
            <a:ext cx="4280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5"/>
          <p:cNvSpPr/>
          <p:nvPr/>
        </p:nvSpPr>
        <p:spPr>
          <a:xfrm>
            <a:off x="3589920" y="1523880"/>
            <a:ext cx="933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26"/>
          <p:cNvSpPr/>
          <p:nvPr/>
        </p:nvSpPr>
        <p:spPr>
          <a:xfrm>
            <a:off x="32767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7"/>
          <p:cNvSpPr/>
          <p:nvPr/>
        </p:nvSpPr>
        <p:spPr>
          <a:xfrm>
            <a:off x="1981080" y="5638680"/>
            <a:ext cx="130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8"/>
          <p:cNvSpPr/>
          <p:nvPr/>
        </p:nvSpPr>
        <p:spPr>
          <a:xfrm>
            <a:off x="205884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9"/>
          <p:cNvSpPr/>
          <p:nvPr/>
        </p:nvSpPr>
        <p:spPr>
          <a:xfrm>
            <a:off x="4191120" y="565164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0"/>
          <p:cNvSpPr/>
          <p:nvPr/>
        </p:nvSpPr>
        <p:spPr>
          <a:xfrm>
            <a:off x="464976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 6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31"/>
          <p:cNvSpPr/>
          <p:nvPr/>
        </p:nvSpPr>
        <p:spPr>
          <a:xfrm>
            <a:off x="3049920" y="1905120"/>
            <a:ext cx="842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32"/>
          <p:cNvSpPr/>
          <p:nvPr/>
        </p:nvSpPr>
        <p:spPr>
          <a:xfrm>
            <a:off x="4114800" y="19810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3"/>
          <p:cNvSpPr/>
          <p:nvPr/>
        </p:nvSpPr>
        <p:spPr>
          <a:xfrm>
            <a:off x="4370400" y="190512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4"/>
          <p:cNvSpPr/>
          <p:nvPr/>
        </p:nvSpPr>
        <p:spPr>
          <a:xfrm>
            <a:off x="85345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5"/>
          <p:cNvSpPr/>
          <p:nvPr/>
        </p:nvSpPr>
        <p:spPr>
          <a:xfrm>
            <a:off x="7550280" y="1523880"/>
            <a:ext cx="915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36"/>
          <p:cNvSpPr/>
          <p:nvPr/>
        </p:nvSpPr>
        <p:spPr>
          <a:xfrm>
            <a:off x="6172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37"/>
          <p:cNvSpPr/>
          <p:nvPr/>
        </p:nvSpPr>
        <p:spPr>
          <a:xfrm>
            <a:off x="5549760" y="1955880"/>
            <a:ext cx="23623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m Report of Valid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ed plan for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ment of 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WLTC for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8"/>
          <p:cNvSpPr/>
          <p:nvPr/>
        </p:nvSpPr>
        <p:spPr>
          <a:xfrm>
            <a:off x="7620120" y="1981080"/>
            <a:ext cx="1447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Interim Report of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9"/>
          <p:cNvSpPr/>
          <p:nvPr/>
        </p:nvSpPr>
        <p:spPr>
          <a:xfrm>
            <a:off x="3352680" y="5791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0"/>
          <p:cNvSpPr/>
          <p:nvPr/>
        </p:nvSpPr>
        <p:spPr>
          <a:xfrm>
            <a:off x="353268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41"/>
          <p:cNvSpPr/>
          <p:nvPr/>
        </p:nvSpPr>
        <p:spPr>
          <a:xfrm>
            <a:off x="3048120" y="2133720"/>
            <a:ext cx="380880" cy="152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4" h="240">
                <a:moveTo>
                  <a:pt x="0" y="240"/>
                </a:moveTo>
                <a:lnTo>
                  <a:pt x="144" y="24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42"/>
          <p:cNvSpPr/>
          <p:nvPr/>
        </p:nvSpPr>
        <p:spPr>
          <a:xfrm>
            <a:off x="2629080" y="3060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3"/>
          <p:cNvSpPr/>
          <p:nvPr/>
        </p:nvSpPr>
        <p:spPr>
          <a:xfrm>
            <a:off x="3291120" y="3429000"/>
            <a:ext cx="26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ADLINE for cycl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44"/>
          <p:cNvSpPr/>
          <p:nvPr/>
        </p:nvSpPr>
        <p:spPr>
          <a:xfrm>
            <a:off x="321300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2"/>
          <p:cNvSpPr/>
          <p:nvPr/>
        </p:nvSpPr>
        <p:spPr>
          <a:xfrm>
            <a:off x="3327480" y="2438280"/>
            <a:ext cx="2133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one high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356E-A593-4C62-AFED-A78F950B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0440" y="874800"/>
          <a:ext cx="8801280" cy="5392800"/>
        </p:xfrm>
        <a:graphic>
          <a:graphicData uri="http://schemas.openxmlformats.org/drawingml/2006/table">
            <a:tbl>
              <a:tblPr/>
              <a:tblGrid>
                <a:gridCol w="419040"/>
                <a:gridCol w="2514600"/>
                <a:gridCol w="2995560"/>
                <a:gridCol w="287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/ 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line for submission of driving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and China requested deadline be extended to M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has submitted all necessary data and information. Still waiting for China to subm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eighting when developing the WL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weigh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to have discussion during the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 based on the proposal in this sl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9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 for L/M/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DHC-06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’s 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to get agreement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 based on proposal in this sl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60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 indent="92160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ase Cycle Construction (US&amp;EU versus other reg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ONE unifi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 TWO types of High phase cyc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to have discussion during the 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 based on the proposal in this sli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old start test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old start &amp; hot soak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agreement in DHC group is b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87DE-B0EC-43F3-A130-5B74F3FF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52280" y="762120"/>
          <a:ext cx="8839440" cy="5833800"/>
        </p:xfrm>
        <a:graphic>
          <a:graphicData uri="http://schemas.openxmlformats.org/drawingml/2006/table">
            <a:tbl>
              <a:tblPr/>
              <a:tblGrid>
                <a:gridCol w="381240"/>
                <a:gridCol w="2666880"/>
                <a:gridCol w="2743200"/>
                <a:gridCol w="3048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que Weighting Factor for L/M/H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 regional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s target of Informal Gro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the possibility to accept b) for only CO2/Fuel consum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. Ericsson, Mr. Steven, JRC and JARI work together to finalize the method before developing the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L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treat the vehicles which are not able to follow the prescrib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to drive with wide-open-thro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t the H (or M&amp;H) phase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proposal during validation 1 tes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the driving profile based on the vehicle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-use data based on vehicle characteristic  (i.e. power to mass rat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B5C3-8169-4BAF-99F3-3E47B45BB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posal for the threshold speed of L/M/H/Ex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14880" y="1819440"/>
          <a:ext cx="5486400" cy="3743280"/>
        </p:xfrm>
        <a:graphic>
          <a:graphicData uri="http://schemas.openxmlformats.org/drawingml/2006/table">
            <a:tbl>
              <a:tblPr/>
              <a:tblGrid>
                <a:gridCol w="1676160"/>
                <a:gridCol w="381024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ax*≦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 km/h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ax*≦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 km/h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＜</a:t>
                      </a:r>
                      <a:r>
                        <a:rPr b="1" lang="pt-BR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ax*≦110 km/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tra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0 km/h</a:t>
                      </a:r>
                      <a:r>
                        <a:rPr b="1" lang="ja-JP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max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04920" y="2209680"/>
          <a:ext cx="1676160" cy="299412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AutoShape 58"/>
          <p:cNvSpPr/>
          <p:nvPr/>
        </p:nvSpPr>
        <p:spPr>
          <a:xfrm>
            <a:off x="2286000" y="3352680"/>
            <a:ext cx="68580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9"/>
          <p:cNvSpPr/>
          <p:nvPr/>
        </p:nvSpPr>
        <p:spPr>
          <a:xfrm>
            <a:off x="3276720" y="5645160"/>
            <a:ext cx="5486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)Vmax: Maximum vehicle speed of short 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means that maximum vehicle speed in each test cycle phase will be less than each threshold speed (approximately by several km/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0"/>
          <p:cNvSpPr/>
          <p:nvPr/>
        </p:nvSpPr>
        <p:spPr>
          <a:xfrm>
            <a:off x="98280" y="822240"/>
            <a:ext cx="89154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bserved that the less difference of driving characteristics can be obtained on the threshold speed of [60/80/110/~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A4A6-CC1E-4CD2-AFC1-B1088FE8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roposal for the threshold speed of Low/Middle/High/(+Extra-Hi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use driving data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tudy on data conversion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erification of L/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B8A8-55F7-4851-B9D9-9C69354D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view of in-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6237360"/>
            <a:ext cx="878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In-use data without road type indication will be combined with database after the determination of the threshold speed of  L/M/H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868320" y="762120"/>
            <a:ext cx="7389720" cy="554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914400" y="609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Amount of in-use driving data by 6 May 2011    Total: Approx. 840,000 k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BCF1-B0B0-45E2-880D-F2EE9F47E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0" descr=""/>
          <p:cNvPicPr/>
          <p:nvPr/>
        </p:nvPicPr>
        <p:blipFill>
          <a:blip r:embed="rId1"/>
          <a:stretch/>
        </p:blipFill>
        <p:spPr>
          <a:xfrm>
            <a:off x="68400" y="1066680"/>
            <a:ext cx="4351320" cy="268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"/>
          <p:cNvPicPr/>
          <p:nvPr/>
        </p:nvPicPr>
        <p:blipFill>
          <a:blip r:embed="rId2"/>
          <a:stretch/>
        </p:blipFill>
        <p:spPr>
          <a:xfrm>
            <a:off x="4716360" y="1066680"/>
            <a:ext cx="4351320" cy="268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"/>
          <p:cNvPicPr/>
          <p:nvPr/>
        </p:nvPicPr>
        <p:blipFill>
          <a:blip r:embed="rId3"/>
          <a:stretch/>
        </p:blipFill>
        <p:spPr>
          <a:xfrm>
            <a:off x="68400" y="4070520"/>
            <a:ext cx="4351320" cy="268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3" descr=""/>
          <p:cNvPicPr/>
          <p:nvPr/>
        </p:nvPicPr>
        <p:blipFill>
          <a:blip r:embed="rId4"/>
          <a:stretch/>
        </p:blipFill>
        <p:spPr>
          <a:xfrm>
            <a:off x="4640400" y="4070520"/>
            <a:ext cx="4351320" cy="2689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U/R/M analysis – driving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95280" y="685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spee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952880" y="685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RP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95280" y="366876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ST dura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952880" y="36687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Average IDLE duration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685800" y="1844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verage speed of EU &amp; US are higher than that of Asian count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3"/>
          <p:cNvSpPr/>
          <p:nvPr/>
        </p:nvSpPr>
        <p:spPr>
          <a:xfrm>
            <a:off x="1359000" y="2781360"/>
            <a:ext cx="108000" cy="287280"/>
          </a:xfrm>
          <a:prstGeom prst="upDownArrow">
            <a:avLst>
              <a:gd name="adj1" fmla="val 50000"/>
              <a:gd name="adj2" fmla="val 52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/>
          <p:cNvSpPr/>
          <p:nvPr/>
        </p:nvSpPr>
        <p:spPr>
          <a:xfrm>
            <a:off x="2832120" y="2333520"/>
            <a:ext cx="108000" cy="381240"/>
          </a:xfrm>
          <a:prstGeom prst="upDownArrow">
            <a:avLst>
              <a:gd name="adj1" fmla="val 50000"/>
              <a:gd name="adj2" fmla="val 702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>
            <a:off x="4000680" y="1704960"/>
            <a:ext cx="114120" cy="762120"/>
          </a:xfrm>
          <a:prstGeom prst="upDownArrow">
            <a:avLst>
              <a:gd name="adj1" fmla="val 50000"/>
              <a:gd name="adj2" fmla="val 1329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>
            <a:off x="838080" y="277164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7"/>
          <p:cNvSpPr/>
          <p:nvPr/>
        </p:nvSpPr>
        <p:spPr>
          <a:xfrm>
            <a:off x="2057400" y="232416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3429000" y="16956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685800" y="13111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ifference was observed in each road 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FAC4-AA6B-4052-802C-38BAEAC4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tretch/>
        </p:blipFill>
        <p:spPr>
          <a:xfrm>
            <a:off x="142920" y="676440"/>
            <a:ext cx="8834400" cy="596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1. U/R/M analysis –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19240" y="6405480"/>
            <a:ext cx="8686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speed-acceleration distribution was observed in each road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A591-87A2-4708-BA87-8F9CAD7A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2. U/R/M analysis –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28600" y="6172200"/>
            <a:ext cx="8686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speed-acceleration distribution was observed in each road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133200" y="676440"/>
            <a:ext cx="8859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1-05-14T09:33:21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