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C4E7-9944-4CAC-AF17-5B24B1AAC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CAD6-546A-47E5-B0BC-1413F73CD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53F9-9707-44AD-9886-FD01AEC1D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C4BE-2E58-4FD2-9337-87C95CEBC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5B22-94BB-468D-9F7F-1ECC9D1F1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1D37-CB61-402E-B14D-529581874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0958-9608-4B88-A590-9FEE2CFA5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D87E-9E8D-41DC-ADFB-D022E50F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8C14-86FD-48B1-AD35-6D0A78F1F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1BCC-2DEE-453E-9C88-FF8774150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3F68-C273-4911-A4FB-96C2DECC4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4784-55EA-4419-9565-28B3CD14D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74A-290A-47C2-ABE3-4AD5159F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7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621-BE8F-4860-8687-307F6A0A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ment of World-wide Light-duty Test Cycle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- Proposal for the threshold vehicle speed of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/Middle/High(/extra-High) phase -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78144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JRC, Mr. Steven and Ms. Eric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09880" y="477216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Ma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A,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8CD-313D-46BF-B3C5-399FEFE3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U/R/M analysis – oth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19240" y="617688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each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76320" y="809640"/>
            <a:ext cx="8975520" cy="5286240"/>
            <a:chOff x="76320" y="809640"/>
            <a:chExt cx="8975520" cy="5286240"/>
          </a:xfrm>
        </p:grpSpPr>
        <p:pic>
          <p:nvPicPr>
            <p:cNvPr id="97" name="Picture 27" descr=""/>
            <p:cNvPicPr/>
            <p:nvPr/>
          </p:nvPicPr>
          <p:blipFill>
            <a:blip r:embed="rId1"/>
            <a:stretch/>
          </p:blipFill>
          <p:spPr>
            <a:xfrm>
              <a:off x="76320" y="809640"/>
              <a:ext cx="897552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8" descr=""/>
            <p:cNvPicPr/>
            <p:nvPr/>
          </p:nvPicPr>
          <p:blipFill>
            <a:blip r:embed="rId2"/>
            <a:stretch/>
          </p:blipFill>
          <p:spPr>
            <a:xfrm>
              <a:off x="76320" y="2695320"/>
              <a:ext cx="897552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9" descr=""/>
            <p:cNvPicPr/>
            <p:nvPr/>
          </p:nvPicPr>
          <p:blipFill>
            <a:blip r:embed="rId3"/>
            <a:stretch/>
          </p:blipFill>
          <p:spPr>
            <a:xfrm>
              <a:off x="76320" y="4386240"/>
              <a:ext cx="8975520" cy="17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AutoShape 31"/>
          <p:cNvSpPr/>
          <p:nvPr/>
        </p:nvSpPr>
        <p:spPr>
          <a:xfrm>
            <a:off x="7620120" y="144792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2"/>
          <p:cNvSpPr/>
          <p:nvPr/>
        </p:nvSpPr>
        <p:spPr>
          <a:xfrm>
            <a:off x="4724280" y="1447920"/>
            <a:ext cx="304920" cy="152280"/>
          </a:xfrm>
          <a:prstGeom prst="leftRightArrow">
            <a:avLst>
              <a:gd name="adj1" fmla="val 50000"/>
              <a:gd name="adj2" fmla="val 398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1905120" y="14479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4"/>
          <p:cNvSpPr/>
          <p:nvPr/>
        </p:nvSpPr>
        <p:spPr>
          <a:xfrm>
            <a:off x="6934320" y="327672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419720" y="3276720"/>
            <a:ext cx="533160" cy="152280"/>
          </a:xfrm>
          <a:prstGeom prst="leftRight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2057400" y="32767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87B-F1A5-46B0-AE40-B27BAD7C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Summary of U/R/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877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observed that speed-acceleration distribution/driving characteristics in each region have difference in same roa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to convert to L/M/H category in where driving characteristics are less difference in each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oth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5612400" y="4867920"/>
            <a:ext cx="3455280" cy="1686960"/>
            <a:chOff x="5612400" y="4867920"/>
            <a:chExt cx="3455280" cy="1686960"/>
          </a:xfrm>
        </p:grpSpPr>
        <p:sp>
          <p:nvSpPr>
            <p:cNvPr id="110" name="Text Box 15"/>
            <p:cNvSpPr/>
            <p:nvPr/>
          </p:nvSpPr>
          <p:spPr>
            <a:xfrm>
              <a:off x="7792920" y="530028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"/>
            <p:cNvSpPr/>
            <p:nvPr/>
          </p:nvSpPr>
          <p:spPr>
            <a:xfrm>
              <a:off x="5972040" y="5082840"/>
              <a:ext cx="0" cy="11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5972040" y="619884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6483240" y="5422680"/>
              <a:ext cx="1393920" cy="785520"/>
            </a:xfrm>
            <a:custGeom>
              <a:avLst/>
              <a:gdLst>
                <a:gd name="textAreaLeft" fmla="*/ 0 w 1393920"/>
                <a:gd name="textAreaRight" fmla="*/ 1394280 w 13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296" h="776">
                  <a:moveTo>
                    <a:pt x="0" y="776"/>
                  </a:moveTo>
                  <a:cubicBezTo>
                    <a:pt x="128" y="680"/>
                    <a:pt x="256" y="584"/>
                    <a:pt x="336" y="488"/>
                  </a:cubicBezTo>
                  <a:cubicBezTo>
                    <a:pt x="416" y="392"/>
                    <a:pt x="424" y="280"/>
                    <a:pt x="480" y="200"/>
                  </a:cubicBezTo>
                  <a:cubicBezTo>
                    <a:pt x="536" y="120"/>
                    <a:pt x="600" y="16"/>
                    <a:pt x="672" y="8"/>
                  </a:cubicBezTo>
                  <a:cubicBezTo>
                    <a:pt x="744" y="0"/>
                    <a:pt x="848" y="88"/>
                    <a:pt x="912" y="152"/>
                  </a:cubicBezTo>
                  <a:cubicBezTo>
                    <a:pt x="976" y="216"/>
                    <a:pt x="992" y="288"/>
                    <a:pt x="1056" y="392"/>
                  </a:cubicBezTo>
                  <a:cubicBezTo>
                    <a:pt x="1120" y="496"/>
                    <a:pt x="1256" y="712"/>
                    <a:pt x="1296" y="7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6832800" y="5422680"/>
              <a:ext cx="96012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6483240" y="619884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7877160" y="619884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>
              <a:off x="6483240" y="6297480"/>
              <a:ext cx="1393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6424560" y="63086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8280360" y="606384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7674120" y="554184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5997600" y="506880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H="1">
              <a:off x="7750080" y="5790960"/>
              <a:ext cx="152640" cy="2156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>
              <a:off x="6454800" y="5389200"/>
              <a:ext cx="685800" cy="325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 rot="16220400">
              <a:off x="5061240" y="5424480"/>
              <a:ext cx="15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5997600" y="630360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997600" y="6227640"/>
              <a:ext cx="0" cy="145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5845320" y="63086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759720" y="586728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5997600" y="57369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EC8-D844-4F56-8CEA-5B08CEA7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4BF-158C-4F73-8966-013DD5A7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Study of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52280" y="907920"/>
            <a:ext cx="8839440" cy="1033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ative study was conducted between the following candidat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order to find appropriate criteria, the in-use driving data were converted to L/M/H according to the following criteria, then distributions and parameters were compa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257040" y="2135160"/>
            <a:ext cx="8610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7A11-B776-478E-822E-35CAB294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16160" y="2349360"/>
            <a:ext cx="2587680" cy="1932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238720" y="2349360"/>
            <a:ext cx="2587680" cy="1932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Similarity of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837720"/>
            <a:ext cx="85150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acceleration distribution with each region’s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s are evaluated by a normalized chi-squar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835280" y="3571560"/>
            <a:ext cx="15552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144440" y="4508640"/>
            <a:ext cx="2922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,j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Frequency of Average distrib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084720" y="3573000"/>
            <a:ext cx="18288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076720" y="4508640"/>
            <a:ext cx="2952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: Frequency of each region’s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770360" y="5369040"/>
                <a:ext cx="28972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χ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Text Box 11"/>
          <p:cNvSpPr/>
          <p:nvPr/>
        </p:nvSpPr>
        <p:spPr>
          <a:xfrm>
            <a:off x="1042920" y="576432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chi-squared val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048200" y="2851200"/>
            <a:ext cx="1008000" cy="793800"/>
          </a:xfrm>
          <a:prstGeom prst="leftRightArrow">
            <a:avLst>
              <a:gd name="adj1" fmla="val 50000"/>
              <a:gd name="adj2" fmla="val 252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92436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900000" y="5191200"/>
            <a:ext cx="712800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332000" y="2036880"/>
            <a:ext cx="24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of 5 region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292720" y="2036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 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C69-A254-4E7F-B3F8-4B10631B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76320" y="1265400"/>
            <a:ext cx="8997840" cy="4135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 Similarity of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8000" y="83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rmalized chi-squared valu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5240" y="5427720"/>
            <a:ext cx="87915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60/80/110/~], [60/90/110/~], [70/90/110/~] and [70/90/12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E51A-60A0-4313-8FE7-2D9E5FFB9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1560" y="2349360"/>
            <a:ext cx="3297240" cy="20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5248440" y="2349360"/>
            <a:ext cx="3300120" cy="2065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Similarity of speed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837720"/>
            <a:ext cx="85150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frequency distribution with each region’s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re evaluated by a normalized chi-squar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 flipV="1">
            <a:off x="1763640" y="3789360"/>
            <a:ext cx="216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755640" y="4508640"/>
            <a:ext cx="2922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Frequency of Average distrib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 flipV="1">
            <a:off x="6372360" y="3644640"/>
            <a:ext cx="37800" cy="93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291280" y="4508640"/>
            <a:ext cx="2952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: Frequency of each region’s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5003640" y="5470560"/>
                <a:ext cx="2430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χ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042920" y="576432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chi-squared val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048200" y="2851200"/>
            <a:ext cx="1008000" cy="793800"/>
          </a:xfrm>
          <a:prstGeom prst="leftRightArrow">
            <a:avLst>
              <a:gd name="adj1" fmla="val 50000"/>
              <a:gd name="adj2" fmla="val 252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92436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900000" y="5191200"/>
            <a:ext cx="712800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684360" y="2036880"/>
            <a:ext cx="24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of 5 region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292720" y="2036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 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8C3-441B-45BF-B395-194DAA16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69840" y="1257480"/>
            <a:ext cx="8997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Similarity of speed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8000" y="83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rmalized chi-squared valu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52280" y="5419800"/>
            <a:ext cx="88394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50/80/110/~], [50/90/110/~], [60/80/110/~] and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19D7-32CB-4F61-9101-662DF0C3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9" descr=""/>
          <p:cNvPicPr/>
          <p:nvPr/>
        </p:nvPicPr>
        <p:blipFill>
          <a:blip r:embed="rId1"/>
          <a:stretch/>
        </p:blipFill>
        <p:spPr>
          <a:xfrm>
            <a:off x="1123920" y="2590920"/>
            <a:ext cx="618192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Similarity of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838080"/>
            <a:ext cx="8496000" cy="13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with each region’s average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re evaluated by a Relative standard deviation (RS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D(%) = Standard Deviation / Average value *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050920" y="3124080"/>
            <a:ext cx="1152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2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1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76720" y="3124080"/>
            <a:ext cx="1152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3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6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716360" y="3124080"/>
            <a:ext cx="1152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5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012000" y="3124080"/>
            <a:ext cx="1152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8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35280" y="2276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xamp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040200" y="5257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375080" y="47005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5715000" y="41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7054920" y="3276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EFF-31A0-4F00-9500-A1291DF9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"/>
          <p:cNvPicPr/>
          <p:nvPr/>
        </p:nvPicPr>
        <p:blipFill>
          <a:blip r:embed="rId1"/>
          <a:stretch/>
        </p:blipFill>
        <p:spPr>
          <a:xfrm>
            <a:off x="76320" y="1276200"/>
            <a:ext cx="8997840" cy="4135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Similarity of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5240" y="5435640"/>
            <a:ext cx="87915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50/70/100/~], [50/70/110/~], [60/80/110/~] and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08000" y="836640"/>
            <a:ext cx="64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verage speed and Relative standard deviation (RSD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B5A-C908-4627-904D-5291AB06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the threshold vehicle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9C7-26D2-4C27-9A1B-CCEF581E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 &lt; appropriate threshold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4280" y="980640"/>
            <a:ext cx="4114800" cy="554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speed was considered based on 3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shold speed of [60/80/110/~] and [70/90/110/~] are best choice for less difference for all condition. Phase duration balance (refer slide 37) of [60/80/110/~] is better than that of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133640"/>
          <a:ext cx="4267080" cy="5343480"/>
        </p:xfrm>
        <a:graphic>
          <a:graphicData uri="http://schemas.openxmlformats.org/drawingml/2006/table">
            <a:tbl>
              <a:tblPr/>
              <a:tblGrid>
                <a:gridCol w="1143000"/>
                <a:gridCol w="663480"/>
                <a:gridCol w="820800"/>
                <a:gridCol w="819360"/>
                <a:gridCol w="820440"/>
              </a:tblGrid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-A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70/10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7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8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8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/80/110/~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lang="ja-JP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◎</a:t>
                      </a:r>
                      <a:r>
                        <a:rPr b="1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8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10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458"/>
          <p:cNvSpPr/>
          <p:nvPr/>
        </p:nvSpPr>
        <p:spPr>
          <a:xfrm>
            <a:off x="228600" y="8380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Similarit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65F2-EB69-45E1-85E0-5EBB5FB1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465-8969-4FEA-8AF4-2F4972E8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8" descr=""/>
          <p:cNvPicPr/>
          <p:nvPr/>
        </p:nvPicPr>
        <p:blipFill>
          <a:blip r:embed="rId1"/>
          <a:stretch/>
        </p:blipFill>
        <p:spPr>
          <a:xfrm>
            <a:off x="4748040" y="2016000"/>
            <a:ext cx="4351680" cy="2702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0" descr=""/>
          <p:cNvPicPr/>
          <p:nvPr/>
        </p:nvPicPr>
        <p:blipFill>
          <a:blip r:embed="rId2"/>
          <a:stretch/>
        </p:blipFill>
        <p:spPr>
          <a:xfrm>
            <a:off x="-7920" y="2016000"/>
            <a:ext cx="4351320" cy="2689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L/M/H analysis @60/80/110/~ –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80880" y="9144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erage spe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309680" y="3730680"/>
            <a:ext cx="108000" cy="287280"/>
          </a:xfrm>
          <a:prstGeom prst="upDownArrow">
            <a:avLst>
              <a:gd name="adj1" fmla="val 50000"/>
              <a:gd name="adj2" fmla="val 52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2771640" y="3282840"/>
            <a:ext cx="108000" cy="381240"/>
          </a:xfrm>
          <a:prstGeom prst="upDownArrow">
            <a:avLst>
              <a:gd name="adj1" fmla="val 50000"/>
              <a:gd name="adj2" fmla="val 702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3995640" y="2654280"/>
            <a:ext cx="114480" cy="762120"/>
          </a:xfrm>
          <a:prstGeom prst="upDownArrow">
            <a:avLst>
              <a:gd name="adj1" fmla="val 50000"/>
              <a:gd name="adj2" fmla="val 132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822240" y="372096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2041560" y="32734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3413160" y="2644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4381560" y="2917800"/>
            <a:ext cx="3808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83016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U/R/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541008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/M/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331920" y="5568840"/>
            <a:ext cx="84582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is less difference in L/M/H phase but slight difference in Ex-High phase still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9"/>
          <p:cNvSpPr/>
          <p:nvPr/>
        </p:nvSpPr>
        <p:spPr>
          <a:xfrm>
            <a:off x="5324400" y="389880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6248520" y="359424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7162920" y="3159000"/>
            <a:ext cx="9144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8686800" y="2832120"/>
            <a:ext cx="93600" cy="352440"/>
          </a:xfrm>
          <a:prstGeom prst="upDownArrow">
            <a:avLst>
              <a:gd name="adj1" fmla="val 50000"/>
              <a:gd name="adj2" fmla="val 749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>
            <a:off x="8305920" y="282096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>
            <a:off x="8334360" y="32036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5334120" y="47242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847-F5FD-4DA5-9975-0875FE77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4" descr=""/>
          <p:cNvPicPr/>
          <p:nvPr/>
        </p:nvPicPr>
        <p:blipFill>
          <a:blip r:embed="rId1"/>
          <a:stretch/>
        </p:blipFill>
        <p:spPr>
          <a:xfrm>
            <a:off x="0" y="2022480"/>
            <a:ext cx="4325760" cy="267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"/>
          <p:cNvPicPr/>
          <p:nvPr/>
        </p:nvPicPr>
        <p:blipFill>
          <a:blip r:embed="rId2"/>
          <a:stretch/>
        </p:blipFill>
        <p:spPr>
          <a:xfrm>
            <a:off x="4741920" y="2016000"/>
            <a:ext cx="4325760" cy="2686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L/M/H analysis @60/80/110/~ – Average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80880" y="914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erage ST duratio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4381560" y="2917800"/>
            <a:ext cx="3808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83016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U/R/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41008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/M/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331920" y="5694480"/>
            <a:ext cx="84582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rt trip duration become closer except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5380200" y="4092480"/>
            <a:ext cx="6951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6305400" y="3962520"/>
            <a:ext cx="695520" cy="3492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229520" y="3516480"/>
            <a:ext cx="695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34120" y="47242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7A9-91F7-4A04-80C2-CFA7CB55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L/M/H analysis @60/80/110/~ – speed 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onfirmed that VA distribution is less difference in L/M phase but slight difference in Extra-High phase still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1"/>
          <a:stretch/>
        </p:blipFill>
        <p:spPr>
          <a:xfrm>
            <a:off x="31680" y="907920"/>
            <a:ext cx="90550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DF4-F360-41EF-A797-D66371836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 L/M/H analysis @60/80/110/~ – speed 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28600" y="5689440"/>
            <a:ext cx="86868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onfirmed that VA distribution is less difference in L/M/H phase but slight difference in Extra-High phase still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31680" y="914400"/>
            <a:ext cx="9055080" cy="3218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7094520" y="2676600"/>
            <a:ext cx="1941480" cy="14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BBC-A462-4028-84BE-658DC868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 L/M/H analysis @60/80/110/~ – Oth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confirmed that vehicle speed frequency distribution is less difference in L/M/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54000" y="1222200"/>
            <a:ext cx="9010800" cy="4066920"/>
            <a:chOff x="54000" y="1222200"/>
            <a:chExt cx="9010800" cy="4066920"/>
          </a:xfrm>
        </p:grpSpPr>
        <p:pic>
          <p:nvPicPr>
            <p:cNvPr id="259" name="Picture 13" descr=""/>
            <p:cNvPicPr/>
            <p:nvPr/>
          </p:nvPicPr>
          <p:blipFill>
            <a:blip r:embed="rId1"/>
            <a:stretch/>
          </p:blipFill>
          <p:spPr>
            <a:xfrm>
              <a:off x="54000" y="1222200"/>
              <a:ext cx="9010800" cy="14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6" descr=""/>
            <p:cNvPicPr/>
            <p:nvPr/>
          </p:nvPicPr>
          <p:blipFill>
            <a:blip r:embed="rId2"/>
            <a:stretch/>
          </p:blipFill>
          <p:spPr>
            <a:xfrm>
              <a:off x="54000" y="3965400"/>
              <a:ext cx="901080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7" descr=""/>
            <p:cNvPicPr/>
            <p:nvPr/>
          </p:nvPicPr>
          <p:blipFill>
            <a:blip r:embed="rId3"/>
            <a:stretch/>
          </p:blipFill>
          <p:spPr>
            <a:xfrm>
              <a:off x="54000" y="2669760"/>
              <a:ext cx="9010800" cy="13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Text Box 20"/>
          <p:cNvSpPr/>
          <p:nvPr/>
        </p:nvSpPr>
        <p:spPr>
          <a:xfrm>
            <a:off x="0" y="52578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25C-1148-4F9E-9B73-4C74C672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. Conclusion of verification of L/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onfirmed that each region’s driving characteristics and VA distributions comparatively show less difference by converting into Low/Middle/High/Extra-High phase based on threshold speed at 60/80/110/~ km/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Extra-High phase is still observed among US/EU and other reg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4301-CF47-445A-9DAA-5C156404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DE72-7BFF-42EA-9CB4-2B7D990A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1" descr=""/>
          <p:cNvPicPr/>
          <p:nvPr/>
        </p:nvPicPr>
        <p:blipFill>
          <a:blip r:embed="rId1"/>
          <a:stretch/>
        </p:blipFill>
        <p:spPr>
          <a:xfrm>
            <a:off x="1704960" y="1868400"/>
            <a:ext cx="5711760" cy="3589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Regional weighting for distributions/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52280" y="762120"/>
            <a:ext cx="8839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weighting for L/M/H phase is necessary to represent each region driving when developing the unified distributions and harmonized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425680" y="15177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al weighting for each phase (Image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419720" y="5638680"/>
            <a:ext cx="4343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ffic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ue to difference characteristics, apply absolute traffic volume ratio at each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80880" y="5638680"/>
            <a:ext cx="4343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qual 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ue to same characteristics, apply equal weighting at each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 rot="1823400">
            <a:off x="3123720" y="5285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 rot="19885800">
            <a:off x="5486040" y="52909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 rot="5400000">
            <a:off x="5638680" y="4354560"/>
            <a:ext cx="228600" cy="1752480"/>
          </a:xfrm>
          <a:custGeom>
            <a:avLst/>
            <a:gdLst>
              <a:gd name="textAreaLeft" fmla="*/ 0 w 228600"/>
              <a:gd name="textAreaRight" fmla="*/ 160560 w 228600"/>
              <a:gd name="textAreaTop" fmla="*/ 72720 h 1752480"/>
              <a:gd name="textAreaBottom" fmla="*/ 1679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 rot="5400000">
            <a:off x="3428640" y="4354560"/>
            <a:ext cx="228600" cy="1752840"/>
          </a:xfrm>
          <a:custGeom>
            <a:avLst/>
            <a:gdLst>
              <a:gd name="textAreaLeft" fmla="*/ 0 w 228600"/>
              <a:gd name="textAreaRight" fmla="*/ 160560 w 22860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768760" y="18162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*) Traffic volume ratio is tentativ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3"/>
          <p:cNvGrpSpPr/>
          <p:nvPr/>
        </p:nvGrpSpPr>
        <p:grpSpPr>
          <a:xfrm>
            <a:off x="3209760" y="2081160"/>
            <a:ext cx="304920" cy="2952720"/>
            <a:chOff x="3209760" y="2081160"/>
            <a:chExt cx="304920" cy="2952720"/>
          </a:xfrm>
        </p:grpSpPr>
        <p:sp>
          <p:nvSpPr>
            <p:cNvPr id="282" name="AutoShape 14"/>
            <p:cNvSpPr/>
            <p:nvPr/>
          </p:nvSpPr>
          <p:spPr>
            <a:xfrm>
              <a:off x="3276720" y="208116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3209760" y="2133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6"/>
            <p:cNvSpPr/>
            <p:nvPr/>
          </p:nvSpPr>
          <p:spPr>
            <a:xfrm>
              <a:off x="3276720" y="257328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3209760" y="26258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8"/>
            <p:cNvSpPr/>
            <p:nvPr/>
          </p:nvSpPr>
          <p:spPr>
            <a:xfrm>
              <a:off x="3276720" y="306540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3209760" y="3117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3276720" y="355752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3209760" y="3610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2"/>
            <p:cNvSpPr/>
            <p:nvPr/>
          </p:nvSpPr>
          <p:spPr>
            <a:xfrm>
              <a:off x="3276720" y="404964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>
              <a:off x="3209760" y="4102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4"/>
            <p:cNvSpPr/>
            <p:nvPr/>
          </p:nvSpPr>
          <p:spPr>
            <a:xfrm>
              <a:off x="3276720" y="4543560"/>
              <a:ext cx="74520" cy="490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320"/>
                <a:gd name="textAreaBottom" fmla="*/ 470160 h 49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209760" y="45957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4324320" y="2076480"/>
            <a:ext cx="304920" cy="2952720"/>
            <a:chOff x="4324320" y="2076480"/>
            <a:chExt cx="304920" cy="2952720"/>
          </a:xfrm>
        </p:grpSpPr>
        <p:sp>
          <p:nvSpPr>
            <p:cNvPr id="295" name="AutoShape 27"/>
            <p:cNvSpPr/>
            <p:nvPr/>
          </p:nvSpPr>
          <p:spPr>
            <a:xfrm>
              <a:off x="4391280" y="207648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4324320" y="2129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9"/>
            <p:cNvSpPr/>
            <p:nvPr/>
          </p:nvSpPr>
          <p:spPr>
            <a:xfrm>
              <a:off x="4391280" y="256860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4324320" y="2621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31"/>
            <p:cNvSpPr/>
            <p:nvPr/>
          </p:nvSpPr>
          <p:spPr>
            <a:xfrm>
              <a:off x="4391280" y="306072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4324320" y="3113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33"/>
            <p:cNvSpPr/>
            <p:nvPr/>
          </p:nvSpPr>
          <p:spPr>
            <a:xfrm>
              <a:off x="4391280" y="355284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4"/>
            <p:cNvSpPr/>
            <p:nvPr/>
          </p:nvSpPr>
          <p:spPr>
            <a:xfrm>
              <a:off x="4324320" y="3605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35"/>
            <p:cNvSpPr/>
            <p:nvPr/>
          </p:nvSpPr>
          <p:spPr>
            <a:xfrm>
              <a:off x="4391280" y="404496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6"/>
            <p:cNvSpPr/>
            <p:nvPr/>
          </p:nvSpPr>
          <p:spPr>
            <a:xfrm>
              <a:off x="4324320" y="4097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7"/>
            <p:cNvSpPr/>
            <p:nvPr/>
          </p:nvSpPr>
          <p:spPr>
            <a:xfrm>
              <a:off x="4391280" y="4538880"/>
              <a:ext cx="74520" cy="490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320"/>
                <a:gd name="textAreaBottom" fmla="*/ 470160 h 49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8"/>
            <p:cNvSpPr/>
            <p:nvPr/>
          </p:nvSpPr>
          <p:spPr>
            <a:xfrm>
              <a:off x="4324320" y="459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43"/>
          <p:cNvSpPr/>
          <p:nvPr/>
        </p:nvSpPr>
        <p:spPr>
          <a:xfrm>
            <a:off x="76320" y="54244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recommendation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6"/>
          <p:cNvSpPr/>
          <p:nvPr/>
        </p:nvSpPr>
        <p:spPr>
          <a:xfrm>
            <a:off x="76320" y="4267080"/>
            <a:ext cx="1981080" cy="1219320"/>
          </a:xfrm>
          <a:prstGeom prst="wedgeRoundRectCallout">
            <a:avLst>
              <a:gd name="adj1" fmla="val 128125"/>
              <a:gd name="adj2" fmla="val -93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other recommendations are welcome for more appropr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A776-5A43-4257-ACE2-24638947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198-FF95-4328-9636-8D0EF559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3" descr=""/>
          <p:cNvPicPr/>
          <p:nvPr/>
        </p:nvPicPr>
        <p:blipFill>
          <a:blip r:embed="rId1"/>
          <a:stretch/>
        </p:blipFill>
        <p:spPr>
          <a:xfrm>
            <a:off x="857160" y="998640"/>
            <a:ext cx="7410600" cy="48924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1. Influence of the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28600" y="5791320"/>
            <a:ext cx="853452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speed will be similar in L/M/H phase but slight difference in Extra-High phase will be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43000" y="685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80/1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 flipV="1">
            <a:off x="317196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V="1">
            <a:off x="486108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 flipV="1">
            <a:off x="653400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906560" y="1143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659040" y="11430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487840" y="11430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792840" y="1143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2514600" y="3352680"/>
            <a:ext cx="7621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>
            <a:off x="4191120" y="2895480"/>
            <a:ext cx="761760" cy="53352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905440" y="2362320"/>
            <a:ext cx="762120" cy="5331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7620120" y="1600200"/>
            <a:ext cx="8380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2476440" y="29718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4152960" y="259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5867280" y="2057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20120" y="1339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2B2-258B-4413-BBBD-6BE8FFED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0" descr=""/>
          <p:cNvPicPr/>
          <p:nvPr/>
        </p:nvPicPr>
        <p:blipFill>
          <a:blip r:embed="rId1"/>
          <a:stretch/>
        </p:blipFill>
        <p:spPr>
          <a:xfrm>
            <a:off x="76320" y="676440"/>
            <a:ext cx="8972280" cy="1677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"/>
          <p:cNvPicPr/>
          <p:nvPr/>
        </p:nvPicPr>
        <p:blipFill>
          <a:blip r:embed="rId2"/>
          <a:stretch/>
        </p:blipFill>
        <p:spPr>
          <a:xfrm>
            <a:off x="76320" y="2341440"/>
            <a:ext cx="8972280" cy="1516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4" descr=""/>
          <p:cNvPicPr/>
          <p:nvPr/>
        </p:nvPicPr>
        <p:blipFill>
          <a:blip r:embed="rId3"/>
          <a:stretch/>
        </p:blipFill>
        <p:spPr>
          <a:xfrm>
            <a:off x="76320" y="4098960"/>
            <a:ext cx="8972280" cy="1515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2. Influence of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8160" y="12762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ffic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0" y="2876400"/>
            <a:ext cx="10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 we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0" y="4462560"/>
            <a:ext cx="1006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pos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/M: eq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/ExH: Traf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28600" y="5918040"/>
            <a:ext cx="86104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acceleration distributions are similar in L/M phase but slight difference in High/Extra-High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1981080" y="5546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qual 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715000" y="5546880"/>
            <a:ext cx="26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ffic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17524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79246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8098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>
            <a:off x="7924680" y="1981080"/>
            <a:ext cx="152640" cy="609840"/>
          </a:xfrm>
          <a:prstGeom prst="upDownArrow">
            <a:avLst>
              <a:gd name="adj1" fmla="val 50000"/>
              <a:gd name="adj2" fmla="val 795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952560" y="4098960"/>
            <a:ext cx="4038480" cy="1523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5010120" y="4098960"/>
            <a:ext cx="4011480" cy="1523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676520" y="1981080"/>
            <a:ext cx="152280" cy="609840"/>
          </a:xfrm>
          <a:prstGeom prst="upDownArrow">
            <a:avLst>
              <a:gd name="adj1" fmla="val 50000"/>
              <a:gd name="adj2" fmla="val 797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3759120" y="1981080"/>
            <a:ext cx="152640" cy="609840"/>
          </a:xfrm>
          <a:prstGeom prst="upDownArrow">
            <a:avLst>
              <a:gd name="adj1" fmla="val 50000"/>
              <a:gd name="adj2" fmla="val 795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5791320" y="2095560"/>
            <a:ext cx="83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5791320" y="1981080"/>
            <a:ext cx="152280" cy="609840"/>
          </a:xfrm>
          <a:prstGeom prst="upDownArrow">
            <a:avLst>
              <a:gd name="adj1" fmla="val 50000"/>
              <a:gd name="adj2" fmla="val 79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5"/>
          <p:cNvSpPr/>
          <p:nvPr/>
        </p:nvSpPr>
        <p:spPr>
          <a:xfrm>
            <a:off x="4343400" y="3733920"/>
            <a:ext cx="12193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84BC-E3C2-4656-8391-9F93EB22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L/M/H traffic volume ratio @ 60/80/110/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"/>
          <p:cNvPicPr/>
          <p:nvPr/>
        </p:nvPicPr>
        <p:blipFill>
          <a:blip r:embed="rId1"/>
          <a:stretch/>
        </p:blipFill>
        <p:spPr>
          <a:xfrm>
            <a:off x="76320" y="3643200"/>
            <a:ext cx="4448160" cy="2584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190440" y="723960"/>
            <a:ext cx="8763120" cy="220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fied distributions of High/Extra-High phase should be based on traffic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fact that the difference of VA distributions still exists in High/Extra-High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fact that the ratio of High/Extra-High phase of Japan, Korea and India are smaller than EU and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82880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raffic volume ratio between L/M/H/ExH pha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"/>
          <p:cNvPicPr/>
          <p:nvPr/>
        </p:nvPicPr>
        <p:blipFill>
          <a:blip r:embed="rId2"/>
          <a:stretch/>
        </p:blipFill>
        <p:spPr>
          <a:xfrm>
            <a:off x="4648320" y="3643200"/>
            <a:ext cx="4448160" cy="25844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5"/>
          <p:cNvSpPr/>
          <p:nvPr/>
        </p:nvSpPr>
        <p:spPr>
          <a:xfrm>
            <a:off x="609480" y="33386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0/80/110/~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05520" y="33386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70/90/110/~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0967-2FD5-4E9F-9E84-7683CAF07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f dat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732-18E4-4237-B4BD-EB0A660B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"/>
          <p:cNvSpPr/>
          <p:nvPr/>
        </p:nvSpPr>
        <p:spPr>
          <a:xfrm>
            <a:off x="380880" y="4343400"/>
            <a:ext cx="8458200" cy="2158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43080" y="942840"/>
            <a:ext cx="8458200" cy="215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d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 flipV="1">
            <a:off x="1143000" y="5181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066680" y="6324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"/>
          <p:cNvSpPr/>
          <p:nvPr/>
        </p:nvSpPr>
        <p:spPr>
          <a:xfrm>
            <a:off x="1143000" y="5854680"/>
            <a:ext cx="2133720" cy="469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48" y="224"/>
                  <a:pt x="96" y="152"/>
                  <a:pt x="192" y="104"/>
                </a:cubicBezTo>
                <a:cubicBezTo>
                  <a:pt x="288" y="56"/>
                  <a:pt x="424" y="16"/>
                  <a:pt x="576" y="8"/>
                </a:cubicBezTo>
                <a:cubicBezTo>
                  <a:pt x="728" y="0"/>
                  <a:pt x="976" y="8"/>
                  <a:pt x="1104" y="56"/>
                </a:cubicBezTo>
                <a:cubicBezTo>
                  <a:pt x="1232" y="104"/>
                  <a:pt x="1288" y="200"/>
                  <a:pt x="1344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3276720" y="5543640"/>
            <a:ext cx="1295280" cy="780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816" h="492">
                <a:moveTo>
                  <a:pt x="0" y="492"/>
                </a:moveTo>
                <a:cubicBezTo>
                  <a:pt x="35" y="421"/>
                  <a:pt x="107" y="132"/>
                  <a:pt x="210" y="66"/>
                </a:cubicBezTo>
                <a:cubicBezTo>
                  <a:pt x="313" y="0"/>
                  <a:pt x="517" y="25"/>
                  <a:pt x="618" y="96"/>
                </a:cubicBezTo>
                <a:cubicBezTo>
                  <a:pt x="719" y="167"/>
                  <a:pt x="775" y="410"/>
                  <a:pt x="816" y="492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1600200" y="6019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www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276720" y="60199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xxx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133720" y="5181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+M = 12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 flipV="1">
            <a:off x="5410080" y="5257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5334120" y="6308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4"/>
          <p:cNvSpPr/>
          <p:nvPr/>
        </p:nvSpPr>
        <p:spPr>
          <a:xfrm>
            <a:off x="5410080" y="5257800"/>
            <a:ext cx="990720" cy="1084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5257800" y="5958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 yyy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4724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1138320" y="1499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8"/>
          <p:cNvSpPr/>
          <p:nvPr/>
        </p:nvSpPr>
        <p:spPr>
          <a:xfrm>
            <a:off x="1062000" y="2643120"/>
            <a:ext cx="69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9"/>
          <p:cNvSpPr/>
          <p:nvPr/>
        </p:nvSpPr>
        <p:spPr>
          <a:xfrm>
            <a:off x="1138320" y="2173320"/>
            <a:ext cx="2133360" cy="469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48" y="224"/>
                  <a:pt x="96" y="152"/>
                  <a:pt x="192" y="104"/>
                </a:cubicBezTo>
                <a:cubicBezTo>
                  <a:pt x="288" y="56"/>
                  <a:pt x="424" y="16"/>
                  <a:pt x="576" y="8"/>
                </a:cubicBezTo>
                <a:cubicBezTo>
                  <a:pt x="728" y="0"/>
                  <a:pt x="976" y="8"/>
                  <a:pt x="1104" y="56"/>
                </a:cubicBezTo>
                <a:cubicBezTo>
                  <a:pt x="1232" y="104"/>
                  <a:pt x="1288" y="200"/>
                  <a:pt x="1344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0"/>
          <p:cNvSpPr/>
          <p:nvPr/>
        </p:nvSpPr>
        <p:spPr>
          <a:xfrm>
            <a:off x="3271680" y="1862280"/>
            <a:ext cx="1295640" cy="7808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816" h="492">
                <a:moveTo>
                  <a:pt x="0" y="492"/>
                </a:moveTo>
                <a:cubicBezTo>
                  <a:pt x="35" y="421"/>
                  <a:pt x="107" y="132"/>
                  <a:pt x="210" y="66"/>
                </a:cubicBezTo>
                <a:cubicBezTo>
                  <a:pt x="313" y="0"/>
                  <a:pt x="517" y="25"/>
                  <a:pt x="618" y="96"/>
                </a:cubicBezTo>
                <a:cubicBezTo>
                  <a:pt x="719" y="167"/>
                  <a:pt x="775" y="410"/>
                  <a:pt x="816" y="492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1595520" y="233856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www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3271680" y="2338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xxx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276720" y="1066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+M+H+ExH = 18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4"/>
          <p:cNvSpPr/>
          <p:nvPr/>
        </p:nvSpPr>
        <p:spPr>
          <a:xfrm>
            <a:off x="4643280" y="1576440"/>
            <a:ext cx="1524240" cy="10843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4643280" y="22766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yyy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1752480" y="269568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: M : H : ExH = based on traffic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7"/>
          <p:cNvSpPr/>
          <p:nvPr/>
        </p:nvSpPr>
        <p:spPr>
          <a:xfrm>
            <a:off x="1981080" y="334476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2895480" y="327672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igh phase duration is not enough long for stable sampling, divide into L+M and H+ExH mode co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9"/>
          <p:cNvSpPr/>
          <p:nvPr/>
        </p:nvSpPr>
        <p:spPr>
          <a:xfrm>
            <a:off x="609480" y="4114800"/>
            <a:ext cx="1371600" cy="4096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0"/>
          <p:cNvSpPr/>
          <p:nvPr/>
        </p:nvSpPr>
        <p:spPr>
          <a:xfrm>
            <a:off x="609480" y="762120"/>
            <a:ext cx="1371600" cy="409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6172200" y="1095480"/>
            <a:ext cx="1523880" cy="15620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6172200" y="227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 =zzz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6400800" y="4786200"/>
            <a:ext cx="1143000" cy="1562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6248520" y="5958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 =zzz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5562720" y="4419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+ExH = 6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F8E-3B21-4157-AE4C-0106FD75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f dat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FFF2-2B83-4D28-814D-487CA520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280" y="812880"/>
          <a:ext cx="8864640" cy="57420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                                                                       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Text Box 104"/>
          <p:cNvSpPr/>
          <p:nvPr/>
        </p:nvSpPr>
        <p:spPr>
          <a:xfrm>
            <a:off x="1449360" y="1905120"/>
            <a:ext cx="1666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phase 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5"/>
          <p:cNvSpPr/>
          <p:nvPr/>
        </p:nvSpPr>
        <p:spPr>
          <a:xfrm>
            <a:off x="19051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6"/>
          <p:cNvSpPr/>
          <p:nvPr/>
        </p:nvSpPr>
        <p:spPr>
          <a:xfrm flipH="1">
            <a:off x="6400800" y="5041800"/>
            <a:ext cx="2603520" cy="457200"/>
          </a:xfrm>
          <a:prstGeom prst="rightArrow">
            <a:avLst>
              <a:gd name="adj1" fmla="val 50000"/>
              <a:gd name="adj2" fmla="val 9279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7"/>
          <p:cNvSpPr/>
          <p:nvPr/>
        </p:nvSpPr>
        <p:spPr>
          <a:xfrm>
            <a:off x="4648320" y="5041800"/>
            <a:ext cx="1523880" cy="484200"/>
          </a:xfrm>
          <a:prstGeom prst="rightArrow">
            <a:avLst>
              <a:gd name="adj1" fmla="val 50000"/>
              <a:gd name="adj2" fmla="val 5128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8"/>
          <p:cNvSpPr/>
          <p:nvPr/>
        </p:nvSpPr>
        <p:spPr>
          <a:xfrm>
            <a:off x="1981080" y="4102200"/>
            <a:ext cx="2133720" cy="304560"/>
          </a:xfrm>
          <a:prstGeom prst="rightArrow">
            <a:avLst>
              <a:gd name="adj1" fmla="val 50000"/>
              <a:gd name="adj2" fmla="val 13606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9"/>
          <p:cNvSpPr/>
          <p:nvPr/>
        </p:nvSpPr>
        <p:spPr>
          <a:xfrm>
            <a:off x="1981080" y="4483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0"/>
          <p:cNvSpPr/>
          <p:nvPr/>
        </p:nvSpPr>
        <p:spPr>
          <a:xfrm>
            <a:off x="1828080" y="448308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1"/>
          <p:cNvSpPr/>
          <p:nvPr/>
        </p:nvSpPr>
        <p:spPr>
          <a:xfrm>
            <a:off x="2666880" y="4483080"/>
            <a:ext cx="143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2"/>
          <p:cNvSpPr/>
          <p:nvPr/>
        </p:nvSpPr>
        <p:spPr>
          <a:xfrm>
            <a:off x="2819520" y="4559400"/>
            <a:ext cx="842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3"/>
          <p:cNvSpPr/>
          <p:nvPr/>
        </p:nvSpPr>
        <p:spPr>
          <a:xfrm>
            <a:off x="1935000" y="3505320"/>
            <a:ext cx="1417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4"/>
          <p:cNvSpPr/>
          <p:nvPr/>
        </p:nvSpPr>
        <p:spPr>
          <a:xfrm>
            <a:off x="1981080" y="1676520"/>
            <a:ext cx="735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5"/>
          <p:cNvSpPr/>
          <p:nvPr/>
        </p:nvSpPr>
        <p:spPr>
          <a:xfrm>
            <a:off x="2743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6"/>
          <p:cNvSpPr/>
          <p:nvPr/>
        </p:nvSpPr>
        <p:spPr>
          <a:xfrm>
            <a:off x="5334120" y="160020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7"/>
          <p:cNvSpPr/>
          <p:nvPr/>
        </p:nvSpPr>
        <p:spPr>
          <a:xfrm>
            <a:off x="242568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18"/>
          <p:cNvSpPr/>
          <p:nvPr/>
        </p:nvSpPr>
        <p:spPr>
          <a:xfrm>
            <a:off x="4191120" y="4025880"/>
            <a:ext cx="1981080" cy="457200"/>
          </a:xfrm>
          <a:prstGeom prst="rightArrow">
            <a:avLst>
              <a:gd name="adj1" fmla="val 50000"/>
              <a:gd name="adj2" fmla="val 641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9"/>
          <p:cNvSpPr/>
          <p:nvPr/>
        </p:nvSpPr>
        <p:spPr>
          <a:xfrm>
            <a:off x="4356000" y="2070000"/>
            <a:ext cx="1338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oduction of Draft 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0"/>
          <p:cNvSpPr/>
          <p:nvPr/>
        </p:nvSpPr>
        <p:spPr>
          <a:xfrm>
            <a:off x="3353400" y="5270400"/>
            <a:ext cx="102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1"/>
          <p:cNvSpPr/>
          <p:nvPr/>
        </p:nvSpPr>
        <p:spPr>
          <a:xfrm>
            <a:off x="6248520" y="5334120"/>
            <a:ext cx="228600" cy="850680"/>
          </a:xfrm>
          <a:custGeom>
            <a:avLst/>
            <a:gdLst>
              <a:gd name="textAreaLeft" fmla="*/ 0 w 228600"/>
              <a:gd name="textAreaRight" fmla="*/ 228960 w 2286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2"/>
          <p:cNvSpPr/>
          <p:nvPr/>
        </p:nvSpPr>
        <p:spPr>
          <a:xfrm>
            <a:off x="2977560" y="6172200"/>
            <a:ext cx="182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23"/>
          <p:cNvSpPr/>
          <p:nvPr/>
        </p:nvSpPr>
        <p:spPr>
          <a:xfrm>
            <a:off x="3200400" y="5270400"/>
            <a:ext cx="14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4"/>
          <p:cNvSpPr/>
          <p:nvPr/>
        </p:nvSpPr>
        <p:spPr>
          <a:xfrm>
            <a:off x="1892160" y="6184800"/>
            <a:ext cx="428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5"/>
          <p:cNvSpPr/>
          <p:nvPr/>
        </p:nvSpPr>
        <p:spPr>
          <a:xfrm>
            <a:off x="3589920" y="1523880"/>
            <a:ext cx="933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26"/>
          <p:cNvSpPr/>
          <p:nvPr/>
        </p:nvSpPr>
        <p:spPr>
          <a:xfrm>
            <a:off x="32767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7"/>
          <p:cNvSpPr/>
          <p:nvPr/>
        </p:nvSpPr>
        <p:spPr>
          <a:xfrm>
            <a:off x="1981080" y="5638680"/>
            <a:ext cx="130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8"/>
          <p:cNvSpPr/>
          <p:nvPr/>
        </p:nvSpPr>
        <p:spPr>
          <a:xfrm>
            <a:off x="205884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9"/>
          <p:cNvSpPr/>
          <p:nvPr/>
        </p:nvSpPr>
        <p:spPr>
          <a:xfrm>
            <a:off x="4191120" y="56516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0"/>
          <p:cNvSpPr/>
          <p:nvPr/>
        </p:nvSpPr>
        <p:spPr>
          <a:xfrm>
            <a:off x="464976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1"/>
          <p:cNvSpPr/>
          <p:nvPr/>
        </p:nvSpPr>
        <p:spPr>
          <a:xfrm>
            <a:off x="3049920" y="1905120"/>
            <a:ext cx="842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2"/>
          <p:cNvSpPr/>
          <p:nvPr/>
        </p:nvSpPr>
        <p:spPr>
          <a:xfrm>
            <a:off x="4114800" y="19810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3"/>
          <p:cNvSpPr/>
          <p:nvPr/>
        </p:nvSpPr>
        <p:spPr>
          <a:xfrm>
            <a:off x="4370400" y="190512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4"/>
          <p:cNvSpPr/>
          <p:nvPr/>
        </p:nvSpPr>
        <p:spPr>
          <a:xfrm>
            <a:off x="85345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5"/>
          <p:cNvSpPr/>
          <p:nvPr/>
        </p:nvSpPr>
        <p:spPr>
          <a:xfrm>
            <a:off x="7550280" y="152388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6"/>
          <p:cNvSpPr/>
          <p:nvPr/>
        </p:nvSpPr>
        <p:spPr>
          <a:xfrm>
            <a:off x="6172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37"/>
          <p:cNvSpPr/>
          <p:nvPr/>
        </p:nvSpPr>
        <p:spPr>
          <a:xfrm>
            <a:off x="5549760" y="1955880"/>
            <a:ext cx="23623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Report of Valid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ed plan for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WLTC for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8"/>
          <p:cNvSpPr/>
          <p:nvPr/>
        </p:nvSpPr>
        <p:spPr>
          <a:xfrm>
            <a:off x="7620120" y="1981080"/>
            <a:ext cx="1447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im Report of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9"/>
          <p:cNvSpPr/>
          <p:nvPr/>
        </p:nvSpPr>
        <p:spPr>
          <a:xfrm>
            <a:off x="335268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0"/>
          <p:cNvSpPr/>
          <p:nvPr/>
        </p:nvSpPr>
        <p:spPr>
          <a:xfrm>
            <a:off x="35326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41"/>
          <p:cNvSpPr/>
          <p:nvPr/>
        </p:nvSpPr>
        <p:spPr>
          <a:xfrm>
            <a:off x="3048120" y="2133720"/>
            <a:ext cx="380880" cy="15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2"/>
          <p:cNvSpPr/>
          <p:nvPr/>
        </p:nvSpPr>
        <p:spPr>
          <a:xfrm>
            <a:off x="2629080" y="3060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3"/>
          <p:cNvSpPr/>
          <p:nvPr/>
        </p:nvSpPr>
        <p:spPr>
          <a:xfrm>
            <a:off x="3291120" y="342900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ADLINE for cyc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44"/>
          <p:cNvSpPr/>
          <p:nvPr/>
        </p:nvSpPr>
        <p:spPr>
          <a:xfrm>
            <a:off x="321300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2"/>
          <p:cNvSpPr/>
          <p:nvPr/>
        </p:nvSpPr>
        <p:spPr>
          <a:xfrm>
            <a:off x="3327480" y="2438280"/>
            <a:ext cx="2133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one high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E187-6ACC-4389-8FA2-2634CED5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0440" y="874800"/>
          <a:ext cx="8801280" cy="539280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995560"/>
                <a:gridCol w="287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/ 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has submitted all necessary data and information. Still waiting for China to subm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have discussion during the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the proposal in this sl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get agreement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proposal in this sl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have discussion during the 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the proposal in this sli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greement in DHC group is b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431-DD46-4587-9089-D4170E2E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52280" y="762120"/>
          <a:ext cx="8839440" cy="583380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Weighting Factor for L/M/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s target of Inform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the possibility to accept b) for only CO2/Fue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Ericsson, Mr. Steven, JRC and JARI work together to finalize the method before developing the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L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H (or M&amp;H) ph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proposal during validation 1 te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D0B-AD1A-4E82-9746-FBB437DF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osal for the threshold speed of L/M/H/Ex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4880" y="1819440"/>
          <a:ext cx="5486400" cy="374328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110 km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tra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04920" y="2209680"/>
          <a:ext cx="1676160" cy="299412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AutoShape 58"/>
          <p:cNvSpPr/>
          <p:nvPr/>
        </p:nvSpPr>
        <p:spPr>
          <a:xfrm>
            <a:off x="2286000" y="3352680"/>
            <a:ext cx="68580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9"/>
          <p:cNvSpPr/>
          <p:nvPr/>
        </p:nvSpPr>
        <p:spPr>
          <a:xfrm>
            <a:off x="3276720" y="5645160"/>
            <a:ext cx="5486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)Vmax: Maximum vehicle speed of short 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means that maximum vehicle speed in each test cycle phase will be less than each threshold speed (approximately by several km/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0"/>
          <p:cNvSpPr/>
          <p:nvPr/>
        </p:nvSpPr>
        <p:spPr>
          <a:xfrm>
            <a:off x="98280" y="822240"/>
            <a:ext cx="89154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of driving characteristics can be obtained on the threshold speed of [60/8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50DF-DFC6-4274-95D7-4C8CD772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5A5-ADA2-4059-8CB8-F4D1428D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in-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623736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In-use data without road type indication will be combined with database after the determination of the threshold speed of  L/M/H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868320" y="762120"/>
            <a:ext cx="7389720" cy="554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914400" y="609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mount of in-use driving data by 6 May 2011    Total: Approx. 840,000 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E35B-190F-4DC1-B90F-35C37E06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0" descr=""/>
          <p:cNvPicPr/>
          <p:nvPr/>
        </p:nvPicPr>
        <p:blipFill>
          <a:blip r:embed="rId1"/>
          <a:stretch/>
        </p:blipFill>
        <p:spPr>
          <a:xfrm>
            <a:off x="68400" y="106668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"/>
          <p:cNvPicPr/>
          <p:nvPr/>
        </p:nvPicPr>
        <p:blipFill>
          <a:blip r:embed="rId2"/>
          <a:stretch/>
        </p:blipFill>
        <p:spPr>
          <a:xfrm>
            <a:off x="4716360" y="106668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"/>
          <p:cNvPicPr/>
          <p:nvPr/>
        </p:nvPicPr>
        <p:blipFill>
          <a:blip r:embed="rId3"/>
          <a:stretch/>
        </p:blipFill>
        <p:spPr>
          <a:xfrm>
            <a:off x="68400" y="407052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"/>
          <p:cNvPicPr/>
          <p:nvPr/>
        </p:nvPicPr>
        <p:blipFill>
          <a:blip r:embed="rId4"/>
          <a:stretch/>
        </p:blipFill>
        <p:spPr>
          <a:xfrm>
            <a:off x="4640400" y="4070520"/>
            <a:ext cx="4351320" cy="2689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U/R/M analysis – driving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5280" y="68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spe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952880" y="68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P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5280" y="366876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ST dur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952880" y="36687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IDLE dur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85800" y="1844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verage speed of EU &amp; US are higher than that of Asian coun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1359000" y="2781360"/>
            <a:ext cx="108000" cy="287280"/>
          </a:xfrm>
          <a:prstGeom prst="upDownArrow">
            <a:avLst>
              <a:gd name="adj1" fmla="val 50000"/>
              <a:gd name="adj2" fmla="val 52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2832120" y="2333520"/>
            <a:ext cx="108000" cy="381240"/>
          </a:xfrm>
          <a:prstGeom prst="upDownArrow">
            <a:avLst>
              <a:gd name="adj1" fmla="val 50000"/>
              <a:gd name="adj2" fmla="val 702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4000680" y="1704960"/>
            <a:ext cx="114120" cy="762120"/>
          </a:xfrm>
          <a:prstGeom prst="upDownArrow">
            <a:avLst>
              <a:gd name="adj1" fmla="val 50000"/>
              <a:gd name="adj2" fmla="val 1329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838080" y="277164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2057400" y="232416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3429000" y="1695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85800" y="13111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fference was observed in each road 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9CA-5D1C-4534-8474-62688B3F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142920" y="676440"/>
            <a:ext cx="8834400" cy="596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1. U/R/M analysis –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19240" y="640548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peed-acceleration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4FE-3556-488D-B73F-0E04E09E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2. U/R/M analysis –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8600" y="617220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peed-acceleration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133200" y="676440"/>
            <a:ext cx="8859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05-14T09:33:21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