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C09E-9CCB-47C3-AD64-2BCD7AB797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etermination for the number of idle and short tr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5A6C-FA3E-4A13-9919-3FBA691AA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AF67-90D5-47EB-A141-2E9AB02C9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2788-380E-4A18-8FF3-A99C150A8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6154-EC04-4816-9488-42C1552C2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DB28-718C-45A7-8F64-6FD2C3BD8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A9F8-29A5-443F-A874-3C24E5071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6437-1B21-485A-BC36-802351554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8373-9B5C-4E3B-9F86-E35A1CB87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53BE-2432-4C35-9515-5880D0F38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F89D-1FED-4898-959D-7D32D3E53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F8E8-61FD-4579-8C68-E1DBDF08E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7676-6A6C-4608-8679-E53BDFE09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BA7D-2760-4782-8F97-3E648D3D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75400" y="2541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6-03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6669000"/>
            <a:ext cx="572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2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30.wmf"/><Relationship Id="rId13" Type="http://schemas.openxmlformats.org/officeDocument/2006/relationships/image" Target="../media/image40.wmf"/><Relationship Id="rId14" Type="http://schemas.openxmlformats.org/officeDocument/2006/relationships/image" Target="../media/image31.wmf"/><Relationship Id="rId15" Type="http://schemas.openxmlformats.org/officeDocument/2006/relationships/image" Target="../media/image31.wmf"/><Relationship Id="rId16" Type="http://schemas.openxmlformats.org/officeDocument/2006/relationships/image" Target="../media/image38.wmf"/><Relationship Id="rId17" Type="http://schemas.openxmlformats.org/officeDocument/2006/relationships/image" Target="../media/image36.wmf"/><Relationship Id="rId18" Type="http://schemas.openxmlformats.org/officeDocument/2006/relationships/image" Target="../media/image35.wmf"/><Relationship Id="rId19" Type="http://schemas.openxmlformats.org/officeDocument/2006/relationships/image" Target="../media/image34.wmf"/><Relationship Id="rId20" Type="http://schemas.openxmlformats.org/officeDocument/2006/relationships/image" Target="../media/image38.wmf"/><Relationship Id="rId21" Type="http://schemas.openxmlformats.org/officeDocument/2006/relationships/image" Target="../media/image37.wmf"/><Relationship Id="rId22" Type="http://schemas.openxmlformats.org/officeDocument/2006/relationships/image" Target="../media/image34.wmf"/><Relationship Id="rId23" Type="http://schemas.openxmlformats.org/officeDocument/2006/relationships/image" Target="../media/image36.wmf"/><Relationship Id="rId24" Type="http://schemas.openxmlformats.org/officeDocument/2006/relationships/image" Target="../media/image37.wmf"/><Relationship Id="rId25" Type="http://schemas.openxmlformats.org/officeDocument/2006/relationships/image" Target="../media/image31.wmf"/><Relationship Id="rId26" Type="http://schemas.openxmlformats.org/officeDocument/2006/relationships/image" Target="../media/image36.wmf"/><Relationship Id="rId27" Type="http://schemas.openxmlformats.org/officeDocument/2006/relationships/image" Target="../media/image38.wmf"/><Relationship Id="rId28" Type="http://schemas.openxmlformats.org/officeDocument/2006/relationships/image" Target="../media/image38.wmf"/><Relationship Id="rId29" Type="http://schemas.openxmlformats.org/officeDocument/2006/relationships/image" Target="../media/image34.wmf"/><Relationship Id="rId30" Type="http://schemas.openxmlformats.org/officeDocument/2006/relationships/image" Target="../media/image37.wmf"/><Relationship Id="rId31" Type="http://schemas.openxmlformats.org/officeDocument/2006/relationships/image" Target="../media/image35.wmf"/><Relationship Id="rId32" Type="http://schemas.openxmlformats.org/officeDocument/2006/relationships/image" Target="../media/image32.wmf"/><Relationship Id="rId33" Type="http://schemas.openxmlformats.org/officeDocument/2006/relationships/image" Target="../media/image34.wmf"/><Relationship Id="rId34" Type="http://schemas.openxmlformats.org/officeDocument/2006/relationships/image" Target="../media/image36.wmf"/><Relationship Id="rId35" Type="http://schemas.openxmlformats.org/officeDocument/2006/relationships/image" Target="../media/image37.wmf"/><Relationship Id="rId36" Type="http://schemas.openxmlformats.org/officeDocument/2006/relationships/image" Target="../media/image31.wmf"/><Relationship Id="rId3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47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0.wmf"/><Relationship Id="rId9" Type="http://schemas.openxmlformats.org/officeDocument/2006/relationships/image" Target="../media/image47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0.wmf"/><Relationship Id="rId14" Type="http://schemas.openxmlformats.org/officeDocument/2006/relationships/image" Target="../media/image47.wmf"/><Relationship Id="rId15" Type="http://schemas.openxmlformats.org/officeDocument/2006/relationships/image" Target="../media/image51.wmf"/><Relationship Id="rId16" Type="http://schemas.openxmlformats.org/officeDocument/2006/relationships/image" Target="../media/image52.wmf"/><Relationship Id="rId17" Type="http://schemas.openxmlformats.org/officeDocument/2006/relationships/image" Target="../media/image53.wmf"/><Relationship Id="rId18" Type="http://schemas.openxmlformats.org/officeDocument/2006/relationships/image" Target="../media/image50.wmf"/><Relationship Id="rId19" Type="http://schemas.openxmlformats.org/officeDocument/2006/relationships/image" Target="../media/image47.wmf"/><Relationship Id="rId20" Type="http://schemas.openxmlformats.org/officeDocument/2006/relationships/image" Target="../media/image51.wmf"/><Relationship Id="rId21" Type="http://schemas.openxmlformats.org/officeDocument/2006/relationships/image" Target="../media/image52.wmf"/><Relationship Id="rId22" Type="http://schemas.openxmlformats.org/officeDocument/2006/relationships/image" Target="../media/image53.wmf"/><Relationship Id="rId23" Type="http://schemas.openxmlformats.org/officeDocument/2006/relationships/image" Target="../media/image49.wmf"/><Relationship Id="rId24" Type="http://schemas.openxmlformats.org/officeDocument/2006/relationships/image" Target="../media/image49.wmf"/><Relationship Id="rId25" Type="http://schemas.openxmlformats.org/officeDocument/2006/relationships/image" Target="../media/image49.wmf"/><Relationship Id="rId26" Type="http://schemas.openxmlformats.org/officeDocument/2006/relationships/image" Target="../media/image49.wmf"/><Relationship Id="rId27" Type="http://schemas.openxmlformats.org/officeDocument/2006/relationships/image" Target="../media/image49.wmf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?subject=&#26071;&#12398;&#30011;&#20687;&amp;body=&#27431;&#24030;&#36899;&#21512;&#26071;&#12398;&#30011;&#20687;&#12399;&#12371;&#12385;&#12425;%0D%0Ahttp://www.sarago.co.jp/nfgrp/seu.gif%0D%0A%0D%0A&#12381;&#12398;&#20182;&#12398;&#22269;&#26071;&#12399;&#12371;&#12385;&#12425;%0D%0Ahttp://www.sarago.co.jp/i/index.html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1.wmf"/><Relationship Id="rId12" Type="http://schemas.openxmlformats.org/officeDocument/2006/relationships/image" Target="../media/image14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2.wmf"/><Relationship Id="rId18" Type="http://schemas.openxmlformats.org/officeDocument/2006/relationships/image" Target="../media/image11.wmf"/><Relationship Id="rId19" Type="http://schemas.openxmlformats.org/officeDocument/2006/relationships/image" Target="../media/image12.wmf"/><Relationship Id="rId20" Type="http://schemas.openxmlformats.org/officeDocument/2006/relationships/image" Target="../media/image11.wmf"/><Relationship Id="rId21" Type="http://schemas.openxmlformats.org/officeDocument/2006/relationships/image" Target="../media/image14.wmf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image" Target="../media/image13.wmf"/><Relationship Id="rId25" Type="http://schemas.openxmlformats.org/officeDocument/2006/relationships/image" Target="../media/image14.wmf"/><Relationship Id="rId26" Type="http://schemas.openxmlformats.org/officeDocument/2006/relationships/image" Target="../media/image12.wmf"/><Relationship Id="rId27" Type="http://schemas.openxmlformats.org/officeDocument/2006/relationships/image" Target="../media/image11.wmf"/><Relationship Id="rId28" Type="http://schemas.openxmlformats.org/officeDocument/2006/relationships/image" Target="../media/image12.wmf"/><Relationship Id="rId29" Type="http://schemas.openxmlformats.org/officeDocument/2006/relationships/image" Target="../media/image11.wmf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LTC*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743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ed by UK, JRC and Mr. St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30440" y="629280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WLTC 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ldwide harmoniz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ht duty drivin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666880" y="455616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~12 Januar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D992-A383-41C2-AE47-C643BBBAA6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角丸四角形 39"/>
          <p:cNvSpPr/>
          <p:nvPr/>
        </p:nvSpPr>
        <p:spPr>
          <a:xfrm>
            <a:off x="250920" y="1147680"/>
            <a:ext cx="8642160" cy="4851360"/>
          </a:xfrm>
          <a:prstGeom prst="roundRect">
            <a:avLst>
              <a:gd name="adj" fmla="val 693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Data 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279360" y="568440"/>
            <a:ext cx="673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use Driving 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フローチャート: 処理 18"/>
          <p:cNvSpPr/>
          <p:nvPr/>
        </p:nvSpPr>
        <p:spPr>
          <a:xfrm>
            <a:off x="609480" y="1295280"/>
            <a:ext cx="2144880" cy="4287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250920" y="6018120"/>
            <a:ext cx="8750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use data in each road type and in each region is processed separ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shall be shared within the DHC grou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フローチャート: 処理 14"/>
          <p:cNvSpPr/>
          <p:nvPr/>
        </p:nvSpPr>
        <p:spPr>
          <a:xfrm>
            <a:off x="3352680" y="1251000"/>
            <a:ext cx="2293920" cy="5047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ing &amp; Th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necess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フローチャート: 処理 20"/>
          <p:cNvSpPr/>
          <p:nvPr/>
        </p:nvSpPr>
        <p:spPr>
          <a:xfrm>
            <a:off x="2728800" y="4219560"/>
            <a:ext cx="1979640" cy="43164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rip (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フローチャート: 処理 21"/>
          <p:cNvSpPr/>
          <p:nvPr/>
        </p:nvSpPr>
        <p:spPr>
          <a:xfrm>
            <a:off x="571680" y="4224240"/>
            <a:ext cx="1979280" cy="43200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フローチャート: 処理 15"/>
          <p:cNvSpPr/>
          <p:nvPr/>
        </p:nvSpPr>
        <p:spPr>
          <a:xfrm>
            <a:off x="1600200" y="3463920"/>
            <a:ext cx="1889280" cy="574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de into idling and   short trip por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フローチャート: 処理 20"/>
          <p:cNvSpPr/>
          <p:nvPr/>
        </p:nvSpPr>
        <p:spPr>
          <a:xfrm>
            <a:off x="2728800" y="4648320"/>
            <a:ext cx="1979640" cy="1339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ed-Acceleratio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sitive &amp; Negativ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Dur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Average Spe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Average D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s (refer to 3.5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フローチャート: 処理 20"/>
          <p:cNvSpPr/>
          <p:nvPr/>
        </p:nvSpPr>
        <p:spPr>
          <a:xfrm>
            <a:off x="571680" y="4648320"/>
            <a:ext cx="1979280" cy="6001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ing Dur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ing Average D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フローチャート: 処理 14"/>
          <p:cNvSpPr/>
          <p:nvPr/>
        </p:nvSpPr>
        <p:spPr>
          <a:xfrm>
            <a:off x="6075360" y="2362320"/>
            <a:ext cx="1889280" cy="57600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ar shif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2"/>
            <a:endCxn id="238" idx="0"/>
          </p:cNvCxnSpPr>
          <p:nvPr/>
        </p:nvCxnSpPr>
        <p:spPr>
          <a:xfrm flipH="1">
            <a:off x="1561680" y="4038480"/>
            <a:ext cx="9835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9" idx="2"/>
            <a:endCxn id="237" idx="0"/>
          </p:cNvCxnSpPr>
          <p:nvPr/>
        </p:nvCxnSpPr>
        <p:spPr>
          <a:xfrm>
            <a:off x="2544480" y="4038120"/>
            <a:ext cx="117540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6" idx="2"/>
            <a:endCxn id="242" idx="0"/>
          </p:cNvCxnSpPr>
          <p:nvPr/>
        </p:nvCxnSpPr>
        <p:spPr>
          <a:xfrm flipH="1" rot="16200000">
            <a:off x="5456880" y="798840"/>
            <a:ext cx="607320" cy="2520000"/>
          </a:xfrm>
          <a:prstGeom prst="bentConnector3">
            <a:avLst>
              <a:gd name="adj1" fmla="val 17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6" name=""/>
          <p:cNvGrpSpPr/>
          <p:nvPr/>
        </p:nvGrpSpPr>
        <p:grpSpPr>
          <a:xfrm>
            <a:off x="5305320" y="4199040"/>
            <a:ext cx="3457800" cy="1586880"/>
            <a:chOff x="5305320" y="4199040"/>
            <a:chExt cx="3457800" cy="1586880"/>
          </a:xfrm>
        </p:grpSpPr>
        <p:sp>
          <p:nvSpPr>
            <p:cNvPr id="247" name=""/>
            <p:cNvSpPr/>
            <p:nvPr/>
          </p:nvSpPr>
          <p:spPr>
            <a:xfrm>
              <a:off x="5305320" y="4457880"/>
              <a:ext cx="3457800" cy="1296720"/>
            </a:xfrm>
            <a:prstGeom prst="roundRect">
              <a:avLst>
                <a:gd name="adj" fmla="val 97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651640" y="470232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65680" y="550224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23040" y="4773600"/>
              <a:ext cx="1128960" cy="719280"/>
            </a:xfrm>
            <a:custGeom>
              <a:avLst/>
              <a:gdLst/>
              <a:ahLst/>
              <a:rect l="l" t="t" r="r" b="b"/>
              <a:pathLst>
                <a:path w="1777" h="1133">
                  <a:moveTo>
                    <a:pt x="0" y="1133"/>
                  </a:moveTo>
                  <a:cubicBezTo>
                    <a:pt x="204" y="988"/>
                    <a:pt x="147" y="1058"/>
                    <a:pt x="203" y="953"/>
                  </a:cubicBezTo>
                  <a:cubicBezTo>
                    <a:pt x="259" y="848"/>
                    <a:pt x="296" y="612"/>
                    <a:pt x="338" y="503"/>
                  </a:cubicBezTo>
                  <a:cubicBezTo>
                    <a:pt x="380" y="394"/>
                    <a:pt x="400" y="379"/>
                    <a:pt x="457" y="300"/>
                  </a:cubicBezTo>
                  <a:cubicBezTo>
                    <a:pt x="524" y="214"/>
                    <a:pt x="580" y="60"/>
                    <a:pt x="682" y="30"/>
                  </a:cubicBezTo>
                  <a:cubicBezTo>
                    <a:pt x="772" y="30"/>
                    <a:pt x="867" y="0"/>
                    <a:pt x="907" y="120"/>
                  </a:cubicBezTo>
                  <a:cubicBezTo>
                    <a:pt x="915" y="144"/>
                    <a:pt x="1182" y="505"/>
                    <a:pt x="1207" y="510"/>
                  </a:cubicBezTo>
                  <a:cubicBezTo>
                    <a:pt x="1243" y="608"/>
                    <a:pt x="1278" y="670"/>
                    <a:pt x="1327" y="780"/>
                  </a:cubicBezTo>
                  <a:cubicBezTo>
                    <a:pt x="1427" y="847"/>
                    <a:pt x="1431" y="940"/>
                    <a:pt x="1531" y="1006"/>
                  </a:cubicBezTo>
                  <a:cubicBezTo>
                    <a:pt x="1570" y="1032"/>
                    <a:pt x="1732" y="1110"/>
                    <a:pt x="1777" y="1125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18480" y="5492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56440" y="5180040"/>
              <a:ext cx="690480" cy="317520"/>
            </a:xfrm>
            <a:custGeom>
              <a:avLst/>
              <a:gdLst/>
              <a:ahLst/>
              <a:rect l="l" t="t" r="r" b="b"/>
              <a:pathLst>
                <a:path w="1088" h="500">
                  <a:moveTo>
                    <a:pt x="0" y="500"/>
                  </a:moveTo>
                  <a:cubicBezTo>
                    <a:pt x="32" y="445"/>
                    <a:pt x="115" y="183"/>
                    <a:pt x="195" y="155"/>
                  </a:cubicBezTo>
                  <a:cubicBezTo>
                    <a:pt x="319" y="114"/>
                    <a:pt x="344" y="354"/>
                    <a:pt x="480" y="335"/>
                  </a:cubicBezTo>
                  <a:cubicBezTo>
                    <a:pt x="582" y="325"/>
                    <a:pt x="710" y="0"/>
                    <a:pt x="810" y="95"/>
                  </a:cubicBezTo>
                  <a:cubicBezTo>
                    <a:pt x="890" y="185"/>
                    <a:pt x="909" y="234"/>
                    <a:pt x="999" y="328"/>
                  </a:cubicBezTo>
                  <a:cubicBezTo>
                    <a:pt x="1038" y="354"/>
                    <a:pt x="1043" y="455"/>
                    <a:pt x="1088" y="47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51640" y="5500800"/>
              <a:ext cx="59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4516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idling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0724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idling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5948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T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5140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T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22296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93720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23276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35668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6"/>
            <p:cNvSpPr/>
            <p:nvPr/>
          </p:nvSpPr>
          <p:spPr>
            <a:xfrm>
              <a:off x="6747840" y="5554800"/>
              <a:ext cx="60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7"/>
            <p:cNvSpPr/>
            <p:nvPr/>
          </p:nvSpPr>
          <p:spPr>
            <a:xfrm rot="16200000">
              <a:off x="5044680" y="4992480"/>
              <a:ext cx="86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78400" y="4199040"/>
              <a:ext cx="239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*) Definition of short trip (ST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26360" y="53164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80360" y="51274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1440" y="48085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42320" y="5068800"/>
              <a:ext cx="71280" cy="71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75520" y="53355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56400" y="52275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902720" y="4519440"/>
              <a:ext cx="820440" cy="276840"/>
              <a:chOff x="7902720" y="4519440"/>
              <a:chExt cx="820440" cy="27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02720" y="4519440"/>
                <a:ext cx="820440" cy="27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Up shif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Down shif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84800" y="4557600"/>
                <a:ext cx="709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983360" y="4697280"/>
                <a:ext cx="70920" cy="71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461360" y="493884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97520" y="5280120"/>
              <a:ext cx="71640" cy="71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7" name=""/>
          <p:cNvCxnSpPr>
            <a:stCxn id="234" idx="3"/>
            <a:endCxn id="236" idx="1"/>
          </p:cNvCxnSpPr>
          <p:nvPr/>
        </p:nvCxnSpPr>
        <p:spPr>
          <a:xfrm flipV="1">
            <a:off x="2754360" y="1503000"/>
            <a:ext cx="5986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36" idx="2"/>
            <a:endCxn id="279" idx="0"/>
          </p:cNvCxnSpPr>
          <p:nvPr/>
        </p:nvCxnSpPr>
        <p:spPr>
          <a:xfrm rot="5400000">
            <a:off x="3409200" y="890280"/>
            <a:ext cx="226080" cy="1956600"/>
          </a:xfrm>
          <a:prstGeom prst="bentConnector3">
            <a:avLst>
              <a:gd name="adj1" fmla="val 49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フローチャート: 処理 15"/>
          <p:cNvSpPr/>
          <p:nvPr/>
        </p:nvSpPr>
        <p:spPr>
          <a:xfrm>
            <a:off x="1600200" y="2722680"/>
            <a:ext cx="1889280" cy="574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the compensated 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fer to Appendi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80" idx="2"/>
            <a:endCxn id="239" idx="0"/>
          </p:cNvCxnSpPr>
          <p:nvPr/>
        </p:nvCxnSpPr>
        <p:spPr>
          <a:xfrm>
            <a:off x="2544480" y="3296880"/>
            <a:ext cx="10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フローチャート: 処理 15"/>
          <p:cNvSpPr/>
          <p:nvPr/>
        </p:nvSpPr>
        <p:spPr>
          <a:xfrm>
            <a:off x="1600200" y="1981080"/>
            <a:ext cx="1889280" cy="5749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into L/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9" idx="2"/>
            <a:endCxn id="280" idx="0"/>
          </p:cNvCxnSpPr>
          <p:nvPr/>
        </p:nvCxnSpPr>
        <p:spPr>
          <a:xfrm>
            <a:off x="2544480" y="2555640"/>
            <a:ext cx="10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A792-D15E-4569-993D-274AED1A00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1.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threshold vehicl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reshold based on each countries’ traffic condition and driving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hreshold that shows similar Speed-Acceleration distribution of each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compensated 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Drive condition WF and total driving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in-use da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R/M =&gt; 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speed-acceleration distribution and driving characteristic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he driving cycle in each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515A-B3BF-4C85-ADB5-200E000A35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Consideration of threshold speed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1&gt; Based on similarity of speed-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51040" y="1274760"/>
            <a:ext cx="792468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threshold of Low/Mid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max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40 / 50 / 60 / 70? and Ratio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V&lt;6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 80%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threshold of 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max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/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80 / 90 / 100/ 110? and Ratio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V&lt;9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gt; 50%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Rectangle 5" descr=""/>
          <p:cNvPicPr/>
          <p:nvPr/>
        </p:nvPicPr>
        <p:blipFill>
          <a:blip r:embed="rId1"/>
          <a:stretch/>
        </p:blipFill>
        <p:spPr>
          <a:xfrm>
            <a:off x="942840" y="2629080"/>
            <a:ext cx="724860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F5C8-AFB7-406E-97CE-C5586FE971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5" descr=""/>
          <p:cNvPicPr/>
          <p:nvPr/>
        </p:nvPicPr>
        <p:blipFill>
          <a:blip r:embed="rId1"/>
          <a:stretch/>
        </p:blipFill>
        <p:spPr>
          <a:xfrm>
            <a:off x="351000" y="1219320"/>
            <a:ext cx="8421480" cy="492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3. Consideration of threshold speed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1360" y="7239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2&gt; Based on paramet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19160" y="2523960"/>
            <a:ext cx="7734240" cy="524160"/>
          </a:xfrm>
          <a:prstGeom prst="rect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19160" y="5619600"/>
            <a:ext cx="7743960" cy="24768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19160" y="4076640"/>
            <a:ext cx="7743960" cy="523800"/>
          </a:xfrm>
          <a:prstGeom prst="rect">
            <a:avLst/>
          </a:prstGeom>
          <a:solidFill>
            <a:srgbClr val="ffcc99">
              <a:alpha val="30000"/>
            </a:srgbClr>
          </a:solidFill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0560" y="6248520"/>
            <a:ext cx="8217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candidate threshold speed based on least discrepancy in each characterist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790E-EC5A-4140-ABAF-F4763FE35B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4. Consideration of threshold speed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711000"/>
            <a:ext cx="8077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3&gt; Based on maximum spee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7040" y="1130400"/>
            <a:ext cx="2498760" cy="4686120"/>
            <a:chOff x="5207040" y="1130400"/>
            <a:chExt cx="2498760" cy="468612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5207040" y="113040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5207040" y="2567880"/>
              <a:ext cx="2498760" cy="18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5207040" y="400572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 flipV="1">
              <a:off x="61840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844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524560" y="3086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5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295280" y="1219320"/>
            <a:ext cx="2708280" cy="4630320"/>
            <a:chOff x="1295280" y="1219320"/>
            <a:chExt cx="2708280" cy="4630320"/>
          </a:xfrm>
        </p:grpSpPr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1295280" y="121932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flipV="1">
              <a:off x="236196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76084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5"/>
            <a:stretch/>
          </p:blipFill>
          <p:spPr>
            <a:xfrm>
              <a:off x="1295280" y="2639880"/>
              <a:ext cx="270828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6"/>
            <a:stretch/>
          </p:blipFill>
          <p:spPr>
            <a:xfrm>
              <a:off x="1295280" y="406044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 flipV="1">
              <a:off x="2459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873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53512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4496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663560" y="3340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65 / 11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14680" y="4356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0240" y="58672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280" indent="-20628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final threshold speed will be determined by taking into account of three method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523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50 / 8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BFD2-601D-4093-8468-2C405DCC4A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5. 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45820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he each short trip data including the previous idling portion into new categories (Low/Middle/High) from original (Urban/Rural/Motorway) categories with the compensated WF (w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: maximum vehicle speed, speed frequenc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2400" y="3352680"/>
            <a:ext cx="151308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65480" y="3352680"/>
            <a:ext cx="374472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10200" y="3352680"/>
            <a:ext cx="244800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52400" y="3986280"/>
            <a:ext cx="576360" cy="312840"/>
            <a:chOff x="752400" y="3986280"/>
            <a:chExt cx="576360" cy="312840"/>
          </a:xfrm>
        </p:grpSpPr>
        <p:sp>
          <p:nvSpPr>
            <p:cNvPr id="325" name=""/>
            <p:cNvSpPr/>
            <p:nvPr/>
          </p:nvSpPr>
          <p:spPr>
            <a:xfrm>
              <a:off x="752400" y="429912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39680" y="398628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289480" y="4148280"/>
            <a:ext cx="576360" cy="150840"/>
            <a:chOff x="5289480" y="4148280"/>
            <a:chExt cx="576360" cy="150840"/>
          </a:xfrm>
        </p:grpSpPr>
        <p:sp>
          <p:nvSpPr>
            <p:cNvPr id="328" name=""/>
            <p:cNvSpPr/>
            <p:nvPr/>
          </p:nvSpPr>
          <p:spPr>
            <a:xfrm>
              <a:off x="5289480" y="429912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76760" y="414828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273480" y="4145040"/>
            <a:ext cx="431280" cy="153720"/>
            <a:chOff x="3273480" y="4145040"/>
            <a:chExt cx="431280" cy="153720"/>
          </a:xfrm>
        </p:grpSpPr>
        <p:sp>
          <p:nvSpPr>
            <p:cNvPr id="331" name=""/>
            <p:cNvSpPr/>
            <p:nvPr/>
          </p:nvSpPr>
          <p:spPr>
            <a:xfrm>
              <a:off x="3273480" y="429876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16040" y="414504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713120" y="4114800"/>
            <a:ext cx="576360" cy="183960"/>
            <a:chOff x="4713120" y="4114800"/>
            <a:chExt cx="576360" cy="183960"/>
          </a:xfrm>
        </p:grpSpPr>
        <p:sp>
          <p:nvSpPr>
            <p:cNvPr id="334" name=""/>
            <p:cNvSpPr/>
            <p:nvPr/>
          </p:nvSpPr>
          <p:spPr>
            <a:xfrm>
              <a:off x="4713120" y="429876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57480" y="411480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30200" y="4064040"/>
            <a:ext cx="696960" cy="235080"/>
            <a:chOff x="1330200" y="4064040"/>
            <a:chExt cx="696960" cy="235080"/>
          </a:xfrm>
        </p:grpSpPr>
        <p:sp>
          <p:nvSpPr>
            <p:cNvPr id="337" name=""/>
            <p:cNvSpPr/>
            <p:nvPr/>
          </p:nvSpPr>
          <p:spPr>
            <a:xfrm>
              <a:off x="1330200" y="428652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7280" y="406404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705120" y="3905280"/>
            <a:ext cx="1000080" cy="393840"/>
            <a:chOff x="3705120" y="3905280"/>
            <a:chExt cx="1000080" cy="393840"/>
          </a:xfrm>
        </p:grpSpPr>
        <p:sp>
          <p:nvSpPr>
            <p:cNvPr id="340" name=""/>
            <p:cNvSpPr/>
            <p:nvPr/>
          </p:nvSpPr>
          <p:spPr>
            <a:xfrm>
              <a:off x="3705120" y="429912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30400" y="390528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268360" y="3952800"/>
            <a:ext cx="1000080" cy="345960"/>
            <a:chOff x="2268360" y="3952800"/>
            <a:chExt cx="1000080" cy="345960"/>
          </a:xfrm>
        </p:grpSpPr>
        <p:sp>
          <p:nvSpPr>
            <p:cNvPr id="343" name=""/>
            <p:cNvSpPr/>
            <p:nvPr/>
          </p:nvSpPr>
          <p:spPr>
            <a:xfrm>
              <a:off x="2268360" y="429876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94000" y="395280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081840" y="3886200"/>
            <a:ext cx="1000080" cy="412560"/>
            <a:chOff x="6081840" y="3886200"/>
            <a:chExt cx="1000080" cy="412560"/>
          </a:xfrm>
        </p:grpSpPr>
        <p:sp>
          <p:nvSpPr>
            <p:cNvPr id="346" name=""/>
            <p:cNvSpPr/>
            <p:nvPr/>
          </p:nvSpPr>
          <p:spPr>
            <a:xfrm>
              <a:off x="6081840" y="429876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07120" y="388620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089840" y="3573360"/>
            <a:ext cx="1226880" cy="725400"/>
            <a:chOff x="7089840" y="3573360"/>
            <a:chExt cx="1226880" cy="725400"/>
          </a:xfrm>
        </p:grpSpPr>
        <p:sp>
          <p:nvSpPr>
            <p:cNvPr id="349" name=""/>
            <p:cNvSpPr/>
            <p:nvPr/>
          </p:nvSpPr>
          <p:spPr>
            <a:xfrm>
              <a:off x="7089840" y="428292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5800" y="357336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54200" y="3352680"/>
            <a:ext cx="7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6548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1020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52400" y="5046840"/>
            <a:ext cx="3025800" cy="1008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78200" y="5046840"/>
            <a:ext cx="3240000" cy="10080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18200" y="5046840"/>
            <a:ext cx="1440000" cy="1008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52400" y="5657760"/>
            <a:ext cx="576360" cy="312840"/>
            <a:chOff x="752400" y="5657760"/>
            <a:chExt cx="576360" cy="312840"/>
          </a:xfrm>
        </p:grpSpPr>
        <p:sp>
          <p:nvSpPr>
            <p:cNvPr id="358" name=""/>
            <p:cNvSpPr/>
            <p:nvPr/>
          </p:nvSpPr>
          <p:spPr>
            <a:xfrm>
              <a:off x="752400" y="597060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39680" y="565776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057480" y="5819760"/>
            <a:ext cx="576360" cy="150840"/>
            <a:chOff x="3057480" y="5819760"/>
            <a:chExt cx="576360" cy="150840"/>
          </a:xfrm>
        </p:grpSpPr>
        <p:sp>
          <p:nvSpPr>
            <p:cNvPr id="361" name=""/>
            <p:cNvSpPr/>
            <p:nvPr/>
          </p:nvSpPr>
          <p:spPr>
            <a:xfrm>
              <a:off x="3057480" y="597060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4760" y="581976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049480" y="5816520"/>
            <a:ext cx="431280" cy="153720"/>
            <a:chOff x="2049480" y="5816520"/>
            <a:chExt cx="431280" cy="153720"/>
          </a:xfrm>
        </p:grpSpPr>
        <p:sp>
          <p:nvSpPr>
            <p:cNvPr id="364" name=""/>
            <p:cNvSpPr/>
            <p:nvPr/>
          </p:nvSpPr>
          <p:spPr>
            <a:xfrm>
              <a:off x="2049480" y="597024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92040" y="581652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481120" y="5786280"/>
            <a:ext cx="576360" cy="183960"/>
            <a:chOff x="2481120" y="5786280"/>
            <a:chExt cx="576360" cy="183960"/>
          </a:xfrm>
        </p:grpSpPr>
        <p:sp>
          <p:nvSpPr>
            <p:cNvPr id="367" name=""/>
            <p:cNvSpPr/>
            <p:nvPr/>
          </p:nvSpPr>
          <p:spPr>
            <a:xfrm>
              <a:off x="2481120" y="597024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25480" y="578628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330200" y="5735520"/>
            <a:ext cx="696960" cy="235080"/>
            <a:chOff x="1330200" y="5735520"/>
            <a:chExt cx="696960" cy="235080"/>
          </a:xfrm>
        </p:grpSpPr>
        <p:sp>
          <p:nvSpPr>
            <p:cNvPr id="370" name=""/>
            <p:cNvSpPr/>
            <p:nvPr/>
          </p:nvSpPr>
          <p:spPr>
            <a:xfrm>
              <a:off x="1330200" y="595800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57280" y="573552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865760" y="5576760"/>
            <a:ext cx="1000080" cy="393840"/>
            <a:chOff x="4865760" y="5576760"/>
            <a:chExt cx="1000080" cy="393840"/>
          </a:xfrm>
        </p:grpSpPr>
        <p:sp>
          <p:nvSpPr>
            <p:cNvPr id="373" name=""/>
            <p:cNvSpPr/>
            <p:nvPr/>
          </p:nvSpPr>
          <p:spPr>
            <a:xfrm>
              <a:off x="4865760" y="597060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91040" y="557676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860640" y="5624640"/>
            <a:ext cx="1000080" cy="345960"/>
            <a:chOff x="3860640" y="5624640"/>
            <a:chExt cx="1000080" cy="345960"/>
          </a:xfrm>
        </p:grpSpPr>
        <p:sp>
          <p:nvSpPr>
            <p:cNvPr id="376" name=""/>
            <p:cNvSpPr/>
            <p:nvPr/>
          </p:nvSpPr>
          <p:spPr>
            <a:xfrm>
              <a:off x="3860640" y="597060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86280" y="562464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73760" y="5557680"/>
            <a:ext cx="1000080" cy="412560"/>
            <a:chOff x="5873760" y="5557680"/>
            <a:chExt cx="1000080" cy="412560"/>
          </a:xfrm>
        </p:grpSpPr>
        <p:sp>
          <p:nvSpPr>
            <p:cNvPr id="379" name=""/>
            <p:cNvSpPr/>
            <p:nvPr/>
          </p:nvSpPr>
          <p:spPr>
            <a:xfrm>
              <a:off x="5873760" y="597024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9040" y="555768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089840" y="5245200"/>
            <a:ext cx="1226880" cy="725400"/>
            <a:chOff x="7089840" y="5245200"/>
            <a:chExt cx="1226880" cy="725400"/>
          </a:xfrm>
        </p:grpSpPr>
        <p:sp>
          <p:nvSpPr>
            <p:cNvPr id="382" name=""/>
            <p:cNvSpPr/>
            <p:nvPr/>
          </p:nvSpPr>
          <p:spPr>
            <a:xfrm>
              <a:off x="7089840" y="595476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5800" y="524520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>
            <a:off x="114300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75248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71800" y="4348080"/>
            <a:ext cx="13716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4348080"/>
            <a:ext cx="9144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324120" y="4348080"/>
            <a:ext cx="38124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361960" y="4348080"/>
            <a:ext cx="1143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971440" y="4348080"/>
            <a:ext cx="20574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580920" y="4348080"/>
            <a:ext cx="221004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348080"/>
            <a:ext cx="0" cy="833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40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200" y="50292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76760" y="5029200"/>
            <a:ext cx="6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6760" y="50292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6121440"/>
            <a:ext cx="8229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gments that composed of ST and IDLE move into L/M/H categories with the compensated W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*) Calculation formula of the compensated WF are shown in Appendi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E494-6B1A-4F72-BCCD-C2BFDBC55F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1. Develop the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228600" y="685800"/>
            <a:ext cx="871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speed-acceleration distribution in each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5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72560" cy="51861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00088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6320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2552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1143000"/>
            <a:ext cx="1828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xamp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776A-A07B-44D0-BC01-96DE5474DC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2. Analyze driving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79280" y="1749600"/>
          <a:ext cx="4248360" cy="305244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speed-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du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average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maximum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length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cruise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speed * 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 du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716360" y="1749600"/>
          <a:ext cx="4248360" cy="472752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peed (km/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Speed (km/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Acceleration (km/h/s or m/s</a:t>
                      </a:r>
                      <a:r>
                        <a:rPr b="0" lang="ja-JP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Deceleration (km/h/s or m/s</a:t>
                      </a:r>
                      <a:r>
                        <a:rPr b="0" lang="ja-JP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Positive Acceleration (m/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hort trip dur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idling dur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dling per kilometer (#/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dling per second (#/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accelerat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decelerat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cruis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top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228600" y="74304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firm the representativeness of the unified cycle, the following distributions and parameters will be analyz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4720" y="5010120"/>
            <a:ext cx="3455280" cy="1698840"/>
            <a:chOff x="684720" y="5010120"/>
            <a:chExt cx="3455280" cy="1698840"/>
          </a:xfrm>
        </p:grpSpPr>
        <p:sp>
          <p:nvSpPr>
            <p:cNvPr id="410" name="Text Box 15"/>
            <p:cNvSpPr/>
            <p:nvPr/>
          </p:nvSpPr>
          <p:spPr>
            <a:xfrm>
              <a:off x="2560680" y="5454360"/>
              <a:ext cx="96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"/>
            <p:cNvSpPr/>
            <p:nvPr/>
          </p:nvSpPr>
          <p:spPr>
            <a:xfrm>
              <a:off x="1044360" y="5236920"/>
              <a:ext cx="0" cy="11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1044360" y="6352920"/>
              <a:ext cx="232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"/>
            <p:cNvSpPr/>
            <p:nvPr/>
          </p:nvSpPr>
          <p:spPr>
            <a:xfrm>
              <a:off x="1251000" y="5576760"/>
              <a:ext cx="1393560" cy="785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"/>
            <p:cNvSpPr/>
            <p:nvPr/>
          </p:nvSpPr>
          <p:spPr>
            <a:xfrm>
              <a:off x="3109680" y="6111720"/>
              <a:ext cx="206640" cy="241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8"/>
            <p:cNvSpPr/>
            <p:nvPr/>
          </p:nvSpPr>
          <p:spPr>
            <a:xfrm>
              <a:off x="1236600" y="6013440"/>
              <a:ext cx="132408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9"/>
            <p:cNvSpPr/>
            <p:nvPr/>
          </p:nvSpPr>
          <p:spPr>
            <a:xfrm>
              <a:off x="1600200" y="5576760"/>
              <a:ext cx="96048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0"/>
            <p:cNvSpPr/>
            <p:nvPr/>
          </p:nvSpPr>
          <p:spPr>
            <a:xfrm>
              <a:off x="1251000" y="6352920"/>
              <a:ext cx="0" cy="14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1"/>
            <p:cNvSpPr/>
            <p:nvPr/>
          </p:nvSpPr>
          <p:spPr>
            <a:xfrm>
              <a:off x="2644560" y="6352920"/>
              <a:ext cx="0" cy="14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2"/>
            <p:cNvSpPr/>
            <p:nvPr/>
          </p:nvSpPr>
          <p:spPr>
            <a:xfrm>
              <a:off x="1251000" y="6451560"/>
              <a:ext cx="1393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1191960" y="646272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hort trip d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3352680" y="621792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6"/>
            <p:cNvSpPr/>
            <p:nvPr/>
          </p:nvSpPr>
          <p:spPr>
            <a:xfrm>
              <a:off x="2560680" y="5867280"/>
              <a:ext cx="81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e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2293920" y="5205240"/>
              <a:ext cx="15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ed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869760" y="5010120"/>
              <a:ext cx="154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-A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9"/>
            <p:cNvSpPr/>
            <p:nvPr/>
          </p:nvSpPr>
          <p:spPr>
            <a:xfrm>
              <a:off x="1258920" y="5260680"/>
              <a:ext cx="144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. accel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>
              <a:off x="2232000" y="5430600"/>
              <a:ext cx="257040" cy="29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>
              <a:off x="1211040" y="5236920"/>
              <a:ext cx="487440" cy="960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>
              <a:off x="1601640" y="5464080"/>
              <a:ext cx="138240" cy="355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3"/>
            <p:cNvSpPr/>
            <p:nvPr/>
          </p:nvSpPr>
          <p:spPr>
            <a:xfrm rot="16220400">
              <a:off x="133200" y="5578560"/>
              <a:ext cx="15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icle speed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km/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2"/>
            <p:cNvSpPr/>
            <p:nvPr/>
          </p:nvSpPr>
          <p:spPr>
            <a:xfrm>
              <a:off x="2655720" y="6451560"/>
              <a:ext cx="4381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3105000" y="6359400"/>
              <a:ext cx="0" cy="146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3"/>
            <p:cNvSpPr/>
            <p:nvPr/>
          </p:nvSpPr>
          <p:spPr>
            <a:xfrm>
              <a:off x="2128680" y="646272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Idling d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62F4-E1D2-4292-B11B-E1AC814644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3. Develop the unified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279360" y="660240"/>
            <a:ext cx="7721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unified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角丸四角形 8"/>
          <p:cNvSpPr/>
          <p:nvPr/>
        </p:nvSpPr>
        <p:spPr>
          <a:xfrm>
            <a:off x="324000" y="1463760"/>
            <a:ext cx="8640720" cy="3832200"/>
          </a:xfrm>
          <a:prstGeom prst="roundRect">
            <a:avLst>
              <a:gd name="adj" fmla="val 674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角丸四角形 9"/>
          <p:cNvSpPr/>
          <p:nvPr/>
        </p:nvSpPr>
        <p:spPr>
          <a:xfrm>
            <a:off x="1600200" y="1311120"/>
            <a:ext cx="5915160" cy="428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.: speed-acceleration distribution in Low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2"/>
          <p:cNvSpPr/>
          <p:nvPr/>
        </p:nvSpPr>
        <p:spPr>
          <a:xfrm>
            <a:off x="380880" y="5530680"/>
            <a:ext cx="83710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distributions for the following parameters will be gen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trip duration distribution, Short trip average speed distribution, Idling duration distribution,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746280" y="2860560"/>
            <a:ext cx="19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speed-acceleration distribution in regio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テキスト ボックス 6"/>
          <p:cNvSpPr/>
          <p:nvPr/>
        </p:nvSpPr>
        <p:spPr>
          <a:xfrm>
            <a:off x="2894040" y="21877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テキスト ボックス 6"/>
          <p:cNvSpPr/>
          <p:nvPr/>
        </p:nvSpPr>
        <p:spPr>
          <a:xfrm>
            <a:off x="2925720" y="34941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テキスト ボックス 6"/>
          <p:cNvSpPr/>
          <p:nvPr/>
        </p:nvSpPr>
        <p:spPr>
          <a:xfrm>
            <a:off x="3573360" y="2200320"/>
            <a:ext cx="14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Low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テキスト ボックス 6"/>
          <p:cNvSpPr/>
          <p:nvPr/>
        </p:nvSpPr>
        <p:spPr>
          <a:xfrm>
            <a:off x="3573360" y="3494160"/>
            <a:ext cx="14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Low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テキスト ボックス 6"/>
          <p:cNvSpPr/>
          <p:nvPr/>
        </p:nvSpPr>
        <p:spPr>
          <a:xfrm rot="5400000">
            <a:off x="1076760" y="4543920"/>
            <a:ext cx="60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テキスト ボックス 6"/>
          <p:cNvSpPr/>
          <p:nvPr/>
        </p:nvSpPr>
        <p:spPr>
          <a:xfrm rot="5400000">
            <a:off x="3524400" y="4543920"/>
            <a:ext cx="60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>
            <a:off x="5292720" y="2343240"/>
            <a:ext cx="216000" cy="2736720"/>
          </a:xfrm>
          <a:custGeom>
            <a:avLst/>
            <a:gdLst>
              <a:gd name="textAreaLeft" fmla="*/ 0 w 216000"/>
              <a:gd name="textAreaRight" fmla="*/ 78120 w 216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5940360" y="414324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ied speed-acceleration distribution in Low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9"/>
          <p:cNvSpPr/>
          <p:nvPr/>
        </p:nvSpPr>
        <p:spPr>
          <a:xfrm>
            <a:off x="3597120" y="270504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F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regio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755640" y="4495680"/>
            <a:ext cx="19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speed-acceleration distribution in regio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9"/>
          <p:cNvSpPr/>
          <p:nvPr/>
        </p:nvSpPr>
        <p:spPr>
          <a:xfrm>
            <a:off x="3654360" y="402264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F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regio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84440" y="4927680"/>
            <a:ext cx="22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W = Regional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219320" y="1844640"/>
            <a:ext cx="1093680" cy="1082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219320" y="3421080"/>
            <a:ext cx="1101600" cy="10904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6629400" y="2530440"/>
            <a:ext cx="1652760" cy="163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8190-28C5-4E1F-B54E-465AD0FFA3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A386-C426-486E-9C27-38E7081D8D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06400" y="636264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88E2-B27A-4B9D-852C-50CC4FCEEF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228600" y="723960"/>
            <a:ext cx="8686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test cycle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ex. WMTC: 600 x 3phases, WHDC: 1800, LA#4:1371, NEDC: 1180, JC08: 1204 (sec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1.1. Determination of the number of idle and short tri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193760" y="1922400"/>
            <a:ext cx="2036520" cy="862920"/>
            <a:chOff x="1193760" y="1922400"/>
            <a:chExt cx="2036520" cy="862920"/>
          </a:xfrm>
        </p:grpSpPr>
        <p:sp>
          <p:nvSpPr>
            <p:cNvPr id="460" name="Line 232"/>
            <p:cNvSpPr/>
            <p:nvPr/>
          </p:nvSpPr>
          <p:spPr>
            <a:xfrm flipV="1">
              <a:off x="1209600" y="192240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33"/>
            <p:cNvSpPr/>
            <p:nvPr/>
          </p:nvSpPr>
          <p:spPr>
            <a:xfrm>
              <a:off x="1193760" y="2778480"/>
              <a:ext cx="20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34"/>
            <p:cNvSpPr/>
            <p:nvPr/>
          </p:nvSpPr>
          <p:spPr>
            <a:xfrm>
              <a:off x="1431360" y="2559600"/>
              <a:ext cx="240120" cy="22068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5"/>
            <p:cNvSpPr/>
            <p:nvPr/>
          </p:nvSpPr>
          <p:spPr>
            <a:xfrm>
              <a:off x="1761480" y="2448720"/>
              <a:ext cx="684000" cy="336600"/>
            </a:xfrm>
            <a:custGeom>
              <a:avLst/>
              <a:gdLst>
                <a:gd name="textAreaLeft" fmla="*/ 0 w 684000"/>
                <a:gd name="textAreaRight" fmla="*/ 663120 w 684000"/>
                <a:gd name="textAreaTop" fmla="*/ 0 h 336600"/>
                <a:gd name="textAreaBottom" fmla="*/ 457200 h 336600"/>
              </a:gdLst>
              <a:ahLst/>
              <a:rect l="textAreaLeft" t="textAreaTop" r="textAreaRight" b="textAreaBottom"/>
              <a:pathLst>
                <a:path w="259" h="137">
                  <a:moveTo>
                    <a:pt x="0" y="137"/>
                  </a:moveTo>
                  <a:cubicBezTo>
                    <a:pt x="8" y="122"/>
                    <a:pt x="34" y="57"/>
                    <a:pt x="50" y="48"/>
                  </a:cubicBezTo>
                  <a:cubicBezTo>
                    <a:pt x="66" y="39"/>
                    <a:pt x="79" y="88"/>
                    <a:pt x="95" y="81"/>
                  </a:cubicBezTo>
                  <a:cubicBezTo>
                    <a:pt x="111" y="74"/>
                    <a:pt x="133" y="6"/>
                    <a:pt x="145" y="3"/>
                  </a:cubicBezTo>
                  <a:cubicBezTo>
                    <a:pt x="157" y="0"/>
                    <a:pt x="153" y="52"/>
                    <a:pt x="168" y="65"/>
                  </a:cubicBezTo>
                  <a:cubicBezTo>
                    <a:pt x="183" y="78"/>
                    <a:pt x="220" y="68"/>
                    <a:pt x="235" y="79"/>
                  </a:cubicBezTo>
                  <a:cubicBezTo>
                    <a:pt x="250" y="90"/>
                    <a:pt x="254" y="119"/>
                    <a:pt x="259" y="129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6"/>
            <p:cNvSpPr/>
            <p:nvPr/>
          </p:nvSpPr>
          <p:spPr>
            <a:xfrm>
              <a:off x="2508840" y="2471040"/>
              <a:ext cx="480960" cy="30924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309240"/>
                <a:gd name="textAreaBottom" fmla="*/ 518400 h 309240"/>
              </a:gdLst>
              <a:ahLst/>
              <a:rect l="textAreaLeft" t="textAreaTop" r="textAreaRight" b="textAreaBottom"/>
              <a:pathLst>
                <a:path w="182" h="126">
                  <a:moveTo>
                    <a:pt x="0" y="126"/>
                  </a:moveTo>
                  <a:cubicBezTo>
                    <a:pt x="6" y="108"/>
                    <a:pt x="15" y="34"/>
                    <a:pt x="39" y="17"/>
                  </a:cubicBezTo>
                  <a:cubicBezTo>
                    <a:pt x="63" y="0"/>
                    <a:pt x="121" y="4"/>
                    <a:pt x="145" y="22"/>
                  </a:cubicBezTo>
                  <a:cubicBezTo>
                    <a:pt x="169" y="40"/>
                    <a:pt x="174" y="104"/>
                    <a:pt x="182" y="126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492360" y="1935000"/>
            <a:ext cx="2036880" cy="855720"/>
            <a:chOff x="3492360" y="1935000"/>
            <a:chExt cx="2036880" cy="855720"/>
          </a:xfrm>
        </p:grpSpPr>
        <p:sp>
          <p:nvSpPr>
            <p:cNvPr id="466" name="Line 237"/>
            <p:cNvSpPr/>
            <p:nvPr/>
          </p:nvSpPr>
          <p:spPr>
            <a:xfrm flipV="1">
              <a:off x="3508200" y="193500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38"/>
            <p:cNvSpPr/>
            <p:nvPr/>
          </p:nvSpPr>
          <p:spPr>
            <a:xfrm>
              <a:off x="3492360" y="2782800"/>
              <a:ext cx="20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39"/>
            <p:cNvSpPr/>
            <p:nvPr/>
          </p:nvSpPr>
          <p:spPr>
            <a:xfrm>
              <a:off x="3666960" y="2181240"/>
              <a:ext cx="981360" cy="609480"/>
            </a:xfrm>
            <a:custGeom>
              <a:avLst/>
              <a:gdLst>
                <a:gd name="textAreaLeft" fmla="*/ 0 w 981360"/>
                <a:gd name="textAreaRight" fmla="*/ 565200 w 981360"/>
                <a:gd name="textAreaTop" fmla="*/ 0 h 609480"/>
                <a:gd name="textAreaBottom" fmla="*/ 552600 h 609480"/>
              </a:gdLst>
              <a:ahLst/>
              <a:rect l="textAreaLeft" t="textAreaTop" r="textAreaRight" b="textAreaBottom"/>
              <a:pathLst>
                <a:path w="618" h="384">
                  <a:moveTo>
                    <a:pt x="0" y="379"/>
                  </a:moveTo>
                  <a:cubicBezTo>
                    <a:pt x="20" y="348"/>
                    <a:pt x="88" y="227"/>
                    <a:pt x="125" y="189"/>
                  </a:cubicBezTo>
                  <a:cubicBezTo>
                    <a:pt x="161" y="150"/>
                    <a:pt x="183" y="173"/>
                    <a:pt x="218" y="149"/>
                  </a:cubicBezTo>
                  <a:cubicBezTo>
                    <a:pt x="253" y="124"/>
                    <a:pt x="303" y="62"/>
                    <a:pt x="338" y="42"/>
                  </a:cubicBezTo>
                  <a:cubicBezTo>
                    <a:pt x="373" y="22"/>
                    <a:pt x="391" y="0"/>
                    <a:pt x="423" y="28"/>
                  </a:cubicBezTo>
                  <a:cubicBezTo>
                    <a:pt x="454" y="56"/>
                    <a:pt x="502" y="156"/>
                    <a:pt x="534" y="215"/>
                  </a:cubicBezTo>
                  <a:cubicBezTo>
                    <a:pt x="566" y="274"/>
                    <a:pt x="601" y="349"/>
                    <a:pt x="618" y="384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0"/>
            <p:cNvSpPr/>
            <p:nvPr/>
          </p:nvSpPr>
          <p:spPr>
            <a:xfrm>
              <a:off x="4745160" y="2297160"/>
              <a:ext cx="560160" cy="488880"/>
            </a:xfrm>
            <a:custGeom>
              <a:avLst/>
              <a:gdLst>
                <a:gd name="textAreaLeft" fmla="*/ 0 w 560160"/>
                <a:gd name="textAreaRight" fmla="*/ 623880 w 560160"/>
                <a:gd name="textAreaTop" fmla="*/ 0 h 488880"/>
                <a:gd name="textAreaBottom" fmla="*/ 744840 h 488880"/>
              </a:gdLst>
              <a:ahLst/>
              <a:rect l="textAreaLeft" t="textAreaTop" r="textAreaRight" b="textAreaBottom"/>
              <a:pathLst>
                <a:path w="212" h="199">
                  <a:moveTo>
                    <a:pt x="0" y="199"/>
                  </a:moveTo>
                  <a:cubicBezTo>
                    <a:pt x="4" y="182"/>
                    <a:pt x="11" y="125"/>
                    <a:pt x="22" y="95"/>
                  </a:cubicBezTo>
                  <a:cubicBezTo>
                    <a:pt x="33" y="65"/>
                    <a:pt x="47" y="33"/>
                    <a:pt x="67" y="22"/>
                  </a:cubicBezTo>
                  <a:cubicBezTo>
                    <a:pt x="87" y="11"/>
                    <a:pt x="116" y="0"/>
                    <a:pt x="140" y="28"/>
                  </a:cubicBezTo>
                  <a:cubicBezTo>
                    <a:pt x="164" y="56"/>
                    <a:pt x="197" y="159"/>
                    <a:pt x="212" y="193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88160" y="1960560"/>
            <a:ext cx="2036160" cy="863280"/>
            <a:chOff x="5888160" y="1960560"/>
            <a:chExt cx="2036160" cy="863280"/>
          </a:xfrm>
        </p:grpSpPr>
        <p:sp>
          <p:nvSpPr>
            <p:cNvPr id="471" name="Line 241"/>
            <p:cNvSpPr/>
            <p:nvPr/>
          </p:nvSpPr>
          <p:spPr>
            <a:xfrm flipV="1">
              <a:off x="5888160" y="196056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42"/>
            <p:cNvSpPr/>
            <p:nvPr/>
          </p:nvSpPr>
          <p:spPr>
            <a:xfrm>
              <a:off x="5888160" y="2809440"/>
              <a:ext cx="203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3"/>
            <p:cNvSpPr/>
            <p:nvPr/>
          </p:nvSpPr>
          <p:spPr>
            <a:xfrm>
              <a:off x="6012000" y="2039760"/>
              <a:ext cx="1616400" cy="784080"/>
            </a:xfrm>
            <a:custGeom>
              <a:avLst/>
              <a:gdLst>
                <a:gd name="textAreaLeft" fmla="*/ 0 w 1616400"/>
                <a:gd name="textAreaRight" fmla="*/ 1616760 w 1616400"/>
                <a:gd name="textAreaTop" fmla="*/ 0 h 784080"/>
                <a:gd name="textAreaBottom" fmla="*/ 1118520 h 784080"/>
              </a:gdLst>
              <a:ahLst/>
              <a:rect l="textAreaLeft" t="textAreaTop" r="textAreaRight" b="textAreaBottom"/>
              <a:pathLst>
                <a:path w="612" h="319">
                  <a:moveTo>
                    <a:pt x="0" y="307"/>
                  </a:moveTo>
                  <a:cubicBezTo>
                    <a:pt x="12" y="273"/>
                    <a:pt x="39" y="155"/>
                    <a:pt x="74" y="106"/>
                  </a:cubicBezTo>
                  <a:cubicBezTo>
                    <a:pt x="109" y="57"/>
                    <a:pt x="173" y="30"/>
                    <a:pt x="209" y="16"/>
                  </a:cubicBezTo>
                  <a:cubicBezTo>
                    <a:pt x="245" y="2"/>
                    <a:pt x="263" y="18"/>
                    <a:pt x="287" y="22"/>
                  </a:cubicBezTo>
                  <a:cubicBezTo>
                    <a:pt x="311" y="26"/>
                    <a:pt x="324" y="41"/>
                    <a:pt x="354" y="38"/>
                  </a:cubicBezTo>
                  <a:cubicBezTo>
                    <a:pt x="384" y="35"/>
                    <a:pt x="437" y="0"/>
                    <a:pt x="466" y="5"/>
                  </a:cubicBezTo>
                  <a:cubicBezTo>
                    <a:pt x="495" y="10"/>
                    <a:pt x="507" y="33"/>
                    <a:pt x="527" y="66"/>
                  </a:cubicBezTo>
                  <a:cubicBezTo>
                    <a:pt x="547" y="99"/>
                    <a:pt x="575" y="164"/>
                    <a:pt x="589" y="206"/>
                  </a:cubicBezTo>
                  <a:cubicBezTo>
                    <a:pt x="603" y="248"/>
                    <a:pt x="607" y="296"/>
                    <a:pt x="612" y="31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245"/>
          <p:cNvSpPr/>
          <p:nvPr/>
        </p:nvSpPr>
        <p:spPr>
          <a:xfrm>
            <a:off x="1638360" y="16765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ow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6"/>
          <p:cNvSpPr/>
          <p:nvPr/>
        </p:nvSpPr>
        <p:spPr>
          <a:xfrm>
            <a:off x="3759120" y="16765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Midd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47"/>
          <p:cNvSpPr/>
          <p:nvPr/>
        </p:nvSpPr>
        <p:spPr>
          <a:xfrm>
            <a:off x="6108840" y="16765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igh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873440" y="2819520"/>
            <a:ext cx="826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6"/>
          <p:cNvSpPr/>
          <p:nvPr/>
        </p:nvSpPr>
        <p:spPr>
          <a:xfrm>
            <a:off x="4160520" y="2819520"/>
            <a:ext cx="846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6"/>
          <p:cNvSpPr/>
          <p:nvPr/>
        </p:nvSpPr>
        <p:spPr>
          <a:xfrm>
            <a:off x="6496200" y="2819520"/>
            <a:ext cx="837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7"/>
          <p:cNvSpPr/>
          <p:nvPr/>
        </p:nvSpPr>
        <p:spPr>
          <a:xfrm rot="16200000">
            <a:off x="505080" y="21812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(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733400" y="4346640"/>
            <a:ext cx="6725880" cy="646920"/>
            <a:chOff x="1733400" y="4346640"/>
            <a:chExt cx="6725880" cy="646920"/>
          </a:xfrm>
        </p:grpSpPr>
        <p:sp>
          <p:nvSpPr>
            <p:cNvPr id="482" name="Text Box 5"/>
            <p:cNvSpPr/>
            <p:nvPr/>
          </p:nvSpPr>
          <p:spPr>
            <a:xfrm>
              <a:off x="1733400" y="4346640"/>
              <a:ext cx="672588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 cycle duration in each phase 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- average idling du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verage short trip duration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verage idling du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6"/>
            <p:cNvSpPr/>
            <p:nvPr/>
          </p:nvSpPr>
          <p:spPr>
            <a:xfrm>
              <a:off x="1877040" y="4651200"/>
              <a:ext cx="63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258920" y="386064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ort trip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92120" y="45385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30120" y="3073320"/>
            <a:ext cx="8661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number of idle and short trip in each p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in each phase (Low, Middle, Hig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71640" y="5564160"/>
            <a:ext cx="777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xample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600 sec, average low short trip duration = 60 sec,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rage low idling duration = 20 se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hort trip (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T,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(600 – 20) / (60 + 20) = 7.25 =&gt;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idling (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,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7 + 1 =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508464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dle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number of short trip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783E-D466-4511-8495-230B503889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41200" y="3429000"/>
            <a:ext cx="547380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of short trip          duration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cumulative frequency graph                                         based on short trip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“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equally i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a average duration in each class respectively. if necessary, adjust the duration to match the target cycl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ck the candidate short trips which duration are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..,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ST,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9360" y="698400"/>
            <a:ext cx="5511960" cy="32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,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of idling duration   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cumulative frequency graph                                         based on idling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“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equally i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he average duration in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ts of idling duration (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..,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) in each phase are decid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2. Determination of the idle and short trip d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正方形/長方形 6"/>
          <p:cNvSpPr/>
          <p:nvPr/>
        </p:nvSpPr>
        <p:spPr>
          <a:xfrm>
            <a:off x="6284880" y="4054320"/>
            <a:ext cx="269892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8"/>
          <p:cNvSpPr/>
          <p:nvPr/>
        </p:nvSpPr>
        <p:spPr>
          <a:xfrm>
            <a:off x="6469200" y="60642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9"/>
          <p:cNvSpPr/>
          <p:nvPr/>
        </p:nvSpPr>
        <p:spPr>
          <a:xfrm rot="16200000">
            <a:off x="4852440" y="490392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9"/>
          <p:cNvSpPr/>
          <p:nvPr/>
        </p:nvSpPr>
        <p:spPr>
          <a:xfrm>
            <a:off x="6095880" y="584676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9"/>
          <p:cNvSpPr/>
          <p:nvPr/>
        </p:nvSpPr>
        <p:spPr>
          <a:xfrm>
            <a:off x="6427800" y="584208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テキスト ボックス 9"/>
          <p:cNvSpPr/>
          <p:nvPr/>
        </p:nvSpPr>
        <p:spPr>
          <a:xfrm>
            <a:off x="7640640" y="585468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テキスト ボックス 9"/>
          <p:cNvSpPr/>
          <p:nvPr/>
        </p:nvSpPr>
        <p:spPr>
          <a:xfrm>
            <a:off x="6738840" y="5862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正方形/長方形 6"/>
          <p:cNvSpPr/>
          <p:nvPr/>
        </p:nvSpPr>
        <p:spPr>
          <a:xfrm>
            <a:off x="6284880" y="4414680"/>
            <a:ext cx="122400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正方形/長方形 6"/>
          <p:cNvSpPr/>
          <p:nvPr/>
        </p:nvSpPr>
        <p:spPr>
          <a:xfrm>
            <a:off x="6284880" y="4773600"/>
            <a:ext cx="6876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正方形/長方形 6"/>
          <p:cNvSpPr/>
          <p:nvPr/>
        </p:nvSpPr>
        <p:spPr>
          <a:xfrm>
            <a:off x="6284880" y="5133960"/>
            <a:ext cx="397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正方形/長方形 6"/>
          <p:cNvSpPr/>
          <p:nvPr/>
        </p:nvSpPr>
        <p:spPr>
          <a:xfrm>
            <a:off x="6284880" y="549432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フリーフォーム 7"/>
          <p:cNvSpPr/>
          <p:nvPr/>
        </p:nvSpPr>
        <p:spPr>
          <a:xfrm>
            <a:off x="6284880" y="4054320"/>
            <a:ext cx="2706840" cy="1793880"/>
          </a:xfrm>
          <a:custGeom>
            <a:avLst/>
            <a:gdLst>
              <a:gd name="textAreaLeft" fmla="*/ 0 w 2706840"/>
              <a:gd name="textAreaRight" fmla="*/ 2638371960 w 270684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48640" y="446724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893000" y="4268880"/>
            <a:ext cx="0" cy="1585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35920" y="4630680"/>
            <a:ext cx="0" cy="12240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32440" y="4917960"/>
            <a:ext cx="0" cy="9367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72160" y="5278320"/>
            <a:ext cx="0" cy="576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56520" y="5710320"/>
            <a:ext cx="0" cy="144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200640" y="4414680"/>
            <a:ext cx="771480" cy="368280"/>
            <a:chOff x="6200640" y="4414680"/>
            <a:chExt cx="771480" cy="368280"/>
          </a:xfrm>
        </p:grpSpPr>
        <p:sp>
          <p:nvSpPr>
            <p:cNvPr id="511" name="テキスト ボックス 9"/>
            <p:cNvSpPr/>
            <p:nvPr/>
          </p:nvSpPr>
          <p:spPr>
            <a:xfrm>
              <a:off x="6200640" y="441468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33840" y="46274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正方形/長方形 6"/>
          <p:cNvSpPr/>
          <p:nvPr/>
        </p:nvSpPr>
        <p:spPr>
          <a:xfrm>
            <a:off x="6248520" y="1052640"/>
            <a:ext cx="2698560" cy="1800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テキスト ボックス 8"/>
          <p:cNvSpPr/>
          <p:nvPr/>
        </p:nvSpPr>
        <p:spPr>
          <a:xfrm>
            <a:off x="6432480" y="306216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DLE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テキスト ボックス 9"/>
          <p:cNvSpPr/>
          <p:nvPr/>
        </p:nvSpPr>
        <p:spPr>
          <a:xfrm rot="16200000">
            <a:off x="4816080" y="190188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テキスト ボックス 9"/>
          <p:cNvSpPr/>
          <p:nvPr/>
        </p:nvSpPr>
        <p:spPr>
          <a:xfrm>
            <a:off x="6059520" y="284472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テキスト ボックス 9"/>
          <p:cNvSpPr/>
          <p:nvPr/>
        </p:nvSpPr>
        <p:spPr>
          <a:xfrm>
            <a:off x="6391440" y="2840040"/>
            <a:ext cx="475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テキスト ボックス 9"/>
          <p:cNvSpPr/>
          <p:nvPr/>
        </p:nvSpPr>
        <p:spPr>
          <a:xfrm>
            <a:off x="7604280" y="285264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テキスト ボックス 9"/>
          <p:cNvSpPr/>
          <p:nvPr/>
        </p:nvSpPr>
        <p:spPr>
          <a:xfrm>
            <a:off x="6702480" y="28605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正方形/長方形 6"/>
          <p:cNvSpPr/>
          <p:nvPr/>
        </p:nvSpPr>
        <p:spPr>
          <a:xfrm>
            <a:off x="6248520" y="1413000"/>
            <a:ext cx="1224000" cy="143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正方形/長方形 6"/>
          <p:cNvSpPr/>
          <p:nvPr/>
        </p:nvSpPr>
        <p:spPr>
          <a:xfrm>
            <a:off x="6248520" y="1771560"/>
            <a:ext cx="68724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正方形/長方形 6"/>
          <p:cNvSpPr/>
          <p:nvPr/>
        </p:nvSpPr>
        <p:spPr>
          <a:xfrm>
            <a:off x="6248520" y="2131920"/>
            <a:ext cx="396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正方形/長方形 6"/>
          <p:cNvSpPr/>
          <p:nvPr/>
        </p:nvSpPr>
        <p:spPr>
          <a:xfrm>
            <a:off x="6248520" y="249228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フリーフォーム 7"/>
          <p:cNvSpPr/>
          <p:nvPr/>
        </p:nvSpPr>
        <p:spPr>
          <a:xfrm>
            <a:off x="6248520" y="1052640"/>
            <a:ext cx="2706480" cy="1793880"/>
          </a:xfrm>
          <a:custGeom>
            <a:avLst/>
            <a:gdLst>
              <a:gd name="textAreaLeft" fmla="*/ 0 w 2706480"/>
              <a:gd name="textAreaRight" fmla="*/ 2638020960 w 270648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11920" y="146520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856640" y="1266840"/>
            <a:ext cx="0" cy="15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99200" y="1628640"/>
            <a:ext cx="0" cy="1224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24520" y="191628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35800" y="2276640"/>
            <a:ext cx="0" cy="57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319800" y="2708280"/>
            <a:ext cx="0" cy="144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164280" y="1413000"/>
            <a:ext cx="771480" cy="368280"/>
            <a:chOff x="6164280" y="1413000"/>
            <a:chExt cx="771480" cy="368280"/>
          </a:xfrm>
        </p:grpSpPr>
        <p:sp>
          <p:nvSpPr>
            <p:cNvPr id="532" name="テキスト ボックス 9"/>
            <p:cNvSpPr/>
            <p:nvPr/>
          </p:nvSpPr>
          <p:spPr>
            <a:xfrm>
              <a:off x="6164280" y="141300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97480" y="16257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7D4D-4950-43BF-8E69-CBE459AA0D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3. Determination of the idle and short trip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3200" y="914400"/>
            <a:ext cx="8283600" cy="158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ect the ST which duration is adjusted by the following formula (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to match the target cycle d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ensate duration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STD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ΣSTD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*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ame adjustment for idle duration will be taken, if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4924440"/>
            <a:ext cx="465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80880" y="384444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59756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16556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0292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50180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97560" y="4233960"/>
            <a:ext cx="431640" cy="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97560" y="4915080"/>
            <a:ext cx="4316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3809880"/>
            <a:ext cx="10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ja-JP" sz="1800" spc="-1" strike="noStrike" baseline="-25000">
                <a:solidFill>
                  <a:srgbClr val="ff00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19440" y="3483000"/>
            <a:ext cx="876240" cy="588960"/>
          </a:xfrm>
          <a:custGeom>
            <a:avLst/>
            <a:gdLst/>
            <a:ahLst/>
            <a:rect l="l" t="t" r="r" b="b"/>
            <a:pathLst>
              <a:path w="552" h="371">
                <a:moveTo>
                  <a:pt x="552" y="185"/>
                </a:moveTo>
                <a:cubicBezTo>
                  <a:pt x="515" y="160"/>
                  <a:pt x="400" y="57"/>
                  <a:pt x="327" y="36"/>
                </a:cubicBezTo>
                <a:cubicBezTo>
                  <a:pt x="254" y="15"/>
                  <a:pt x="167" y="0"/>
                  <a:pt x="113" y="56"/>
                </a:cubicBezTo>
                <a:cubicBezTo>
                  <a:pt x="59" y="112"/>
                  <a:pt x="24" y="306"/>
                  <a:pt x="0" y="371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48000" y="3352680"/>
            <a:ext cx="2019240" cy="866880"/>
          </a:xfrm>
          <a:custGeom>
            <a:avLst/>
            <a:gdLst/>
            <a:ahLst/>
            <a:rect l="l" t="t" r="r" b="b"/>
            <a:pathLst>
              <a:path w="1272" h="546">
                <a:moveTo>
                  <a:pt x="1272" y="207"/>
                </a:moveTo>
                <a:cubicBezTo>
                  <a:pt x="1211" y="174"/>
                  <a:pt x="1067" y="24"/>
                  <a:pt x="906" y="12"/>
                </a:cubicBezTo>
                <a:cubicBezTo>
                  <a:pt x="745" y="0"/>
                  <a:pt x="457" y="43"/>
                  <a:pt x="306" y="132"/>
                </a:cubicBezTo>
                <a:cubicBezTo>
                  <a:pt x="155" y="221"/>
                  <a:pt x="64" y="460"/>
                  <a:pt x="0" y="546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3147840"/>
            <a:ext cx="2857680" cy="1121040"/>
          </a:xfrm>
          <a:custGeom>
            <a:avLst/>
            <a:gdLst/>
            <a:ahLst/>
            <a:rect l="l" t="t" r="r" b="b"/>
            <a:pathLst>
              <a:path w="1800" h="706">
                <a:moveTo>
                  <a:pt x="1800" y="354"/>
                </a:moveTo>
                <a:cubicBezTo>
                  <a:pt x="1738" y="300"/>
                  <a:pt x="1635" y="66"/>
                  <a:pt x="1434" y="33"/>
                </a:cubicBezTo>
                <a:cubicBezTo>
                  <a:pt x="1233" y="0"/>
                  <a:pt x="833" y="47"/>
                  <a:pt x="594" y="159"/>
                </a:cubicBezTo>
                <a:cubicBezTo>
                  <a:pt x="355" y="271"/>
                  <a:pt x="124" y="592"/>
                  <a:pt x="0" y="706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4400" y="3062160"/>
            <a:ext cx="3591000" cy="1389240"/>
          </a:xfrm>
          <a:custGeom>
            <a:avLst/>
            <a:gdLst/>
            <a:ahLst/>
            <a:rect l="l" t="t" r="r" b="b"/>
            <a:pathLst>
              <a:path w="2262" h="875">
                <a:moveTo>
                  <a:pt x="2262" y="432"/>
                </a:moveTo>
                <a:cubicBezTo>
                  <a:pt x="2186" y="364"/>
                  <a:pt x="2077" y="48"/>
                  <a:pt x="1800" y="24"/>
                </a:cubicBezTo>
                <a:cubicBezTo>
                  <a:pt x="1523" y="0"/>
                  <a:pt x="900" y="147"/>
                  <a:pt x="600" y="289"/>
                </a:cubicBezTo>
                <a:cubicBezTo>
                  <a:pt x="300" y="431"/>
                  <a:pt x="125" y="753"/>
                  <a:pt x="0" y="875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748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1316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530208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530208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9560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62908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09896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02888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066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288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24452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70504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9708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32424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6110280"/>
            <a:ext cx="380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*) T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 STD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/ ΣSTD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* T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019160" y="50180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28800" y="501804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05040" y="5018040"/>
            <a:ext cx="3430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75280" y="501804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501804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19320" y="501804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09680" y="501804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36840" y="501804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1800" y="492588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009800" y="49356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28800" y="493560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14760" y="4935600"/>
            <a:ext cx="304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75280" y="49356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4703760"/>
            <a:ext cx="408240" cy="231840"/>
          </a:xfrm>
          <a:custGeom>
            <a:avLst/>
            <a:gdLst/>
            <a:ahLst/>
            <a:rect l="l" t="t" r="r" b="b"/>
            <a:pathLst>
              <a:path w="257" h="146">
                <a:moveTo>
                  <a:pt x="0" y="146"/>
                </a:moveTo>
                <a:cubicBezTo>
                  <a:pt x="12" y="110"/>
                  <a:pt x="24" y="74"/>
                  <a:pt x="48" y="50"/>
                </a:cubicBezTo>
                <a:cubicBezTo>
                  <a:pt x="72" y="26"/>
                  <a:pt x="115" y="0"/>
                  <a:pt x="144" y="2"/>
                </a:cubicBezTo>
                <a:cubicBezTo>
                  <a:pt x="173" y="4"/>
                  <a:pt x="203" y="37"/>
                  <a:pt x="222" y="60"/>
                </a:cubicBezTo>
                <a:cubicBezTo>
                  <a:pt x="241" y="83"/>
                  <a:pt x="250" y="126"/>
                  <a:pt x="257" y="1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48768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40048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正方形/長方形 6"/>
          <p:cNvSpPr/>
          <p:nvPr/>
        </p:nvSpPr>
        <p:spPr>
          <a:xfrm>
            <a:off x="6070680" y="3368520"/>
            <a:ext cx="269856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テキスト ボックス 8"/>
          <p:cNvSpPr/>
          <p:nvPr/>
        </p:nvSpPr>
        <p:spPr>
          <a:xfrm>
            <a:off x="6254640" y="537840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テキスト ボックス 9"/>
          <p:cNvSpPr/>
          <p:nvPr/>
        </p:nvSpPr>
        <p:spPr>
          <a:xfrm rot="16200000">
            <a:off x="4638240" y="421812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テキスト ボックス 9"/>
          <p:cNvSpPr/>
          <p:nvPr/>
        </p:nvSpPr>
        <p:spPr>
          <a:xfrm>
            <a:off x="5881680" y="516096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テキスト ボックス 9"/>
          <p:cNvSpPr/>
          <p:nvPr/>
        </p:nvSpPr>
        <p:spPr>
          <a:xfrm>
            <a:off x="6213600" y="515628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テキスト ボックス 9"/>
          <p:cNvSpPr/>
          <p:nvPr/>
        </p:nvSpPr>
        <p:spPr>
          <a:xfrm>
            <a:off x="7426440" y="516888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テキスト ボックス 9"/>
          <p:cNvSpPr/>
          <p:nvPr/>
        </p:nvSpPr>
        <p:spPr>
          <a:xfrm>
            <a:off x="6524640" y="5176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正方形/長方形 6"/>
          <p:cNvSpPr/>
          <p:nvPr/>
        </p:nvSpPr>
        <p:spPr>
          <a:xfrm>
            <a:off x="6070680" y="3728880"/>
            <a:ext cx="122400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正方形/長方形 6"/>
          <p:cNvSpPr/>
          <p:nvPr/>
        </p:nvSpPr>
        <p:spPr>
          <a:xfrm>
            <a:off x="6070680" y="4087800"/>
            <a:ext cx="68724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正方形/長方形 6"/>
          <p:cNvSpPr/>
          <p:nvPr/>
        </p:nvSpPr>
        <p:spPr>
          <a:xfrm>
            <a:off x="6070680" y="4448160"/>
            <a:ext cx="396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正方形/長方形 6"/>
          <p:cNvSpPr/>
          <p:nvPr/>
        </p:nvSpPr>
        <p:spPr>
          <a:xfrm>
            <a:off x="6070680" y="480852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フリーフォーム 7"/>
          <p:cNvSpPr/>
          <p:nvPr/>
        </p:nvSpPr>
        <p:spPr>
          <a:xfrm>
            <a:off x="6070680" y="3368520"/>
            <a:ext cx="2706480" cy="1793880"/>
          </a:xfrm>
          <a:custGeom>
            <a:avLst/>
            <a:gdLst>
              <a:gd name="textAreaLeft" fmla="*/ 0 w 2706480"/>
              <a:gd name="textAreaRight" fmla="*/ 2638020960 w 270648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34080" y="378144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678800" y="3583080"/>
            <a:ext cx="0" cy="15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921360" y="3944880"/>
            <a:ext cx="0" cy="12240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18240" y="4232160"/>
            <a:ext cx="0" cy="936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357960" y="4592520"/>
            <a:ext cx="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41960" y="5024520"/>
            <a:ext cx="0" cy="144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986440" y="3728880"/>
            <a:ext cx="771480" cy="368280"/>
            <a:chOff x="5986440" y="3728880"/>
            <a:chExt cx="771480" cy="368280"/>
          </a:xfrm>
        </p:grpSpPr>
        <p:sp>
          <p:nvSpPr>
            <p:cNvPr id="603" name="テキスト ボックス 9"/>
            <p:cNvSpPr/>
            <p:nvPr/>
          </p:nvSpPr>
          <p:spPr>
            <a:xfrm>
              <a:off x="5986440" y="372888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19640" y="3941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7862760" y="3583080"/>
            <a:ext cx="0" cy="15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024680" y="3827520"/>
            <a:ext cx="0" cy="1341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75480" y="4232160"/>
            <a:ext cx="0" cy="936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15200" y="459252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99200" y="4894200"/>
            <a:ext cx="0" cy="274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513864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+T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048120" y="419076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24280" y="457200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4560" y="51055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95480" y="35053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ff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696080" y="432900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455760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600960" y="471024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343560" y="4957920"/>
            <a:ext cx="76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43760" y="508176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400000">
            <a:off x="2628720" y="3328560"/>
            <a:ext cx="152640" cy="4648320"/>
          </a:xfrm>
          <a:custGeom>
            <a:avLst/>
            <a:gdLst>
              <a:gd name="textAreaLeft" fmla="*/ 0 w 152640"/>
              <a:gd name="textAreaRight" fmla="*/ 55080 w 1526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572940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ja-JP" sz="1400" spc="-1" strike="noStrike" baseline="-25000">
                <a:solidFill>
                  <a:srgbClr val="0000ff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79440" y="4594320"/>
            <a:ext cx="520920" cy="341280"/>
          </a:xfrm>
          <a:custGeom>
            <a:avLst/>
            <a:gdLst/>
            <a:ahLst/>
            <a:rect l="l" t="t" r="r" b="b"/>
            <a:pathLst>
              <a:path w="328" h="215">
                <a:moveTo>
                  <a:pt x="10" y="215"/>
                </a:moveTo>
                <a:cubicBezTo>
                  <a:pt x="12" y="199"/>
                  <a:pt x="0" y="152"/>
                  <a:pt x="25" y="117"/>
                </a:cubicBezTo>
                <a:cubicBezTo>
                  <a:pt x="50" y="82"/>
                  <a:pt x="117" y="8"/>
                  <a:pt x="162" y="4"/>
                </a:cubicBezTo>
                <a:cubicBezTo>
                  <a:pt x="207" y="0"/>
                  <a:pt x="270" y="58"/>
                  <a:pt x="298" y="93"/>
                </a:cubicBezTo>
                <a:cubicBezTo>
                  <a:pt x="326" y="128"/>
                  <a:pt x="322" y="187"/>
                  <a:pt x="328" y="2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09680" y="4589640"/>
            <a:ext cx="476280" cy="350640"/>
          </a:xfrm>
          <a:custGeom>
            <a:avLst/>
            <a:gdLst/>
            <a:ahLst/>
            <a:rect l="l" t="t" r="r" b="b"/>
            <a:pathLst>
              <a:path w="300" h="221">
                <a:moveTo>
                  <a:pt x="0" y="218"/>
                </a:moveTo>
                <a:cubicBezTo>
                  <a:pt x="13" y="192"/>
                  <a:pt x="54" y="95"/>
                  <a:pt x="81" y="60"/>
                </a:cubicBezTo>
                <a:cubicBezTo>
                  <a:pt x="108" y="25"/>
                  <a:pt x="135" y="0"/>
                  <a:pt x="164" y="7"/>
                </a:cubicBezTo>
                <a:cubicBezTo>
                  <a:pt x="193" y="14"/>
                  <a:pt x="230" y="66"/>
                  <a:pt x="253" y="102"/>
                </a:cubicBezTo>
                <a:cubicBezTo>
                  <a:pt x="276" y="138"/>
                  <a:pt x="290" y="196"/>
                  <a:pt x="300" y="22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327480" y="4570560"/>
            <a:ext cx="801720" cy="369720"/>
          </a:xfrm>
          <a:custGeom>
            <a:avLst/>
            <a:gdLst/>
            <a:ahLst/>
            <a:rect l="l" t="t" r="r" b="b"/>
            <a:pathLst>
              <a:path w="505" h="233">
                <a:moveTo>
                  <a:pt x="0" y="227"/>
                </a:moveTo>
                <a:cubicBezTo>
                  <a:pt x="13" y="204"/>
                  <a:pt x="37" y="128"/>
                  <a:pt x="77" y="90"/>
                </a:cubicBezTo>
                <a:cubicBezTo>
                  <a:pt x="117" y="52"/>
                  <a:pt x="178" y="2"/>
                  <a:pt x="238" y="1"/>
                </a:cubicBezTo>
                <a:cubicBezTo>
                  <a:pt x="298" y="0"/>
                  <a:pt x="396" y="45"/>
                  <a:pt x="440" y="84"/>
                </a:cubicBezTo>
                <a:cubicBezTo>
                  <a:pt x="484" y="123"/>
                  <a:pt x="492" y="202"/>
                  <a:pt x="505" y="2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14560" y="480060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E430-08B0-4625-84AB-145594F15F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257800" y="3564000"/>
            <a:ext cx="3454560" cy="3022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テキスト ボックス 18"/>
          <p:cNvSpPr/>
          <p:nvPr/>
        </p:nvSpPr>
        <p:spPr>
          <a:xfrm rot="16200000">
            <a:off x="3539160" y="5076000"/>
            <a:ext cx="259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the speed - acceleration distribution in each comb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1" descr=""/>
          <p:cNvPicPr/>
          <p:nvPr/>
        </p:nvPicPr>
        <p:blipFill>
          <a:blip r:embed="rId1"/>
          <a:stretch/>
        </p:blipFill>
        <p:spPr>
          <a:xfrm>
            <a:off x="7010280" y="1328760"/>
            <a:ext cx="1549440" cy="145260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14"/>
          <p:cNvSpPr/>
          <p:nvPr/>
        </p:nvSpPr>
        <p:spPr>
          <a:xfrm>
            <a:off x="4533840" y="3741840"/>
            <a:ext cx="61452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448240" y="3728880"/>
            <a:ext cx="3084480" cy="2766960"/>
            <a:chOff x="5448240" y="3728880"/>
            <a:chExt cx="3084480" cy="2766960"/>
          </a:xfrm>
        </p:grpSpPr>
        <p:sp>
          <p:nvSpPr>
            <p:cNvPr id="631" name="Text Box 29"/>
            <p:cNvSpPr/>
            <p:nvPr/>
          </p:nvSpPr>
          <p:spPr>
            <a:xfrm rot="5400000">
              <a:off x="5213160" y="5427360"/>
              <a:ext cx="129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5448240" y="3728880"/>
              <a:ext cx="976320" cy="907920"/>
              <a:chOff x="5448240" y="3728880"/>
              <a:chExt cx="976320" cy="907920"/>
            </a:xfrm>
          </p:grpSpPr>
          <p:sp>
            <p:nvSpPr>
              <p:cNvPr id="633" name=""/>
              <p:cNvSpPr/>
              <p:nvPr/>
            </p:nvSpPr>
            <p:spPr>
              <a:xfrm>
                <a:off x="5448240" y="3728880"/>
                <a:ext cx="976320" cy="907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616360" y="3771720"/>
                <a:ext cx="758880" cy="70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616360" y="447804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616360" y="440676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16360" y="433692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616360" y="426564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616360" y="419580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16360" y="405432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616360" y="398448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616360" y="391320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616360" y="384336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16360" y="377172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6864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91948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07212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2440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7524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616360" y="3771720"/>
                <a:ext cx="758880" cy="7063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61636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16360" y="447804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616360" y="44067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16360" y="43369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16360" y="426564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16360" y="41958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16360" y="412560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616360" y="40543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16360" y="39844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16360" y="39132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6360" y="38433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6360" y="377172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16360" y="412560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61636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76864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91948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607212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622440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637524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646600" y="4275000"/>
                <a:ext cx="1584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35440" y="4228920"/>
                <a:ext cx="3816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14920" y="417348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38680" y="4160880"/>
                <a:ext cx="31680" cy="33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3360" y="4025880"/>
                <a:ext cx="2232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38680" y="3984480"/>
                <a:ext cx="31680" cy="33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30760" y="3941640"/>
                <a:ext cx="47520" cy="47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0120" y="3916080"/>
                <a:ext cx="2880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717880" y="4271760"/>
                <a:ext cx="23760" cy="22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98800" y="4217760"/>
                <a:ext cx="61920" cy="60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98800" y="4181400"/>
                <a:ext cx="63720" cy="63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16440" y="4127400"/>
                <a:ext cx="2844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717880" y="4095720"/>
                <a:ext cx="2376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97360" y="3968640"/>
                <a:ext cx="65160" cy="65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08520" y="3944880"/>
                <a:ext cx="42840" cy="42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22920" y="3922560"/>
                <a:ext cx="1404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794200" y="4271760"/>
                <a:ext cx="23760" cy="22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70440" y="4213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76560" y="4182840"/>
                <a:ext cx="59040" cy="58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86280" y="4157640"/>
                <a:ext cx="41400" cy="41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787720" y="4122720"/>
                <a:ext cx="3672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789520" y="4090680"/>
                <a:ext cx="33120" cy="32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79800" y="4044960"/>
                <a:ext cx="5256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59280" y="3990960"/>
                <a:ext cx="93600" cy="91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92760" y="3985920"/>
                <a:ext cx="2844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98880" y="3957480"/>
                <a:ext cx="1440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44960" y="4211640"/>
                <a:ext cx="73080" cy="72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54680" y="4186080"/>
                <a:ext cx="5364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54680" y="4151160"/>
                <a:ext cx="5364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48200" y="4108320"/>
                <a:ext cx="6660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40280" y="4065480"/>
                <a:ext cx="82440" cy="82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33800" y="4022640"/>
                <a:ext cx="96840" cy="96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44960" y="4000320"/>
                <a:ext cx="7308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937120" y="4227480"/>
                <a:ext cx="41400" cy="41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24520" y="4179600"/>
                <a:ext cx="66600" cy="66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22720" y="4143240"/>
                <a:ext cx="69840" cy="69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78440" y="4062240"/>
                <a:ext cx="160200" cy="160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59360" y="4008240"/>
                <a:ext cx="198360" cy="198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10120" y="4022640"/>
                <a:ext cx="96840" cy="96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941800" y="4019400"/>
                <a:ext cx="31680" cy="33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14880" y="4194000"/>
                <a:ext cx="3816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02280" y="4146480"/>
                <a:ext cx="63360" cy="63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73480" y="4082760"/>
                <a:ext cx="12060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51520" y="4025880"/>
                <a:ext cx="163440" cy="163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008400" y="4046400"/>
                <a:ext cx="49320" cy="49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94080" y="4160880"/>
                <a:ext cx="32040" cy="33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3040" y="4086000"/>
                <a:ext cx="114120" cy="112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48360" y="4044960"/>
                <a:ext cx="123480" cy="123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099120" y="4060800"/>
                <a:ext cx="2196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06200" y="444816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34280" y="43783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34280" y="430668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534280" y="423684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34280" y="41655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49760" y="4095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49760" y="4025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49760" y="3954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49760" y="38844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49760" y="3813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23480" y="374328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602320" y="4521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74092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9320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04404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19668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333480" y="452124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846040" y="456408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6200000">
                <a:off x="5340600" y="409140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448240" y="3728880"/>
                <a:ext cx="976320" cy="90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556760" y="5595840"/>
              <a:ext cx="975960" cy="900000"/>
              <a:chOff x="7556760" y="5595840"/>
              <a:chExt cx="975960" cy="900000"/>
            </a:xfrm>
          </p:grpSpPr>
          <p:sp>
            <p:nvSpPr>
              <p:cNvPr id="740" name=""/>
              <p:cNvSpPr/>
              <p:nvPr/>
            </p:nvSpPr>
            <p:spPr>
              <a:xfrm>
                <a:off x="7556760" y="5595840"/>
                <a:ext cx="975960" cy="900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724520" y="5636880"/>
                <a:ext cx="7585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724520" y="633708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24520" y="626724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724520" y="619740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24520" y="612756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24520" y="605772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4520" y="591624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24520" y="584640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724520" y="577836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724520" y="570852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724520" y="563688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7680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2764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18028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33256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48340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724520" y="5636880"/>
                <a:ext cx="758520" cy="7002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2452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24520" y="63370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724520" y="626724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24520" y="619740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724520" y="612756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24520" y="605772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724520" y="59878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24520" y="591624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24520" y="584640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24520" y="577836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724520" y="570852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724520" y="563688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724520" y="598788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772452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787680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802764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18028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833256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48340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7120" y="6082920"/>
                <a:ext cx="5040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18040" y="6028920"/>
                <a:ext cx="88560" cy="90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48280" y="6024240"/>
                <a:ext cx="2844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748280" y="5884560"/>
                <a:ext cx="2844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732440" y="5835240"/>
                <a:ext cx="60120" cy="59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748280" y="5814720"/>
                <a:ext cx="2844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742160" y="5773320"/>
                <a:ext cx="406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808760" y="6080040"/>
                <a:ext cx="58320" cy="58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787880" y="6024240"/>
                <a:ext cx="99720" cy="100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805520" y="6005160"/>
                <a:ext cx="6624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765920" y="5930640"/>
                <a:ext cx="144000" cy="146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812000" y="594324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99040" y="5895720"/>
                <a:ext cx="79200" cy="77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816680" y="587808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12000" y="583848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805520" y="5795640"/>
                <a:ext cx="6624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816680" y="577332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00920" y="6094080"/>
                <a:ext cx="2808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51600" y="6011640"/>
                <a:ext cx="124920" cy="125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868880" y="5994000"/>
                <a:ext cx="90360" cy="90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78600" y="596700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75360" y="593064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872120" y="5892480"/>
                <a:ext cx="85320" cy="84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875360" y="585936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887960" y="5838480"/>
                <a:ext cx="5220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900920" y="581472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893000" y="577332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975440" y="6129000"/>
                <a:ext cx="2808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953120" y="607176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946640" y="6030720"/>
                <a:ext cx="85680" cy="85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964280" y="601308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937280" y="5951160"/>
                <a:ext cx="104400" cy="104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924680" y="5903640"/>
                <a:ext cx="131400" cy="131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929360" y="5873400"/>
                <a:ext cx="120240" cy="1224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953120" y="586224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975440" y="584964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975440" y="581472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040600" y="608292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022960" y="6030720"/>
                <a:ext cx="85320" cy="85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005680" y="5978160"/>
                <a:ext cx="120240" cy="120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013600" y="5951160"/>
                <a:ext cx="104400" cy="104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992720" y="5895720"/>
                <a:ext cx="147240" cy="147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989840" y="5857560"/>
                <a:ext cx="153360" cy="154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035560" y="5870160"/>
                <a:ext cx="60120" cy="59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119800" y="6053040"/>
                <a:ext cx="42480" cy="42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073720" y="5972040"/>
                <a:ext cx="136080" cy="1346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046720" y="5908320"/>
                <a:ext cx="190080" cy="190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043480" y="5870160"/>
                <a:ext cx="196560" cy="198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072280" y="5865480"/>
                <a:ext cx="137520" cy="138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127720" y="5884560"/>
                <a:ext cx="2844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164440" y="5949720"/>
                <a:ext cx="107280" cy="108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167320" y="5919480"/>
                <a:ext cx="99720" cy="100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204040" y="5919480"/>
                <a:ext cx="2808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14360" y="630684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42440" y="623700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42440" y="61671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42440" y="60973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7556760" y="5595840"/>
                <a:ext cx="975960" cy="900000"/>
                <a:chOff x="7556760" y="5595840"/>
                <a:chExt cx="975960" cy="90000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7642440" y="6027480"/>
                  <a:ext cx="450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657920" y="595764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657920" y="588780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657920" y="581796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657920" y="574812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657920" y="567828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631640" y="560844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710120" y="637992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84908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00136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15220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30448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441640" y="6379920"/>
                  <a:ext cx="831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953840" y="6422760"/>
                  <a:ext cx="2995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Speed (km/h)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6200000">
                  <a:off x="7448760" y="5953320"/>
                  <a:ext cx="2948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400" spc="-1" strike="noStrike">
                      <a:solidFill>
                        <a:srgbClr val="000000"/>
                      </a:solidFill>
                      <a:latin typeface="Arial"/>
                    </a:rPr>
                    <a:t>Acc. (km/h/s)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556760" y="5595840"/>
                  <a:ext cx="975960" cy="900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6477120" y="4681440"/>
              <a:ext cx="976320" cy="900000"/>
              <a:chOff x="6477120" y="4681440"/>
              <a:chExt cx="976320" cy="900000"/>
            </a:xfrm>
          </p:grpSpPr>
          <p:sp>
            <p:nvSpPr>
              <p:cNvPr id="852" name=""/>
              <p:cNvSpPr/>
              <p:nvPr/>
            </p:nvSpPr>
            <p:spPr>
              <a:xfrm>
                <a:off x="6477120" y="4681440"/>
                <a:ext cx="976320" cy="9000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7040" y="4722840"/>
                <a:ext cx="757080" cy="69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647040" y="542268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647040" y="535284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647040" y="528300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47040" y="521316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647040" y="514332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647040" y="500364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47040" y="493236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47040" y="486396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647040" y="479412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47040" y="472284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797520" y="4722840"/>
                <a:ext cx="180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5016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0100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25328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0412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647040" y="4722840"/>
                <a:ext cx="757080" cy="6998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64704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647040" y="54226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647040" y="53528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647040" y="528300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647040" y="52131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647040" y="51433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647040" y="50734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647040" y="50036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647040" y="49323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647040" y="48639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647040" y="47941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47040" y="47228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647040" y="507348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664704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6797520" y="505764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695016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10100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725328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740412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38760" y="514980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16800" y="5092560"/>
                <a:ext cx="135000" cy="135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622920" y="5064120"/>
                <a:ext cx="122400" cy="122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624720" y="5030640"/>
                <a:ext cx="11880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638760" y="501012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632640" y="4968720"/>
                <a:ext cx="10296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638760" y="494028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638760" y="490536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643800" y="487512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649920" y="484668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707160" y="5143320"/>
                <a:ext cx="10476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88080" y="508932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694560" y="506088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675480" y="5005440"/>
                <a:ext cx="168120" cy="168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694560" y="499104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688080" y="494964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710400" y="4935600"/>
                <a:ext cx="98280" cy="99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716880" y="4908600"/>
                <a:ext cx="85680" cy="83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715080" y="4870440"/>
                <a:ext cx="889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729480" y="4849560"/>
                <a:ext cx="601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781680" y="5141880"/>
                <a:ext cx="108000" cy="106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754680" y="5078160"/>
                <a:ext cx="162000" cy="163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70520" y="5060880"/>
                <a:ext cx="13032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764400" y="501948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751800" y="4971960"/>
                <a:ext cx="168120" cy="166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765840" y="4951440"/>
                <a:ext cx="139680" cy="137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765840" y="4916520"/>
                <a:ext cx="139680" cy="137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791400" y="4905360"/>
                <a:ext cx="889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08680" y="4889520"/>
                <a:ext cx="540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805440" y="484956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885000" y="5203800"/>
                <a:ext cx="522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865920" y="5149800"/>
                <a:ext cx="9036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45400" y="5092560"/>
                <a:ext cx="133200" cy="133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59440" y="5073480"/>
                <a:ext cx="10332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37480" y="5016240"/>
                <a:ext cx="147600" cy="147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834240" y="4978440"/>
                <a:ext cx="154080" cy="153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832440" y="4941720"/>
                <a:ext cx="157320" cy="157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851520" y="4925880"/>
                <a:ext cx="11916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880320" y="4919400"/>
                <a:ext cx="619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885000" y="4889520"/>
                <a:ext cx="522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950160" y="5157720"/>
                <a:ext cx="7452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935760" y="5108400"/>
                <a:ext cx="10332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24600" y="5062320"/>
                <a:ext cx="125640" cy="1256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931080" y="5033880"/>
                <a:ext cx="111240" cy="111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910560" y="4979880"/>
                <a:ext cx="152280" cy="150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902280" y="4935600"/>
                <a:ext cx="169920" cy="169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950160" y="4948200"/>
                <a:ext cx="7452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032600" y="516420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026120" y="5122800"/>
                <a:ext cx="7488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93000" y="5054400"/>
                <a:ext cx="139680" cy="139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967440" y="4995720"/>
                <a:ext cx="190440" cy="189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964200" y="4957560"/>
                <a:ext cx="196920" cy="196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981840" y="4938480"/>
                <a:ext cx="162000" cy="163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35840" y="4959360"/>
                <a:ext cx="540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112160" y="5168880"/>
                <a:ext cx="5364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108920" y="5129280"/>
                <a:ext cx="601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072200" y="5022720"/>
                <a:ext cx="133560" cy="133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74000" y="499104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095960" y="4978440"/>
                <a:ext cx="86040" cy="83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112160" y="4959360"/>
                <a:ext cx="5364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180200" y="512604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180200" y="509112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165800" y="5040360"/>
                <a:ext cx="98640" cy="98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145280" y="4986360"/>
                <a:ext cx="139680" cy="139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4880" y="498924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760" y="5059440"/>
                <a:ext cx="61920" cy="60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43920" y="5008320"/>
                <a:ext cx="93600" cy="93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35080" y="539280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563160" y="53229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563160" y="52527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3160" y="51829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563160" y="511308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580440" y="5043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80440" y="49734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80440" y="4903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80440" y="4833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80440" y="4763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52360" y="46940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632640" y="54655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6980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92208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07292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22556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62360" y="546552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876360" y="550836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6200000">
                <a:off x="6369480" y="503928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477120" y="4681440"/>
                <a:ext cx="976320" cy="9000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Text Box 29"/>
            <p:cNvSpPr/>
            <p:nvPr/>
          </p:nvSpPr>
          <p:spPr>
            <a:xfrm>
              <a:off x="6756480" y="3957480"/>
              <a:ext cx="152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･･･････････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7" name="Text Box 8"/>
          <p:cNvSpPr/>
          <p:nvPr/>
        </p:nvSpPr>
        <p:spPr>
          <a:xfrm>
            <a:off x="6566040" y="71424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ied speed -acceleration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162920" y="3487680"/>
            <a:ext cx="1752480" cy="990720"/>
          </a:xfrm>
          <a:prstGeom prst="cloudCallout">
            <a:avLst>
              <a:gd name="adj1" fmla="val -51087"/>
              <a:gd name="adj2" fmla="val 85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89600" y="2827440"/>
            <a:ext cx="4005720" cy="3855240"/>
            <a:chOff x="489600" y="2827440"/>
            <a:chExt cx="4005720" cy="3855240"/>
          </a:xfrm>
        </p:grpSpPr>
        <p:sp>
          <p:nvSpPr>
            <p:cNvPr id="980" name="テキスト ボックス 19"/>
            <p:cNvSpPr/>
            <p:nvPr/>
          </p:nvSpPr>
          <p:spPr>
            <a:xfrm>
              <a:off x="571680" y="2832120"/>
              <a:ext cx="1007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テキスト ボックス 19"/>
            <p:cNvSpPr/>
            <p:nvPr/>
          </p:nvSpPr>
          <p:spPr>
            <a:xfrm>
              <a:off x="1650960" y="2832120"/>
              <a:ext cx="1007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ff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テキスト ボックス 19"/>
            <p:cNvSpPr/>
            <p:nvPr/>
          </p:nvSpPr>
          <p:spPr>
            <a:xfrm>
              <a:off x="3379680" y="2832120"/>
              <a:ext cx="1022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5"/>
            <p:cNvSpPr/>
            <p:nvPr/>
          </p:nvSpPr>
          <p:spPr>
            <a:xfrm rot="5400000">
              <a:off x="50760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4" name="Picture 17" descr=""/>
            <p:cNvPicPr/>
            <p:nvPr/>
          </p:nvPicPr>
          <p:blipFill>
            <a:blip r:embed="rId2"/>
            <a:stretch/>
          </p:blipFill>
          <p:spPr>
            <a:xfrm>
              <a:off x="591840" y="3086280"/>
              <a:ext cx="1022040" cy="28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18" descr=""/>
            <p:cNvPicPr/>
            <p:nvPr/>
          </p:nvPicPr>
          <p:blipFill>
            <a:blip r:embed="rId3"/>
            <a:stretch/>
          </p:blipFill>
          <p:spPr>
            <a:xfrm>
              <a:off x="1662120" y="3086280"/>
              <a:ext cx="1013760" cy="28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19" descr=""/>
            <p:cNvPicPr/>
            <p:nvPr/>
          </p:nvPicPr>
          <p:blipFill>
            <a:blip r:embed="rId4"/>
            <a:stretch/>
          </p:blipFill>
          <p:spPr>
            <a:xfrm>
              <a:off x="3375000" y="3086280"/>
              <a:ext cx="101376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Rectangle 20"/>
            <p:cNvSpPr/>
            <p:nvPr/>
          </p:nvSpPr>
          <p:spPr>
            <a:xfrm>
              <a:off x="1650960" y="2836800"/>
              <a:ext cx="1020240" cy="3813120"/>
            </a:xfrm>
            <a:prstGeom prst="rect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1"/>
            <p:cNvSpPr/>
            <p:nvPr/>
          </p:nvSpPr>
          <p:spPr>
            <a:xfrm>
              <a:off x="581040" y="2836800"/>
              <a:ext cx="1020240" cy="38131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2"/>
            <p:cNvSpPr/>
            <p:nvPr/>
          </p:nvSpPr>
          <p:spPr>
            <a:xfrm>
              <a:off x="3357360" y="2836800"/>
              <a:ext cx="1020600" cy="3813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5"/>
            <p:cNvSpPr/>
            <p:nvPr/>
          </p:nvSpPr>
          <p:spPr>
            <a:xfrm rot="5400000">
              <a:off x="157464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"/>
            <p:cNvSpPr/>
            <p:nvPr/>
          </p:nvSpPr>
          <p:spPr>
            <a:xfrm rot="5400000">
              <a:off x="329076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7"/>
            <p:cNvSpPr/>
            <p:nvPr/>
          </p:nvSpPr>
          <p:spPr>
            <a:xfrm>
              <a:off x="2784240" y="3089160"/>
              <a:ext cx="156960" cy="35593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28"/>
            <p:cNvSpPr/>
            <p:nvPr/>
          </p:nvSpPr>
          <p:spPr>
            <a:xfrm>
              <a:off x="3012840" y="3089160"/>
              <a:ext cx="71280" cy="3559320"/>
            </a:xfrm>
            <a:prstGeom prst="rect">
              <a:avLst/>
            </a:prstGeom>
            <a:noFill/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0"/>
            <p:cNvSpPr/>
            <p:nvPr/>
          </p:nvSpPr>
          <p:spPr>
            <a:xfrm>
              <a:off x="3157560" y="3089160"/>
              <a:ext cx="70920" cy="35593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8"/>
            <p:cNvSpPr/>
            <p:nvPr/>
          </p:nvSpPr>
          <p:spPr>
            <a:xfrm>
              <a:off x="939600" y="6286680"/>
              <a:ext cx="786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8"/>
            <p:cNvSpPr/>
            <p:nvPr/>
          </p:nvSpPr>
          <p:spPr>
            <a:xfrm>
              <a:off x="2031840" y="6299280"/>
              <a:ext cx="711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695400" y="6311880"/>
              <a:ext cx="799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98480" y="282744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356800" y="6018120"/>
            <a:ext cx="21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combi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*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･･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16000" y="673200"/>
            <a:ext cx="6870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short trip combination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speed-acceleration distribution in each combination from candidate short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with the unifi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he short trip combination with the le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other distributions and paramete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fer to Appendix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テキスト ボックス 18"/>
          <p:cNvSpPr/>
          <p:nvPr/>
        </p:nvSpPr>
        <p:spPr>
          <a:xfrm rot="16200000">
            <a:off x="-959400" y="427896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short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rot="16200000">
            <a:off x="7409520" y="2953440"/>
            <a:ext cx="544320" cy="485640"/>
          </a:xfrm>
          <a:prstGeom prst="leftRightArrow">
            <a:avLst>
              <a:gd name="adj1" fmla="val 50000"/>
              <a:gd name="adj2" fmla="val 223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988880" y="2927520"/>
            <a:ext cx="2474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based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4 Determination of the short trip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9873-ADC0-474D-9580-3E849C140B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" descr=""/>
          <p:cNvPicPr/>
          <p:nvPr/>
        </p:nvPicPr>
        <p:blipFill>
          <a:blip r:embed="rId1"/>
          <a:srcRect l="0" t="0" r="49092" b="0"/>
          <a:stretch/>
        </p:blipFill>
        <p:spPr>
          <a:xfrm>
            <a:off x="2154240" y="5641920"/>
            <a:ext cx="806400" cy="700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2128680" y="4808520"/>
            <a:ext cx="1095480" cy="15588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3"/>
          <a:stretch/>
        </p:blipFill>
        <p:spPr>
          <a:xfrm>
            <a:off x="2411280" y="4232160"/>
            <a:ext cx="1095480" cy="69552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5. Sample of the ST comb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190440" y="765000"/>
          <a:ext cx="8763120" cy="2579760"/>
        </p:xfrm>
        <a:graphic>
          <a:graphicData uri="http://schemas.openxmlformats.org/drawingml/2006/table">
            <a:tbl>
              <a:tblPr/>
              <a:tblGrid>
                <a:gridCol w="1736640"/>
                <a:gridCol w="1162080"/>
                <a:gridCol w="1116000"/>
                <a:gridCol w="1082880"/>
                <a:gridCol w="1220760"/>
                <a:gridCol w="1222200"/>
                <a:gridCol w="1222560"/>
              </a:tblGrid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　                 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(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ST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5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pic>
        <p:nvPicPr>
          <p:cNvPr id="1010" name="" descr=""/>
          <p:cNvPicPr/>
          <p:nvPr/>
        </p:nvPicPr>
        <p:blipFill>
          <a:blip r:embed="rId4"/>
          <a:stretch/>
        </p:blipFill>
        <p:spPr>
          <a:xfrm>
            <a:off x="4284720" y="1766880"/>
            <a:ext cx="1233360" cy="69048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5"/>
          <a:stretch/>
        </p:blipFill>
        <p:spPr>
          <a:xfrm>
            <a:off x="5435640" y="1143000"/>
            <a:ext cx="1090440" cy="69048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6"/>
          <a:stretch/>
        </p:blipFill>
        <p:spPr>
          <a:xfrm>
            <a:off x="5435640" y="1766880"/>
            <a:ext cx="1163520" cy="69048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7"/>
          <a:stretch/>
        </p:blipFill>
        <p:spPr>
          <a:xfrm>
            <a:off x="6588000" y="1138320"/>
            <a:ext cx="1095480" cy="69516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8"/>
          <a:stretch/>
        </p:blipFill>
        <p:spPr>
          <a:xfrm>
            <a:off x="4284720" y="1138320"/>
            <a:ext cx="1095480" cy="69516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9"/>
          <a:stretch/>
        </p:blipFill>
        <p:spPr>
          <a:xfrm>
            <a:off x="3276720" y="1138320"/>
            <a:ext cx="1095120" cy="6951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10"/>
          <a:srcRect l="0" t="0" r="49092" b="0"/>
          <a:stretch/>
        </p:blipFill>
        <p:spPr>
          <a:xfrm>
            <a:off x="6337440" y="2575080"/>
            <a:ext cx="1388880" cy="69984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11"/>
          <a:stretch/>
        </p:blipFill>
        <p:spPr>
          <a:xfrm>
            <a:off x="2195640" y="1757520"/>
            <a:ext cx="1100160" cy="69984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12"/>
          <a:srcRect l="0" t="0" r="49092" b="0"/>
          <a:stretch/>
        </p:blipFill>
        <p:spPr>
          <a:xfrm>
            <a:off x="3203640" y="2575080"/>
            <a:ext cx="806400" cy="69984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13"/>
          <a:stretch/>
        </p:blipFill>
        <p:spPr>
          <a:xfrm>
            <a:off x="6588000" y="1757520"/>
            <a:ext cx="1100160" cy="69984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14"/>
          <a:stretch/>
        </p:blipFill>
        <p:spPr>
          <a:xfrm>
            <a:off x="2195640" y="1138320"/>
            <a:ext cx="1095120" cy="69516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2195640" y="1716120"/>
            <a:ext cx="1095120" cy="15588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16"/>
          <a:stretch/>
        </p:blipFill>
        <p:spPr>
          <a:xfrm>
            <a:off x="4356000" y="2575080"/>
            <a:ext cx="1243080" cy="69984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17"/>
          <a:stretch/>
        </p:blipFill>
        <p:spPr>
          <a:xfrm>
            <a:off x="7524720" y="1130400"/>
            <a:ext cx="1527120" cy="6951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18"/>
          <a:srcRect l="0" t="0" r="33014" b="0"/>
          <a:stretch/>
        </p:blipFill>
        <p:spPr>
          <a:xfrm>
            <a:off x="7451640" y="1774800"/>
            <a:ext cx="1513080" cy="69048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19"/>
          <a:srcRect l="0" t="0" r="16507" b="0"/>
          <a:stretch/>
        </p:blipFill>
        <p:spPr>
          <a:xfrm>
            <a:off x="7515360" y="2584440"/>
            <a:ext cx="1520640" cy="69048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0"/>
          <a:stretch/>
        </p:blipFill>
        <p:spPr>
          <a:xfrm>
            <a:off x="3348000" y="1701720"/>
            <a:ext cx="792360" cy="700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21"/>
          <a:srcRect l="0" t="0" r="49302" b="0"/>
          <a:stretch/>
        </p:blipFill>
        <p:spPr>
          <a:xfrm>
            <a:off x="5292720" y="2579760"/>
            <a:ext cx="1224000" cy="69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8" name=""/>
          <p:cNvGraphicFramePr/>
          <p:nvPr/>
        </p:nvGraphicFramePr>
        <p:xfrm>
          <a:off x="179280" y="3733920"/>
          <a:ext cx="8785440" cy="2700360"/>
        </p:xfrm>
        <a:graphic>
          <a:graphicData uri="http://schemas.openxmlformats.org/drawingml/2006/table">
            <a:tbl>
              <a:tblPr/>
              <a:tblGrid>
                <a:gridCol w="1728720"/>
                <a:gridCol w="4319640"/>
                <a:gridCol w="2737080"/>
              </a:tblGrid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ed Short Tr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-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-1-1-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-1-1-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N-N-N-N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9" name="" descr=""/>
          <p:cNvPicPr/>
          <p:nvPr/>
        </p:nvPicPr>
        <p:blipFill>
          <a:blip r:embed="rId22"/>
          <a:stretch/>
        </p:blipFill>
        <p:spPr>
          <a:xfrm>
            <a:off x="2781360" y="4237200"/>
            <a:ext cx="1090440" cy="6904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23"/>
          <a:stretch/>
        </p:blipFill>
        <p:spPr>
          <a:xfrm>
            <a:off x="344808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24"/>
          <a:stretch/>
        </p:blipFill>
        <p:spPr>
          <a:xfrm>
            <a:off x="214308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5"/>
          <a:stretch/>
        </p:blipFill>
        <p:spPr>
          <a:xfrm>
            <a:off x="205092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6"/>
          <a:stretch/>
        </p:blipFill>
        <p:spPr>
          <a:xfrm>
            <a:off x="4197240" y="4232160"/>
            <a:ext cx="1527120" cy="6955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27"/>
          <a:srcRect l="0" t="0" r="49092" b="0"/>
          <a:stretch/>
        </p:blipFill>
        <p:spPr>
          <a:xfrm>
            <a:off x="3182760" y="5630760"/>
            <a:ext cx="1389240" cy="700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8"/>
          <a:stretch/>
        </p:blipFill>
        <p:spPr>
          <a:xfrm>
            <a:off x="2454120" y="5630760"/>
            <a:ext cx="1243080" cy="700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29"/>
          <a:srcRect l="0" t="0" r="16507" b="0"/>
          <a:stretch/>
        </p:blipFill>
        <p:spPr>
          <a:xfrm>
            <a:off x="4130640" y="5640480"/>
            <a:ext cx="1521000" cy="69048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30"/>
          <a:srcRect l="0" t="0" r="49302" b="0"/>
          <a:stretch/>
        </p:blipFill>
        <p:spPr>
          <a:xfrm>
            <a:off x="2662200" y="5635800"/>
            <a:ext cx="1224000" cy="695160"/>
          </a:xfrm>
          <a:prstGeom prst="rect">
            <a:avLst/>
          </a:prstGeom>
          <a:ln w="0">
            <a:noFill/>
          </a:ln>
        </p:spPr>
      </p:pic>
      <p:grpSp>
        <p:nvGrpSpPr>
          <p:cNvPr id="1038" name=""/>
          <p:cNvGrpSpPr/>
          <p:nvPr/>
        </p:nvGrpSpPr>
        <p:grpSpPr>
          <a:xfrm>
            <a:off x="7308720" y="4351320"/>
            <a:ext cx="621360" cy="567000"/>
            <a:chOff x="7308720" y="4351320"/>
            <a:chExt cx="621360" cy="567000"/>
          </a:xfrm>
        </p:grpSpPr>
        <p:sp>
          <p:nvSpPr>
            <p:cNvPr id="1039" name=""/>
            <p:cNvSpPr/>
            <p:nvPr/>
          </p:nvSpPr>
          <p:spPr>
            <a:xfrm>
              <a:off x="7308720" y="4351320"/>
              <a:ext cx="590760" cy="54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410240" y="4377240"/>
              <a:ext cx="459360" cy="42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10240" y="480492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410240" y="4761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10240" y="4719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10240" y="46760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10240" y="46339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410240" y="4548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410240" y="450576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10240" y="44629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410240" y="44204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10240" y="43772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0240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9384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8636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77852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86960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10240" y="4377240"/>
              <a:ext cx="459360" cy="427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41024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410240" y="480492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10240" y="4761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10240" y="4719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10240" y="46760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10240" y="46339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10240" y="45914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10240" y="4548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410240" y="450576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10240" y="44629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410240" y="44204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410240" y="43772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410240" y="45914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741024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750240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759384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68636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777852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786960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428600" y="4681800"/>
              <a:ext cx="936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21760" y="4654080"/>
              <a:ext cx="2304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09520" y="462024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423920" y="4612680"/>
              <a:ext cx="19080" cy="19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426800" y="4530960"/>
              <a:ext cx="1332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23920" y="4505760"/>
              <a:ext cx="19080" cy="20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418880" y="4479840"/>
              <a:ext cx="28440" cy="28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24640" y="4464360"/>
              <a:ext cx="1728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471800" y="4680000"/>
              <a:ext cx="14040" cy="13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460280" y="4647240"/>
              <a:ext cx="37440" cy="36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460280" y="4625280"/>
              <a:ext cx="38520" cy="38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470720" y="459252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471800" y="4573440"/>
              <a:ext cx="1404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59200" y="4496400"/>
              <a:ext cx="39240" cy="392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6040" y="44820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74680" y="4468320"/>
              <a:ext cx="828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17880" y="4680000"/>
              <a:ext cx="14040" cy="13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03480" y="4644360"/>
              <a:ext cx="42840" cy="42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07440" y="4626000"/>
              <a:ext cx="35640" cy="35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13200" y="4610880"/>
              <a:ext cx="24840" cy="24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13920" y="4589640"/>
              <a:ext cx="2196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515000" y="4570200"/>
              <a:ext cx="19800" cy="19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09240" y="4542480"/>
              <a:ext cx="3168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96640" y="4509720"/>
              <a:ext cx="56520" cy="55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517160" y="4506840"/>
              <a:ext cx="1692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520760" y="4489560"/>
              <a:ext cx="864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548840" y="4643640"/>
              <a:ext cx="43920" cy="43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54600" y="4628160"/>
              <a:ext cx="3240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554600" y="4606920"/>
              <a:ext cx="3240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50640" y="458100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45960" y="4555080"/>
              <a:ext cx="49680" cy="49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542000" y="4529160"/>
              <a:ext cx="58320" cy="58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48840" y="4515480"/>
              <a:ext cx="43920" cy="43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04640" y="4653000"/>
              <a:ext cx="24840" cy="24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96720" y="462420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95640" y="4602240"/>
              <a:ext cx="42120" cy="42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69000" y="4552920"/>
              <a:ext cx="96840" cy="96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57480" y="4520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88080" y="4529160"/>
              <a:ext cx="58320" cy="58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07160" y="4527000"/>
              <a:ext cx="19080" cy="20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51440" y="4632840"/>
              <a:ext cx="2304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43880" y="4604040"/>
              <a:ext cx="38160" cy="38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26600" y="4565520"/>
              <a:ext cx="7272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13280" y="4530960"/>
              <a:ext cx="98640" cy="98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47480" y="4543560"/>
              <a:ext cx="29520" cy="29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99320" y="4612680"/>
              <a:ext cx="19080" cy="19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74480" y="4567320"/>
              <a:ext cx="68760" cy="68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71960" y="4542480"/>
              <a:ext cx="74520" cy="74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702560" y="4552200"/>
              <a:ext cx="1296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44000" y="478692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61280" y="47451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361280" y="47001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61280" y="46587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61280" y="46144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369920" y="45734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369920" y="45320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9920" y="4489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69920" y="4444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69920" y="4404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353360" y="436068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402680" y="48319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8512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57764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6836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6196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846920" y="4831920"/>
              <a:ext cx="83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549200" y="4857120"/>
              <a:ext cx="29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16200000">
              <a:off x="7198200" y="4498560"/>
              <a:ext cx="294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" spc="-1" strike="noStrike">
                  <a:solidFill>
                    <a:srgbClr val="000000"/>
                  </a:solidFill>
                  <a:latin typeface="Arial"/>
                </a:rPr>
                <a:t>Acc. (km/h/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308720" y="4351320"/>
              <a:ext cx="590760" cy="54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7308720" y="4976640"/>
            <a:ext cx="619200" cy="561960"/>
            <a:chOff x="7308720" y="4976640"/>
            <a:chExt cx="619200" cy="561960"/>
          </a:xfrm>
        </p:grpSpPr>
        <p:sp>
          <p:nvSpPr>
            <p:cNvPr id="1146" name=""/>
            <p:cNvSpPr/>
            <p:nvPr/>
          </p:nvSpPr>
          <p:spPr>
            <a:xfrm>
              <a:off x="7308720" y="4976640"/>
              <a:ext cx="589320" cy="5450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411320" y="5001480"/>
              <a:ext cx="457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11320" y="54255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11320" y="53830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411320" y="53409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11320" y="52984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11320" y="52563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411320" y="51717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411320" y="512856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411320" y="50871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11320" y="504468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11320" y="500148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502040" y="5001480"/>
              <a:ext cx="108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59420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68528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77744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86852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411320" y="5001480"/>
              <a:ext cx="457200" cy="423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1132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11320" y="54255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11320" y="53830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411320" y="53409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411320" y="52984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411320" y="52563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11320" y="52138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411320" y="51717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11320" y="512856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1320" y="50871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411320" y="504468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411320" y="500148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411320" y="52138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741132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7502040" y="52045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759420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68528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77744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786852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06280" y="526032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92960" y="5225400"/>
              <a:ext cx="81360" cy="81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396560" y="5208120"/>
              <a:ext cx="73800" cy="73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397640" y="5187960"/>
              <a:ext cx="7164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06280" y="517572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02320" y="5150520"/>
              <a:ext cx="6192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06280" y="513324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6280" y="511200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09160" y="5093640"/>
              <a:ext cx="4752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12760" y="507672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47320" y="5256360"/>
              <a:ext cx="6300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5800" y="522360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39760" y="520632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28240" y="5172840"/>
              <a:ext cx="101520" cy="101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39760" y="516384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35800" y="513900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449480" y="5130360"/>
              <a:ext cx="59040" cy="60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453440" y="5114160"/>
              <a:ext cx="51480" cy="50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52360" y="5091120"/>
              <a:ext cx="5364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61000" y="5078160"/>
              <a:ext cx="3600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92320" y="5255280"/>
              <a:ext cx="65160" cy="64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76120" y="5216760"/>
              <a:ext cx="97560" cy="99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485840" y="520632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81880" y="518112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74320" y="5152320"/>
              <a:ext cx="101520" cy="100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82960" y="5140080"/>
              <a:ext cx="84240" cy="83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82960" y="5118840"/>
              <a:ext cx="84240" cy="83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98440" y="5112000"/>
              <a:ext cx="5364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508880" y="5102640"/>
              <a:ext cx="3240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506720" y="50781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554960" y="5292720"/>
              <a:ext cx="3132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43440" y="5260320"/>
              <a:ext cx="5436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30840" y="5225400"/>
              <a:ext cx="80280" cy="80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39480" y="5213880"/>
              <a:ext cx="6228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26160" y="5179320"/>
              <a:ext cx="88920" cy="89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24360" y="5156280"/>
              <a:ext cx="92880" cy="92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23280" y="5133960"/>
              <a:ext cx="94680" cy="95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34800" y="5124600"/>
              <a:ext cx="7164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52080" y="5120640"/>
              <a:ext cx="3708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54960" y="5102640"/>
              <a:ext cx="3132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594200" y="526500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585560" y="5235120"/>
              <a:ext cx="6228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578720" y="5207040"/>
              <a:ext cx="75600" cy="75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582680" y="5190120"/>
              <a:ext cx="66960" cy="67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70440" y="5157360"/>
              <a:ext cx="91800" cy="91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565400" y="5130360"/>
              <a:ext cx="102600" cy="102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94200" y="513792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43880" y="52689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39920" y="524376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620120" y="5202360"/>
              <a:ext cx="84240" cy="84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04640" y="5166720"/>
              <a:ext cx="114840" cy="114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02840" y="5143680"/>
              <a:ext cx="118800" cy="119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613280" y="5132160"/>
              <a:ext cx="97560" cy="99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46040" y="5144760"/>
              <a:ext cx="3240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92120" y="5271840"/>
              <a:ext cx="3204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89960" y="5247720"/>
              <a:ext cx="3600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68000" y="5183280"/>
              <a:ext cx="80640" cy="80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69080" y="516384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82400" y="5156280"/>
              <a:ext cx="51840" cy="50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92120" y="5144760"/>
              <a:ext cx="3204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733160" y="524592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33160" y="522468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24520" y="5193720"/>
              <a:ext cx="59400" cy="59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711920" y="5161320"/>
              <a:ext cx="84240" cy="84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736040" y="51627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81040" y="5205600"/>
              <a:ext cx="37080" cy="36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771680" y="5174640"/>
              <a:ext cx="56520" cy="56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344000" y="540828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361640" y="53658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61640" y="53244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1640" y="52812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361640" y="52390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370640" y="5195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70640" y="51523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370640" y="51109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370640" y="50698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70640" y="50256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353360" y="498420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02320" y="5452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48584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57908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66836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76052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844760" y="5452560"/>
              <a:ext cx="83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550640" y="5477400"/>
              <a:ext cx="29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7198200" y="5120280"/>
              <a:ext cx="294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" spc="-1" strike="noStrike">
                  <a:solidFill>
                    <a:srgbClr val="000000"/>
                  </a:solidFill>
                  <a:latin typeface="Arial"/>
                </a:rPr>
                <a:t>Acc. (km/h/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308720" y="4976640"/>
              <a:ext cx="589320" cy="545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7308720" y="5838840"/>
            <a:ext cx="621360" cy="563400"/>
            <a:chOff x="7308720" y="5838840"/>
            <a:chExt cx="621360" cy="563400"/>
          </a:xfrm>
        </p:grpSpPr>
        <p:sp>
          <p:nvSpPr>
            <p:cNvPr id="1271" name=""/>
            <p:cNvSpPr/>
            <p:nvPr/>
          </p:nvSpPr>
          <p:spPr>
            <a:xfrm>
              <a:off x="7308720" y="5838840"/>
              <a:ext cx="590760" cy="54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410240" y="5863680"/>
              <a:ext cx="459360" cy="4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10240" y="62888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10240" y="6246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410240" y="6204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410240" y="616176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10240" y="611928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410240" y="60332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410240" y="599076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410240" y="5949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10240" y="5907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10240" y="586368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50240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59384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8636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77852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6960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10240" y="5863680"/>
              <a:ext cx="459360" cy="425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1024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10240" y="62888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410240" y="6246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10240" y="6204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410240" y="616176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410240" y="611928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10240" y="607680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10240" y="60332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410240" y="599076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410240" y="5949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410240" y="5907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10240" y="586368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410240" y="607680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41024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750240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759384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768636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77852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86960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417800" y="6134760"/>
              <a:ext cx="3060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406280" y="6101640"/>
              <a:ext cx="53640" cy="55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424640" y="6098760"/>
              <a:ext cx="1728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424640" y="6014160"/>
              <a:ext cx="1728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415280" y="5984280"/>
              <a:ext cx="3636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24640" y="5971680"/>
              <a:ext cx="1728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421040" y="5946480"/>
              <a:ext cx="2484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461360" y="6132960"/>
              <a:ext cx="3528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448760" y="6098760"/>
              <a:ext cx="60480" cy="60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59200" y="608724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35440" y="6042240"/>
              <a:ext cx="87120" cy="885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63160" y="604980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55240" y="6021000"/>
              <a:ext cx="47880" cy="47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66040" y="60102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63160" y="598608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59200" y="596016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66040" y="594648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517160" y="6141240"/>
              <a:ext cx="1692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487280" y="6091200"/>
              <a:ext cx="75600" cy="75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97720" y="6080400"/>
              <a:ext cx="54720" cy="55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503480" y="606420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01680" y="604224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99520" y="6018840"/>
              <a:ext cx="51840" cy="51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501680" y="599868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09240" y="5986080"/>
              <a:ext cx="3168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517160" y="597168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512120" y="594648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62160" y="6162480"/>
              <a:ext cx="1692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48840" y="612792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544880" y="6102720"/>
              <a:ext cx="51840" cy="51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555320" y="609228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539120" y="6054480"/>
              <a:ext cx="63360" cy="63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531560" y="6025680"/>
              <a:ext cx="79560" cy="79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534440" y="6007320"/>
              <a:ext cx="72720" cy="74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548840" y="600048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562160" y="599292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562160" y="597168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601760" y="613476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90960" y="6102720"/>
              <a:ext cx="51840" cy="51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580520" y="6071040"/>
              <a:ext cx="72720" cy="73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85200" y="6054480"/>
              <a:ext cx="63360" cy="63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72600" y="6021000"/>
              <a:ext cx="89280" cy="89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570800" y="5997600"/>
              <a:ext cx="92880" cy="93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98520" y="6005160"/>
              <a:ext cx="3636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649640" y="61164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621560" y="6067080"/>
              <a:ext cx="82440" cy="81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605360" y="6028560"/>
              <a:ext cx="115200" cy="1155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603200" y="6005160"/>
              <a:ext cx="119160" cy="120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20840" y="6002640"/>
              <a:ext cx="83160" cy="83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654320" y="6014160"/>
              <a:ext cx="1728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676640" y="6053760"/>
              <a:ext cx="64800" cy="65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678440" y="6035400"/>
              <a:ext cx="60480" cy="60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700400" y="6035400"/>
              <a:ext cx="1692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44000" y="626868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61280" y="62272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61280" y="61848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61280" y="614232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7308720" y="5838840"/>
              <a:ext cx="621360" cy="563400"/>
              <a:chOff x="7308720" y="5838840"/>
              <a:chExt cx="621360" cy="563400"/>
            </a:xfrm>
          </p:grpSpPr>
          <p:sp>
            <p:nvSpPr>
              <p:cNvPr id="1366" name=""/>
              <p:cNvSpPr/>
              <p:nvPr/>
            </p:nvSpPr>
            <p:spPr>
              <a:xfrm>
                <a:off x="7361280" y="61009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369920" y="6057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369920" y="6015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369920" y="5973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369920" y="59320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369920" y="5887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353360" y="584640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02680" y="6315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8512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57908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66980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75980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846920" y="631512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50640" y="634104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6200000">
                <a:off x="7199280" y="597960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308720" y="5838840"/>
                <a:ext cx="590760" cy="546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2" name=""/>
          <p:cNvSpPr/>
          <p:nvPr/>
        </p:nvSpPr>
        <p:spPr>
          <a:xfrm>
            <a:off x="3706920" y="3429000"/>
            <a:ext cx="1728720" cy="384120"/>
          </a:xfrm>
          <a:prstGeom prst="downArrow">
            <a:avLst>
              <a:gd name="adj1" fmla="val 50046"/>
              <a:gd name="adj2" fmla="val 546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950080" y="456732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950080" y="51436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950080" y="593568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31"/>
          <a:srcRect l="0" t="0" r="33014" b="0"/>
          <a:stretch/>
        </p:blipFill>
        <p:spPr>
          <a:xfrm>
            <a:off x="4129200" y="4809960"/>
            <a:ext cx="1512720" cy="69084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32"/>
          <a:stretch/>
        </p:blipFill>
        <p:spPr>
          <a:xfrm>
            <a:off x="24112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33"/>
          <a:stretch/>
        </p:blipFill>
        <p:spPr>
          <a:xfrm>
            <a:off x="2781360" y="4809960"/>
            <a:ext cx="1090440" cy="69084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34"/>
          <a:stretch/>
        </p:blipFill>
        <p:spPr>
          <a:xfrm>
            <a:off x="34480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"/>
          <p:cNvPicPr/>
          <p:nvPr/>
        </p:nvPicPr>
        <p:blipFill>
          <a:blip r:embed="rId35"/>
          <a:stretch/>
        </p:blipFill>
        <p:spPr>
          <a:xfrm>
            <a:off x="21430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36"/>
          <a:stretch/>
        </p:blipFill>
        <p:spPr>
          <a:xfrm>
            <a:off x="2050920" y="4805280"/>
            <a:ext cx="1095480" cy="69552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230040" y="6423120"/>
            <a:ext cx="871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his analysis will be done for each 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3267-80D0-4105-A95B-40DEE49378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6. Selection of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ST selec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 within average ±1σ in each S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verage 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c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aller chi-squared value is higher pri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he number of potential STs in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nger ST has more potential STs since it has bigger influence on chi-squar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tal number of combinations is less than 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pproximately 3 days on Xeon X5492 (Quad core, 3.4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Picture 10" descr=""/>
          <p:cNvPicPr/>
          <p:nvPr/>
        </p:nvPicPr>
        <p:blipFill>
          <a:blip r:embed="rId1"/>
          <a:stretch/>
        </p:blipFill>
        <p:spPr>
          <a:xfrm>
            <a:off x="1461960" y="4429080"/>
            <a:ext cx="6205680" cy="191448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/>
          <p:nvPr/>
        </p:nvSpPr>
        <p:spPr>
          <a:xfrm>
            <a:off x="4765680" y="6012000"/>
            <a:ext cx="1881360" cy="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541680" y="6012000"/>
            <a:ext cx="1224000" cy="0"/>
          </a:xfrm>
          <a:prstGeom prst="line">
            <a:avLst/>
          </a:prstGeom>
          <a:ln w="1584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87760" y="6012000"/>
            <a:ext cx="863640" cy="0"/>
          </a:xfrm>
          <a:prstGeom prst="line">
            <a:avLst/>
          </a:prstGeom>
          <a:ln w="15840">
            <a:solidFill>
              <a:srgbClr val="ff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173320" y="600228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876320" y="6012000"/>
            <a:ext cx="2872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751040" y="6018120"/>
            <a:ext cx="1443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496880" y="568656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66cc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71756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18268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830680" y="5695920"/>
            <a:ext cx="576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657600" y="5695920"/>
            <a:ext cx="804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 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207040" y="5695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54688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92436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987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34000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979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9236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364000" y="6407280"/>
            <a:ext cx="10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 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65760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/Y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59092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571760" y="64310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cc99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7B8E-CB41-4D31-ABC1-5AD50DF0C8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713F-B53A-452E-99F6-DE1FE1DA0A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Process of high-speed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228600" y="857160"/>
            <a:ext cx="8610480" cy="58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ermine the high-speed cycle duration (e.g. 600 se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ermine the ST duration based on average ST duration and idling duration ratio of in-use data, the divide the ST into XX seg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 segments and 1 cru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than 5 segments and 2 cru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sider 2 phases (High-1 / High-2) cycle profile, if necessary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tract the driving data which meet each part’s configuration from in-use 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 the least chi-squared extracted driving data in each part, then combine the these data to develop the High-speed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note) if the complete in-use ST is less chi-squared value than combined High-speed cycle, this specific ST can be used for High-speed cy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3A92-E9A0-4721-8A34-9C81BBF4BD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2. (Example) Divide into 5 parts of High-spe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600120" y="2057400"/>
            <a:ext cx="3438360" cy="258120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1338120" y="2200320"/>
            <a:ext cx="1190880" cy="1981080"/>
          </a:xfrm>
          <a:prstGeom prst="rect">
            <a:avLst/>
          </a:prstGeom>
          <a:solidFill>
            <a:srgbClr val="ccffff">
              <a:alpha val="30000"/>
            </a:srgbClr>
          </a:solidFill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529000" y="2209680"/>
            <a:ext cx="247680" cy="1981440"/>
          </a:xfrm>
          <a:prstGeom prst="rect">
            <a:avLst/>
          </a:prstGeom>
          <a:solidFill>
            <a:srgbClr val="ffcc99">
              <a:alpha val="30000"/>
            </a:srgbClr>
          </a:solidFill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776680" y="2209680"/>
            <a:ext cx="1060200" cy="1981440"/>
          </a:xfrm>
          <a:prstGeom prst="rect">
            <a:avLst/>
          </a:prstGeom>
          <a:solidFill>
            <a:srgbClr val="ff99cc">
              <a:alpha val="3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4419720" y="2124000"/>
          <a:ext cx="4495680" cy="2232000"/>
        </p:xfrm>
        <a:graphic>
          <a:graphicData uri="http://schemas.openxmlformats.org/drawingml/2006/table">
            <a:tbl>
              <a:tblPr/>
              <a:tblGrid>
                <a:gridCol w="1371600"/>
                <a:gridCol w="1041120"/>
                <a:gridCol w="1041480"/>
                <a:gridCol w="104148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, 75~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, 90~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9" name="" descr=""/>
          <p:cNvPicPr/>
          <p:nvPr/>
        </p:nvPicPr>
        <p:blipFill>
          <a:blip r:embed="rId2"/>
          <a:stretch/>
        </p:blipFill>
        <p:spPr>
          <a:xfrm>
            <a:off x="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3"/>
          <a:stretch/>
        </p:blipFill>
        <p:spPr>
          <a:xfrm>
            <a:off x="36561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4"/>
          <a:stretch/>
        </p:blipFill>
        <p:spPr>
          <a:xfrm>
            <a:off x="54849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5"/>
          <a:stretch/>
        </p:blipFill>
        <p:spPr>
          <a:xfrm>
            <a:off x="7315200" y="5245200"/>
            <a:ext cx="1817640" cy="146052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152280" y="4970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~ 75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905120" y="49402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90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733920" y="4940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90 km/h, 18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6386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75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0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905120" y="4038480"/>
            <a:ext cx="6476760" cy="901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666880" y="4038480"/>
            <a:ext cx="4572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66880" y="4038480"/>
            <a:ext cx="41148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429000" y="4038480"/>
            <a:ext cx="152388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2362320" y="3736800"/>
            <a:ext cx="552240" cy="304920"/>
            <a:chOff x="2362320" y="3736800"/>
            <a:chExt cx="552240" cy="304920"/>
          </a:xfrm>
        </p:grpSpPr>
        <p:sp>
          <p:nvSpPr>
            <p:cNvPr id="1444" name=""/>
            <p:cNvSpPr/>
            <p:nvPr/>
          </p:nvSpPr>
          <p:spPr>
            <a:xfrm>
              <a:off x="2362320" y="3736800"/>
              <a:ext cx="5331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81400" y="375588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33"/>
                  </a:solidFill>
                  <a:latin typeface="Arial"/>
                </a:rPr>
                <a:t>3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3124080" y="3736800"/>
            <a:ext cx="552600" cy="304920"/>
            <a:chOff x="3124080" y="3736800"/>
            <a:chExt cx="552600" cy="304920"/>
          </a:xfrm>
        </p:grpSpPr>
        <p:sp>
          <p:nvSpPr>
            <p:cNvPr id="1447" name=""/>
            <p:cNvSpPr/>
            <p:nvPr/>
          </p:nvSpPr>
          <p:spPr>
            <a:xfrm>
              <a:off x="312408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4316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1066680" y="495288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8372520" y="492444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620040" y="494352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495288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724280" y="495288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1600200" y="3736800"/>
            <a:ext cx="552600" cy="304920"/>
            <a:chOff x="1600200" y="3736800"/>
            <a:chExt cx="552600" cy="304920"/>
          </a:xfrm>
        </p:grpSpPr>
        <p:sp>
          <p:nvSpPr>
            <p:cNvPr id="1455" name=""/>
            <p:cNvSpPr/>
            <p:nvPr/>
          </p:nvSpPr>
          <p:spPr>
            <a:xfrm>
              <a:off x="160020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1928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4876920" y="4743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djust 2 s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752480" y="2517840"/>
            <a:ext cx="1524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600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914400" y="3051000"/>
            <a:ext cx="552600" cy="304920"/>
            <a:chOff x="914400" y="3051000"/>
            <a:chExt cx="552600" cy="304920"/>
          </a:xfrm>
        </p:grpSpPr>
        <p:sp>
          <p:nvSpPr>
            <p:cNvPr id="1460" name=""/>
            <p:cNvSpPr/>
            <p:nvPr/>
          </p:nvSpPr>
          <p:spPr>
            <a:xfrm>
              <a:off x="914400" y="30510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933480" y="30700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3 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228600" y="685800"/>
            <a:ext cx="86868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speed range an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3 speed range based on dividing frequency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0~75 km/h, 75~90 km/h, 90 km/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de target duration in each range, then divide into two portions (take-off and slow-dow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of 0~75km/h: 36% =&gt; 217 sec =&gt; take-off part 108 s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w-down 108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6"/>
          <a:stretch/>
        </p:blipFill>
        <p:spPr>
          <a:xfrm>
            <a:off x="1828800" y="5245200"/>
            <a:ext cx="1814400" cy="1457280"/>
          </a:xfrm>
          <a:prstGeom prst="rect">
            <a:avLst/>
          </a:prstGeom>
          <a:ln w="0">
            <a:noFill/>
          </a:ln>
        </p:spPr>
      </p:pic>
      <p:sp>
        <p:nvSpPr>
          <p:cNvPr id="1464" name=""/>
          <p:cNvSpPr/>
          <p:nvPr/>
        </p:nvSpPr>
        <p:spPr>
          <a:xfrm>
            <a:off x="457200" y="59054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157640" y="590544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684920" y="534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209680" y="5905440"/>
            <a:ext cx="11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856120" y="59054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D8BB-FD27-4ED6-8C7D-F9E16CB494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3. Extraction of driv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9280" y="69228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driving data which meet each part’s definition* from in-use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definition &lt;Take-off 1 par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range : 0 ~ 75 km/h (with±0.5km/h), duration : 108s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539640" y="277308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39640" y="4073400"/>
            <a:ext cx="2016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70040" y="408924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44680" y="355284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692360" y="270972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 rot="16200000">
            <a:off x="-644760" y="338904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50800" y="2759040"/>
            <a:ext cx="1947960" cy="1312920"/>
          </a:xfrm>
          <a:custGeom>
            <a:avLst/>
            <a:gdLst/>
            <a:ahLst/>
            <a:rect l="l" t="t" r="r" b="b"/>
            <a:pathLst>
              <a:path w="1227" h="827">
                <a:moveTo>
                  <a:pt x="0" y="827"/>
                </a:moveTo>
                <a:cubicBezTo>
                  <a:pt x="7" y="801"/>
                  <a:pt x="17" y="696"/>
                  <a:pt x="40" y="668"/>
                </a:cubicBezTo>
                <a:cubicBezTo>
                  <a:pt x="63" y="640"/>
                  <a:pt x="110" y="674"/>
                  <a:pt x="136" y="662"/>
                </a:cubicBezTo>
                <a:cubicBezTo>
                  <a:pt x="162" y="650"/>
                  <a:pt x="177" y="619"/>
                  <a:pt x="195" y="597"/>
                </a:cubicBezTo>
                <a:cubicBezTo>
                  <a:pt x="213" y="575"/>
                  <a:pt x="215" y="548"/>
                  <a:pt x="242" y="532"/>
                </a:cubicBezTo>
                <a:cubicBezTo>
                  <a:pt x="269" y="516"/>
                  <a:pt x="324" y="517"/>
                  <a:pt x="355" y="502"/>
                </a:cubicBezTo>
                <a:cubicBezTo>
                  <a:pt x="386" y="487"/>
                  <a:pt x="404" y="478"/>
                  <a:pt x="426" y="443"/>
                </a:cubicBezTo>
                <a:cubicBezTo>
                  <a:pt x="448" y="408"/>
                  <a:pt x="461" y="311"/>
                  <a:pt x="486" y="294"/>
                </a:cubicBezTo>
                <a:cubicBezTo>
                  <a:pt x="511" y="277"/>
                  <a:pt x="543" y="354"/>
                  <a:pt x="575" y="342"/>
                </a:cubicBezTo>
                <a:cubicBezTo>
                  <a:pt x="607" y="330"/>
                  <a:pt x="636" y="267"/>
                  <a:pt x="676" y="223"/>
                </a:cubicBezTo>
                <a:cubicBezTo>
                  <a:pt x="716" y="179"/>
                  <a:pt x="780" y="98"/>
                  <a:pt x="816" y="79"/>
                </a:cubicBezTo>
                <a:cubicBezTo>
                  <a:pt x="852" y="60"/>
                  <a:pt x="869" y="113"/>
                  <a:pt x="892" y="110"/>
                </a:cubicBezTo>
                <a:cubicBezTo>
                  <a:pt x="915" y="107"/>
                  <a:pt x="924" y="63"/>
                  <a:pt x="953" y="61"/>
                </a:cubicBezTo>
                <a:cubicBezTo>
                  <a:pt x="982" y="59"/>
                  <a:pt x="1036" y="105"/>
                  <a:pt x="1066" y="97"/>
                </a:cubicBezTo>
                <a:cubicBezTo>
                  <a:pt x="1096" y="89"/>
                  <a:pt x="1104" y="0"/>
                  <a:pt x="1131" y="14"/>
                </a:cubicBezTo>
                <a:cubicBezTo>
                  <a:pt x="1158" y="28"/>
                  <a:pt x="1211" y="154"/>
                  <a:pt x="1227" y="18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320364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203640" y="40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43368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08320" y="3556080"/>
            <a:ext cx="57168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780000" y="3071880"/>
            <a:ext cx="57600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 rot="16200000">
            <a:off x="201852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214800" y="2743200"/>
            <a:ext cx="1939680" cy="1332000"/>
          </a:xfrm>
          <a:custGeom>
            <a:avLst/>
            <a:gdLst/>
            <a:ahLst/>
            <a:rect l="l" t="t" r="r" b="b"/>
            <a:pathLst>
              <a:path w="1222" h="839">
                <a:moveTo>
                  <a:pt x="0" y="839"/>
                </a:moveTo>
                <a:cubicBezTo>
                  <a:pt x="7" y="813"/>
                  <a:pt x="25" y="695"/>
                  <a:pt x="40" y="680"/>
                </a:cubicBezTo>
                <a:cubicBezTo>
                  <a:pt x="55" y="665"/>
                  <a:pt x="74" y="760"/>
                  <a:pt x="88" y="748"/>
                </a:cubicBezTo>
                <a:cubicBezTo>
                  <a:pt x="102" y="736"/>
                  <a:pt x="111" y="652"/>
                  <a:pt x="123" y="606"/>
                </a:cubicBezTo>
                <a:cubicBezTo>
                  <a:pt x="135" y="560"/>
                  <a:pt x="143" y="465"/>
                  <a:pt x="159" y="474"/>
                </a:cubicBezTo>
                <a:cubicBezTo>
                  <a:pt x="175" y="483"/>
                  <a:pt x="202" y="647"/>
                  <a:pt x="219" y="659"/>
                </a:cubicBezTo>
                <a:cubicBezTo>
                  <a:pt x="236" y="671"/>
                  <a:pt x="237" y="570"/>
                  <a:pt x="260" y="546"/>
                </a:cubicBezTo>
                <a:cubicBezTo>
                  <a:pt x="283" y="522"/>
                  <a:pt x="327" y="529"/>
                  <a:pt x="355" y="514"/>
                </a:cubicBezTo>
                <a:cubicBezTo>
                  <a:pt x="383" y="499"/>
                  <a:pt x="402" y="475"/>
                  <a:pt x="426" y="455"/>
                </a:cubicBezTo>
                <a:cubicBezTo>
                  <a:pt x="450" y="435"/>
                  <a:pt x="473" y="419"/>
                  <a:pt x="498" y="392"/>
                </a:cubicBezTo>
                <a:cubicBezTo>
                  <a:pt x="523" y="365"/>
                  <a:pt x="545" y="317"/>
                  <a:pt x="575" y="291"/>
                </a:cubicBezTo>
                <a:cubicBezTo>
                  <a:pt x="605" y="265"/>
                  <a:pt x="641" y="278"/>
                  <a:pt x="676" y="235"/>
                </a:cubicBezTo>
                <a:cubicBezTo>
                  <a:pt x="711" y="192"/>
                  <a:pt x="751" y="54"/>
                  <a:pt x="783" y="36"/>
                </a:cubicBezTo>
                <a:cubicBezTo>
                  <a:pt x="815" y="18"/>
                  <a:pt x="839" y="100"/>
                  <a:pt x="866" y="125"/>
                </a:cubicBezTo>
                <a:cubicBezTo>
                  <a:pt x="893" y="150"/>
                  <a:pt x="917" y="193"/>
                  <a:pt x="943" y="184"/>
                </a:cubicBezTo>
                <a:cubicBezTo>
                  <a:pt x="969" y="175"/>
                  <a:pt x="993" y="91"/>
                  <a:pt x="1020" y="71"/>
                </a:cubicBezTo>
                <a:cubicBezTo>
                  <a:pt x="1047" y="51"/>
                  <a:pt x="1078" y="61"/>
                  <a:pt x="1104" y="65"/>
                </a:cubicBezTo>
                <a:cubicBezTo>
                  <a:pt x="1130" y="69"/>
                  <a:pt x="1155" y="106"/>
                  <a:pt x="1175" y="95"/>
                </a:cubicBezTo>
                <a:cubicBezTo>
                  <a:pt x="1195" y="84"/>
                  <a:pt x="1212" y="20"/>
                  <a:pt x="122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594036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940360" y="407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17076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516720" y="2971800"/>
            <a:ext cx="57636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093080" y="260028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rot="16200000">
            <a:off x="475560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951520" y="2708280"/>
            <a:ext cx="2881440" cy="1366920"/>
          </a:xfrm>
          <a:custGeom>
            <a:avLst/>
            <a:gdLst/>
            <a:ahLst/>
            <a:rect l="l" t="t" r="r" b="b"/>
            <a:pathLst>
              <a:path w="1815" h="861">
                <a:moveTo>
                  <a:pt x="0" y="861"/>
                </a:moveTo>
                <a:cubicBezTo>
                  <a:pt x="13" y="846"/>
                  <a:pt x="57" y="798"/>
                  <a:pt x="80" y="770"/>
                </a:cubicBezTo>
                <a:cubicBezTo>
                  <a:pt x="103" y="742"/>
                  <a:pt x="117" y="719"/>
                  <a:pt x="136" y="696"/>
                </a:cubicBezTo>
                <a:cubicBezTo>
                  <a:pt x="155" y="673"/>
                  <a:pt x="177" y="653"/>
                  <a:pt x="195" y="631"/>
                </a:cubicBezTo>
                <a:cubicBezTo>
                  <a:pt x="213" y="609"/>
                  <a:pt x="216" y="588"/>
                  <a:pt x="242" y="566"/>
                </a:cubicBezTo>
                <a:cubicBezTo>
                  <a:pt x="268" y="544"/>
                  <a:pt x="320" y="579"/>
                  <a:pt x="353" y="496"/>
                </a:cubicBezTo>
                <a:cubicBezTo>
                  <a:pt x="386" y="413"/>
                  <a:pt x="408" y="103"/>
                  <a:pt x="439" y="70"/>
                </a:cubicBezTo>
                <a:cubicBezTo>
                  <a:pt x="470" y="37"/>
                  <a:pt x="509" y="210"/>
                  <a:pt x="541" y="298"/>
                </a:cubicBezTo>
                <a:cubicBezTo>
                  <a:pt x="573" y="386"/>
                  <a:pt x="609" y="605"/>
                  <a:pt x="631" y="598"/>
                </a:cubicBezTo>
                <a:cubicBezTo>
                  <a:pt x="653" y="591"/>
                  <a:pt x="651" y="340"/>
                  <a:pt x="676" y="257"/>
                </a:cubicBezTo>
                <a:cubicBezTo>
                  <a:pt x="701" y="174"/>
                  <a:pt x="754" y="141"/>
                  <a:pt x="781" y="99"/>
                </a:cubicBezTo>
                <a:cubicBezTo>
                  <a:pt x="808" y="57"/>
                  <a:pt x="803" y="0"/>
                  <a:pt x="840" y="3"/>
                </a:cubicBezTo>
                <a:cubicBezTo>
                  <a:pt x="877" y="6"/>
                  <a:pt x="958" y="113"/>
                  <a:pt x="1001" y="117"/>
                </a:cubicBezTo>
                <a:cubicBezTo>
                  <a:pt x="1044" y="121"/>
                  <a:pt x="1062" y="27"/>
                  <a:pt x="1096" y="28"/>
                </a:cubicBezTo>
                <a:cubicBezTo>
                  <a:pt x="1130" y="29"/>
                  <a:pt x="1167" y="107"/>
                  <a:pt x="1203" y="123"/>
                </a:cubicBezTo>
                <a:cubicBezTo>
                  <a:pt x="1239" y="139"/>
                  <a:pt x="1282" y="85"/>
                  <a:pt x="1310" y="123"/>
                </a:cubicBezTo>
                <a:cubicBezTo>
                  <a:pt x="1338" y="161"/>
                  <a:pt x="1346" y="278"/>
                  <a:pt x="1370" y="349"/>
                </a:cubicBezTo>
                <a:cubicBezTo>
                  <a:pt x="1394" y="420"/>
                  <a:pt x="1413" y="504"/>
                  <a:pt x="1453" y="550"/>
                </a:cubicBezTo>
                <a:cubicBezTo>
                  <a:pt x="1493" y="596"/>
                  <a:pt x="1558" y="601"/>
                  <a:pt x="1607" y="628"/>
                </a:cubicBezTo>
                <a:cubicBezTo>
                  <a:pt x="1656" y="655"/>
                  <a:pt x="1709" y="673"/>
                  <a:pt x="1744" y="711"/>
                </a:cubicBezTo>
                <a:cubicBezTo>
                  <a:pt x="1779" y="749"/>
                  <a:pt x="1800" y="828"/>
                  <a:pt x="1815" y="8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457200" y="4508640"/>
          <a:ext cx="8291520" cy="2076480"/>
        </p:xfrm>
        <a:graphic>
          <a:graphicData uri="http://schemas.openxmlformats.org/drawingml/2006/table">
            <a:tbl>
              <a:tblPr/>
              <a:tblGrid>
                <a:gridCol w="1658880"/>
                <a:gridCol w="1657440"/>
                <a:gridCol w="1658880"/>
                <a:gridCol w="1657440"/>
                <a:gridCol w="16588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3" name=""/>
          <p:cNvSpPr/>
          <p:nvPr/>
        </p:nvSpPr>
        <p:spPr>
          <a:xfrm>
            <a:off x="900000" y="3860640"/>
            <a:ext cx="216000" cy="12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1115640" y="3860640"/>
            <a:ext cx="2303640" cy="165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987640" y="3429000"/>
            <a:ext cx="1152720" cy="1728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2895480" y="3429000"/>
            <a:ext cx="3743280" cy="2087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195640" y="2997360"/>
            <a:ext cx="2376360" cy="21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4572000" y="2997360"/>
            <a:ext cx="295272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8244000" y="357336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956720" y="3933720"/>
            <a:ext cx="576000" cy="1150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158840" y="356400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rot="16200000">
            <a:off x="727920" y="3139200"/>
            <a:ext cx="217440" cy="594000"/>
          </a:xfrm>
          <a:custGeom>
            <a:avLst/>
            <a:gdLst>
              <a:gd name="textAreaLeft" fmla="*/ 0 w 217440"/>
              <a:gd name="textAreaRight" fmla="*/ 78480 w 217440"/>
              <a:gd name="textAreaTop" fmla="*/ 15480 h 594000"/>
              <a:gd name="textAreaBottom" fmla="*/ 578520 h 59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219320" y="3701880"/>
            <a:ext cx="104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06600" y="30351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808440" y="359712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rot="16200000">
            <a:off x="3377160" y="3172320"/>
            <a:ext cx="217800" cy="593640"/>
          </a:xfrm>
          <a:custGeom>
            <a:avLst/>
            <a:gdLst>
              <a:gd name="textAreaLeft" fmla="*/ 0 w 217800"/>
              <a:gd name="textAreaRight" fmla="*/ 78480 w 217800"/>
              <a:gd name="textAreaTop" fmla="*/ 15480 h 593640"/>
              <a:gd name="textAreaBottom" fmla="*/ 57816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868560" y="373536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227400" y="306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85640" y="4029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066680" y="3533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666800" y="2990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448000" y="30002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162240" y="4067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733920" y="3514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295880" y="3038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477120" y="3429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04844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8487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210520" y="3543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877248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D13F-08BF-439D-BC95-962EE11D5B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748C-3B0E-4B60-953C-DA0227CEC3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4. Connec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57200" y="7621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condition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e of the vehicle speed at connection point is ±0.5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75 ± 0.5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ehicle speed at connection point is adjusted to average of connected two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the end of first segment: 74.8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the start of second segment: 75.2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connected point will be 75.0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the uncharacteristic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: “Acc. =&gt; Acc. or Cruise” or “Dec. =&gt; Dec. or Cruis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: “Acc. =&gt; Dec.” or “Dec. =&gt; Ac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809880" y="59436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648320" y="54097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46483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4648320" y="5943600"/>
            <a:ext cx="761760" cy="228600"/>
          </a:xfrm>
          <a:prstGeom prst="line">
            <a:avLst/>
          </a:prstGeom>
          <a:ln w="936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562720" y="5257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. =&gt;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562720" y="5638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ise =&gt;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5562720" y="6019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Dec.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=&gt; 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429000" y="5029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114800" y="57913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429000" y="647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 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495680" y="647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nd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486400" y="5029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552920" y="5257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657600" y="5592600"/>
            <a:ext cx="4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0BA3-6893-4392-8BE9-881B1F286A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Method to develop High-spe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" descr=""/>
          <p:cNvPicPr/>
          <p:nvPr/>
        </p:nvPicPr>
        <p:blipFill>
          <a:blip r:embed="rId1"/>
          <a:stretch/>
        </p:blipFill>
        <p:spPr>
          <a:xfrm>
            <a:off x="5553000" y="3606840"/>
            <a:ext cx="3438720" cy="258120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2"/>
          <a:stretch/>
        </p:blipFill>
        <p:spPr>
          <a:xfrm>
            <a:off x="1447920" y="483552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1540" name=""/>
          <p:cNvSpPr/>
          <p:nvPr/>
        </p:nvSpPr>
        <p:spPr>
          <a:xfrm>
            <a:off x="54000" y="1219320"/>
            <a:ext cx="9036000" cy="1726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46200" y="1241280"/>
            <a:ext cx="10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282920" y="124128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55640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3"/>
          <a:stretch/>
        </p:blipFill>
        <p:spPr>
          <a:xfrm>
            <a:off x="4953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4"/>
          <a:stretch/>
        </p:blipFill>
        <p:spPr>
          <a:xfrm>
            <a:off x="2276640" y="192420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46" name="" descr=""/>
          <p:cNvPicPr/>
          <p:nvPr/>
        </p:nvPicPr>
        <p:blipFill>
          <a:blip r:embed="rId5"/>
          <a:stretch/>
        </p:blipFill>
        <p:spPr>
          <a:xfrm>
            <a:off x="40575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6"/>
          <a:stretch/>
        </p:blipFill>
        <p:spPr>
          <a:xfrm>
            <a:off x="583884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8" name="" descr=""/>
          <p:cNvPicPr/>
          <p:nvPr/>
        </p:nvPicPr>
        <p:blipFill>
          <a:blip r:embed="rId7"/>
          <a:stretch/>
        </p:blipFill>
        <p:spPr>
          <a:xfrm>
            <a:off x="7621560" y="1924200"/>
            <a:ext cx="1324080" cy="106344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>
            <a:off x="2432160" y="12412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586728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2824200" y="8380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driv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600200" y="3149640"/>
            <a:ext cx="2362320" cy="533520"/>
          </a:xfrm>
          <a:prstGeom prst="downArrow">
            <a:avLst>
              <a:gd name="adj1" fmla="val 62102"/>
              <a:gd name="adj2" fmla="val 3184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162160" y="3149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86640" y="52484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chi-squar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5" name="" descr=""/>
          <p:cNvPicPr/>
          <p:nvPr/>
        </p:nvPicPr>
        <p:blipFill>
          <a:blip r:embed="rId8"/>
          <a:stretch/>
        </p:blipFill>
        <p:spPr>
          <a:xfrm>
            <a:off x="40176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56" name="" descr=""/>
          <p:cNvPicPr/>
          <p:nvPr/>
        </p:nvPicPr>
        <p:blipFill>
          <a:blip r:embed="rId9"/>
          <a:stretch/>
        </p:blipFill>
        <p:spPr>
          <a:xfrm>
            <a:off x="218268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10"/>
          <a:stretch/>
        </p:blipFill>
        <p:spPr>
          <a:xfrm>
            <a:off x="3963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11"/>
          <a:stretch/>
        </p:blipFill>
        <p:spPr>
          <a:xfrm>
            <a:off x="574524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12"/>
          <a:stretch/>
        </p:blipFill>
        <p:spPr>
          <a:xfrm>
            <a:off x="7527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13"/>
          <a:stretch/>
        </p:blipFill>
        <p:spPr>
          <a:xfrm>
            <a:off x="30780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14"/>
          <a:stretch/>
        </p:blipFill>
        <p:spPr>
          <a:xfrm>
            <a:off x="208908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/>
          <p:cNvPicPr/>
          <p:nvPr/>
        </p:nvPicPr>
        <p:blipFill>
          <a:blip r:embed="rId15"/>
          <a:stretch/>
        </p:blipFill>
        <p:spPr>
          <a:xfrm>
            <a:off x="387036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16"/>
          <a:stretch/>
        </p:blipFill>
        <p:spPr>
          <a:xfrm>
            <a:off x="565164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17"/>
          <a:stretch/>
        </p:blipFill>
        <p:spPr>
          <a:xfrm>
            <a:off x="743436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/>
          <p:cNvPicPr/>
          <p:nvPr/>
        </p:nvPicPr>
        <p:blipFill>
          <a:blip r:embed="rId18"/>
          <a:stretch/>
        </p:blipFill>
        <p:spPr>
          <a:xfrm>
            <a:off x="21420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19"/>
          <a:stretch/>
        </p:blipFill>
        <p:spPr>
          <a:xfrm>
            <a:off x="19954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7" name="" descr=""/>
          <p:cNvPicPr/>
          <p:nvPr/>
        </p:nvPicPr>
        <p:blipFill>
          <a:blip r:embed="rId20"/>
          <a:stretch/>
        </p:blipFill>
        <p:spPr>
          <a:xfrm>
            <a:off x="3776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1568" name="" descr=""/>
          <p:cNvPicPr/>
          <p:nvPr/>
        </p:nvPicPr>
        <p:blipFill>
          <a:blip r:embed="rId21"/>
          <a:stretch/>
        </p:blipFill>
        <p:spPr>
          <a:xfrm>
            <a:off x="55576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9" name="" descr=""/>
          <p:cNvPicPr/>
          <p:nvPr/>
        </p:nvPicPr>
        <p:blipFill>
          <a:blip r:embed="rId22"/>
          <a:stretch/>
        </p:blipFill>
        <p:spPr>
          <a:xfrm>
            <a:off x="7340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1570" name="" descr=""/>
          <p:cNvPicPr/>
          <p:nvPr/>
        </p:nvPicPr>
        <p:blipFill>
          <a:blip r:embed="rId23"/>
          <a:stretch/>
        </p:blipFill>
        <p:spPr>
          <a:xfrm>
            <a:off x="1270080" y="466884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24"/>
          <a:stretch/>
        </p:blipFill>
        <p:spPr>
          <a:xfrm>
            <a:off x="1092240" y="450216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2" name="" descr=""/>
          <p:cNvPicPr/>
          <p:nvPr/>
        </p:nvPicPr>
        <p:blipFill>
          <a:blip r:embed="rId25"/>
          <a:stretch/>
        </p:blipFill>
        <p:spPr>
          <a:xfrm>
            <a:off x="914400" y="433548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3" name="" descr=""/>
          <p:cNvPicPr/>
          <p:nvPr/>
        </p:nvPicPr>
        <p:blipFill>
          <a:blip r:embed="rId26"/>
          <a:stretch/>
        </p:blipFill>
        <p:spPr>
          <a:xfrm>
            <a:off x="736560" y="416880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4" name="" descr=""/>
          <p:cNvPicPr/>
          <p:nvPr/>
        </p:nvPicPr>
        <p:blipFill>
          <a:blip r:embed="rId27"/>
          <a:stretch/>
        </p:blipFill>
        <p:spPr>
          <a:xfrm>
            <a:off x="558720" y="400212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/>
          <p:cNvPicPr/>
          <p:nvPr/>
        </p:nvPicPr>
        <p:blipFill>
          <a:blip r:embed="rId28"/>
          <a:stretch/>
        </p:blipFill>
        <p:spPr>
          <a:xfrm>
            <a:off x="380880" y="383544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1576" name=""/>
          <p:cNvSpPr/>
          <p:nvPr/>
        </p:nvSpPr>
        <p:spPr>
          <a:xfrm flipV="1">
            <a:off x="4546440" y="4140360"/>
            <a:ext cx="1016280" cy="26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13920" y="6262560"/>
            <a:ext cx="85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he combination cycle with least chi-square value compared with unified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7BAE-AD2A-4339-BE64-0A9767B7EE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9AA6-BAD8-4655-8103-F7A0AF9B09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614840" y="83664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ing facto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7632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lected dat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28600" y="5445000"/>
            <a:ext cx="8686800" cy="108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xpected that the collected data volume in each matrix doesn’t match the weighting factor obtained based on vehicle statistic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Rectangle 5" descr=""/>
          <p:cNvPicPr/>
          <p:nvPr/>
        </p:nvPicPr>
        <p:blipFill>
          <a:blip r:embed="rId1"/>
          <a:stretch/>
        </p:blipFill>
        <p:spPr>
          <a:xfrm>
            <a:off x="4862520" y="1370160"/>
            <a:ext cx="4052880" cy="3889080"/>
          </a:xfrm>
          <a:prstGeom prst="rect">
            <a:avLst/>
          </a:prstGeom>
          <a:ln w="0">
            <a:noFill/>
          </a:ln>
        </p:spPr>
      </p:pic>
      <p:pic>
        <p:nvPicPr>
          <p:cNvPr id="1586" name="Rectangle 5" descr=""/>
          <p:cNvPicPr/>
          <p:nvPr/>
        </p:nvPicPr>
        <p:blipFill>
          <a:blip r:embed="rId2"/>
          <a:stretch/>
        </p:blipFill>
        <p:spPr>
          <a:xfrm>
            <a:off x="220680" y="1370160"/>
            <a:ext cx="4052880" cy="371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A08C-AEA8-49FA-B58A-721A367551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4863960" y="2822400"/>
            <a:ext cx="4015080" cy="28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144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45072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ensate the weighting factor of each matrix since the specific short trip is possible to move into different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95280" y="2205000"/>
            <a:ext cx="72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) Calculate the compensated weighting factor (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4932000" y="2822400"/>
            <a:ext cx="2613240" cy="626400"/>
            <a:chOff x="4932000" y="2822400"/>
            <a:chExt cx="2613240" cy="626400"/>
          </a:xfrm>
        </p:grpSpPr>
        <p:sp>
          <p:nvSpPr>
            <p:cNvPr id="1593" name=""/>
            <p:cNvSpPr/>
            <p:nvPr/>
          </p:nvSpPr>
          <p:spPr>
            <a:xfrm>
              <a:off x="4932000" y="2973240"/>
              <a:ext cx="1111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018480" y="31431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017040" y="307800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959800" y="28224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796080" y="296676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4923360" y="3398760"/>
            <a:ext cx="2621520" cy="632520"/>
            <a:chOff x="4923360" y="3398760"/>
            <a:chExt cx="2621520" cy="632520"/>
          </a:xfrm>
        </p:grpSpPr>
        <p:sp>
          <p:nvSpPr>
            <p:cNvPr id="1599" name=""/>
            <p:cNvSpPr/>
            <p:nvPr/>
          </p:nvSpPr>
          <p:spPr>
            <a:xfrm>
              <a:off x="4923360" y="3549600"/>
              <a:ext cx="1157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18120" y="372564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20640" y="366048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963760" y="339876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95720" y="354960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4923000" y="3994200"/>
            <a:ext cx="2622240" cy="626400"/>
            <a:chOff x="4923000" y="3994200"/>
            <a:chExt cx="2622240" cy="626400"/>
          </a:xfrm>
        </p:grpSpPr>
        <p:sp>
          <p:nvSpPr>
            <p:cNvPr id="1605" name=""/>
            <p:cNvSpPr/>
            <p:nvPr/>
          </p:nvSpPr>
          <p:spPr>
            <a:xfrm>
              <a:off x="4923000" y="4145040"/>
              <a:ext cx="1012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18480" y="43149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52320" y="424980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995080" y="39942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796080" y="413892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4882680" y="586584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quation will be applied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5315400" y="4749840"/>
            <a:ext cx="3512880" cy="867600"/>
            <a:chOff x="5315400" y="4749840"/>
            <a:chExt cx="3512880" cy="867600"/>
          </a:xfrm>
        </p:grpSpPr>
        <p:sp>
          <p:nvSpPr>
            <p:cNvPr id="1612" name=""/>
            <p:cNvSpPr/>
            <p:nvPr/>
          </p:nvSpPr>
          <p:spPr>
            <a:xfrm>
              <a:off x="6096240" y="5332320"/>
              <a:ext cx="689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85800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056640" y="524664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053400" y="50166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008480" y="524664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07040" y="501660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084520" y="524664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065080" y="50166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028280" y="5332320"/>
              <a:ext cx="765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067960" y="5332320"/>
              <a:ext cx="733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88652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315400" y="4921200"/>
              <a:ext cx="79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53400" y="474984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07040" y="474984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065080" y="474984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2136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95024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045480" y="5091120"/>
              <a:ext cx="2782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0" name=""/>
          <p:cNvSpPr/>
          <p:nvPr/>
        </p:nvSpPr>
        <p:spPr>
          <a:xfrm>
            <a:off x="5122440" y="4657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572000" y="2895480"/>
            <a:ext cx="216000" cy="532080"/>
          </a:xfrm>
          <a:custGeom>
            <a:avLst/>
            <a:gdLst>
              <a:gd name="textAreaLeft" fmla="*/ 0 w 216000"/>
              <a:gd name="textAreaRight" fmla="*/ 78120 w 216000"/>
              <a:gd name="textAreaTop" fmla="*/ 13680 h 532080"/>
              <a:gd name="textAreaBottom" fmla="*/ 51840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1"/>
          <a:stretch/>
        </p:blipFill>
        <p:spPr>
          <a:xfrm>
            <a:off x="506520" y="2708280"/>
            <a:ext cx="4052880" cy="39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631A-833B-4E68-81E1-21C2067254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50920" y="1085760"/>
            <a:ext cx="8642160" cy="516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collected data was converted into new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 weighting factor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e calculated as follow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 process will be done in each data collection C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2360520" y="2209680"/>
                <a:ext cx="4421160" cy="25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2F22-F651-45BF-89B6-09C797178B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838080"/>
            <a:ext cx="8534160" cy="29718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0059" t="32682" r="1661" b="6379"/>
          <a:stretch/>
        </p:blipFill>
        <p:spPr>
          <a:xfrm>
            <a:off x="2133720" y="4038480"/>
            <a:ext cx="4800600" cy="254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大韓民国（韓国）国旗"/>
          <p:cNvPicPr/>
          <p:nvPr/>
        </p:nvPicPr>
        <p:blipFill>
          <a:blip r:embed="rId2"/>
          <a:stretch/>
        </p:blipFill>
        <p:spPr>
          <a:xfrm>
            <a:off x="6095880" y="4876920"/>
            <a:ext cx="400320" cy="268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アメリカ合衆国（米国）国旗"/>
          <p:cNvPicPr/>
          <p:nvPr/>
        </p:nvPicPr>
        <p:blipFill>
          <a:blip r:embed="rId3"/>
          <a:stretch/>
        </p:blipFill>
        <p:spPr>
          <a:xfrm>
            <a:off x="2666880" y="4952880"/>
            <a:ext cx="400320" cy="268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欧州連合旗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4800600"/>
            <a:ext cx="399960" cy="266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日本国旗"/>
          <p:cNvPicPr/>
          <p:nvPr/>
        </p:nvPicPr>
        <p:blipFill>
          <a:blip r:embed="rId6"/>
          <a:stretch/>
        </p:blipFill>
        <p:spPr>
          <a:xfrm>
            <a:off x="6477120" y="4876920"/>
            <a:ext cx="399960" cy="268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中華人民共和国（中国）国旗"/>
          <p:cNvPicPr/>
          <p:nvPr/>
        </p:nvPicPr>
        <p:blipFill>
          <a:blip r:embed="rId7"/>
          <a:stretch/>
        </p:blipFill>
        <p:spPr>
          <a:xfrm>
            <a:off x="5791320" y="5141880"/>
            <a:ext cx="399960" cy="268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8380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world wide harmonized light duty test cycle, which will represent typical driving condi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282760"/>
            <a:ext cx="784872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methodology to develop the WLTC drive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LTC drive cycle will be developed based on combination of collected in-use data and suitable weighting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na, EU, India, Japan, South Kore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インド国旗"/>
          <p:cNvPicPr/>
          <p:nvPr/>
        </p:nvPicPr>
        <p:blipFill>
          <a:blip r:embed="rId8"/>
          <a:stretch/>
        </p:blipFill>
        <p:spPr>
          <a:xfrm>
            <a:off x="5410080" y="5410080"/>
            <a:ext cx="400320" cy="2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E1EF-3BC5-4AFF-9CA1-10B0543E76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12C1-1021-44BE-83E2-97206E3AC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4240" y="907920"/>
            <a:ext cx="5783040" cy="572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940360" y="907920"/>
            <a:ext cx="3095640" cy="496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571760" y="692280"/>
            <a:ext cx="28080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of DHC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084720" y="692280"/>
            <a:ext cx="280836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of DTP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5796000" y="5877000"/>
            <a:ext cx="33480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*) Rem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C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lopment of worldwid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onized light duty driving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P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lopment of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LTC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ldwide harmonize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ht duty driving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veral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9"/>
          <p:cNvSpPr/>
          <p:nvPr/>
        </p:nvSpPr>
        <p:spPr>
          <a:xfrm flipH="1">
            <a:off x="3098520" y="5124600"/>
            <a:ext cx="552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1"/>
          <p:cNvSpPr/>
          <p:nvPr/>
        </p:nvSpPr>
        <p:spPr>
          <a:xfrm>
            <a:off x="8686800" y="1447920"/>
            <a:ext cx="0" cy="36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075040" y="1117440"/>
            <a:ext cx="1800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Influencing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95640" y="1727280"/>
            <a:ext cx="180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ons of statistics on LD vehicles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79280" y="1727280"/>
            <a:ext cx="1800360" cy="4064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ons of In-use driv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95640" y="2273400"/>
            <a:ext cx="1800360" cy="39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eighting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075040" y="2760840"/>
            <a:ext cx="2039760" cy="6681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Datab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-categorization into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197080" y="3648240"/>
            <a:ext cx="1800360" cy="40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197080" y="423216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tests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01680" y="5369040"/>
            <a:ext cx="180000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ation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197080" y="536904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test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197080" y="6351480"/>
            <a:ext cx="1800360" cy="2541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20"/>
          <p:cNvCxnSpPr>
            <a:stCxn id="82" idx="2"/>
            <a:endCxn id="83" idx="0"/>
          </p:cNvCxnSpPr>
          <p:nvPr/>
        </p:nvCxnSpPr>
        <p:spPr>
          <a:xfrm flipH="1" rot="16200000">
            <a:off x="3833640" y="664560"/>
            <a:ext cx="204120" cy="1921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21"/>
          <p:cNvCxnSpPr>
            <a:stCxn id="82" idx="2"/>
            <a:endCxn id="84" idx="0"/>
          </p:cNvCxnSpPr>
          <p:nvPr/>
        </p:nvCxnSpPr>
        <p:spPr>
          <a:xfrm rot="5400000">
            <a:off x="1931040" y="671400"/>
            <a:ext cx="191520" cy="1896120"/>
          </a:xfrm>
          <a:prstGeom prst="bentConnector3">
            <a:avLst>
              <a:gd name="adj1" fmla="val 532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22"/>
          <p:cNvCxnSpPr>
            <a:stCxn id="86" idx="2"/>
            <a:endCxn id="87" idx="0"/>
          </p:cNvCxnSpPr>
          <p:nvPr/>
        </p:nvCxnSpPr>
        <p:spPr>
          <a:xfrm>
            <a:off x="3095640" y="3441600"/>
            <a:ext cx="2160" cy="2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23"/>
          <p:cNvCxnSpPr>
            <a:stCxn id="87" idx="2"/>
            <a:endCxn id="88" idx="0"/>
          </p:cNvCxnSpPr>
          <p:nvPr/>
        </p:nvCxnSpPr>
        <p:spPr>
          <a:xfrm>
            <a:off x="3096720" y="405432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24"/>
          <p:cNvCxnSpPr>
            <a:stCxn id="83" idx="2"/>
            <a:endCxn id="85" idx="0"/>
          </p:cNvCxnSpPr>
          <p:nvPr/>
        </p:nvCxnSpPr>
        <p:spPr>
          <a:xfrm>
            <a:off x="4895640" y="2133720"/>
            <a:ext cx="1080" cy="12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Text Box 29"/>
          <p:cNvSpPr/>
          <p:nvPr/>
        </p:nvSpPr>
        <p:spPr>
          <a:xfrm>
            <a:off x="179280" y="286560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shift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118040" y="5369040"/>
            <a:ext cx="167328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 robin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34"/>
          <p:cNvCxnSpPr>
            <a:stCxn id="84" idx="2"/>
            <a:endCxn id="86" idx="0"/>
          </p:cNvCxnSpPr>
          <p:nvPr/>
        </p:nvCxnSpPr>
        <p:spPr>
          <a:xfrm flipH="1" rot="16200000">
            <a:off x="1786680" y="1438560"/>
            <a:ext cx="602280" cy="2016720"/>
          </a:xfrm>
          <a:prstGeom prst="bentConnector3">
            <a:avLst>
              <a:gd name="adj1" fmla="val 543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35"/>
          <p:cNvCxnSpPr>
            <a:stCxn id="88" idx="2"/>
            <a:endCxn id="101" idx="0"/>
          </p:cNvCxnSpPr>
          <p:nvPr/>
        </p:nvCxnSpPr>
        <p:spPr>
          <a:xfrm>
            <a:off x="3096720" y="44859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36"/>
          <p:cNvCxnSpPr>
            <a:stCxn id="90" idx="2"/>
            <a:endCxn id="103" idx="0"/>
          </p:cNvCxnSpPr>
          <p:nvPr/>
        </p:nvCxnSpPr>
        <p:spPr>
          <a:xfrm flipH="1">
            <a:off x="3095280" y="5622840"/>
            <a:ext cx="216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37"/>
          <p:cNvCxnSpPr>
            <a:stCxn id="103" idx="2"/>
            <a:endCxn id="91" idx="0"/>
          </p:cNvCxnSpPr>
          <p:nvPr/>
        </p:nvCxnSpPr>
        <p:spPr>
          <a:xfrm>
            <a:off x="3095640" y="6237360"/>
            <a:ext cx="216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Line 38"/>
          <p:cNvSpPr/>
          <p:nvPr/>
        </p:nvSpPr>
        <p:spPr>
          <a:xfrm>
            <a:off x="1936800" y="3525840"/>
            <a:ext cx="114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41"/>
          <p:cNvCxnSpPr>
            <a:stCxn id="101" idx="2"/>
            <a:endCxn id="89" idx="0"/>
          </p:cNvCxnSpPr>
          <p:nvPr/>
        </p:nvCxnSpPr>
        <p:spPr>
          <a:xfrm rot="5400000">
            <a:off x="1958760" y="4231440"/>
            <a:ext cx="380160" cy="189612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42"/>
          <p:cNvCxnSpPr>
            <a:stCxn id="101" idx="2"/>
            <a:endCxn id="98" idx="0"/>
          </p:cNvCxnSpPr>
          <p:nvPr/>
        </p:nvCxnSpPr>
        <p:spPr>
          <a:xfrm flipH="1" rot="16200000">
            <a:off x="3836160" y="4250160"/>
            <a:ext cx="380160" cy="185832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43"/>
          <p:cNvCxnSpPr>
            <a:stCxn id="98" idx="2"/>
            <a:endCxn id="103" idx="0"/>
          </p:cNvCxnSpPr>
          <p:nvPr/>
        </p:nvCxnSpPr>
        <p:spPr>
          <a:xfrm rot="5400000">
            <a:off x="3897360" y="4820400"/>
            <a:ext cx="254880" cy="185976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44"/>
          <p:cNvCxnSpPr>
            <a:stCxn id="89" idx="2"/>
            <a:endCxn id="103" idx="0"/>
          </p:cNvCxnSpPr>
          <p:nvPr/>
        </p:nvCxnSpPr>
        <p:spPr>
          <a:xfrm flipH="1" rot="16200000">
            <a:off x="2020680" y="4802760"/>
            <a:ext cx="254880" cy="189468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45"/>
          <p:cNvCxnSpPr>
            <a:stCxn id="84" idx="2"/>
            <a:endCxn id="97" idx="0"/>
          </p:cNvCxnSpPr>
          <p:nvPr/>
        </p:nvCxnSpPr>
        <p:spPr>
          <a:xfrm>
            <a:off x="1079280" y="214632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46"/>
          <p:cNvCxnSpPr>
            <a:stCxn id="97" idx="2"/>
            <a:endCxn id="112" idx="0"/>
          </p:cNvCxnSpPr>
          <p:nvPr/>
        </p:nvCxnSpPr>
        <p:spPr>
          <a:xfrm>
            <a:off x="1079280" y="3119400"/>
            <a:ext cx="10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Text Box 50"/>
          <p:cNvSpPr/>
          <p:nvPr/>
        </p:nvSpPr>
        <p:spPr>
          <a:xfrm>
            <a:off x="2197080" y="462924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 trip &amp; gearshift po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3098880" y="5057640"/>
            <a:ext cx="15494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61"/>
          <p:cNvCxnSpPr>
            <a:stCxn id="85" idx="1"/>
            <a:endCxn id="86" idx="0"/>
          </p:cNvCxnSpPr>
          <p:nvPr/>
        </p:nvCxnSpPr>
        <p:spPr>
          <a:xfrm flipV="1" rot="10800000">
            <a:off x="3094920" y="2469240"/>
            <a:ext cx="888120" cy="278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Line 62"/>
          <p:cNvSpPr/>
          <p:nvPr/>
        </p:nvSpPr>
        <p:spPr>
          <a:xfrm flipV="1">
            <a:off x="4665600" y="40384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63"/>
          <p:cNvCxnSpPr>
            <a:stCxn id="115" idx="0"/>
            <a:endCxn id="117" idx="1"/>
          </p:cNvCxnSpPr>
          <p:nvPr/>
        </p:nvCxnSpPr>
        <p:spPr>
          <a:xfrm>
            <a:off x="4665600" y="4038120"/>
            <a:ext cx="3643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8" name="AutoShape 65"/>
          <p:cNvCxnSpPr>
            <a:stCxn id="101" idx="2"/>
            <a:endCxn id="90" idx="0"/>
          </p:cNvCxnSpPr>
          <p:nvPr/>
        </p:nvCxnSpPr>
        <p:spPr>
          <a:xfrm>
            <a:off x="3096720" y="4989600"/>
            <a:ext cx="10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19"/>
          <p:cNvSpPr/>
          <p:nvPr/>
        </p:nvSpPr>
        <p:spPr>
          <a:xfrm>
            <a:off x="179280" y="34290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shift pr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3666960"/>
            <a:ext cx="182880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/ Hot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 On -&gt; Vehicle take-o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2195640" y="5877000"/>
            <a:ext cx="18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ort trip &amp; gearshift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657840" y="13716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6657840" y="18414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-Lab.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657840" y="231156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Lab.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657840" y="278136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pollu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657840" y="325116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458200" y="14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582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58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582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337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from DTP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800440"/>
            <a:ext cx="17524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PCs / LDCV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Urban / Rural / Mot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Peak / Off peak / Week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Low / Middle /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331B-08C1-4659-9E82-5E9FE2FB4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Basic 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4572000"/>
            <a:ext cx="2592360" cy="113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4572000"/>
            <a:ext cx="6408720" cy="113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3080" y="5705640"/>
            <a:ext cx="6696000" cy="86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387600"/>
            <a:ext cx="6408720" cy="118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1600200"/>
            <a:ext cx="6408720" cy="178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602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test cycle is developed based on collected in-use data and weighting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43360" y="5751000"/>
            <a:ext cx="4184640" cy="817560"/>
            <a:chOff x="3843360" y="5751000"/>
            <a:chExt cx="4184640" cy="817560"/>
          </a:xfrm>
        </p:grpSpPr>
        <p:sp>
          <p:nvSpPr>
            <p:cNvPr id="139" name=""/>
            <p:cNvSpPr/>
            <p:nvPr/>
          </p:nvSpPr>
          <p:spPr>
            <a:xfrm flipV="1">
              <a:off x="3924360" y="5751000"/>
              <a:ext cx="0" cy="81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843360" y="6497280"/>
              <a:ext cx="418464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86280" y="635796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2280" y="6154560"/>
              <a:ext cx="398160" cy="354240"/>
            </a:xfrm>
            <a:custGeom>
              <a:avLst/>
              <a:gdLst/>
              <a:ahLst/>
              <a:rect l="l" t="t" r="r" b="b"/>
              <a:pathLst>
                <a:path w="251" h="223">
                  <a:moveTo>
                    <a:pt x="0" y="218"/>
                  </a:moveTo>
                  <a:cubicBezTo>
                    <a:pt x="6" y="201"/>
                    <a:pt x="20" y="133"/>
                    <a:pt x="35" y="118"/>
                  </a:cubicBezTo>
                  <a:cubicBezTo>
                    <a:pt x="50" y="103"/>
                    <a:pt x="76" y="136"/>
                    <a:pt x="91" y="128"/>
                  </a:cubicBezTo>
                  <a:cubicBezTo>
                    <a:pt x="106" y="120"/>
                    <a:pt x="110" y="88"/>
                    <a:pt x="124" y="70"/>
                  </a:cubicBezTo>
                  <a:cubicBezTo>
                    <a:pt x="138" y="52"/>
                    <a:pt x="161" y="0"/>
                    <a:pt x="178" y="17"/>
                  </a:cubicBezTo>
                  <a:cubicBezTo>
                    <a:pt x="195" y="34"/>
                    <a:pt x="215" y="139"/>
                    <a:pt x="227" y="173"/>
                  </a:cubicBezTo>
                  <a:cubicBezTo>
                    <a:pt x="239" y="207"/>
                    <a:pt x="246" y="213"/>
                    <a:pt x="251" y="22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94160" y="6165720"/>
              <a:ext cx="289080" cy="335160"/>
            </a:xfrm>
            <a:custGeom>
              <a:avLst/>
              <a:gdLst/>
              <a:ahLst/>
              <a:rect l="l" t="t" r="r" b="b"/>
              <a:pathLst>
                <a:path w="182" h="211">
                  <a:moveTo>
                    <a:pt x="0" y="211"/>
                  </a:moveTo>
                  <a:cubicBezTo>
                    <a:pt x="11" y="135"/>
                    <a:pt x="23" y="60"/>
                    <a:pt x="46" y="30"/>
                  </a:cubicBezTo>
                  <a:cubicBezTo>
                    <a:pt x="69" y="0"/>
                    <a:pt x="114" y="0"/>
                    <a:pt x="137" y="30"/>
                  </a:cubicBezTo>
                  <a:cubicBezTo>
                    <a:pt x="160" y="60"/>
                    <a:pt x="171" y="135"/>
                    <a:pt x="182" y="21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5080" y="5964120"/>
              <a:ext cx="565200" cy="534960"/>
            </a:xfrm>
            <a:custGeom>
              <a:avLst/>
              <a:gdLst/>
              <a:ahLst/>
              <a:rect l="l" t="t" r="r" b="b"/>
              <a:pathLst>
                <a:path w="356" h="337">
                  <a:moveTo>
                    <a:pt x="0" y="331"/>
                  </a:moveTo>
                  <a:cubicBezTo>
                    <a:pt x="5" y="312"/>
                    <a:pt x="12" y="245"/>
                    <a:pt x="29" y="220"/>
                  </a:cubicBezTo>
                  <a:cubicBezTo>
                    <a:pt x="46" y="195"/>
                    <a:pt x="75" y="214"/>
                    <a:pt x="100" y="179"/>
                  </a:cubicBezTo>
                  <a:cubicBezTo>
                    <a:pt x="125" y="144"/>
                    <a:pt x="154" y="24"/>
                    <a:pt x="178" y="12"/>
                  </a:cubicBezTo>
                  <a:cubicBezTo>
                    <a:pt x="202" y="0"/>
                    <a:pt x="219" y="77"/>
                    <a:pt x="243" y="107"/>
                  </a:cubicBezTo>
                  <a:cubicBezTo>
                    <a:pt x="267" y="137"/>
                    <a:pt x="305" y="163"/>
                    <a:pt x="320" y="190"/>
                  </a:cubicBezTo>
                  <a:cubicBezTo>
                    <a:pt x="335" y="217"/>
                    <a:pt x="326" y="244"/>
                    <a:pt x="332" y="268"/>
                  </a:cubicBezTo>
                  <a:cubicBezTo>
                    <a:pt x="338" y="292"/>
                    <a:pt x="351" y="323"/>
                    <a:pt x="356" y="33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34160" y="5788080"/>
              <a:ext cx="971640" cy="7207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442"/>
                  </a:moveTo>
                  <a:cubicBezTo>
                    <a:pt x="17" y="392"/>
                    <a:pt x="70" y="213"/>
                    <a:pt x="103" y="145"/>
                  </a:cubicBezTo>
                  <a:cubicBezTo>
                    <a:pt x="136" y="77"/>
                    <a:pt x="161" y="50"/>
                    <a:pt x="198" y="32"/>
                  </a:cubicBezTo>
                  <a:cubicBezTo>
                    <a:pt x="235" y="14"/>
                    <a:pt x="292" y="43"/>
                    <a:pt x="328" y="38"/>
                  </a:cubicBezTo>
                  <a:cubicBezTo>
                    <a:pt x="364" y="33"/>
                    <a:pt x="385" y="0"/>
                    <a:pt x="416" y="2"/>
                  </a:cubicBezTo>
                  <a:cubicBezTo>
                    <a:pt x="447" y="4"/>
                    <a:pt x="492" y="17"/>
                    <a:pt x="517" y="50"/>
                  </a:cubicBezTo>
                  <a:cubicBezTo>
                    <a:pt x="542" y="83"/>
                    <a:pt x="548" y="131"/>
                    <a:pt x="564" y="198"/>
                  </a:cubicBezTo>
                  <a:cubicBezTo>
                    <a:pt x="580" y="265"/>
                    <a:pt x="602" y="401"/>
                    <a:pt x="612" y="45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73800" y="6337080"/>
              <a:ext cx="289080" cy="144720"/>
            </a:xfrm>
            <a:custGeom>
              <a:avLst/>
              <a:gdLst/>
              <a:ahLst/>
              <a:rect l="l" t="t" r="r" b="b"/>
              <a:pathLst>
                <a:path w="182" h="91">
                  <a:moveTo>
                    <a:pt x="0" y="91"/>
                  </a:moveTo>
                  <a:cubicBezTo>
                    <a:pt x="8" y="82"/>
                    <a:pt x="26" y="53"/>
                    <a:pt x="49" y="39"/>
                  </a:cubicBezTo>
                  <a:cubicBezTo>
                    <a:pt x="72" y="25"/>
                    <a:pt x="116" y="0"/>
                    <a:pt x="138" y="9"/>
                  </a:cubicBezTo>
                  <a:cubicBezTo>
                    <a:pt x="160" y="18"/>
                    <a:pt x="173" y="74"/>
                    <a:pt x="182" y="9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7760" y="5817960"/>
              <a:ext cx="622440" cy="693720"/>
            </a:xfrm>
            <a:custGeom>
              <a:avLst/>
              <a:gdLst/>
              <a:ahLst/>
              <a:rect l="l" t="t" r="r" b="b"/>
              <a:pathLst>
                <a:path w="392" h="437">
                  <a:moveTo>
                    <a:pt x="0" y="437"/>
                  </a:moveTo>
                  <a:cubicBezTo>
                    <a:pt x="13" y="384"/>
                    <a:pt x="50" y="169"/>
                    <a:pt x="77" y="122"/>
                  </a:cubicBezTo>
                  <a:cubicBezTo>
                    <a:pt x="104" y="75"/>
                    <a:pt x="136" y="159"/>
                    <a:pt x="160" y="152"/>
                  </a:cubicBezTo>
                  <a:cubicBezTo>
                    <a:pt x="184" y="145"/>
                    <a:pt x="204" y="98"/>
                    <a:pt x="224" y="79"/>
                  </a:cubicBezTo>
                  <a:cubicBezTo>
                    <a:pt x="244" y="60"/>
                    <a:pt x="258" y="0"/>
                    <a:pt x="282" y="39"/>
                  </a:cubicBezTo>
                  <a:cubicBezTo>
                    <a:pt x="306" y="78"/>
                    <a:pt x="350" y="246"/>
                    <a:pt x="368" y="312"/>
                  </a:cubicBezTo>
                  <a:cubicBezTo>
                    <a:pt x="386" y="378"/>
                    <a:pt x="387" y="411"/>
                    <a:pt x="392" y="43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08000" y="3387600"/>
            <a:ext cx="2592360" cy="118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600200"/>
            <a:ext cx="2592360" cy="178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5705640"/>
            <a:ext cx="2592360" cy="86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1892160"/>
            <a:ext cx="255744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ing factor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use driving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20" y="6029280"/>
            <a:ext cx="25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test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24600" y="3417840"/>
            <a:ext cx="1193760" cy="111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2920" y="3513240"/>
            <a:ext cx="25574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unifi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-accele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4836960"/>
            <a:ext cx="2710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-squared base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parameter 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29240" y="4640400"/>
            <a:ext cx="409680" cy="384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429240" y="4995720"/>
            <a:ext cx="414360" cy="389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5400000">
            <a:off x="6347520" y="54385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6840" y="4722840"/>
            <a:ext cx="25923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the short trip combination and the unified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91480" y="341784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361600"/>
            <a:ext cx="914400" cy="1112760"/>
          </a:xfrm>
          <a:custGeom>
            <a:avLst/>
            <a:gdLst>
              <a:gd name="textAreaLeft" fmla="*/ 0 w 914400"/>
              <a:gd name="textAreaRight" fmla="*/ 914760 w 914400"/>
              <a:gd name="textAreaTop" fmla="*/ 0 h 1112760"/>
              <a:gd name="textAreaBottom" fmla="*/ 1112760 h 1112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3554"/>
                </a:lnTo>
                <a:lnTo>
                  <a:pt x="12801" y="3554"/>
                </a:lnTo>
                <a:lnTo>
                  <a:pt x="12801" y="8799"/>
                </a:lnTo>
                <a:lnTo>
                  <a:pt x="18046" y="8799"/>
                </a:lnTo>
                <a:lnTo>
                  <a:pt x="18046" y="6500"/>
                </a:lnTo>
                <a:lnTo>
                  <a:pt x="21600" y="10800"/>
                </a:lnTo>
                <a:lnTo>
                  <a:pt x="18046" y="15100"/>
                </a:lnTo>
                <a:lnTo>
                  <a:pt x="18046" y="12801"/>
                </a:lnTo>
                <a:lnTo>
                  <a:pt x="3554" y="12801"/>
                </a:lnTo>
                <a:lnTo>
                  <a:pt x="3554" y="15100"/>
                </a:lnTo>
                <a:lnTo>
                  <a:pt x="0" y="10800"/>
                </a:lnTo>
                <a:lnTo>
                  <a:pt x="3554" y="6500"/>
                </a:lnTo>
                <a:lnTo>
                  <a:pt x="3554" y="8799"/>
                </a:lnTo>
                <a:lnTo>
                  <a:pt x="8799" y="8799"/>
                </a:lnTo>
                <a:lnTo>
                  <a:pt x="8799" y="3554"/>
                </a:lnTo>
                <a:lnTo>
                  <a:pt x="6500" y="35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5283720" y="4543920"/>
            <a:ext cx="979560" cy="990720"/>
          </a:xfrm>
          <a:custGeom>
            <a:avLst/>
            <a:gdLst>
              <a:gd name="textAreaLeft" fmla="*/ 277560 w 979560"/>
              <a:gd name="textAreaRight" fmla="*/ 811440 w 979560"/>
              <a:gd name="textAreaTop" fmla="*/ 598680 h 990720"/>
              <a:gd name="textAreaBottom" fmla="*/ 8208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126" y="9340"/>
                </a:lnTo>
                <a:lnTo>
                  <a:pt x="6126" y="13051"/>
                </a:lnTo>
                <a:lnTo>
                  <a:pt x="13051" y="13051"/>
                </a:lnTo>
                <a:lnTo>
                  <a:pt x="13051" y="6126"/>
                </a:lnTo>
                <a:lnTo>
                  <a:pt x="9340" y="6126"/>
                </a:lnTo>
                <a:lnTo>
                  <a:pt x="15470" y="0"/>
                </a:lnTo>
                <a:lnTo>
                  <a:pt x="21600" y="6126"/>
                </a:lnTo>
                <a:lnTo>
                  <a:pt x="17889" y="6126"/>
                </a:lnTo>
                <a:lnTo>
                  <a:pt x="17889" y="17889"/>
                </a:lnTo>
                <a:lnTo>
                  <a:pt x="6126" y="17889"/>
                </a:lnTo>
                <a:lnTo>
                  <a:pt x="6126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29520" y="373392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tr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789280" y="2082960"/>
          <a:ext cx="2522520" cy="1101600"/>
        </p:xfrm>
        <a:graphic>
          <a:graphicData uri="http://schemas.openxmlformats.org/drawingml/2006/table">
            <a:tbl>
              <a:tblPr/>
              <a:tblGrid>
                <a:gridCol w="630360"/>
                <a:gridCol w="618840"/>
                <a:gridCol w="642960"/>
                <a:gridCol w="63036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151"/>
          <p:cNvSpPr/>
          <p:nvPr/>
        </p:nvSpPr>
        <p:spPr>
          <a:xfrm>
            <a:off x="2860560" y="17049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ing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318360" y="1876320"/>
          <a:ext cx="2663640" cy="1444680"/>
        </p:xfrm>
        <a:graphic>
          <a:graphicData uri="http://schemas.openxmlformats.org/drawingml/2006/table">
            <a:tbl>
              <a:tblPr/>
              <a:tblGrid>
                <a:gridCol w="668160"/>
                <a:gridCol w="665280"/>
                <a:gridCol w="665280"/>
                <a:gridCol w="664920"/>
              </a:tblGrid>
              <a:tr h="39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150"/>
          <p:cNvSpPr/>
          <p:nvPr/>
        </p:nvSpPr>
        <p:spPr>
          <a:xfrm>
            <a:off x="6327720" y="157176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use driving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0" descr=""/>
          <p:cNvPicPr/>
          <p:nvPr/>
        </p:nvPicPr>
        <p:blipFill>
          <a:blip r:embed="rId4"/>
          <a:stretch/>
        </p:blipFill>
        <p:spPr>
          <a:xfrm>
            <a:off x="7215120" y="260352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3" descr=""/>
          <p:cNvPicPr/>
          <p:nvPr/>
        </p:nvPicPr>
        <p:blipFill>
          <a:blip r:embed="rId5"/>
          <a:stretch/>
        </p:blipFill>
        <p:spPr>
          <a:xfrm>
            <a:off x="7215120" y="29494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4" descr=""/>
          <p:cNvPicPr/>
          <p:nvPr/>
        </p:nvPicPr>
        <p:blipFill>
          <a:blip r:embed="rId6"/>
          <a:stretch/>
        </p:blipFill>
        <p:spPr>
          <a:xfrm>
            <a:off x="7835760" y="295128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88" descr=""/>
          <p:cNvPicPr/>
          <p:nvPr/>
        </p:nvPicPr>
        <p:blipFill>
          <a:blip r:embed="rId7"/>
          <a:stretch/>
        </p:blipFill>
        <p:spPr>
          <a:xfrm>
            <a:off x="7215120" y="226224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0" descr=""/>
          <p:cNvPicPr/>
          <p:nvPr/>
        </p:nvPicPr>
        <p:blipFill>
          <a:blip r:embed="rId8"/>
          <a:stretch/>
        </p:blipFill>
        <p:spPr>
          <a:xfrm>
            <a:off x="8485200" y="26020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2" descr=""/>
          <p:cNvPicPr/>
          <p:nvPr/>
        </p:nvPicPr>
        <p:blipFill>
          <a:blip r:embed="rId9"/>
          <a:stretch/>
        </p:blipFill>
        <p:spPr>
          <a:xfrm>
            <a:off x="7837560" y="22622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3" descr=""/>
          <p:cNvPicPr/>
          <p:nvPr/>
        </p:nvPicPr>
        <p:blipFill>
          <a:blip r:embed="rId10"/>
          <a:stretch/>
        </p:blipFill>
        <p:spPr>
          <a:xfrm>
            <a:off x="7834320" y="26020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4" descr=""/>
          <p:cNvPicPr/>
          <p:nvPr/>
        </p:nvPicPr>
        <p:blipFill>
          <a:blip r:embed="rId11"/>
          <a:stretch/>
        </p:blipFill>
        <p:spPr>
          <a:xfrm>
            <a:off x="8486640" y="226368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6" descr=""/>
          <p:cNvPicPr/>
          <p:nvPr/>
        </p:nvPicPr>
        <p:blipFill>
          <a:blip r:embed="rId12"/>
          <a:stretch/>
        </p:blipFill>
        <p:spPr>
          <a:xfrm>
            <a:off x="8486640" y="295128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6" descr=""/>
          <p:cNvPicPr/>
          <p:nvPr/>
        </p:nvPicPr>
        <p:blipFill>
          <a:blip r:embed="rId13"/>
          <a:stretch/>
        </p:blipFill>
        <p:spPr>
          <a:xfrm>
            <a:off x="7174080" y="2629080"/>
            <a:ext cx="388800" cy="293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7" descr=""/>
          <p:cNvPicPr/>
          <p:nvPr/>
        </p:nvPicPr>
        <p:blipFill>
          <a:blip r:embed="rId14"/>
          <a:stretch/>
        </p:blipFill>
        <p:spPr>
          <a:xfrm>
            <a:off x="7174080" y="297504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58" descr=""/>
          <p:cNvPicPr/>
          <p:nvPr/>
        </p:nvPicPr>
        <p:blipFill>
          <a:blip r:embed="rId15"/>
          <a:stretch/>
        </p:blipFill>
        <p:spPr>
          <a:xfrm>
            <a:off x="7794720" y="297648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9" descr=""/>
          <p:cNvPicPr/>
          <p:nvPr/>
        </p:nvPicPr>
        <p:blipFill>
          <a:blip r:embed="rId16"/>
          <a:stretch/>
        </p:blipFill>
        <p:spPr>
          <a:xfrm>
            <a:off x="7174080" y="228744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0" descr=""/>
          <p:cNvPicPr/>
          <p:nvPr/>
        </p:nvPicPr>
        <p:blipFill>
          <a:blip r:embed="rId17"/>
          <a:stretch/>
        </p:blipFill>
        <p:spPr>
          <a:xfrm>
            <a:off x="8443800" y="26272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61" descr=""/>
          <p:cNvPicPr/>
          <p:nvPr/>
        </p:nvPicPr>
        <p:blipFill>
          <a:blip r:embed="rId18"/>
          <a:stretch/>
        </p:blipFill>
        <p:spPr>
          <a:xfrm>
            <a:off x="7796160" y="228744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2" descr=""/>
          <p:cNvPicPr/>
          <p:nvPr/>
        </p:nvPicPr>
        <p:blipFill>
          <a:blip r:embed="rId19"/>
          <a:stretch/>
        </p:blipFill>
        <p:spPr>
          <a:xfrm>
            <a:off x="7792920" y="26272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3" descr=""/>
          <p:cNvPicPr/>
          <p:nvPr/>
        </p:nvPicPr>
        <p:blipFill>
          <a:blip r:embed="rId20"/>
          <a:stretch/>
        </p:blipFill>
        <p:spPr>
          <a:xfrm>
            <a:off x="8445600" y="22892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4" descr=""/>
          <p:cNvPicPr/>
          <p:nvPr/>
        </p:nvPicPr>
        <p:blipFill>
          <a:blip r:embed="rId21"/>
          <a:stretch/>
        </p:blipFill>
        <p:spPr>
          <a:xfrm>
            <a:off x="8445600" y="297648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5" descr=""/>
          <p:cNvPicPr/>
          <p:nvPr/>
        </p:nvPicPr>
        <p:blipFill>
          <a:blip r:embed="rId22"/>
          <a:stretch/>
        </p:blipFill>
        <p:spPr>
          <a:xfrm>
            <a:off x="7115040" y="264168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6" descr=""/>
          <p:cNvPicPr/>
          <p:nvPr/>
        </p:nvPicPr>
        <p:blipFill>
          <a:blip r:embed="rId23"/>
          <a:stretch/>
        </p:blipFill>
        <p:spPr>
          <a:xfrm>
            <a:off x="7115040" y="298764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7" descr=""/>
          <p:cNvPicPr/>
          <p:nvPr/>
        </p:nvPicPr>
        <p:blipFill>
          <a:blip r:embed="rId24"/>
          <a:stretch/>
        </p:blipFill>
        <p:spPr>
          <a:xfrm>
            <a:off x="7736040" y="2989440"/>
            <a:ext cx="392040" cy="293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68" descr=""/>
          <p:cNvPicPr/>
          <p:nvPr/>
        </p:nvPicPr>
        <p:blipFill>
          <a:blip r:embed="rId25"/>
          <a:stretch/>
        </p:blipFill>
        <p:spPr>
          <a:xfrm>
            <a:off x="7115040" y="230040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9" descr=""/>
          <p:cNvPicPr/>
          <p:nvPr/>
        </p:nvPicPr>
        <p:blipFill>
          <a:blip r:embed="rId26"/>
          <a:stretch/>
        </p:blipFill>
        <p:spPr>
          <a:xfrm>
            <a:off x="8385120" y="26398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0" descr=""/>
          <p:cNvPicPr/>
          <p:nvPr/>
        </p:nvPicPr>
        <p:blipFill>
          <a:blip r:embed="rId27"/>
          <a:stretch/>
        </p:blipFill>
        <p:spPr>
          <a:xfrm>
            <a:off x="7737480" y="2300400"/>
            <a:ext cx="388800" cy="29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1" descr=""/>
          <p:cNvPicPr/>
          <p:nvPr/>
        </p:nvPicPr>
        <p:blipFill>
          <a:blip r:embed="rId28"/>
          <a:stretch/>
        </p:blipFill>
        <p:spPr>
          <a:xfrm>
            <a:off x="7734240" y="26398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2" descr=""/>
          <p:cNvPicPr/>
          <p:nvPr/>
        </p:nvPicPr>
        <p:blipFill>
          <a:blip r:embed="rId29"/>
          <a:stretch/>
        </p:blipFill>
        <p:spPr>
          <a:xfrm>
            <a:off x="8386920" y="23018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3" descr=""/>
          <p:cNvPicPr/>
          <p:nvPr/>
        </p:nvPicPr>
        <p:blipFill>
          <a:blip r:embed="rId30"/>
          <a:stretch/>
        </p:blipFill>
        <p:spPr>
          <a:xfrm>
            <a:off x="8386920" y="2989440"/>
            <a:ext cx="392040" cy="2934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7094520" y="4663800"/>
            <a:ext cx="1592280" cy="385560"/>
            <a:chOff x="7094520" y="4663800"/>
            <a:chExt cx="1592280" cy="385560"/>
          </a:xfrm>
        </p:grpSpPr>
        <p:sp>
          <p:nvSpPr>
            <p:cNvPr id="196" name=""/>
            <p:cNvSpPr/>
            <p:nvPr/>
          </p:nvSpPr>
          <p:spPr>
            <a:xfrm flipV="1">
              <a:off x="7127640" y="4663800"/>
              <a:ext cx="0" cy="385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094520" y="5016240"/>
              <a:ext cx="159228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7640" y="4949640"/>
              <a:ext cx="60480" cy="680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2800" y="4854240"/>
              <a:ext cx="165240" cy="166320"/>
            </a:xfrm>
            <a:custGeom>
              <a:avLst/>
              <a:gdLst/>
              <a:ahLst/>
              <a:rect l="l" t="t" r="r" b="b"/>
              <a:pathLst>
                <a:path w="251" h="223">
                  <a:moveTo>
                    <a:pt x="0" y="218"/>
                  </a:moveTo>
                  <a:cubicBezTo>
                    <a:pt x="6" y="201"/>
                    <a:pt x="20" y="133"/>
                    <a:pt x="35" y="118"/>
                  </a:cubicBezTo>
                  <a:cubicBezTo>
                    <a:pt x="50" y="103"/>
                    <a:pt x="76" y="136"/>
                    <a:pt x="91" y="128"/>
                  </a:cubicBezTo>
                  <a:cubicBezTo>
                    <a:pt x="106" y="120"/>
                    <a:pt x="110" y="88"/>
                    <a:pt x="124" y="70"/>
                  </a:cubicBezTo>
                  <a:cubicBezTo>
                    <a:pt x="138" y="52"/>
                    <a:pt x="161" y="0"/>
                    <a:pt x="178" y="17"/>
                  </a:cubicBezTo>
                  <a:cubicBezTo>
                    <a:pt x="195" y="34"/>
                    <a:pt x="215" y="139"/>
                    <a:pt x="227" y="173"/>
                  </a:cubicBezTo>
                  <a:cubicBezTo>
                    <a:pt x="239" y="207"/>
                    <a:pt x="246" y="213"/>
                    <a:pt x="251" y="223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11840" y="4859280"/>
              <a:ext cx="119160" cy="158400"/>
            </a:xfrm>
            <a:custGeom>
              <a:avLst/>
              <a:gdLst/>
              <a:ahLst/>
              <a:rect l="l" t="t" r="r" b="b"/>
              <a:pathLst>
                <a:path w="182" h="211">
                  <a:moveTo>
                    <a:pt x="0" y="211"/>
                  </a:moveTo>
                  <a:cubicBezTo>
                    <a:pt x="11" y="135"/>
                    <a:pt x="23" y="60"/>
                    <a:pt x="46" y="30"/>
                  </a:cubicBezTo>
                  <a:cubicBezTo>
                    <a:pt x="69" y="0"/>
                    <a:pt x="114" y="0"/>
                    <a:pt x="137" y="30"/>
                  </a:cubicBezTo>
                  <a:cubicBezTo>
                    <a:pt x="160" y="60"/>
                    <a:pt x="171" y="135"/>
                    <a:pt x="182" y="211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67400" y="4763880"/>
              <a:ext cx="233280" cy="252000"/>
            </a:xfrm>
            <a:custGeom>
              <a:avLst/>
              <a:gdLst/>
              <a:ahLst/>
              <a:rect l="l" t="t" r="r" b="b"/>
              <a:pathLst>
                <a:path w="356" h="337">
                  <a:moveTo>
                    <a:pt x="0" y="331"/>
                  </a:moveTo>
                  <a:cubicBezTo>
                    <a:pt x="5" y="312"/>
                    <a:pt x="12" y="245"/>
                    <a:pt x="29" y="220"/>
                  </a:cubicBezTo>
                  <a:cubicBezTo>
                    <a:pt x="46" y="195"/>
                    <a:pt x="75" y="214"/>
                    <a:pt x="100" y="179"/>
                  </a:cubicBezTo>
                  <a:cubicBezTo>
                    <a:pt x="125" y="144"/>
                    <a:pt x="154" y="24"/>
                    <a:pt x="178" y="12"/>
                  </a:cubicBezTo>
                  <a:cubicBezTo>
                    <a:pt x="202" y="0"/>
                    <a:pt x="219" y="77"/>
                    <a:pt x="243" y="107"/>
                  </a:cubicBezTo>
                  <a:cubicBezTo>
                    <a:pt x="267" y="137"/>
                    <a:pt x="305" y="163"/>
                    <a:pt x="320" y="190"/>
                  </a:cubicBezTo>
                  <a:cubicBezTo>
                    <a:pt x="335" y="217"/>
                    <a:pt x="326" y="244"/>
                    <a:pt x="332" y="268"/>
                  </a:cubicBezTo>
                  <a:cubicBezTo>
                    <a:pt x="338" y="292"/>
                    <a:pt x="351" y="323"/>
                    <a:pt x="356" y="33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48600" y="4681440"/>
              <a:ext cx="401400" cy="3391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442"/>
                  </a:moveTo>
                  <a:cubicBezTo>
                    <a:pt x="17" y="392"/>
                    <a:pt x="70" y="213"/>
                    <a:pt x="103" y="145"/>
                  </a:cubicBezTo>
                  <a:cubicBezTo>
                    <a:pt x="136" y="77"/>
                    <a:pt x="161" y="50"/>
                    <a:pt x="198" y="32"/>
                  </a:cubicBezTo>
                  <a:cubicBezTo>
                    <a:pt x="235" y="14"/>
                    <a:pt x="292" y="43"/>
                    <a:pt x="328" y="38"/>
                  </a:cubicBezTo>
                  <a:cubicBezTo>
                    <a:pt x="364" y="33"/>
                    <a:pt x="385" y="0"/>
                    <a:pt x="416" y="2"/>
                  </a:cubicBezTo>
                  <a:cubicBezTo>
                    <a:pt x="447" y="4"/>
                    <a:pt x="492" y="17"/>
                    <a:pt x="517" y="50"/>
                  </a:cubicBezTo>
                  <a:cubicBezTo>
                    <a:pt x="542" y="83"/>
                    <a:pt x="548" y="131"/>
                    <a:pt x="564" y="198"/>
                  </a:cubicBezTo>
                  <a:cubicBezTo>
                    <a:pt x="580" y="265"/>
                    <a:pt x="602" y="401"/>
                    <a:pt x="612" y="45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20080" y="4940280"/>
              <a:ext cx="118800" cy="67680"/>
            </a:xfrm>
            <a:custGeom>
              <a:avLst/>
              <a:gdLst/>
              <a:ahLst/>
              <a:rect l="l" t="t" r="r" b="b"/>
              <a:pathLst>
                <a:path w="182" h="91">
                  <a:moveTo>
                    <a:pt x="0" y="91"/>
                  </a:moveTo>
                  <a:cubicBezTo>
                    <a:pt x="8" y="82"/>
                    <a:pt x="26" y="53"/>
                    <a:pt x="49" y="39"/>
                  </a:cubicBezTo>
                  <a:cubicBezTo>
                    <a:pt x="72" y="25"/>
                    <a:pt x="116" y="0"/>
                    <a:pt x="138" y="9"/>
                  </a:cubicBezTo>
                  <a:cubicBezTo>
                    <a:pt x="160" y="18"/>
                    <a:pt x="173" y="74"/>
                    <a:pt x="182" y="91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42160" y="4695480"/>
              <a:ext cx="257040" cy="326880"/>
            </a:xfrm>
            <a:custGeom>
              <a:avLst/>
              <a:gdLst/>
              <a:ahLst/>
              <a:rect l="l" t="t" r="r" b="b"/>
              <a:pathLst>
                <a:path w="392" h="437">
                  <a:moveTo>
                    <a:pt x="0" y="437"/>
                  </a:moveTo>
                  <a:cubicBezTo>
                    <a:pt x="13" y="384"/>
                    <a:pt x="50" y="169"/>
                    <a:pt x="77" y="122"/>
                  </a:cubicBezTo>
                  <a:cubicBezTo>
                    <a:pt x="104" y="75"/>
                    <a:pt x="136" y="159"/>
                    <a:pt x="160" y="152"/>
                  </a:cubicBezTo>
                  <a:cubicBezTo>
                    <a:pt x="184" y="145"/>
                    <a:pt x="204" y="98"/>
                    <a:pt x="224" y="79"/>
                  </a:cubicBezTo>
                  <a:cubicBezTo>
                    <a:pt x="244" y="60"/>
                    <a:pt x="258" y="0"/>
                    <a:pt x="282" y="39"/>
                  </a:cubicBezTo>
                  <a:cubicBezTo>
                    <a:pt x="306" y="78"/>
                    <a:pt x="350" y="246"/>
                    <a:pt x="368" y="312"/>
                  </a:cubicBezTo>
                  <a:cubicBezTo>
                    <a:pt x="386" y="378"/>
                    <a:pt x="387" y="411"/>
                    <a:pt x="392" y="43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094520" y="5024160"/>
            <a:ext cx="1590480" cy="385560"/>
            <a:chOff x="7094520" y="5024160"/>
            <a:chExt cx="1590480" cy="385560"/>
          </a:xfrm>
        </p:grpSpPr>
        <p:sp>
          <p:nvSpPr>
            <p:cNvPr id="206" name=""/>
            <p:cNvSpPr/>
            <p:nvPr/>
          </p:nvSpPr>
          <p:spPr>
            <a:xfrm flipV="1">
              <a:off x="7127640" y="5024160"/>
              <a:ext cx="0" cy="38556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094520" y="5376600"/>
              <a:ext cx="1590480" cy="144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37360" y="5213160"/>
              <a:ext cx="60120" cy="1648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0" y="104"/>
                  </a:moveTo>
                  <a:cubicBezTo>
                    <a:pt x="3" y="87"/>
                    <a:pt x="12" y="0"/>
                    <a:pt x="18" y="0"/>
                  </a:cubicBezTo>
                  <a:cubicBezTo>
                    <a:pt x="24" y="0"/>
                    <a:pt x="34" y="82"/>
                    <a:pt x="38" y="104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11880" y="5173560"/>
              <a:ext cx="165240" cy="207360"/>
            </a:xfrm>
            <a:custGeom>
              <a:avLst/>
              <a:gdLst/>
              <a:ahLst/>
              <a:rect l="l" t="t" r="r" b="b"/>
              <a:pathLst>
                <a:path w="104" h="131">
                  <a:moveTo>
                    <a:pt x="0" y="129"/>
                  </a:moveTo>
                  <a:cubicBezTo>
                    <a:pt x="3" y="109"/>
                    <a:pt x="10" y="14"/>
                    <a:pt x="16" y="7"/>
                  </a:cubicBezTo>
                  <a:cubicBezTo>
                    <a:pt x="22" y="0"/>
                    <a:pt x="30" y="78"/>
                    <a:pt x="38" y="86"/>
                  </a:cubicBezTo>
                  <a:cubicBezTo>
                    <a:pt x="46" y="94"/>
                    <a:pt x="55" y="52"/>
                    <a:pt x="64" y="55"/>
                  </a:cubicBezTo>
                  <a:cubicBezTo>
                    <a:pt x="73" y="58"/>
                    <a:pt x="87" y="94"/>
                    <a:pt x="94" y="107"/>
                  </a:cubicBezTo>
                  <a:cubicBezTo>
                    <a:pt x="101" y="120"/>
                    <a:pt x="102" y="126"/>
                    <a:pt x="104" y="131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16880" y="5230440"/>
              <a:ext cx="11880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93"/>
                  </a:moveTo>
                  <a:cubicBezTo>
                    <a:pt x="5" y="57"/>
                    <a:pt x="12" y="14"/>
                    <a:pt x="19" y="7"/>
                  </a:cubicBezTo>
                  <a:cubicBezTo>
                    <a:pt x="26" y="0"/>
                    <a:pt x="34" y="35"/>
                    <a:pt x="43" y="49"/>
                  </a:cubicBezTo>
                  <a:cubicBezTo>
                    <a:pt x="52" y="63"/>
                    <a:pt x="68" y="84"/>
                    <a:pt x="75" y="93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77120" y="5073480"/>
              <a:ext cx="233280" cy="302760"/>
            </a:xfrm>
            <a:custGeom>
              <a:avLst/>
              <a:gdLst/>
              <a:ahLst/>
              <a:rect l="l" t="t" r="r" b="b"/>
              <a:pathLst>
                <a:path w="147" h="191">
                  <a:moveTo>
                    <a:pt x="0" y="188"/>
                  </a:moveTo>
                  <a:cubicBezTo>
                    <a:pt x="2" y="179"/>
                    <a:pt x="5" y="165"/>
                    <a:pt x="12" y="136"/>
                  </a:cubicBezTo>
                  <a:cubicBezTo>
                    <a:pt x="19" y="107"/>
                    <a:pt x="34" y="32"/>
                    <a:pt x="44" y="16"/>
                  </a:cubicBezTo>
                  <a:cubicBezTo>
                    <a:pt x="54" y="0"/>
                    <a:pt x="65" y="27"/>
                    <a:pt x="74" y="38"/>
                  </a:cubicBezTo>
                  <a:cubicBezTo>
                    <a:pt x="83" y="49"/>
                    <a:pt x="90" y="68"/>
                    <a:pt x="100" y="82"/>
                  </a:cubicBezTo>
                  <a:cubicBezTo>
                    <a:pt x="110" y="97"/>
                    <a:pt x="126" y="109"/>
                    <a:pt x="132" y="122"/>
                  </a:cubicBezTo>
                  <a:cubicBezTo>
                    <a:pt x="138" y="134"/>
                    <a:pt x="135" y="147"/>
                    <a:pt x="137" y="158"/>
                  </a:cubicBezTo>
                  <a:cubicBezTo>
                    <a:pt x="140" y="170"/>
                    <a:pt x="145" y="184"/>
                    <a:pt x="147" y="191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34200" y="5032080"/>
              <a:ext cx="401760" cy="348840"/>
            </a:xfrm>
            <a:custGeom>
              <a:avLst/>
              <a:gdLst/>
              <a:ahLst/>
              <a:rect l="l" t="t" r="r" b="b"/>
              <a:pathLst>
                <a:path w="253" h="220">
                  <a:moveTo>
                    <a:pt x="0" y="214"/>
                  </a:moveTo>
                  <a:cubicBezTo>
                    <a:pt x="7" y="199"/>
                    <a:pt x="27" y="158"/>
                    <a:pt x="41" y="126"/>
                  </a:cubicBezTo>
                  <a:cubicBezTo>
                    <a:pt x="55" y="94"/>
                    <a:pt x="67" y="30"/>
                    <a:pt x="82" y="21"/>
                  </a:cubicBezTo>
                  <a:cubicBezTo>
                    <a:pt x="97" y="12"/>
                    <a:pt x="116" y="74"/>
                    <a:pt x="131" y="72"/>
                  </a:cubicBezTo>
                  <a:cubicBezTo>
                    <a:pt x="146" y="70"/>
                    <a:pt x="158" y="14"/>
                    <a:pt x="172" y="7"/>
                  </a:cubicBezTo>
                  <a:cubicBezTo>
                    <a:pt x="186" y="0"/>
                    <a:pt x="203" y="14"/>
                    <a:pt x="214" y="30"/>
                  </a:cubicBezTo>
                  <a:cubicBezTo>
                    <a:pt x="224" y="45"/>
                    <a:pt x="227" y="68"/>
                    <a:pt x="233" y="99"/>
                  </a:cubicBezTo>
                  <a:cubicBezTo>
                    <a:pt x="240" y="131"/>
                    <a:pt x="249" y="195"/>
                    <a:pt x="253" y="220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05680" y="5168880"/>
              <a:ext cx="119160" cy="199440"/>
            </a:xfrm>
            <a:custGeom>
              <a:avLst/>
              <a:gdLst/>
              <a:ahLst/>
              <a:rect l="l" t="t" r="r" b="b"/>
              <a:pathLst>
                <a:path w="75" h="126">
                  <a:moveTo>
                    <a:pt x="0" y="126"/>
                  </a:moveTo>
                  <a:cubicBezTo>
                    <a:pt x="3" y="122"/>
                    <a:pt x="12" y="121"/>
                    <a:pt x="20" y="101"/>
                  </a:cubicBezTo>
                  <a:cubicBezTo>
                    <a:pt x="28" y="81"/>
                    <a:pt x="41" y="0"/>
                    <a:pt x="50" y="4"/>
                  </a:cubicBezTo>
                  <a:cubicBezTo>
                    <a:pt x="59" y="8"/>
                    <a:pt x="70" y="101"/>
                    <a:pt x="75" y="126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46840" y="5167080"/>
              <a:ext cx="257400" cy="21564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0" y="136"/>
                  </a:moveTo>
                  <a:cubicBezTo>
                    <a:pt x="4" y="124"/>
                    <a:pt x="16" y="87"/>
                    <a:pt x="27" y="65"/>
                  </a:cubicBezTo>
                  <a:cubicBezTo>
                    <a:pt x="38" y="43"/>
                    <a:pt x="52" y="4"/>
                    <a:pt x="66" y="2"/>
                  </a:cubicBezTo>
                  <a:cubicBezTo>
                    <a:pt x="80" y="0"/>
                    <a:pt x="97" y="40"/>
                    <a:pt x="111" y="53"/>
                  </a:cubicBezTo>
                  <a:cubicBezTo>
                    <a:pt x="125" y="66"/>
                    <a:pt x="144" y="63"/>
                    <a:pt x="152" y="77"/>
                  </a:cubicBezTo>
                  <a:cubicBezTo>
                    <a:pt x="160" y="91"/>
                    <a:pt x="160" y="124"/>
                    <a:pt x="162" y="136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rot="5400000">
            <a:off x="7638120" y="54385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C3EA-93A9-4F48-BF75-CF4D8BA7FD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Data collec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2082960"/>
          <a:ext cx="8686800" cy="3987720"/>
        </p:xfrm>
        <a:graphic>
          <a:graphicData uri="http://schemas.openxmlformats.org/drawingml/2006/table">
            <a:tbl>
              <a:tblPr/>
              <a:tblGrid>
                <a:gridCol w="868320"/>
                <a:gridCol w="868320"/>
                <a:gridCol w="870120"/>
                <a:gridCol w="868320"/>
                <a:gridCol w="868320"/>
                <a:gridCol w="868320"/>
                <a:gridCol w="868320"/>
                <a:gridCol w="870120"/>
                <a:gridCol w="868320"/>
                <a:gridCol w="86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84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3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104760" y="38052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(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-66240" y="5066640"/>
            <a:ext cx="140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 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(LDC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atrix is requirement for each in-use data collection CP, with consistency between weighting factors and collected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categorization is acceptable with consistency between weighting factors and collected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3597120"/>
            <a:ext cx="256392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605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luck of statistical information, annual driving distance in red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cceptable for data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744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20960" y="3597120"/>
            <a:ext cx="256392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2276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26280" y="3597120"/>
            <a:ext cx="256356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772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1D04-00C2-46B0-B5A3-B1F82107A2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95D1-7C45-4DA4-A5A5-E3EF640006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トヨタ自動車株式会社</cp:lastModifiedBy>
  <dcterms:modified xsi:type="dcterms:W3CDTF">2011-01-06T01:30:27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