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67F04-3C87-4453-967A-CC949533D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9D181-2CEB-4327-AB3B-EB2560A596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A320F-14CA-4FD3-A65E-E412403B2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0A07F2-E356-47CF-832E-244B278E62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87B4-3731-4902-B951-584070DEA5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2D6C-4045-429C-BB26-1DC56E808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E604F-D1F0-47CC-BFCF-BA23BED07A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06A9BCC-00AA-4553-82FF-0D250B07C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974801-EFA5-4953-90C4-B401D81D5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44961-A428-4AE5-BFD8-F9A1284A7F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08409-DBB0-406E-9E61-77EECBA40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BF193-96C2-4B94-B467-E487FB732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873F-284E-401F-8122-04B94C8D1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9FCCB-E0D7-4367-B9E8-EE2E1A1004F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22E461E4-AC37-4651-AE80-025AA91478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664E9F4-E790-44F6-B754-1B5485CE34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9BE5D92C-D6CD-442B-B046-E9F0931ED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41944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zed weighting factors </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regional weighting facto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5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BBCFB1D-CA14-4E9A-A93B-C741F34352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B5378F9-C7A7-4AC2-A009-9F6284096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69800" y="5448240"/>
            <a:ext cx="8344080" cy="1219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55472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30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107" name=""/>
          <p:cNvSpPr/>
          <p:nvPr/>
        </p:nvSpPr>
        <p:spPr>
          <a:xfrm>
            <a:off x="406440" y="4546440"/>
            <a:ext cx="2641680" cy="3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emission level, driving energy index, etc</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DA3C3F37-1163-4C19-8104-F795FF1CF7F3}"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Romain HUBERT</cp:lastModifiedBy>
  <dcterms:modified xsi:type="dcterms:W3CDTF">2011-01-07T09:48:22Z</dcterms:modified>
  <cp:revision>1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