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9B1B4-73E3-4038-B9AD-B4ED46B34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E0134-A43D-4A2E-88D0-79EB1045F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E4DDF-821F-4438-90FC-EBAE23DEE8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2F62A-118B-4FD9-B1D3-E3B53F1394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9EE1-CA57-4D87-A38C-42EC0DC02D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6411C-B8FE-4205-88F5-4D1A249B0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7C4CF-90DD-41BD-89DF-9110A82B7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A9426C6-E38B-42A1-A2D5-9FFC988D6C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DADC6E-E85C-438A-9F18-AE60530EC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01552-89C4-42B2-B6B2-7A205152C1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0208F-0C55-4018-ACB9-B675D078B2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5A6AC-CB0B-4DA6-A910-89FCB1A61F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A81E-30D6-41B6-83F6-CF3CC65B6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9E06C-4926-42E5-B61E-880A3229FB0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8CBFE37-4884-448C-B498-51A24CBDFE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44E978A0-9921-4CAD-8131-455DDF050B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3A6E55A3-619E-418E-B946-CE08B1E28A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35932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WF</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unique W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82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E70209D0-E571-4336-BBDB-07E78030A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81BA980-ECEB-49D8-8E2E-0498E1E4C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44600" y="5283360"/>
            <a:ext cx="834372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29876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83B3DFE4-3561-4957-A304-930CC0ECF997}"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トヨタ自動車株式会社</cp:lastModifiedBy>
  <dcterms:modified xsi:type="dcterms:W3CDTF">2011-01-06T09:43:09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