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83800" y="734760"/>
            <a:ext cx="490212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913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93117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marL="216000" indent="0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778200" y="93117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56F6B540-332B-4B88-90CA-A6AC8A81B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778200" y="93117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A691AA36-7EB9-4F73-B5FF-B595B04D4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93117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884160" y="735120"/>
            <a:ext cx="4902120" cy="36766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66360" y="4656240"/>
            <a:ext cx="533556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778200" y="93117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DFF74400-6CD8-4A5C-AD04-641325805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93117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84160" y="735120"/>
            <a:ext cx="4902120" cy="3676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6360" y="4656240"/>
            <a:ext cx="533556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8200" y="93117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56456474-6060-475F-A583-94F686904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3117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84160" y="735120"/>
            <a:ext cx="4902120" cy="36766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656240"/>
            <a:ext cx="533556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8200" y="93117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68E2EA5B-B765-4FD6-899D-61B79D852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3117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84160" y="735120"/>
            <a:ext cx="4902120" cy="36766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656240"/>
            <a:ext cx="533556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8200" y="93117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877D8E21-75F3-4E9C-B244-71B729F55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3117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84160" y="735120"/>
            <a:ext cx="4902120" cy="36766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6360" y="4656240"/>
            <a:ext cx="533556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E757-4928-4478-84E4-753E6109D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072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EE31-895D-4022-A73F-D0005D4C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07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07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D37F-2F3C-4D67-BB62-66BAFD7B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07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07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07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B587-BED9-4FB2-9A6C-7ADCE47A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07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0D7D-F35C-4C46-9F2A-6913B320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07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072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072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07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07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07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07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07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193F-DE47-4D97-9D37-849F3F24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F697-6FC8-4CB2-8D45-C30015DD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BAD5-10E7-48FE-8267-89B98832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04CE-C524-4931-A06E-D60EC87F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07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F6F6-8D5A-4C0A-9409-62F29A12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07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09A0-AF03-43D5-A764-B08143C6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072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2E38-72F8-45E8-91A3-7DFA26B8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668640"/>
            <a:ext cx="198108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5DE0-8A17-4FF4-88E6-4AC95CA82823}" type="datetime">
              <a:rPr b="0" lang="en-US" sz="8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668640"/>
            <a:ext cx="190512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92FB-AD5F-4A41-91D2-2B3AA92322A4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6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mailto:nikolaus.steininger@ec.europa.eu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nikolaus.steininger@ec.europa.eu" TargetMode="External"/><Relationship Id="rId2" Type="http://schemas.openxmlformats.org/officeDocument/2006/relationships/hyperlink" Target="mailto:sebastiaan.bleuanus@tno.nl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86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114800" y="123840"/>
            <a:ext cx="838080" cy="561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3520" y="8953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terprise and  Industry Directorate Gen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6858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uropean Com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2050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obile Air-conditioning (MAC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velopment of an Emission test proced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5516640"/>
            <a:ext cx="81518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ccff"/>
                </a:solidFill>
                <a:latin typeface="Arial"/>
              </a:rPr>
              <a:t>Nikolaus Stein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ccff"/>
                </a:solidFill>
                <a:latin typeface="Arial"/>
              </a:rPr>
              <a:t>Automotive Industry Un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ccff"/>
                </a:solidFill>
                <a:latin typeface="Arial"/>
              </a:rPr>
              <a:t>Enterprise and Industry Directorate-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ccff"/>
                </a:solidFill>
                <a:latin typeface="Arial"/>
              </a:rPr>
              <a:t>European Com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Nikolaus.steininger@ec.europa.e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C test procedure: why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459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ommunication of the Commission on the review of the Community Strategy to reduce CO2 emissions  from passenger cars and light-commercial vehicle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f 2 February 2007 =&gt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uro 5/6 Regulation 715/2007: pollutant emissions to be limite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nder normal conditions of us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e.g. use of MAC in “real driving” conditions) =&gt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mission has to prepare a regulatory proposal for the reduction of emissions from the use of MAC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asis of this proposal is a MAC test proced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3340-0DC4-4A7D-95DA-4310F85DCFC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B3EF1-3881-4ECE-8FB3-60C35248BEBF}" type="datetime1">
              <a:rPr lang="en-US"/>
              <a:t>07/31/26</a:t>
            </a:fld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C test procedure: object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820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st-effici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hould incentivise reduction of emissions resulting from MAC use in real driv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No “academic” exercise trying to provide the best possible accuracy for environmental impact of MAC u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Arial"/>
              </a:rPr>
              <a:t>But designed such that technical measures reducing/not-reducing “MAC emissions” established by the test procedure reduce/do-not-reduce “MAC emissions” in real driving =&gt; proper “ranking” of MAC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ffffff"/>
                </a:solidFill>
                <a:latin typeface="Arial"/>
              </a:rPr>
              <a:t>Encourages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“good and appropriate” technolog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uitability for “virtual testing”, which may be developed in parallel or at a latter stage (i.e. availability of virtual testing is no condition for future legislation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ssessment of the whole vehicle, including the impact of non-MAC components such as glazing or insulation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52F6-C5E1-4201-9276-CC504CD8746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5B7EA-AC99-452B-847C-222737D28EEA}" type="datetime1">
              <a:rPr lang="en-US"/>
              <a:t>07/31/26</a:t>
            </a:fld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C test procedure: state of pla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89996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nsortium of contractors led by TNO, including partners like TUG and the JRC, together with stakeholders has developed test procedure, report is available on UNECE websi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chievement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ompares MAC on/off fuel consump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an be run on “normal” chassis dyno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High reproducibility/repeatability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ain characteristic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Arial"/>
              </a:rPr>
              <a:t>No NEDC but constant speed cycle (e.g. idling, 50, 100 km/h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mbient temperature &lt; 30° 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olar load calculated based on glazing paramters and simulated by variation of interior temperature or MAC mass flo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esults mathematically corrected for “small” variations of actual test parameters (vehicle speed, ambient temperature/humidity, …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56C9-D4FE-4E7C-B7DD-7E24569AC36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5A4FFE-A4C0-4260-9F66-8377FE695A8E}" type="datetime1">
              <a:rPr lang="en-US"/>
              <a:t>07/31/26</a:t>
            </a:fld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C test procedure: next step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89996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pen test issues (a selectio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utlet vent or cabin temperature as test targe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e-conditioning (e.g. NEDC provisions)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est tolerance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umber of test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=&gt; </a:t>
            </a:r>
            <a:r>
              <a:rPr b="1" lang="fr-BE" sz="2400" spc="-1" strike="noStrike" u="sng">
                <a:solidFill>
                  <a:srgbClr val="ffffff"/>
                </a:solidFill>
                <a:uFillTx/>
                <a:latin typeface="Arial"/>
              </a:rPr>
              <a:t>Pilot test ph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Other issue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Future “electric” MAC: SOC of batter,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Credit for “low ambient temperature” (e.g. &lt; 15° C) MAC managemen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How to present results to the consumer 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12BE-78B6-4055-8F88-C76F2A8DB9F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CB26F6-76B4-4D1C-8D92-06D6AC237FAA}" type="datetime1">
              <a:rPr lang="en-US"/>
              <a:t>07/31/26</a:t>
            </a:fld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C test procedure: pilot phas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999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ulti-lab pilot phas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ssessment of feasibility, repeatability, reproducibility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fine open issu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ssessment of “proper” MAC ranking capability (?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Participation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Industry (e.g. vehicle manufacturers, supplier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Technical servi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Research institu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urope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International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=&gt; Test protocol to be made available on UNECE website, for participation please contact European Commission &amp; contractor: 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nikolaus.steininger@ec.europa.eu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&amp; 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sebastiaan.bleuanus@tno.nl</a:t>
            </a:r>
            <a:r>
              <a:rPr b="1" lang="fr-BE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6881-019C-4203-9AE7-256B33DBECF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1F166F-E660-4A10-8140-F9463EE91EBA}" type="datetime1">
              <a:rPr lang="en-US"/>
              <a:t>07/31/26</a:t>
            </a:fld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07:05:03Z</dcterms:created>
  <dc:creator>TEUGHKA</dc:creator>
  <dc:description/>
  <dc:language>en-US</dc:language>
  <cp:lastModifiedBy>steinni</cp:lastModifiedBy>
  <dcterms:modified xsi:type="dcterms:W3CDTF">2011-01-10T15:55:37Z</dcterms:modified>
  <cp:revision>18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54569354</vt:r8>
  </property>
  <property fmtid="{D5CDD505-2E9C-101B-9397-08002B2CF9AE}" pid="3" name="_AuthorEmail">
    <vt:lpwstr>hbietenb@ford.com</vt:lpwstr>
  </property>
  <property fmtid="{D5CDD505-2E9C-101B-9397-08002B2CF9AE}" pid="4" name="_AuthorEmailDisplayName">
    <vt:lpwstr>Bietenbeck, Hanns-Peter  (H.P.)</vt:lpwstr>
  </property>
  <property fmtid="{D5CDD505-2E9C-101B-9397-08002B2CF9AE}" pid="5" name="_EmailSubject">
    <vt:lpwstr>Dokument GRPE IG MACTP</vt:lpwstr>
  </property>
  <property fmtid="{D5CDD505-2E9C-101B-9397-08002B2CF9AE}" pid="6" name="_NewReviewCycle">
    <vt:lpwstr/>
  </property>
  <property fmtid="{D5CDD505-2E9C-101B-9397-08002B2CF9AE}" pid="7" name="_PreviousAdHocReviewCycleID">
    <vt:r8>-1915734235</vt:r8>
  </property>
</Properties>
</file>