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83800" y="734760"/>
            <a:ext cx="490212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91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7820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DB02D86-C00E-485D-A8C5-202005633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77820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94768D4-A751-4FF0-9E7E-6F7E0881B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8416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6360" y="4656240"/>
            <a:ext cx="533556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77820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A899619-9973-4F7A-A8BA-7CD657FFA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8416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656240"/>
            <a:ext cx="533556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820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A44EE80-2D52-4502-BC45-1666C8B85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8416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656240"/>
            <a:ext cx="533556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07E3169-6CA7-4D37-9581-B66691DE2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8416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656240"/>
            <a:ext cx="533556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57B2153-AC77-4666-815A-DEFEF8385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3117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84160" y="735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656240"/>
            <a:ext cx="533556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5DA-83E0-4BB9-8EDB-B835C844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A44-7F34-4573-BBDD-AD16EB44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66F-581B-4D3A-9386-8A89339D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C0D-DD6A-49D8-8D72-C79D52C3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148-B9FE-4AE8-AAA6-5E3B2BD9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3F5-158C-477B-B3FA-70FD0A56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E35-7928-41CF-A398-A9FD9119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1A2-4C69-4417-BE79-8F98A3D4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230-8CEC-4845-BA97-7E18D830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F8E-3A66-43E5-B11A-B84F8166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12B-7614-478C-AF9E-2EF39B09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319F-9F77-403B-BE9A-2C333564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68640"/>
            <a:ext cx="198108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669C-3DCF-4806-98D2-EAD7F92F558B}" type="datetime">
              <a:rPr b="0" lang="en-US" sz="8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68640"/>
            <a:ext cx="190512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24FD-9DC2-4A87-8DE8-D61AAF144212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6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nikolaus.steininger@ec.europa.eu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nikolaus.steininger@ec.europa.eu" TargetMode="External"/><Relationship Id="rId2" Type="http://schemas.openxmlformats.org/officeDocument/2006/relationships/hyperlink" Target="mailto:sebastiaan.bleuanus@tno.nl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6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114800" y="123840"/>
            <a:ext cx="838080" cy="561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8953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terprise and  Industry Directorate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68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uropean Com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05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bile Air-conditioning (MAC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velopment of an Emission test 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5516640"/>
            <a:ext cx="8151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Arial"/>
              </a:rPr>
              <a:t>Nikolaus Stein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Arial"/>
              </a:rPr>
              <a:t>Automotive Industry Un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Arial"/>
              </a:rPr>
              <a:t>Enterprise and Industry Directorate-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Arial"/>
              </a:rPr>
              <a:t>European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Nikolaus.steininger@ec.europa.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C test procedure: why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459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ommunication of the Commission on the review of the Community Strategy to reduce CO2 emissions  from passenger cars and light-commercial vehic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 2 February 2007 =&gt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ro 5/6 Regulation 715/2007: pollutant emissions to be limit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der normal conditions of u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e.g. use of MAC in “real driving” conditions) =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mission has to prepare a regulatory proposal for the reduction of emissions from the use of MAC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sis of this proposal is a MAC test proced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556-0351-4CED-9B48-80EF224456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AC868-0633-4A97-BF6C-1E888E4AF168}" type="datetime1">
              <a:rPr lang="en-US"/>
              <a:t>07/29/26</a:t>
            </a:fld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C test procedure: 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st-effic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hould incentivise reduction of emissions resulting from MAC use in real driv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No “academic” exercise trying to provide the best possible accuracy for environmental impact of MAC u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Arial"/>
              </a:rPr>
              <a:t>But designed such that technical measures reducing/not-reducing “MAC emissions” established by the test procedure reduce/do-not-reduce “MAC emissions” in real driving =&gt; proper “ranking” of MAC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ffffff"/>
                </a:solidFill>
                <a:latin typeface="Arial"/>
              </a:rPr>
              <a:t>Encourages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“good and appropriate” technolog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uitability for “virtual testing”, which may be developed in parallel or at a latter stage (i.e. availability of virtual testing is no condition for future legislation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sessment of the whole vehicle, including the impact of non-MAC components such as glazing or insulation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89D-A36E-457B-9095-28739A5256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30593-26BB-4AEE-A334-8208CC622008}" type="datetime1">
              <a:rPr lang="en-US"/>
              <a:t>07/29/26</a:t>
            </a:fld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C test procedure: state of pl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999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sortium of contractors led by TNO, including partners like TUG and the JRC, together with stakeholders has developed test procedure, report is available on UNECE webs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chievement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ompares MAC on/off fuel consum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n be run on “normal” chassis dyn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igh reproducibility/repeatabilit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in characteristic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No NEDC but constant speed cycle (e.g. idling, 50, 100 km/h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mbient temperature &lt; 30°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olar load calculated based on glazing paramters and simulated by variation of interior temperature or MAC mass flo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sults mathematically corrected for “small” variations of actual test parameters (vehicle speed, ambient temperature/humidity, …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4D7-8B9B-4627-B91C-9FFC4B73C3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232B5-F785-4185-B5BD-6279D4707D00}" type="datetime1">
              <a:rPr lang="en-US"/>
              <a:t>07/29/26</a:t>
            </a:fld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C test procedure: next ste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999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pen test issues (a selectio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utlet vent or cabin temperature as test targe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-conditioning (e.g. NEDC provisions)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est toleranc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of test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=&gt; </a:t>
            </a:r>
            <a:r>
              <a:rPr b="1" lang="fr-BE" sz="2400" spc="-1" strike="noStrike" u="sng">
                <a:solidFill>
                  <a:srgbClr val="ffffff"/>
                </a:solidFill>
                <a:uFillTx/>
                <a:latin typeface="Arial"/>
              </a:rPr>
              <a:t>Pilot test ph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ther issu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Future “electric” MAC: SOC of batter,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redit for “low ambient temperature” (e.g. &lt; 15° C) MAC managemen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How to present results to the consumer 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CF27-7226-434F-9213-7BDCF93B820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99C79-F6D0-4F71-BD5B-DB56F725D4F9}" type="datetime1">
              <a:rPr lang="en-US"/>
              <a:t>07/29/26</a:t>
            </a:fld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C test procedure: pilot pha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999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ulti-lab pilot phas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ssessment of feasibility, repeatability, reproducibilit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fine open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ssessment of “proper” MAC ranking capability (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articipati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Industry (e.g. vehicle manufacturers, supplier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Technical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search instit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urope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International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=&gt; Test protocol to be made available on UNECE website, for participation please contact European Commission &amp; contractor: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nikolaus.steininger@ec.europa.eu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&amp;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ebastiaan.bleuanus@tno.nl</a:t>
            </a:r>
            <a:r>
              <a:rPr b="1" lang="fr-BE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7B8-1DD7-4AEA-A42E-618BAE04B6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2DFEF-9D53-463E-A0EB-EE6237E15822}" type="datetime1">
              <a:rPr lang="en-US"/>
              <a:t>07/29/26</a:t>
            </a:fld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07:05:03Z</dcterms:created>
  <dc:creator>TEUGHKA</dc:creator>
  <dc:description/>
  <dc:language>en-US</dc:language>
  <cp:lastModifiedBy>steinni</cp:lastModifiedBy>
  <dcterms:modified xsi:type="dcterms:W3CDTF">2011-01-10T15:55:37Z</dcterms:modified>
  <cp:revision>18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54569354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Dokument GRPE IG MACTP</vt:lpwstr>
  </property>
  <property fmtid="{D5CDD505-2E9C-101B-9397-08002B2CF9AE}" pid="6" name="_NewReviewCycle">
    <vt:lpwstr/>
  </property>
  <property fmtid="{D5CDD505-2E9C-101B-9397-08002B2CF9AE}" pid="7" name="_PreviousAdHocReviewCycleID">
    <vt:r8>-1915734235</vt:r8>
  </property>
</Properties>
</file>