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0BFF-7012-4D6D-8F7C-9EF6666D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1E53-A611-457F-A115-FBD14030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C689-D0A8-4E24-B414-FC03CCFA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7DCC-BB6B-426A-9CFD-38FEBEA4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5CB-90F2-4192-ABFC-C9CB8424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9C9E-0D7F-4B65-88CA-748791E3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EAF-BB82-4EEA-8C25-87171E94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CDB8-3BA7-4E6A-853E-3B876077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DF75-8A95-4E76-8D60-EA6586D2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4E8-CCEE-462C-99F5-01F3EF62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45B0-C668-4F7A-8E3A-1FA22741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EED2-A24A-480B-ADE2-9BB312A1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5001-6BE0-4F7B-AFD6-594CF87D0FD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UN/ECE GRPE</a:t>
            </a:r>
            <a:br>
              <a:rPr sz="4000"/>
            </a:b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HD Hybrids Informal group</a:t>
            </a:r>
            <a:br>
              <a:rPr sz="4000"/>
            </a:b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Chairman’s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Geneva, 10 January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16240" y="218160"/>
            <a:ext cx="21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RPE/HDH-04-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rom Terms of Reference of the Informal Group on HD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objective of the informal group on HDH is to establish an amendment to Global Technical Regulation (gtr) no 4 (WHDC) with respect to pollutant emissions and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issions from heavy duty hybrids under the 1998 Global Agreemen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informal group will also consider if the scope of (gtr) no 4 is appropriate or if a separate gtr should be consid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group shall report to GRPE on its conclusions on this matter at the 6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ession of GRPE in January 201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cope of gtr no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.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is regulation applies to the measurement of the emission of gaseous and particulate pollutants from compression-ignition engines and positive-ignition engines fuelled with natural gas (NG) or liquefied petroleum gas (LPG), used for propelling motor vehicles of categories 1-2 and 2, having a design speed exceeding 25 km/h and having a maximum mass exceeding 3.5 ton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ILS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ims to provide an engine based test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missions is not covered by the scope of gtr no 4 but the measurement procedure also include 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the gtr n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ILS methodology might therefore be appropriate to put as an amendment to gtr no 4 but it might be premature to make the final decision at this st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other methods like chassi dyno testing of the vehicle should be included this will probably not fit into the scope of gtr n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posal to report to GR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at the HD Hybrid Informal group would like to work along the lines out lined in the Terms of Refer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at the HILS approach methodology is considered for an annex to gtr no 4 as the first option as drafted in the 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 report back to GRPE in the case the HD Hybrid Informal group at a later stage considers that the scope of gtr no 4 is not appropriat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4:56:33Z</dcterms:created>
  <dc:creator>Petter Asman</dc:creator>
  <dc:description/>
  <dc:language>en-US</dc:language>
  <cp:lastModifiedBy>Stein, Hans-Juergen (019)</cp:lastModifiedBy>
  <dcterms:modified xsi:type="dcterms:W3CDTF">2011-02-18T16:23:24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