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80A-09C0-4499-95BB-B85656FA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2D0-B706-48EC-BEAC-E8A53BCF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7E1-94E1-4AC9-9FCE-754478CD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AE9-DE62-4772-80B1-EA92F6FE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EE8-FE12-40F0-9202-27FD9BA4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987-0385-4BBB-8B59-5A43D766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140-5768-4779-BE7F-BB07148C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F19-F4B2-41ED-8EDB-061F13B5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1AA-EB48-4D20-ADE2-BA564B7C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F26-BECE-4283-982A-F4D9A519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8CD-63B7-4FDE-B81C-38330960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987-0A75-420A-A8A5-47414549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4871-575F-4B91-9701-A578DF5BD65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UN/ECE GRPE</a:t>
            </a:r>
            <a:br>
              <a:rPr sz="4000"/>
            </a:b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HD Hybrids Informal group</a:t>
            </a:r>
            <a:br>
              <a:rPr sz="4000"/>
            </a:b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Chairman’s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Geneva, 10 January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16240" y="218160"/>
            <a:ext cx="21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PE/HDH-04-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rom Terms of Reference of the Informal Group on HD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bjective of the informal group on HDH is to establish an amendment to Global Technical Regulation (gtr) no 4 (WHDC) with respect to pollutant emissions and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issions from heavy duty hybrids under the 1998 Global Agreemen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formal group will also consider if the scope of (gtr) no 4 is appropriate or if a separate gtr should be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roup shall report to GRPE on its conclusions on this matter at the 6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ssion of GRPE in January 20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ope of gtr n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.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is regulation applies to the measurement of the emission of gaseous and particulate pollutants from compression-ignition engines and positive-ignition engines fuelled with natural gas (NG) or liquefied petroleum gas (LPG), used for propelling motor vehicles of categories 1-2 and 2, having a design speed exceeding 25 km/h and having a maximum mass exceeding 3.5 ton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ILS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ms to provide an engine based test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missions is not covered by the scope of gtr no 4 but the measurement procedure also include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gtr n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ILS methodology might therefore be appropriate to put as an amendment to gtr no 4 but it might be premature to make the final decision at this st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other methods like chassi dyno testing of the vehicle should be included this will probably not fit into the scope of gtr n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osal to report to GR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at the HD Hybrid Informal group would like to work along the lines out lined in the Terms of Re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at the HILS approach methodology is considered for an annex to gtr no 4 as the first option as drafted in the 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 report back to GRPE in the case the HD Hybrid Informal group at a later stage considers that the scope of gtr no 4 is not appropria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4:56:33Z</dcterms:created>
  <dc:creator>Petter Asman</dc:creator>
  <dc:description/>
  <dc:language>en-US</dc:language>
  <cp:lastModifiedBy>Stein, Hans-Juergen (019)</cp:lastModifiedBy>
  <dcterms:modified xsi:type="dcterms:W3CDTF">2011-02-18T16:23:24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