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7618E-D27C-40FE-93D0-6CE2A1D11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F7F6-43A4-497C-8210-8E285350C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2569D-11E5-4AE8-9A5F-4B651777A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C1120-FC48-4214-9458-3095A55BE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3A1B-6BF3-4263-AAD1-964F87C8F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1ABB-3744-4CA6-A10E-5C30F2733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D37E9-9EF4-49B7-85FF-68F924D8D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12BFA-4235-460B-B850-C632AF84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CE128-BECB-4E44-AA67-973C45CE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DF85-F7E8-4B7A-B726-A67976E33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C62D-D9AB-4485-8BA5-CF24410B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D9EF3-CE57-4784-9F54-587DDB488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50920" y="6453000"/>
            <a:ext cx="1225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524280"/>
            <a:ext cx="2895840" cy="196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CE-GFV-DF-</a:t>
            </a: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24280"/>
            <a:ext cx="2133720" cy="196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EC0D-D8A3-4302-BC2D-4410ED700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 name=""/>
          <p:cNvGrpSpPr/>
          <p:nvPr/>
        </p:nvGrpSpPr>
        <p:grpSpPr>
          <a:xfrm>
            <a:off x="7848720" y="0"/>
            <a:ext cx="1295280" cy="1655640"/>
            <a:chOff x="7848720" y="0"/>
            <a:chExt cx="1295280" cy="1655640"/>
          </a:xfrm>
        </p:grpSpPr>
        <p:sp>
          <p:nvSpPr>
            <p:cNvPr id="6" name=""/>
            <p:cNvSpPr/>
            <p:nvPr/>
          </p:nvSpPr>
          <p:spPr>
            <a:xfrm>
              <a:off x="7848720" y="0"/>
              <a:ext cx="1295280" cy="1655640"/>
            </a:xfrm>
            <a:prstGeom prst="rect">
              <a:avLst/>
            </a:prstGeom>
            <a:solidFill>
              <a:srgbClr val="f0fdf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txBox="1"/>
            <p:nvPr/>
          </p:nvSpPr>
          <p:spPr>
            <a:xfrm rot="5400000">
              <a:off x="7791480" y="309600"/>
              <a:ext cx="1461240" cy="1036800"/>
            </a:xfrm>
            <a:prstGeom prst="rect">
              <a:avLst/>
            </a:prstGeom>
          </p:spPr>
          <p:txBody>
            <a:bodyPr wrap="none" lIns="90000" rIns="90000" tIns="46800" bIns="46800" anchor="t" anchorCtr="1" vert="eaVert">
              <a:prstTxWarp prst="textWave1">
                <a:avLst>
                  <a:gd name="adj1" fmla="val 838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Dual</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Fuels</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130120"/>
            <a:ext cx="842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DF power issues – draft proposals to GFV</a:t>
            </a:r>
            <a:br>
              <a:rPr sz="3200"/>
            </a:br>
            <a:r>
              <a:rPr b="0" lang="en-US" sz="3200" spc="-1" strike="noStrike">
                <a:solidFill>
                  <a:srgbClr val="009999"/>
                </a:solidFill>
                <a:latin typeface="Arial"/>
              </a:rPr>
              <a:t>outcome of the GFV meeting</a:t>
            </a:r>
            <a:endParaRPr b="0" lang="en-US" sz="32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amendments to R8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3677EE41-2CA5-4853-9BC8-0B1C31B4B09A}" type="slidenum">
              <a:t>1</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finitions</a:t>
            </a:r>
            <a:endParaRPr b="0" lang="en-US" sz="3200" spc="-1" strike="noStrike">
              <a:solidFill>
                <a:srgbClr val="000000"/>
              </a:solidFill>
              <a:latin typeface="Arial"/>
            </a:endParaRPr>
          </a:p>
        </p:txBody>
      </p:sp>
      <p:sp>
        <p:nvSpPr>
          <p:cNvPr id="4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 to definitions </a:t>
            </a:r>
            <a:r>
              <a:rPr b="0" lang="en-GB" sz="2800" spc="-1" strike="noStrike">
                <a:solidFill>
                  <a:srgbClr val="009999"/>
                </a:solidFill>
                <a:latin typeface="Arial"/>
              </a:rPr>
              <a:t>(definitions as agreed by GRPE in the R49 HDDF related annex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8 Heavy Duty Dual Fuel (HDDF) eng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9 Heavy Duty Dual Fuel (HDDF) vehi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py as appropriate the definitions from the R49 HDDF Annexes related to types and mod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044CA699-DE17-4BCB-A08E-60ACAE50E351}" type="slidenum">
              <a:t>2</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to be performed in case of an HDDF engine</a:t>
            </a:r>
            <a:endParaRPr b="0" lang="en-US" sz="2800" spc="-1" strike="noStrike">
              <a:solidFill>
                <a:srgbClr val="000000"/>
              </a:solidFill>
              <a:latin typeface="Arial"/>
            </a:endParaRPr>
          </a:p>
        </p:txBody>
      </p:sp>
      <p:sp>
        <p:nvSpPr>
          <p:cNvPr id="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 reads currentl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1. The net power test shall consist of a run at full throttle for positive-ignition engines and at fixed full-load fuel injection pump setting for diesel engines, the engine being equipped as specified in Table 1 of Annex 5 to this Regulation.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 shall be amended to rea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1. The net power test shall consist of a run at full-load, the engine being equipped as specified in Table 1 of Annex 5 to this Regulation.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5.2.1.1 In case of a HDDF Type 1B, HDDF Type2B, or HDDF Type 3, the test shall consist of a run on the Dual Fuel mode and of a run on the Diesel mode of that same engi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7BE29683-DE59-47E9-98AF-BE2CFE33D68E}" type="slidenum">
              <a:t>3</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fuels to be considered in case of a HDDF engine</a:t>
            </a:r>
            <a:endParaRPr b="0" lang="en-US" sz="2800" spc="-1" strike="noStrike">
              <a:solidFill>
                <a:srgbClr val="000000"/>
              </a:solidFill>
              <a:latin typeface="Arial"/>
            </a:endParaRPr>
          </a:p>
        </p:txBody>
      </p:sp>
      <p:sp>
        <p:nvSpPr>
          <p:cNvPr id="5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 in LPG ref fuel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ext to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2. For positive ignition engines fuelled with LPG: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amended and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2. For positive ignition engines and HDDF engines fuelled with LPG: </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 in NG ref fuel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ext to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3. For positive ignition engines fuelled with natural ga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amended and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2. For positive ignition engines and HDDF engines fuelled with natural gas:</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 in Diesel ref fuel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ext to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4. For compression ignition engines: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amended and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4. For compression ignition engines and </a:t>
            </a:r>
            <a:r>
              <a:rPr b="0" lang="en-US" sz="1600" spc="-1" strike="noStrike">
                <a:solidFill>
                  <a:srgbClr val="009999"/>
                </a:solidFill>
                <a:latin typeface="Arial"/>
              </a:rPr>
              <a:t>HDDF engin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D4CFDC13-2913-4F86-ABB1-C995B8811916}" type="slidenum">
              <a:t>4</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fuel in case of HDDF fuelled with LNG</a:t>
            </a:r>
            <a:endParaRPr b="0" lang="en-US" sz="2800" spc="-1" strike="noStrike">
              <a:solidFill>
                <a:srgbClr val="000000"/>
              </a:solidFill>
              <a:latin typeface="Arial"/>
            </a:endParaRPr>
          </a:p>
        </p:txBody>
      </p:sp>
      <p:sp>
        <p:nvSpPr>
          <p:cNvPr id="5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ection 5.2.3.3.5. to be renumbered 5.2.3.3.6.</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ection 5.2.3.3.4. to be renumbered 5.2.3.3.5.</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a new paragraph 5.2.3.3.4. to rea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3.3.4.  In the case of an engine labelled for one specific LNG fuel composition:   The fuel used shall be the fuel for which the engine is labelled. In case of dispute the fuel used shall be the reference fuel G</a:t>
            </a:r>
            <a:r>
              <a:rPr b="0" lang="en-US" sz="2400" spc="-1" strike="noStrike" baseline="-25000">
                <a:solidFill>
                  <a:srgbClr val="000000"/>
                </a:solidFill>
                <a:latin typeface="Arial"/>
              </a:rPr>
              <a:t>20</a:t>
            </a:r>
            <a:r>
              <a:rPr b="0" lang="en-US" sz="2400" spc="-1" strike="noStrike">
                <a:solidFill>
                  <a:srgbClr val="000000"/>
                </a:solidFill>
                <a:latin typeface="Arial"/>
              </a:rPr>
              <a:t> specified in Annex 8 if the engine is labelled LNG</a:t>
            </a:r>
            <a:r>
              <a:rPr b="0" lang="en-US" sz="2400" spc="-1" strike="noStrike" baseline="-25000">
                <a:solidFill>
                  <a:srgbClr val="000000"/>
                </a:solidFill>
                <a:latin typeface="Arial"/>
              </a:rPr>
              <a:t>20</a:t>
            </a:r>
            <a:r>
              <a:rPr b="0" lang="en-US" sz="2400" spc="-1" strike="noStrike">
                <a:solidFill>
                  <a:srgbClr val="000000"/>
                </a:solidFill>
                <a:latin typeface="Arial"/>
              </a:rPr>
              <a:t>, or the reference fuel G</a:t>
            </a:r>
            <a:r>
              <a:rPr b="0" lang="en-US" sz="2400" spc="-1" strike="noStrike" baseline="-25000">
                <a:solidFill>
                  <a:srgbClr val="000000"/>
                </a:solidFill>
                <a:latin typeface="Arial"/>
              </a:rPr>
              <a:t>R</a:t>
            </a:r>
            <a:r>
              <a:rPr b="0" lang="en-US" sz="2400" spc="-1" strike="noStrike">
                <a:solidFill>
                  <a:srgbClr val="000000"/>
                </a:solidFill>
                <a:latin typeface="Arial"/>
              </a:rPr>
              <a:t> if the engine is labelled LNG</a:t>
            </a:r>
            <a:r>
              <a:rPr b="0" lang="en-US" sz="2400" spc="-1" strike="noStrike" baseline="-25000">
                <a:solidFill>
                  <a:srgbClr val="000000"/>
                </a:solidFill>
                <a:latin typeface="Arial"/>
              </a:rPr>
              <a:t>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16523892-999C-4693-BE10-74A9AD39DFFA}" type="slidenum">
              <a:t>5</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to be performed in case of an HDDF engine</a:t>
            </a:r>
            <a:endParaRPr b="0" lang="en-US" sz="2800" spc="-1" strike="noStrike">
              <a:solidFill>
                <a:srgbClr val="000000"/>
              </a:solidFill>
              <a:latin typeface="Arial"/>
            </a:endParaRPr>
          </a:p>
        </p:txBody>
      </p:sp>
      <p:sp>
        <p:nvSpPr>
          <p:cNvPr id="5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3.5. Positive ignition engines of vehicles that can run either on petrol or on a gaseous fuel, are to be tested with both fuels, in accordance with the provisions in Paragraphs 5.2.3.1. to 5.2.3.3.  The vehicles that can be fuelled with both petrol and a gaseous fuel, but where the petrol system is fitted for emergency purposes or starting only and of which the petrol tank cannot contain more than 15 litres of petrol will be regarded for the test as vehicles that can only run a gaseous fu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5.2.3.6 to rea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3.6. Dual fuel engines or vehicles that are certified to run either on a dual fuel or on a Diesel mode (HDDF Type 1B, HDDF Type 2B, and HDDF Type 3) are to be tested with both fuels, in accordance with the provisions set in Paragraphs 5.2.3.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12091DCE-6319-40B5-99A9-F20663A2EC21}" type="slidenum">
              <a:t>6</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d power in case of a HDDF engine</a:t>
            </a:r>
            <a:endParaRPr b="0" lang="en-US" sz="3200" spc="-1" strike="noStrike">
              <a:solidFill>
                <a:srgbClr val="000000"/>
              </a:solidFill>
              <a:latin typeface="Arial"/>
            </a:endParaRPr>
          </a:p>
        </p:txBody>
      </p:sp>
      <p:sp>
        <p:nvSpPr>
          <p:cNvPr id="5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nterpretation of Resul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power and the maximum 30 minutes power for electric drive trains indicated by the manufacturer for the type of drive train shall be accepted if it does not differ by more than ± 2% for maximum power and more than ± 4% at the other measurement points on the curve with a tolerance of ± 2% for engine or motor speed, or within the engine or motor speed range (X1 min-1 + 2%) to (X2 min-1 -2%) (X1 &lt; X2) from the values measured by the technical service on the drive train submitted for testing.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a HDDF </a:t>
            </a:r>
            <a:r>
              <a:rPr b="0" lang="en-US" sz="2000" spc="-1" strike="noStrike">
                <a:solidFill>
                  <a:srgbClr val="009999"/>
                </a:solidFill>
                <a:latin typeface="Arial"/>
              </a:rPr>
              <a:t>engine</a:t>
            </a:r>
            <a:r>
              <a:rPr b="0" lang="en-US" sz="2000" spc="-1" strike="noStrike">
                <a:solidFill>
                  <a:srgbClr val="000000"/>
                </a:solidFill>
                <a:latin typeface="Arial"/>
              </a:rPr>
              <a:t>, the net power indicated by the manufacturer shall be the one measured on the dual fuel mode of that engi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E118A553-2C89-488F-BB5E-AE67B608CEDC}" type="slidenum">
              <a:t>7</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2T09:31:40Z</dcterms:created>
  <dc:creator>R078864</dc:creator>
  <dc:description/>
  <dc:language>en-US</dc:language>
  <cp:lastModifiedBy>Romain HUBERT</cp:lastModifiedBy>
  <dcterms:modified xsi:type="dcterms:W3CDTF">2011-05-30T07:59:30Z</dcterms:modified>
  <cp:revision>20</cp:revision>
  <dc:subject/>
  <dc:title>Diapositive 1</dc:title>
</cp:coreProperties>
</file>