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91BE6-2A35-4BED-9863-E00BDAFAD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1DBCB-B82B-4D05-A28C-06FA52CA4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9A930-EE06-4D60-9DDB-2A7C647FC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EB22D-9042-476E-A72D-82A5E3E86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CF55-47A4-4C4A-AAD9-8763A926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A016-FF10-4E52-9EFB-F57AEB5E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E6648-AC2B-42DB-8522-13940E5BF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CCE6-2B6F-49B9-96FB-A4687F405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BA87-3B6C-4E7E-8097-EAD01265D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5ECD-5D18-4C20-9F5B-05A27AEA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0705-28E8-406F-9985-9B8E56AC0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51E5-6E78-45B1-B10C-0287B4052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50920" y="6453000"/>
            <a:ext cx="1225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524280"/>
            <a:ext cx="2895840" cy="196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CE-GFV-DF-</a:t>
            </a: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24280"/>
            <a:ext cx="2133720" cy="196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4A1D-111C-4A69-A49F-23496811E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 name=""/>
          <p:cNvGrpSpPr/>
          <p:nvPr/>
        </p:nvGrpSpPr>
        <p:grpSpPr>
          <a:xfrm>
            <a:off x="7848720" y="0"/>
            <a:ext cx="1295280" cy="1655640"/>
            <a:chOff x="7848720" y="0"/>
            <a:chExt cx="1295280" cy="1655640"/>
          </a:xfrm>
        </p:grpSpPr>
        <p:sp>
          <p:nvSpPr>
            <p:cNvPr id="6" name=""/>
            <p:cNvSpPr/>
            <p:nvPr/>
          </p:nvSpPr>
          <p:spPr>
            <a:xfrm>
              <a:off x="7848720" y="0"/>
              <a:ext cx="1295280" cy="1655640"/>
            </a:xfrm>
            <a:prstGeom prst="rect">
              <a:avLst/>
            </a:prstGeom>
            <a:solidFill>
              <a:srgbClr val="f0fdf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txBox="1"/>
            <p:nvPr/>
          </p:nvSpPr>
          <p:spPr>
            <a:xfrm rot="5400000">
              <a:off x="7791480" y="309600"/>
              <a:ext cx="1461240" cy="1036800"/>
            </a:xfrm>
            <a:prstGeom prst="rect">
              <a:avLst/>
            </a:prstGeom>
          </p:spPr>
          <p:txBody>
            <a:bodyPr wrap="none" lIns="90000" rIns="90000" tIns="46800" bIns="46800" anchor="t" anchorCtr="1" vert="eaVert">
              <a:prstTxWarp prst="textWave1">
                <a:avLst>
                  <a:gd name="adj1" fmla="val 838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Dual</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Fuels</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DF07 – Draft HDDF report to GFV</a:t>
            </a:r>
            <a:br>
              <a:rPr sz="3200"/>
            </a:br>
            <a:r>
              <a:rPr b="0" lang="en-US" sz="2400" spc="-1" strike="noStrike">
                <a:solidFill>
                  <a:srgbClr val="009999"/>
                </a:solidFill>
                <a:latin typeface="Arial"/>
              </a:rPr>
              <a:t>as amended further in the GFV meeting</a:t>
            </a:r>
            <a:endParaRPr b="0" lang="en-US" sz="2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ssels 10 May 201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8302CACA-CD93-43FE-BC2F-BF63C8021CE8}" type="slidenum">
              <a:t>1</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HDDF indicators</a:t>
            </a:r>
            <a:endParaRPr b="0" lang="en-US" sz="3200" spc="-1" strike="noStrike">
              <a:solidFill>
                <a:srgbClr val="000000"/>
              </a:solidFill>
              <a:latin typeface="Arial"/>
            </a:endParaRPr>
          </a:p>
        </p:txBody>
      </p:sp>
      <p:sp>
        <p:nvSpPr>
          <p:cNvPr id="63"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DDF mode indicato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indicate DF, service or Diesel mode (in case of HDDF Type 1B and HDDF Type 2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DDF mode indicator is set on service mode as soon as the service mode is activated (i.e. before it becomes actually activ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DDF mode indicator is mandatory, but the type of indicator is left to the manufacturer (icon, message, etc…). Indication between DF, Diesel, and Service mode shall be clearly differentia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ous indication when operating in DF </a:t>
            </a:r>
            <a:r>
              <a:rPr b="0" lang="en-GB" sz="1600" spc="-1" strike="noStrike">
                <a:solidFill>
                  <a:srgbClr val="009999"/>
                </a:solidFill>
                <a:latin typeface="Arial"/>
              </a:rPr>
              <a:t>or</a:t>
            </a:r>
            <a:r>
              <a:rPr b="0" lang="en-GB" sz="1600" spc="-1" strike="noStrike">
                <a:solidFill>
                  <a:srgbClr val="000000"/>
                </a:solidFill>
                <a:latin typeface="Arial"/>
              </a:rPr>
              <a:t> Diesel mode is not required. </a:t>
            </a:r>
            <a:br>
              <a:rPr sz="1600"/>
            </a:br>
            <a:r>
              <a:rPr b="0" lang="en-GB" sz="1600" spc="-1" strike="noStrike">
                <a:solidFill>
                  <a:srgbClr val="000000"/>
                </a:solidFill>
                <a:latin typeface="Arial"/>
              </a:rPr>
              <a:t>If not continuous, </a:t>
            </a:r>
            <a:r>
              <a:rPr b="0" lang="en-GB" sz="1600" spc="-1" strike="noStrike">
                <a:solidFill>
                  <a:srgbClr val="009999"/>
                </a:solidFill>
                <a:latin typeface="Arial"/>
              </a:rPr>
              <a:t>in case of HDDF Type 1B and HDDF Type 2B</a:t>
            </a:r>
            <a:r>
              <a:rPr b="0" lang="en-GB"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0000"/>
              </a:lnSpc>
              <a:spcBef>
                <a:spcPts val="34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ion required at each change of mode [during at least 1min]</a:t>
            </a:r>
            <a:endParaRPr b="0" lang="en-US" sz="1400" spc="-1" strike="noStrike">
              <a:solidFill>
                <a:srgbClr val="000000"/>
              </a:solidFill>
              <a:latin typeface="Arial"/>
            </a:endParaRPr>
          </a:p>
          <a:p>
            <a:pPr lvl="2" marL="1143000" indent="-228600">
              <a:lnSpc>
                <a:spcPct val="80000"/>
              </a:lnSpc>
              <a:spcBef>
                <a:spcPts val="34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ion required at key-on [during at least 1min]</a:t>
            </a:r>
            <a:endParaRPr b="0" lang="en-US" sz="1400" spc="-1" strike="noStrike">
              <a:solidFill>
                <a:srgbClr val="000000"/>
              </a:solidFill>
              <a:latin typeface="Arial"/>
            </a:endParaRPr>
          </a:p>
          <a:p>
            <a:pPr lvl="2" marL="1143000" indent="-228600">
              <a:lnSpc>
                <a:spcPct val="80000"/>
              </a:lnSpc>
              <a:spcBef>
                <a:spcPts val="34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ion upon driver's request]</a:t>
            </a:r>
            <a:endParaRPr b="0" lang="en-US" sz="14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Mandatory</a:t>
            </a:r>
            <a:r>
              <a:rPr b="0" lang="en-GB" sz="1600" spc="-1" strike="noStrike">
                <a:solidFill>
                  <a:srgbClr val="000000"/>
                </a:solidFill>
                <a:latin typeface="Arial"/>
              </a:rPr>
              <a:t> continuous indication when operating in the service mode or (in case of HDDF Type1A) on Diesel for warming-up. </a:t>
            </a:r>
            <a:r>
              <a:rPr b="0" lang="en-GB" sz="1600" spc="-1" strike="noStrike">
                <a:solidFill>
                  <a:srgbClr val="009999"/>
                </a:solidFill>
                <a:latin typeface="Arial"/>
              </a:rPr>
              <a:t>Indication in case of warm-up to be reviewed by HDDF08 (could also concern Type 2A)</a:t>
            </a: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ty gas tank warni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pty gas tank warning indicator is mandatory, but the type of indicator is left to the manufacturer (icon, message, et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Shall be activated as long as the amount of gas is below a certain level (value left to the manufactur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E2A8FD63-8F33-491A-8E4E-C4369492B13E}" type="slidenum">
              <a:t>10</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8900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a:t>
            </a:r>
            <a:br>
              <a:rPr sz="2800"/>
            </a:br>
            <a:r>
              <a:rPr b="0" lang="en-US" sz="2800" spc="-1" strike="noStrike">
                <a:solidFill>
                  <a:srgbClr val="000000"/>
                </a:solidFill>
                <a:latin typeface="Arial"/>
              </a:rPr>
              <a:t>Lack of gas availability</a:t>
            </a:r>
            <a:endParaRPr b="0" lang="en-US" sz="2800" spc="-1" strike="noStrike">
              <a:solidFill>
                <a:srgbClr val="000000"/>
              </a:solidFill>
              <a:latin typeface="Arial"/>
            </a:endParaRPr>
          </a:p>
        </p:txBody>
      </p:sp>
      <p:sp>
        <p:nvSpPr>
          <p:cNvPr id="65"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the operability restric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level as the "severe inducement" of Annex XIII (i.e. 20km/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schem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bility restriction activated as soon as a lack of gas supply is detected</a:t>
            </a:r>
            <a:endParaRPr b="0" lang="en-US" sz="2000" spc="-1" strike="noStrike">
              <a:solidFill>
                <a:srgbClr val="000000"/>
              </a:solidFill>
              <a:latin typeface="Arial"/>
            </a:endParaRPr>
          </a:p>
          <a:p>
            <a:pPr lvl="2" marL="1143000" indent="-228600">
              <a:lnSpc>
                <a:spcPct val="80000"/>
              </a:lnSpc>
              <a:spcBef>
                <a:spcPts val="451"/>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for HDDF Type 1B and HDDF Type 2B to switch to the Diesel mod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either 30 minutes after activation or after the next time the vehicle is stationary, whatever the earliest in case of a malfunction of the gas supply system – resetting mechanism to be introduc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mmediately in case of an empty tank (the driver has been warn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65E1A530-0B6D-4516-8AF7-B6C544A6D4E2}" type="slidenum">
              <a:t>11</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I HDDF OBD</a:t>
            </a:r>
            <a:endParaRPr b="0" lang="en-US" sz="3200" spc="-1" strike="noStrike">
              <a:solidFill>
                <a:srgbClr val="000000"/>
              </a:solidFill>
              <a:latin typeface="Arial"/>
            </a:endParaRPr>
          </a:p>
        </p:txBody>
      </p:sp>
      <p:sp>
        <p:nvSpPr>
          <p:cNvPr id="6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EURO VI compression ignition engines OB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supply system subject to component monito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consumption monitoring – subject to confirmation by HDDF0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re is an issue with the scope of R49 and that of EURO VI ("Gas engines" vs "positive ignition engines" ). This should be resolved when discussing the transposition of EURO VI into R49 (rev6)</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F2009E0A-FC8C-4D75-B994-D724D86DBAD1}" type="slidenum">
              <a:t>12</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 HDDF OBD</a:t>
            </a:r>
            <a:endParaRPr b="0" lang="en-US" sz="3200" spc="-1" strike="noStrike">
              <a:solidFill>
                <a:srgbClr val="000000"/>
              </a:solidFill>
              <a:latin typeface="Arial"/>
            </a:endParaRPr>
          </a:p>
        </p:txBody>
      </p:sp>
      <p:sp>
        <p:nvSpPr>
          <p:cNvPr id="6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DDF propos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 V Diesel OBD rules shall appl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al failures of the DF system as well as major functional failures of the specific catalysts of the DF system (in the sense of stage 1 OBD) shall be monitored when the engine is on DF mod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URO IV / V derogation clause shall apply when operated in a DF m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ill be allowed in case of a failure in the DF mode to switch to the pure Diesel mode (for HDDF Type 1B and HDDF Type 2B eng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orque signal(s) may correspond to the torque(s) resulting from the DF combustion </a:t>
            </a:r>
            <a:r>
              <a:rPr b="0" lang="en-GB" sz="1800" spc="-1" strike="noStrike">
                <a:solidFill>
                  <a:srgbClr val="009999"/>
                </a:solidFill>
                <a:latin typeface="Arial"/>
              </a:rPr>
              <a:t>and/</a:t>
            </a:r>
            <a:r>
              <a:rPr b="0" lang="en-GB" sz="1800" spc="-1" strike="noStrike">
                <a:solidFill>
                  <a:srgbClr val="000000"/>
                </a:solidFill>
                <a:latin typeface="Arial"/>
              </a:rPr>
              <a:t>or from the Diesel combustion when the engine is operated on the DF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of the EURO V HDDF are resulting from a modification of a Diesel engine without re-design or re-calibration of the original engine ECU (incl. the OBD syste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30984EF9-6CB0-4B1E-8A96-24363935B33A}" type="slidenum">
              <a:t>13</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 PEMS test at certification</a:t>
            </a:r>
            <a:endParaRPr b="0" lang="en-US" sz="2800" spc="-1" strike="noStrike">
              <a:solidFill>
                <a:srgbClr val="000000"/>
              </a:solidFill>
              <a:latin typeface="Arial"/>
            </a:endParaRPr>
          </a:p>
        </p:txBody>
      </p:sp>
      <p:sp>
        <p:nvSpPr>
          <p:cNvPr id="71" name="PlaceHolder 2"/>
          <p:cNvSpPr>
            <a:spLocks noGrp="1"/>
          </p:cNvSpPr>
          <p:nvPr>
            <p:ph/>
          </p:nvPr>
        </p:nvSpPr>
        <p:spPr>
          <a:xfrm>
            <a:off x="457200" y="1267920"/>
            <a:ext cx="82296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test in case of a HDDF Type 1A or HDDF Type 2A</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EMS test at certification according to Annex VI, but on the dual fuel m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NOx level shall be lower or equal to (1.5 * NOx emission lim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ing other pollutants: to be further discussed in HDDF08</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test process in case of a HDDF Type 1B or HDDF Type 2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EMS test on the Diesel mode according to Annex VI and conclu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EMS test on the DF mode and conclude as for HDDF Type 1A and HDDF Type 2A eng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 to pass if both the PEMS test on DF mode and the PEMS test on Diesel modes have concluded to pas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be allowed to repeat the PEMS tests and to average the final emission value per pollutant resulting from each of the individual PEMS tes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E7C111CA-542E-49F2-8EC7-84D6415DAB59}" type="slidenum">
              <a:t>14</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 and VI –  ISC</a:t>
            </a:r>
            <a:endParaRPr b="0" lang="en-US" sz="3200" spc="-1" strike="noStrike">
              <a:solidFill>
                <a:srgbClr val="000000"/>
              </a:solidFill>
              <a:latin typeface="Arial"/>
            </a:endParaRPr>
          </a:p>
        </p:txBody>
      </p:sp>
      <p:sp>
        <p:nvSpPr>
          <p:cNvPr id="7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C tests shall be performed in the Dual Fuel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HDDF Type 1B or HDDF Type 2B the tests will be also performed in the pure Diesel mode on the same engine. Pass would mean pass both in Diesel mode and in DF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C tests shall be performed as appropriate as specified for Diesel mono-fuel engines in EURO VI Comitology (Annexes II and XVI) or EURO V Directive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925DEFB4-1330-4D8A-8647-0D83570BF949}" type="slidenum">
              <a:t>15</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CH4 correlation factor</a:t>
            </a:r>
            <a:endParaRPr b="0" lang="en-US" sz="3200" spc="-1" strike="noStrike">
              <a:solidFill>
                <a:srgbClr val="000000"/>
              </a:solidFill>
              <a:latin typeface="Arial"/>
            </a:endParaRPr>
          </a:p>
        </p:txBody>
      </p:sp>
      <p:sp>
        <p:nvSpPr>
          <p:cNvPr id="7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V group could come with a recommend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ff S. to circulate a HDDF document within GFV on the basis of the Westport pres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FR to request ACEA / OICA input (as much as available) on mono fuel gas engi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 to check the correlation for type 2 engi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sue will be presented in the next GFV meet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ssion will check the way to address the issue (if feasib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sue shall be addressed at one of the next GFV meeting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4EB1DD95-4475-4061-B7B2-C82D13BBC281}" type="slidenum">
              <a:t>16</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 specific issues  </a:t>
            </a:r>
            <a:br>
              <a:rPr sz="2800"/>
            </a:br>
            <a:endParaRPr b="0" lang="en-US" sz="2800" spc="-1" strike="noStrike">
              <a:solidFill>
                <a:srgbClr val="000000"/>
              </a:solidFill>
              <a:latin typeface="Arial"/>
            </a:endParaRPr>
          </a:p>
        </p:txBody>
      </p:sp>
      <p:sp>
        <p:nvSpPr>
          <p:cNvPr id="7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S test at certification to be addressed by HDDF08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 V HDDF Type 2A present substantial difficul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the induc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the operability restri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the OBD requireme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URO V HDDF Type 2A engines will not be included and can not be EU Type-approved</a:t>
            </a:r>
            <a:endParaRPr b="0" lang="en-US" sz="2400" spc="-1" strike="noStrike">
              <a:solidFill>
                <a:srgbClr val="000000"/>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y be addressed at a later stage upon request of a Contracting Par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81F38C75-34E5-4DD0-9722-C43BC73B2D18}" type="slidenum">
              <a:t>17</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Calculation formulae</a:t>
            </a:r>
            <a:endParaRPr b="0" lang="en-US" sz="3200" spc="-1" strike="noStrike">
              <a:solidFill>
                <a:srgbClr val="000000"/>
              </a:solidFill>
              <a:latin typeface="Arial"/>
            </a:endParaRPr>
          </a:p>
        </p:txBody>
      </p:sp>
      <p:sp>
        <p:nvSpPr>
          <p:cNvPr id="7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 formulae may have to be changed in Annex 4B and possibly the GTR. Otherwis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would have to be included in the EURO VI R49 HDDF Annex (either in the core of the Annex or as an appendix) and the EURO V R49 HDDF Annex would have to refer to it, 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new Annex 4D or an appendix to 4B may be developed for the formulae dedicated to gas engi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DDF considers that some correction may also be useful for mono-fuel gas engi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DDF agreed to have an HDDF meeting that will be dedicated to calculation after eventual GRPE guidanc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 and JFR to inform by end of April the appropriate experts and OICA on calculation through an intermediate status document (cf John's on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 Advice / expertise requested for the dedicated meet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69ABBCD3-7FAD-4CCE-842F-77D9FDA14721}" type="slidenum">
              <a:t>18</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I - LNG tanks</a:t>
            </a:r>
            <a:endParaRPr b="0" lang="en-US" sz="3200" spc="-1" strike="noStrike">
              <a:solidFill>
                <a:srgbClr val="000000"/>
              </a:solidFill>
              <a:latin typeface="Arial"/>
            </a:endParaRPr>
          </a:p>
        </p:txBody>
      </p:sp>
      <p:sp>
        <p:nvSpPr>
          <p:cNvPr id="8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SG chairman has not yet provided any com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sue will be directly presented to GRSG by 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DF recommends there should be a call for experts in view of amending R110 within the given time-frame (acceptance by WP29 in Nov 2012)</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NG tank" dedicated meeting scheduled on 04 April has been postponed to 16 M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has been invited to give inp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110 should not be blocked because of ISO concern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B9D049F5-A771-446B-BEB8-2A455422EC2B}" type="slidenum">
              <a:t>19</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suggested HDDF terminology</a:t>
            </a:r>
            <a:endParaRPr b="0" lang="en-US" sz="2800" spc="-1" strike="noStrike">
              <a:solidFill>
                <a:srgbClr val="000000"/>
              </a:solidFill>
              <a:latin typeface="Arial"/>
            </a:endParaRPr>
          </a:p>
        </p:txBody>
      </p:sp>
      <p:sp>
        <p:nvSpPr>
          <p:cNvPr id="4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HDDF i X"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 i: category of HDDF, depending on the gas rati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GR &gt; 9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10% &lt; GR &lt; 9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r GR &lt; 10%</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X: possible operating modes in the categor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 engines only operating in Dual Fuel m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or engines capable of operating either in Dual Fuel or in Diesel mode </a:t>
            </a:r>
            <a:endParaRPr b="0" lang="en-US" sz="1800" spc="-1" strike="noStrike">
              <a:solidFill>
                <a:srgbClr val="000000"/>
              </a:solidFill>
              <a:latin typeface="Arial"/>
            </a:endParaRPr>
          </a:p>
          <a:p>
            <a:pPr lvl="1" marL="743040" indent="0">
              <a:lnSpc>
                <a:spcPct val="80000"/>
              </a:lnSpc>
              <a:spcBef>
                <a:spcPts val="451"/>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1 </a:t>
            </a:r>
            <a:r>
              <a:rPr b="0" lang="en-US" sz="1800" spc="-1" strike="noStrike">
                <a:solidFill>
                  <a:srgbClr val="000000"/>
                </a:solidFill>
                <a:latin typeface="Arial"/>
              </a:rPr>
              <a:t>	</a:t>
            </a:r>
            <a:r>
              <a:rPr b="0" lang="en-US" sz="1800" spc="-1" strike="noStrike">
                <a:solidFill>
                  <a:srgbClr val="000000"/>
                </a:solidFill>
                <a:latin typeface="Arial"/>
              </a:rPr>
              <a:t>becomes HDDF Type 1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1+ </a:t>
            </a:r>
            <a:r>
              <a:rPr b="0" lang="en-US" sz="1800" spc="-1" strike="noStrike">
                <a:solidFill>
                  <a:srgbClr val="000000"/>
                </a:solidFill>
                <a:latin typeface="Arial"/>
              </a:rPr>
              <a:t>	</a:t>
            </a:r>
            <a:r>
              <a:rPr b="0" lang="en-US" sz="1800" spc="-1" strike="noStrike">
                <a:solidFill>
                  <a:srgbClr val="000000"/>
                </a:solidFill>
                <a:latin typeface="Arial"/>
              </a:rPr>
              <a:t>becomes HDDF Type 1B</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2 </a:t>
            </a:r>
            <a:r>
              <a:rPr b="0" lang="en-US" sz="1800" spc="-1" strike="noStrike">
                <a:solidFill>
                  <a:srgbClr val="000000"/>
                </a:solidFill>
                <a:latin typeface="Arial"/>
              </a:rPr>
              <a:t>	</a:t>
            </a:r>
            <a:r>
              <a:rPr b="0" lang="en-US" sz="1800" spc="-1" strike="noStrike">
                <a:solidFill>
                  <a:srgbClr val="000000"/>
                </a:solidFill>
                <a:latin typeface="Arial"/>
              </a:rPr>
              <a:t>becomes HDDF Type 2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2+ </a:t>
            </a:r>
            <a:r>
              <a:rPr b="0" lang="en-US" sz="1800" spc="-1" strike="noStrike">
                <a:solidFill>
                  <a:srgbClr val="000000"/>
                </a:solidFill>
                <a:latin typeface="Arial"/>
              </a:rPr>
              <a:t>	</a:t>
            </a:r>
            <a:r>
              <a:rPr b="0" lang="en-US" sz="1800" spc="-1" strike="noStrike">
                <a:solidFill>
                  <a:srgbClr val="000000"/>
                </a:solidFill>
                <a:latin typeface="Arial"/>
              </a:rPr>
              <a:t>becomes HDDF Type 2B</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3 </a:t>
            </a:r>
            <a:r>
              <a:rPr b="0" lang="en-US" sz="1800" spc="-1" strike="noStrike">
                <a:solidFill>
                  <a:srgbClr val="000000"/>
                </a:solidFill>
                <a:latin typeface="Arial"/>
              </a:rPr>
              <a:t>	</a:t>
            </a:r>
            <a:r>
              <a:rPr b="0" lang="en-US" sz="1800" spc="-1" strike="noStrike">
                <a:solidFill>
                  <a:srgbClr val="000000"/>
                </a:solidFill>
                <a:latin typeface="Arial"/>
              </a:rPr>
              <a:t>becomes HDDF Type 3 (whatever the possible operating mod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91141D35-1DBA-449A-9173-DA1A12BCDD82}" type="slidenum">
              <a:t>2</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proposed definitions (1)</a:t>
            </a:r>
            <a:endParaRPr b="0" lang="en-US" sz="3200" spc="-1" strike="noStrike">
              <a:solidFill>
                <a:srgbClr val="000000"/>
              </a:solidFill>
              <a:latin typeface="Arial"/>
            </a:endParaRPr>
          </a:p>
        </p:txBody>
      </p:sp>
      <p:sp>
        <p:nvSpPr>
          <p:cNvPr id="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ual-Fuel engine" </a:t>
            </a:r>
            <a:br>
              <a:rPr sz="1600"/>
            </a:br>
            <a:r>
              <a:rPr b="0" lang="en-US" sz="1600" spc="-1" strike="noStrike">
                <a:solidFill>
                  <a:srgbClr val="000000"/>
                </a:solidFill>
                <a:latin typeface="Arial"/>
              </a:rPr>
              <a:t>means an engine that uses simultaneously 2 different types of fuels supplied from separate storage systems and where the consumed amount of one of the fuels versus the other one may vary depending on the operation.</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ual-Fuel vehicle" </a:t>
            </a:r>
            <a:br>
              <a:rPr sz="1600"/>
            </a:br>
            <a:r>
              <a:rPr b="0" lang="en-US" sz="1600" spc="-1" strike="noStrike">
                <a:solidFill>
                  <a:srgbClr val="000000"/>
                </a:solidFill>
                <a:latin typeface="Arial"/>
              </a:rPr>
              <a:t>means a vehicle that is powered by a Dual-Fuel engine and that supplies the fuels used by the engine from separate on-board storage systems.</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ual fuel mode"</a:t>
            </a:r>
            <a:br>
              <a:rPr sz="1600"/>
            </a:br>
            <a:r>
              <a:rPr b="0" lang="en-US" sz="1600" spc="-1" strike="noStrike">
                <a:solidFill>
                  <a:srgbClr val="000000"/>
                </a:solidFill>
                <a:latin typeface="Arial"/>
              </a:rPr>
              <a:t>means the operating mode of a dual-fuel engine where the engine uses simultaneously 2 different types of fuels</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esel mode"</a:t>
            </a:r>
            <a:br>
              <a:rPr sz="1600"/>
            </a:br>
            <a:r>
              <a:rPr b="0" lang="en-US" sz="1600" spc="-1" strike="noStrike">
                <a:solidFill>
                  <a:srgbClr val="000000"/>
                </a:solidFill>
                <a:latin typeface="Arial"/>
              </a:rPr>
              <a:t>means, when applicable, the operating mode of a dual-fuel engine where the engine uses exclusively Diesel fuel</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ervice mode"</a:t>
            </a:r>
            <a:br>
              <a:rPr sz="1600"/>
            </a:br>
            <a:r>
              <a:rPr b="0" lang="en-US" sz="1600" spc="-1" strike="noStrike">
                <a:solidFill>
                  <a:srgbClr val="000000"/>
                </a:solidFill>
                <a:latin typeface="Arial"/>
              </a:rPr>
              <a:t>means a Diesel mode of a dual-fuel engine activated for the purpose of moving the vehicle off the traffic when the Dual-fuel mode is not possible (for example in case of an empty gas tank).</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s Ratio" </a:t>
            </a:r>
            <a:br>
              <a:rPr sz="1600"/>
            </a:br>
            <a:r>
              <a:rPr b="0" lang="en-US" sz="1600" spc="-1" strike="noStrike">
                <a:solidFill>
                  <a:srgbClr val="000000"/>
                </a:solidFill>
                <a:latin typeface="Arial"/>
              </a:rPr>
              <a:t>means the ratio of the energy content of the gas fuel over the energy content of the total fuel (Diesel + ga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C6F5B9BA-BB6B-4220-AC04-43986238FC7E}" type="slidenum">
              <a:t>3</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proposed definitions (2)</a:t>
            </a:r>
            <a:endParaRPr b="0" lang="en-US" sz="3200" spc="-1" strike="noStrike">
              <a:solidFill>
                <a:srgbClr val="000000"/>
              </a:solidFill>
              <a:latin typeface="Arial"/>
            </a:endParaRPr>
          </a:p>
        </p:txBody>
      </p:sp>
      <p:sp>
        <p:nvSpPr>
          <p:cNvPr id="5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1A engine or vehicle"</a:t>
            </a:r>
            <a:br>
              <a:rPr sz="1400"/>
            </a:br>
            <a:r>
              <a:rPr b="0" lang="en-GB" sz="1400" spc="-1" strike="noStrike">
                <a:solidFill>
                  <a:srgbClr val="000000"/>
                </a:solidFill>
                <a:latin typeface="Arial"/>
              </a:rPr>
              <a:t>means a Diesel-gas Dual-fuel engine or vehicle operating with an average Gas Ratio that is not lower than 90% (GR  ≥ 90%)</a:t>
            </a:r>
            <a:r>
              <a:rPr b="0" lang="en-GB" sz="1400" spc="-1" strike="noStrike" u="sng">
                <a:solidFill>
                  <a:srgbClr val="009999"/>
                </a:solidFill>
                <a:uFillTx/>
                <a:latin typeface="Arial"/>
                <a:hlinkClick r:id="rId1" action="ppaction://hlinksldjump"/>
              </a:rPr>
              <a:t>[1]</a:t>
            </a:r>
            <a:r>
              <a:rPr b="0" lang="en-GB" sz="1400" spc="-1" strike="noStrike">
                <a:solidFill>
                  <a:srgbClr val="000000"/>
                </a:solidFill>
                <a:latin typeface="Arial"/>
              </a:rPr>
              <a:t>. </a:t>
            </a: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1B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operating with an average Gas Ratio that is not lower than 90% (GR  ≥ 90%)</a:t>
            </a:r>
            <a:r>
              <a:rPr b="0" lang="en-GB" sz="1400" spc="-1" strike="noStrike" u="sng">
                <a:solidFill>
                  <a:srgbClr val="009999"/>
                </a:solidFill>
                <a:uFillTx/>
                <a:latin typeface="Arial"/>
                <a:hlinkClick r:id="rId2" action="ppaction://hlinksldjump"/>
              </a:rPr>
              <a:t>[1]</a:t>
            </a:r>
            <a:r>
              <a:rPr b="0" lang="en-GB" sz="1400" spc="-1" strike="noStrike">
                <a:solidFill>
                  <a:srgbClr val="000000"/>
                </a:solidFill>
                <a:latin typeface="Arial"/>
              </a:rPr>
              <a:t> where the engine also has been type approved to operate as a Diesel fuel engine according to this Regulation.</a:t>
            </a: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2A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that typically is operating with a Gas ratio varying between 10% and 90% (90% &gt; Gas Ratio &gt; 10%).</a:t>
            </a: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2B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that typically is operating with a Gas ratio varying between 10% and 90% (90% &gt; Gas Ratio &gt; 10%) where the engine also has been type approved to operate as a Diesel fuel engine according to this Regulation.</a:t>
            </a: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3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operating with an average Gas Ratio that does not exceed 10% (GR  ≤ 10%). </a:t>
            </a: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MS PGothic"/>
                <a:hlinkClick r:id="rId3" action="ppaction://hlinksldjump"/>
              </a:rPr>
              <a:t>[1]</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An engine that can operate or idle solely on diesel fuel does not meet this definition. </a:t>
            </a:r>
            <a:r>
              <a:rPr b="0" lang="en-US" sz="1400" spc="-1" strike="noStrike">
                <a:solidFill>
                  <a:srgbClr val="009999"/>
                </a:solidFill>
                <a:latin typeface="Arial"/>
                <a:ea typeface="MS PGothic"/>
              </a:rPr>
              <a:t>It would then be an HDDF Type 2A or HDDF Type 2B as appropriat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40194D34-3918-4FC4-BB03-FD66E89E5F46}" type="slidenum">
              <a:t>4</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HDDF type</a:t>
            </a:r>
            <a:endParaRPr b="0" lang="en-US" sz="3200" spc="-1" strike="noStrike">
              <a:solidFill>
                <a:srgbClr val="000000"/>
              </a:solidFill>
              <a:latin typeface="Arial"/>
            </a:endParaRPr>
          </a:p>
        </p:txBody>
      </p:sp>
      <p:sp>
        <p:nvSpPr>
          <p:cNvPr id="5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DDF Type 1A and cold star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 an exception it shall be allowed that HDDF Type 1A may start and warm-up on idle on 100% diesel until the engine coolant reaches a certain temperatu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exception shall not apply to HDDF Type 1B (because they are able to warm-up on the Diesel mode).</a:t>
            </a:r>
            <a:r>
              <a:rPr b="0" lang="en-CA" sz="1800" spc="-1" strike="noStrike">
                <a:solidFill>
                  <a:srgbClr val="009999"/>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ification of the HDDF typ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verification shall be part of the demonstration at type-approv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onstration test: hot part of WHTC (EURO VI) or ETC (EURO 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bsence of demonstration (e.g. due to measurement difficulties of LPG-LNG consumption, lack of accuracy of the LPG-LNG consumption, etc…): HDDF type 2A or HDDF type 2B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demonstration test in case of HDDF Type 1A engines: demonstration of dual fuel operation at idle. Test to be agreed w/ the Approval authority and described in the repor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C564386A-71C7-4A30-8AC5-16596E5730B2}" type="slidenum">
              <a:t>5</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822960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Torque and Power</a:t>
            </a:r>
            <a:endParaRPr b="0" lang="en-US" sz="3200" spc="-1" strike="noStrike">
              <a:solidFill>
                <a:srgbClr val="000000"/>
              </a:solidFill>
              <a:latin typeface="Arial"/>
            </a:endParaRPr>
          </a:p>
        </p:txBody>
      </p:sp>
      <p:sp>
        <p:nvSpPr>
          <p:cNvPr id="55" name="PlaceHolder 2"/>
          <p:cNvSpPr>
            <a:spLocks noGrp="1"/>
          </p:cNvSpPr>
          <p:nvPr>
            <p:ph/>
          </p:nvPr>
        </p:nvSpPr>
        <p:spPr>
          <a:xfrm>
            <a:off x="457200" y="1268280"/>
            <a:ext cx="8229600" cy="489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HDDF phone conference on 04 April 201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amendments to R85 (informal GRPE document) will be prepared by HDDF, subject to final approval by GFV on 11060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V is requested to validate the principles of these amendments (see separate documen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DF06 agreed on principles regarding the torque/ power retrievable in the EC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V is requested to validate these princip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5A6DFC92-64A4-4012-ACBF-16CBA1D0C035}" type="slidenum">
              <a:t>6</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71280"/>
            <a:ext cx="8229600" cy="98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Amendments to R85 </a:t>
            </a:r>
            <a:br>
              <a:rPr sz="3200"/>
            </a:br>
            <a:r>
              <a:rPr b="0" lang="en-US" sz="3200" spc="-1" strike="noStrike">
                <a:solidFill>
                  <a:srgbClr val="000000"/>
                </a:solidFill>
                <a:latin typeface="Arial"/>
              </a:rPr>
              <a:t>Principles</a:t>
            </a:r>
            <a:endParaRPr b="0" lang="en-US" sz="3200" spc="-1" strike="noStrike">
              <a:solidFill>
                <a:srgbClr val="000000"/>
              </a:solidFill>
              <a:latin typeface="Arial"/>
            </a:endParaRPr>
          </a:p>
        </p:txBody>
      </p:sp>
      <p:sp>
        <p:nvSpPr>
          <p:cNvPr id="57" name="PlaceHolder 2"/>
          <p:cNvSpPr>
            <a:spLocks noGrp="1"/>
          </p:cNvSpPr>
          <p:nvPr>
            <p:ph/>
          </p:nvPr>
        </p:nvSpPr>
        <p:spPr>
          <a:xfrm>
            <a:off x="468360" y="1916280"/>
            <a:ext cx="8229600" cy="252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lared power and torque are those obtained in the Dual Fuel mode (HDDF Type 1B; HDDF Type 2B; HDDF Type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reference fuels as the ones for the emission t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3D0CED65-1B76-457D-A42D-3B0E42A4075A}" type="slidenum">
              <a:t>7</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a:t>
            </a:r>
            <a:br>
              <a:rPr sz="2800"/>
            </a:br>
            <a:r>
              <a:rPr b="0" lang="en-US" sz="2800" spc="-1" strike="noStrike">
                <a:solidFill>
                  <a:srgbClr val="000000"/>
                </a:solidFill>
                <a:latin typeface="Arial"/>
              </a:rPr>
              <a:t>streamed / broadcasted power / torque data</a:t>
            </a:r>
            <a:endParaRPr b="0" lang="en-US" sz="2800" spc="-1" strike="noStrike">
              <a:solidFill>
                <a:srgbClr val="000000"/>
              </a:solidFill>
              <a:latin typeface="Arial"/>
            </a:endParaRPr>
          </a:p>
        </p:txBody>
      </p:sp>
      <p:sp>
        <p:nvSpPr>
          <p:cNvPr id="5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gine operates in the DF mod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erence torque curve retrievable with the EURO VI Communication Standards shall be the one obtained when the engine operates in the DF mo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rded actual torques (indicated torque and friction torque) shall be the result of the DF combustion and not the result from solely the Diesel combustio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gine operates in the Diesel m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erence torque curve retrievable with the EURO VI Communication Standards shall be the one obtained when the engine operates in the Diesel mod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76215EE8-4672-4F26-9B40-B1B456268910}" type="slidenum">
              <a:t>8</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8900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a:t>
            </a:r>
            <a:br>
              <a:rPr sz="2800"/>
            </a:br>
            <a:r>
              <a:rPr b="0" lang="en-US" sz="2800" spc="-1" strike="noStrike">
                <a:solidFill>
                  <a:srgbClr val="000000"/>
                </a:solidFill>
                <a:latin typeface="Arial"/>
              </a:rPr>
              <a:t>NOx control measures</a:t>
            </a:r>
            <a:endParaRPr b="0" lang="en-US" sz="2800" spc="-1" strike="noStrike">
              <a:solidFill>
                <a:srgbClr val="000000"/>
              </a:solidFill>
              <a:latin typeface="Arial"/>
            </a:endParaRPr>
          </a:p>
        </p:txBody>
      </p:sp>
      <p:sp>
        <p:nvSpPr>
          <p:cNvPr id="61"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 VI NOx control measures shall apply "mutatis mutandis" to HDDF engi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rque considered to apply the low level inducement in case of HDDF Type 1B and HDDF Type 2B shall be the lowest of the torques obtained in the Diesel mode and on the DF m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all be allowed in case of a "NOx control issue" in the DF mode to switch to the pure Diesel mode (for HDDF Type 1B and HDDF Type 2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7A6F7EED-21D1-4AA8-88F3-F244B4601E6E}" type="slidenum">
              <a:t>9</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9:45:10Z</dcterms:created>
  <dc:creator>R078864</dc:creator>
  <dc:description/>
  <dc:language>en-US</dc:language>
  <cp:lastModifiedBy>Romain HUBERT</cp:lastModifiedBy>
  <dcterms:modified xsi:type="dcterms:W3CDTF">2011-05-30T08:03:37Z</dcterms:modified>
  <cp:revision>76</cp:revision>
  <dc:subject/>
  <dc:title>HDDF05 – working material</dc:title>
</cp:coreProperties>
</file>