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AE0-F65D-4008-92BA-5C6B8CDB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2D6-B9DB-4090-8136-E2763B9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7F3-9283-409D-85D0-5CF9E177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892-EC71-4A71-AA01-B29BC37D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842-431A-4D5A-A4EE-D0DAEB5F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B83-B0A6-469A-9140-EF314BA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F0C-798A-44B0-8265-990B0C7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B86-5F1E-4A07-A43F-8DD727D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AF1-8599-49E3-A76D-D20FF6C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72D-7C45-4A47-8E25-F896ABD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777-92D1-4196-8D8D-B01DF8B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0C1-6ECC-4A14-8198-5059B020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453000"/>
            <a:ext cx="122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CE-GFV-DF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E63-0D16-42D2-BF88-16141CD5D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848720" y="0"/>
            <a:ext cx="1295280" cy="1655640"/>
            <a:chOff x="7848720" y="0"/>
            <a:chExt cx="1295280" cy="1655640"/>
          </a:xfrm>
        </p:grpSpPr>
        <p:sp>
          <p:nvSpPr>
            <p:cNvPr id="6" name=""/>
            <p:cNvSpPr/>
            <p:nvPr/>
          </p:nvSpPr>
          <p:spPr>
            <a:xfrm>
              <a:off x="7848720" y="0"/>
              <a:ext cx="1295280" cy="1655640"/>
            </a:xfrm>
            <a:prstGeom prst="rect">
              <a:avLst/>
            </a:prstGeom>
            <a:solidFill>
              <a:srgbClr val="f0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 rot="5400000">
              <a:off x="7791480" y="309600"/>
              <a:ext cx="1461240" cy="1036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1">
                <a:avLst>
                  <a:gd name="adj1" fmla="val 838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Du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Fue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V Task Fo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Duty Dual Fuel vehic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DDF TF)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RPE 62 – 10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PE informal document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115920"/>
            <a:ext cx="428148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Informal document 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RPE-62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62 GRPE, 7-10 June 2011, agenda item 8(a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01A-0CC2-4AF5-BEB1-28C40848EE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HDDF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5256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 i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 of HDDF, depending on the gas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for GR &gt; 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for 10% &lt; GR &lt; 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for GR &lt;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05240" y="1886040"/>
            <a:ext cx="4481640" cy="2726280"/>
            <a:chOff x="3405240" y="1886040"/>
            <a:chExt cx="4481640" cy="2726280"/>
          </a:xfrm>
        </p:grpSpPr>
        <p:sp>
          <p:nvSpPr>
            <p:cNvPr id="50" name=""/>
            <p:cNvSpPr/>
            <p:nvPr/>
          </p:nvSpPr>
          <p:spPr>
            <a:xfrm flipV="1">
              <a:off x="3405240" y="1915920"/>
              <a:ext cx="4481640" cy="262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789800">
              <a:off x="7038720" y="2056680"/>
              <a:ext cx="747000" cy="250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787400">
              <a:off x="4109040" y="3108960"/>
              <a:ext cx="3051000" cy="25056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cc9900"/>
                </a:gs>
              </a:gsLst>
              <a:lin ang="126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761600">
              <a:off x="3427920" y="4188600"/>
              <a:ext cx="747000" cy="2505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537320" y="3141720"/>
            <a:ext cx="1092240" cy="7333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ure g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mono-fu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4720" y="2475000"/>
            <a:ext cx="1102680" cy="73332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Pure Die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(mono-fu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524720" y="2276640"/>
            <a:ext cx="0" cy="861840"/>
          </a:xfrm>
          <a:prstGeom prst="line">
            <a:avLst/>
          </a:prstGeom>
          <a:ln w="28440">
            <a:solidFill>
              <a:srgbClr val="bbe0e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3213000"/>
            <a:ext cx="0" cy="862200"/>
          </a:xfrm>
          <a:prstGeom prst="line">
            <a:avLst/>
          </a:prstGeom>
          <a:ln w="28440">
            <a:solidFill>
              <a:srgbClr val="cc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807800">
            <a:off x="3694320" y="3573000"/>
            <a:ext cx="394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Gas Ratio (on a cycle – energy ba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941720"/>
            <a:ext cx="4907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X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operating modes in the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or engines operating solely in Dual Fuel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for engines capable of operating either in Dual Fuel or in Diesel m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5080" y="789120"/>
            <a:ext cx="1773360" cy="45972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"HDDF i 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E6C-4536-46E6-891A-6619ED2ECF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V proposes the following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Dual-Fuel engine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an engine that uses simultaneously 2 different types of fuels supplied from separate storage systems and where the consumed amount of one of the fuels versus the other one may vary depending on the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Dual-Fuel vehicle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a vehicle that is powered by a Dual-Fuel engine and that supplies the fuels used by the engine from separate on-board storag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V recommends these definitions be included in the core text of Regulation 49, not in the Dual-fuel annexes and be limited to Diesel-gas HD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00640"/>
            <a:ext cx="8424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es GRPE agree with GFV recommendation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CC6-1AA8-4CEA-BCF9-6C3181CA0F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ments to R8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formal document GRPE62-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lared power and torque are those obtained in the Dual Fuel mode when the Diesel mode is also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reference fuels as the ones for the emiss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he amendment affects all engines, not solely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2.1 reads currently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5.2.1. The net power test shall consist of a run at full throttle for positive-ignition engines and at fixed full-load fuel injection pump setting for diesel engines, the engine being equipped as specified in Table 1 of Annex 5 to this Regulation.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2.1 shall be amended to read</a:t>
            </a:r>
            <a:br>
              <a:rPr sz="1600"/>
            </a:b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"5.2.1. The net power test shall consist of a run at full-load, the engine being equipped as specified in Table 1 of Annex 5 to this Regulation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HDDF definitions shall be common, the formal amendments will be submitted together with the HDDF Annexes in R49 for GRPE approval in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80C-129F-49B1-B876-FCD3174EFD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 V and EURO V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oints of progress since GRPE6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DD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HDDF mode indicator will indicate the actual operating mode: Dual Fuel, service, or, when appropriate Diesel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"Service mode" indication will be given as soon as the service mode is activ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Dual fuel" and "Diesel mode" indication may not be a steady indication but will last at least 1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mpty gas tank warning indicator will i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dicate the gas tank will soon become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C tests shall be performed in the Dual Fuel mode according to the applicable existing EURO V or EURO VI processes for Diesel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a Diesel mode is also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ests will be also performed in the pure Diesel mode on the same eng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 would mean pass both in Diesel mode and in DF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B08-0344-4354-8725-42CE0A7E4B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 V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oints of progress since GRPE6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x control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 VI NOx control measures shall apply "mutatis mutandis" to HDDF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 VI HDDF shall be subject to full EURO VI OBD applicable to compression ignition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supply system shall be subject to component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MS test at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performed  on the dual fuel mode according to Annex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Diesel mod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so be performed on the Diesel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conclusion if both the PEMS test on DF mode and the PEMS test on Diesel modes have concluded to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0E3-5F33-46DD-B5B3-8FBB5BA898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VI - Lack of gas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perability restriction is activated as soon as a lack of gas supply i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triction is the same as the "severe inducement" specified in EURO VI Annex XIII (i.e. 20km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Diesel mode is available, possibility to switch to the Diesel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triction become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 malfunction of the gas supply sys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30 minutes after activation or after the next time the vehicle is stationary, whatever the earli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an empty tan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(the driver has been war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42E-7FF5-4B52-8F08-A9A4F77A4E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time-plan – on time except for R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738000"/>
            <a:ext cx="8364600" cy="34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 – Dec 201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 -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PE Jan 20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report + informal document -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 – June 20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requirements – done @ 8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PE June 20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report (incl. EURO VI HDDF rules)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R85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– Dec 20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UNECE-R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PE Jan 201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HDDF annexes. + guidance Re Ret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 - Mar 201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DF 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PE June 201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the amendments to UNECE-R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29 Nov 201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the amendments to UNECE-R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0120" y="21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4292640"/>
          <a:ext cx="58388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292640"/>
                    <a:ext cx="5838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516720" y="5589720"/>
            <a:ext cx="2448000" cy="91692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fficulties regarding amendments to R115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Y necessar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5734080"/>
            <a:ext cx="43308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02F-0405-4AFE-9398-5BE22A9422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06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9:45:10Z</dcterms:created>
  <dc:creator>R078864</dc:creator>
  <dc:description/>
  <dc:language>en-US</dc:language>
  <cp:lastModifiedBy>Romain HUBERT</cp:lastModifiedBy>
  <dcterms:modified xsi:type="dcterms:W3CDTF">2011-06-10T16:25:40Z</dcterms:modified>
  <cp:revision>102</cp:revision>
  <dc:subject/>
  <dc:title>HDDF05 – working material</dc:title>
</cp:coreProperties>
</file>