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925CB3D-446F-4EA5-BEB2-59B47DAF104D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09764B-094E-4159-B63E-5DB0CD7B143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F3B2-C728-4DD1-86C4-88D2503BF2AF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6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report to GRPE, 9th June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Report of 6th DTP Meeting to GRPE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9th June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14480"/>
            <a:ext cx="4281480" cy="5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  <a:ea typeface="MS PGothic"/>
              </a:rPr>
              <a:t>Informal document N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RPE-62-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62 GRPE, 7-10 June 2011, agenda item 3(a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verview planning of validation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28480" y="1700280"/>
            <a:ext cx="8229600" cy="2984400"/>
          </a:xfrm>
          <a:prstGeom prst="rect">
            <a:avLst/>
          </a:prstGeom>
          <a:ln w="0">
            <a:noFill/>
          </a:ln>
        </p:spPr>
      </p:pic>
      <p:sp>
        <p:nvSpPr>
          <p:cNvPr id="112" name="Textfeld 4"/>
          <p:cNvSpPr/>
          <p:nvPr/>
        </p:nvSpPr>
        <p:spPr>
          <a:xfrm>
            <a:off x="4788000" y="5229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urce: Validation Task Force, lead J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reed objectiv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terested parti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920" y="1125000"/>
            <a:ext cx="747216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Party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hin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bably Tuev-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di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TSEL, JARI, 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witzerland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A and AFHB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ECC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O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&gt; Final confirmation needed by end of June to DTP chai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test matrix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test matrix presented by Ichikawa-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containing number of labs, type of vehicles and parameters to b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has to be considered as starting point for the detailed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tailed planning is going to be elaborated by validation task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 agreed on the principle for both objectives and test matrix for validation phas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confirmation from parties and laboratories regarding participation in validation phase 2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provide set of parameters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alidation task force will provide a laboratory guidance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DTP meeting (7th) from 12th to 14th September in Bern (details follo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and parties are requested to submit asap the list of participants to DTP7 (number of participants is limited to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t of the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eetings since last G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enda of 6th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neral issues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lanning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85920" y="1052640"/>
            <a:ext cx="7472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r. Krause, secretary of DTP, was unfortunately not present at the meeting for health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very good, nevertherless still many open issues remain to be solved until GRPE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TR manager is not available yet. Start of GTR drafting not possible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planning of validation phase 2 is an urgent matter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vant set of parameters for implementation of validation phase 2 have to be provid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revious meetings of D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85920" y="1197000"/>
            <a:ext cx="747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5th DTP (DTP5) from 12th to 14th April 2011 at EMPA in Dübendorf near Zü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minutes see document WLTP-DTP-05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6th DTP (DTP6) yesterday on 8th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ocuments available on UNECE WLTP website 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5th and DTP6th as well as on EU circa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9336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8620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enda of 6th DTP on 8th June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273320" y="1052640"/>
            <a:ext cx="7475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DTP (ICE progress repor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920" y="1125000"/>
            <a:ext cx="747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Test temperature (results from UTAC and J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Inertia classes (presentation by 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3. Vehicle test mass (presented by 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4. Family concept (not handled, postp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se issues are not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approach is to have further consolidated discussions at DTP7 in Sept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ntracting parties are invited to express their views on these issues until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 particular, have a consolidated EU position on temperature by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ubgroup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s given from LabProcICE, PM/PN, AP and LabProcEV as well as EU study on 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ing progress regarding open issues and GTR drafting has been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sues not absolutely relevant for validation phase 2 will be discussed after consolidation at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evant parameter needed for validation phase 2 have been addressed within the sub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advice required from DTP so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groups agreed to deliver set of parameters needed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Romain HUBERT</cp:lastModifiedBy>
  <cp:lastPrinted>2003-11-14T16:51:38Z</cp:lastPrinted>
  <dcterms:modified xsi:type="dcterms:W3CDTF">2011-06-09T18:14:34Z</dcterms:modified>
  <cp:revision>450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