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39"/>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0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0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9" name="PlaceHolder 5"/>
          <p:cNvSpPr>
            <a:spLocks noGrp="1"/>
          </p:cNvSpPr>
          <p:nvPr>
            <p:ph type="ftr" idx="40"/>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41"/>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nl-NL"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E8DBFC-439E-4DE5-8263-3F0AC581B4CF}"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DD6F4A-B4F2-45F0-875F-B4B10408D095}"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9CC64A-9A46-4D21-8AA3-AD6265B3F1D7}"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925F4A-80B0-4CD6-B69E-F1D7F8F38713}"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0D0837-B78A-45A3-8FE1-C22E07266633}"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9E4D53-FB00-4AF4-B731-3EA1A70553E9}"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714C19-6227-4993-8A30-0016541CF895}"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2AC48E-8084-4F38-A5C2-EEDF2B9EF187}"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D312B4-060F-4142-808E-44D0048E61A7}"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995C71-5684-486F-B94F-E23C49CE4861}"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AF2057-0A95-4DD7-9C44-C6A4D1CE88C1}"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1EFEC4-40CD-4081-821B-EFED8D24EDA2}"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FAB613-3E54-4010-8D33-66631441A27E}"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C5B7BD-7C09-478A-8409-8036691CCEBC}"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041917-CD6F-4D88-B0D7-42D26AC95A84}"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Tijdelijke aanduiding voor dianumm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B2C37C-B639-4C5E-96A1-D32509F214DE}" type="slidenum">
              <a:rPr b="0" lang="nl-NL" sz="1300" spc="-1" strike="noStrike">
                <a:solidFill>
                  <a:srgbClr val="000000"/>
                </a:solidFill>
                <a:latin typeface="Times New Roman"/>
              </a:rPr>
              <a:t>&lt;number&gt;</a:t>
            </a:fld>
            <a:endParaRPr b="0" lang="en-US" sz="13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A2BB1-D198-4275-AD37-71C37FB78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5505-6C9C-4337-87B4-CB87F419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C5B60-EC59-484A-A6FC-AEC18FD706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DE54F-5763-4EA0-971C-33B40B5BF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8FD07-2953-4677-A65B-0405E99AE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51E30-B3BD-4FC2-8E0E-92D179A06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7D6A9-4ADB-4806-BC91-20B8BC6E5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C0FFE-D194-4706-B40E-49AC940E1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7E7C7-6A53-4C36-B24D-6F2FF3EAE5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1243D7-4A1C-4755-98CD-25B06C0CE0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69730F-C45E-4093-8C82-024C6126C6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858DA8-6C17-4092-9B4C-85E76D998B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1FC40-8B98-4C90-82AF-CC75F2B4C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38EFC6-277B-4C9C-9340-4BCA19E3F9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0F8AC6-5D1B-4899-BEB4-3E459ADE9D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F3D24B-9279-496B-9F1C-036C14E189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11F670-778F-4BE9-B4F1-3509323E48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578C4D-C186-4E3D-A60E-462D689881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A02284-581E-4524-9305-18AE7E852C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BC9F1D-0FDF-4439-98D2-5D5DEBEAB2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9B9996-DD54-4E5F-BE61-6601E5A08C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0B708A-53D8-45A6-8707-1DE6FA2891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AF0798-A879-4B49-9E1F-65E7BECEBA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93946-B07D-4485-8C99-06C5CE859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BFE5D4-878E-4409-A195-4C85D20A77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981689-F6F0-45A5-B483-8D66BD76DE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3BAA76-82CC-4907-8E6D-8F3D5DDEE0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C68C13-B57F-4303-B17E-0118DA8C0B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6E3E4B-494A-44E3-9B22-095E2A1F3F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8F368-8E39-4FD5-A6AD-96C7F0534C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891C80-DADF-4E75-BB32-FEFFA62C9B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BEDC6-76D2-4685-B157-D43794A41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62E7D9-ECC3-47DF-B654-05F0FEC502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C1955-7453-4683-9C79-81F8BCC5F6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DDC1E-D353-45D5-BCB5-1EA1B88DE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1BFF72-6A91-466A-BBD5-B9DAE67298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465874-778A-490A-BFA5-2A3AF52E0A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392C30-9C66-4C20-8E1B-175B861B66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97E01B-CA0B-4D2B-97D3-A86263E520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E231A5-17A8-4ADE-A652-76269DE487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9E01C8-283C-4510-9EE1-4CA4E5ADA3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6BB203-6943-4CD5-9DC7-050D4DF3DA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E26A6A-B11D-4139-B015-7BF4195276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794CD6-1CCC-43E6-9D6A-F1BACF9515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595B46-D3AB-45AD-A8B6-E71F125E35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F62BB-02A4-426A-B788-EAD9525D5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E4909D-4E4F-4FD1-A810-678063F0AB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E21414-0130-4695-B3C2-A236EC62A3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F80CC1-3A9D-4ECC-9EF0-7933AF918E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3B2E6D-BB95-4498-9932-2F492B2B98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6DA7EF-1A53-4B4C-8496-278A4DF37F6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5ECA8-2BE2-459A-8A0C-7827F57BC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FB446-C1F8-492B-9FA0-94B551A73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48154-725B-4DA7-AE26-3AB81ED33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34BBB-3C72-4EFF-922B-840517DC0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B373-1FD1-47EE-95D7-5EFB6AC64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3FB2-3013-433C-BE78-7DCBD91A3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F39D8-1204-4E27-A9CF-1106D4928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B21CB-A811-4730-99A2-9E0450C5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E8361-9841-4AF5-9E7C-C6D9BAC9D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18631-4B18-4355-B056-150D38A71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AFED9-052B-4C99-A97E-1F2AD2AF6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D22D6-586C-446B-A4F4-220C23040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E5FD9-DA42-47C1-8A1E-B4DB3DF69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6E4FD-DF66-464D-AF43-4A820BCA8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CB273-F972-4A00-A29D-60B358AB91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6F98D-5E07-4D49-8B8F-A1C925AED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15CB1-E472-43CE-A750-75353F40E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8F03D-FCF8-497B-A5CC-48A3AA843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FD802-6EBF-4A38-B4F2-701D123FC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B892A-2948-448B-9D9E-D83B50EE2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CD391-3237-45D6-B639-F234978C2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1AE54-D7D7-4132-BEA8-4476A7AD7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B5A654-97FC-4AAD-B61E-21595B369F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39A8EC-2A04-485A-AD2F-6E2F7AA30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3DB604-640C-4B86-9D2B-FA54455F3D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DCCA6-022B-4A29-965C-2C7267CD0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BCD25-6FFC-4641-A177-347167FDF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D503-FA2C-4322-A33F-13C85F9C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5AA4F-7A38-46ED-BF0D-311874766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3F2DC-0977-4430-B1C8-2188D6E25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E7DD2-9A0A-469B-A7E0-CA0152901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68ACA-ADC8-489E-BA7A-86DA029F3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D2501-DD14-45F4-91DF-A73CBB368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16BE7-EAF6-42D9-A251-5217C4EB9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22BAC-8F0D-491D-BB2A-D34A8F9B6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4E6892-F076-48AB-89F4-5902397D4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6D0D1-FFF6-472E-869C-E0DE0919A5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06249-153A-4501-9158-ABD0BDBB2B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4286-50EA-48FD-978F-2FC0D27D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3F7D5-1F12-4541-8ADB-143FB078C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68F84-04FF-47EC-BADB-A1C3A0AA3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8DA74D-62D3-40D9-AF55-D28D9E1AC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E7BD1-3F1D-4C9D-85BD-CE9D93BC2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15AC7-DD43-4F78-AE37-51676BF57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760B1-FD53-4ED5-BA77-59221641C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F8A08-7853-432E-AD51-503A72261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539B-9C2B-413C-8B12-F1731B5AC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D9F19-2FE5-4FD1-BD88-C0785F135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94561-B044-4DBA-8E42-24769ED74C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5594-8C0F-4DC4-8A3F-3066E245D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21779-E05D-4318-B480-F84D02AED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3062B8-3589-4EEF-9712-8A29E1979B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350D8-AF84-4ADA-BCE0-3DD4F8602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2203E-44A1-4626-8E4F-5FFE573BF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4E221A-A948-4C1D-AC59-893F364CEF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09CB62-F0B7-404B-BC76-A71656345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D26A3-1B59-4323-B374-7402857B1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8DA24-4797-42DE-A9EB-B46B519ACB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2A37C-D121-4F86-975B-65DFDE9A2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8CE5D-B411-45F6-BB42-9FE225F4F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2A24-9380-478C-ADFA-BE01928E3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ED41A-EF17-46A7-BA53-1B7551B3B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F3ABCB-3EE0-4BB9-B94D-A6C4B6138D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48B409-F22A-4DEF-A33D-E0BBF967AF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49877-D390-4E23-B227-6EF5150665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26474E-A863-4C7D-BB04-97C8DBF00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A68A7-2DD3-4BEB-8652-9EF1271FB6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3CE1CF-10BC-444F-866C-E8311156E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89E7D-ACB9-46B1-B5CE-78909FD85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FFAE0-A229-4D6C-9184-06138CFA0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0A71C-3758-4CAA-A526-3AA371AAB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C601-1301-45F6-A834-94C8A4941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4C312-7161-4C1E-9C93-31A026329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974CE-AE49-40C9-81DD-14437C29A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CCC32-D133-4C0B-AD8F-F56C49242A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88F774-9C81-4B00-AE62-B3A658AA49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90934D-4F44-4A4B-BF93-82B2FE236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50F668-A672-49D7-AB86-C77AE4486D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F46F2-877B-45D5-8703-CAC6EF4E27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27621-26F3-49BA-8684-62CE287DCD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D7CD6-7037-4ECD-9086-9CC2883DD2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14FD9-EFA5-4B76-A820-CD675F1D8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F090-6C95-466B-95D7-39030B26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D9886-1DFA-43B6-93A4-D3AF1D88E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D162AC-517C-4682-AE53-20B912E0B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B4399-4A77-4BD8-84B6-7631DC2C5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7029A-3BDC-486A-A53A-28EFACC1B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05C7BA-B082-4E3A-8C84-7A17116C3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20FEF0-6712-46B0-8451-A0A2A01377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FA7BC9-BEF4-49A8-A0C4-F3D8106676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34AD53-B6DD-45C0-8133-E91CF62ECE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5EB98-7358-4C7D-8C74-48C3A779D2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0CDC4-4F95-460B-8DF8-17F40D08C4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 name="Rechthoekige driehoek 13"/>
          <p:cNvGrpSpPr/>
          <p:nvPr/>
        </p:nvGrpSpPr>
        <p:grpSpPr>
          <a:xfrm>
            <a:off x="-12600" y="5784840"/>
            <a:ext cx="3414600" cy="1092240"/>
            <a:chOff x="-12600" y="5784840"/>
            <a:chExt cx="3414600" cy="1092240"/>
          </a:xfrm>
        </p:grpSpPr>
        <p:pic>
          <p:nvPicPr>
            <p:cNvPr id="3" name="Rechthoekige driehoek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 name="Rechte verbindingslijn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CA4D-B817-409A-A0E3-20E1C82A2B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Vrije vorm 7"/>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6" name="Vrije vorm 8"/>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17" name="Rechthoekige driehoek 9"/>
          <p:cNvGrpSpPr/>
          <p:nvPr/>
        </p:nvGrpSpPr>
        <p:grpSpPr>
          <a:xfrm>
            <a:off x="-12600" y="5784840"/>
            <a:ext cx="3414600" cy="1092240"/>
            <a:chOff x="-12600" y="5784840"/>
            <a:chExt cx="3414600" cy="1092240"/>
          </a:xfrm>
        </p:grpSpPr>
        <p:pic>
          <p:nvPicPr>
            <p:cNvPr id="418" name="Rechthoekige driehoek 9" descr=""/>
            <p:cNvPicPr/>
            <p:nvPr/>
          </p:nvPicPr>
          <p:blipFill>
            <a:blip r:embed="rId3"/>
            <a:stretch/>
          </p:blipFill>
          <p:spPr>
            <a:xfrm>
              <a:off x="-12600" y="5784840"/>
              <a:ext cx="3414600" cy="1092240"/>
            </a:xfrm>
            <a:prstGeom prst="rect">
              <a:avLst/>
            </a:prstGeom>
            <a:ln w="0">
              <a:noFill/>
            </a:ln>
          </p:spPr>
        </p:pic>
        <p:sp>
          <p:nvSpPr>
            <p:cNvPr id="4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20" name="Rechte verbindingslijn 10" descr=""/>
          <p:cNvPicPr/>
          <p:nvPr/>
        </p:nvPicPr>
        <p:blipFill>
          <a:blip r:embed="rId4"/>
          <a:stretch/>
        </p:blipFill>
        <p:spPr>
          <a:xfrm>
            <a:off x="-19080" y="5772240"/>
            <a:ext cx="3421080" cy="1109520"/>
          </a:xfrm>
          <a:prstGeom prst="rect">
            <a:avLst/>
          </a:prstGeom>
          <a:ln w="0">
            <a:noFill/>
          </a:ln>
        </p:spPr>
      </p:pic>
      <p:sp>
        <p:nvSpPr>
          <p:cNvPr id="421" name="Punthaak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2" name="Punthaak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9 June 2011</a:t>
            </a:r>
            <a:endParaRPr b="0" lang="en-US" sz="1000" spc="-1" strike="noStrike">
              <a:solidFill>
                <a:srgbClr val="000000"/>
              </a:solidFill>
              <a:latin typeface="Times New Roman"/>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47D2-BA0E-4655-B80E-EA9808C3AE9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5"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66" name="Rechthoekige driehoek 13"/>
          <p:cNvGrpSpPr/>
          <p:nvPr/>
        </p:nvGrpSpPr>
        <p:grpSpPr>
          <a:xfrm>
            <a:off x="-12600" y="5784840"/>
            <a:ext cx="3414600" cy="1092240"/>
            <a:chOff x="-12600" y="5784840"/>
            <a:chExt cx="3414600" cy="1092240"/>
          </a:xfrm>
        </p:grpSpPr>
        <p:pic>
          <p:nvPicPr>
            <p:cNvPr id="467" name="Rechthoekige driehoek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9" name="Rechte verbindingslijn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A872-EECC-4FAB-9430-F96F9F0F8E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2"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513" name="Rechthoekige driehoek 13"/>
          <p:cNvGrpSpPr/>
          <p:nvPr/>
        </p:nvGrpSpPr>
        <p:grpSpPr>
          <a:xfrm>
            <a:off x="-12600" y="5784840"/>
            <a:ext cx="3414600" cy="1092240"/>
            <a:chOff x="-12600" y="5784840"/>
            <a:chExt cx="3414600" cy="1092240"/>
          </a:xfrm>
        </p:grpSpPr>
        <p:pic>
          <p:nvPicPr>
            <p:cNvPr id="514" name="Rechthoekige driehoek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16" name="Rechte verbindingslijn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52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A62C-E26D-4302-B67A-49033DA01C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9"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560" name="Rechthoekige driehoek 13"/>
          <p:cNvGrpSpPr/>
          <p:nvPr/>
        </p:nvGrpSpPr>
        <p:grpSpPr>
          <a:xfrm>
            <a:off x="-12600" y="5784840"/>
            <a:ext cx="3414600" cy="1092240"/>
            <a:chOff x="-12600" y="5784840"/>
            <a:chExt cx="3414600" cy="1092240"/>
          </a:xfrm>
        </p:grpSpPr>
        <p:pic>
          <p:nvPicPr>
            <p:cNvPr id="561" name="Rechthoekige driehoek 13" descr=""/>
            <p:cNvPicPr/>
            <p:nvPr/>
          </p:nvPicPr>
          <p:blipFill>
            <a:blip r:embed="rId2"/>
            <a:stretch/>
          </p:blipFill>
          <p:spPr>
            <a:xfrm>
              <a:off x="-12600" y="5784840"/>
              <a:ext cx="3414600" cy="1092240"/>
            </a:xfrm>
            <a:prstGeom prst="rect">
              <a:avLst/>
            </a:prstGeom>
            <a:ln w="0">
              <a:noFill/>
            </a:ln>
          </p:spPr>
        </p:pic>
        <p:sp>
          <p:nvSpPr>
            <p:cNvPr id="5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63" name="Rechte verbindingslijn 14" descr=""/>
          <p:cNvPicPr/>
          <p:nvPr/>
        </p:nvPicPr>
        <p:blipFill>
          <a:blip r:embed="rId3"/>
          <a:stretch/>
        </p:blipFill>
        <p:spPr>
          <a:xfrm>
            <a:off x="-19080" y="5772240"/>
            <a:ext cx="3421080" cy="11095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66"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567"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8" name="Groep 1"/>
          <p:cNvGrpSpPr/>
          <p:nvPr/>
        </p:nvGrpSpPr>
        <p:grpSpPr>
          <a:xfrm>
            <a:off x="-3240" y="4952880"/>
            <a:ext cx="9147240" cy="1911600"/>
            <a:chOff x="-3240" y="4952880"/>
            <a:chExt cx="9147240" cy="1911600"/>
          </a:xfrm>
        </p:grpSpPr>
        <p:sp>
          <p:nvSpPr>
            <p:cNvPr id="49" name="Vrije vorm 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 name="Vrije vorm 7"/>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51" name="Vrije vorm 10"/>
            <p:cNvGrpSpPr/>
            <p:nvPr/>
          </p:nvGrpSpPr>
          <p:grpSpPr>
            <a:xfrm>
              <a:off x="2520" y="4992120"/>
              <a:ext cx="9141480" cy="1872360"/>
              <a:chOff x="2520" y="4992120"/>
              <a:chExt cx="9141480" cy="1872360"/>
            </a:xfrm>
          </p:grpSpPr>
          <p:pic>
            <p:nvPicPr>
              <p:cNvPr id="52" name="Vrije vorm 10"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4" name="Rechte verbindingslijn 11"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9 June 2011</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AFA8-8ED9-4E4A-A663-B9125E06984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8" name="Rechthoekige driehoek 13"/>
          <p:cNvGrpSpPr/>
          <p:nvPr/>
        </p:nvGrpSpPr>
        <p:grpSpPr>
          <a:xfrm>
            <a:off x="-12600" y="5784840"/>
            <a:ext cx="3414600" cy="1092240"/>
            <a:chOff x="-12600" y="5784840"/>
            <a:chExt cx="3414600" cy="1092240"/>
          </a:xfrm>
        </p:grpSpPr>
        <p:pic>
          <p:nvPicPr>
            <p:cNvPr id="99" name="Rechthoekige driehoek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101" name="Rechte verbindingslijn 14" descr=""/>
          <p:cNvPicPr/>
          <p:nvPr/>
        </p:nvPicPr>
        <p:blipFill>
          <a:blip r:embed="rId3"/>
          <a:stretch/>
        </p:blipFill>
        <p:spPr>
          <a:xfrm>
            <a:off x="-19080" y="5772240"/>
            <a:ext cx="3421080" cy="11095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594D-352C-4BC0-8240-D461FE3944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45" name="Rechthoekige driehoek 13"/>
          <p:cNvGrpSpPr/>
          <p:nvPr/>
        </p:nvGrpSpPr>
        <p:grpSpPr>
          <a:xfrm>
            <a:off x="-12600" y="5784840"/>
            <a:ext cx="3414600" cy="1092240"/>
            <a:chOff x="-12600" y="5784840"/>
            <a:chExt cx="3414600" cy="1092240"/>
          </a:xfrm>
        </p:grpSpPr>
        <p:pic>
          <p:nvPicPr>
            <p:cNvPr id="146" name="Rechthoekige driehoek 13"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148" name="Rechte verbindingslijn 14" descr=""/>
          <p:cNvPicPr/>
          <p:nvPr/>
        </p:nvPicPr>
        <p:blipFill>
          <a:blip r:embed="rId4"/>
          <a:stretch/>
        </p:blipFill>
        <p:spPr>
          <a:xfrm>
            <a:off x="-19080" y="5772240"/>
            <a:ext cx="3421080" cy="1109520"/>
          </a:xfrm>
          <a:prstGeom prst="rect">
            <a:avLst/>
          </a:prstGeom>
          <a:ln w="0">
            <a:noFill/>
          </a:ln>
        </p:spPr>
      </p:pic>
      <p:sp>
        <p:nvSpPr>
          <p:cNvPr id="149" name="Punthaak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0" name="Punthaak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9 June 2011</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0828-A6DB-4F5B-B7C8-104E0C4F8E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4" name="Rechthoekige driehoek 13"/>
          <p:cNvGrpSpPr/>
          <p:nvPr/>
        </p:nvGrpSpPr>
        <p:grpSpPr>
          <a:xfrm>
            <a:off x="-12600" y="5784840"/>
            <a:ext cx="3414600" cy="1092240"/>
            <a:chOff x="-12600" y="5784840"/>
            <a:chExt cx="3414600" cy="1092240"/>
          </a:xfrm>
        </p:grpSpPr>
        <p:pic>
          <p:nvPicPr>
            <p:cNvPr id="195" name="Rechthoekige driehoek 13"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197" name="Rechte verbindingslijn 14" descr=""/>
          <p:cNvPicPr/>
          <p:nvPr/>
        </p:nvPicPr>
        <p:blipFill>
          <a:blip r:embed="rId4"/>
          <a:stretch/>
        </p:blipFill>
        <p:spPr>
          <a:xfrm>
            <a:off x="-19080" y="5772240"/>
            <a:ext cx="3421080" cy="11095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9 June 2011</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0737-E441-4570-BD54-67F56932183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8207-9745-4A31-A201-AD67C2FC53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2" name="Rechthoekige driehoek 13"/>
          <p:cNvGrpSpPr/>
          <p:nvPr/>
        </p:nvGrpSpPr>
        <p:grpSpPr>
          <a:xfrm>
            <a:off x="-12600" y="5784840"/>
            <a:ext cx="3414600" cy="1092240"/>
            <a:chOff x="-12600" y="5784840"/>
            <a:chExt cx="3414600" cy="1092240"/>
          </a:xfrm>
        </p:grpSpPr>
        <p:pic>
          <p:nvPicPr>
            <p:cNvPr id="283" name="Rechthoekige driehoek 13" descr=""/>
            <p:cNvPicPr/>
            <p:nvPr/>
          </p:nvPicPr>
          <p:blipFill>
            <a:blip r:embed="rId3"/>
            <a:stretch/>
          </p:blipFill>
          <p:spPr>
            <a:xfrm>
              <a:off x="-12600" y="5784840"/>
              <a:ext cx="3414600" cy="109224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285" name="Rechte verbindingslijn 14" descr=""/>
          <p:cNvPicPr/>
          <p:nvPr/>
        </p:nvPicPr>
        <p:blipFill>
          <a:blip r:embed="rId4"/>
          <a:stretch/>
        </p:blipFill>
        <p:spPr>
          <a:xfrm>
            <a:off x="-19080" y="5772240"/>
            <a:ext cx="3421080" cy="1109520"/>
          </a:xfrm>
          <a:prstGeom prst="rect">
            <a:avLst/>
          </a:prstGeom>
          <a:ln w="0">
            <a:noFill/>
          </a:ln>
        </p:spPr>
      </p:pic>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9 June 2011</a:t>
            </a:r>
            <a:endParaRPr b="0" lang="en-US" sz="1000" spc="-1" strike="noStrike">
              <a:solidFill>
                <a:srgbClr val="000000"/>
              </a:solidFill>
              <a:latin typeface="Times New Roman"/>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0623-5DBA-4E07-BCD3-B5387F7D788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Vrije v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8" name="Vrije v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29" name="Rechthoekige driehoek 13"/>
          <p:cNvGrpSpPr/>
          <p:nvPr/>
        </p:nvGrpSpPr>
        <p:grpSpPr>
          <a:xfrm>
            <a:off x="-12600" y="5784840"/>
            <a:ext cx="3414600" cy="1092240"/>
            <a:chOff x="-12600" y="5784840"/>
            <a:chExt cx="3414600" cy="1092240"/>
          </a:xfrm>
        </p:grpSpPr>
        <p:pic>
          <p:nvPicPr>
            <p:cNvPr id="330" name="Rechthoekige driehoek 13" descr=""/>
            <p:cNvPicPr/>
            <p:nvPr/>
          </p:nvPicPr>
          <p:blipFill>
            <a:blip r:embed="rId2"/>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22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32" name="Rechte verbindingslijn 14" descr=""/>
          <p:cNvPicPr/>
          <p:nvPr/>
        </p:nvPicPr>
        <p:blipFill>
          <a:blip r:embed="rId3"/>
          <a:stretch/>
        </p:blipFill>
        <p:spPr>
          <a:xfrm>
            <a:off x="-19080" y="5772240"/>
            <a:ext cx="3421080" cy="11095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33CA-CB95-4B24-9AC1-30FC3A1DAE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9 June 2011</a:t>
            </a:r>
            <a:endParaRPr b="0" lang="en-US" sz="1000" spc="-1" strike="noStrike">
              <a:solidFill>
                <a:srgbClr val="000000"/>
              </a:solidFill>
              <a:latin typeface="Times New Roman"/>
            </a:endParaRPr>
          </a:p>
        </p:txBody>
      </p:sp>
      <p:sp>
        <p:nvSpPr>
          <p:cNvPr id="37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ts val="22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C86C-5371-4059-9DB1-BD4F86112C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Rectangle 2" descr=""/>
          <p:cNvPicPr/>
          <p:nvPr/>
        </p:nvPicPr>
        <p:blipFill>
          <a:blip r:embed="rId1"/>
          <a:stretch/>
        </p:blipFill>
        <p:spPr>
          <a:xfrm>
            <a:off x="676440" y="974880"/>
            <a:ext cx="8265960" cy="2616120"/>
          </a:xfrm>
          <a:prstGeom prst="rect">
            <a:avLst/>
          </a:prstGeom>
          <a:ln w="0">
            <a:noFill/>
          </a:ln>
        </p:spPr>
      </p:pic>
      <p:sp>
        <p:nvSpPr>
          <p:cNvPr id="612"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64646"/>
                </a:solidFill>
                <a:latin typeface="Lucida Sans Unicode"/>
              </a:rPr>
              <a:t>Geneva, 62nd GRPE</a:t>
            </a: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64646"/>
                </a:solidFill>
                <a:latin typeface="Lucida Sans Unicode"/>
              </a:rPr>
              <a:t>Henk Baarbé</a:t>
            </a:r>
            <a:endParaRPr b="0" lang="en-US" sz="1100" spc="-1" strike="noStrike">
              <a:solidFill>
                <a:srgbClr val="000000"/>
              </a:solidFill>
              <a:latin typeface="Lucida Sans Unicode"/>
            </a:endParaRPr>
          </a:p>
        </p:txBody>
      </p:sp>
      <p:sp>
        <p:nvSpPr>
          <p:cNvPr id="613" name="Tijdelijke aanduiding voor datum 6"/>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9 June 2011</a:t>
            </a:r>
            <a:endParaRPr b="0" lang="en-US" sz="1000" spc="-1" strike="noStrike">
              <a:solidFill>
                <a:srgbClr val="ffffff"/>
              </a:solidFill>
              <a:latin typeface="Verdana"/>
            </a:endParaRPr>
          </a:p>
        </p:txBody>
      </p:sp>
      <p:sp>
        <p:nvSpPr>
          <p:cNvPr id="614" name="Tijdelijke aanduiding voor dianummer 7"/>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980E-401D-4DE9-A1A9-AE1FC73E7545}" type="slidenum">
              <a:rPr b="0"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15" name=""/>
          <p:cNvSpPr/>
          <p:nvPr/>
        </p:nvSpPr>
        <p:spPr>
          <a:xfrm>
            <a:off x="4643280" y="189000"/>
            <a:ext cx="4281480" cy="559080"/>
          </a:xfrm>
          <a:prstGeom prst="rect">
            <a:avLst/>
          </a:prstGeom>
          <a:noFill/>
          <a:ln w="0">
            <a:noFill/>
          </a:ln>
        </p:spPr>
        <p:style>
          <a:lnRef idx="0"/>
          <a:fillRef idx="0"/>
          <a:effectRef idx="0"/>
          <a:fontRef idx="minor"/>
        </p:style>
        <p:txBody>
          <a:bodyPr lIns="18000" rIns="18000" tIns="36000" bIns="3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MS PGothic"/>
              </a:rPr>
              <a:t>Informal document No</a:t>
            </a:r>
            <a:r>
              <a:rPr b="0" lang="en-GB" sz="1600" spc="-1" strike="noStrike">
                <a:solidFill>
                  <a:srgbClr val="000000"/>
                </a:solidFill>
                <a:latin typeface="Times New Roman"/>
                <a:ea typeface="MS PGothic"/>
              </a:rPr>
              <a:t>. </a:t>
            </a:r>
            <a:r>
              <a:rPr b="1" lang="en-GB" sz="1600" spc="-1" strike="noStrike">
                <a:solidFill>
                  <a:srgbClr val="000000"/>
                </a:solidFill>
                <a:latin typeface="Times New Roman"/>
                <a:ea typeface="MS PGothic"/>
              </a:rPr>
              <a:t>GRPE-62-12</a:t>
            </a:r>
            <a:endParaRPr b="0" lang="en-US" sz="16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MS PGothic"/>
              </a:rPr>
              <a:t>(62 GRPE, 7-10 June 2011, agenda item 4(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operator of the vehicle or machine is responsible for its continued safe operation in accordance with the applicable legislation. The installation of the retrofit system shall not compromise this safety.</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maximum exhaust gas back pressure prescribed by the manufacturer of the engine and stated in its type approval documents shall be respected by the retrofit syste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trofit systems shall not interfere with the operation of the original engine and its OEM after treatment systems.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49" name="Titel 2" descr=""/>
          <p:cNvPicPr/>
          <p:nvPr/>
        </p:nvPicPr>
        <p:blipFill>
          <a:blip r:embed="rId1"/>
          <a:stretch/>
        </p:blipFill>
        <p:spPr>
          <a:xfrm>
            <a:off x="201600" y="268200"/>
            <a:ext cx="8491680" cy="1158840"/>
          </a:xfrm>
          <a:prstGeom prst="rect">
            <a:avLst/>
          </a:prstGeom>
          <a:ln w="0">
            <a:noFill/>
          </a:ln>
        </p:spPr>
      </p:pic>
      <p:sp>
        <p:nvSpPr>
          <p:cNvPr id="650"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51"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1145-6C60-4240-A691-5428CF24E514}"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178920" y="1196640"/>
            <a:ext cx="8713800" cy="4957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 we need a particle number requirement to evaluate the efficacy of wall flow type particle filters also for upgrades to less than Euro VI?</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much extra NO2 do we accept in case of filters with regeneration with the help of NO2? There seems to be support for the CARB figure of 20%</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 we want to discriminate between filters with a limited increase in NO2 and filters with no increase of NO2 at al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do we guarantee effective operation of DeNOx systems in practical (urban) conditions of use, for some of which the ETC and ESC test cycles have shown poor representativenes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53" name="Titel 2" descr=""/>
          <p:cNvPicPr/>
          <p:nvPr/>
        </p:nvPicPr>
        <p:blipFill>
          <a:blip r:embed="rId1"/>
          <a:stretch/>
        </p:blipFill>
        <p:spPr>
          <a:xfrm>
            <a:off x="109440" y="317520"/>
            <a:ext cx="8431200" cy="882720"/>
          </a:xfrm>
          <a:prstGeom prst="rect">
            <a:avLst/>
          </a:prstGeom>
          <a:ln w="0">
            <a:noFill/>
          </a:ln>
        </p:spPr>
      </p:pic>
      <p:sp>
        <p:nvSpPr>
          <p:cNvPr id="654"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55"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93D2-1AA7-47A4-AAE0-03FD2A552549}"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do we prevent or control the unwanted formation of toxic substances due to catalytic chemistry in traps or catalytic convertors without creating to much expensive testing burden on manufacturer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kind of monitoring, data logging and OBD provisions shall be applied, including NOx control?</a:t>
            </a:r>
            <a:endParaRPr b="0" lang="en-US" sz="2400" spc="-1" strike="noStrike">
              <a:solidFill>
                <a:srgbClr val="000000"/>
              </a:solidFill>
              <a:latin typeface="Lucida Sans Unicode"/>
            </a:endParaRPr>
          </a:p>
        </p:txBody>
      </p:sp>
      <p:pic>
        <p:nvPicPr>
          <p:cNvPr id="657" name="Titel 2" descr=""/>
          <p:cNvPicPr/>
          <p:nvPr/>
        </p:nvPicPr>
        <p:blipFill>
          <a:blip r:embed="rId1"/>
          <a:stretch/>
        </p:blipFill>
        <p:spPr>
          <a:xfrm>
            <a:off x="201600" y="268200"/>
            <a:ext cx="8491680" cy="1158840"/>
          </a:xfrm>
          <a:prstGeom prst="rect">
            <a:avLst/>
          </a:prstGeom>
          <a:ln w="0">
            <a:noFill/>
          </a:ln>
        </p:spPr>
      </p:pic>
      <p:sp>
        <p:nvSpPr>
          <p:cNvPr id="658"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59"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ADCC-F01E-4874-ADA6-8CC1D1E23396}"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0" name=""/>
          <p:cNvSpPr txBox="1"/>
          <p:nvPr/>
        </p:nvSpPr>
        <p:spPr>
          <a:xfrm>
            <a:off x="457200" y="1341360"/>
            <a:ext cx="8229600" cy="4665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informal group had its </a:t>
            </a:r>
            <a:r>
              <a:rPr b="1" lang="en-GB" sz="2400" spc="-1" strike="noStrike">
                <a:solidFill>
                  <a:srgbClr val="000000"/>
                </a:solidFill>
                <a:latin typeface="Arial"/>
                <a:ea typeface="Arial"/>
              </a:rPr>
              <a:t>first</a:t>
            </a:r>
            <a:r>
              <a:rPr b="0" lang="en-GB" sz="2400" spc="-1" strike="noStrike">
                <a:solidFill>
                  <a:srgbClr val="000000"/>
                </a:solidFill>
                <a:latin typeface="Arial"/>
                <a:ea typeface="Arial"/>
              </a:rPr>
              <a:t> meeting in conjunction with the 60</a:t>
            </a:r>
            <a:r>
              <a:rPr b="0" lang="en-GB" sz="2400" spc="-1" strike="noStrike" baseline="30000">
                <a:solidFill>
                  <a:srgbClr val="000000"/>
                </a:solidFill>
                <a:latin typeface="Arial"/>
                <a:ea typeface="Arial"/>
              </a:rPr>
              <a:t>th</a:t>
            </a:r>
            <a:r>
              <a:rPr b="0" lang="en-GB" sz="2400" spc="-1" strike="noStrike">
                <a:solidFill>
                  <a:srgbClr val="000000"/>
                </a:solidFill>
                <a:latin typeface="Arial"/>
                <a:ea typeface="Arial"/>
              </a:rPr>
              <a:t> GRPE on 7 June 2010. This meeting was largely spend on discussing the draft mandate of the group and the general approach and plann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1" lang="en-GB" sz="2400" spc="-1" strike="noStrike">
                <a:solidFill>
                  <a:srgbClr val="000000"/>
                </a:solidFill>
                <a:latin typeface="Arial"/>
                <a:ea typeface="Arial"/>
              </a:rPr>
              <a:t>second</a:t>
            </a:r>
            <a:r>
              <a:rPr b="0" lang="en-GB" sz="2400" spc="-1" strike="noStrike">
                <a:solidFill>
                  <a:srgbClr val="000000"/>
                </a:solidFill>
                <a:latin typeface="Arial"/>
                <a:ea typeface="Arial"/>
              </a:rPr>
              <a:t> meeting was held in Brussels on 27 September 2010. It was spend on a final review of the mandate and on the identification of outstanding issu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1" lang="en-GB" sz="2400" spc="-1" strike="noStrike">
                <a:solidFill>
                  <a:srgbClr val="000000"/>
                </a:solidFill>
                <a:latin typeface="Arial"/>
                <a:ea typeface="Arial"/>
              </a:rPr>
              <a:t>third</a:t>
            </a:r>
            <a:r>
              <a:rPr b="0" lang="en-GB" sz="2400" spc="-1" strike="noStrike">
                <a:solidFill>
                  <a:srgbClr val="000000"/>
                </a:solidFill>
                <a:latin typeface="Arial"/>
                <a:ea typeface="Arial"/>
              </a:rPr>
              <a:t> meeting was held in conjunction with the 61</a:t>
            </a:r>
            <a:r>
              <a:rPr b="0" lang="en-GB" sz="2400" spc="-1" strike="noStrike" baseline="30000">
                <a:solidFill>
                  <a:srgbClr val="000000"/>
                </a:solidFill>
                <a:latin typeface="Arial"/>
                <a:ea typeface="Arial"/>
              </a:rPr>
              <a:t>st</a:t>
            </a:r>
            <a:r>
              <a:rPr b="0" lang="en-GB" sz="2400" spc="-1" strike="noStrike">
                <a:solidFill>
                  <a:srgbClr val="000000"/>
                </a:solidFill>
                <a:latin typeface="Arial"/>
                <a:ea typeface="Arial"/>
              </a:rPr>
              <a:t> GRPE on 11 January 2011.  A first draft Regulation was presented and discussed.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61" name="Titel 2" descr=""/>
          <p:cNvPicPr/>
          <p:nvPr/>
        </p:nvPicPr>
        <p:blipFill>
          <a:blip r:embed="rId1"/>
          <a:stretch/>
        </p:blipFill>
        <p:spPr>
          <a:xfrm>
            <a:off x="201600" y="268200"/>
            <a:ext cx="8491680" cy="1158840"/>
          </a:xfrm>
          <a:prstGeom prst="rect">
            <a:avLst/>
          </a:prstGeom>
          <a:ln w="0">
            <a:noFill/>
          </a:ln>
        </p:spPr>
      </p:pic>
      <p:sp>
        <p:nvSpPr>
          <p:cNvPr id="662"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63"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7B0A-C349-45C6-B711-B572CB1F3A71}"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1" lang="en-GB" sz="2400" spc="-1" strike="noStrike">
                <a:solidFill>
                  <a:srgbClr val="000000"/>
                </a:solidFill>
                <a:latin typeface="Arial"/>
                <a:ea typeface="Arial"/>
              </a:rPr>
              <a:t>fourth</a:t>
            </a:r>
            <a:r>
              <a:rPr b="0" lang="en-GB" sz="2400" spc="-1" strike="noStrike">
                <a:solidFill>
                  <a:srgbClr val="000000"/>
                </a:solidFill>
                <a:latin typeface="Arial"/>
                <a:ea typeface="Arial"/>
              </a:rPr>
              <a:t> meeting was held in Brussels on 31 March 2011. It was largely spend on discussing the draft Regulation and some outstanding issues. </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1" lang="en-GB" sz="2400" spc="-1" strike="noStrike">
                <a:solidFill>
                  <a:srgbClr val="000000"/>
                </a:solidFill>
                <a:latin typeface="Arial"/>
                <a:ea typeface="Arial"/>
              </a:rPr>
              <a:t>fifth</a:t>
            </a:r>
            <a:r>
              <a:rPr b="0" lang="en-GB" sz="2400" spc="-1" strike="noStrike">
                <a:solidFill>
                  <a:srgbClr val="000000"/>
                </a:solidFill>
                <a:latin typeface="Arial"/>
                <a:ea typeface="Arial"/>
              </a:rPr>
              <a:t> meeting was again held in Brussels on 11 May 2011. It was spend on further discussing the draft Regulation and outstanding issue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1" lang="en-GB" sz="2400" spc="-1" strike="noStrike">
                <a:solidFill>
                  <a:srgbClr val="000000"/>
                </a:solidFill>
                <a:latin typeface="Arial"/>
                <a:ea typeface="Arial"/>
              </a:rPr>
              <a:t>sixth</a:t>
            </a:r>
            <a:r>
              <a:rPr b="0" lang="en-GB" sz="2400" spc="-1" strike="noStrike">
                <a:solidFill>
                  <a:srgbClr val="000000"/>
                </a:solidFill>
                <a:latin typeface="Arial"/>
                <a:ea typeface="Arial"/>
              </a:rPr>
              <a:t> meeting was held in Geneva on 6 June 2011 in conjunction with this GRPE. It was spend on discussions on the general approach and some outstanding issu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5" name="Titel 1" descr=""/>
          <p:cNvPicPr/>
          <p:nvPr/>
        </p:nvPicPr>
        <p:blipFill>
          <a:blip r:embed="rId1"/>
          <a:stretch/>
        </p:blipFill>
        <p:spPr>
          <a:xfrm>
            <a:off x="201600" y="268200"/>
            <a:ext cx="8491680" cy="1158840"/>
          </a:xfrm>
          <a:prstGeom prst="rect">
            <a:avLst/>
          </a:prstGeom>
          <a:ln w="0">
            <a:noFill/>
          </a:ln>
        </p:spPr>
      </p:pic>
      <p:sp>
        <p:nvSpPr>
          <p:cNvPr id="666"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67"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4F51-E137-4219-B1F8-BAC822E1397E}"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rther meetings are being planned for September, at JRC in Ispra, Italy, (tentative dates 20 and 21 September), and in November, possibly in The Hague (Netherland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 REC September meeting a first draft on DeNOx requirements shall be prepared and discussed.</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t is the aim of the informal group to present for consideration a first draft Regulation to GRPE during its 63</a:t>
            </a:r>
            <a:r>
              <a:rPr b="0" lang="en-GB" sz="2400" spc="-1" strike="noStrike" baseline="30000">
                <a:solidFill>
                  <a:srgbClr val="000000"/>
                </a:solidFill>
                <a:latin typeface="Arial"/>
                <a:ea typeface="Arial"/>
              </a:rPr>
              <a:t>rd</a:t>
            </a:r>
            <a:r>
              <a:rPr b="0" lang="en-GB" sz="2400" spc="-1" strike="noStrike">
                <a:solidFill>
                  <a:srgbClr val="000000"/>
                </a:solidFill>
                <a:latin typeface="Arial"/>
                <a:ea typeface="Arial"/>
              </a:rPr>
              <a:t> meeting in January 2012, and a final draft Regulation during its 64</a:t>
            </a:r>
            <a:r>
              <a:rPr b="0" lang="en-GB" sz="2400" spc="-1" strike="noStrike" baseline="30000">
                <a:solidFill>
                  <a:srgbClr val="000000"/>
                </a:solidFill>
                <a:latin typeface="Arial"/>
                <a:ea typeface="Arial"/>
              </a:rPr>
              <a:t>th</a:t>
            </a:r>
            <a:r>
              <a:rPr b="0" lang="en-GB" sz="2400" spc="-1" strike="noStrike">
                <a:solidFill>
                  <a:srgbClr val="000000"/>
                </a:solidFill>
                <a:latin typeface="Arial"/>
                <a:ea typeface="Arial"/>
              </a:rPr>
              <a:t> meeting in June 2012.</a:t>
            </a:r>
            <a:endParaRPr b="0" lang="en-US" sz="2400" spc="-1" strike="noStrike">
              <a:solidFill>
                <a:srgbClr val="000000"/>
              </a:solidFill>
              <a:latin typeface="Lucida Sans Unicode"/>
            </a:endParaRPr>
          </a:p>
        </p:txBody>
      </p:sp>
      <p:pic>
        <p:nvPicPr>
          <p:cNvPr id="669" name="Titel 2" descr=""/>
          <p:cNvPicPr/>
          <p:nvPr/>
        </p:nvPicPr>
        <p:blipFill>
          <a:blip r:embed="rId1"/>
          <a:stretch/>
        </p:blipFill>
        <p:spPr>
          <a:xfrm>
            <a:off x="201600" y="268200"/>
            <a:ext cx="8491680" cy="1158840"/>
          </a:xfrm>
          <a:prstGeom prst="rect">
            <a:avLst/>
          </a:prstGeom>
          <a:ln w="0">
            <a:noFill/>
          </a:ln>
        </p:spPr>
      </p:pic>
      <p:sp>
        <p:nvSpPr>
          <p:cNvPr id="670"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71"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28B23-D177-408C-9FE2-403FCAD5ED22}"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txBox="1"/>
          <p:nvPr/>
        </p:nvSpPr>
        <p:spPr>
          <a:xfrm>
            <a:off x="366480" y="1557360"/>
            <a:ext cx="8453160" cy="459720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group decided to start its work on retrofit devices reducing the emission of particulates. Germany offered to prepare a first draft Regulation, following the approach of Annex 27 to the German Road Traffic Regulations.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quirements and procedures for the approval of devices reducing NOx would be added at a later stage, being coordinated by the chair and AECC and seeking cooperation with UK and Swiss activities on the certification of retrofit NOx reduction system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Sans Unicode"/>
              </a:rPr>
              <a:t>  </a:t>
            </a: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p:txBody>
      </p:sp>
      <p:pic>
        <p:nvPicPr>
          <p:cNvPr id="617" name="Titel 2" descr=""/>
          <p:cNvPicPr/>
          <p:nvPr/>
        </p:nvPicPr>
        <p:blipFill>
          <a:blip r:embed="rId1"/>
          <a:stretch/>
        </p:blipFill>
        <p:spPr>
          <a:xfrm>
            <a:off x="201600" y="268200"/>
            <a:ext cx="8491680" cy="1158840"/>
          </a:xfrm>
          <a:prstGeom prst="rect">
            <a:avLst/>
          </a:prstGeom>
          <a:ln w="0">
            <a:noFill/>
          </a:ln>
        </p:spPr>
      </p:pic>
      <p:sp>
        <p:nvSpPr>
          <p:cNvPr id="618"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19"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D784-F39F-4A22-93AD-8611C4BA5D73}"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nder the 1958 Agreement it is generally not possible to have two or more different stringency levels in one Regulation to be applied simultaneously, except for a transitional period between successive series of amendments.</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aims of the project is to test and approve systems that are able to upgrade Euro II, III, IV and V engines to the limit values of Euro III, IV, V and VI engines, and similar steps for engines approved according to Regulation 96, for NOx and/or Particulate Matter.</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1" name="Titel 2" descr=""/>
          <p:cNvPicPr/>
          <p:nvPr/>
        </p:nvPicPr>
        <p:blipFill>
          <a:blip r:embed="rId1"/>
          <a:stretch/>
        </p:blipFill>
        <p:spPr>
          <a:xfrm>
            <a:off x="201600" y="285840"/>
            <a:ext cx="8491680" cy="1158840"/>
          </a:xfrm>
          <a:prstGeom prst="rect">
            <a:avLst/>
          </a:prstGeom>
          <a:ln w="0">
            <a:noFill/>
          </a:ln>
        </p:spPr>
      </p:pic>
      <p:sp>
        <p:nvSpPr>
          <p:cNvPr id="622"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23"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74D4-5B6C-4DE6-97FB-C410DB8C5324}"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4" name=""/>
          <p:cNvSpPr txBox="1"/>
          <p:nvPr/>
        </p:nvSpPr>
        <p:spPr>
          <a:xfrm>
            <a:off x="457200" y="1267920"/>
            <a:ext cx="8229600" cy="47386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ince the steps between different pollution class limit values of successive series of amendments differ, different technologies, having different reduction capabilities, may be applied to bridge these different steps.</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realise a suitable approach for a retrofit emission control device (REC) regulation the informal group evaluated different ways how to handle these different capabilities within the legal framework of the 1958 Agreemen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5" name="Titel 2" descr=""/>
          <p:cNvPicPr/>
          <p:nvPr/>
        </p:nvPicPr>
        <p:blipFill>
          <a:blip r:embed="rId1"/>
          <a:stretch/>
        </p:blipFill>
        <p:spPr>
          <a:xfrm>
            <a:off x="201600" y="219240"/>
            <a:ext cx="8491680" cy="914400"/>
          </a:xfrm>
          <a:prstGeom prst="rect">
            <a:avLst/>
          </a:prstGeom>
          <a:ln w="0">
            <a:noFill/>
          </a:ln>
        </p:spPr>
      </p:pic>
      <p:sp>
        <p:nvSpPr>
          <p:cNvPr id="626"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27"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3BC7-4162-4584-9D7D-AEC68C8D7ADE}"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txBox="1"/>
          <p:nvPr/>
        </p:nvSpPr>
        <p:spPr>
          <a:xfrm>
            <a:off x="457200" y="1052640"/>
            <a:ext cx="8229600" cy="49543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separate Regulation for each stringency level and also for PM and NOx;</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rt with the lowest stringency level, and amend that soon afterwards with more stringent limit values and/or procedures, leaving it up to contracting parties which series of amendments to apply on their territory.</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ve one very high stringency level only, capable of bringing any engine up to the level of the most stringent  series of amendments of Regulation 49 and 9</a:t>
            </a:r>
            <a:r>
              <a:rPr b="0" lang="en-GB" sz="2200" spc="-1" strike="noStrike">
                <a:solidFill>
                  <a:srgbClr val="000000"/>
                </a:solidFill>
                <a:latin typeface="Arial"/>
                <a:ea typeface="Arial"/>
              </a:rPr>
              <a:t>6.</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ve two or more implicit stringency levels in parallel in a way that is not in conflict with the principles of the 1958 agreement.</a:t>
            </a:r>
            <a:endParaRPr b="0" lang="en-US" sz="2400" spc="-1" strike="noStrike">
              <a:solidFill>
                <a:srgbClr val="000000"/>
              </a:solidFill>
              <a:latin typeface="Lucida Sans Unicode"/>
            </a:endParaRPr>
          </a:p>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000000"/>
              </a:solidFill>
              <a:latin typeface="Lucida Sans Unicode"/>
            </a:endParaRPr>
          </a:p>
        </p:txBody>
      </p:sp>
      <p:pic>
        <p:nvPicPr>
          <p:cNvPr id="629" name="Titel 2" descr=""/>
          <p:cNvPicPr/>
          <p:nvPr/>
        </p:nvPicPr>
        <p:blipFill>
          <a:blip r:embed="rId1"/>
          <a:stretch/>
        </p:blipFill>
        <p:spPr>
          <a:xfrm>
            <a:off x="201600" y="103320"/>
            <a:ext cx="8491680" cy="884160"/>
          </a:xfrm>
          <a:prstGeom prst="rect">
            <a:avLst/>
          </a:prstGeom>
          <a:ln w="0">
            <a:noFill/>
          </a:ln>
        </p:spPr>
      </p:pic>
      <p:sp>
        <p:nvSpPr>
          <p:cNvPr id="630"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31"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FA92-CB2D-4C42-8C13-95990001180C}"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txBox="1"/>
          <p:nvPr/>
        </p:nvSpPr>
        <p:spPr>
          <a:xfrm>
            <a:off x="457200" y="1196640"/>
            <a:ext cx="8229600" cy="48099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fter detailed discussions the informal group reached consensus to work on an approach including different reduction capabilities, implicitly applying different stringency levels while considering the requirements of the 1958 Agreemen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consensus approach takes into account that contracting parties have to recognize all kinds UN/ECE approvals, but may choose to accommodate the use of exclusively the most stringent requirements in their national schemes e.g. for restrictions on the use of vehicles and machines and the granting of incentives for retrofit.</a:t>
            </a:r>
            <a:endParaRPr b="0" lang="en-US" sz="2400" spc="-1" strike="noStrike">
              <a:solidFill>
                <a:srgbClr val="000000"/>
              </a:solidFill>
              <a:latin typeface="Lucida Sans Unicode"/>
            </a:endParaRPr>
          </a:p>
        </p:txBody>
      </p:sp>
      <p:pic>
        <p:nvPicPr>
          <p:cNvPr id="633" name="Titel 2" descr=""/>
          <p:cNvPicPr/>
          <p:nvPr/>
        </p:nvPicPr>
        <p:blipFill>
          <a:blip r:embed="rId1"/>
          <a:stretch/>
        </p:blipFill>
        <p:spPr>
          <a:xfrm>
            <a:off x="201600" y="219240"/>
            <a:ext cx="8491680" cy="914400"/>
          </a:xfrm>
          <a:prstGeom prst="rect">
            <a:avLst/>
          </a:prstGeom>
          <a:ln w="0">
            <a:noFill/>
          </a:ln>
        </p:spPr>
      </p:pic>
      <p:sp>
        <p:nvSpPr>
          <p:cNvPr id="634"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35"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9DA8-139F-4C85-AB53-7E11FD1CFBFD}"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txBox="1"/>
          <p:nvPr/>
        </p:nvSpPr>
        <p:spPr>
          <a:xfrm>
            <a:off x="457200" y="1125360"/>
            <a:ext cx="8229600" cy="48816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consensus approach of the informal group is also in line with the work so far (based on German Annex 27):</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valuating the capability of a REC to reduce the emission of particulates and/or NOx </a:t>
            </a:r>
            <a:r>
              <a:rPr b="1" lang="en-GB" sz="2000" spc="-1" strike="noStrike">
                <a:solidFill>
                  <a:srgbClr val="000000"/>
                </a:solidFill>
                <a:latin typeface="Arial"/>
                <a:ea typeface="Arial"/>
              </a:rPr>
              <a:t>of</a:t>
            </a:r>
            <a:r>
              <a:rPr b="0" lang="en-GB" sz="2000" spc="-1" strike="noStrike">
                <a:solidFill>
                  <a:srgbClr val="000000"/>
                </a:solidFill>
                <a:latin typeface="Arial"/>
                <a:ea typeface="Arial"/>
              </a:rPr>
              <a:t> a diesel engine to meet the limit values for particulates and/or NOx of a more stringent series of amendments to Regulation 49 or 96.</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ng an additional minimum reduction requirement preventing the approval of systems with just low efficiency in case of engines that are already close to the limit values of the next higher series of amendments.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al requirements concerning the formation of unwanted secondary emissions like NO2, possibly resulting in different approvals for systems with a restricted increase in NO2 and systems with no increase of NO2 at all.</a:t>
            </a:r>
            <a:endParaRPr b="0" lang="en-US" sz="2000" spc="-1" strike="noStrike">
              <a:solidFill>
                <a:srgbClr val="000000"/>
              </a:solidFill>
              <a:latin typeface="Lucida Sans Unicode"/>
            </a:endParaRPr>
          </a:p>
        </p:txBody>
      </p:sp>
      <p:pic>
        <p:nvPicPr>
          <p:cNvPr id="637" name="Titel 2" descr=""/>
          <p:cNvPicPr/>
          <p:nvPr/>
        </p:nvPicPr>
        <p:blipFill>
          <a:blip r:embed="rId1"/>
          <a:stretch/>
        </p:blipFill>
        <p:spPr>
          <a:xfrm>
            <a:off x="201600" y="219240"/>
            <a:ext cx="8491680" cy="914400"/>
          </a:xfrm>
          <a:prstGeom prst="rect">
            <a:avLst/>
          </a:prstGeom>
          <a:ln w="0">
            <a:noFill/>
          </a:ln>
        </p:spPr>
      </p:pic>
      <p:sp>
        <p:nvSpPr>
          <p:cNvPr id="638"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39"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6960-DE3C-411C-992B-77AA4ACC28BC}"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mplications of consensus approach on current REC draft:</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C requirements will be defined in the annexes to the draft Regulation, each dealing with specific requirements for a sort of REC for a specific application (PM only, NOx only, combined PM/NOx), and for different engine applications (Euro II &gt; Euro III, Euro III &gt; Euro IV/V etc.)</a:t>
            </a:r>
            <a:endParaRPr b="0" lang="en-US" sz="2400" spc="-1" strike="noStrike">
              <a:solidFill>
                <a:srgbClr val="000000"/>
              </a:solidFill>
              <a:latin typeface="Lucida Sans Unicode"/>
            </a:endParaRPr>
          </a:p>
        </p:txBody>
      </p:sp>
      <p:pic>
        <p:nvPicPr>
          <p:cNvPr id="641" name="Titel 2" descr=""/>
          <p:cNvPicPr/>
          <p:nvPr/>
        </p:nvPicPr>
        <p:blipFill>
          <a:blip r:embed="rId1"/>
          <a:stretch/>
        </p:blipFill>
        <p:spPr>
          <a:xfrm>
            <a:off x="201600" y="268200"/>
            <a:ext cx="8491680" cy="1158840"/>
          </a:xfrm>
          <a:prstGeom prst="rect">
            <a:avLst/>
          </a:prstGeom>
          <a:ln w="0">
            <a:noFill/>
          </a:ln>
        </p:spPr>
      </p:pic>
      <p:sp>
        <p:nvSpPr>
          <p:cNvPr id="642" name="Tijdelijke aanduiding voor datum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43"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0F34-65C2-469B-AD85-03B9B8B902DD}"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n GRPE support the approach of the REC informal group how to handle implicitly different stringency levels by adding annexes to the Regulation, each dealing with the requirements and test procedures for a retrofit device for a specific applic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45" name="Titel 2" descr=""/>
          <p:cNvPicPr/>
          <p:nvPr/>
        </p:nvPicPr>
        <p:blipFill>
          <a:blip r:embed="rId1"/>
          <a:stretch/>
        </p:blipFill>
        <p:spPr>
          <a:xfrm>
            <a:off x="195120" y="268200"/>
            <a:ext cx="8498160" cy="1158840"/>
          </a:xfrm>
          <a:prstGeom prst="rect">
            <a:avLst/>
          </a:prstGeom>
          <a:ln w="0">
            <a:noFill/>
          </a:ln>
        </p:spPr>
      </p:pic>
      <p:sp>
        <p:nvSpPr>
          <p:cNvPr id="646" name="Tijdelijke aanduiding voor datum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9 June 2011</a:t>
            </a:r>
            <a:endParaRPr b="0" lang="en-US" sz="1000" spc="-1" strike="noStrike">
              <a:solidFill>
                <a:srgbClr val="ffffff"/>
              </a:solidFill>
              <a:latin typeface="Verdana"/>
            </a:endParaRPr>
          </a:p>
        </p:txBody>
      </p:sp>
      <p:sp>
        <p:nvSpPr>
          <p:cNvPr id="647"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ts val="22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C8DD-1D13-4CD1-A477-5E9A666BDDB0}" type="slidenum">
              <a:rPr b="0" lang="en-US" sz="1000" spc="-1" strike="noStrike">
                <a:solidFill>
                  <a:srgbClr val="000000"/>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2:11:47Z</dcterms:created>
  <dc:creator>Ministerie van VROM</dc:creator>
  <dc:description/>
  <dc:language>en-US</dc:language>
  <cp:lastModifiedBy>Romain HUBERT</cp:lastModifiedBy>
  <dcterms:modified xsi:type="dcterms:W3CDTF">2011-06-09T17:48:21Z</dcterms:modified>
  <cp:revision>53</cp:revision>
  <dc:subject/>
  <dc:title>Dia 1</dc:title>
</cp:coreProperties>
</file>