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3DBE3-18BC-45B4-AD85-87E73CF7D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B44AB-C06E-4AAF-A233-539899033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13C98-1A13-4559-AA73-FA3A6BD2D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23B69-65A8-416E-B5B1-FD0A2FE3C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D5368-3388-46CA-90CE-6F39FCEC5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60005-14B3-4E38-AF3C-1CF89B8C0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34D09-B0C7-42EA-BE25-915DD0707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E54A0-1506-451A-9023-43D791E37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0A6AD-F703-4397-BF9A-BBEAD58B3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1492E-8BBC-42E6-B1E1-D1BDBE4BF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D06AE-D8CE-4105-AB46-A31D126E2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13686-15F9-447A-81D7-DF00C2D65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D903F-874D-4CBE-9D31-DA563CC73C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mailto:petter.asman@ec.europa.eu" TargetMode="External"/><Relationship Id="rId2" Type="http://schemas.openxmlformats.org/officeDocument/2006/relationships/hyperlink" Target="mailto:rgardner@trl.co.uk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14240" y="19285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Arial"/>
              </a:rPr>
              <a:t>Transposition of EURO VI requirements into </a:t>
            </a:r>
            <a:br>
              <a:rPr sz="4400"/>
            </a:br>
            <a:r>
              <a:rPr b="0" lang="fr-BE" sz="4400" spc="-1" strike="noStrike">
                <a:solidFill>
                  <a:srgbClr val="000000"/>
                </a:solidFill>
                <a:latin typeface="Arial"/>
              </a:rPr>
              <a:t>UN/ECE R49</a:t>
            </a:r>
            <a:br>
              <a:rPr sz="4400"/>
            </a:br>
            <a:r>
              <a:rPr b="0" lang="fr-BE" sz="4400" spc="-1" strike="noStrike">
                <a:solidFill>
                  <a:srgbClr val="000000"/>
                </a:solidFill>
                <a:latin typeface="Arial"/>
              </a:rPr>
              <a:t>Status rep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57200" y="42148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GRPE 9-June 20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Submitted by the expert of European Commi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tshållare för bild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95B55-1F03-4BA7-A7E3-2B254E3DA8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43280" y="189000"/>
            <a:ext cx="4281480" cy="5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36000" bIns="360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  <a:ea typeface="ＭＳ Ｐゴシック"/>
              </a:rPr>
              <a:t>Informal document No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.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GRPE-62-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(62 GRPE, 7-10 June 2011, agenda item 4(e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" name=""/>
          <p:cNvGraphicFramePr/>
          <p:nvPr/>
        </p:nvGraphicFramePr>
        <p:xfrm>
          <a:off x="971640" y="1814400"/>
          <a:ext cx="7272360" cy="3486240"/>
        </p:xfrm>
        <a:graphic>
          <a:graphicData uri="http://schemas.openxmlformats.org/drawingml/2006/table">
            <a:tbl>
              <a:tblPr/>
              <a:tblGrid>
                <a:gridCol w="838080"/>
                <a:gridCol w="1015920"/>
                <a:gridCol w="1016280"/>
                <a:gridCol w="1099800"/>
                <a:gridCol w="1186200"/>
                <a:gridCol w="1184040"/>
                <a:gridCol w="932040"/>
              </a:tblGrid>
              <a:tr h="67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haract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</a:t>
                      </a:r>
                      <a:r>
                        <a:rPr b="0" lang="en-GB" sz="11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OTL</a:t>
                      </a:r>
                      <a:r>
                        <a:rPr b="0" lang="en-GB" sz="11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)</a:t>
                      </a: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M OTL</a:t>
                      </a:r>
                      <a:r>
                        <a:rPr b="0" lang="en-US" sz="11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2)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agent quality and consumption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mplementation dates: new typ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mplementation dates: all vehicl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st date of registra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1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ow "phase-in period" of tables 1 and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erformance. Monitoring</a:t>
                      </a:r>
                      <a:r>
                        <a:rPr b="0" lang="en-US" sz="11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hase in</a:t>
                      </a:r>
                      <a:r>
                        <a:rPr b="0" lang="en-US" sz="11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.12.20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.12.20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9.20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1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ow "phase-in period" of tables 1 and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ow "phase-in period" of table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hase in</a:t>
                      </a:r>
                      <a:r>
                        <a:rPr b="0" lang="en-US" sz="11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9.20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9.20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.12.20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ow "general requirements" of tables 1 and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ow "general requirements" of table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eneral</a:t>
                      </a:r>
                      <a:r>
                        <a:rPr b="0" lang="en-US" sz="11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.12.20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.12.20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8" name="Rectangle 185"/>
          <p:cNvSpPr/>
          <p:nvPr/>
        </p:nvSpPr>
        <p:spPr>
          <a:xfrm>
            <a:off x="914040" y="5361120"/>
            <a:ext cx="7317720" cy="103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Key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(1)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‘NO</a:t>
            </a:r>
            <a:r>
              <a:rPr b="0" lang="en-GB" sz="1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x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OTL’ monitoring requirements as set out in table 1 and 2 of Annex 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(2)</a:t>
            </a:r>
            <a:r>
              <a:rPr b="0" lang="en-GB" sz="10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‘PM OTL’ monitoring requirements as set out in table 1 of Annex 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(3)</a:t>
            </a:r>
            <a:r>
              <a:rPr b="0" lang="en-GB" sz="10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‘Performance monitoring’ requirements as set out in point 2.3.3.3. of Annex 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(4)</a:t>
            </a:r>
            <a:r>
              <a:rPr b="0" lang="en-GB" sz="10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Reagent quality and consumption ‘phase-in’ requirements as set out in points 7.1.1.1 and 8.4.1.1. of Annex XIII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(5)</a:t>
            </a:r>
            <a:r>
              <a:rPr b="0" lang="en-GB" sz="10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Reagent quality and consumption ‘general’ requirements as set out in points 7.1.1. and 8.4.1. of Annex XIII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uro VI-”phase in requirement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tshållare för bildnummer 4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0915D-2C11-444D-AC05-B9C0F2EB36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Euro VI-”phase in requirement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ptions  on how to transpose Euro VI stag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ranspose all (A, B and C) into R49-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ith dates for A o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ith all dates as in Euro V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ranspose only A now and make supplement or new series at appropriate later d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ranspose only 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re are uncertainties due to revision clauses in Euro V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tshållare för bild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9CBB3-E2F0-4C47-B4D3-B26360F6F4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Topics under 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cope of R49-06 (including P.I. petrol/E85 engin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uro VI “phase in requirements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ow to implement In-service conformity (ISC) and In-use performance ratio (IUPR)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tshållare för bild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3A7A5-EAA1-4F9D-9242-82A1164E84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Arial"/>
              </a:rPr>
              <a:t>Time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Arial"/>
              </a:rPr>
              <a:t>61st GRPE January 2011 informal document </a:t>
            </a: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GRPE-61-1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62nd GRPE June 2011 1st draft of Reg 49-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63rd GRPE January 2012 final proposal as formal docu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If adopted by GRPE submitted to WP29 November 2012 for ado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tshållare för bild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A8BAC-02F2-4DB7-849D-4B8354150C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Arial"/>
              </a:rPr>
              <a:t>Contact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Arial"/>
              </a:rPr>
              <a:t>Petter Åsman, European Commi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petter.asman@ec.europa.e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Arial"/>
              </a:rPr>
              <a:t>Robert Gardner, T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rgardner@trl.co.u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tshållare för bild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4D6F1-26AF-4953-BA7E-2BEA0B7466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Arial"/>
              </a:rPr>
              <a:t>UN/ECE R49-06 transpos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Informal document to GRPE january 20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Need to update Regulation 49 for « Euro VI requirements 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Informal document No: GRPE-61-1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greed by GRPE in its January sess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tshållare för bild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533DD-E80B-4195-BC82-B71E340492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European Commission has contracted TRL/Ecorys to support the Commission in the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Dedicated workshops have been held and invitations have been sent to GRPE memb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A first draft of the text has been submitted to GRPE as an informal docu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tshållare för bild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B9EE1-415D-40DC-A3DD-EAE6E00CC1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Arial"/>
              </a:rPr>
              <a:t>UN/ECE R49-06 transpos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Arial"/>
              </a:rPr>
              <a:t>UN/ECE R49-06 transpos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28556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Reg 49-05 includes up to Euro V requirements (Stage B2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Reg 49-05 also include annexes not applicable at the mo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Annex 4B (WHDC-gt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Annex 4C (PN measururement procedur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Annex 9B (OBD-gt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Annex 9C (IUP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Annex 10 (OCE-gt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tshållare för bild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6FF2C-6E34-4781-8047-EAB62142BD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Objective is to make a new consolidated series of amendments only covering « Euro VI  requirements 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Arial"/>
              </a:rPr>
              <a:t>Proposal: include the currently not applicable Annexes (4B,4C,9B,9C and 10) and make them applic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Arial"/>
              </a:rPr>
              <a:t>Proposal: also include requirements from EC regulation No 595/2009 (Euro VI) and corresponding implementing reg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tshållare för bild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4B642-1842-4FFF-B520-70AA802F45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Arial"/>
              </a:rPr>
              <a:t>UN/ECE R49-06 transpos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ounded Rectangle 14"/>
          <p:cNvSpPr/>
          <p:nvPr/>
        </p:nvSpPr>
        <p:spPr>
          <a:xfrm>
            <a:off x="4675320" y="603360"/>
            <a:ext cx="4198680" cy="407880"/>
          </a:xfrm>
          <a:prstGeom prst="roundRect">
            <a:avLst>
              <a:gd name="adj" fmla="val 16667"/>
            </a:avLst>
          </a:prstGeom>
          <a:solidFill>
            <a:srgbClr val="e5e5e5">
              <a:alpha val="3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rective 2007/46/E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7640" y="166680"/>
            <a:ext cx="4608360" cy="71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ing Regulation 49 - 06 series of amend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6" descr="main_logo"/>
          <p:cNvPicPr/>
          <p:nvPr/>
        </p:nvPicPr>
        <p:blipFill>
          <a:blip r:embed="rId1"/>
          <a:srcRect l="2611" t="0" r="62872" b="0"/>
          <a:stretch/>
        </p:blipFill>
        <p:spPr>
          <a:xfrm>
            <a:off x="679320" y="5724360"/>
            <a:ext cx="895320" cy="447840"/>
          </a:xfrm>
          <a:prstGeom prst="rect">
            <a:avLst/>
          </a:prstGeom>
          <a:ln w="0">
            <a:noFill/>
          </a:ln>
        </p:spPr>
      </p:pic>
      <p:sp>
        <p:nvSpPr>
          <p:cNvPr id="60" name="Rounded Rectangle 6"/>
          <p:cNvSpPr/>
          <p:nvPr/>
        </p:nvSpPr>
        <p:spPr>
          <a:xfrm>
            <a:off x="185760" y="1146240"/>
            <a:ext cx="2266920" cy="1451880"/>
          </a:xfrm>
          <a:prstGeom prst="roundRect">
            <a:avLst>
              <a:gd name="adj" fmla="val 16667"/>
            </a:avLst>
          </a:prstGeom>
          <a:solidFill>
            <a:srgbClr val="e5e5e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gulation 49 currently replicates 2005/55/EC as implemented by 2005/78/E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ounded Rectangle 7"/>
          <p:cNvSpPr/>
          <p:nvPr/>
        </p:nvSpPr>
        <p:spPr>
          <a:xfrm>
            <a:off x="6649920" y="1282680"/>
            <a:ext cx="2016360" cy="912600"/>
          </a:xfrm>
          <a:prstGeom prst="roundRect">
            <a:avLst>
              <a:gd name="adj" fmla="val 16667"/>
            </a:avLst>
          </a:prstGeom>
          <a:solidFill>
            <a:srgbClr val="e5e5e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raft Implementing Reg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ounded Rectangle 8"/>
          <p:cNvSpPr/>
          <p:nvPr/>
        </p:nvSpPr>
        <p:spPr>
          <a:xfrm>
            <a:off x="4862520" y="1366920"/>
            <a:ext cx="1636560" cy="643320"/>
          </a:xfrm>
          <a:prstGeom prst="roundRect">
            <a:avLst>
              <a:gd name="adj" fmla="val 16667"/>
            </a:avLst>
          </a:prstGeom>
          <a:solidFill>
            <a:srgbClr val="e5e5e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gulation 595/20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ounded Rectangle 10"/>
          <p:cNvSpPr/>
          <p:nvPr/>
        </p:nvSpPr>
        <p:spPr>
          <a:xfrm>
            <a:off x="368280" y="3394080"/>
            <a:ext cx="1940040" cy="1451880"/>
          </a:xfrm>
          <a:prstGeom prst="roundRect">
            <a:avLst>
              <a:gd name="adj" fmla="val 16667"/>
            </a:avLst>
          </a:prstGeom>
          <a:solidFill>
            <a:srgbClr val="9c9cd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gulation 49 - 05 Series of Amendments Revision 5 – May 20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ounded Rectangle 11"/>
          <p:cNvSpPr/>
          <p:nvPr/>
        </p:nvSpPr>
        <p:spPr>
          <a:xfrm>
            <a:off x="5237280" y="3306600"/>
            <a:ext cx="3262320" cy="1407600"/>
          </a:xfrm>
          <a:prstGeom prst="roundRect">
            <a:avLst>
              <a:gd name="adj" fmla="val 16667"/>
            </a:avLst>
          </a:prstGeom>
          <a:solidFill>
            <a:srgbClr val="7030a0">
              <a:alpha val="2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gulation 4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6 Series of Amendment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 VI speci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3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GRPE January 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Down Arrow 12"/>
          <p:cNvSpPr/>
          <p:nvPr/>
        </p:nvSpPr>
        <p:spPr>
          <a:xfrm>
            <a:off x="1138320" y="2671920"/>
            <a:ext cx="352440" cy="639720"/>
          </a:xfrm>
          <a:prstGeom prst="downArrow">
            <a:avLst>
              <a:gd name="adj1" fmla="val 50000"/>
              <a:gd name="adj2" fmla="val 50117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ight Arrow 13"/>
          <p:cNvSpPr/>
          <p:nvPr/>
        </p:nvSpPr>
        <p:spPr>
          <a:xfrm>
            <a:off x="2611440" y="3905280"/>
            <a:ext cx="2370240" cy="353880"/>
          </a:xfrm>
          <a:prstGeom prst="rightArrow">
            <a:avLst>
              <a:gd name="adj1" fmla="val 50000"/>
              <a:gd name="adj2" fmla="val 50017"/>
            </a:avLst>
          </a:prstGeom>
          <a:solidFill>
            <a:srgbClr val="d1d1f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Down Arrow 15"/>
          <p:cNvSpPr/>
          <p:nvPr/>
        </p:nvSpPr>
        <p:spPr>
          <a:xfrm>
            <a:off x="5786280" y="2597040"/>
            <a:ext cx="366840" cy="644760"/>
          </a:xfrm>
          <a:prstGeom prst="downArrow">
            <a:avLst>
              <a:gd name="adj1" fmla="val 50000"/>
              <a:gd name="adj2" fmla="val 50018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ounded Rectangle 16"/>
          <p:cNvSpPr/>
          <p:nvPr/>
        </p:nvSpPr>
        <p:spPr>
          <a:xfrm>
            <a:off x="2763720" y="4948200"/>
            <a:ext cx="1940040" cy="1593360"/>
          </a:xfrm>
          <a:prstGeom prst="roundRect">
            <a:avLst>
              <a:gd name="adj" fmla="val 16667"/>
            </a:avLst>
          </a:prstGeom>
          <a:solidFill>
            <a:srgbClr val="9c9cd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gulation 49 – Annex 4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rticle Number Measurement Test Proced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ight Arrow 17"/>
          <p:cNvSpPr/>
          <p:nvPr/>
        </p:nvSpPr>
        <p:spPr>
          <a:xfrm rot="20233800">
            <a:off x="4757400" y="4617720"/>
            <a:ext cx="431640" cy="360360"/>
          </a:xfrm>
          <a:prstGeom prst="rightArrow">
            <a:avLst>
              <a:gd name="adj1" fmla="val 50000"/>
              <a:gd name="adj2" fmla="val 49980"/>
            </a:avLst>
          </a:prstGeom>
          <a:solidFill>
            <a:srgbClr val="d1d1f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ounded Rectangle 18"/>
          <p:cNvSpPr/>
          <p:nvPr/>
        </p:nvSpPr>
        <p:spPr>
          <a:xfrm>
            <a:off x="5008680" y="5113440"/>
            <a:ext cx="3824280" cy="373320"/>
          </a:xfrm>
          <a:prstGeom prst="roundRect">
            <a:avLst>
              <a:gd name="adj" fmla="val 16667"/>
            </a:avLst>
          </a:prstGeom>
          <a:solidFill>
            <a:srgbClr val="9c9cdf">
              <a:alpha val="3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rallel Activities e.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ounded Rectangle 20"/>
          <p:cNvSpPr/>
          <p:nvPr/>
        </p:nvSpPr>
        <p:spPr>
          <a:xfrm>
            <a:off x="5208480" y="5554800"/>
            <a:ext cx="1649520" cy="912600"/>
          </a:xfrm>
          <a:prstGeom prst="roundRect">
            <a:avLst>
              <a:gd name="adj" fmla="val 16667"/>
            </a:avLst>
          </a:prstGeom>
          <a:solidFill>
            <a:srgbClr val="9c9cd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nex 9B and 9C Update. March 20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ounded Rectangle 21"/>
          <p:cNvSpPr/>
          <p:nvPr/>
        </p:nvSpPr>
        <p:spPr>
          <a:xfrm>
            <a:off x="7043760" y="5719320"/>
            <a:ext cx="1649520" cy="643320"/>
          </a:xfrm>
          <a:prstGeom prst="roundRect">
            <a:avLst>
              <a:gd name="adj" fmla="val 16667"/>
            </a:avLst>
          </a:prstGeom>
          <a:solidFill>
            <a:srgbClr val="9c9cd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TR No.5 Upd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ight Arrow 22"/>
          <p:cNvSpPr/>
          <p:nvPr/>
        </p:nvSpPr>
        <p:spPr>
          <a:xfrm rot="16200000">
            <a:off x="6657840" y="4349160"/>
            <a:ext cx="306360" cy="11001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d1d1f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Down Arrow 23"/>
          <p:cNvSpPr/>
          <p:nvPr/>
        </p:nvSpPr>
        <p:spPr>
          <a:xfrm rot="17862000">
            <a:off x="4745520" y="2937600"/>
            <a:ext cx="409680" cy="655560"/>
          </a:xfrm>
          <a:prstGeom prst="downArrow">
            <a:avLst>
              <a:gd name="adj1" fmla="val 50000"/>
              <a:gd name="adj2" fmla="val 49909"/>
            </a:avLst>
          </a:prstGeom>
          <a:solidFill>
            <a:srgbClr val="ffc000">
              <a:alpha val="51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Oval 24"/>
          <p:cNvSpPr/>
          <p:nvPr/>
        </p:nvSpPr>
        <p:spPr>
          <a:xfrm>
            <a:off x="2538360" y="1671480"/>
            <a:ext cx="2130480" cy="1940760"/>
          </a:xfrm>
          <a:prstGeom prst="ellipse">
            <a:avLst/>
          </a:prstGeom>
          <a:solidFill>
            <a:srgbClr val="ffc000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cess informed by equivalent update to Reg. 83 (Light-Duty Vehicl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ight Arrow 23"/>
          <p:cNvSpPr/>
          <p:nvPr/>
        </p:nvSpPr>
        <p:spPr>
          <a:xfrm>
            <a:off x="6269040" y="2766960"/>
            <a:ext cx="480960" cy="192240"/>
          </a:xfrm>
          <a:prstGeom prst="rightArrow">
            <a:avLst>
              <a:gd name="adj1" fmla="val 50000"/>
              <a:gd name="adj2" fmla="val 50037"/>
            </a:avLst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25"/>
          <p:cNvSpPr/>
          <p:nvPr/>
        </p:nvSpPr>
        <p:spPr>
          <a:xfrm>
            <a:off x="6834240" y="2585880"/>
            <a:ext cx="11062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C Specific elements remo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tshållare för bildnummer 25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64A80-0C19-4DE2-8724-E1EEFA07C2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tshållare för bild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1643F-7BED-4CDA-81ED-00C37BCE0D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214200" y="500040"/>
          <a:ext cx="8715600" cy="5816520"/>
        </p:xfrm>
        <a:graphic>
          <a:graphicData uri="http://schemas.openxmlformats.org/drawingml/2006/table">
            <a:tbl>
              <a:tblPr/>
              <a:tblGrid>
                <a:gridCol w="2087640"/>
                <a:gridCol w="6627960"/>
              </a:tblGrid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v-SE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ain body of Regul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v-SE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cope, definitions, application for approval, transitional provisions etc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nex 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odels of information docu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5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nex 2A and 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mmunication concerning the approval or 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5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nex 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rangements of approval mark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7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nex 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st procedure for compression-ignition (C.I.) engines and positive-ignition (P.I.) engines … (WHDC (gtr) No. 4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5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nex 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 fuel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5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nex 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missions data required at type-approval for roadworthiness purpos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5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nex 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cedures for conducting the test for durability of emission control system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5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nex 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nformity of in-service vehicles/engin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1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nex 9A, B and 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-board diagnostic systems (OBD) (OBD gtr in B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nex 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chnical requirements on Off-Cycle Emissions (OCE gtr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1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nex 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quirements to ensure the correct operation of NOx control measur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nex 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2 emissions and fuel consump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5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nex 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ype-approval of replacement pollution control devices as separate technical uni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5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nex 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ccess to OBD Inform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If agreed include proposed amendments to R49 Annex 9B and C as proposed by official document: </a:t>
            </a:r>
            <a:r>
              <a:rPr b="1" lang="sv-SE" sz="2400" spc="-1" strike="noStrike">
                <a:solidFill>
                  <a:srgbClr val="000000"/>
                </a:solidFill>
                <a:latin typeface="Arial"/>
              </a:rPr>
              <a:t>ECE/TRANS/WP.29/GRPE/2011/16</a:t>
            </a: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  and informal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GRPE-62-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If agreed and time aligned introduce GFV-Dual Fuel requirements as developed by the GFV informal grou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include latest adopted amendments from EC Regulation No 595/2009 (Euro VI) and corresponding implementing reg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Alternative approvals using ”Euro 6” LD OBD and NOx control will be introduced after introduction in Regulation 8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tshållare för bild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26BF5-398A-4CC7-85A4-840C9FFCFB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allel activ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Arial"/>
              </a:rPr>
              <a:t>Scop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gulation No. 4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ression-ignition engin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or use in vehicles, and the emission of gaseous pollutants from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sitive-ignition engines fuelled with natural gas or liquefied petroleum ga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or use in vehicle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uro VI Reg (EC) No 595/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…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on type-approval of motor vehicles and engines with respect to emissions from heavy duty vehicles (Euro VI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Euro VI covers all C.I. and all P.I. engines (petrol and E8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Proposal to transpose complete Euro VI scope into R49-06 series and aligning with scope of R83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tshållare för bild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1B6E9-38EE-489A-9617-492E6E1815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9T14:21:48Z</dcterms:created>
  <dc:creator>asmanpe</dc:creator>
  <dc:description/>
  <dc:language>en-US</dc:language>
  <cp:lastModifiedBy>Romain HUBERT</cp:lastModifiedBy>
  <dcterms:modified xsi:type="dcterms:W3CDTF">2011-06-08T16:18:01Z</dcterms:modified>
  <cp:revision>51</cp:revision>
  <dc:subject/>
  <dc:title>Transposition of EUORO VI into UN/ECE R48</dc:title>
</cp:coreProperties>
</file>