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648450" cy="9896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9200" cy="989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9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8480" y="0"/>
            <a:ext cx="2879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1040" y="742680"/>
            <a:ext cx="4946400" cy="370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5960" y="4700160"/>
            <a:ext cx="487656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01040"/>
            <a:ext cx="2879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8480" y="9401040"/>
            <a:ext cx="2879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C4B79E11-D0C1-40D3-B1E3-D34CD72A5F1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768840" y="9401040"/>
            <a:ext cx="2879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EBC9B834-D74B-4229-8580-8BE629E0164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51040" y="743040"/>
            <a:ext cx="4946400" cy="37098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885960" y="4700160"/>
            <a:ext cx="487656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CF1A-52B2-48AA-A1AC-0CC5CB229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36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5C50-6788-4ADD-8EE7-A2F5C22C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04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8CAC-5342-4F49-91C3-310537BAE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36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00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36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36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00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5301-57FD-48E7-8FEE-1262CE79B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5185-C034-47C6-9BD6-C1588B88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E3AE-6BB3-4D95-A07B-B8BCC6F1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CAD4-A4BF-4500-BFAA-4448F631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AAAF-6200-4ADE-B1DD-E2466A73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560" y="259920"/>
            <a:ext cx="871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D048-5758-4B3E-9D36-3BAE30EB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C4F2-BB91-4FFF-9541-52D6866A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04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BA7E-BBF3-47C9-951E-4C280B1E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5A54-072E-4ECF-A6C3-95CC4E24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E0B9-3902-4F6B-AD6F-2A10FEE2DB1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2B71-139B-42E3-891A-C0C3F212DE2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99640" y="1484280"/>
            <a:ext cx="7558200" cy="461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  <a:ea typeface="Arial Unicode MS"/>
              </a:rPr>
              <a:t>Research into a new road side enforcement test for the noise emission of mopeds</a:t>
            </a:r>
            <a:br>
              <a:rPr sz="48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GRB 54; September 2011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issued by the Netherlands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16080" y="114840"/>
            <a:ext cx="2998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formal document</a:t>
            </a:r>
            <a:r>
              <a:rPr b="0" lang="en-TT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TT" sz="1400" spc="-1" strike="noStrike">
                <a:solidFill>
                  <a:srgbClr val="000000"/>
                </a:solidFill>
                <a:latin typeface="Arial"/>
                <a:ea typeface="Arial"/>
              </a:rPr>
              <a:t>GRB-54-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400" spc="-1" strike="noStrike">
                <a:solidFill>
                  <a:srgbClr val="000000"/>
                </a:solidFill>
                <a:latin typeface="Arial"/>
                <a:ea typeface="Arial"/>
              </a:rPr>
              <a:t>(54th GRB, 19-21 September 2011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400" spc="-1" strike="noStrike">
                <a:solidFill>
                  <a:srgbClr val="000000"/>
                </a:solidFill>
                <a:latin typeface="Arial"/>
                <a:ea typeface="Arial"/>
              </a:rPr>
              <a:t>agenda item 1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Noise emission of mopeds in the Netherla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hicle category: L1 (2 wheelers, max speed 45 km/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st important source of noise nuisance in the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 milion mopeds (vs 16 milion inhabita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ten used by youngsters (age: 16 -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18+ transfer to cars and motor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d: 40-60% tamp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in goal: increased speed (+10 up to +60 km/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in effect: increased noise (+10 up to +40 dB(A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olice experience with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stationary road side enforcement t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71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Police departments have received special noise measurement equipment + i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: relatively scarce, 1 a 2 active depar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k of manpower/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icated and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for special trained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ment method is not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ends on RPM, troublesome to get rpm signal, calib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 to reproduce measurement (Instable rpm, lack of load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% S is not representative for average moped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 to explain criteria to the public (Reference value instead of fixed lim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surement values do not correlate with subjective judgment (false resul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New idea for road side enforcement: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noise measurement on rollerben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4211640" y="2778120"/>
            <a:ext cx="4932360" cy="40798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496728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tionary test under load c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pend on speed instead of R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duce complexity noise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mprove reproduc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mprove correlation to nuis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nable absolute lim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mprove accep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ilot project: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4 mopeds and 3 measu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2" descr="IMG_6604"/>
          <p:cNvPicPr/>
          <p:nvPr/>
        </p:nvPicPr>
        <p:blipFill>
          <a:blip r:embed="rId1"/>
          <a:srcRect l="3950" t="10537" r="22478" b="20824"/>
          <a:stretch/>
        </p:blipFill>
        <p:spPr>
          <a:xfrm>
            <a:off x="4915080" y="3892680"/>
            <a:ext cx="4228920" cy="29653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3"/>
          <p:cNvSpPr/>
          <p:nvPr/>
        </p:nvSpPr>
        <p:spPr>
          <a:xfrm>
            <a:off x="4932360" y="64008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ller bench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17"/>
          <p:cNvGrpSpPr/>
          <p:nvPr/>
        </p:nvGrpSpPr>
        <p:grpSpPr>
          <a:xfrm>
            <a:off x="1258920" y="1197000"/>
            <a:ext cx="6089400" cy="2324880"/>
            <a:chOff x="1258920" y="1197000"/>
            <a:chExt cx="6089400" cy="2324880"/>
          </a:xfrm>
        </p:grpSpPr>
        <p:pic>
          <p:nvPicPr>
            <p:cNvPr id="62" name="Picture 15" descr="IMG_6599"/>
            <p:cNvPicPr/>
            <p:nvPr/>
          </p:nvPicPr>
          <p:blipFill>
            <a:blip r:embed="rId2"/>
            <a:srcRect l="0" t="28980" r="16514" b="28627"/>
            <a:stretch/>
          </p:blipFill>
          <p:spPr>
            <a:xfrm>
              <a:off x="1258920" y="1197000"/>
              <a:ext cx="6089400" cy="23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16"/>
            <p:cNvSpPr/>
            <p:nvPr/>
          </p:nvSpPr>
          <p:spPr>
            <a:xfrm>
              <a:off x="4425840" y="3062160"/>
              <a:ext cx="21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Pass by te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23"/>
          <p:cNvGrpSpPr/>
          <p:nvPr/>
        </p:nvGrpSpPr>
        <p:grpSpPr>
          <a:xfrm>
            <a:off x="0" y="3687840"/>
            <a:ext cx="2817720" cy="3196440"/>
            <a:chOff x="0" y="3687840"/>
            <a:chExt cx="2817720" cy="3196440"/>
          </a:xfrm>
        </p:grpSpPr>
        <p:pic>
          <p:nvPicPr>
            <p:cNvPr id="65" name="Picture 21" descr="IMG_6607"/>
            <p:cNvPicPr/>
            <p:nvPr/>
          </p:nvPicPr>
          <p:blipFill>
            <a:blip r:embed="rId3"/>
            <a:srcRect l="53611" t="29074" r="14613" b="23294"/>
            <a:stretch/>
          </p:blipFill>
          <p:spPr>
            <a:xfrm>
              <a:off x="0" y="3687840"/>
              <a:ext cx="2817720" cy="31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22"/>
            <p:cNvSpPr/>
            <p:nvPr/>
          </p:nvSpPr>
          <p:spPr>
            <a:xfrm>
              <a:off x="468360" y="6424560"/>
              <a:ext cx="21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Stationary te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Analysis / conclusions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ith respect to roller bench t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 noise low en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 induced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re/roller inte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ble test condition (load and spe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reproduc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correlation to pass by n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w to proce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dback of GRB is most wel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vehicles need to be test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ore correlation with nuis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ore boundaries of roller benc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ore transition to motor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8:55:05Z</dcterms:created>
  <dc:creator>Boudewijn Kortbeek</dc:creator>
  <dc:description/>
  <dc:language>en-US</dc:language>
  <cp:lastModifiedBy>Gianotti</cp:lastModifiedBy>
  <dcterms:modified xsi:type="dcterms:W3CDTF">2011-09-16T16:14:33Z</dcterms:modified>
  <cp:revision>292</cp:revision>
  <dc:subject/>
  <dc:title>Report  GRB ad hoc Working Group ASEP                                                                    GRB 44             September 5, 2006</dc:title>
</cp:coreProperties>
</file>