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EAE-19B3-4419-854D-E5ACAA52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484-A606-40F7-AC4B-08B70CC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933-24DC-433C-B890-CB6CFAF2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FF3-6A8F-4EFF-9512-923D44C2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E4B-1F35-408C-8BEE-EF04CEB4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A95-09F7-4075-9A5F-0EC73563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F72-8309-451F-9414-F8B3AE88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FCD-6D6E-4450-BAA1-C843CBF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013-BC7B-4B6F-BCB7-8AECA76F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4D4-A095-4D1D-B552-DB11C40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452-B86B-4B36-A0FC-D011E35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E0E-F215-444B-8022-1ADAD07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DE57-AE6B-4F79-9935-18433FA8DD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ffect of variants for an Lurban ASEP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s requested by the GRB Chai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RB feb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rik de Gra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372360" y="404640"/>
            <a:ext cx="2520720" cy="6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nformal docu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B-53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5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GRB, 15-17 February 2011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nda item 3(c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45964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 do the Lurban-ASEP variants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1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1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3 dB margin on Lur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207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46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rgin on Lwot in 2nd gear   =   Margin on Lurban multiplied by a fact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1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dB margin on L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never fails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mit of Lurban-ASEP is 7 to 10 dB higher than chair-ASEP and up to 15 dB higher than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47960" y="333360"/>
            <a:ext cx="6359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2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2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3 dB margin on Lw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595008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in independent of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200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2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dB margin on Lwot instead of L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is a boarder case for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is 0-6 dB more liberal than chair-ASEP and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3 of Lurban-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iant 3 for Lurban AS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595008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eck Lurban-ASEP against Annex3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h 0 dB margin o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91344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ariant 3 for Lurban ASEP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xample: different Annex 3 res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 effect on ASEP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 limit only depends on Annex 3 limit, not the Annex 3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asic assumptions in analy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s stated by the GRB chair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ir-ASEP = slope method doc 2011-02 annex 10 pa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BA-ASEP = KBA method doc 2011-02 annex 10 pa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= accel method doc 2011-02 annex 10 pa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L ASEP = doc 2011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BA always applicable (independent of choice for Lurban/ASEP or Chair/A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leration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nex 3:   3 m/s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EP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5 m/s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ant 3 Lurban ASE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eck with A3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 dB margin on A 3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fails Lurban-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rban-ASEP limit is comparable to chair-ASEP and NL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air-ASEP rejects this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rban AS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1 vehicle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2 board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riant 3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uge amount of dat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w to clarify in a simple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f necessary: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2997000"/>
            <a:ext cx="84596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 factors influencing Lwot,ASEP are mutiplied by a factor 1/(1-kp,A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the example vehicle this factor has a value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is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margin of 3 dB on Lurban translates into a margin of 9 dB on L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79280" y="1517760"/>
                <a:ext cx="87854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T,ASE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-  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,ASE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b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x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,ASE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5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,ASEP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uge amount of dat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w to clarify in a simple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tegy for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 example veh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ree variants of Lurban-AS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 every var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 graph with th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 graph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example veh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ue dots are measured noise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example veh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hy this examp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ason 1: sound 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 very 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Jump of 1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stimated Lmax,nrated 11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57640" y="819000"/>
            <a:ext cx="5886360" cy="603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5373720"/>
            <a:ext cx="1295640" cy="360360"/>
          </a:xfrm>
          <a:prstGeom prst="wedgeRectCallout">
            <a:avLst>
              <a:gd name="adj1" fmla="val 81495"/>
              <a:gd name="adj2" fmla="val -271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eson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573360"/>
            <a:ext cx="792000" cy="360360"/>
          </a:xfrm>
          <a:prstGeom prst="wedgeRectCallout">
            <a:avLst>
              <a:gd name="adj1" fmla="val 187476"/>
              <a:gd name="adj2" fmla="val 53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060640"/>
            <a:ext cx="792000" cy="360360"/>
          </a:xfrm>
          <a:prstGeom prst="wedgeRectCallout">
            <a:avLst>
              <a:gd name="adj1" fmla="val 171643"/>
              <a:gd name="adj2" fmla="val 3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2637000"/>
            <a:ext cx="865440" cy="649080"/>
          </a:xfrm>
          <a:prstGeom prst="wedgeRectCallout">
            <a:avLst>
              <a:gd name="adj1" fmla="val 182842"/>
              <a:gd name="adj2" fmla="val 22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 dB j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093080" y="476280"/>
            <a:ext cx="143964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981000"/>
            <a:ext cx="1727280" cy="649440"/>
          </a:xfrm>
          <a:prstGeom prst="wedgeRectCallout">
            <a:avLst>
              <a:gd name="adj1" fmla="val 168013"/>
              <a:gd name="adj2" fmla="val -121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stim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max = 110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059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sumed limit A3: 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3348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hy this exa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nd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t very li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ump of 1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max,nrated circa 11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nex 3 on th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51.02: -0.9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51.03 +0.7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ulfills 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cceleration &lt; 4 m/s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nd emission not everywhere as could be expected from the Annex 3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3800" y="692280"/>
            <a:ext cx="60102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hicle 200-49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MR 159 kW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31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vehicle fails both NL ASEP and Chair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t various engine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L ASEP and Chair ASEP differ less than 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22480" y="476280"/>
            <a:ext cx="62215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8:55:05Z</dcterms:created>
  <dc:creator>Boudewijn Kortbeek</dc:creator>
  <dc:description/>
  <dc:language>en-US</dc:language>
  <cp:lastModifiedBy>Romain HUBERT</cp:lastModifiedBy>
  <dcterms:modified xsi:type="dcterms:W3CDTF">2011-02-17T16:24:11Z</dcterms:modified>
  <cp:revision>363</cp:revision>
  <dc:subject/>
  <dc:title>Report  GRB ad hoc Working Group ASEP                                                                    GRB 44             September 5, 2006 </dc:title>
</cp:coreProperties>
</file>