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39C-AE90-4426-A82B-F47D8200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71A-B831-4940-8F0F-B8F72E0E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7C1-B649-4D5A-BDCD-CD36707E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2F5-84A6-4C5A-969B-70054538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A5E-1610-436D-A48E-623D62BA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F92-2EBF-49B5-BB70-934B5E2E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5C8-0937-40A7-A50A-083F3DF9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C50-647E-419D-B941-87CF937F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D54-A9C4-42B0-8902-EDE132C3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663-23AD-4BC9-B47D-5A259FAA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2CB-F7B5-4BAA-A580-EE1E64A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309-D0D7-4693-AD75-364CF996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4CC1-7741-44AD-9511-AB0DE58685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ffect of variants for an Lurban ASEP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s requested by the GRB Chai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RB feb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rik de Gra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372360" y="404640"/>
            <a:ext cx="2520720" cy="6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nformal docu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B-53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5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GRB, 15-17 February 2011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enda item 3(c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45964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w do the Lurban-ASEP variants per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iant 1 of Lurban-AS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984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ariant 1 for Lurban ASEP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3 dB margin on Lur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77080" cy="5207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461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rgin on Lwot in 2nd gear   =   Margin on Lurban multiplied by a facto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ant 1 Lurban AS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dB margin on L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vehicle never fails Lurban-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mit of Lurban-ASEP is 7 to 10 dB higher than chair-ASEP and up to 15 dB higher than NL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47960" y="333360"/>
            <a:ext cx="6359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iant 2 of Lurban-AS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ariant 2 for Lurban ASEP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3 dB margin on Lw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595008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in independent of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200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ant 2 Lurban AS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dB margin on Lwot instead of L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vehicle is a boarder case for Lurban-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rban-ASEP is 0-6 dB more liberal than chair-ASEP and NL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57640" y="819000"/>
            <a:ext cx="588636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iant 3 of Lurban-AS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iant 3 for Lurban AS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595008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eck Lurban-ASEP against Annex3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h 0 dB margin on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91344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ariant 3 for Lurban ASEP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xample: different Annex 3 res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 effect on ASEP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EP limit only depends on Annex 3 limit, not the Annex 3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840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asic assumptions in analys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s stated by the GRB chair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EP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ir-ASEP = slope method doc 2011-02 annex 10 pa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BA-ASEP = KBA method doc 2011-02 annex 10 pa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rban-ASEP = accel method doc 2011-02 annex 10 pa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L ASEP = doc 2011-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BA always applicable (independent of choice for Lurban/ASEP or Chair/AS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celeration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nex 3:   3 m/s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EP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5 m/s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ant 3 Lurban AS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ck with A3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 dB margin on A 3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vehicle fails Lurban-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rban-ASEP limit is comparable to chair-ASEP and NL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57640" y="819000"/>
            <a:ext cx="588636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air-ASEP rejects this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rban AS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riant 1 vehicle 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riant 2 board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riant 3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uge amount of dat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w to clarify in a simple pres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f necessary: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2997000"/>
            <a:ext cx="84596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 factors influencing Lwot,ASEP are mutiplied by a factor 1/(1-kp,AS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the example vehicle this factor has a value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is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margin of 3 dB on Lurban translates into a margin of 9 dB on L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79280" y="1517760"/>
                <a:ext cx="87854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T,ASE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 -  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,ASE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b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x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,ASE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50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,ASEP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uge amount of dat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w to clarify in a simple pres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tegy for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 example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ree variants of Lurban-AS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 every var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 graph with th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 graph with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e example veh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57640" y="819000"/>
            <a:ext cx="5886360" cy="603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ue dots are measured noise lev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e example veh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hy this examp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ason 1: sound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 very 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ump of 1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stimated Lmax,nrated 11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57640" y="819000"/>
            <a:ext cx="5886360" cy="603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35280" y="5373720"/>
            <a:ext cx="1295640" cy="360360"/>
          </a:xfrm>
          <a:prstGeom prst="wedgeRectCallout">
            <a:avLst>
              <a:gd name="adj1" fmla="val 81495"/>
              <a:gd name="adj2" fmla="val -271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573360"/>
            <a:ext cx="792000" cy="360360"/>
          </a:xfrm>
          <a:prstGeom prst="wedgeRectCallout">
            <a:avLst>
              <a:gd name="adj1" fmla="val 187476"/>
              <a:gd name="adj2" fmla="val 53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060640"/>
            <a:ext cx="792000" cy="360360"/>
          </a:xfrm>
          <a:prstGeom prst="wedgeRectCallout">
            <a:avLst>
              <a:gd name="adj1" fmla="val 171643"/>
              <a:gd name="adj2" fmla="val 35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2637000"/>
            <a:ext cx="865440" cy="649080"/>
          </a:xfrm>
          <a:prstGeom prst="wedgeRectCallout">
            <a:avLst>
              <a:gd name="adj1" fmla="val 182842"/>
              <a:gd name="adj2" fmla="val 22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 dB ju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093080" y="476280"/>
            <a:ext cx="143964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981000"/>
            <a:ext cx="1727280" cy="649440"/>
          </a:xfrm>
          <a:prstGeom prst="wedgeRectCallout">
            <a:avLst>
              <a:gd name="adj1" fmla="val 168013"/>
              <a:gd name="adj2" fmla="val -121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stim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max = 11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3059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sumed limit A3: 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3348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hy this exam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nd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t very lin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ump of 10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max,nrated circa 110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nex 3 on the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51.02: -0.9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51.03 +0.7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ulfills K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cceleration &lt; 4 m/s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nd emission not everywhere as could be expected from the Annex 3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3800" y="692280"/>
            <a:ext cx="60102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vehicle fails both NL ASEP and Chair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t various engine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L ASEP and Chair ASEP differ less than 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22480" y="476280"/>
            <a:ext cx="62215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8:55:05Z</dcterms:created>
  <dc:creator>Boudewijn Kortbeek</dc:creator>
  <dc:description/>
  <dc:language>en-US</dc:language>
  <cp:lastModifiedBy>Romain HUBERT</cp:lastModifiedBy>
  <dcterms:modified xsi:type="dcterms:W3CDTF">2011-02-17T16:24:11Z</dcterms:modified>
  <cp:revision>363</cp:revision>
  <dc:subject/>
  <dc:title>Report  GRB ad hoc Working Group ASEP                                                                    GRB 44             September 5, 2006 </dc:title>
</cp:coreProperties>
</file>