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705-CCB0-437D-A01D-9BE8434FEBB8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01800" y="6370560"/>
            <a:ext cx="41562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69880" indent="-284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616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2440" indent="-285840">
              <a:spcBef>
                <a:spcPts val="451"/>
              </a:spcBef>
              <a:buClr>
                <a:srgbClr val="000000"/>
              </a:buClr>
              <a:buFont typeface="Verdana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712880">
              <a:spcBef>
                <a:spcPts val="451"/>
              </a:spcBef>
              <a:buClr>
                <a:srgbClr val="4e962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71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71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  <a:ea typeface="Arial Unicode MS"/>
              </a:rPr>
              <a:t>NL Proposal for Amending Reg 51-3 Annex 3</a:t>
            </a:r>
            <a:br>
              <a:rPr sz="2600"/>
            </a:br>
            <a:br>
              <a:rPr sz="1700"/>
            </a:br>
            <a:r>
              <a:rPr b="0" lang="en-US" sz="2600" spc="-1" strike="noStrike">
                <a:solidFill>
                  <a:srgbClr val="046f96"/>
                </a:solidFill>
                <a:latin typeface="Verdana"/>
                <a:ea typeface="Arial Unicode MS"/>
              </a:rPr>
              <a:t>  </a:t>
            </a:r>
            <a:br>
              <a:rPr sz="1100"/>
            </a:br>
            <a:r>
              <a:rPr b="0" lang="en-US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Clarification</a:t>
            </a:r>
            <a:br>
              <a:rPr sz="1100"/>
            </a:b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issued by the Netherlands </a:t>
            </a:r>
            <a:br>
              <a:rPr sz="1100"/>
            </a:br>
            <a:r>
              <a:rPr b="0" lang="en-US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GRB 50; September 2009</a:t>
            </a:r>
            <a:br>
              <a:rPr sz="1100"/>
            </a:br>
            <a:br>
              <a:rPr sz="1100"/>
            </a:br>
            <a:br>
              <a:rPr sz="1100"/>
            </a:br>
            <a:r>
              <a:rPr b="0" lang="en-US" sz="1600" spc="-1" strike="noStrike">
                <a:solidFill>
                  <a:srgbClr val="046f96"/>
                </a:solidFill>
                <a:latin typeface="Verdana"/>
                <a:ea typeface="Arial Unicode MS"/>
              </a:rPr>
              <a:t>ref:  ECE/TRANS/WP.29/GRB/2009/4</a:t>
            </a:r>
            <a:endParaRPr b="0" lang="en-US" sz="1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189000"/>
            <a:ext cx="35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-50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th GRB, 1 – 3 September, 2009, agenda item 3.c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ND of presentation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To avoid confusion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intention is to amend the coming new annex 3 of R51.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ethod is currently in force as method B in annex 10 of R51.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consultation of the ECE secretariat, this proposal has been forwarded as amendment based on the text of R51.02 method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certainly not our intention to interfere with the running double testing period for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Arial"/>
              </a:rPr>
              <a:t>Background of this proposal?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ing the analysis of the GRBIG ASEP expert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ing the advice of the GRB informal group AS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ing the discussion in GRB 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ASEP WG: analysis stringency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ency in this issue means: effec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more specif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ccuracy of the prediction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Capability to set meaningful dem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come analysis of ASEP W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mmendation to GRB: skip border 2 m/ss in Annex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Why skipping?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oundary forces vehicles to higher gears and so to low(-er) revs in the Annex 3 test situ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result Annex 3 is anchor point for ASEP (revs, Lwo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chor point ASEP not in balance in the middle of the map, but in the low rev are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er area’ bigg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diction less accu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tion less accurat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SEP less accur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EP based on a prediction mod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f96"/>
                </a:solidFill>
                <a:latin typeface="Verdana"/>
              </a:rPr>
              <a:t>Boundary of 2 m/s2 forces the ASEP limit line to the left</a:t>
            </a:r>
            <a:endParaRPr b="0" lang="en-US" sz="22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27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87280" y="2492280"/>
            <a:ext cx="3095640" cy="865440"/>
          </a:xfrm>
          <a:prstGeom prst="wedgeRectCallout">
            <a:avLst>
              <a:gd name="adj1" fmla="val -972"/>
              <a:gd name="adj2" fmla="val 1962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 point ASEP with 2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7771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f96"/>
                </a:solidFill>
                <a:latin typeface="Verdana"/>
              </a:rPr>
              <a:t>Intention of this proposal:</a:t>
            </a:r>
            <a:br>
              <a:rPr sz="2200"/>
            </a:br>
            <a:r>
              <a:rPr b="0" lang="en-US" sz="2000" spc="-1" strike="noStrike">
                <a:solidFill>
                  <a:srgbClr val="046f96"/>
                </a:solidFill>
                <a:latin typeface="Verdana"/>
              </a:rPr>
              <a:t>go back to the original anchor point (as based on urban statistics)</a:t>
            </a:r>
            <a:endParaRPr b="0" lang="en-US" sz="2000" spc="-1" strike="noStrike">
              <a:solidFill>
                <a:srgbClr val="046f96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4271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00720" y="4724280"/>
            <a:ext cx="3384360" cy="792360"/>
          </a:xfrm>
          <a:prstGeom prst="wedgeRectCallout">
            <a:avLst>
              <a:gd name="adj1" fmla="val -71245"/>
              <a:gd name="adj2" fmla="val -4398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 point A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2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5013360"/>
            <a:ext cx="1150920" cy="287280"/>
          </a:xfrm>
          <a:custGeom>
            <a:avLst/>
            <a:gdLst>
              <a:gd name="textAreaLeft" fmla="*/ 246960 w 1150920"/>
              <a:gd name="textAreaRight" fmla="*/ 807840 w 1150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70" hR="21600" stAng="10800000" swAng="-5400000"/>
                <a:lnTo>
                  <a:pt x="10525" y="21600"/>
                </a:lnTo>
                <a:arcTo wR="9270" hR="21600" stAng="5400000" swAng="-2209618"/>
                <a:lnTo>
                  <a:pt x="20373" y="10740"/>
                </a:lnTo>
                <a:lnTo>
                  <a:pt x="19167" y="0"/>
                </a:lnTo>
                <a:lnTo>
                  <a:pt x="15506" y="10740"/>
                </a:lnTo>
                <a:lnTo>
                  <a:pt x="17312" y="10740"/>
                </a:lnTo>
                <a:arcTo wR="9270" hR="21600" stAng="3190382" swAng="2109547"/>
                <a:lnTo>
                  <a:pt x="9897" y="21550"/>
                </a:lnTo>
                <a:arcTo wR="9270" hR="21600" stAng="5500071" swAng="5299929"/>
                <a:close/>
              </a:path>
              <a:path fill="darkenLess" w="21600" h="21600">
                <a:moveTo>
                  <a:pt x="0" y="0"/>
                </a:moveTo>
                <a:arcTo wR="9270" hR="21600" stAng="10800000" swAng="-5400000"/>
                <a:lnTo>
                  <a:pt x="10525" y="21600"/>
                </a:lnTo>
                <a:arcTo wR="9270" hR="21600" stAng="5400000" swAng="100071"/>
                <a:lnTo>
                  <a:pt x="9897" y="21550"/>
                </a:lnTo>
                <a:arcTo wR="9270" hR="21600" stAng="5500071" swAng="5299929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ffect of skipping the 2 m/s</a:t>
            </a:r>
            <a:r>
              <a:rPr b="0" lang="en-US" sz="2600" spc="-1" strike="noStrike" baseline="30000">
                <a:solidFill>
                  <a:srgbClr val="046f96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 boundary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6840" y="1980720"/>
            <a:ext cx="816912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ginal effect on Annex 3 nor on limitation annex 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ecause of Kp facto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effect for quality Annex10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chor Point more in balance: moving towards the middle of the engine 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: prediction capability more accu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xamples: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092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fect of removing 2 m/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ound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2708280"/>
          <a:ext cx="8209080" cy="313992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2720"/>
                <a:gridCol w="20509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MR (kW/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result Anne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A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 R5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t vehicles in the d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ince they do not reach &gt; 2 m/s2 in gear 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8:55:05Z</dcterms:created>
  <dc:creator>Boudewijn Kortbeek</dc:creator>
  <dc:description/>
  <dc:language>en-US</dc:language>
  <cp:lastModifiedBy>Gianotti</cp:lastModifiedBy>
  <dcterms:modified xsi:type="dcterms:W3CDTF">2011-08-29T13:29:31Z</dcterms:modified>
  <cp:revision>164</cp:revision>
  <dc:subject/>
  <dc:title>Report  GRB ad hoc Working Group ASEP                                                                    GRB 44             September 5, 2006 </dc:title>
</cp:coreProperties>
</file>