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E9601-2AF6-4B16-9070-2883BDC84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90519-DB5D-43D0-8B0D-A9E4198437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58476-4343-4CFB-81DD-AA60F8BCB18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8CE86-9BF7-4DD2-91D7-30A78E8E9A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AF89-DD15-46D0-8D2B-A6254EC4C2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EC506-4B9A-46BB-9E80-36E556F093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AC330-0EBA-44FF-9B33-B2C8038A04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C7872-B6FE-4E5C-B0AE-9ADA9E268C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92D42-D1F4-469C-B3B2-7672BA3E68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E7C4F-E72F-4AC7-8C3A-B438D3C2CF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1854-5EBE-4779-9953-37D8EF7D14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CDF-A9D8-4EB5-ABC7-C66B9266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6CB-BDD6-4E4A-B748-161E7AA6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066-C306-41B1-B448-A78CBB00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166-1A71-46D7-83BC-C09585A9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ECAB-01D6-48FC-B18F-814CE2AE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111E-A470-4ABE-A8DE-8B17C7D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3551-1FF7-46F7-877C-79AB00D8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111B-96A2-40FE-9054-DED232EB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5C09-3C6C-49E6-A1A2-C027AFB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D8D8-7518-4DCC-9272-CB0FD168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308-4AA0-4043-9088-ED21D23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553-3A76-48D1-85D8-333CB803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AC9F-8B9E-4F78-9EDD-9FE2CD7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FFE1-8E8F-47D9-9E3A-997B901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938B-CCC1-4CBB-8C6B-508C2DD0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6DE7-BB8F-4673-B887-D50F161E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4909-C359-4304-BDFD-04A6FF8D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40C8-EE23-4E1E-A873-6BC8D81A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58B6-A220-4D90-93F7-67A8DA1F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2B01-2D90-47AC-8E70-FE40D2E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44C7-A4E9-4C78-9976-49B4E88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46B6-3FEE-449B-BED6-84607249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27D-38B0-4814-A95B-63CDD3E7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11AA-5601-4087-BA3A-9AA06496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0D14-AC45-47A9-8522-7822196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6F8B-D66E-4BCA-BE37-B6B9857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01F1-0042-49A0-BB6B-F6A8862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FAA0-7A18-4162-BEBF-8CF291AB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6F11-6CE5-4D23-8360-F0BD8314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11A9-8FFE-484E-A449-DACBA862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829-E7DD-4BBB-B578-4B87B777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9DC-A500-4CD0-81F9-DBB2B11F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DD6-9B26-49FC-98B2-B466813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F84-8B7E-46D9-AB7F-037C053D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59F-8253-4472-99B6-6C5AF96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C51-7FCD-43F5-B30C-8BE1CEF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BC76-7F92-485F-A002-A6B8DFD025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ernational Harmonized Research Activities Working Group on ITS   (IHRA-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0946-C416-4C43-9DD5-BD9F94895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981-2BC3-4396-BA5F-EA7B3CC7A27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ternational Harmonized Research Activities Working Group on ITS   (IHRA-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8274-5285-455E-98CB-1A319B83B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486080" cy="701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D54B-F3E5-4FC4-816B-000107DB5569}" type="datetime">
              <a:rPr b="0" lang="en-US" sz="1000" spc="-1" strike="noStrike">
                <a:solidFill>
                  <a:srgbClr val="7f7f7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BBD-7BAC-4C1A-B202-357E1448DC7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828800" y="4572000"/>
            <a:ext cx="5486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N-ECE WP.29 ITS Informal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neva, March,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324000" y="14842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Design Principles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Advanced Driver Assistance Syste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Keeping Drivers In-the-Loop</a:t>
            </a:r>
            <a:r>
              <a:rPr b="1" lang="en-CA" sz="3200" spc="-1" strike="noStrike">
                <a:solidFill>
                  <a:srgbClr val="16165d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486080" cy="701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1523880" y="30492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mitted by chairman of IHRA/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5435640" y="189000"/>
            <a:ext cx="3327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l document No. ITS-19-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th ITS, 11March 2011, Agenda item 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DB6-5F22-4DF1-8994-A1EA4CCDD47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91440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Principles: Operation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250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ystems that control the vehicle under normal driving situations, the driver should have a means to turn it OFF manually and to keep the system in the OFF st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250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ivers should be informed of the conditions that result in system activation and deacti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250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ivers should be informed of the conditions when system operation is different or is not guarante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1B94-F4B3-4965-9F53-CE476A639CF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-152280" y="1752480"/>
            <a:ext cx="9448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hould be clear to the driver what assistance systems are installed on the veh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systems that can be turned OFF, the driver should be able to easily determine the system st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river should be provided with clear feedback informing them when the system is actively controlling the veh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s should be notified of any transfer of control between the driver and vehic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ction is not available due to a failure, the driver should be inform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symbols are used to notify the driver, a standard symbol should be used when avail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29760" y="91440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Principles: Displa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5E0-DFC7-4A3D-A828-DB5D8EA4640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-228600" y="609480"/>
            <a:ext cx="937260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ation should provide users with safe, comfortable, convenient and efficient mobilit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document describes some of the human factors issues and needs associated with driving task automa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ets out some basic principles that will help to optimize system performance and avoid drivers being out-of-the-loop and unprepared to manage safety-critical situations when they are needed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 advanced driver assistance systems control or support elements of the driving task, drivers should be fully aware of the performance and limitations of those func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001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basic principles were prepared by the IHRA working group on Intelligent Transport Systems (ITS) to support the activities of the UNECE WP.29 ITS informal group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385-7F2F-426A-BBDA-AF426DCBDBE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026"/>
          <p:cNvSpPr/>
          <p:nvPr/>
        </p:nvSpPr>
        <p:spPr>
          <a:xfrm>
            <a:off x="228600" y="838080"/>
            <a:ext cx="8448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Thank you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16165d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5720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nds in driver assistance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principles for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50000"/>
              </a:lnSpc>
              <a:spcBef>
                <a:spcPts val="1749"/>
              </a:spcBef>
              <a:buClr>
                <a:srgbClr val="16165d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-7632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7B1-7240-4033-9F8D-16A6154B1A6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3506760" y="1233360"/>
            <a:ext cx="5637240" cy="44053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91440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Advanced Driver Assistance System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60948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ision warning and automatic brak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front headligh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e departure war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e keeping assist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ind spo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monito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ed al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sted par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taking assist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al violation war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Cooperative 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2V, V2I, V2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889160" y="579132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 Project - Pr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631E-50E3-45D3-BFB0-B3FB5A79382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600200" y="638280"/>
            <a:ext cx="7467480" cy="606744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1F5-2FED-4064-9255-87E10E20733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1F6-F0DE-42DE-A5E3-D2577273B52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917360" y="77760"/>
            <a:ext cx="470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Human Factors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-152280" y="838080"/>
            <a:ext cx="9219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wareness and understanding of current system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system functions and lim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er instructions, supporting materials and accurate 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mal driver workload and task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t ‘look and feel’ to limit interoperabilit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factors that affect appropriate trust and system reli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in fail-safe mod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potential unsafe side effects of behavioural adaptation  and design for any reasonably foreseeable mis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391-326F-4F92-9D22-E76B823C558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52280" y="1066680"/>
            <a:ext cx="8991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the-Lo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river is involved in the driving task and is aware of the vehicle status and road traffic situ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plays an active role in the driver-vehicle 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-of-the-Lo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potential negative consequence of autom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situational awareness - driver is not immediately aware of the vehicle and the current or developing road traffic sit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ctively monitoring, making decisions or providing input to the driving tas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minished ability to detect system errors and manually resp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228600" y="533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In-the-Loop Performance</a:t>
            </a:r>
            <a:r>
              <a:rPr b="1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4FE2-116D-469B-908E-69EF5A2F310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76320" y="134136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ternational Harmonized Research Activities (IHRA) working group on Intelligent Transport Systems (ITS) has been providing support to the UN-ECE WP.29 ITS Informal Grou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llowing draft control principles were prepared for WP.2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basic principles are intended to identify automation issues and help to avoid drivers being out-of-the-loop and unprepared to manage safety-critical situ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inciples are structured in relation to Control, Operation and Display under Normal and Critical driving situa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research evidence, international standards and best pract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itle 3"/>
          <p:cNvSpPr/>
          <p:nvPr/>
        </p:nvSpPr>
        <p:spPr>
          <a:xfrm>
            <a:off x="30492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Overview of Control Principle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30D-CD9F-4667-A2BD-9A586AEEF0F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050"/>
          <p:cNvSpPr/>
          <p:nvPr/>
        </p:nvSpPr>
        <p:spPr>
          <a:xfrm>
            <a:off x="7632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cover the basic driver interface and intervention capabilities for active vehicle control system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may also be relevant to automation that provides information and warnings to driv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apply to systems that support elements of the driver’s tas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principles also apply to systems that can actively change vehicle speed and dir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30492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Scope of Control Principles</a:t>
            </a:r>
            <a:br>
              <a:rPr sz="3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March 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oter Placeholder 2"/>
          <p:cNvSpPr/>
          <p:nvPr/>
        </p:nvSpPr>
        <p:spPr>
          <a:xfrm>
            <a:off x="2590920" y="635652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International Harmonized Research Activities Working Group on ITS   (IHRA-IT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8A81-079C-4068-A79F-F16413E5B55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050"/>
          <p:cNvSpPr/>
          <p:nvPr/>
        </p:nvSpPr>
        <p:spPr>
          <a:xfrm>
            <a:off x="0" y="15238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Normal Driving 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river should be able to easily and quickly override system actions at any time under normal driving situations and when crashes are avoid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ritical Driving Situ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 crash is determined to be unavoidable, the system can take actions to try to mitigate the crash sever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a loss of control is determined to be unavoidable, the system can take actions to try to regain stability and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1125"/>
              </a:spcBef>
              <a:buClr>
                <a:srgbClr val="1616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it determines that driver performance is impaired, the system can take actions to avoid or mitigate collis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tle 3"/>
          <p:cNvSpPr/>
          <p:nvPr/>
        </p:nvSpPr>
        <p:spPr>
          <a:xfrm>
            <a:off x="304920" y="838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ＭＳ Ｐゴシック"/>
              </a:rPr>
              <a:t>Principles: Control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4:02:39Z</dcterms:created>
  <dc:creator>BURNSP</dc:creator>
  <dc:description/>
  <dc:language>en-US</dc:language>
  <cp:lastModifiedBy>Gianotti</cp:lastModifiedBy>
  <dcterms:modified xsi:type="dcterms:W3CDTF">2011-03-04T09:04:01Z</dcterms:modified>
  <cp:revision>44</cp:revision>
  <dc:subject/>
  <dc:title>Slide 1</dc:title>
</cp:coreProperties>
</file>