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304C1-1DFE-4895-B76C-EB6B8157D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8FB6C-C991-445E-886A-7FECBD8E52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A0DF1-6FCD-46CA-A371-19E9C50349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05A38-CED5-4F6E-A43B-312C3DEDA7D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E40C2-3EF7-4CC0-BCC7-E54037589C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1735B-2B4C-4867-A763-38C57D97CE0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BCB76-9B39-4C75-A361-8536CDA8DA4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30B8A-B796-49F9-B1D5-7F0FA9F9DC6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CA46-7169-4852-B93A-BEC0138D36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0AD02-15D9-4135-B67A-3D82975CA59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B93AA-759A-4F9C-A379-1D842184C3C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E35-31B0-4369-9089-E4A862C9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A75-EE28-4063-94E8-91806410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8A0-0F70-4C23-A056-EEE55C48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45A-2E4E-4117-8C6F-03A8B242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F174-F1F2-4CBB-835A-BDE7C4A5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C2E1-3F4C-43ED-BF9D-AB3919C4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F5DD-438B-42AC-A248-BFFD34F5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ED0F-D792-4F7E-99E4-4470745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4745-8402-467A-AC55-F92EC9DB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F9C6-AA6D-4229-965A-046ED928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0372-CF40-417B-8B68-1EA6C5ED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D81-DD58-4681-B446-ED133B9A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AD3B-7047-4097-A0EE-4B7AFDE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8F3F-33AA-43F3-878C-0BC924E8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91F3-E702-471F-87F0-A880DA9C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345-14E7-4EAB-91EA-895D1A92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D6D9-4E8F-48F3-9D99-A64F04F3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A79F-1C8E-438D-B8DC-44603FE7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BE83-1AA8-448F-885B-2AC9B164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DAFA-7213-466D-856C-41E43A7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A9A1-C5BB-4B5D-900F-7FD72149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EA89-E9E6-48CF-AEE8-62BDE80C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FBC-B830-4A94-8C10-1DCB34DA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98B9-8EC8-42FB-B802-EEA28FF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485A-6BD4-4441-BF1E-627EFC6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24BD-6BFC-490C-BEA1-5E5F3DD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1E96-E08C-4990-8BFE-E89CA1D6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73B2-4C2C-4E0F-8B56-39C9E54F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1403-4A5C-45E7-AD12-8381FE8C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3CD4-88A7-4356-A65A-07918DD2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5AA-D9B6-4E11-8F45-0E7121A7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643-AD73-454E-8D55-448EAF53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DD6-E322-490D-BF09-5D3549E0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D17-1282-4423-9CBE-9AE3E8F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F6A-00DA-48B2-AEAC-27FEBDE8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59C-77EF-49CE-B67F-605CFF1C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1D60-C152-4DC8-BFC1-4CCE9937D48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ernational Harmonized Research Activities Working Group on ITS   (IHRA-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75B-7083-42BD-9FFF-9C299998B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D04-BA43-4AB6-9AD4-43816A538B8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ernational Harmonized Research Activities Working Group on ITS   (IHRA-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A7AF-2775-48A9-B2E2-0D2504744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486080" cy="701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7B12-F51D-4F6D-A52C-B835EAF8201D}" type="datetime">
              <a:rPr b="0" lang="en-US" sz="1000" spc="-1" strike="noStrike">
                <a:solidFill>
                  <a:srgbClr val="7f7f7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1857-71C6-462A-AFAB-5AF1014AD22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1828800" y="4572000"/>
            <a:ext cx="5486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HRA-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N-ECE WP.29 ITS Informal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neva, March,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324000" y="14842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5d"/>
                </a:solidFill>
                <a:latin typeface="Arial"/>
                <a:ea typeface="ＭＳ Ｐゴシック"/>
              </a:rPr>
              <a:t>Design Principles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5d"/>
                </a:solidFill>
                <a:latin typeface="Arial"/>
                <a:ea typeface="ＭＳ Ｐゴシック"/>
              </a:rPr>
              <a:t>Advanced Driver Assistance System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5d"/>
                </a:solidFill>
                <a:latin typeface="Arial"/>
                <a:ea typeface="ＭＳ Ｐゴシック"/>
              </a:rPr>
              <a:t>Keeping Drivers In-the-Loop</a:t>
            </a:r>
            <a:r>
              <a:rPr b="1" lang="en-CA" sz="3200" spc="-1" strike="noStrike">
                <a:solidFill>
                  <a:srgbClr val="16165d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486080" cy="701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1523880" y="30492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mitted by chairman of IHRA/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5435640" y="189000"/>
            <a:ext cx="3327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l document No. ITS-19-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th ITS, 11March 2011, Agenda item 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E0FA-69EB-472F-9A13-7C3CE425E2D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914400"/>
            <a:ext cx="8839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Principles: Operation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250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ystems that control the vehicle under normal driving situations, the driver should have a means to turn it OFF manually and to keep the system in the OFF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250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ivers should be informed of the conditions that result in system activation and deactiv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250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ivers should be informed of the conditions when system operation is different or is not guarante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609F-9F76-49CE-9055-9167B2BD7C0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-152280" y="1752480"/>
            <a:ext cx="94485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should be clear to the driver what assistance systems are installed on the vehi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systems that can be turned OFF, the driver should be able to easily determine the system st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river should be provided with clear feedback informing them when the system is actively controlling the vehi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s should be notified of any transfer of control between the driver and vehi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ction is not available due to a failure, the driver should be inform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symbols are used to notify the driver, a standard symbol should be used when avail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29760" y="91440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Principles: Display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F656-0700-4EB3-9290-2E4D9929ACF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-228600" y="609480"/>
            <a:ext cx="937260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on should provide users with safe, comfortable, convenient and efficient mobilit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document describes some of the human factors issues and needs associated with driving task automatio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sets out some basic principles that will help to optimize system performance and avoid drivers being out-of-the-loop and unprepared to manage safety-critical situations when they are needed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the advanced driver assistance systems control or support elements of the driving task, drivers should be fully aware of the performance and limitations of those func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basic principles were prepared by the IHRA working group on Intelligent Transport Systems (ITS) to support the activities of the UNECE WP.29 ITS informal grou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510-482C-4B9D-BD61-680B09DD417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026"/>
          <p:cNvSpPr/>
          <p:nvPr/>
        </p:nvSpPr>
        <p:spPr>
          <a:xfrm>
            <a:off x="228600" y="838080"/>
            <a:ext cx="8448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Thank you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5720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50000"/>
              </a:lnSpc>
              <a:spcBef>
                <a:spcPts val="1749"/>
              </a:spcBef>
              <a:buClr>
                <a:srgbClr val="16165d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nds in driver assistance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50000"/>
              </a:lnSpc>
              <a:spcBef>
                <a:spcPts val="1749"/>
              </a:spcBef>
              <a:buClr>
                <a:srgbClr val="16165d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50000"/>
              </a:lnSpc>
              <a:spcBef>
                <a:spcPts val="1749"/>
              </a:spcBef>
              <a:buClr>
                <a:srgbClr val="16165d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principles fo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50000"/>
              </a:lnSpc>
              <a:spcBef>
                <a:spcPts val="1749"/>
              </a:spcBef>
              <a:buClr>
                <a:srgbClr val="16165d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-763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C6D3-2D3A-4D2D-9552-15059F696D9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3506760" y="1233360"/>
            <a:ext cx="5637240" cy="44053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91440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Advanced Driver Assistance System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60948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ision warning and automatic brak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front headligh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e departure warn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e keeping assist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ind spo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monito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ed al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sted par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taking assist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 violation warn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Cooperative 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2V, V2I, V2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889160" y="579132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 Project - Pr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0901-9B29-49DE-AD84-E27131FDE67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600200" y="638280"/>
            <a:ext cx="7467480" cy="606744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EB18-B964-4CA1-BDC8-6B5B45BC988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136B-91D5-4733-903E-32B3D7892E3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917360" y="77760"/>
            <a:ext cx="470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Human Factors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-152280" y="838080"/>
            <a:ext cx="9219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wareness and understanding of current system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system functions and lim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 instructions, supporting materials and accurate 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mal driver workload and task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t ‘look and feel’ to limit interoperability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factors that affect appropriate trust and system reli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in fail-safe mod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potential unsafe side effects of behavioural adaptation  and design for any reasonably foreseeable misu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9996-BB0F-4D87-B582-10393AEB5B9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52280" y="1066680"/>
            <a:ext cx="8991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the-Lo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river is involved in the driving task and is aware of the vehicle status and road traffic situ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plays an active role in the driver-vehicle 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-of-the-Lo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potential negative consequence of autom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situational awareness - driver is not immediately aware of the vehicle and the current or developing road traffic sit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ctively monitoring, making decisions or providing input to the driving tas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minished ability to detect system errors and manually resp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228600" y="533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In-the-Loop Performance</a:t>
            </a:r>
            <a:r>
              <a:rPr b="1" lang="en-US" sz="31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0A6-A5B2-4D1F-9D7C-11938471A49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76320" y="134136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ternational Harmonized Research Activities (IHRA) working group on Intelligent Transport Systems (ITS) has been providing support to the UN-ECE WP.29 ITS Informal Grou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ollowing draft control principles were prepared for WP.2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basic principles are intended to identify automation issues and help to avoid drivers being out-of-the-loop and unprepared to manage safety-critical situa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inciples are structured in relation to Control, Operation and Display under Normal and Critical driving situa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research evidence, international standards and best pract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itle 3"/>
          <p:cNvSpPr/>
          <p:nvPr/>
        </p:nvSpPr>
        <p:spPr>
          <a:xfrm>
            <a:off x="30492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Overview of Control Principle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E870-E716-4F81-832F-8BECC56A893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050"/>
          <p:cNvSpPr/>
          <p:nvPr/>
        </p:nvSpPr>
        <p:spPr>
          <a:xfrm>
            <a:off x="7632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principles cover the basic driver interface and intervention capabilities for active vehicle control system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principles may also be relevant to automation that provides information and warnings to driv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principles apply to systems that support elements of the driver’s tas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principles also apply to systems that can actively change vehicle speed and dir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30492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Scope of Control Principles</a:t>
            </a:r>
            <a:br>
              <a:rPr sz="3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5492-E5FA-4BAE-AAFB-37E5A687E16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050"/>
          <p:cNvSpPr/>
          <p:nvPr/>
        </p:nvSpPr>
        <p:spPr>
          <a:xfrm>
            <a:off x="0" y="15238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Normal Driving 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river should be able to easily and quickly override system actions at any time under normal driving situations and when crashes are avoid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ritical Driving 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the crash is determined to be unavoidable, the system can take actions to try to mitigate the crash sever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 loss of control is determined to be unavoidable, the system can take actions to try to regain stability and contr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it determines that driver performance is impaired, the system can take actions to avoid or mitigate collis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tle 3"/>
          <p:cNvSpPr/>
          <p:nvPr/>
        </p:nvSpPr>
        <p:spPr>
          <a:xfrm>
            <a:off x="304920" y="838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Principles: Control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4:02:39Z</dcterms:created>
  <dc:creator>BURNSP</dc:creator>
  <dc:description/>
  <dc:language>en-US</dc:language>
  <cp:lastModifiedBy>Gianotti</cp:lastModifiedBy>
  <dcterms:modified xsi:type="dcterms:W3CDTF">2011-03-04T09:04:01Z</dcterms:modified>
  <cp:revision>44</cp:revision>
  <dc:subject/>
  <dc:title>Slide 1</dc:title>
</cp:coreProperties>
</file>