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8560" y="719280"/>
            <a:ext cx="4799160" cy="35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29720" y="4559040"/>
            <a:ext cx="5851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0" y="911700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C1240-5CA5-4516-A154-2FDD7D1D38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6832B-926D-4051-B430-3DB8EB0C5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942A1-767A-434D-B02F-77A0D69CA0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08E1C-0CE8-4F6B-91DC-E3EAEDC680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7B20C-18A6-4C48-8698-736D559547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3080C-3C3A-4A34-B997-8B3CA5AB46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8E08B-E1E5-4597-ADEE-7F91B9D117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887BD-16E6-4172-BCEA-47474FE2DD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7669D-1FBD-40DB-9462-BEC6BFD8DB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99548-AA55-474D-BC1C-2DAB2C27A2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3240" y="911700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9267E-CA28-4523-8599-864A0401A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7696-E8C7-44C0-B58F-D77C558B7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92DC-6C6B-40E7-80EE-7185A0C61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B12A-2165-4F53-9489-C193C3551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176E-8CD0-478A-87F9-FE0303B23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1E57-5544-4BDA-9379-C906189089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E197-73D7-4443-9D74-CA7A24C24C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5B74-741D-4999-B530-712C347D5C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7022-F95B-4ADB-B0C0-8D5A08CF2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6345-E187-488B-8FEB-B303D1D6B7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7E62-2CCF-4F75-A350-8DC98DE820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109F-6DF7-46EA-868D-306A5CE43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7423-4C9C-4C65-9D11-65761BC6C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B4FE-6BDE-4EF0-AD47-CFAA8E6950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23C7-3347-4540-8EAD-033CD8AC60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B291-9578-4CF2-A174-FEEDF31BA9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1C1C-CE47-4CF5-924B-7755697461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81C9-434D-4BF9-8C53-BE126F345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B3C2-F834-4FB2-BF01-535935DCE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67D2-67B1-4A31-A596-B4A1BBEFA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A768-C431-40DE-81F7-7DBDFBFF9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D925-2F70-4535-823D-D1CC7BF96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2ED6-BB91-47AE-AA6D-D149A878C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C5D9-AEC8-479C-B9FD-05BBB6090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8D1B-EC15-42F6-BDF2-99628EBAD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D7C491-6832-45DB-9311-D6F08E6CB0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0" y="52560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b96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b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ab967d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8417EC-5589-4D61-A375-FAA9F3E8F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0" y="692280"/>
            <a:ext cx="91440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Brief Review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up to Now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26354E-1731-4315-8B76-513769A02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11280" y="3213000"/>
            <a:ext cx="79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11, 2011, Gene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CE/WP29/ITS Informal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th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1280" y="501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. Onoda &amp; K. Hiramatsu, 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テキスト ボックス 5"/>
          <p:cNvSpPr/>
          <p:nvPr/>
        </p:nvSpPr>
        <p:spPr>
          <a:xfrm>
            <a:off x="250920" y="18900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ted by expert from JAP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テキスト ボックス 6"/>
          <p:cNvSpPr/>
          <p:nvPr/>
        </p:nvSpPr>
        <p:spPr>
          <a:xfrm>
            <a:off x="5435640" y="189000"/>
            <a:ext cx="3457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l document No. ITS-19-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th ITS, 11March 2011, Agenda item 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0" y="27860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4873"/>
                </a:solidFill>
                <a:latin typeface="Tahoma"/>
              </a:rPr>
              <a:t>Thank you for your att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C914DD-957E-46FC-AF8A-07116D19A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14200" y="571680"/>
            <a:ext cx="8929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urrent activiti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ts val="4487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 : November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ts val="3487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evelop common understanding of driver assistance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ts val="3487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of Two Years Activities : March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ts val="3487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ness of "Driver in the Loop" under normal driving condi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ts val="3487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ness of damage mitigation under pre-crash condition where collision is no longer avoi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ts val="3487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of Warning Guidelines to WP29 : March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D885A7-E72D-4E23-9D8D-13F8E65C1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14200" y="500040"/>
            <a:ext cx="89298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1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How ADAS assist driver in terms of HMI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4D12DB-F861-418E-A74D-6CA7AB6C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2124000" y="2995560"/>
            <a:ext cx="4753080" cy="3311640"/>
          </a:xfrm>
          <a:custGeom>
            <a:avLst/>
            <a:gdLst>
              <a:gd name="textAreaLeft" fmla="*/ 0 w 4753080"/>
              <a:gd name="textAreaRight" fmla="*/ 4753440 w 475308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2994" h="2086">
                <a:moveTo>
                  <a:pt x="0" y="2086"/>
                </a:moveTo>
                <a:lnTo>
                  <a:pt x="0" y="0"/>
                </a:lnTo>
                <a:lnTo>
                  <a:pt x="998" y="0"/>
                </a:lnTo>
                <a:lnTo>
                  <a:pt x="998" y="590"/>
                </a:lnTo>
                <a:lnTo>
                  <a:pt x="1996" y="590"/>
                </a:lnTo>
                <a:lnTo>
                  <a:pt x="1996" y="1179"/>
                </a:lnTo>
                <a:lnTo>
                  <a:pt x="2994" y="1179"/>
                </a:lnTo>
                <a:lnTo>
                  <a:pt x="2994" y="2086"/>
                </a:lnTo>
                <a:lnTo>
                  <a:pt x="0" y="2086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 flipV="1">
            <a:off x="1835280" y="2489040"/>
            <a:ext cx="543708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2131920"/>
            <a:ext cx="24112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266920" y="213192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51280" y="213192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435640" y="213192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1835280" y="3497040"/>
            <a:ext cx="543708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266920" y="3139920"/>
            <a:ext cx="1295280" cy="648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851280" y="3139920"/>
            <a:ext cx="129528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435640" y="3139920"/>
            <a:ext cx="129528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V="1">
            <a:off x="1835280" y="4433760"/>
            <a:ext cx="543708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2266920" y="407520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3851280" y="407520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5435640" y="407520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1835280" y="5370120"/>
            <a:ext cx="54370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2266920" y="5011560"/>
            <a:ext cx="1295280" cy="648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3851280" y="5011560"/>
            <a:ext cx="1295280" cy="648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5435640" y="5011560"/>
            <a:ext cx="1295280" cy="648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2484360" y="5803920"/>
            <a:ext cx="4032360" cy="36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istance by Advanced Technolo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2016000" y="1698480"/>
            <a:ext cx="489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ioral Model of a D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3" descr=""/>
          <p:cNvPicPr/>
          <p:nvPr/>
        </p:nvPicPr>
        <p:blipFill>
          <a:blip r:embed="rId2"/>
          <a:stretch/>
        </p:blipFill>
        <p:spPr>
          <a:xfrm>
            <a:off x="8602560" y="2995560"/>
            <a:ext cx="542880" cy="822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"/>
          <p:cNvPicPr/>
          <p:nvPr/>
        </p:nvPicPr>
        <p:blipFill>
          <a:blip r:embed="rId3"/>
          <a:stretch/>
        </p:blipFill>
        <p:spPr>
          <a:xfrm>
            <a:off x="8528040" y="4070520"/>
            <a:ext cx="615960" cy="79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"/>
          <p:cNvPicPr/>
          <p:nvPr/>
        </p:nvPicPr>
        <p:blipFill>
          <a:blip r:embed="rId4"/>
          <a:stretch/>
        </p:blipFill>
        <p:spPr>
          <a:xfrm>
            <a:off x="8602560" y="5132520"/>
            <a:ext cx="541440" cy="541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6"/>
          <p:cNvSpPr/>
          <p:nvPr/>
        </p:nvSpPr>
        <p:spPr>
          <a:xfrm>
            <a:off x="7272360" y="213192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Conventional dri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7238880" y="32986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7272360" y="42195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War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7272360" y="51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14200" y="500040"/>
            <a:ext cx="89298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1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FD3C4F-80E3-41B5-A0F3-AC4B9BBA5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2C04B0-E649-4B20-A768-AB9B58B48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14200" y="500040"/>
            <a:ext cx="878544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Report of two years activitie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Informatio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keep monitoring the situation of self-commitment basis guidelines in each region for a time be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Warning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evelop high-priority warning guidelines in cooperation with IHRA-ITS W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Control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have following understanding as a base for future consid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79280" y="476280"/>
            <a:ext cx="8785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Control (continued)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should be designed in which driver is always held responsible for his/her driving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ation of auditory or visual announcement devices providing information on the system functio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systems activa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under normal driving cond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be designed based on “Driving in the loop”, where driver should be involved in driving in a way or other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uncement is made when the driving initiative is transferred from system to driver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 is kept involved in driving operation. For example, starting initiative should not be given to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llows switching on or off by dr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llows overriding by dri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for Control systems to reduce collision speed activa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under pre-crash 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re collision is no longer avoidable, there is no room for necessity of overriding and driver is not very likely to depend on syst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7A8611-367B-487C-A93F-184D691CD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0" y="47628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0" y="476280"/>
            <a:ext cx="91440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What are warning guidelines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to provide basic recommendations for the design of high-priority warnings on 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 understanding from dri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conf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accurate and consistent expec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igh-priority warning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to be delivered at critical situation where the driver is required to take immediate action or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void crash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DBD909-6FCF-4EB2-89A0-5EF14D43F03F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66A0F0-95F7-40E1-8059-21365CE13AEA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08000" y="404640"/>
            <a:ext cx="9036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Tahoma"/>
              </a:rPr>
              <a:t>Warning guideli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noticeable in the driving 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distinguishable from other messages in the veh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provide spatial cues to the hazard lo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inform the driver of proximity of the haz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elicit timely response or decis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warnings should be prioritiz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lse/nuisance warnings rate should be 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status and degraded performance of high-priority warnings should be display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694824-4E79-45E4-B727-9D05AD9EBBBF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108000" y="404640"/>
            <a:ext cx="9036000" cy="62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Application of warning guidelines to AEBS and LDW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noticeable in the driving 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---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wo modalities or more are generally recommended to make high-priority warnings more noticeable, however the warnings can be displayed using one modality if it can be ensured that the driver will notice the warning. 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98480" indent="-34128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posal for draft Regulation on LDWS : 68th Session of GRRF,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Sept/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5.4.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Warning ind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5.4.1.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The lane departure warning referred to in paragraph 5.2.1. shall be 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noticeable by the driver and be provid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(a)   at least two warning means out of optical, acoustic and haptic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(b)   one warning means out of haptic and acoustic, with spatial 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7030a0"/>
                </a:solidFill>
                <a:latin typeface="Times New Roman"/>
              </a:rPr>
              <a:t>        indication about the direction of unintended drift of the vehi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200" y="571680"/>
            <a:ext cx="86788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rap up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ts val="3487"/>
              </a:lnSpc>
              <a:spcBef>
                <a:spcPts val="60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S Informal Group submitted Warning Guidelines in March, 2010. Final decision of WP29 will be made in next June, 201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Driver in the Loop" Principles were drafted by IHRA-ITS WG, dealing with advanced driver assistance system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6E91D7-548D-4667-A07D-8AC338CB3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1:26:26Z</dcterms:created>
  <dc:creator/>
  <dc:description/>
  <dc:language>en-US</dc:language>
  <cp:lastModifiedBy>Gianotti</cp:lastModifiedBy>
  <cp:lastPrinted>2002-02-04T03:12:41Z</cp:lastPrinted>
  <dcterms:modified xsi:type="dcterms:W3CDTF">2011-03-04T09:01:45Z</dcterms:modified>
  <cp:revision>448</cp:revision>
  <dc:subject/>
  <dc:title>ITASSup</dc:title>
</cp:coreProperties>
</file>