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8560" y="719280"/>
            <a:ext cx="4799160" cy="359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29720" y="4559040"/>
            <a:ext cx="5851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0" y="911700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3"/>
          </p:nvPr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58C3A-4446-412A-BDE9-3B9E7D79F7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499B1-6287-4308-A579-DB40979890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104B0-9FB8-4FC3-8563-7C5D09F476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  <a:ea typeface="ＭＳ Ｐ明朝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A765F-D28E-4A7A-92D4-DC95A06F45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AA636-05CF-4877-92E5-1221062373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EBDF0-BFEE-435A-AEF3-2BC87952ED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1CCFD-E671-4C33-A3BE-2A0B2CF0BB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294C4-5430-4C5C-A7F0-DF69BBC970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FF92F-2CC0-4C7C-85C8-A2F68804DF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  <a:ea typeface="ＭＳ Ｐ明朝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4CA43-66CF-4C61-A508-8B81E115A5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  <a:ea typeface="ＭＳ Ｐ明朝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0E916-0D04-4545-8AAA-56858BDB94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83CE-61B6-4C20-B95B-D2C98B036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B9FE-4476-48F6-81AE-36995145B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A570-ECA7-4504-85AC-4384C5AAD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9200-76B4-4ABF-B3BA-0683AD3AA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4060-4B0C-4ECB-AC88-1FE7D3682F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8839E-EF52-48B0-888E-E3315B03CF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3E00-883E-43E5-9762-C3691567CC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37DA-C0B9-4391-AE14-C09DA40D25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9D04-2434-4A82-A425-BDE70F03AD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0A60-3432-4937-920F-5A4AE6562C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9A014-29E8-4293-887A-A50A1361CC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C395-BB96-4117-93FA-0ADE210F7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D834-9A3F-4F23-B499-10D15EE778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1464F-F5FD-4ECF-97DD-2E67CD92E4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C25B-E767-474C-B415-BDF3CFBCB4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6ED7-E999-475B-BD9F-5877CB94E9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284E-91D4-4803-9DE2-A47632ADB8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DB54-3EE2-4C38-B8C6-7AAF9342A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F0C6-8F45-4AA9-9245-AA9588975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B096-116A-42F1-BF53-91B15B105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95BF-F7FF-477A-B3AD-501AA8CE2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0C74-A507-464E-A50D-BA64F8267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C238-BBBF-478E-95AA-4F442E79B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1ED2-7393-4581-8B3B-2B1C523AB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CE5E5C-40F1-4598-AE81-84788C41C1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0" y="52560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b96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b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ab967d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AF7567-D340-4875-ADF5-FD313BBE7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0" y="692280"/>
            <a:ext cx="91440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Brief Review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up to Now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3908AC-218F-4B32-B1F4-D7CAB3ACF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11280" y="3213000"/>
            <a:ext cx="79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 11, 2011, Gene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CE/WP29/ITS Informal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th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11280" y="501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. Onoda &amp; K. Hiramatsu, 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テキスト ボックス 5"/>
          <p:cNvSpPr/>
          <p:nvPr/>
        </p:nvSpPr>
        <p:spPr>
          <a:xfrm>
            <a:off x="250920" y="18900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tted by expert from JAP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テキスト ボックス 6"/>
          <p:cNvSpPr/>
          <p:nvPr/>
        </p:nvSpPr>
        <p:spPr>
          <a:xfrm>
            <a:off x="5435640" y="189000"/>
            <a:ext cx="3457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ormal document No. ITS-19-0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th ITS, 11March 2011, Agenda item 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0" y="27860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4873"/>
                </a:solidFill>
                <a:latin typeface="Tahoma"/>
              </a:rPr>
              <a:t>Thank you for your att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CE04A4-A8DD-4656-9162-594203443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214200" y="571680"/>
            <a:ext cx="8929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urrent activiti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ts val="4487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 : November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ts val="3487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evelop common understanding of driver assistance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ts val="3487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of Two Years Activities : March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ts val="3487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ness of "Driver in the Loop" under normal driving condi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ts val="3487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ness of damage mitigation under pre-crash condition where collision is no longer avoid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ts val="3487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of Warning Guidelines to WP29 : March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E4C1F5-05E7-44F9-BA6E-9DA87CFCD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14200" y="500040"/>
            <a:ext cx="89298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1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How ADAS assist driver in terms of HMI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0A4733-972A-4D83-AD8F-EA553DFAF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2124000" y="2995560"/>
            <a:ext cx="4753080" cy="3311640"/>
          </a:xfrm>
          <a:custGeom>
            <a:avLst/>
            <a:gdLst>
              <a:gd name="textAreaLeft" fmla="*/ 0 w 4753080"/>
              <a:gd name="textAreaRight" fmla="*/ 4753440 w 4753080"/>
              <a:gd name="textAreaTop" fmla="*/ 0 h 3311640"/>
              <a:gd name="textAreaBottom" fmla="*/ 3312000 h 3311640"/>
            </a:gdLst>
            <a:ahLst/>
            <a:rect l="textAreaLeft" t="textAreaTop" r="textAreaRight" b="textAreaBottom"/>
            <a:pathLst>
              <a:path w="2994" h="2086">
                <a:moveTo>
                  <a:pt x="0" y="2086"/>
                </a:moveTo>
                <a:lnTo>
                  <a:pt x="0" y="0"/>
                </a:lnTo>
                <a:lnTo>
                  <a:pt x="998" y="0"/>
                </a:lnTo>
                <a:lnTo>
                  <a:pt x="998" y="590"/>
                </a:lnTo>
                <a:lnTo>
                  <a:pt x="1996" y="590"/>
                </a:lnTo>
                <a:lnTo>
                  <a:pt x="1996" y="1179"/>
                </a:lnTo>
                <a:lnTo>
                  <a:pt x="2994" y="1179"/>
                </a:lnTo>
                <a:lnTo>
                  <a:pt x="2994" y="2086"/>
                </a:lnTo>
                <a:lnTo>
                  <a:pt x="0" y="2086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 flipV="1">
            <a:off x="1835280" y="2489040"/>
            <a:ext cx="543708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2131920"/>
            <a:ext cx="241128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266920" y="2131920"/>
            <a:ext cx="129528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851280" y="2131920"/>
            <a:ext cx="129528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435640" y="2131920"/>
            <a:ext cx="129528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1835280" y="3497040"/>
            <a:ext cx="5437080" cy="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266920" y="3139920"/>
            <a:ext cx="1295280" cy="648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851280" y="3139920"/>
            <a:ext cx="129528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435640" y="3139920"/>
            <a:ext cx="129528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 flipV="1">
            <a:off x="1835280" y="4433760"/>
            <a:ext cx="54370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2266920" y="4075200"/>
            <a:ext cx="129528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3851280" y="4075200"/>
            <a:ext cx="129528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5435640" y="4075200"/>
            <a:ext cx="129528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17"/>
          <p:cNvSpPr/>
          <p:nvPr/>
        </p:nvSpPr>
        <p:spPr>
          <a:xfrm flipV="1">
            <a:off x="1835280" y="5370120"/>
            <a:ext cx="54370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2266920" y="5011560"/>
            <a:ext cx="1295280" cy="648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3851280" y="5011560"/>
            <a:ext cx="1295280" cy="648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5435640" y="5011560"/>
            <a:ext cx="1295280" cy="648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2484360" y="5803920"/>
            <a:ext cx="4032360" cy="36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istance by Advanced Technolo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2016000" y="1698480"/>
            <a:ext cx="489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ioral Model of a 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3" descr=""/>
          <p:cNvPicPr/>
          <p:nvPr/>
        </p:nvPicPr>
        <p:blipFill>
          <a:blip r:embed="rId2"/>
          <a:stretch/>
        </p:blipFill>
        <p:spPr>
          <a:xfrm>
            <a:off x="8602560" y="2995560"/>
            <a:ext cx="542880" cy="822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"/>
          <p:cNvPicPr/>
          <p:nvPr/>
        </p:nvPicPr>
        <p:blipFill>
          <a:blip r:embed="rId3"/>
          <a:stretch/>
        </p:blipFill>
        <p:spPr>
          <a:xfrm>
            <a:off x="8528040" y="4070520"/>
            <a:ext cx="615960" cy="79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"/>
          <p:cNvPicPr/>
          <p:nvPr/>
        </p:nvPicPr>
        <p:blipFill>
          <a:blip r:embed="rId4"/>
          <a:stretch/>
        </p:blipFill>
        <p:spPr>
          <a:xfrm>
            <a:off x="8602560" y="5132520"/>
            <a:ext cx="541440" cy="541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6"/>
          <p:cNvSpPr/>
          <p:nvPr/>
        </p:nvSpPr>
        <p:spPr>
          <a:xfrm>
            <a:off x="7272360" y="213192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Conventional dri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7238880" y="32986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7272360" y="42195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War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7272360" y="515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14200" y="500040"/>
            <a:ext cx="89298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1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773824-CE88-4521-8453-B415E8AF2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4A7C95-4B3A-4A5A-B54F-B75074F7C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14200" y="500040"/>
            <a:ext cx="878544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Report of two years activitie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Informatio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keep monitoring the situation of self-commitment basis guidelines in each region for a time be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Warning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evelop high-priority warning guidelines in cooperation with IHRA-ITS W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Control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have following understanding as a base for future consid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79280" y="476280"/>
            <a:ext cx="8785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Control (continued)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should be designed in which driver is always held responsible for his/her driving. For this purpose followings are effectiv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ation of auditory or visual announcement devices providing information on the system functio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systems activat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under normal driving cond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uld be designed based on “Driving in the loop”, where driver should be involved in driving in a way or other. For this purpose followings are effectiv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ouncement is made when the driving initiative is transferred from system to driver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er is kept involved in driving operation. For example, starting initiative should not be given to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allows switching on or off by dri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allows overriding by dri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for Control systems to reduce collision speed activat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under pre-crash 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re collision is no longer avoidable, there is no room for necessity of overriding and driver is not very likely to depend on syst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6565D7-D7B2-49DE-955C-D15F59AD4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0" y="47628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0" y="476280"/>
            <a:ext cx="914400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What are warning guidelines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to provide basic recommendations for the design of high-priority warnings on 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ter understanding from dri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d conf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accurate and consistent expec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High-priority warning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to be delivered at critical situation where the driver is required to take immediate action or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void crash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983819-1D08-46C8-A958-BCC4F052AA33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0E43D7-AA59-4A5A-B9B9-29EE72737677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08000" y="404640"/>
            <a:ext cx="9036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  <a:ea typeface="Tahoma"/>
              </a:rPr>
              <a:t>Warning guideli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be noticeable in the driving enviro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be distinguishable from other messages in the veh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provide spatial cues to the hazard lo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inform the driver of proximity of the haz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elicit timely response or decis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warnings should be prioritiz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lse/nuisance warnings rate should be 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status and degraded performance of high-priority warnings should be display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38D6F1-5050-433D-9177-2B5EA27B7F63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108000" y="404640"/>
            <a:ext cx="9036000" cy="62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Application of warning guidelines to AEBS and LDW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be noticeable in the driving enviro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---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wo modalities or more are generally recommended to make high-priority warnings more noticeable, however the warnings can be displayed using one modality if it can be ensured that the driver will notice the warning. 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oposal for draft Regulation on LDWS : 68th Session of GRRF,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Sept/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5.4.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Warning ind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5.4.1.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The lane departure warning referred to in paragraph 5.2.1. shall be 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noticeable by the driver and be provid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(a)   at least two warning means out of optical, acoustic and haptic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(b)   one warning means out of haptic and acoustic, with spatial 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        indication about the direction of unintended drift of the vehic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214200" y="571680"/>
            <a:ext cx="867888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Wrap up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ts val="3487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S Informal Group submitted Warning Guidelines in March, 2010. Final decision of WP29 will be made in next June, 2011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Driver in the Loop" Principles were drafted by IHRA-ITS WG, dealing with advanced driver assistance system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DD6B18-C491-4CF3-8CB9-4F2157A57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01:26:26Z</dcterms:created>
  <dc:creator/>
  <dc:description/>
  <dc:language>en-US</dc:language>
  <cp:lastModifiedBy>Gianotti</cp:lastModifiedBy>
  <cp:lastPrinted>2002-02-04T03:12:41Z</cp:lastPrinted>
  <dcterms:modified xsi:type="dcterms:W3CDTF">2011-03-04T09:01:45Z</dcterms:modified>
  <cp:revision>448</cp:revision>
  <dc:subject/>
  <dc:title>ITASSup</dc:title>
</cp:coreProperties>
</file>