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B79-6D6E-422D-A6A2-DCAFF316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90D-0D79-4641-80E1-222CC7DE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06C78-AD7B-43F5-AAE6-508A3A1F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83AAC-E523-4BE3-B290-BF444989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12124-A3FB-45A4-A5CF-70B2A5F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84968-81BC-4FE6-99DD-D13EA89D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C9DE9-6853-40B8-A365-5DD694DA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C173D-41C8-47A7-BC5B-2EAF88C9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02715-B720-4011-8F13-A9162122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7C5BF-85D8-4CDC-8F66-9E080C55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124FF-5DA7-4FC3-B63C-97E64B99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11B3C-6675-4CAD-9C50-E72A1CF2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E55-D8FA-48C5-B723-56421300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696B5-F5C2-4D69-A1C4-A6AB5BC6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58B21-6276-4B1A-AB42-A1A9B3C5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93ACD-92D5-43E3-8079-10F2FE27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324EA-BE77-4E5D-B40B-95B7CD03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15659-8FC3-4CB1-8595-CE5603A9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7E01C-1AEF-4079-A37B-97D9CC8E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B712C-E2FE-45F1-B974-12F293F1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587A6-0698-49ED-922F-F36E810D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AED24-D210-42BD-9003-C17066B6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2E8D3-701A-4689-A6AE-27E53077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C41-C6B0-49F2-805C-AE98EC42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24134-6479-4465-BAB5-C469F9B2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0723C-B1ED-45EB-B32F-AA2C88AF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4FEE6-4CCC-4C9B-828E-4DF1DEEA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F5C7D-2F5E-4642-A073-8A18F300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2A22E-AA1C-4684-A06B-C919888A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5DE8A-97E0-4237-936A-F8A0CEF5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24F61-22B3-4243-A825-9315D041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005DE-A2B1-45DD-BE44-12A22684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AE7DE-3F34-49DE-86E9-BC5B74CD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2AF0C-1807-4A10-AE71-0874F0AB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4343-5167-46CC-87A1-CDB378EA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B370B-9DE7-4196-9F11-147D09BB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38EC4-60F7-490A-9E43-F875C900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ADCAF-9661-4821-81A2-FC6C1A45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00C74-27AC-4F11-811C-770AA7B8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A1408-42C7-40FF-B72B-AA8D92E5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98ED6-9243-49FB-8A3B-7485EC0A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4208B-0E7F-4F49-974A-67A40055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77EC5-46CC-4C6F-A002-77A404FD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A504F-FBDF-4F71-93D7-82D27BDF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4DC54-0789-455F-8968-614AFF49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C2C9-1142-4F08-B878-601A2F9F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2B7BB-7514-4EC5-B335-D24F8ADB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A0BFE-37B5-4F73-B10A-799188BA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F2590-D326-4402-BF08-1CC992B9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E0709-0070-41DB-92F6-80433E3D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F664E-815A-4F89-A00D-BC8734ED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429FB-6640-4A41-A444-0759E561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DABFD-7B28-47E1-9290-923FE9FA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C18C6-8CD7-4831-AAFE-D0B7398C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4DEA7-3785-4058-AD6C-800FE955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81480-A507-4F3B-A88F-0028B060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2847-010F-409B-940A-36E993BE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81035-E3A5-4746-8C51-BCD68F01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FC5E8-5E22-4A7B-B925-C92F0EB1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41C93-5B2B-436E-B52F-8B28E23A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6D256-AD12-401F-8ABC-20120955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3AE57-4A1A-4FE7-9D72-A9515F19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BAF80-3BF2-4070-BE9E-BF680814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4205C-2AAB-4EEC-A851-92EE961C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713E5-0ED4-4EAF-ADE2-39909AC0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F64ED-7937-44BD-AEE5-ED8BE601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31FDA-7B29-4A5D-84C3-4D05E9E3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29C6-6F00-495D-82D6-D3D4F51F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51DE2-CEC5-42C2-B009-6F6EA70E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05FF5-DB4F-4303-8080-70417094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BB176-828E-4E4E-A2A3-037E190D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EA5B7-0B3C-4649-93B3-7B875E01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85B35-4234-4AD0-9EDE-9B9EAF28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3A009-91C5-40D6-A471-36E6F460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F7770E-B00C-4161-B18E-51AC85F7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5AAB92-77E5-4AA4-8FE6-96A38539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A6C1C-4FA0-45BC-9BE0-ADBB5D39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C51542-AC29-4BB8-AA2C-003D4CEA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B322-522F-49DF-BCFD-DDBCEDA2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5B8F4-D19A-415A-A4C7-BA8B7AE9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8B7AC-0895-4D39-8A5F-0D46154D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937A3-23B3-47DA-B86B-55CF301C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A45BF-5B84-4999-856E-C1347E94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29841C-53EF-4E5B-A659-3CD3B3EA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2D8EEC-6EF3-4A32-A070-89B0F418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7EC2A5-8F60-4AFD-9C4B-1D4C34A4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B824B1-9402-4294-99D2-5AA860F6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A8BAC-7549-4324-9D52-A00C6E87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28CC50-07E2-4BC4-8BA1-5733682E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78D9-8AD0-43D4-AAA4-F76C390C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20D04-3F9A-4490-834B-90FF45E9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8FACA7-A12F-4C82-B987-6BA10BB6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68DB26-1641-4F57-A95F-3BB3DBFE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3C8A4-83CA-4287-B6A9-4754FC9F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3B585-6CCA-4064-A8BE-F37EBA0E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94EFB-6214-4646-B89D-631E3FA4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E937E-2AC0-4800-9788-F341FA4C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927C52-023D-4470-91D6-EFCA380F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3D5CC-3315-43A8-B224-BAF18EE6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2DADD-F321-4605-A80A-E72C706E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0B99-D813-4827-84FC-E0E243FD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D703DC-CE54-4180-9A4A-EBA736BB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5BE5F-5F64-4749-B8E2-B38ABC04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3604E-A004-4149-9055-D86A97C2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09BB3-A7CE-4DB6-A6D3-21A067C9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021BC3-3791-4725-948C-E7BDEF25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70B461-7C44-4EF7-B6A8-DB12C348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D719B-3AC2-436C-A23B-CE71B32F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F39ED-E677-4A8E-9322-30236170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4D88D-F729-4469-8BE4-5436A8C0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CE0440-5194-406E-8C6B-A284E53C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E73-5F4A-4F92-9798-992D653A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6B80-807E-408B-B325-28CB67FB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7A3787-2799-4884-91E5-FBBB2795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DC46C3-378A-4D8D-9B3D-9FB3D963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A530B2-DCDF-4DD9-B313-153DBAEB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B5CFA1-6C2B-47EB-A812-7A568E9F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062461-05EF-4D2A-AB86-E5AAB81E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EBFA1B-D413-43AA-AC89-2F2A1411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11FEE8-2A2F-45B8-9FF7-35B6FDB4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92B47-7DF9-4B3D-A077-85A1C232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B9D885-7819-4A47-8746-93B2F769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3209E1-32A0-401E-B415-538A62C8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18B3-770F-4F4B-A218-44A405EC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E657FD-037A-4F42-A275-6D0EEC8A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D68CB3-FCE7-426F-87DC-2FB57A33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1F8C5A-FD7C-4743-8AC8-732D0E11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39A92D-5417-41B8-89F1-405CB5AB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3471BB-2786-4F6E-9B62-4709EC19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7D82A-53C5-4C27-BB95-858896C6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D425BA-592A-4F98-B302-F89C024E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0A84F3-16B8-42C6-BB12-2055525F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D25F4B-8B4B-428A-8FD9-5EE842D9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34F38B-A1B5-4275-B492-521B0AFD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F02B-3E40-451E-9F53-C4A4BA6F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98A8C4-810A-4018-B7AC-FC996B05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1EE3E2-A8B9-448A-96CF-F5C29437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97B029-B3D0-4A0D-9CFC-0935CCAC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E555FE-50E7-4F73-9C89-570FF1C8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59892C-0CA1-4538-80B6-5D4A153C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4F523-CFAD-4BF8-B669-2FC014FA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94DAC-E7AE-4201-B1D2-C4BF4414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25C858-23FF-4B0C-AB23-40686ED5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79E113-ACBE-4C0E-8F8C-6DE6617A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5DF84B-2A8E-4D64-B493-60CCF8D0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97C8-5F28-40BA-927E-5F533F62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CBF38A-0D91-4AB3-B42F-BBB218FE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F73BC0-9200-4E82-A685-423B632A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EF6357-7C19-4BAB-AD09-C2123647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20675B-DE77-4340-A537-5E8272CA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EF1D79-0406-4608-BB0F-22CE74B3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68A011-7271-4DA1-B1D8-6DD60883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BE86F-DD66-4628-AA39-6D858A9E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ABDF8C-3F9E-4CC8-95F3-4F4E0BB5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855988-9D94-43EC-B84A-A4C57410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62B0EE-3D6B-4173-8058-81072A92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A587-B0C8-4324-9261-5E2AD4AF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BABBAF-8FEC-4A0C-AB88-4CD6FF8B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0DECFA-7EC7-4A62-B791-078D0234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EE6A9D-589C-4722-92F7-6BA6D2A1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7A7210-C815-48CE-B8F1-F4769B60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1E2B47-9D38-496F-A018-30B43A32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53CBD5-D6E1-47F6-8712-476FBEB9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56E82A-5C7A-49D5-B174-15F71582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38E16B-9362-4F2E-B6E0-D3A6E01B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7891E4-D1D2-4ABF-9C5F-B7239C44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962335-3F2B-49C8-85EE-25BC0592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6E265-139F-4879-8430-B0622E9D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C12BBB-B8E5-45B1-981F-939ACCBB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EF40BD-E8DD-4379-8AA9-0423DBE3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130E2D-B2B7-447E-9000-9FE714B8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500D10-E9B3-4E80-9A06-A858AF31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00B398-2C01-4687-A7FA-D7F58BB7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D95589-686E-4408-985A-F4D8BC28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5059E5-D2C0-4046-ADAF-01D03AAC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92E95B-EC55-412F-B17F-F0A8FE3E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C943F5-26B7-4F4B-91AD-2550D03A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F4C971-A852-494F-8E04-4BE1CC60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A2175-F0CD-48B5-A7D8-BB393816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4B11A1-CDB1-4EDF-ADCA-2BDA4EC9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C8A71C-C19F-4696-BFA8-15EEA1E0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F53566-D2AC-4946-8C16-BA5605D8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4DEB08-1D36-450D-8A3F-13BBD3A2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26D944-CFB1-411C-B927-4017F70C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05DADE-E36B-4881-AC85-002E5D8D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F332A3-3923-4F55-B3D4-57D78D3D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88CEEC-A2E1-4ABE-A71C-DFA844C4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423504-6945-450B-9B99-68B28A0F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3CA997-0C2C-4F5F-849F-0A190A53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1C62E-8A26-4A9F-8DCD-0C9D33E4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6C297F-6458-4D08-AEC0-05D82FB7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15A72F-0F9F-4455-8D0E-2FC0C9E0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62B5A6-CF7B-4386-B992-E4F76BFA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6AF755-703F-436A-82C2-97AAAC62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D7C79A-8669-41B4-994F-23068DA2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DCB5CE-7FDE-4151-AB87-47013670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9BEF4F-5B2C-4766-864B-93585610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5C916-BC27-4A7B-9800-B2D278C7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66F3B-7BAA-451A-9115-45017864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E75-0831-4C07-9831-1F419F43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E4B34-7515-4545-A982-161B5271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1D3C7-D10C-4385-A1FD-28472B0D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88C86-BB37-4077-AB96-BE3C5867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3B9D6-B9A5-4100-A812-420115EE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E401B-C3FE-45B4-8405-4FC83EC0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3708C-C6DE-4ACE-9A09-2FC6001D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44078-A06D-42FE-A953-90D976AE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E061B-9F68-41F6-AE75-E0A18593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BF401-F15E-4369-A254-B5C7B9F6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10E80-B798-42D7-A082-7BA5AA76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530-E953-4B87-966E-977F6D7B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37993-89A5-405E-9949-448A1222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97DF9-94C6-4D1C-82EC-16D4075C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9990B-12B3-4D80-AE01-4A21A09B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FC138-2103-4949-A93C-13E6585D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9B53E-84F3-4C61-AFD3-85B2DD7A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1B6DE-A1F5-4922-8E0E-352464A9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41FCE-FA5C-41AF-B70D-36D366C4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F7DB5-9125-43DF-925F-8B95E0FB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6CA25-30D7-4207-BFCE-2BDC7BC8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578CB-2E79-4DD0-B875-2F408FAA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020-2BD8-4785-8759-76359ECC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B83D0-927B-4C4B-B100-DE12E0AD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1A7B8-A5B6-497E-871C-F7ED3617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F3F6E-3279-4533-B1AF-641271B7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772D8-0A39-4CB5-BE3D-0BE31A20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FC854-DCA0-4094-B67A-8694E9B3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25CD6-8526-4388-BC96-D41352C3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29B83-4105-4A41-A017-DD4D530B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39BD8-B7CF-4575-8164-102F7DC0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BE787-D1A5-4F6E-A3D0-AB543425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82A5A-ADD7-4EB1-AAD0-D04EBF77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769-E209-4F1F-B508-8D7283B8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741D6-E05A-4095-860A-9F525061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C093B-08D3-4D50-BD74-CB42B91E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1D671-E965-4F6B-B3FD-E757E1E2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F72C6-64B1-4719-BD79-5590C5B7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29C44-D4EF-4F90-A589-C6A045B7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54D8D-D8D6-4AD9-896A-3A578C2A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C071F-E954-4F83-B201-1A543322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D34EC-4CAD-4CB8-8A59-8EC48F69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3E827-C976-48A5-8C95-11FD8C83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F0C73-E775-4704-BDAF-1D5A34BD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70B-0ABA-4F99-B277-D0E25332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B94EA-B157-4C11-A673-71723579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5B275-5B29-4349-9857-49C52BB5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54645-090E-4AC8-AD45-73598680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95157-456E-49DD-B0B1-19913047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5F74E-90E2-41B6-B2F0-33294356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72FFE-51F1-48D8-AB07-0A1ADD67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BC164-E99A-4D90-A71E-19EF9D07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21E75-594F-4E64-8E81-38A8C6B7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CCA48-7237-4716-B4F3-1CB43B1E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760D9-4168-4574-8C09-FACCA037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549-CAEC-42C8-86DD-3F0C3FE0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0E4E6-CF84-49A7-A7EA-D4740B42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EAA17-30DF-4536-8464-379C9262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778A0-EB64-45FB-A9FC-4E5F7880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369B4-5D1A-4369-9DDB-F7EFB11A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DF431-3357-48AE-8269-0B766C07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2BDC1-AF57-45C8-B728-B9076532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29746-E09E-4D70-B8C0-DAD77554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2D468-8C5F-4F9D-9369-5A72E53B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75553-2A2C-4B6B-9195-177E94A5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73CEF-96EE-49A3-AAA5-CC788B17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1DA-9922-4B59-BB56-D86AF282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1B954-4C8F-4B90-9C63-E9A2F229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52489-1E93-4DF4-BECE-C07D3D3B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F32A0-3C88-4E24-89C4-BAAF16E5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0289F-F19E-40E8-AF29-C36F0247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35BA2-F522-4660-92B4-D593C5DA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2630F-C892-4393-9402-1847CD78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23E6D-BD3A-4781-9877-D6ED974F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903B8-CCBF-4C7F-9A71-9D9BC084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06E6D-D145-4E73-A03C-FA4158ED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15567-93B7-454E-A26E-AEFEF7D5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AC/OTC  for  ETAES informal meeting  8 March 2011 - Gen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A32C-1EA1-4C8A-A24E-372D2D9C9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1A2B-FDEE-47D5-BCE5-AD8D6F23D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2206-C5EB-4661-ABD8-B51CDC98B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6B55-4473-448E-A5B3-16F1B6E8D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346A-086D-4A50-8020-20C880777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8922-D3DE-4A58-A6A4-46C7E8670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E847-93E6-4F3D-A5CC-164C62179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5100-3CBC-4C35-9A9F-3A7464383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2A3C-794E-40AB-9798-8D46EE005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D677-240D-4AC1-8687-C7D94F5D2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A4F4-33CD-4189-B17E-4465BA8D5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AC/OTC  for  ETAES informal meeting  8 March 2011 - Gen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1D2B-487E-48E8-9DBC-FDCA56BB1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91CF-DBB6-4F29-91F2-4A19BBAAD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6981-04CA-42A5-8397-D42D15826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2B56-30A5-4EEC-8103-603F0893F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E9AA-04F1-4BAA-AE5F-914C6DB2D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0DBF-5943-41A1-868E-0C983CF59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7F1F-AF91-4A6E-90E7-B69DCA5B3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6659-A266-4C7A-AB02-B9E48FD45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4F7E-81F1-45F5-A7BF-ACCE62C1C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20C4-9F23-434A-A013-C0E5607D6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5FF5-681E-4975-8AE0-C3A04F479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D289-9124-4CB9-A551-E668FA2BF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TAES persp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Informal meeting on the organisation and the future of ETA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Rectangle 3"/>
          <p:cNvSpPr/>
          <p:nvPr/>
        </p:nvSpPr>
        <p:spPr>
          <a:xfrm>
            <a:off x="1409760" y="6278400"/>
            <a:ext cx="58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TAC for  ETAES informal meeting  - 8 March 2011 -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5"/>
          <p:cNvSpPr/>
          <p:nvPr/>
        </p:nvSpPr>
        <p:spPr>
          <a:xfrm>
            <a:off x="6227640" y="404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TA-11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do we want to do with ETA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oday : electronic storage of « paper » TA documen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omorrow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lectronic storage of electronic TA documentation (structured da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lectronic storage of CoC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nection with DE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ansion to not only TA authoriti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mal recognition of the ETAES system in EC Regul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TAES as a « provider » for other systems: registration, technical inspec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1409760" y="6278400"/>
            <a:ext cx="58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TAC for  ETAES informal meeting  - 8 March 2011 -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isting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s to KBA initiati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BA developed IT infrastructure (software, server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BA runs the operational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et of users is « closed » and they trust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sks are limited both for KBA and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ormal rules are suffic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voices made by KBA are suffic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1409760" y="6278400"/>
            <a:ext cx="58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TAC for  ETAES informal meeting  - 8 March 2011 -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morrow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457200" y="9806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largement of scope impl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finition of a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stinction between strategic an operational struc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ficial recognition of ETAES impl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sideration of legal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stablishment of a legal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tension to other users impl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define provider(s) and users responsib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distinguish between « active » contributors and « passive » consum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establish formal rules of management of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tension to other « activities » impl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y to communicate on behalf of ETA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y to make commitment on behalf of ETA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finition of a policy for financial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1409760" y="6462720"/>
            <a:ext cx="58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TAC for  ETAES informal meeting  - 8 March 2011 -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9:03:29Z</dcterms:created>
  <dc:creator>perruchet</dc:creator>
  <dc:description/>
  <dc:language>en-US</dc:language>
  <cp:lastModifiedBy>Romain HUBERT</cp:lastModifiedBy>
  <dcterms:modified xsi:type="dcterms:W3CDTF">2011-03-09T17:55:24Z</dcterms:modified>
  <cp:revision>6</cp:revision>
  <dc:subject/>
  <dc:title>ETAES perspectives</dc:title>
</cp:coreProperties>
</file>