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0D3-CF58-4E31-B80C-4C245C7F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687-D0D6-4363-B565-675991E5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BD982-B5C3-42A3-850D-B0B618F1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15398-F220-4398-909D-18AFE50A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CDC31-3475-4901-BFB2-F93F4365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65490-4302-4098-AA0E-45CBE17A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98273-AB4E-4B37-9179-8B574107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2B602-F948-4A04-ACFA-70FD3843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9C32C-7FD5-493C-A4A0-0A0DEE46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D016B-4964-4703-993B-7000CD56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F470F-909F-4FE9-AECB-E67E4386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9199E-0744-47C0-A284-6FC01D7E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E23-D340-4D72-B18F-0D3C93D2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5807A-3A83-40A4-AE08-44D83CD6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017D0-4D59-425B-AC3B-F7A4E9E6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F44E2-4952-455F-8B24-AE65CE22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28DDC-7450-434B-886E-EF045ACE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20831-E181-4965-8872-0B2680F8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4E2B1-6638-40B6-883E-B5B53860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20384-6DF5-49CB-9BA4-C6F8E514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A5E7D-2840-46C8-A843-E6890EB4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8E060-9F6C-421E-9BBC-622356E2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17870-79BB-414C-9150-3B9B4463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7D2-E5DB-4B50-955B-26448BAE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66F0C-C232-4272-91D8-2F743DA0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BF571-E22A-4AEB-B17C-0B913636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88113-78B4-4311-8E2F-C03DCA43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5670A-DA3B-4A64-9C46-7001B085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F97A0-B870-43D6-8C19-0FB01D0E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7F199-8F12-4691-9AFC-F043058F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9B1CD-0FB6-4824-AC7E-87809037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7A34F-082D-46AB-89D7-57B0319B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8C1EB-6EFB-4924-BF01-A1D66AA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0B197-4576-4C2A-9ABB-0AF5881A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5FED-46B7-4A6C-B962-CF534789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AF487-384F-428A-9D4B-5E9BC1D0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E1475-5046-4AF4-9CEC-1A26BD2B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10E7D-DA23-4EFF-ACC2-AB676BAC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ECE0B-6ADC-4976-AF0D-CBDA1777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514D6-84BE-47B7-B2F3-7B45BADB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FC9A5-5B50-4B1F-BC69-66AA84ED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F28CB-BA35-4F17-858E-D65D16D3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AC5B7-18C8-410F-B697-180EAEC9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1BF94-176F-4119-AC36-E0654B17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B59FA-86D7-486C-99F4-16576AE9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6D1B-8A50-4475-AB95-3B1CC7E0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1E395-8858-46F5-A5FB-570841B4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BC16D-390A-4682-B25B-7D54582C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6F9A0-A545-4892-B70E-A509A0A9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8D1E7-86A1-4744-8376-7FA8B143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AE89D-CA16-44CB-A655-193F6813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F0C3F-259A-4C5B-8EEF-710DACD2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2F898-14B7-4E25-BE2B-DF0FC6BC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108E6-A9FC-42CC-98A5-E8F95154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921BD-DE30-4D3D-9BC9-1AA3F5F0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10564-3AF3-4384-ABC6-9FB731E2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2013-D2BC-4CCC-89C4-59CA91AE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FC755-E6B3-4C5E-8D0A-A53C869D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2EFD8-F6CE-4150-B2DB-1F7234A5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7650E-C09F-4D33-BFA7-ADBEB65B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5241E-4944-44CC-AA29-2CB7E7E8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A1DD1-C356-408F-ABF3-13CF614F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A2D24-A682-49A9-B90D-154B613C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8037B-0FD7-4B34-93DE-628F9229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7705D-FD7B-410E-8FFC-D9345E16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04A66-F00F-4D4F-A9EE-36485DC9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1CF4C-2206-47D2-A929-B88DB96B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CD1F-48B7-4A78-92BE-75404D1F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AF166-069A-4924-B6E0-8DA8EE84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40EFD-E8B9-4EF5-BFB2-FE8A6CFA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06230-50A8-4D8D-9AC2-E1EDC287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50814-8315-4E2F-B2E1-D8705094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EFE157-8588-485A-B845-BBD084E9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27F22-F7F5-4FDD-8185-2A236BF6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F33013-F17E-4CA6-831A-4875CCF5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16D03-0C82-4BD5-A67C-5CC069A7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0A1E5-13EC-46D8-95F2-0A2D3175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71E4E-5951-4246-A201-6B37BD1A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3CEA-F346-41A1-A236-DAAAB78E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B2627-5EA8-425B-993D-46581F5F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43D53-9698-401C-8C64-EE85DDB9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868F9-A457-42B4-A904-79E0830C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81E1B-ECA9-43AD-83B1-6FA4F4FE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E0DDA-565A-44BC-A70C-FB476D21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405BF-76DD-4561-9446-F44534A3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9BE53B-7FB9-4C0D-B9D3-FDFA32D8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491A9-5921-4C8F-BC4A-9DF03FC2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48F726-63A4-415B-AB9A-682CF7AD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8CC00-396E-4A58-9C5A-4CA62819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005D-E802-4C1C-A1D1-D7D32F48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EC8475-8608-4F9E-8B60-6746F375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3DF7C-359E-4E2C-B12D-23FCCED5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AC193-B453-4E47-8EE5-4026BFE7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6DEDD9-3254-4D96-A4C0-601D193E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435147-A258-4BD2-A47E-A7D5ED8B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2597F-3CFA-45DF-8CE1-7EE0EC79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1CB30-C343-4208-AD4F-54B4C1D8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3D101C-27FF-496C-9569-CFF3E74F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944526-7EA1-450F-A271-86D3F36E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F78CE2-E39F-4624-A652-8AC0E667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04D6-E73C-4F00-BB57-A6EB30D6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C2492C-D135-409C-9925-07DBC502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31BE5E-81E1-4981-A74C-497DC37D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41AD0E-5CD6-43CA-AC02-2E90C74A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6F73E-A647-406D-B755-535ACBD8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772E67-D4A8-40CE-B5A9-97B1E165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CE0B59-B332-4845-8ACD-1E968C3F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626D10-ABB2-4E62-9FE2-009C5B5E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F9BF92-D4EC-4C78-975C-F79F2520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D3E43B-EB85-461A-9A82-6CCC539C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3890F-BF07-4D8E-A116-F1DD8ABC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752-F183-43E2-BAAE-33E8972A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34BA-3B7B-404A-B5C6-984B5EB5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F1002-52E7-4C83-BF35-5B023719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C5E819-4FD9-4A40-8AE5-00C0544E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F09408-64E3-43D7-808A-8EA5E6DF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75580-C117-4838-9B2A-5942D209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50B3ED-8CA4-4D61-A5C6-925F93E3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A29BA6-1997-4355-A2FC-AB627799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6B61A-4F8E-45AE-BBA3-0309DAC4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0A8FC-1171-4AC1-900C-6F674768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725708-82DA-4AB9-A226-85F61D07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00BB2-884C-43F1-8BAE-F05FC3AD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2ED4-87BF-45E8-8C87-5F5977D3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BE698B-3FFC-485F-A7FB-FB858C53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CC9BE-DAF3-49A6-AB87-9744D017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2DF74A-1BA0-4591-8830-2999B184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823155-978C-4C3D-B001-920908C1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8A434-8890-4AC7-A813-7D546E9A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FFE35-38C2-4648-B8CD-EBAEBB36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DD8D23-48E4-4947-B595-D06740C6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B02C29-A3CE-454D-877C-82C7E288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6FCE9-0E20-43F0-BF16-E632A256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9CE880-F894-48B2-9F4E-09B80C8E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79CB-14EF-441B-B468-C6FFF81D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F7B697-C574-4D09-AA83-1A0CAA11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FA909E-A8F2-451A-93CF-28C62553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EC40E0-C4F8-4004-BF6D-991CA5F9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7C83A7-D23A-4D19-BD5E-B45D4088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0995F2-CFEC-4950-BCA7-F4F2BEAF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1DB0F5-6974-4C93-AE1C-A66DA99F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76288-E9F4-4429-95D4-925C3E5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FFC99C-BFE3-47DA-876E-32561649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FC6EE3-BC22-4DAC-A46F-41DE190F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B917D1-C267-4079-8D03-FB6A2386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4454-0AD7-402E-9DC5-50289F58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489220-4976-4554-83F4-DCF4113C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965789-FBE2-4C97-85BC-93EDB70F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D865D7-87E9-4BD9-B3EE-43896407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AA56D-D70D-4A26-AA34-61ADB074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645969-4162-4651-BD3B-76DC5557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9F7B2-706A-4C7D-A997-7BA7046D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C6261-923C-40AB-A0F6-CD9DAB1E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B0531-E671-4D8E-9B78-CC3ADA4F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74A3A5-F331-4EF5-A756-6C416EBC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51214C-CD7B-49CB-A1D2-55C36E22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4D42-E246-4E1D-8C71-34232963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48BEC3-3AE0-4AC7-9C44-71D35D7A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F6716F-4D62-4583-8BBA-875533A3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5FEDEE-84D3-4F6F-A8CD-7A7E6F48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924561-D842-479A-B8AF-7D2101D4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E045F3-438D-46F9-9C98-A78C7607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807C4-A85A-40A2-8D41-CD6A7B8C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2177CA-5339-4686-8A91-197F701E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7874DB-5E98-4B17-AFD1-0822A143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3FBD3A-603A-4FD9-BE23-8292F42E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500EEE-B1AB-41C8-B026-4F5974F2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9C258-A196-4539-9D2F-095A7887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F3E15-60A9-4A16-A5BB-BC5C7533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AF247D-2525-42DA-B06B-78266F74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50DAE5-9264-4A2D-B83F-535B07F6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4D488-4B50-4E18-B9B9-1E3B5015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58E0F8-926C-44E6-B836-59382978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9D45F3-2883-4BE7-8C0C-4B77EB44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D06BCB-A20B-46D5-A56E-97DA522D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0F7E1-C1DA-421F-8434-6AD728CB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C00952-936A-4060-9178-3507DCDC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E482F2-2587-4F20-8288-19148E2D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8F902-0466-4A78-89CF-945123C4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96F446-68A4-496C-A875-1A9DCECE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F9810A-1928-4230-AAE7-A19E5456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AC2DEE-F9C1-4209-A540-B175F986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D769DE-66D5-4E68-B77D-220327E1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06001A-18A5-4322-90D1-882A68A4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7FE4B0-B5EF-4C13-A4A0-16ED23C1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84B3B8-79F6-4832-971E-184BC379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7699A2-C006-4797-A265-EAEA6A57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018508-6AAF-491B-90CA-C0308E16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910635-68DA-49BE-8E34-F796EE26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BAD2-56AC-4F85-ABD4-D1CBAF8C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7755F9-55E4-4B2F-BAC7-D4C48922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C7CAE7-3F06-470F-B655-47161790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09770F-7534-4E50-9CEA-BA6D0BA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1713D7-C1D3-444A-9EA3-37EF6B33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FD3136-A032-477C-9B7C-1785A4C8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4565A4-324E-4DF8-861D-2073AEAA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FC3E04-5828-4EA6-A95F-95F58591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C45EA-691C-4E47-9A35-95807AFD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59CD8-B832-4896-982A-A257DF9B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09F-3E49-4F54-BF50-16F52078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253F0-27E0-43FA-BA12-3539A176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4334-D3E1-45A4-9DAB-73211DC6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A1FA-3CF2-4047-9D3D-998F246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2775F-8A2A-4C64-A9A5-A5A4DFE4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ECE4-C6F5-466D-A393-80B41DE5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732D3-559A-49C2-B919-EFCEB11F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38AC-E7BB-4C34-A41F-51060A22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34F66-D7D5-4A53-98A7-69A94332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98ED4-A67A-428F-AA12-8F5327AF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6CF3-F96D-450A-A6AE-F37A67A8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BFD-3CF0-46A5-985B-82C1CDCD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196C2-A1C1-4E0E-A326-0E9458E4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796FF-73F4-4983-B2F4-9F690568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81A3-9F44-4B8B-ADD3-59F3817D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38064-E1D9-4E0A-BC6B-2329B644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54308-5476-45F1-9C08-59FAE2CD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A72A5-B635-42F9-98C4-9DAA21C8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F3D80-E2A8-48B4-8BF4-EF639008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6F757-F076-4368-A00A-01407BDC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4B8DE-E0F5-41B9-AA48-B15BFEBB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F189F-271C-4DDB-A24C-C53EDF7E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B0A-CE01-4D73-AAE5-6FC6C56D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3B902-AAAB-4B5C-9874-558A0D59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46A7F-B25F-47B4-855A-6AF21805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68FC7-3819-47BC-83AD-B30A084A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85141-030A-47CE-AC23-4BD32BB5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BEBD5-DF8A-4C1C-9F83-8118B5CF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46DD-7912-4AF0-988A-9CF342F3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65C89-6656-4ACE-BEF5-FFFE9119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3DE0E-2470-488D-946D-74AFC55E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676BA-5FD9-40BC-A455-F02E9B95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BCBA3-538F-445F-8AC3-1F540EE9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4D1-F2AA-4537-A791-2EAB47C9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6B6BB-C557-4D1D-8132-E52C3A24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98BCA-7E50-488B-9568-8CC012AA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FF59A-2F85-4560-9357-31364187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0644F-9196-41C9-8CBD-0697EF3D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5ED16-0061-469B-AB1A-7B28D109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6A249-663A-42A4-BAD4-CC90EF6F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35D98-EE12-49FB-8B60-8E659BF1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1A2F8-4D63-43A8-BD45-18BCA97D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8950C-A957-422A-9502-6EE3C47A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62765-C4BD-4297-8BE8-A71EBBEC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07D-8EAF-42B3-B86E-E7540F03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05B24-1A91-44FC-82A8-EC9E6544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14CB7-1446-4ED7-8B4E-0447818D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A1D91-6DA5-4D18-92CF-DAA0CB38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B0900-F000-4630-B2EF-7B346285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B97EA-C3E9-40B2-88BC-D3141CBC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E053C-E937-4DD2-8030-F1AC90F9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11E8B-1EA4-40B5-B778-28ADBC3A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0F8B3-B423-404B-9A28-22582E37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72F17-BB44-4076-895B-64C084F7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BCD1E-DBA3-460D-9741-8569EDD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928-CA3B-46E6-AC1F-94E6A7E7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88677-A129-4749-AD57-289FD80C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882C6-897B-4E13-BD0B-156A6828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91BA8-123D-4A2A-A439-7522595E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729D1-7D69-459A-969F-159A6AA3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F8092-F51D-473B-B4EA-77510738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B4B1F-70F5-4527-8856-75822CB4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F2FF8-3BEB-4C7C-B182-586F01CB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ACE8F-1639-460A-9390-AB6CCB75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1A11A-65D2-4D43-9695-B4EDD093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3D7E7-574A-4EF6-A1DE-ACE5E2BD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E90-813E-4CE5-B4F6-F5227F8B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E72E9-064F-4442-843C-E02DC761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B683C-2E40-4221-A5F6-37998257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45056-63F7-41B5-B180-C16154FE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2AB9F-2158-490A-814B-7422B952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788B4-21DD-4F69-A4E8-3A6E8D7C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335A0-56F2-4C13-8E0B-7DDF3E3B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F8B46-2F96-4212-96DE-2FCD27BE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5225B-DF9E-4F20-9A7D-6976EC75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2D1F2-C658-4B92-ACAB-04091FCD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45517-552B-4D91-90F9-476258DF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AC/OTC  for  ETAES informal meeting  8 March 2011 - Gen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F872-3360-4F7F-BAE1-49C375055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29DA-AB3C-4DC5-B75B-B06F0D055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69B8-CE12-43A3-8E5A-3674673E0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AC3F-2031-4796-A282-00E7F2FDE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08B2-EBB3-4356-B53B-21A52E85D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5A1C-6943-4036-AED0-80EAEC4F5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94D5-0210-4A9C-ACDF-ED59F59DB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6B0F-DA47-4AFE-B555-A5D4F4045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E930-4805-424F-A29B-3B5F2CC0F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345C-64A9-4436-860A-FDF8A125B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2E10-79DB-4FFD-9AD0-008BC5617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AC/OTC  for  ETAES informal meeting  8 March 2011 - Gen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E7AE-FA70-44F2-BCA9-F305E5E3D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5FB0-CF53-4933-9303-6333EEB5B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1A65-A201-4AAE-A13B-4E6D68DDA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E5DF-1EA3-4E3D-84C2-A77955BDF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2268000" y="6356520"/>
            <a:ext cx="475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102A-ACC4-47EB-8465-98986A28F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3C02-54D9-4269-AB3A-D94949507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E791-A3B8-49EC-A912-28DDDAD13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0204-6260-4B79-8C8A-1148B5CCC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679B-2059-4693-8623-DF06EB24F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5B8A-8777-44EC-9B1C-8104F7BBB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E5E4-98B4-438A-8D2C-A8D458FCE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268360" y="6381720"/>
            <a:ext cx="439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5ED4-446B-4218-B08F-B5E69ED94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TAES persp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Informal meeting on the organisation and the future of ETA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Rectangle 3"/>
          <p:cNvSpPr/>
          <p:nvPr/>
        </p:nvSpPr>
        <p:spPr>
          <a:xfrm>
            <a:off x="1409760" y="6278400"/>
            <a:ext cx="58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TAC for  ETAES informal meeting  - 8 March 2011 -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5"/>
          <p:cNvSpPr/>
          <p:nvPr/>
        </p:nvSpPr>
        <p:spPr>
          <a:xfrm>
            <a:off x="6227640" y="404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TA-11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we want to do with ETA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oday : electronic storage of « paper » TA documen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omorrow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lectronic storage of electronic TA documentation (structured d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lectronic storage of CoC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nection with DE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ansion to not only TA authoriti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mal recognition of the ETAES system in EC Regul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TAES as a « provider » for other systems: registration, technical inspec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1409760" y="6278400"/>
            <a:ext cx="58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TAC for  ETAES informal meeting  - 8 March 2011 -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isting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s to KBA initiati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BA developed IT infrastructure (software, server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BA runs the operational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et of users is « closed » and they trust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sks are limited both for KBA and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ormal rules are suffic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voices made by KBA are suffic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1409760" y="6278400"/>
            <a:ext cx="58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TAC for  ETAES informal meeting  - 8 March 2011 -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morrow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57200" y="9806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largement of scope impl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finition of a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stinction between strategic an operational struc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ficial recognition of ETAES impl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sideration of legal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stablishment of a legal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tension to other users impl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define provider(s) and users responsib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distinguish between « active » contributors and « passive » consum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establish formal rules of management of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tension to other « activities » impl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 to communicate on behalf of ETA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 to make commitment on behalf of ETA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finition of a policy for financial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1409760" y="6462720"/>
            <a:ext cx="58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TAC for  ETAES informal meeting  - 8 March 2011 - Gen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9:03:29Z</dcterms:created>
  <dc:creator>perruchet</dc:creator>
  <dc:description/>
  <dc:language>en-US</dc:language>
  <cp:lastModifiedBy>Romain HUBERT</cp:lastModifiedBy>
  <dcterms:modified xsi:type="dcterms:W3CDTF">2011-03-09T17:55:24Z</dcterms:modified>
  <cp:revision>6</cp:revision>
  <dc:subject/>
  <dc:title>ETAES perspectives</dc:title>
</cp:coreProperties>
</file>