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36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37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160" y="427140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1264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9248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316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1264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9248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939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160" y="427140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939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1264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9248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16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1264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9248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" name="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2" name="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" name="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"/>
          <p:cNvSpPr/>
          <p:nvPr/>
        </p:nvSpPr>
        <p:spPr>
          <a:xfrm>
            <a:off x="250920" y="189000"/>
            <a:ext cx="8640720" cy="576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42920" y="260280"/>
            <a:ext cx="7129440" cy="429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  <a:ea typeface="Arial"/>
              </a:rPr>
              <a:t>UNECE – Transport Di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9"/>
          <a:srcRect l="0" t="0" r="0" b="10499"/>
          <a:stretch/>
        </p:blipFill>
        <p:spPr>
          <a:xfrm>
            <a:off x="357120" y="252360"/>
            <a:ext cx="503280" cy="46368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250560" y="63817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cc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66cc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66cc"/>
                </a:solidFill>
                <a:latin typeface="Trebuchet MS"/>
              </a:rPr>
              <a:t>Slide </a:t>
            </a:r>
            <a:fld id="{858ACB2F-3250-4144-8F5B-D6919A3E075F}" type="slidenum">
              <a:rPr b="1" lang="en-US" sz="1200" spc="-1" strike="noStrike">
                <a:solidFill>
                  <a:srgbClr val="0066cc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66cc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89000"/>
            <a:ext cx="8640720" cy="936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189000"/>
            <a:ext cx="662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  <a:ea typeface="Arial"/>
              </a:rPr>
              <a:t>United Nations Economic Commission for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ffffff"/>
                </a:solidFill>
                <a:latin typeface="Trebuchet MS"/>
                <a:ea typeface="Arial"/>
              </a:rPr>
              <a:t>Transport Di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0" r="0" b="12248"/>
          <a:stretch/>
        </p:blipFill>
        <p:spPr>
          <a:xfrm>
            <a:off x="395280" y="317520"/>
            <a:ext cx="792000" cy="7142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60" name="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61" name="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6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0" name="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8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jpe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jpe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33.png"/><Relationship Id="rId31" Type="http://schemas.openxmlformats.org/officeDocument/2006/relationships/image" Target="../media/image34.png"/><Relationship Id="rId32" Type="http://schemas.openxmlformats.org/officeDocument/2006/relationships/image" Target="../media/image22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8.png"/><Relationship Id="rId3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8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jpe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jpe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33.png"/><Relationship Id="rId31" Type="http://schemas.openxmlformats.org/officeDocument/2006/relationships/image" Target="../media/image34.png"/><Relationship Id="rId32" Type="http://schemas.openxmlformats.org/officeDocument/2006/relationships/image" Target="../media/image22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8.png"/><Relationship Id="rId36" Type="http://schemas.openxmlformats.org/officeDocument/2006/relationships/image" Target="../media/image37.png"/><Relationship Id="rId3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ive.unece.org/trans/theme_forfits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15364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rebuchet MS"/>
              </a:rPr>
              <a:t>UNDA project on CO</a:t>
            </a:r>
            <a:r>
              <a:rPr b="1" lang="da-DK" sz="2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da-DK" sz="2800" spc="-1" strike="noStrike">
                <a:solidFill>
                  <a:srgbClr val="000000"/>
                </a:solidFill>
                <a:latin typeface="Trebuchet MS"/>
              </a:rPr>
              <a:t> emissions in 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Trebuchet MS"/>
              </a:rPr>
              <a:t>inland transport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1200"/>
            </a:br>
            <a:r>
              <a:rPr b="1" lang="da-DK" sz="2000" spc="-1" strike="noStrike">
                <a:solidFill>
                  <a:srgbClr val="000000"/>
                </a:solidFill>
                <a:latin typeface="Trebuchet MS"/>
              </a:rPr>
              <a:t>For Future Inland Transport Systems (ForFITS)</a:t>
            </a:r>
            <a:r>
              <a:rPr b="1" lang="da-DK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rebuchet MS"/>
              </a:rPr>
              <a:t>Romain Hubert, project manag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orking Party on Inland Water Transport (SC.3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5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sessio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0920" y="5908680"/>
            <a:ext cx="8640720" cy="792000"/>
            <a:chOff x="250920" y="5908680"/>
            <a:chExt cx="8640720" cy="792000"/>
          </a:xfrm>
        </p:grpSpPr>
        <p:grpSp>
          <p:nvGrpSpPr>
            <p:cNvPr id="131" name=""/>
            <p:cNvGrpSpPr/>
            <p:nvPr/>
          </p:nvGrpSpPr>
          <p:grpSpPr>
            <a:xfrm>
              <a:off x="250920" y="5908680"/>
              <a:ext cx="8640720" cy="792000"/>
              <a:chOff x="250920" y="5908680"/>
              <a:chExt cx="8640720" cy="792000"/>
            </a:xfrm>
          </p:grpSpPr>
          <p:sp>
            <p:nvSpPr>
              <p:cNvPr id="132" name=""/>
              <p:cNvSpPr/>
              <p:nvPr/>
            </p:nvSpPr>
            <p:spPr>
              <a:xfrm>
                <a:off x="250920" y="590868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250920" y="5948280"/>
                <a:ext cx="8637480" cy="718920"/>
                <a:chOff x="250920" y="5948280"/>
                <a:chExt cx="8637480" cy="718920"/>
              </a:xfrm>
            </p:grpSpPr>
            <p:pic>
              <p:nvPicPr>
                <p:cNvPr id="13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48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24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00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092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476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948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372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1" name=""/>
            <p:cNvSpPr/>
            <p:nvPr/>
          </p:nvSpPr>
          <p:spPr>
            <a:xfrm>
              <a:off x="250920" y="594828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4865760" y="155592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4289400" y="133992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1407960" y="2205000"/>
            <a:ext cx="649440" cy="952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60280"/>
            <a:ext cx="8640720" cy="936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76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  <a:ea typeface="Arial"/>
              </a:rPr>
              <a:t>Thank you for your atten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 rot="900000">
            <a:off x="2450880" y="1666440"/>
            <a:ext cx="752400" cy="814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5369040" y="170028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6016680" y="191628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6593040" y="2060640"/>
            <a:ext cx="612720" cy="952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1120680" y="3068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7097760" y="2205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/>
          <a:stretch/>
        </p:blipFill>
        <p:spPr>
          <a:xfrm>
            <a:off x="1984320" y="414828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1407960" y="393228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9"/>
          <a:stretch/>
        </p:blipFill>
        <p:spPr>
          <a:xfrm>
            <a:off x="2489040" y="1771560"/>
            <a:ext cx="640080" cy="952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0"/>
          <a:stretch/>
        </p:blipFill>
        <p:spPr>
          <a:xfrm>
            <a:off x="2489040" y="177156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1"/>
          <a:stretch/>
        </p:blipFill>
        <p:spPr>
          <a:xfrm>
            <a:off x="3137040" y="1628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2"/>
          <a:stretch/>
        </p:blipFill>
        <p:spPr>
          <a:xfrm>
            <a:off x="3641760" y="148428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3"/>
          <a:stretch/>
        </p:blipFill>
        <p:spPr>
          <a:xfrm>
            <a:off x="3065400" y="450864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4"/>
          <a:stretch/>
        </p:blipFill>
        <p:spPr>
          <a:xfrm>
            <a:off x="3641760" y="4653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5"/>
          <a:stretch/>
        </p:blipFill>
        <p:spPr>
          <a:xfrm>
            <a:off x="4289400" y="479592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6"/>
          <a:stretch/>
        </p:blipFill>
        <p:spPr>
          <a:xfrm>
            <a:off x="4865760" y="4653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7"/>
          <a:stretch/>
        </p:blipFill>
        <p:spPr>
          <a:xfrm>
            <a:off x="5442120" y="450864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8"/>
          <a:stretch/>
        </p:blipFill>
        <p:spPr>
          <a:xfrm>
            <a:off x="6016680" y="4292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9"/>
          <a:stretch/>
        </p:blipFill>
        <p:spPr>
          <a:xfrm>
            <a:off x="7313760" y="3068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0"/>
          <a:stretch/>
        </p:blipFill>
        <p:spPr>
          <a:xfrm>
            <a:off x="2489040" y="436392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1"/>
          <a:stretch/>
        </p:blipFill>
        <p:spPr>
          <a:xfrm>
            <a:off x="1984320" y="191628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2"/>
          <a:stretch/>
        </p:blipFill>
        <p:spPr>
          <a:xfrm>
            <a:off x="7097760" y="386064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3"/>
          <a:stretch/>
        </p:blipFill>
        <p:spPr>
          <a:xfrm>
            <a:off x="6665760" y="4148280"/>
            <a:ext cx="622440" cy="952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1268280"/>
            <a:ext cx="82962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716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  <a:ea typeface="Arial"/>
              </a:rPr>
              <a:t>UNE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  <a:ea typeface="Arial"/>
              </a:rPr>
              <a:t>Transport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4"/>
          <a:stretch/>
        </p:blipFill>
        <p:spPr>
          <a:xfrm>
            <a:off x="4067280" y="2779560"/>
            <a:ext cx="100332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5"/>
          <a:srcRect l="0" t="0" r="0" b="12248"/>
          <a:stretch/>
        </p:blipFill>
        <p:spPr>
          <a:xfrm>
            <a:off x="395280" y="388800"/>
            <a:ext cx="792000" cy="714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0920" y="616572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3366ff"/>
                </a:solidFill>
                <a:latin typeface="Trebuchet MS"/>
                <a:ea typeface="Arial"/>
              </a:rPr>
              <a:t>http://live.unece.org/trans/theme_forfit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5908680"/>
            <a:ext cx="8640720" cy="792000"/>
            <a:chOff x="250920" y="5908680"/>
            <a:chExt cx="8640720" cy="792000"/>
          </a:xfrm>
        </p:grpSpPr>
        <p:grpSp>
          <p:nvGrpSpPr>
            <p:cNvPr id="177" name=""/>
            <p:cNvGrpSpPr/>
            <p:nvPr/>
          </p:nvGrpSpPr>
          <p:grpSpPr>
            <a:xfrm>
              <a:off x="250920" y="5908680"/>
              <a:ext cx="8640720" cy="792000"/>
              <a:chOff x="250920" y="5908680"/>
              <a:chExt cx="8640720" cy="792000"/>
            </a:xfrm>
          </p:grpSpPr>
          <p:sp>
            <p:nvSpPr>
              <p:cNvPr id="178" name=""/>
              <p:cNvSpPr/>
              <p:nvPr/>
            </p:nvSpPr>
            <p:spPr>
              <a:xfrm>
                <a:off x="250920" y="590868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250920" y="5948280"/>
                <a:ext cx="8637480" cy="718920"/>
                <a:chOff x="250920" y="5948280"/>
                <a:chExt cx="8637480" cy="718920"/>
              </a:xfrm>
            </p:grpSpPr>
            <p:pic>
              <p:nvPicPr>
                <p:cNvPr id="18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48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24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00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092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476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948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372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7" name=""/>
            <p:cNvSpPr/>
            <p:nvPr/>
          </p:nvSpPr>
          <p:spPr>
            <a:xfrm>
              <a:off x="250920" y="594828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4865760" y="155592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4289400" y="133992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1407960" y="2205000"/>
            <a:ext cx="649440" cy="952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260280"/>
            <a:ext cx="8640720" cy="936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476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  <a:ea typeface="Arial"/>
              </a:rPr>
              <a:t>Thank you for your atten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1"/>
          <a:stretch/>
        </p:blipFill>
        <p:spPr>
          <a:xfrm rot="900000">
            <a:off x="2450880" y="1666440"/>
            <a:ext cx="752400" cy="814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2"/>
          <a:stretch/>
        </p:blipFill>
        <p:spPr>
          <a:xfrm>
            <a:off x="5369040" y="170028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3"/>
          <a:stretch/>
        </p:blipFill>
        <p:spPr>
          <a:xfrm>
            <a:off x="6016680" y="191628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4"/>
          <a:stretch/>
        </p:blipFill>
        <p:spPr>
          <a:xfrm>
            <a:off x="6593040" y="2060640"/>
            <a:ext cx="612720" cy="952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5"/>
          <a:stretch/>
        </p:blipFill>
        <p:spPr>
          <a:xfrm>
            <a:off x="1120680" y="3068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6"/>
          <a:stretch/>
        </p:blipFill>
        <p:spPr>
          <a:xfrm>
            <a:off x="7097760" y="2205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7"/>
          <a:stretch/>
        </p:blipFill>
        <p:spPr>
          <a:xfrm>
            <a:off x="1984320" y="414828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8"/>
          <a:stretch/>
        </p:blipFill>
        <p:spPr>
          <a:xfrm>
            <a:off x="1407960" y="393228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9"/>
          <a:stretch/>
        </p:blipFill>
        <p:spPr>
          <a:xfrm>
            <a:off x="2489040" y="1771560"/>
            <a:ext cx="64008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0"/>
          <a:stretch/>
        </p:blipFill>
        <p:spPr>
          <a:xfrm>
            <a:off x="2489040" y="177156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1"/>
          <a:stretch/>
        </p:blipFill>
        <p:spPr>
          <a:xfrm>
            <a:off x="3137040" y="1628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2"/>
          <a:stretch/>
        </p:blipFill>
        <p:spPr>
          <a:xfrm>
            <a:off x="3641760" y="148428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3"/>
          <a:stretch/>
        </p:blipFill>
        <p:spPr>
          <a:xfrm>
            <a:off x="3065400" y="450864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4"/>
          <a:stretch/>
        </p:blipFill>
        <p:spPr>
          <a:xfrm>
            <a:off x="3641760" y="4653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5"/>
          <a:stretch/>
        </p:blipFill>
        <p:spPr>
          <a:xfrm>
            <a:off x="4289400" y="479592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6"/>
          <a:stretch/>
        </p:blipFill>
        <p:spPr>
          <a:xfrm>
            <a:off x="4865760" y="4653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7"/>
          <a:stretch/>
        </p:blipFill>
        <p:spPr>
          <a:xfrm>
            <a:off x="5442120" y="450864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8"/>
          <a:stretch/>
        </p:blipFill>
        <p:spPr>
          <a:xfrm>
            <a:off x="6016680" y="4292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9"/>
          <a:stretch/>
        </p:blipFill>
        <p:spPr>
          <a:xfrm>
            <a:off x="7313760" y="3068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0"/>
          <a:stretch/>
        </p:blipFill>
        <p:spPr>
          <a:xfrm>
            <a:off x="2489040" y="436392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1"/>
          <a:stretch/>
        </p:blipFill>
        <p:spPr>
          <a:xfrm>
            <a:off x="1984320" y="191628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2"/>
          <a:stretch/>
        </p:blipFill>
        <p:spPr>
          <a:xfrm>
            <a:off x="7097760" y="386064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3"/>
          <a:stretch/>
        </p:blipFill>
        <p:spPr>
          <a:xfrm>
            <a:off x="6665760" y="4148280"/>
            <a:ext cx="622440" cy="952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1268280"/>
            <a:ext cx="82962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716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  <a:ea typeface="Arial"/>
              </a:rPr>
              <a:t>UNE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  <a:ea typeface="Arial"/>
              </a:rPr>
              <a:t>Transport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4"/>
          <a:stretch/>
        </p:blipFill>
        <p:spPr>
          <a:xfrm>
            <a:off x="4067280" y="2779560"/>
            <a:ext cx="1003320" cy="914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5"/>
          <a:srcRect l="0" t="0" r="0" b="12248"/>
          <a:stretch/>
        </p:blipFill>
        <p:spPr>
          <a:xfrm>
            <a:off x="395280" y="388800"/>
            <a:ext cx="792000" cy="714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50920" y="616572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3366ff"/>
                </a:solidFill>
                <a:latin typeface="Trebuchet MS"/>
                <a:ea typeface="Arial"/>
              </a:rPr>
              <a:t>http://live.unece.org/trans/theme_forfit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6"/>
          <a:stretch/>
        </p:blipFill>
        <p:spPr>
          <a:xfrm>
            <a:off x="0" y="2332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920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. The projec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743120"/>
            <a:ext cx="792468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year project funded by UND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5 Regional Commissions involv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unched January 201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ool for the assessment of CO2 emission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eely avail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aise global awareness for actions and measures needed for climate change mitigation and adapt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ist governments establishing transport policy and mitigation strateg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mote the tool to pave the way for the Future Inland Transport System (ForFIT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3846" t="0" r="15896" b="0"/>
          <a:stretch/>
        </p:blipFill>
        <p:spPr>
          <a:xfrm>
            <a:off x="6804000" y="907920"/>
            <a:ext cx="193032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3040" y="1185840"/>
            <a:ext cx="8352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80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o develop an information and analysis tool based on a uniform methodology for the evaluation of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rebuchet MS"/>
                <a:ea typeface="Arial Unicode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emissions in the transport sector in order to enable all UN countries to optimize the use of energy sources in the transport sector, taking into consideration:  road vehicle fleets, types of propulsion systems, transport infrastructure, sustainable energy sources, intermodal transport on railways &amp; inland waterways and appropriate policy measures.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xpected Achiev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80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apacity building workshops in all UN RCs on inland transport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rebuchet MS"/>
                <a:ea typeface="Arial Unicode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emissions and on how to use the powerful analysis tool in order to develop their future strategies for inland transport and to support  their policy deci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-6000"/>
          </a:blip>
          <a:srcRect l="3138" t="8552" r="6827" b="7221"/>
          <a:stretch/>
        </p:blipFill>
        <p:spPr>
          <a:xfrm>
            <a:off x="2543040" y="785880"/>
            <a:ext cx="5124600" cy="5811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2808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Objective tree: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1052640"/>
            <a:ext cx="83059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268280"/>
            <a:ext cx="86421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125360"/>
            <a:ext cx="83516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197000"/>
            <a:ext cx="8893080" cy="41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1 Step (20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Preparation and distribution of the questionnaire on inland transport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rebuchet MS"/>
                <a:ea typeface="Arial Unicode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Evaluation of the replies to the question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Drafting the global status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Review of existing emission assessment method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Drafting a recommendation on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xisting emission assessment method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Develop a concept document for the development of ForFITS (Nov. 20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Review the concept document through a Peer Review Panel (PR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Start development of the ForFITS code (end of 20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137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 Step (2012)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velopment of the tool ForFITS including the policy conver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Implementation, verification and validation of ForFI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Preparation of a user manual for the application of ForFI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Organization of an international emissions expert meeting (early 2012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Drafting the meeting report and refining of the model(s) us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 Step (2013)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- Piloting out ForFITS and its applic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Organization of capacity building workshops in all UN RC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ject evalu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920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2. Where we a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883880"/>
            <a:ext cx="7920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lease of fu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w website and Fly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Questionnaire on inland transpor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mis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icial letter to UN Regional Commissions, ITC delegates, Foreign minist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paring concept document for the development of ForF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lobal status repor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half of the ye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308640" y="879480"/>
            <a:ext cx="257508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3. What we need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497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form us on your focal points in charge of inland water transport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missions (interest to participate in PR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pond to the Questionnaire on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missions available at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Trebuchet MS"/>
                <a:hlinkClick r:id="rId1"/>
              </a:rPr>
              <a:t>http://live.unece.org/trans/theme_forfits.htm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articipate in the international expert meeting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(early 2012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4. What we expect from SC.3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6880" y="2852280"/>
            <a:ext cx="8498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formation on existing tools, methodologies and/or statistics on inland water transport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emis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terest to participate in our Peer Review Panel or International Expert Mee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874880"/>
            <a:ext cx="8497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For the assessment of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emissions with the future tool ForFITS, please provide u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Romain Hubert</dc:creator>
  <dc:description/>
  <dc:language>en-US</dc:language>
  <cp:lastModifiedBy>Romain HUBERT</cp:lastModifiedBy>
  <dcterms:modified xsi:type="dcterms:W3CDTF">2011-10-13T08:50:53Z</dcterms:modified>
  <cp:revision>143</cp:revision>
  <dc:subject>62 WP.6 on 6-8 July 2011</dc:subject>
  <dc:title>PowerPoint Presentation</dc:title>
</cp:coreProperties>
</file>