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7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34.png" ContentType="image/png"/>
  <Override PartName="/ppt/media/image36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png" ContentType="image/png"/>
  <Override PartName="/ppt/media/image37.png" ContentType="image/png"/>
  <Override PartName="/ppt/media/image4.jpeg" ContentType="image/jpeg"/>
  <Override PartName="/ppt/media/image25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1264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9248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3316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1264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9248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1264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892480" y="227628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3316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1264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892480" y="4271400"/>
            <a:ext cx="2551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539640" y="1268280"/>
            <a:ext cx="7920000" cy="40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93960" y="427140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93960" y="2276280"/>
            <a:ext cx="386712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3160" y="4271400"/>
            <a:ext cx="7924680" cy="18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8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1" name="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2" name="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4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1" name="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"/>
          <p:cNvSpPr/>
          <p:nvPr/>
        </p:nvSpPr>
        <p:spPr>
          <a:xfrm>
            <a:off x="250920" y="189000"/>
            <a:ext cx="8640720" cy="57600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042920" y="260280"/>
            <a:ext cx="7129440" cy="429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UNECE – Transport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" name="" descr=""/>
          <p:cNvPicPr/>
          <p:nvPr/>
        </p:nvPicPr>
        <p:blipFill>
          <a:blip r:embed="rId9"/>
          <a:srcRect l="0" t="0" r="0" b="10499"/>
          <a:stretch/>
        </p:blipFill>
        <p:spPr>
          <a:xfrm>
            <a:off x="357120" y="252360"/>
            <a:ext cx="503280" cy="463680"/>
          </a:xfrm>
          <a:prstGeom prst="rect">
            <a:avLst/>
          </a:prstGeom>
          <a:ln w="0">
            <a:noFill/>
          </a:ln>
        </p:spPr>
      </p:pic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250560" y="6381720"/>
            <a:ext cx="190476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66cc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6948360" y="6381720"/>
            <a:ext cx="19051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r>
              <a:rPr b="1" lang="fr-CH" sz="1200" spc="-1" strike="noStrike">
                <a:solidFill>
                  <a:srgbClr val="0066cc"/>
                </a:solidFill>
                <a:latin typeface="Trebuchet MS"/>
              </a:rPr>
              <a:t>Slide </a:t>
            </a:r>
            <a:fld id="{B0E4C380-8987-4FFB-9CA0-762819057BCA}" type="slidenum">
              <a:rPr b="1" lang="en-US" sz="1200" spc="-1" strike="noStrike">
                <a:solidFill>
                  <a:srgbClr val="0066cc"/>
                </a:solidFill>
                <a:latin typeface="Trebuchet MS"/>
              </a:rPr>
              <a:t>&lt;number&gt;</a:t>
            </a:fld>
            <a:r>
              <a:rPr b="1" lang="en-US" sz="1200" spc="-1" strike="noStrike">
                <a:solidFill>
                  <a:srgbClr val="0066cc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177300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40720" cy="9363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47640" y="189000"/>
            <a:ext cx="662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United Nations Economic Commission for Eur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ransport Div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0" b="12248"/>
          <a:stretch/>
        </p:blipFill>
        <p:spPr>
          <a:xfrm>
            <a:off x="395280" y="317520"/>
            <a:ext cx="792000" cy="71424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250920" y="5837400"/>
            <a:ext cx="8640720" cy="792000"/>
            <a:chOff x="250920" y="5837400"/>
            <a:chExt cx="8640720" cy="792000"/>
          </a:xfrm>
        </p:grpSpPr>
        <p:grpSp>
          <p:nvGrpSpPr>
            <p:cNvPr id="60" name=""/>
            <p:cNvGrpSpPr/>
            <p:nvPr/>
          </p:nvGrpSpPr>
          <p:grpSpPr>
            <a:xfrm>
              <a:off x="250920" y="5837400"/>
              <a:ext cx="8640720" cy="792000"/>
              <a:chOff x="250920" y="5837400"/>
              <a:chExt cx="8640720" cy="792000"/>
            </a:xfrm>
          </p:grpSpPr>
          <p:sp>
            <p:nvSpPr>
              <p:cNvPr id="61" name=""/>
              <p:cNvSpPr/>
              <p:nvPr/>
            </p:nvSpPr>
            <p:spPr>
              <a:xfrm>
                <a:off x="250920" y="583740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" name=""/>
              <p:cNvGrpSpPr/>
              <p:nvPr/>
            </p:nvGrpSpPr>
            <p:grpSpPr>
              <a:xfrm>
                <a:off x="250920" y="5877000"/>
                <a:ext cx="8637480" cy="718920"/>
                <a:chOff x="250920" y="5877000"/>
                <a:chExt cx="8637480" cy="718920"/>
              </a:xfrm>
            </p:grpSpPr>
            <p:pic>
              <p:nvPicPr>
                <p:cNvPr id="6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148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3924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700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5092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476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2948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372360" y="587700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70" name=""/>
            <p:cNvSpPr/>
            <p:nvPr/>
          </p:nvSpPr>
          <p:spPr>
            <a:xfrm>
              <a:off x="250920" y="587700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22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8.png"/><Relationship Id="rId3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8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jpe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22.png"/><Relationship Id="rId20" Type="http://schemas.openxmlformats.org/officeDocument/2006/relationships/image" Target="../media/image23.jpeg"/><Relationship Id="rId21" Type="http://schemas.openxmlformats.org/officeDocument/2006/relationships/image" Target="../media/image24.png"/><Relationship Id="rId22" Type="http://schemas.openxmlformats.org/officeDocument/2006/relationships/image" Target="../media/image25.png"/><Relationship Id="rId23" Type="http://schemas.openxmlformats.org/officeDocument/2006/relationships/image" Target="../media/image26.png"/><Relationship Id="rId24" Type="http://schemas.openxmlformats.org/officeDocument/2006/relationships/image" Target="../media/image27.png"/><Relationship Id="rId25" Type="http://schemas.openxmlformats.org/officeDocument/2006/relationships/image" Target="../media/image28.png"/><Relationship Id="rId26" Type="http://schemas.openxmlformats.org/officeDocument/2006/relationships/image" Target="../media/image29.png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png"/><Relationship Id="rId31" Type="http://schemas.openxmlformats.org/officeDocument/2006/relationships/image" Target="../media/image34.png"/><Relationship Id="rId32" Type="http://schemas.openxmlformats.org/officeDocument/2006/relationships/image" Target="../media/image22.png"/><Relationship Id="rId33" Type="http://schemas.openxmlformats.org/officeDocument/2006/relationships/image" Target="../media/image35.png"/><Relationship Id="rId34" Type="http://schemas.openxmlformats.org/officeDocument/2006/relationships/image" Target="../media/image36.png"/><Relationship Id="rId35" Type="http://schemas.openxmlformats.org/officeDocument/2006/relationships/image" Target="../media/image8.png"/><Relationship Id="rId36" Type="http://schemas.openxmlformats.org/officeDocument/2006/relationships/image" Target="../media/image37.png"/><Relationship Id="rId3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ive.unece.org/trans/theme_forfits.html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153640" cy="16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UNDA project on CO</a:t>
            </a:r>
            <a:r>
              <a:rPr b="1" lang="da-DK" sz="28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 emissions in </a:t>
            </a:r>
            <a:br>
              <a:rPr sz="2800"/>
            </a:br>
            <a:r>
              <a:rPr b="1" lang="da-DK" sz="2800" spc="-1" strike="noStrike">
                <a:solidFill>
                  <a:srgbClr val="000000"/>
                </a:solidFill>
                <a:latin typeface="Trebuchet MS"/>
              </a:rPr>
              <a:t>inland transport</a:t>
            </a:r>
            <a:r>
              <a:rPr b="1" lang="da-DK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br>
              <a:rPr sz="1200"/>
            </a:br>
            <a:r>
              <a:rPr b="1" lang="da-DK" sz="2000" spc="-1" strike="noStrike">
                <a:solidFill>
                  <a:srgbClr val="000000"/>
                </a:solidFill>
                <a:latin typeface="Trebuchet MS"/>
              </a:rPr>
              <a:t>For Future Inland Transport Systems (ForFITS)</a:t>
            </a:r>
            <a:r>
              <a:rPr b="1" lang="da-DK" sz="3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Trebuchet MS"/>
              </a:rPr>
              <a:t>Romain Hubert, project manager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Working Party on Inland Water Transport (SC.3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(5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</a:rPr>
              <a:t> session)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0920" y="5908680"/>
            <a:ext cx="8640720" cy="792000"/>
            <a:chOff x="250920" y="5908680"/>
            <a:chExt cx="8640720" cy="792000"/>
          </a:xfrm>
        </p:grpSpPr>
        <p:grpSp>
          <p:nvGrpSpPr>
            <p:cNvPr id="131" name=""/>
            <p:cNvGrpSpPr/>
            <p:nvPr/>
          </p:nvGrpSpPr>
          <p:grpSpPr>
            <a:xfrm>
              <a:off x="250920" y="5908680"/>
              <a:ext cx="8640720" cy="792000"/>
              <a:chOff x="250920" y="5908680"/>
              <a:chExt cx="8640720" cy="792000"/>
            </a:xfrm>
          </p:grpSpPr>
          <p:sp>
            <p:nvSpPr>
              <p:cNvPr id="132" name=""/>
              <p:cNvSpPr/>
              <p:nvPr/>
            </p:nvSpPr>
            <p:spPr>
              <a:xfrm>
                <a:off x="250920" y="590868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250920" y="5948280"/>
                <a:ext cx="8637480" cy="718920"/>
                <a:chOff x="250920" y="5948280"/>
                <a:chExt cx="8637480" cy="718920"/>
              </a:xfrm>
            </p:grpSpPr>
            <p:pic>
              <p:nvPicPr>
                <p:cNvPr id="13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48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00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2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76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948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72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1" name=""/>
            <p:cNvSpPr/>
            <p:nvPr/>
          </p:nvSpPr>
          <p:spPr>
            <a:xfrm>
              <a:off x="250920" y="594828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4865760" y="155592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4289400" y="133992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0"/>
          <a:stretch/>
        </p:blipFill>
        <p:spPr>
          <a:xfrm>
            <a:off x="1407960" y="220500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60280"/>
            <a:ext cx="8640720" cy="93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84360" y="47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 rot="900000">
            <a:off x="2450880" y="1666440"/>
            <a:ext cx="752400" cy="814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5369040" y="1700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6016680" y="191628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14"/>
          <a:stretch/>
        </p:blipFill>
        <p:spPr>
          <a:xfrm>
            <a:off x="6593040" y="206064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5"/>
          <a:stretch/>
        </p:blipFill>
        <p:spPr>
          <a:xfrm>
            <a:off x="1120680" y="3068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6"/>
          <a:stretch/>
        </p:blipFill>
        <p:spPr>
          <a:xfrm>
            <a:off x="7097760" y="2205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7"/>
          <a:stretch/>
        </p:blipFill>
        <p:spPr>
          <a:xfrm>
            <a:off x="1984320" y="4148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18"/>
          <a:stretch/>
        </p:blipFill>
        <p:spPr>
          <a:xfrm>
            <a:off x="1407960" y="3932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19"/>
          <a:stretch/>
        </p:blipFill>
        <p:spPr>
          <a:xfrm>
            <a:off x="2489040" y="177156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0"/>
          <a:stretch/>
        </p:blipFill>
        <p:spPr>
          <a:xfrm>
            <a:off x="2489040" y="177156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1"/>
          <a:stretch/>
        </p:blipFill>
        <p:spPr>
          <a:xfrm>
            <a:off x="3137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2"/>
          <a:stretch/>
        </p:blipFill>
        <p:spPr>
          <a:xfrm>
            <a:off x="3641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3"/>
          <a:stretch/>
        </p:blipFill>
        <p:spPr>
          <a:xfrm>
            <a:off x="3065400" y="450864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4"/>
          <a:stretch/>
        </p:blipFill>
        <p:spPr>
          <a:xfrm>
            <a:off x="3641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5"/>
          <a:stretch/>
        </p:blipFill>
        <p:spPr>
          <a:xfrm>
            <a:off x="4289400" y="4795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6"/>
          <a:stretch/>
        </p:blipFill>
        <p:spPr>
          <a:xfrm>
            <a:off x="4865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7"/>
          <a:stretch/>
        </p:blipFill>
        <p:spPr>
          <a:xfrm>
            <a:off x="5442120" y="450864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8"/>
          <a:stretch/>
        </p:blipFill>
        <p:spPr>
          <a:xfrm>
            <a:off x="6016680" y="4292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9"/>
          <a:stretch/>
        </p:blipFill>
        <p:spPr>
          <a:xfrm>
            <a:off x="7313760" y="306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0"/>
          <a:stretch/>
        </p:blipFill>
        <p:spPr>
          <a:xfrm>
            <a:off x="2489040" y="4363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1"/>
          <a:stretch/>
        </p:blipFill>
        <p:spPr>
          <a:xfrm>
            <a:off x="1984320" y="1916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2"/>
          <a:stretch/>
        </p:blipFill>
        <p:spPr>
          <a:xfrm>
            <a:off x="7097760" y="386064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3"/>
          <a:stretch/>
        </p:blipFill>
        <p:spPr>
          <a:xfrm>
            <a:off x="6665760" y="4148280"/>
            <a:ext cx="622440" cy="95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95280" y="126828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371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4"/>
          <a:stretch/>
        </p:blipFill>
        <p:spPr>
          <a:xfrm>
            <a:off x="4067280" y="277956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5"/>
          <a:srcRect l="0" t="0" r="0" b="12248"/>
          <a:stretch/>
        </p:blipFill>
        <p:spPr>
          <a:xfrm>
            <a:off x="395280" y="38880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50920" y="6165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366ff"/>
                </a:solidFill>
                <a:latin typeface="Trebuchet MS"/>
                <a:ea typeface="Arial"/>
              </a:rPr>
              <a:t>http://live.unece.org/trans/theme_forfit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5908680"/>
            <a:ext cx="8640720" cy="792000"/>
            <a:chOff x="250920" y="5908680"/>
            <a:chExt cx="8640720" cy="792000"/>
          </a:xfrm>
        </p:grpSpPr>
        <p:grpSp>
          <p:nvGrpSpPr>
            <p:cNvPr id="177" name=""/>
            <p:cNvGrpSpPr/>
            <p:nvPr/>
          </p:nvGrpSpPr>
          <p:grpSpPr>
            <a:xfrm>
              <a:off x="250920" y="5908680"/>
              <a:ext cx="8640720" cy="792000"/>
              <a:chOff x="250920" y="5908680"/>
              <a:chExt cx="8640720" cy="792000"/>
            </a:xfrm>
          </p:grpSpPr>
          <p:sp>
            <p:nvSpPr>
              <p:cNvPr id="178" name=""/>
              <p:cNvSpPr/>
              <p:nvPr/>
            </p:nvSpPr>
            <p:spPr>
              <a:xfrm>
                <a:off x="250920" y="5908680"/>
                <a:ext cx="8640720" cy="792000"/>
              </a:xfrm>
              <a:prstGeom prst="rect">
                <a:avLst/>
              </a:pr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50920" y="5948280"/>
                <a:ext cx="8637480" cy="718920"/>
                <a:chOff x="250920" y="5948280"/>
                <a:chExt cx="8637480" cy="718920"/>
              </a:xfrm>
            </p:grpSpPr>
            <p:pic>
              <p:nvPicPr>
                <p:cNvPr id="18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48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924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700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2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476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2948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72360" y="5948280"/>
                  <a:ext cx="1258920" cy="7189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7" name=""/>
            <p:cNvSpPr/>
            <p:nvPr/>
          </p:nvSpPr>
          <p:spPr>
            <a:xfrm>
              <a:off x="250920" y="5948280"/>
              <a:ext cx="8640720" cy="718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8" name="" descr=""/>
          <p:cNvPicPr/>
          <p:nvPr/>
        </p:nvPicPr>
        <p:blipFill>
          <a:blip r:embed="rId8"/>
          <a:stretch/>
        </p:blipFill>
        <p:spPr>
          <a:xfrm>
            <a:off x="4865760" y="155592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9"/>
          <a:stretch/>
        </p:blipFill>
        <p:spPr>
          <a:xfrm>
            <a:off x="4289400" y="133992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10"/>
          <a:stretch/>
        </p:blipFill>
        <p:spPr>
          <a:xfrm>
            <a:off x="1407960" y="2205000"/>
            <a:ext cx="649440" cy="952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260280"/>
            <a:ext cx="8640720" cy="936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47628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rebuchet MS"/>
                <a:ea typeface="Arial"/>
              </a:rPr>
              <a:t>Thank you for your atten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1"/>
          <a:stretch/>
        </p:blipFill>
        <p:spPr>
          <a:xfrm rot="900000">
            <a:off x="2450880" y="1666440"/>
            <a:ext cx="752400" cy="81432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12"/>
          <a:stretch/>
        </p:blipFill>
        <p:spPr>
          <a:xfrm>
            <a:off x="5369040" y="1700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13"/>
          <a:stretch/>
        </p:blipFill>
        <p:spPr>
          <a:xfrm>
            <a:off x="6016680" y="191628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14"/>
          <a:stretch/>
        </p:blipFill>
        <p:spPr>
          <a:xfrm>
            <a:off x="6593040" y="2060640"/>
            <a:ext cx="61272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15"/>
          <a:stretch/>
        </p:blipFill>
        <p:spPr>
          <a:xfrm>
            <a:off x="1120680" y="306864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6"/>
          <a:stretch/>
        </p:blipFill>
        <p:spPr>
          <a:xfrm>
            <a:off x="7097760" y="2205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7"/>
          <a:stretch/>
        </p:blipFill>
        <p:spPr>
          <a:xfrm>
            <a:off x="1984320" y="4148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8"/>
          <a:stretch/>
        </p:blipFill>
        <p:spPr>
          <a:xfrm>
            <a:off x="1407960" y="393228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9"/>
          <a:stretch/>
        </p:blipFill>
        <p:spPr>
          <a:xfrm>
            <a:off x="2489040" y="1771560"/>
            <a:ext cx="64008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0"/>
          <a:stretch/>
        </p:blipFill>
        <p:spPr>
          <a:xfrm>
            <a:off x="2489040" y="177156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1"/>
          <a:stretch/>
        </p:blipFill>
        <p:spPr>
          <a:xfrm>
            <a:off x="3137040" y="162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2"/>
          <a:stretch/>
        </p:blipFill>
        <p:spPr>
          <a:xfrm>
            <a:off x="3641760" y="148428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3"/>
          <a:stretch/>
        </p:blipFill>
        <p:spPr>
          <a:xfrm>
            <a:off x="3065400" y="450864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4"/>
          <a:stretch/>
        </p:blipFill>
        <p:spPr>
          <a:xfrm>
            <a:off x="3641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5"/>
          <a:stretch/>
        </p:blipFill>
        <p:spPr>
          <a:xfrm>
            <a:off x="4289400" y="4795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6"/>
          <a:stretch/>
        </p:blipFill>
        <p:spPr>
          <a:xfrm>
            <a:off x="4865760" y="465300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7"/>
          <a:stretch/>
        </p:blipFill>
        <p:spPr>
          <a:xfrm>
            <a:off x="5442120" y="4508640"/>
            <a:ext cx="649080" cy="9522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8"/>
          <a:stretch/>
        </p:blipFill>
        <p:spPr>
          <a:xfrm>
            <a:off x="6016680" y="4292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9"/>
          <a:stretch/>
        </p:blipFill>
        <p:spPr>
          <a:xfrm>
            <a:off x="7313760" y="3068640"/>
            <a:ext cx="64908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0"/>
          <a:stretch/>
        </p:blipFill>
        <p:spPr>
          <a:xfrm>
            <a:off x="2489040" y="4363920"/>
            <a:ext cx="64944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1"/>
          <a:stretch/>
        </p:blipFill>
        <p:spPr>
          <a:xfrm>
            <a:off x="1984320" y="1916280"/>
            <a:ext cx="649440" cy="9522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2"/>
          <a:stretch/>
        </p:blipFill>
        <p:spPr>
          <a:xfrm>
            <a:off x="7097760" y="3860640"/>
            <a:ext cx="639720" cy="9525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3"/>
          <a:stretch/>
        </p:blipFill>
        <p:spPr>
          <a:xfrm>
            <a:off x="6665760" y="4148280"/>
            <a:ext cx="622440" cy="952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95280" y="1268280"/>
            <a:ext cx="8296200" cy="453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7162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UNE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Trebuchet MS"/>
                <a:ea typeface="Arial"/>
              </a:rPr>
              <a:t>Transport 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4"/>
          <a:stretch/>
        </p:blipFill>
        <p:spPr>
          <a:xfrm>
            <a:off x="4067280" y="2779560"/>
            <a:ext cx="1003320" cy="9144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5"/>
          <a:srcRect l="0" t="0" r="0" b="12248"/>
          <a:stretch/>
        </p:blipFill>
        <p:spPr>
          <a:xfrm>
            <a:off x="395280" y="388800"/>
            <a:ext cx="792000" cy="71460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250920" y="6165720"/>
            <a:ext cx="864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3366ff"/>
                </a:solidFill>
                <a:latin typeface="Trebuchet MS"/>
                <a:ea typeface="Arial"/>
              </a:rPr>
              <a:t>http://live.unece.org/trans/theme_forfits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6"/>
          <a:stretch/>
        </p:blipFill>
        <p:spPr>
          <a:xfrm>
            <a:off x="0" y="233280"/>
            <a:ext cx="9144000" cy="646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276280"/>
            <a:ext cx="792468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1. The project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0920" y="1743120"/>
            <a:ext cx="792468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3 year project funded by UND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5 Regional Commissions involve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aunched January 2011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elop tool for the assessment of CO2 emissions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reely avail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Raise global awareness for actions and measures needed for climate change mitigation and adapt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ssist governments establishing transport policy and mitigation strategi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mote the tool to pave the way for the Future Inland Transport System (ForFITS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3846" t="0" r="15896" b="0"/>
          <a:stretch/>
        </p:blipFill>
        <p:spPr>
          <a:xfrm>
            <a:off x="6804000" y="907920"/>
            <a:ext cx="1930320" cy="19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73040" y="1185840"/>
            <a:ext cx="835200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Objectiv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To develop an information and analysis tool based on a uniform methodology for the evaluation of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emissions in the transport sector in order to enable all UN countries to optimize the use of energy sources in the transport sector, taking into consideration:  road vehicle fleets, types of propulsion systems, transport infrastructure, sustainable energy sources, intermodal transport on railways &amp; inland waterways and appropriate policy measures.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pected Achiev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88800" indent="-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Capacity building workshops in all UN RCs on inland transport CO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emissions and on how to use the powerful analysis tool in order to develop their future strategies for inland transport and to support  their policy decis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>
            <a:lum bright="-6000"/>
          </a:blip>
          <a:srcRect l="3138" t="8552" r="6827" b="7221"/>
          <a:stretch/>
        </p:blipFill>
        <p:spPr>
          <a:xfrm>
            <a:off x="2543040" y="785880"/>
            <a:ext cx="5124600" cy="58118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2808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rebuchet MS"/>
              </a:rPr>
              <a:t>Objective tree: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95280" y="1052640"/>
            <a:ext cx="830592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4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268280"/>
            <a:ext cx="86421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125360"/>
            <a:ext cx="8351640" cy="44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197000"/>
            <a:ext cx="8893080" cy="41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1 Step (2011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Preparation and distribution of the questionnaire on inland transport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rebuchet MS"/>
                <a:ea typeface="Arial Unicode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Evaluation of the replies to the questionn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rafting the global status 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Review of existing emission assessment 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rafting a recommendation on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existing emission assessment method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Develop a concept document for the development of ForFITS (Nov.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Review the concept document through a Peer Review Panel (P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 Unicode MS"/>
              </a:rPr>
              <a:t>- Start development of the ForFITS code (end of 20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137440" cy="38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2 Step (2012)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Development of the tool ForFITS including the policy converter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Implementation, verification and validation of ForFI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Preparation of a user manual for the application of ForFIT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Organization of an international emissions expert meeting (early 2012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Drafting the meeting report and refining of the model(s) use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3 Step (2013)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Piloting out ForFITS and its applic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- Organization of capacity building workshops in all UN RC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oject evaluatio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lnSpc>
                <a:spcPct val="80000"/>
              </a:lnSpc>
              <a:buNone/>
              <a:tabLst>
                <a:tab algn="l" pos="0"/>
                <a:tab algn="l" pos="54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79200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2. Where we are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883880"/>
            <a:ext cx="79200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lease of fund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w website and Fly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estionnaire on inland transpo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Official letter to UN Regional Commissions, ITC delegates, Foreign minis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paring concept document for the development of ForFI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lobal status repor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half of the ye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308640" y="879480"/>
            <a:ext cx="2575080" cy="259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3. What we need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060280"/>
            <a:ext cx="8497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nform us on your focal points in charge of inland water transport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 (interest to participate in PRP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spond to the Questionnaire on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emissions available at: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Trebuchet MS"/>
                <a:hlinkClick r:id="rId1"/>
              </a:rPr>
              <a:t>http://live.unece.org/trans/theme_forfits.htm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articipate in the international expert meeting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(early 2012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9200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4. What we expect from SC.3</a:t>
            </a:r>
            <a:endParaRPr b="1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6880" y="2852280"/>
            <a:ext cx="84981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formation on existing tools, methodologies and/or statistics on inland water transport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emiss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5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Interest to participate in our Peer Review Panel or International Expert Mee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874880"/>
            <a:ext cx="8497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For the assessment of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rebuchet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emissions with the future tool ForFITS, please provide us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3 October 20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0T12:43:08Z</dcterms:created>
  <dc:creator>Romain Hubert</dc:creator>
  <dc:description/>
  <dc:language>en-US</dc:language>
  <cp:lastModifiedBy>Romain HUBERT</cp:lastModifiedBy>
  <dcterms:modified xsi:type="dcterms:W3CDTF">2011-10-13T08:50:53Z</dcterms:modified>
  <cp:revision>143</cp:revision>
  <dc:subject>62 WP.6 on 6-8 July 2011</dc:subject>
  <dc:title>PowerPoint Presentation</dc:title>
</cp:coreProperties>
</file>