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6BE5A6-CB8F-4740-B6C4-3378E700CC4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8C81-B778-41DB-8CA3-1F6B0B12C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8629-EFDD-4BEC-BBD6-17AA62E87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BE08-CA73-41DC-96BB-377749E52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DEBF-2CE3-4461-AE4D-6541D1A4C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3058-39FE-4842-A904-9F58EADEB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20BE-9B98-40D8-AD61-3366EA0CB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25A6-4A3D-48F0-B1F5-DFB9077BB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FDA8-D208-4B74-BA8B-4B003AE10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224C-11A3-458F-B5D0-38410C459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2ED0-E470-45E7-9670-F61E4FFBA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FDA5-F216-4598-B8E4-DD9382681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4072-00BF-4D3E-A165-0A9053D65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535-BBD8-4C67-883D-B8BDC61681D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(Резолюция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No. 59) –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оект поправок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-я сесс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Женев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еврал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Дунайская Комиссия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590C-884C-4199-903B-48CAC368E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  <a:ea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CB44-D799-4D52-BD64-86A522F20E6D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ществующие международные правила в Европе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ели пересмотр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сновные измен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дложение по следующим действия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2DF6-B0A4-476A-B2F4-090EB27A9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уществующие международные правила в Европ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езолюция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59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ЕЭК ООН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, регулирующих судоходство по водным путям на Дунае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 на водном пути в бассейне реки Сава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7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ругие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????????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83F7-D534-48EE-B217-8225535045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Цели пересмотра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единение существующих правил для всех европейских внутренних водных пут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становление более специфичных минимальных требовани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здание документа, удобного для пользовател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5F70-7102-406C-97F4-CC39BE3763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1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щие полож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бязаннос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азмещать километрические зна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2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ребования к знакам и схеме их рас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пределение позиции знака с учетом существующей скорост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в схеме расстанов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3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идимость знаков и огн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ормула для расчета размеров зна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пециальная информация о размерах фигур, используемых в знака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инимальная высо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ижнего края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тенсивность цвета огне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70E7-9715-40D5-B478-1A0E9DB177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4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сстановка знаков на наиболее характерных участках ре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б ориентировке береговых знаков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перевальных знаках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характерных черт расстановк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знаках мелководь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ые характерные примеры расстановки навигационных знаков вблизи мост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5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Методы визуального отображения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перенесены в текст Добавлен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6E73-99FD-4DCB-A763-A808D276D8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6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менение радиолокационных отражателей на знаках навигационной путевой об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е содержит значительных изменени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обавле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ольше особых эскизов и величин, разделенных согласно категории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Эскизы могут быть представлены не только по категориям, но и для каждого знака в отдельности (Дунайская Комиссия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ACA9-21C5-4BB2-940D-2C24606760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Предложение по дальнейшим действиям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 по концепц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ровень детализ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ая концепция текста Добавл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- немедленн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ый проект, основанный на принятом решении – как можно скоре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мментарии по содержанию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еред следующей сессией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а следующей сесс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A6D6-3458-4850-BF95-AC978DE6DA1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ды сигнальных знаков одного размера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120x100 </a:t>
                      </a: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лая полоса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омиссия по реке Сава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806C-129A-41CC-AC6A-1C4BF359E3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Jaimurzina</cp:lastModifiedBy>
  <cp:lastPrinted>2002-01-29T09:36:43Z</cp:lastPrinted>
  <dcterms:modified xsi:type="dcterms:W3CDTF">2011-02-14T15:59:22Z</dcterms:modified>
  <cp:revision>702</cp:revision>
  <dc:subject/>
  <dc:title>Paper and Tutorial Presentation Template and Information</dc:title>
</cp:coreProperties>
</file>