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587160" y="1018800"/>
            <a:ext cx="5738760" cy="43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move the slide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835200" y="5571720"/>
            <a:ext cx="5240160" cy="38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hdr"/>
          </p:nvPr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3"/>
          </p:nvPr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898640" y="9694800"/>
            <a:ext cx="29624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40560" y="9694800"/>
            <a:ext cx="1060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2EEBAD7-D45C-426F-A098-595B17885ACC}" type="slidenum">
              <a:rPr b="0" lang="en-US" sz="1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5" name="GWP%20Med-%20new%20logo" descr=""/>
          <p:cNvPicPr/>
          <p:nvPr/>
        </p:nvPicPr>
        <p:blipFill>
          <a:blip r:embed="rId2"/>
          <a:stretch/>
        </p:blipFill>
        <p:spPr>
          <a:xfrm>
            <a:off x="5391000" y="249120"/>
            <a:ext cx="1290960" cy="41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2560" y="4738680"/>
            <a:ext cx="5469120" cy="449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972800" y="166320"/>
            <a:ext cx="2962440" cy="41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3480" y="9694440"/>
            <a:ext cx="1288800" cy="24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DC90E-6BF6-4B5A-B977-7EA095106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3C7CD-DA50-4FC4-BC55-13138EDB5A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6353D-E22D-4B33-AFA1-5DF1F5A73E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2D8EE-1846-46D8-992D-8895DD37F4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76DEF-32D2-4E26-89C9-7A33B73C90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8824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4960" y="170136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7152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8824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04960" y="4175640"/>
            <a:ext cx="27774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12B0D-15F2-47EC-9D43-C603959C4C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3313F-B715-46EA-B4D9-50DF3B90C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B131-1795-459C-A2A4-D253E09A4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600" y="600120"/>
            <a:ext cx="6983280" cy="42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9220-B3BC-4C2F-A238-FCF79442A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F01EB-D545-45D0-89F0-5DD0A223D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91960" y="417564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6D96E-2D6E-4E55-8E11-6FB759C20B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1960" y="1701360"/>
            <a:ext cx="42094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1520" y="4175640"/>
            <a:ext cx="862632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AD747-9985-4B32-8513-9ECE0F088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99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99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72600" y="6567120"/>
            <a:ext cx="7285320" cy="2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46600" y="6543360"/>
            <a:ext cx="67788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7A83-43F5-4E9B-9833-2AEB69F99641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5948280" y="88920"/>
            <a:ext cx="3081600" cy="758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2360" y="27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280" y="77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2720" y="109764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20" y="176292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" y="242820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2720" y="31978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720" y="3844080"/>
            <a:ext cx="29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080" y="43948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Инструкция по сигнальным знакам, регулирующим судоходство по водным путям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(Резолюция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 No. 59) – </a:t>
            </a:r>
            <a:r>
              <a:rPr b="1" lang="ru-RU" sz="3200" spc="-1" strike="noStrike">
                <a:solidFill>
                  <a:srgbClr val="000066"/>
                </a:solidFill>
                <a:latin typeface="Tahoma"/>
              </a:rPr>
              <a:t>проект поправок</a:t>
            </a:r>
            <a:br>
              <a:rPr sz="2400"/>
            </a:br>
            <a:br>
              <a:rPr sz="2400"/>
            </a:b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5638320"/>
            <a:ext cx="725184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SC.3/WP.3 38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-я сесси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Женева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6-18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февраля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 201</a:t>
            </a:r>
            <a:r>
              <a:rPr b="1" lang="hr-HR" sz="1400" spc="-1" strike="noStrike">
                <a:solidFill>
                  <a:srgbClr val="000066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148360" y="165240"/>
            <a:ext cx="3767040" cy="927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600200" y="3352680"/>
            <a:ext cx="5975280" cy="2265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00200" y="1577880"/>
            <a:ext cx="5886360" cy="4919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57200" y="685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Дунайская Комиссия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8D84C-4324-48E9-A7A0-A68E8460118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11280" y="285264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Tahoma"/>
                <a:ea typeface="Arial"/>
              </a:rPr>
              <a:t>Спасибо за внимание</a:t>
            </a:r>
            <a:r>
              <a:rPr b="1" lang="en-US" sz="3600" spc="-1" strike="noStrike">
                <a:solidFill>
                  <a:srgbClr val="ff3300"/>
                </a:solidFill>
                <a:latin typeface="Tahoma"/>
                <a:ea typeface="Arial"/>
              </a:rPr>
              <a:t>!!!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0920" y="3645000"/>
            <a:ext cx="45356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3300"/>
                </a:solidFill>
                <a:latin typeface="Garamond"/>
                <a:ea typeface="Arial"/>
              </a:rPr>
              <a:t> </a:t>
            </a: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Željko Milković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ff3300"/>
                </a:solidFill>
                <a:latin typeface="Tahoma"/>
                <a:ea typeface="Arial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4797360"/>
            <a:ext cx="3816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048D2-182E-4253-B09C-5B692D867D37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3600" y="6001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Содержание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71520" y="1701360"/>
            <a:ext cx="86263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уществующие международные правила в Европе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Цели пересмотра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сновные изменен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1500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редложение по следующим действиям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DE45-93AA-4325-A8EC-FF033EC4BA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Существующие международные правила в Европе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Резолюция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59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 ЕЭК ООН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сигнальным знакам, регулирующим судоходство по водным путям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установке знаков, регулирующих судоходство по водным путям на Дунае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6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струкция по установке знаков на водном пути в бассейне реки Сава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, 2007</a:t>
            </a:r>
            <a:r>
              <a:rPr b="0" lang="hr-HR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ругие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?????????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0513C-6A51-49B1-A426-D490391C954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69832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Цели пересмотра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ъединение существующих правил для всех европейских внутренних водных путе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становление более специфичных минимальных требовани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Создание документа, удобного для пользовател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2BE2-0557-4F63-9CE5-B7EF3BDE75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1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1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Общие положения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бязанность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размещать километрические знак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2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Требования к знакам и схеме их расстанов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Определение позиции знака с учетом существующей скорост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в схеме расстановк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3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Видимость знаков и огней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Формула для расчета размеров знак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Специальная информация о размерах фигур, используемых в знаках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Минимальная высота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ижнего края знака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lnSpc>
                <a:spcPct val="80000"/>
              </a:lnSpc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Интенсивность цвета огней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8136-9E58-4039-B7C9-07C6C830BCB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2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42480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4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Расстановка знаков на наиболее характерных участках ре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б ориентировке береговых знаков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 перевальных знаках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меры характерных черт расстановки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ая информация о знаках мелководь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Дополнительные характерные примеры расстановки навигационных знаков вблизи мост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5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Методы визуального отображения информаци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31000" indent="-42480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Примеры перенесены в текст Добавления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31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5FA1E-E957-4CBC-A75F-C1E5F0C3C1B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Основные изменения</a:t>
            </a:r>
            <a:r>
              <a:rPr b="1" lang="hr-HR" sz="3200" spc="-1" strike="noStrike">
                <a:solidFill>
                  <a:srgbClr val="009900"/>
                </a:solidFill>
                <a:latin typeface="Tahoma"/>
              </a:rPr>
              <a:t> 3</a:t>
            </a:r>
            <a:endParaRPr b="0" lang="en-US" sz="32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Глава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6. – </a:t>
            </a: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Применение радиолокационных отражателей на знаках навигационной путевой обстановки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Не содержит значительных изменений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Добавлени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Больше особых эскизов и величин, разделенных согласно категории знака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ahoma"/>
              </a:rPr>
              <a:t>Эскизы могут быть представлены не только по категориям, но и для каждого знака в отдельности (Дунайская Комиссия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2C8FC-EA81-4FFE-9E94-8E188F8A04C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914400"/>
            <a:ext cx="804708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900"/>
                </a:solidFill>
                <a:latin typeface="Tahoma"/>
              </a:rPr>
              <a:t>Предложение по дальнейшим действиям</a:t>
            </a:r>
            <a:endParaRPr b="0" lang="en-US" sz="2800" spc="-1" strike="noStrike">
              <a:solidFill>
                <a:srgbClr val="0099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26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Решение по концепции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уровень детализации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,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вая концепция текста Добавления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- немедленно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???????????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Новый проект, основанный на принятом решении – как можно скорее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Комментарии по содержанию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 – </a:t>
            </a: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перед следующей сессией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-438120"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ahoma"/>
              </a:rPr>
              <a:t>Обсуждение на следующей сессии </a:t>
            </a: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WP.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5475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7469-AD91-43B1-A0E2-6C67455E7E3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1924200"/>
            <a:ext cx="3902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5" name="t1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3238560" cy="3009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1371600" y="1924200"/>
          <a:ext cx="6400800" cy="1193760"/>
        </p:xfrm>
        <a:graphic>
          <a:graphicData uri="http://schemas.openxmlformats.org/drawingml/2006/table">
            <a:tbl>
              <a:tblPr/>
              <a:tblGrid>
                <a:gridCol w="2498760"/>
                <a:gridCol w="3902040"/>
              </a:tblGrid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ды сигнальных знаков одного размера 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120x100 </a:t>
                      </a:r>
                      <a:r>
                        <a:rPr b="1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лая полоса 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2.5</a:t>
                      </a:r>
                      <a:r>
                        <a:rPr b="0" lang="ru-RU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м</a:t>
                      </a: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br>
                        <a:rPr sz="1100"/>
                      </a:b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A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C.5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5396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E.1.</a:t>
                      </a:r>
                      <a:endParaRPr b="0" lang="en-US" sz="11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914400" y="9144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Tahoma"/>
              </a:rPr>
              <a:t>Комиссия по реке Сава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C.3/WP.3 38th Session, Geneva, 16-18 February 201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BCCFF-A13B-43EA-BE47-D088851C5F5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9:10:49Z</dcterms:created>
  <dc:creator>Tom Fitzpatrick</dc:creator>
  <dc:description/>
  <dc:language>en-US</dc:language>
  <cp:lastModifiedBy>Jaimurzina</cp:lastModifiedBy>
  <cp:lastPrinted>2002-01-29T09:36:43Z</cp:lastPrinted>
  <dcterms:modified xsi:type="dcterms:W3CDTF">2011-02-14T15:59:22Z</dcterms:modified>
  <cp:revision>702</cp:revision>
  <dc:subject/>
  <dc:title>Paper and Tutorial Presentation Template and Information</dc:title>
</cp:coreProperties>
</file>