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65175F-58E8-4735-ABB1-2723F54A7D8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F2D9-E985-4736-AF88-1A4FB883F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B320-23D1-488A-BAEF-9BE0A43D7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B386-5A53-4F1B-9214-4AF70CABC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352F-0415-4A8E-A858-7A1884B17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458B-EEBF-4E29-A25E-FEA63B6E2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5109-6D20-445A-9D19-7B423D853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9C27-F377-464C-8868-7DB39F779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8683-47E5-42B3-ABC7-EDA077903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3C98-A614-4699-B112-699B8A842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BCD9-3BA1-480C-B090-01C8007D8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97FC-4F38-42EB-BD18-0AB3FC30B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4AF4-5003-43C4-903B-4530C6FA9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F9B0-1A50-41B9-B380-5FB2D1B09EA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нструкция по сигнальным знакам, регулирующим судоходство по водным путям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(Резолюция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No. 59) –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оект поправок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5638320"/>
            <a:ext cx="7251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8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-я сесси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Женева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6-18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феврал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975280" cy="22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77880"/>
            <a:ext cx="588636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Дунайская Комиссия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BA27-6E31-4F1A-9AE1-3DBE51575B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  <a:ea typeface="Arial"/>
              </a:rPr>
              <a:t>Спасибо за внимание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27AF-D407-4FE8-A3A1-BB004152E231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ществующие международные правила в Европе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ели пересмотр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сновные изменен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дложение по следующим действиям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F241-0439-4DB9-B2EB-F59019E47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Существующие международные правила в Европе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езолюция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59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ЕЭК ООН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сигнальным знакам, регулирующим судоходство по водным путям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установке знаков, регулирующих судоходство по водным путям на Дунае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установке знаков на водном пути в бассейне реки Сава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7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ругие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????????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143A-736C-4C5C-8E0E-082362E129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Цели пересмотра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ъединение существующих правил для всех европейских внутренних водных путе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становление более специфичных минимальных требовани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здание документа, удобного для пользовател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DC9F-4945-4566-9763-20972C82AC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1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щие положен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бязанность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азмещать километрические знак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2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ребования к знакам и схеме их расстанов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пределение позиции знака с учетом существующей скорост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в схеме расстановк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3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идимость знаков и огне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ормула для расчета размеров знак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пециальная информация о размерах фигур, используемых в знаках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инимальная высот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ижнего края знака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тенсивность цвета огне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2EF8-3E6C-4D8C-BD8C-0E365D4442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42480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4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сстановка знаков на наиболее характерных участках ре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б ориентировке береговых знаков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 перевальных знаках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меры характерных черт расстановк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 знаках мелководь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ые характерные примеры расстановки навигационных знаков вблизи мост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5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Методы визуального отображения информаци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меры перенесены в текст Добавлени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835E-08F4-4A73-8203-CC2057BF1F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6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менение радиолокационных отражателей на знаках навигационной путевой обстанов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е содержит значительных изменени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обавлен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ольше особых эскизов и величин, разделенных согласно категории знака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Эскизы могут быть представлены не только по категориям, но и для каждого знака в отдельности (Дунайская Комиссия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CC83-AF1C-475B-AB77-6925C1F89A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Предложение по дальнейшим действиям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шение по концепции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ровень детализаци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вая концепция текста Добавл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- немедленно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вый проект, основанный на принятом решении – как можно скоре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омментарии по содержанию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еред следующей сессией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суждение на следующей сессии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57A4-2F1A-4F4A-B53E-CC858433F7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924200"/>
            <a:ext cx="390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t1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238560" cy="300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371600" y="1924200"/>
          <a:ext cx="6400800" cy="1193760"/>
        </p:xfrm>
        <a:graphic>
          <a:graphicData uri="http://schemas.openxmlformats.org/drawingml/2006/table">
            <a:tbl>
              <a:tblPr/>
              <a:tblGrid>
                <a:gridCol w="2498760"/>
                <a:gridCol w="390204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ды сигнальных знаков одного размера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120x100 </a:t>
                      </a: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лая полоса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r>
                        <a:rPr b="0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.5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14400" y="914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омиссия по реке Сава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51D1-85C0-44DB-9C2A-F7A9058532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Jaimurzina</cp:lastModifiedBy>
  <cp:lastPrinted>2002-01-29T09:36:43Z</cp:lastPrinted>
  <dcterms:modified xsi:type="dcterms:W3CDTF">2011-02-14T15:59:22Z</dcterms:modified>
  <cp:revision>702</cp:revision>
  <dc:subject/>
  <dc:title>Paper and Tutorial Presentation Template and Information</dc:title>
</cp:coreProperties>
</file>