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587160" y="1018800"/>
            <a:ext cx="5738760" cy="43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35200" y="5571720"/>
            <a:ext cx="5240160" cy="38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hdr"/>
          </p:nvPr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3"/>
          </p:nvPr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98640" y="9694800"/>
            <a:ext cx="29624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40560" y="9694800"/>
            <a:ext cx="1060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A2FCCC8-CCAB-43DC-B57B-9D21629C61EB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5" name="GWP%20Med-%20new%20logo" descr=""/>
          <p:cNvPicPr/>
          <p:nvPr/>
        </p:nvPicPr>
        <p:blipFill>
          <a:blip r:embed="rId2"/>
          <a:stretch/>
        </p:blipFill>
        <p:spPr>
          <a:xfrm>
            <a:off x="5391000" y="249120"/>
            <a:ext cx="1290960" cy="41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2560" y="4738680"/>
            <a:ext cx="5469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6E49F-7551-4B65-8F3F-F1C944B2D0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1520" y="417564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FBC80-0C9B-4087-9658-90E3AFF0C7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196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BEED3-C5E3-4B5C-AB44-A421ACCFD1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24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496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152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24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496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C4755-4DCB-4D2C-AE51-D192CAD873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63600" y="600120"/>
            <a:ext cx="698328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7701A-10BC-4868-82AF-7A9C7EA57B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196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1520" y="417564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196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8824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0496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7152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8824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0496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6A663-379B-4F56-BE8E-084291FE97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53F88-AE06-4949-8595-2AD5AB59AF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545AA-03AD-447B-B74A-FB5338DB9F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3600" y="600120"/>
            <a:ext cx="698328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2408B-007F-48E0-9969-5A0FEB8E65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1302B-CD8D-4491-BC79-873E1FDD15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196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3C4F4-E9EA-487A-AFA3-E5C39A0A81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7F47E-40D1-401B-B021-50F851125A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99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72600" y="6567120"/>
            <a:ext cx="728532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346600" y="6543360"/>
            <a:ext cx="67788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AD69-6365-4BF8-8A3D-64202DE5919C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5948280" y="88920"/>
            <a:ext cx="3081600" cy="75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2360" y="2757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280" y="77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720" y="1097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20" y="1762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080" y="24282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2720" y="31978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720" y="3844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080" y="43948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990099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1752120"/>
            <a:ext cx="80769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ahoma"/>
              </a:rPr>
              <a:t>Guidelines for Waterway Signs and Marking (Resolution No. 59) – Amendments' proposal</a:t>
            </a: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14400" y="5638320"/>
            <a:ext cx="725184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66"/>
                </a:solidFill>
                <a:latin typeface="Tahoma"/>
              </a:rPr>
              <a:t>SC.3/WP.3 38th Session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66"/>
                </a:solidFill>
                <a:latin typeface="Tahoma"/>
              </a:rPr>
              <a:t>Geneva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hr-HR" sz="1400" spc="-1" strike="noStrike">
                <a:solidFill>
                  <a:srgbClr val="000066"/>
                </a:solidFill>
                <a:latin typeface="Tahoma"/>
              </a:rPr>
              <a:t>16-18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hr-HR" sz="1400" spc="-1" strike="noStrike">
                <a:solidFill>
                  <a:srgbClr val="000066"/>
                </a:solidFill>
                <a:latin typeface="Tahoma"/>
              </a:rPr>
              <a:t>February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201</a:t>
            </a:r>
            <a:r>
              <a:rPr b="1" lang="hr-HR" sz="14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148360" y="165240"/>
            <a:ext cx="3767040" cy="927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00200" y="3352680"/>
            <a:ext cx="5975280" cy="2265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00200" y="1577880"/>
            <a:ext cx="5886360" cy="4919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" y="6858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Danube Commiss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EC621-C981-409E-96E8-4B186A0ADE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1280" y="285264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3300"/>
                </a:solidFill>
                <a:latin typeface="Tahoma"/>
                <a:ea typeface="Arial"/>
              </a:rPr>
              <a:t>Thank you for your attention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  <a:ea typeface="Arial"/>
              </a:rPr>
              <a:t>!!!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0920" y="3645000"/>
            <a:ext cx="4535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3300"/>
                </a:solidFill>
                <a:latin typeface="Garamond"/>
                <a:ea typeface="Arial"/>
              </a:rPr>
              <a:t> </a:t>
            </a:r>
            <a:r>
              <a:rPr b="1" lang="hr-HR" sz="2800" spc="-1" strike="noStrike">
                <a:solidFill>
                  <a:srgbClr val="ff3300"/>
                </a:solidFill>
                <a:latin typeface="Tahoma"/>
                <a:ea typeface="Arial"/>
              </a:rPr>
              <a:t>Željko Milković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3300"/>
                </a:solidFill>
                <a:latin typeface="Tahoma"/>
                <a:ea typeface="Arial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4797360"/>
            <a:ext cx="381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F4E2E-47CA-43AB-BAC4-8EBC3D021047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Existing international regulation in Europ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Goals of the revis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Main chang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Proposal for further action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E9FD8-1379-424B-A361-C3AB510BA7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00"/>
                </a:solidFill>
                <a:latin typeface="Tahoma"/>
              </a:rPr>
              <a:t>Existing international regulations in Europe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UNECE Resolution 59 – Guidelines for waterway Signs and Marking, 2006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Instruction on posting of the waterway signs on the Danube, 2006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Rules for waterway marking on the Sava River Basin, 2007</a:t>
            </a:r>
            <a:r>
              <a:rPr b="0" lang="hr-HR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Any other?????????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AF87A-D592-4310-B9C9-DD93F6964E3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Goals of the revision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Unification of the existing regulations for all main European waterway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To set up more specific minimum requirement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User friendly documen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FAB70-1F66-4A80-B380-31B3943FA77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0470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Main changes 1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26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38120">
              <a:lnSpc>
                <a:spcPct val="9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hapter 1. – Genera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Obligation to post kilometer sign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9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hapter 2. – Requirements to be met by signs and marks and the plan for their installa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Positioning taking into account current speed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Additional information in the installation pla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9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hapter 3. – Visibility of signs and light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ormula for calculating signs dimensio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ome specifics about dimensions of the figures in the sign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inimum height of the lower rim of the sign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tensity for color light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66A44-0E66-4F72-BA87-8622453A56C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0470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Main changes 2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26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3812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hapter 4. – Installation of signs and marking in characteristic sections of the river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Additional specifics about bank marks orientatio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Additional specifics about cross-channel fairway signs (examples of the some characteristic positioning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Additional specifics about shallow water marking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Additional characteristic examples of marking of the sections nearby the bridges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hapter 5. – Image display techniqu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Examples are moved to the Annex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B94F1-537C-46A0-AACA-257CFEB85EF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0470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Main changes 3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26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hapter 6. – Installation of radar reflectors on marking signs and signal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No significant change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Appendix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ore specific sketches and dimensions divided by the sign typ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ketches can be presented not only for types but for each sign specifically (Danube Commission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4CF90-8E06-41CD-B770-50BCFC13DCC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0470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00"/>
                </a:solidFill>
                <a:latin typeface="Tahoma"/>
              </a:rPr>
              <a:t>Proposal for further actions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26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ecision on the concept (level of details, new concept of Appendix) – immediately??????????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ew draft based on the decision – as soon as possib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omments on the content – before the next Session of the WP.3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scussion on the next Session of the WP.3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D240C-773F-4526-86E3-A0EA33DC7D6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371600" y="1924200"/>
            <a:ext cx="3902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5" name="t1" descr=""/>
          <p:cNvPicPr/>
          <p:nvPr/>
        </p:nvPicPr>
        <p:blipFill>
          <a:blip r:embed="rId1"/>
          <a:stretch/>
        </p:blipFill>
        <p:spPr>
          <a:xfrm>
            <a:off x="4724280" y="2438280"/>
            <a:ext cx="3238560" cy="300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1371600" y="1924200"/>
          <a:ext cx="6400800" cy="1193760"/>
        </p:xfrm>
        <a:graphic>
          <a:graphicData uri="http://schemas.openxmlformats.org/drawingml/2006/table">
            <a:tbl>
              <a:tblPr/>
              <a:tblGrid>
                <a:gridCol w="2498760"/>
                <a:gridCol w="390204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odes of the marking signs</a:t>
                      </a:r>
                      <a:br>
                        <a:rPr sz="1100"/>
                      </a:b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with the same size (120x100 cm)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.1.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white strip 2.5cm:</a:t>
                      </a:r>
                      <a:br>
                        <a:rPr sz="1100"/>
                      </a:b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.1.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.5.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E.1.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914400" y="9144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Sava commiss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C8766-BC0A-4617-ACBB-633E7A3FD7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19:10:49Z</dcterms:created>
  <dc:creator>Tom Fitzpatrick</dc:creator>
  <dc:description/>
  <dc:language>en-US</dc:language>
  <cp:lastModifiedBy>Željko</cp:lastModifiedBy>
  <cp:lastPrinted>2002-01-29T09:36:43Z</cp:lastPrinted>
  <dcterms:modified xsi:type="dcterms:W3CDTF">2011-02-10T13:16:53Z</dcterms:modified>
  <cp:revision>698</cp:revision>
  <dc:subject/>
  <dc:title>Paper and Tutorial Presentation Template and Information</dc:title>
</cp:coreProperties>
</file>