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587160" y="1018800"/>
            <a:ext cx="5738760" cy="43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35200" y="5571720"/>
            <a:ext cx="5240160" cy="38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3"/>
          </p:nvPr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98640" y="9694800"/>
            <a:ext cx="2962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40560" y="9694800"/>
            <a:ext cx="1060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EF39424-1BB8-465A-AFBB-9889079C9176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5" name="GWP%20Med-%20new%20logo" descr=""/>
          <p:cNvPicPr/>
          <p:nvPr/>
        </p:nvPicPr>
        <p:blipFill>
          <a:blip r:embed="rId2"/>
          <a:stretch/>
        </p:blipFill>
        <p:spPr>
          <a:xfrm>
            <a:off x="5391000" y="249120"/>
            <a:ext cx="1290960" cy="4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2560" y="4738680"/>
            <a:ext cx="5469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840B1-4312-4DC9-8276-828E383B4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F11CF-0CC7-4DC0-AF8A-A6D517F10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A91BB-EBB2-4206-8F6A-744391871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24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496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52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24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496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40F5B-E59D-46D2-B27C-90F664C23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63600" y="600120"/>
            <a:ext cx="698328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BB60C-6C2B-49ED-AD83-C7BE70A3B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824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496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7152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824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0496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E58DF-6BE8-468F-A7D9-BF252F730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8D82C-6980-4F75-8881-010A73DF6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E2F4D-7BDA-4FFA-B4F0-A264F8463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600" y="600120"/>
            <a:ext cx="698328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0281F-ACFC-4BB5-84EC-B893C2E16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0BA1F-84C2-4630-A31E-A3422F689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10625-7BED-46C6-A4DA-6C57B16A4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FE6BA-D2A2-4ABE-A5C8-55652E63B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72600" y="6567120"/>
            <a:ext cx="72853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46600" y="6543360"/>
            <a:ext cx="67788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35F9-8093-497C-89B6-2821252EA07F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948280" y="88920"/>
            <a:ext cx="3081600" cy="75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360" y="275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280" y="77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720" y="1097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20" y="1762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080" y="24282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720" y="31978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720" y="3844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080" y="4394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0769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ahoma"/>
              </a:rPr>
              <a:t>Guidelines for Waterway Signs and Marking (Resolution No. 59) – Amendments' proposal</a:t>
            </a: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5638320"/>
            <a:ext cx="725184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SC.3/WP.3 38th Session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Geneva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16-18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February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201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48360" y="165240"/>
            <a:ext cx="3767040" cy="927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00200" y="3352680"/>
            <a:ext cx="5975280" cy="2265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1577880"/>
            <a:ext cx="5886360" cy="4919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85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Danube Commiss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12572-8BF6-4DF8-A3B5-EC728DCE94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2852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3300"/>
                </a:solidFill>
                <a:latin typeface="Tahoma"/>
                <a:ea typeface="Arial"/>
              </a:rPr>
              <a:t>Thank you for your attention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Arial"/>
              </a:rPr>
              <a:t>!!!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3645000"/>
            <a:ext cx="4535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Tahoma"/>
                <a:ea typeface="Arial"/>
              </a:rPr>
              <a:t>Željko Milković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Tahoma"/>
                <a:ea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4797360"/>
            <a:ext cx="38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4FDDE-8E62-41D4-8308-AEAA1213D1C1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xisting international regulation in Europ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Goals of the revis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Main chang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roposal for further actio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411D7-9817-4B78-BE0F-1D7C713165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Tahoma"/>
              </a:rPr>
              <a:t>Existing international regulations in Europe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UNECE Resolution 59 – Guidelines for waterway Signs and Marking, 2006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Instruction on posting of the waterway signs on the Danube, 2006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Rules for waterway marking on the Sava River Basin, 2007</a:t>
            </a:r>
            <a:r>
              <a:rPr b="0" lang="hr-HR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ny other?????????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BDF3-36C4-4F80-B628-A4D9FCC5E56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Goals of the revision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Unification of the existing regulations for all main European waterway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To set up more specific minimum requiremen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User friendly documen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2725D-087E-4C48-99F8-7387944A6E4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Main changes 1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38120">
              <a:lnSpc>
                <a:spcPct val="9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apter 1. – Genera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Obligation to post kilometer sig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apter 2. – Requirements to be met by signs and marks and the plan for their installa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Positioning taking into account current speed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dditional information in the installation pla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apter 3. – Visibility of signs and ligh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rmula for calculating signs dimensio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ome specifics about dimensions of the figures in the sig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inimum height of the lower rim of the sig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tensity for color light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361F1-73F0-4B98-B96C-8E0D1366894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Main changes 2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apter 4. – Installation of signs and marking in characteristic sections of the rive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dditional specifics about bank marks orientatio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dditional specifics about cross-channel fairway signs (examples of the some characteristic positioning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dditional specifics about shallow water mark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dditional characteristic examples of marking of the sections nearby the bridges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apter 5. – Image display techniqu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xamples are moved to the Annex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C495-B71D-4388-A7C4-1D810BF8C1B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Main changes 3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apter 6. – Installation of radar reflectors on marking signs and signal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No significant chang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ppendix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ore specific sketches and dimensions divided by the sign typ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ketches can be presented not only for types but for each sign specifically (Danube Commission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D719D-2807-4593-8DA1-634D956A4F9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Tahoma"/>
              </a:rPr>
              <a:t>Proposal for further actions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ecision on the concept (level of details, new concept of Appendix) – immediately??????????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w draft based on the decision – as soon as possib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mments on the content – before the next Session of the WP.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scussion on the next Session of the WP.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DD756-492D-40D7-8DA5-8925C01CC3D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1924200"/>
            <a:ext cx="3902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5" name="t1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238560" cy="300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1371600" y="1924200"/>
          <a:ext cx="6400800" cy="1193760"/>
        </p:xfrm>
        <a:graphic>
          <a:graphicData uri="http://schemas.openxmlformats.org/drawingml/2006/table">
            <a:tbl>
              <a:tblPr/>
              <a:tblGrid>
                <a:gridCol w="2498760"/>
                <a:gridCol w="390204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odes of the marking signs</a:t>
                      </a:r>
                      <a:br>
                        <a:rPr sz="1100"/>
                      </a:b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with the same size (120x100 cm)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.1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white strip 2.5cm: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.1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.5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.1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914400" y="9144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Sava commiss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5AD3D-448D-4A6C-B7C0-D60FC8E8F9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9:10:49Z</dcterms:created>
  <dc:creator>Tom Fitzpatrick</dc:creator>
  <dc:description/>
  <dc:language>en-US</dc:language>
  <cp:lastModifiedBy>Željko</cp:lastModifiedBy>
  <cp:lastPrinted>2002-01-29T09:36:43Z</cp:lastPrinted>
  <dcterms:modified xsi:type="dcterms:W3CDTF">2011-02-10T13:16:53Z</dcterms:modified>
  <cp:revision>698</cp:revision>
  <dc:subject/>
  <dc:title>Paper and Tutorial Presentation Template and Information</dc:title>
</cp:coreProperties>
</file>