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679939F-11DD-4E71-BF9A-B0107732B53F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7B456-CFCB-4669-B990-9C028CC198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309B5-9BB5-4EF7-809C-12396795E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17F3-5DE0-483D-95C3-4574A60AD0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2A785-3549-49DC-9C08-680A587CE7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B6035-9687-49BF-9D2D-0C19D26644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7FCC-BFCC-42D6-A756-244747769E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CC2AF-A853-47E3-86D6-C85FDE9825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CB99-6557-4346-8D63-840AC61B33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6903C-7763-4F5A-8BC7-F20548699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800F5-4E5C-49A3-9BDF-E8F3C1DF06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B811-56AB-4781-B9A3-7AAFA1C18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9B99C-8DD4-4BD6-93BC-590C4E8BB6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B826-20D4-4E31-985C-946792B725A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0769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Guidelines for Waterway Signs and Marking (Resolution No. 59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February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Danube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C6521-7489-4A17-9776-54521258B5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23AFC-9F24-45BB-B82E-FF564145CFE0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7FBC-6A1C-493C-992C-9A95D9B58C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UNECE Resolution 59 – Guidelines for waterway Signs and Marking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struction on posting of the waterway signs on the Danube, 2006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ules for waterway marking on the Sava River Basin, 2007</a:t>
            </a:r>
            <a:r>
              <a:rPr b="0" lang="hr-H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ny other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01431-2250-4308-96A9-5C99EFBA1F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To set up more specific minimum requir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User friendly documen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C21D9-30E5-4ACC-84D3-D7D5212FBCE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1. – Genera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Obligation to post kilometer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2. – Requirements to be met by signs and marks and the plan for their install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ositioning taking into account current speed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information in the installation pla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3. – Visibility of signs and ligh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rmula for calculating signs dimens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ome specifics about dimensions of the figures in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inimum height of the lower rim of the sign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ntensity for color light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0532B-9852-4278-B0D7-028006801DE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4. – Installation of signs and marking in characteristic sections of the river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bank marks orientation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cross-channel fairway signs (examples of the some characteristic positioning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specifics about shallow water marki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Additional characteristic examples of marking of the sections nearby the bridges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5. – Image display techniqu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xamples are moved to the Annex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C979-CF57-4BA3-BEB5-B7975FD9E3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hapter 6. – Installation of radar reflectors on marking signs and signa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No significant changes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ppendix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More specific sketches and dimensions divided by the sign typ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ketches can be presented not only for types but for each sign specifically (Danube Commissio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AA9DC-5DF8-43BE-B194-EEE19A46E00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cision on the concept (level of details, new concept of Appendix) – immediately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draft based on the decision – as soon as possibl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omments on the content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iscussion on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1AF54-82DB-4A97-83DD-F7BEDDFC750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odes of the marking signs</a:t>
                      </a:r>
                      <a:br>
                        <a:rPr sz="1100"/>
                      </a:b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ith the same size (120x100 cm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white strip 2.5cm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Sava commiss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C7CA2-DBD1-4AA6-946C-65F3F8EAB4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2-10T13:16:53Z</dcterms:modified>
  <cp:revision>698</cp:revision>
  <dc:subject/>
  <dc:title>Paper and Tutorial Presentation Template and Information</dc:title>
</cp:coreProperties>
</file>