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15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jpeg" ContentType="image/jpeg"/>
  <Override PartName="/ppt/media/image2.png" ContentType="image/png"/>
  <Override PartName="/ppt/media/image10.wmf" ContentType="image/x-wmf"/>
  <Override PartName="/ppt/media/image8.png" ContentType="image/pn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364F-E2F1-405E-AC3A-6BD7BCF2BF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17800" y="9435960"/>
            <a:ext cx="297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C4BA-DED3-4B1A-AE02-7C620526355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2960" y="762120"/>
            <a:ext cx="4970160" cy="37274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5480" y="4719240"/>
            <a:ext cx="4962600" cy="44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CC93-B643-4502-B8E1-DE06DADC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E0B5-B8B8-47A9-9A47-2A8C23A5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5A40-2AA0-4B5C-A4D5-03A6E996F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1471-9CC1-44C7-9E0B-346066F9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BD77-9045-4B2D-94C8-753AF89B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F039-A99A-410F-9EA3-04F1EA5D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466E-3ABC-4848-8BDF-39CDB5B9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FA19-9D44-4033-ABEE-38D69038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4194-7E41-419D-AB9A-528458BB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B40A-D527-4036-AD61-C351398C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EBA6-B1EC-40A6-84E4-F606E8DF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52A4-D6DC-4F65-BA64-BD75B8DC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6237000"/>
            <a:ext cx="2133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H" sz="12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02CD-6DFE-4FC5-846C-2471875C86F6}" type="slidenum">
              <a:rPr b="1" lang="fr-CH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395280" y="189000"/>
            <a:ext cx="1008000" cy="8683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1197000"/>
            <a:ext cx="9144000" cy="4876920"/>
          </a:xfrm>
          <a:prstGeom prst="roundRect">
            <a:avLst>
              <a:gd name="adj" fmla="val 1015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3274560" y="632340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UNECE Transport Di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468360" y="1197000"/>
            <a:ext cx="8280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395280" y="6093000"/>
            <a:ext cx="8280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3.wmf"/><Relationship Id="rId5" Type="http://schemas.openxmlformats.org/officeDocument/2006/relationships/image" Target="../media/image9.jpeg"/><Relationship Id="rId6" Type="http://schemas.openxmlformats.org/officeDocument/2006/relationships/image" Target="../media/image10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1341360"/>
            <a:ext cx="9144000" cy="4746600"/>
          </a:xfrm>
          <a:prstGeom prst="roundRect">
            <a:avLst>
              <a:gd name="adj" fmla="val 1015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17080" y="6308640"/>
            <a:ext cx="50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logo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008000" cy="8683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92360" y="189000"/>
            <a:ext cx="670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Рабочая группа по унификации технических предписаний и правил безопасности на внутренних водных путях</a:t>
            </a: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 (SC.3/WP.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9640" y="5562720"/>
            <a:ext cx="3025800" cy="380880"/>
          </a:xfrm>
          <a:prstGeom prst="roundRect">
            <a:avLst>
              <a:gd name="adj" fmla="val 40000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32000" y="1197000"/>
            <a:ext cx="5832720" cy="31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ункт</a:t>
            </a:r>
            <a:r>
              <a:rPr b="1" lang="fr-CH" sz="2400" spc="-1" strike="noStrike">
                <a:solidFill>
                  <a:srgbClr val="333399"/>
                </a:solidFill>
                <a:latin typeface="Arial"/>
              </a:rPr>
              <a:t>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Европейские правила судоходства по внутренним водным путям</a:t>
            </a: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ЕПСВВП</a:t>
            </a: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оверенные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огласованные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озрачные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авила внутреннего судоходства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Евро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5288040"/>
            <a:ext cx="41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16 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февраля</a:t>
            </a: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Жен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50920" y="1197000"/>
            <a:ext cx="3554280" cy="3957480"/>
            <a:chOff x="250920" y="1197000"/>
            <a:chExt cx="3554280" cy="3957480"/>
          </a:xfrm>
        </p:grpSpPr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1042920" y="2565360"/>
              <a:ext cx="1568520" cy="2157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2268360" y="1413000"/>
              <a:ext cx="1536840" cy="2157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250920" y="1197000"/>
              <a:ext cx="1544400" cy="21636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64" name="" descr=""/>
            <p:cNvPicPr/>
            <p:nvPr/>
          </p:nvPicPr>
          <p:blipFill>
            <a:blip r:embed="rId5"/>
            <a:stretch/>
          </p:blipFill>
          <p:spPr>
            <a:xfrm>
              <a:off x="611280" y="1628640"/>
              <a:ext cx="1673280" cy="2160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65" name="" descr=""/>
            <p:cNvPicPr/>
            <p:nvPr/>
          </p:nvPicPr>
          <p:blipFill>
            <a:blip r:embed="rId6"/>
            <a:stretch/>
          </p:blipFill>
          <p:spPr>
            <a:xfrm>
              <a:off x="2124000" y="2997360"/>
              <a:ext cx="1554120" cy="21571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A69D-CFCC-42B0-BFD0-0A1051629AAB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429264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2176560"/>
            <a:ext cx="6202440" cy="2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alibri"/>
              </a:rPr>
              <a:t>Решение</a:t>
            </a: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 19/10</a:t>
            </a:r>
            <a:r>
              <a:rPr b="1" lang="ru-RU" sz="2000" spc="-1" strike="noStrike">
                <a:solidFill>
                  <a:srgbClr val="333399"/>
                </a:solidFill>
                <a:latin typeface="Calibri"/>
              </a:rPr>
              <a:t> от </a:t>
            </a: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27</a:t>
            </a:r>
            <a:r>
              <a:rPr b="1" lang="ru-RU" sz="2000" spc="-1" strike="noStrike">
                <a:solidFill>
                  <a:srgbClr val="333399"/>
                </a:solidFill>
                <a:latin typeface="Calibri"/>
              </a:rPr>
              <a:t> октября</a:t>
            </a: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alibri"/>
              </a:rPr>
              <a:t>Структура</a:t>
            </a:r>
            <a:r>
              <a:rPr b="1" lang="en-US" sz="2000" spc="-1" strike="noStrike">
                <a:solidFill>
                  <a:srgbClr val="333399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I.   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Главы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 1-8 (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идентичны ЕПСВВП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II.  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Глава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 9 (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оставлена незаполненной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III. 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Глава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 10 (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идентична ЕПСВВП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IV. 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Глава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 11: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Дополнительные местные требования 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содержит определения водного пути, запрета на судоходство, размеров конвоя и т.д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A.  </a:t>
            </a:r>
            <a:r>
              <a:rPr b="0" lang="ru-RU" sz="1800" spc="-1" strike="noStrike">
                <a:solidFill>
                  <a:srgbClr val="333399"/>
                </a:solidFill>
                <a:latin typeface="Calibri"/>
              </a:rPr>
              <a:t>Сектор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 “</a:t>
            </a:r>
            <a:r>
              <a:rPr b="0" lang="ru-RU" sz="1800" spc="-1" strike="noStrike">
                <a:solidFill>
                  <a:srgbClr val="333399"/>
                </a:solidFill>
                <a:latin typeface="Calibri"/>
              </a:rPr>
              <a:t>Устье реки Сава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B.  </a:t>
            </a:r>
            <a:r>
              <a:rPr b="0" lang="ru-RU" sz="1800" spc="-1" strike="noStrike">
                <a:solidFill>
                  <a:srgbClr val="333399"/>
                </a:solidFill>
                <a:latin typeface="Calibri"/>
              </a:rPr>
              <a:t>Сектор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 “</a:t>
            </a:r>
            <a:r>
              <a:rPr b="0" lang="ru-RU" sz="1800" spc="-1" strike="noStrike">
                <a:solidFill>
                  <a:srgbClr val="333399"/>
                </a:solidFill>
                <a:latin typeface="Calibri"/>
              </a:rPr>
              <a:t>Верхняя Сава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48520" indent="-1940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C.  </a:t>
            </a:r>
            <a:r>
              <a:rPr b="0" lang="ru-RU" sz="1800" spc="-1" strike="noStrike">
                <a:solidFill>
                  <a:srgbClr val="333399"/>
                </a:solidFill>
                <a:latin typeface="Calibri"/>
              </a:rPr>
              <a:t>Сектор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 “</a:t>
            </a:r>
            <a:r>
              <a:rPr b="0" lang="ru-RU" sz="1800" spc="-1" strike="noStrike">
                <a:solidFill>
                  <a:srgbClr val="333399"/>
                </a:solidFill>
                <a:latin typeface="Calibri"/>
              </a:rPr>
              <a:t>Купа</a:t>
            </a:r>
            <a:r>
              <a:rPr b="0" lang="en-US" sz="1800" spc="-1" strike="noStrike">
                <a:solidFill>
                  <a:srgbClr val="333399"/>
                </a:solidFill>
                <a:latin typeface="Calibri"/>
              </a:rPr>
              <a:t>”</a:t>
            </a:r>
            <a:r>
              <a:rPr b="0" lang="fr-FR" sz="1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455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IV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менение ЕПСВВП, изд.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659640" y="2276640"/>
            <a:ext cx="2093760" cy="28796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1172880" y="1419120"/>
            <a:ext cx="725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МЕР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ИЛА СУДОХОДСТВА В БАССЕЙНЕ РЕКИ С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D307-D686-44BA-AB99-3BCD66395DE9}" type="slidenum">
              <a:t>10</a:t>
            </a:fld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236000" y="2565360"/>
            <a:ext cx="1554120" cy="215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455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V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ледующее пересмотренное издание</a:t>
            </a: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бласть действия и дорожная к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1268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09 -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24360" y="12682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80000" y="1844640"/>
            <a:ext cx="2879640" cy="62568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4360" y="1881360"/>
            <a:ext cx="2590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Национальные и региональные дополнительные треб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3500280"/>
            <a:ext cx="2808360" cy="709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3500280"/>
            <a:ext cx="252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Существенные поправки и обновления 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ЕПСВВП ЭГ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, WP.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2643120"/>
            <a:ext cx="2808360" cy="689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622600"/>
            <a:ext cx="252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Сбор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информации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для Главы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 9 (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секретариат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, 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ЕПСВВП ЭГ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, WP.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4524480"/>
            <a:ext cx="2808360" cy="689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4495680"/>
            <a:ext cx="252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Терминология ЕПСВВП и лингвистические улучшения 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секретариат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, 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РК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628640"/>
            <a:ext cx="2808360" cy="890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1628640"/>
            <a:ext cx="252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Согласование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/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Сравнение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на региональном и национальных уровнях 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РК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, M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9280" y="5300640"/>
            <a:ext cx="2808360" cy="509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5288040"/>
            <a:ext cx="266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ЕПСВВП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на НЕМЕЦКОМ язы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секретариат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, </a:t>
            </a:r>
            <a:r>
              <a:rPr b="1" lang="ru-RU" sz="1400" spc="-1" strike="noStrike">
                <a:solidFill>
                  <a:srgbClr val="333399"/>
                </a:solidFill>
                <a:latin typeface="Calibri"/>
              </a:rPr>
              <a:t>РК</a:t>
            </a:r>
            <a:r>
              <a:rPr b="1" lang="en-US" sz="1400" spc="-1" strike="noStrike">
                <a:solidFill>
                  <a:srgbClr val="333399"/>
                </a:solidFill>
                <a:latin typeface="Calibri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132000" y="2268360"/>
            <a:ext cx="540000" cy="8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32000" y="2989440"/>
            <a:ext cx="540000" cy="7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78200" y="4881600"/>
            <a:ext cx="2881440" cy="85248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780000" y="3548160"/>
            <a:ext cx="2879640" cy="31248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80000" y="350676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Обновленные Главы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1-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81440" y="2781360"/>
            <a:ext cx="2879640" cy="43812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25800" y="280656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бновленная Глава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80000" y="3992400"/>
            <a:ext cx="2879640" cy="314640"/>
          </a:xfrm>
          <a:prstGeom prst="rect">
            <a:avLst/>
          </a:prstGeom>
          <a:solidFill>
            <a:srgbClr val="ff0000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4360" y="39402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овая Глава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24360" y="4875120"/>
            <a:ext cx="25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Текст на английском, немецком, русском и французском язык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32000" y="4068720"/>
            <a:ext cx="540000" cy="7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132000" y="3708360"/>
            <a:ext cx="540000" cy="7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132000" y="5373720"/>
            <a:ext cx="540000" cy="7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32000" y="4941720"/>
            <a:ext cx="540000" cy="8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732720" y="3500280"/>
            <a:ext cx="43164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59640" y="5516640"/>
            <a:ext cx="2484360" cy="395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ятое пересмотренн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издание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нг, Нем., Рус., Фр.)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956720" y="3716280"/>
            <a:ext cx="71280" cy="16574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58BE-8C9E-490F-9BAC-F31E73AE9ED1}" type="slidenum">
              <a:t>11</a:t>
            </a:fld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UN"/>
          <p:cNvPicPr/>
          <p:nvPr/>
        </p:nvPicPr>
        <p:blipFill>
          <a:blip r:embed="rId1"/>
          <a:stretch/>
        </p:blipFill>
        <p:spPr>
          <a:xfrm>
            <a:off x="1332000" y="1484280"/>
            <a:ext cx="6840360" cy="40942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124000" y="2708280"/>
            <a:ext cx="5832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АСИБ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zhar.jaimurzina@unece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92360" y="26028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бочая группа по унификации технических предписаний и правил безопасности на внутренних водных путях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(SC.3/WP.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1A6A-D694-428E-8192-586D2CF369EA}" type="slidenum">
              <a:t>12</a:t>
            </a:fld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43920"/>
            <a:ext cx="76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ЕПСВВП</a:t>
            </a: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 –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оверенные</a:t>
            </a: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огласованные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 прозрачные правила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нутреннего судоходства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Европ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51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ЕПСВВП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цель и область дейст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51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Четвертое пересмотренное издание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: 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задачи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процесс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и результа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51"/>
              </a:spcBef>
              <a:buClr>
                <a:srgbClr val="ff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Глава 9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цель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и механиз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51"/>
              </a:spcBef>
              <a:buClr>
                <a:srgbClr val="ff0000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Применение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ЕПСВВП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изд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.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751"/>
              </a:spcBef>
              <a:buClr>
                <a:srgbClr val="ff0000"/>
              </a:buClr>
              <a:buFont typeface="Arial"/>
              <a:buAutoNum type="roman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Следующее пересмотренное издание</a:t>
            </a: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0" lang="ru-RU" sz="3000" spc="-1" strike="noStrike">
                <a:solidFill>
                  <a:srgbClr val="333399"/>
                </a:solidFill>
                <a:latin typeface="Arial"/>
              </a:rPr>
              <a:t>область действия и дорожная кар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1976-3B6F-4E78-9071-36774F5D7A98}" type="slidenum">
              <a:t>2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745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I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ЕПСВВП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ель и область действия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(1/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1413000"/>
            <a:ext cx="84978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Резолюция 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No. 4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, разработанная Подкомитетом по внутреннему водному транспорту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Правительствам и речным комиссиям рекомендуется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ересмотреть действующие правила судоходства по внутренним водным путям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, основываясь на следующих рекомендациях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комендация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Национальные правила должны состоять из двух частей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33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Часть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I :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оложения, содержащиеся в ЕПСВВП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333399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Часть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II: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специальные положения, необходимые ввиду местных особенностей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buClr>
                <a:srgbClr val="333399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Эти конкретные положения не должны расходиться с предписаниями ЕПСВВП, в том числе с теми предписаниями, которые могут быть опущены в первой ча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buClr>
                <a:srgbClr val="333399"/>
              </a:buClr>
              <a:buFont typeface="Arial"/>
              <a:buAutoNum type="alphaLcParenR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Кроме того, за исключением случаев наличия весьма особых местных условий, правительствам не следует вводить каких-либо ограничений, не предусмотренных в ЕПСВВП, в отношении вопросов, которые регламентируются положениями ЕПСВВП, и особенно в отношении систем сигнализации судов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комендация</a:t>
            </a: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 2</a:t>
            </a: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3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lang="ru-RU" sz="1200" spc="-1" strike="noStrike">
                <a:solidFill>
                  <a:srgbClr val="333399"/>
                </a:solidFill>
                <a:latin typeface="Arial"/>
              </a:rPr>
              <a:t> каждой стране первая часть правил должна быть по возможности одинаковой для всех внутренних водных путей страны, разве что характеристики различных сетей внутренних водных путей страны слишком различны</a:t>
            </a: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0D66-B155-4441-9D82-98F325E81230}" type="slidenum">
              <a:t>3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84000" y="1628280"/>
            <a:ext cx="821844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429264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1239840"/>
            <a:ext cx="8686800" cy="2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Упростить и прояснить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екст для того, чтобы предоставить судоводителям простой доступ к соответствующим правил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Снизить</a:t>
            </a: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личество возможных отклонений (сносок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спользовать новейшие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2200" spc="-1" strike="noStrike">
                <a:solidFill>
                  <a:srgbClr val="ff0000"/>
                </a:solidFill>
                <a:latin typeface="Calibri"/>
              </a:rPr>
              <a:t>передовую практику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, представленную Речными Комиссиями и странами-член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1331640" y="259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II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Четвертое пересмотренное издание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дачи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оцесс и результаты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(1/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724360" y="3860640"/>
            <a:ext cx="2880000" cy="215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2879640" cy="216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2843280" y="5229360"/>
            <a:ext cx="3241440" cy="936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ример из прошлого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Дунайская Комиссия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, 19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FA8A-FD42-4238-B538-956D48BD60C4}" type="slidenum">
              <a:t>4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4000" y="1628280"/>
            <a:ext cx="821844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29264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1239840"/>
            <a:ext cx="8686800" cy="2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це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Неформальная группа экспертов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(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РК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страны-члены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секретариат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): 7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встреч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в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2007-2009 +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встречи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SC.3/WP.3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и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специальные встречи в ЦКСР и ДК</a:t>
            </a: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13 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октября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 2008: </a:t>
            </a:r>
            <a:r>
              <a:rPr b="0" lang="ru-RU" sz="1700" spc="-1" strike="noStrike">
                <a:solidFill>
                  <a:srgbClr val="ff0000"/>
                </a:solidFill>
                <a:latin typeface="Times New Roman"/>
              </a:rPr>
              <a:t>Сравнение документов 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ЕПСВВП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, DFND, RPNR and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RNS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2008-2009: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            </a:t>
            </a:r>
            <a:r>
              <a:rPr b="0" lang="ru-RU" sz="1700" spc="-1" strike="noStrike">
                <a:solidFill>
                  <a:srgbClr val="ff0000"/>
                </a:solidFill>
                <a:latin typeface="Times New Roman"/>
              </a:rPr>
              <a:t>Разработка и финальная подготовка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 поправок 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(WP.3, 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ЦКСР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 ДК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КС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6 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ноября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 2009: 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0" lang="ru-RU" sz="1700" spc="-1" strike="noStrike">
                <a:solidFill>
                  <a:srgbClr val="ff0000"/>
                </a:solidFill>
                <a:latin typeface="Times New Roman"/>
              </a:rPr>
              <a:t>ЕПСВВП</a:t>
            </a:r>
            <a:r>
              <a:rPr b="0" lang="en-GB" sz="17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lang="ru-RU" sz="1700" spc="-1" strike="noStrike">
                <a:solidFill>
                  <a:srgbClr val="ff0000"/>
                </a:solidFill>
                <a:latin typeface="Times New Roman"/>
              </a:rPr>
              <a:t>четвертое пересмотренное издание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 принято </a:t>
            </a:r>
            <a:r>
              <a:rPr b="0" lang="en-GB" sz="1700" spc="-1" strike="noStrike">
                <a:solidFill>
                  <a:srgbClr val="333399"/>
                </a:solidFill>
                <a:latin typeface="Times New Roman"/>
              </a:rPr>
              <a:t>SC.3</a:t>
            </a:r>
            <a:r>
              <a:rPr b="0" lang="ru-RU" sz="17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24000" y="4581360"/>
            <a:ext cx="1720440" cy="1440000"/>
            <a:chOff x="324000" y="4581360"/>
            <a:chExt cx="1720440" cy="1440000"/>
          </a:xfrm>
        </p:grpSpPr>
        <p:pic>
          <p:nvPicPr>
            <p:cNvPr id="82" name="" descr=""/>
            <p:cNvPicPr/>
            <p:nvPr/>
          </p:nvPicPr>
          <p:blipFill>
            <a:blip r:embed="rId1"/>
            <a:srcRect l="0" t="7310" r="0" b="0"/>
            <a:stretch/>
          </p:blipFill>
          <p:spPr>
            <a:xfrm>
              <a:off x="1306440" y="4581360"/>
              <a:ext cx="738000" cy="870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3" name="" descr=""/>
            <p:cNvPicPr/>
            <p:nvPr/>
          </p:nvPicPr>
          <p:blipFill>
            <a:blip r:embed="rId2"/>
            <a:stretch/>
          </p:blipFill>
          <p:spPr>
            <a:xfrm>
              <a:off x="324000" y="4612320"/>
              <a:ext cx="787320" cy="940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4" name="" descr=""/>
            <p:cNvPicPr/>
            <p:nvPr/>
          </p:nvPicPr>
          <p:blipFill>
            <a:blip r:embed="rId3"/>
            <a:stretch/>
          </p:blipFill>
          <p:spPr>
            <a:xfrm>
              <a:off x="696600" y="4581360"/>
              <a:ext cx="726840" cy="9417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5" name="" descr=""/>
            <p:cNvPicPr/>
            <p:nvPr/>
          </p:nvPicPr>
          <p:blipFill>
            <a:blip r:embed="rId4"/>
            <a:stretch/>
          </p:blipFill>
          <p:spPr>
            <a:xfrm>
              <a:off x="425520" y="5082480"/>
              <a:ext cx="722880" cy="9388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86" name="" descr=""/>
            <p:cNvPicPr/>
            <p:nvPr/>
          </p:nvPicPr>
          <p:blipFill>
            <a:blip r:embed="rId5"/>
            <a:stretch/>
          </p:blipFill>
          <p:spPr>
            <a:xfrm>
              <a:off x="1136880" y="4800240"/>
              <a:ext cx="722880" cy="9403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3348000" y="4581360"/>
            <a:ext cx="2292480" cy="143856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2411280" y="5157720"/>
            <a:ext cx="505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84720" y="5229360"/>
            <a:ext cx="505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II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Четвертое пересмотренное издание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дачи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оцесс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результаты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(2/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6948360" y="4076640"/>
            <a:ext cx="1554120" cy="2157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75EF-B9F1-4493-9F53-DF75ECED348B}" type="slidenum">
              <a:t>5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429264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341360"/>
            <a:ext cx="584352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Упрощение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правил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класс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I and II,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гармонизированная терминология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Изменения,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основанные на опыте Р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Глава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9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по специальным региональным и национальным требова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Вопросник по ЕПСВВП и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статусный доку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Экспертная группа по ЕПСВВ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Октябрь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2010 (SC.3 54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-я сессия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):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Отчет о применении Речными Комиссиями и странами-членами (ДК, Нидерланды, Сербия, Словакия, Российская Федерац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II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Четвертое пересмотренное издание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дачи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оцесс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 результаты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 (3/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867280" y="1484280"/>
            <a:ext cx="2754360" cy="4464000"/>
            <a:chOff x="5867280" y="1484280"/>
            <a:chExt cx="2754360" cy="446400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5867280" y="1484280"/>
              <a:ext cx="1971720" cy="2878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6588000" y="3068640"/>
              <a:ext cx="2033640" cy="2879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F5B8-14D8-457D-9267-DF6FE7ED7CC4}" type="slidenum">
              <a:t>6</a:t>
            </a:fld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429264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00200"/>
            <a:ext cx="8218440" cy="2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ЕПСВВП</a:t>
            </a:r>
            <a:r>
              <a:rPr b="1" lang="fr-FR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изд</a:t>
            </a:r>
            <a:r>
              <a:rPr b="1" lang="fr-FR" sz="2000" spc="-1" strike="noStrike">
                <a:solidFill>
                  <a:srgbClr val="333399"/>
                </a:solidFill>
                <a:latin typeface="Times New Roman"/>
              </a:rPr>
              <a:t>.4 : « 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Правительства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могут исключить, дополнить или изменить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некоторые положения глав 1-8 ЕПСВВП, если этого требуют навигационные условия.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Список таких положений представлен в Главе 9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"Региональные и национальные особые предписания". 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Правительства предоставят информацию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о подобных различиях Рабочей группе по внутреннему водному транспорту (SC.3); 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Вопросник ЕПСВВ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</a:rPr>
              <a:t>Использование отклонений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</a:rPr>
              <a:t>Главе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</a:rPr>
              <a:t>Прочие отклон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99"/>
                </a:solidFill>
                <a:latin typeface="Times New Roman"/>
              </a:rPr>
              <a:t>Дополнительные полож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Уведомления по Главе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Обновления к Главе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</a:rPr>
              <a:t>Предложения по поправкам к ЕПСВВ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455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III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Глава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9: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цел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 механ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9640" y="4653000"/>
            <a:ext cx="0" cy="358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788000" y="3141720"/>
            <a:ext cx="3952800" cy="3166920"/>
            <a:chOff x="4788000" y="3141720"/>
            <a:chExt cx="3952800" cy="316692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4788000" y="3141720"/>
              <a:ext cx="2238120" cy="28782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6516720" y="3429000"/>
              <a:ext cx="2224080" cy="2879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5825-9104-49B6-A028-A766461DABB8}" type="slidenum">
              <a:t>7</a:t>
            </a:fld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429264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600200"/>
            <a:ext cx="8218440" cy="2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1000"/>
          </a:bodyPr>
          <a:p>
            <a:pPr marL="371520" indent="-3715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СНОВНЫЕ ПРИНЦИ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32544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325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1.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ГАРМОНИЗИРОВАТЬ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как можно больше, используя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ЕПСВВП, изд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325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325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2.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СОХРАНЯТЬ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структуру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и номера статей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 (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используя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 “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оставлено незаполненным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”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, если не применяется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325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325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3.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Если обнаружено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отклонение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от Глав 1-8 ЕПСВВП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, 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и данное исключение должно быть сохранено для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безопасностью судоходства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325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- 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Если отклонение предусматривается в Главе 9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,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СООБЩИТЬ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 SC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6640" indent="-278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- 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 Если отклонение не предусматривается в Главе 9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,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ПРЕДЛОЖИТЬ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включить его в Главу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6640" indent="-2786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325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4. 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ПЕРЕЧИСЛИТЬ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дополнительные требования, которые должны быть собраны в общей базе данных по национальным и региональным требованиям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. 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325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325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5. 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ИСПОЛЬЗОВАТЬ ГЛАВУ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 9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в национальных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/</a:t>
            </a:r>
            <a:r>
              <a:rPr b="0" lang="ru-RU" sz="1600" spc="-1" strike="noStrike">
                <a:solidFill>
                  <a:srgbClr val="333399"/>
                </a:solidFill>
                <a:latin typeface="Calibri"/>
              </a:rPr>
              <a:t>региональных правилах для перечисления всех положений, которые отличаются от ЕПСВВП</a:t>
            </a:r>
            <a:r>
              <a:rPr b="0" lang="en-US" sz="1600" spc="-1" strike="noStrike">
                <a:solidFill>
                  <a:srgbClr val="333399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36640" indent="-2786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36640" indent="-2786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4080" indent="-3254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Calibri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455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IV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менение ЕПСВВП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из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2781-7B25-4E7B-A219-BCE14945B7AF}" type="slidenum">
              <a:t>8</a:t>
            </a:fld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1844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4292640"/>
            <a:ext cx="83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00200"/>
            <a:ext cx="8686800" cy="29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БРАЗЕЦ СТРУКТУРЫ ДЛЯ ПРАВ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ЕПСВВП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Резолюция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No.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Часть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I: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бщие правила для всех водных пу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-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Главы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 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-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Глава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 9 (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перечень отклонений от ЕПСВВП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Главы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 1-8,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если наличествуют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-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Глава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Часть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II: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Местные правила и особ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- 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Только если требуется для безопасности судохо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- 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Согласованны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с ЕПСВВ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alibri"/>
              </a:rPr>
              <a:t>- </a:t>
            </a:r>
            <a:r>
              <a:rPr b="0" lang="en-GB" sz="20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Calibri"/>
              </a:rPr>
              <a:t>По проблемам, к которым применяются ЕПСВВП (маркировка судов), без дополнительных обязательств в отсутствии специальных местных услов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08480" indent="-1414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60440" indent="-17712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4558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Times New Roman"/>
              </a:rPr>
              <a:t>IV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менение ЕПСВВП, изд.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A957-2F3E-4710-9FF5-80CDD890A2F5}" type="slidenum">
              <a:t>9</a:t>
            </a:fld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8:36:27Z</dcterms:created>
  <dc:creator>Michalis Adamantiadis</dc:creator>
  <dc:description/>
  <dc:language>en-US</dc:language>
  <cp:lastModifiedBy>Jaimurzina</cp:lastModifiedBy>
  <dcterms:modified xsi:type="dcterms:W3CDTF">2011-02-15T17:03:11Z</dcterms:modified>
  <cp:revision>817</cp:revision>
  <dc:subject/>
  <dc:title>Slide 1</dc:title>
</cp:coreProperties>
</file>