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8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71B6-5B6E-4A9D-907E-8BDE63B33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17800" y="9435960"/>
            <a:ext cx="29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388E-30D1-4CAE-B321-79A3BF54D2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2960" y="76212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5480" y="4719240"/>
            <a:ext cx="496260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E8D-8148-48E7-BC89-A8106F97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B01-E9A3-48E5-9189-609E2B8E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2A7-7E2C-4370-A3E3-B561D65E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CEF-BF94-4342-8814-E5C2C2D6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43F-FC16-4716-A331-BFB470D9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278-3720-4271-A274-CD266734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E00-03CF-4B06-AD8E-3A7733D0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9B7-DB49-4CEB-9090-0AB2B57E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D65-4F11-490D-BE86-E880C8F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46C-1528-4D6C-A3B4-8F3A09A3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A27-6F45-4EE8-98B4-696613A4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B55-9A1D-4944-B630-663AAB38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37000"/>
            <a:ext cx="213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0460-C826-4946-9ACC-6FA5F6B2EDE3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1970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4560" y="632340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UNECE Transpor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logo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8900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бочая группа по унификации технических предписаний и правил безопасности на внутренних водных путях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(SC.3/WP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197000"/>
            <a:ext cx="58327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нкт</a:t>
            </a: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Европейские правила судоходства по внутренним водным путям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е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гласова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зрач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вила внутреннего судоходств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528804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16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евраля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Ж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50920" y="1197000"/>
            <a:ext cx="3554280" cy="3957480"/>
            <a:chOff x="250920" y="1197000"/>
            <a:chExt cx="3554280" cy="39574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042920" y="2565360"/>
              <a:ext cx="1568520" cy="215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268360" y="1413000"/>
              <a:ext cx="1536840" cy="215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50920" y="1197000"/>
              <a:ext cx="1544400" cy="2163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611280" y="1628640"/>
              <a:ext cx="1673280" cy="216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2124000" y="2997360"/>
              <a:ext cx="1554120" cy="215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684-5CAC-4625-9943-67DD7188E12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176560"/>
            <a:ext cx="6202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Решение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19/10</a:t>
            </a: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 от 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27</a:t>
            </a: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 октября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Структура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.  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идентичны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I. 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оставлена незаполненной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II.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0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идентична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V.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1: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Дополнительные местные требования 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одержит определения водного пути, запрета на судоходство, размеров конвоя и т.д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A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Устье реки Сав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B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Верхняя Сав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C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Куп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”</a:t>
            </a:r>
            <a:r>
              <a:rPr b="0" lang="fr-FR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, изд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09376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172880" y="1419120"/>
            <a:ext cx="72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СУДОХОДСТВА В БАССЕЙНЕ РЕКИ С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D12-6E71-4C55-A74A-BD8A5B5E1BDB}" type="slidenum">
              <a:t>10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6000" y="2565360"/>
            <a:ext cx="1554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едующее пересмотренное издание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ласть действия и дорожн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9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844640"/>
            <a:ext cx="2879640" cy="6256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1881360"/>
            <a:ext cx="259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Национальные и региональные дополнительные 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500280"/>
            <a:ext cx="2808360" cy="70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50028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ущественные поправки и обновления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 ЭГ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WP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643120"/>
            <a:ext cx="2808360" cy="68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2260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бор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информации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для Главы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 ЭГ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WP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524480"/>
            <a:ext cx="2808360" cy="68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49568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Терминология ЕПСВВП и лингвистические улучшения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628640"/>
            <a:ext cx="2808360" cy="89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25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огласование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/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равнение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на региональном и национальных уровнях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300640"/>
            <a:ext cx="2808360" cy="50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288040"/>
            <a:ext cx="26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на НЕМЕЦКОМ язы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2268360"/>
            <a:ext cx="540000" cy="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298944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78200" y="4881600"/>
            <a:ext cx="2881440" cy="8524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3548160"/>
            <a:ext cx="2879640" cy="3124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35067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новленные Главы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1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1440" y="2781360"/>
            <a:ext cx="2879640" cy="4381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5800" y="28065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новленная Глав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992400"/>
            <a:ext cx="2879640" cy="31464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940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овая Глав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487512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кст на английском, немецком, русском и французском язы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406872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370836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37372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4941720"/>
            <a:ext cx="540000" cy="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350028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5516640"/>
            <a:ext cx="2484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ересмотр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дани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г, Нем., Рус., Фр.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956720" y="3716280"/>
            <a:ext cx="71280" cy="165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82B-6C3E-40D2-B937-9E1EAB1DDD2F}" type="slidenum">
              <a:t>11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094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24000" y="2708280"/>
            <a:ext cx="58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zhar.jaimurzina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2602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чая группа по унификации технических предписаний и правил безопасности на внутренних водных путя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SC.3/WP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DC4-FD30-45E4-8BA8-B03F5DAFDA54}" type="slidenum">
              <a:t>12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439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енные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гласова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озрачные правил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нутреннего судоходств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ЕПСВВП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цель и область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Четвертое пересмотренное издание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процесс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 результ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Глава 9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цель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 механиз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менение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ЕПСВВП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зд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ледующее пересмотренное издание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область действия и дорож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35F-5740-4497-BBFE-F4F4F11614FC}" type="slidenum">
              <a:t>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 и область действия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1/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41300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Резолюция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No. 4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, разработанная Подкомитетом по внутреннему водному транспорту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равительствам и речным комиссиям рекомендуется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мотреть действующие правила судоходства по внутренним водным путям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, основываясь на следующих рекомендациях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я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циональные правила должны состоять из двух частей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асть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 :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ложения, содержащиеся в ЕПСВВП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асть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I: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ециальные положения, необходимые ввиду местных особенностей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buClr>
                <a:srgbClr val="333399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ти конкретные положения не должны расходиться с предписаниями ЕПСВВП, в том числе с теми предписаниями, которые могут быть опущены в перв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buClr>
                <a:srgbClr val="333399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Кроме того, за исключением случаев наличия весьма особых местных условий, правительствам не следует вводить каких-либо ограничений, не предусмотренных в ЕПСВВП, в отношении вопросов, которые регламентируются положениями ЕПСВВП, и особенно в отношении систем сигнализации судов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я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2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каждой стране первая часть правил должна быть по возможности одинаковой для всех внутренних водных путей страны, разве что характеристики различных сетей внутренних водных путей страны слишком различны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CB4-FC3E-4CD1-B628-B95BE3489DA5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23984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Упростить и проясни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кст для того, чтобы предоставить судоводителям простой доступ к соответствующим правил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Снизить</a:t>
            </a: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ичество возможных отклонений (снос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ть новейшие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передовую практику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едставленную Речными Комиссиями и странами-член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31640" y="259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 и 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1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88000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28796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843280" y="5229360"/>
            <a:ext cx="32414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мер из прошлого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унайская Комисс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1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B4A-A4BD-4171-9C1E-F9877D16B648}" type="slidenum">
              <a:t>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23984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Неформальная группа экспертов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К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страны-члены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екретариат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: 7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стреч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2007-2009 +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стречи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SC.3/WP.3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и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пециальные встречи в ЦКСР и ДК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13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октября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 2008: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Сравнение документов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 DFND, RPNR and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RNS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2008-2009: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Разработка и финальная подготовка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поправок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(WP.3,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ЦКСР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ДК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КС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6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ноября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 2009: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принято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SC.3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4581360"/>
            <a:ext cx="1720440" cy="1440000"/>
            <a:chOff x="324000" y="4581360"/>
            <a:chExt cx="1720440" cy="1440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rcRect l="0" t="7310" r="0" b="0"/>
            <a:stretch/>
          </p:blipFill>
          <p:spPr>
            <a:xfrm>
              <a:off x="1306440" y="4581360"/>
              <a:ext cx="738000" cy="87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24000" y="4612320"/>
              <a:ext cx="787320" cy="94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696600" y="4581360"/>
              <a:ext cx="726840" cy="941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425520" y="5082480"/>
              <a:ext cx="722880" cy="938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1136880" y="4800240"/>
              <a:ext cx="722880" cy="94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348000" y="4581360"/>
            <a:ext cx="2292480" cy="1438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522936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2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948360" y="4076640"/>
            <a:ext cx="1554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CEB-6A97-41D3-BEB0-84B94418256D}" type="slidenum">
              <a:t>5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41360"/>
            <a:ext cx="58435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прощение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авил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клас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 and II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гармонизированная терминолог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зменения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снованные на опыте 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 специальным региональным и национальным треб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опросник по ЕПСВВП и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татусн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Экспертная группа по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ктябрь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2010 (SC.3 54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-я сессия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тчет о применении Речными Комиссиями и странами-членами (ДК, Нидерланды, Сербия, Словакия, Российская Феде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3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867280" y="1484280"/>
            <a:ext cx="2754360" cy="4464000"/>
            <a:chOff x="5867280" y="1484280"/>
            <a:chExt cx="2754360" cy="44640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867280" y="1484280"/>
              <a:ext cx="1971720" cy="287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588000" y="3068640"/>
              <a:ext cx="2033640" cy="28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B19-6202-4CAC-9523-A10A2AE230FE}" type="slidenum">
              <a:t>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18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зд</a:t>
            </a: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.4 : « 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авительств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огут исключить, дополнить или изменить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некоторые положения глав 1-8 ЕПСВВП, если этого требуют навигационные условия.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писок таких положений представлен в Главе 9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"Региональные и национальные особые предписания".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авительства предоставят информацию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 подобных различиях Рабочей группе по внутреннему водному транспорту (SC.3);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опросник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Использование отклонений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Прочие откло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Дополнительны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ведомления по 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бновления к 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редложения по поправкам к ЕПС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9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мех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4653000"/>
            <a:ext cx="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88000" y="3141720"/>
            <a:ext cx="3952800" cy="3166920"/>
            <a:chOff x="4788000" y="3141720"/>
            <a:chExt cx="3952800" cy="31669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788000" y="3141720"/>
              <a:ext cx="2238120" cy="287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516720" y="3429000"/>
              <a:ext cx="2224080" cy="28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537-98A7-4857-B42B-8448F8707DE1}" type="slidenum">
              <a:t>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18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371520" indent="-371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ГАРМОНИЗИРОВАТЬ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как можно больше, использу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ПСВВП, изд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ОХРАНЯ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структуру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 номера статей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спользу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оставлено незаполненным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”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, если не применяетс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сли обнаружен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отклонение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от Глав 1-8 ЕПСВВП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 данное исключение должно быть сохранено для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безопасностью судоходства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сли отклонение предусматривается в Главе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ООБЩИТЬ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SC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 Если отклонение не предусматривается в Главе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ЕДЛОЖИ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включить его в Главу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4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ЕРЕЧИСЛИ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дополнительные требования, которые должны быть собраны в общей базе данных по национальным и региональным требованиям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5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ИСПОЛЬЗОВАТЬ ГЛАВУ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в национальных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гиональных правилах для перечисления всех положений, которые отличаются от ЕПСВВП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EB4-C927-4AFF-85F7-056CE45863C7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РАЗЕЦ СТРУКТУРЫ ДЛЯ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ЕПСВВП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езолюция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o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сть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I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щие правила для всех водных пу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еречень отклонений от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,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если наличествуют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сть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II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естные правила и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Только если требуется для безопасности судох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огласованн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о проблемам, к которым применяются ЕПСВВП (маркировка судов), без дополнительных обязательств в отсутствии специальных местны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, изд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6CA-8008-49E0-905D-C91FBE5FF80A}" type="slidenum">
              <a:t>9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36:27Z</dcterms:created>
  <dc:creator>Michalis Adamantiadis</dc:creator>
  <dc:description/>
  <dc:language>en-US</dc:language>
  <cp:lastModifiedBy>Jaimurzina</cp:lastModifiedBy>
  <dcterms:modified xsi:type="dcterms:W3CDTF">2011-02-15T17:03:11Z</dcterms:modified>
  <cp:revision>817</cp:revision>
  <dc:subject/>
  <dc:title>Slide 1</dc:title>
</cp:coreProperties>
</file>