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e8783"/>
                </a:solidFill>
                <a:latin typeface="Syntax Bold"/>
              </a:rPr>
              <a:t>Click to move the slide</a:t>
            </a:r>
            <a:endParaRPr b="0" lang="en-US" sz="3600" spc="-1" strike="noStrike">
              <a:solidFill>
                <a:srgbClr val="2e8783"/>
              </a:solidFill>
              <a:latin typeface="Syntax Bold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sia K. Hacksteiner  - EB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302E-9DED-4CE6-940A-364BEC3FDC5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Page </a:t>
            </a:r>
            <a:fld id="{A6FE8A3F-8BC8-494A-9F5C-A46FD4342954}" type="slidenum">
              <a:rPr b="0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ijdelijke aanduiding voor voettekst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Theresia K. Hacksteiner  - EB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CE59-8DF4-4B72-96DF-FF0B01B79B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ijdelijke aanduiding voor voettekst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sia K. Hacksteiner  - EB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2B99-5EA3-4B8A-9D0F-E1839E587E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ijdelijke aanduiding voor voettekst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sia K. Hacksteiner  - EB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4C1B-8145-4A9D-AA39-4E8E683048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ijdelijke aanduiding voor voettekst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sia K. Hacksteiner  - EB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13C9-B8D3-46CB-B544-A2E4C70E8C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el Onderw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ten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ijdelijke aanduiding voor voettekst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sia K. Hacksteiner  - EB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A981-0F3B-4643-A36C-C8D42E1AAF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el Onderw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ten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ijdelijke aanduiding voor voettekst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sia K. Hacksteiner  - EB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902F-CA27-4EBB-B4B8-F9A87B52E6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el Onderw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ten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ijdelijke aanduiding voor voettekst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sia K. Hacksteiner  - EB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8037-9BA2-4B29-950D-423778D6B78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el Onderw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ten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ijdelijke aanduiding voor voettekst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sia K. Hacksteiner  - EB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9F75-0DEA-456D-A5A5-8720734E6C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el Onderw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ten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ijdelijke aanduiding voor voettekst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sia K. Hacksteiner  - EB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D2D5-8D3A-4C48-AFE4-CFEC8FDDE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5639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8783"/>
              </a:solidFill>
              <a:latin typeface="Syntax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6400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52280" y="3962160"/>
            <a:ext cx="6400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B904-AAD6-4934-BC13-44A95216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5639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8783"/>
              </a:solidFill>
              <a:latin typeface="Syntax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3123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2240" y="1295280"/>
            <a:ext cx="3123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2280" y="3962160"/>
            <a:ext cx="3123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32240" y="3962160"/>
            <a:ext cx="3123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737C-7BED-492A-9B3D-AE397C5C1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5639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8783"/>
              </a:solidFill>
              <a:latin typeface="Syntax 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206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316240" y="1295280"/>
            <a:ext cx="206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480560" y="1295280"/>
            <a:ext cx="206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52280" y="3962160"/>
            <a:ext cx="206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316240" y="3962160"/>
            <a:ext cx="206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480560" y="3962160"/>
            <a:ext cx="206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D4A9-A55C-4C61-9219-C1FD6B33D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5639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8783"/>
              </a:solidFill>
              <a:latin typeface="Syntax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52280" y="1295280"/>
            <a:ext cx="6400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A588-17FE-47F1-A1FA-0F814968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5639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8783"/>
              </a:solidFill>
              <a:latin typeface="Syntax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6400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D0E7-11A9-4F1F-AF55-F94155CE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5639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8783"/>
              </a:solidFill>
              <a:latin typeface="Syntax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3123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432240" y="1295280"/>
            <a:ext cx="3123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109C-CEA7-4245-94FB-CECB76AF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5639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8783"/>
              </a:solidFill>
              <a:latin typeface="Syntax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DF34-694A-4300-981E-A307AB49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5639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3C3A-48C0-4E00-BE4C-FB8B3ABE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5639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8783"/>
              </a:solidFill>
              <a:latin typeface="Syntax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3123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432240" y="1295280"/>
            <a:ext cx="3123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2280" y="3962160"/>
            <a:ext cx="3123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E29E-FF6C-4786-8F12-BE5DF399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5639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8783"/>
              </a:solidFill>
              <a:latin typeface="Syntax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3123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32240" y="1295280"/>
            <a:ext cx="3123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32240" y="3962160"/>
            <a:ext cx="3123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01A0-5654-4642-B0FA-A8874F84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5639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8783"/>
              </a:solidFill>
              <a:latin typeface="Syntax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3123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32240" y="1295280"/>
            <a:ext cx="3123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280" y="3962160"/>
            <a:ext cx="6400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C5CE-8453-4308-8CA4-BA96779A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jr\Bureaublad\ebu_presentatie\images\golven.bmp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0" y="2790720"/>
            <a:ext cx="9372600" cy="36100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5869080" y="-76320"/>
            <a:ext cx="3579840" cy="1690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151920" y="6476760"/>
            <a:ext cx="1600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752120" y="6476760"/>
            <a:ext cx="4800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534520" y="647676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583D-5CFF-4198-ACEC-BAD7D7CBEBAE}" type="slidenum">
              <a:rPr b="1" lang="en-GB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Object 7"/>
          <p:cNvGraphicFramePr/>
          <p:nvPr/>
        </p:nvGraphicFramePr>
        <p:xfrm>
          <a:off x="9360" y="2743200"/>
          <a:ext cx="9363240" cy="3657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360" y="2743200"/>
                    <a:ext cx="936324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Rectangle 8"/>
          <p:cNvSpPr/>
          <p:nvPr/>
        </p:nvSpPr>
        <p:spPr>
          <a:xfrm>
            <a:off x="6553080" y="1295280"/>
            <a:ext cx="2590920" cy="5105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152280" y="-360"/>
            <a:ext cx="5639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e8783"/>
                </a:solidFill>
                <a:latin typeface="Syntax Bold"/>
              </a:rPr>
              <a:t>Click to edit the title text format</a:t>
            </a:r>
            <a:endParaRPr b="0" lang="en-US" sz="3600" spc="-1" strike="noStrike">
              <a:solidFill>
                <a:srgbClr val="2e8783"/>
              </a:solidFill>
              <a:latin typeface="Syntax Bold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152280" y="1295280"/>
            <a:ext cx="6400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ntax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ntax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Syntax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ntax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Syntax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ntax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Syntax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ntax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Syntax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ntax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Syntax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ntax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Syntax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ntax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bu-uenf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51920" y="2571840"/>
            <a:ext cx="899172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3826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HITE PAPER AND 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3826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SUSTAINABLE INLAND WATER TRANSPORT IN EUROPE 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382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yntax Bold"/>
            </a:endParaRPr>
          </a:p>
          <a:p>
            <a:pPr marL="382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yntax Bold"/>
            </a:endParaRPr>
          </a:p>
          <a:p>
            <a:pPr marL="382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UNECE  16 FEBRUARY 2011</a:t>
            </a:r>
            <a:endParaRPr b="0" lang="en-US" sz="1600" spc="-1" strike="noStrike">
              <a:solidFill>
                <a:srgbClr val="000000"/>
              </a:solidFill>
              <a:latin typeface="Syntax Bold"/>
            </a:endParaRPr>
          </a:p>
          <a:p>
            <a:pPr marL="38268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sia K. Hacksteiner </a:t>
            </a:r>
            <a:endParaRPr b="0" lang="en-US" sz="1800" spc="-1" strike="noStrike">
              <a:solidFill>
                <a:srgbClr val="000000"/>
              </a:solidFill>
              <a:latin typeface="Syntax Bold"/>
            </a:endParaRPr>
          </a:p>
          <a:p>
            <a:pPr marL="38268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Secretary General EBU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Syntax Bold"/>
            </a:endParaRPr>
          </a:p>
          <a:p>
            <a:pPr marL="382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382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382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1143000" y="2857680"/>
            <a:ext cx="6024600" cy="3000240"/>
          </a:xfrm>
          <a:prstGeom prst="rect">
            <a:avLst/>
          </a:prstGeom>
          <a:ln w="0">
            <a:noFill/>
          </a:ln>
        </p:spPr>
      </p:pic>
      <p:sp>
        <p:nvSpPr>
          <p:cNvPr id="72" name="Tekstvak 3"/>
          <p:cNvSpPr/>
          <p:nvPr/>
        </p:nvSpPr>
        <p:spPr>
          <a:xfrm>
            <a:off x="792360" y="5786280"/>
            <a:ext cx="472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Gill Sans Ultra Bold Condensed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Gill Sans Ultra Bold Condensed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Gill Sans Ultra Bold Condensed"/>
              </a:rPr>
              <a:t>The 2020 course………………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1214280" y="2857680"/>
            <a:ext cx="5985000" cy="2857320"/>
          </a:xfrm>
          <a:prstGeom prst="rect">
            <a:avLst/>
          </a:prstGeom>
          <a:ln w="0">
            <a:noFill/>
          </a:ln>
        </p:spPr>
      </p:pic>
      <p:sp>
        <p:nvSpPr>
          <p:cNvPr id="74" name="Tekstvak 3"/>
          <p:cNvSpPr/>
          <p:nvPr/>
        </p:nvSpPr>
        <p:spPr>
          <a:xfrm>
            <a:off x="496080" y="5786280"/>
            <a:ext cx="6368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Gill Sans Ultra Bold Condensed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Gill Sans Ultra Bold Condensed"/>
              </a:rPr>
              <a:t>Or the costly and congested alternativ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51920" y="3047760"/>
            <a:ext cx="89917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Europäische Binnenschiffahrts Union (EBU) 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382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Union Européenne de la Navigation Fluviale (UENF) 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382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Europese Binnenvaart Unie (EBU)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382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Europe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rge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 Union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BU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382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382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ebu-uenf.or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382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e8783"/>
                </a:solidFill>
                <a:latin typeface="Arial"/>
              </a:rPr>
              <a:t>Members</a:t>
            </a:r>
            <a:endParaRPr b="0" lang="en-US" sz="4000" spc="-1" strike="noStrike">
              <a:solidFill>
                <a:srgbClr val="2e8783"/>
              </a:solidFill>
              <a:latin typeface="Syntax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2714400"/>
            <a:ext cx="914400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entraal Bureau voor de Rijn- en Binnenvaart (NL)</a:t>
            </a:r>
            <a:endParaRPr b="0" lang="en-US" sz="2000" spc="-1" strike="noStrike">
              <a:solidFill>
                <a:srgbClr val="000000"/>
              </a:solidFill>
              <a:latin typeface="Syntax Bol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ité des Armateurs Fluviaux (F)</a:t>
            </a:r>
            <a:endParaRPr b="0" lang="en-US" sz="2000" spc="-1" strike="noStrike">
              <a:solidFill>
                <a:srgbClr val="000000"/>
              </a:solidFill>
              <a:latin typeface="Syntax Bol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undesverband der Deutschen Binnenschifffahrt e.V. (D) </a:t>
            </a:r>
            <a:endParaRPr b="0" lang="en-US" sz="2000" spc="-1" strike="noStrike">
              <a:solidFill>
                <a:srgbClr val="000000"/>
              </a:solidFill>
              <a:latin typeface="Syntax Bol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ie der Continentale Vaart V.Z.W.  (B)</a:t>
            </a:r>
            <a:endParaRPr b="0" lang="en-US" sz="2000" spc="-1" strike="noStrike">
              <a:solidFill>
                <a:srgbClr val="000000"/>
              </a:solidFill>
              <a:latin typeface="Syntax Bol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weiz. Vereinigung für Schiffahrt und Hafenwirtschaft (CH)</a:t>
            </a:r>
            <a:endParaRPr b="0" lang="en-US" sz="2000" spc="-1" strike="noStrike">
              <a:solidFill>
                <a:srgbClr val="000000"/>
              </a:solidFill>
              <a:latin typeface="Syntax Bol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ie Schiffahrt” (A)</a:t>
            </a:r>
            <a:endParaRPr b="0" lang="en-US" sz="2000" spc="-1" strike="noStrike">
              <a:solidFill>
                <a:srgbClr val="000000"/>
              </a:solidFill>
              <a:latin typeface="Syntax Bol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ssociation des Maitres Bateliers des Régions de Liège (B)</a:t>
            </a:r>
            <a:endParaRPr b="0" lang="en-US" sz="2000" spc="-1" strike="noStrike">
              <a:solidFill>
                <a:srgbClr val="000000"/>
              </a:solidFill>
              <a:latin typeface="Syntax Bol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lg. Aktiecomité der Belgische Binnenscheepvaartorganisaties  V.Z.W. (B)</a:t>
            </a:r>
            <a:endParaRPr b="0" lang="en-US" sz="2000" spc="-1" strike="noStrike">
              <a:solidFill>
                <a:srgbClr val="000000"/>
              </a:solidFill>
              <a:latin typeface="Syntax Bol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VP-CZ (CZ) </a:t>
            </a:r>
            <a:endParaRPr b="0" lang="en-US" sz="2000" spc="-1" strike="noStrike">
              <a:solidFill>
                <a:srgbClr val="000000"/>
              </a:solidFill>
              <a:latin typeface="Syntax Bol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AOPF (RO) </a:t>
            </a:r>
            <a:endParaRPr b="0" lang="en-US" sz="2000" spc="-1" strike="noStrike">
              <a:solidFill>
                <a:srgbClr val="000000"/>
              </a:solidFill>
              <a:latin typeface="Syntax Bol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ntax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2e8783"/>
                </a:solidFill>
                <a:latin typeface="Syntax Bold"/>
              </a:rPr>
              <a:t>Aims </a:t>
            </a:r>
            <a:endParaRPr b="0" lang="en-US" sz="4000" spc="-1" strike="noStrike">
              <a:solidFill>
                <a:srgbClr val="2e8783"/>
              </a:solidFill>
              <a:latin typeface="Syntax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30477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74640" indent="-296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development of the European transport policy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674640" indent="-296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rovement of the economic position of  inland navigation 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674640" indent="-296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structured cooperation with national and international institutions 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674640" indent="-296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exchange of information and experience between the parties involved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67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2e8783"/>
                </a:solidFill>
                <a:latin typeface="Syntax Bold"/>
              </a:rPr>
              <a:t>Key-figures / Market</a:t>
            </a:r>
            <a:endParaRPr b="0" lang="en-US" sz="4000" spc="-1" strike="noStrike">
              <a:solidFill>
                <a:srgbClr val="2e8783"/>
              </a:solidFill>
              <a:latin typeface="Syntax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1920" y="2785680"/>
            <a:ext cx="8991720" cy="36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27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land Navigation in Europe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627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627120" indent="-27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0 billion t/km 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627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627120" indent="-27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0 million t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627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627120" indent="-27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,3 % of the total freight transport in EU-27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lvl="1" marL="114552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various Member States much higher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lgium and Germany 14 %Netherlands 44 % 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627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Syntax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304920" y="152280"/>
            <a:ext cx="5638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533520" y="1600200"/>
            <a:ext cx="830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56390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2e8783"/>
                </a:solidFill>
                <a:latin typeface="Syntax Bold"/>
              </a:rPr>
              <a:t>Key-figures / Market</a:t>
            </a:r>
            <a:endParaRPr b="0" lang="en-US" sz="4000" spc="-1" strike="noStrike">
              <a:solidFill>
                <a:srgbClr val="2e8783"/>
              </a:solidFill>
              <a:latin typeface="Syntax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6400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ntax Bol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Syntax Bol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ntax Bol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ntax Bold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ERFORMANCE BY FREIGHT TRANSPORT </a:t>
            </a:r>
            <a:endParaRPr b="0" lang="en-US" sz="2000" spc="-1" strike="noStrike">
              <a:solidFill>
                <a:srgbClr val="000000"/>
              </a:solidFill>
              <a:latin typeface="Syntax Bold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N THE EU 27 in 2006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Syntax Bol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3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IWT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SHAR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,3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Syntax Bol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COMPARED TO:</a:t>
            </a:r>
            <a:endParaRPr b="0" lang="en-US" sz="1800" spc="-1" strike="noStrike">
              <a:solidFill>
                <a:srgbClr val="000000"/>
              </a:solidFill>
              <a:latin typeface="Syntax Bold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Syntax Bold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7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%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ROAD</a:t>
            </a:r>
            <a:endParaRPr b="0" lang="en-US" sz="1800" spc="-1" strike="noStrike">
              <a:solidFill>
                <a:srgbClr val="000000"/>
              </a:solidFill>
              <a:latin typeface="Syntax Bold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16,7%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RAIL</a:t>
            </a:r>
            <a:endParaRPr b="0" lang="en-US" sz="1800" spc="-1" strike="noStrike">
              <a:solidFill>
                <a:srgbClr val="000000"/>
              </a:solidFill>
              <a:latin typeface="Syntax Bold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5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IPELINE</a:t>
            </a:r>
            <a:endParaRPr b="0" lang="en-US" sz="18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57120" y="6072120"/>
            <a:ext cx="764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nl-NL" sz="1600" spc="-1" strike="noStrike">
                <a:solidFill>
                  <a:srgbClr val="000000"/>
                </a:solidFill>
                <a:latin typeface="Syntax Bold"/>
              </a:rPr>
              <a:t>according to EU Energy and Transport in figures, statistical pocketbook 200</a:t>
            </a:r>
            <a:r>
              <a:rPr b="0" lang="en-US" sz="1600" spc="-1" strike="noStrike">
                <a:solidFill>
                  <a:srgbClr val="000000"/>
                </a:solidFill>
                <a:latin typeface="Syntax Bold"/>
              </a:rPr>
              <a:t>7/8</a:t>
            </a:r>
            <a:r>
              <a:rPr b="0" lang="nl-NL" sz="1600" spc="-1" strike="noStrike">
                <a:solidFill>
                  <a:srgbClr val="000000"/>
                </a:solidFill>
                <a:latin typeface="Syntax Bold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1294920"/>
            <a:ext cx="689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2e8783"/>
                </a:solidFill>
                <a:latin typeface="Syntax Bold"/>
              </a:rPr>
              <a:t>European transport policy</a:t>
            </a:r>
            <a:endParaRPr b="0" lang="en-US" sz="4000" spc="-1" strike="noStrike">
              <a:solidFill>
                <a:srgbClr val="2e8783"/>
              </a:solidFill>
              <a:latin typeface="Syntax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1920" y="2571840"/>
            <a:ext cx="899172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74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te Paper European Commission  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lvl="1" marL="981000" indent="-2649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uropean transportpolicy EC till 2010 </a:t>
            </a:r>
            <a:endParaRPr b="0" lang="en-US" sz="2000" spc="-1" strike="noStrike">
              <a:solidFill>
                <a:srgbClr val="000000"/>
              </a:solidFill>
              <a:latin typeface="Syntax Bold"/>
            </a:endParaRPr>
          </a:p>
          <a:p>
            <a:pPr lvl="1" marL="981000" indent="-2649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sion White Paper in 2011  </a:t>
            </a:r>
            <a:endParaRPr b="0" lang="en-US" sz="2000" spc="-1" strike="noStrike">
              <a:solidFill>
                <a:srgbClr val="000000"/>
              </a:solidFill>
              <a:latin typeface="Syntax Bold"/>
            </a:endParaRPr>
          </a:p>
          <a:p>
            <a:pPr marL="674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land Navigation Policy   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lvl="1" marL="981000" indent="-2649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unication EC NAIADES  </a:t>
            </a:r>
            <a:endParaRPr b="0" lang="en-US" sz="2000" spc="-1" strike="noStrike">
              <a:solidFill>
                <a:srgbClr val="000000"/>
              </a:solidFill>
              <a:latin typeface="Syntax Bold"/>
            </a:endParaRPr>
          </a:p>
          <a:p>
            <a:pPr lvl="1" marL="981000" indent="-2649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ation programme PLATINA  </a:t>
            </a:r>
            <a:endParaRPr b="0" lang="en-US" sz="2000" spc="-1" strike="noStrike">
              <a:solidFill>
                <a:srgbClr val="000000"/>
              </a:solidFill>
              <a:latin typeface="Syntax Bold"/>
            </a:endParaRPr>
          </a:p>
          <a:p>
            <a:pPr lvl="1" marL="981000" indent="-2649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IADES II </a:t>
            </a:r>
            <a:endParaRPr b="0" lang="en-US" sz="2000" spc="-1" strike="noStrike">
              <a:solidFill>
                <a:srgbClr val="000000"/>
              </a:solidFill>
              <a:latin typeface="Syntax Bold"/>
            </a:endParaRPr>
          </a:p>
          <a:p>
            <a:pPr marL="674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 Revision TEN-T Guidelines 2011  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Documents and Settings\jr\Bureaublad\ebu\eu_03.jpg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-360" y="2857320"/>
            <a:ext cx="89917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74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674640" indent="-296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1)     “SETTING THE COURSE” FOR IWT  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lvl="2" marL="1474920" indent="-297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WT on political national and  international agenda </a:t>
            </a:r>
            <a:endParaRPr b="0" lang="en-US" sz="1600" spc="-1" strike="noStrike">
              <a:solidFill>
                <a:srgbClr val="000000"/>
              </a:solidFill>
              <a:latin typeface="Syntax Bold"/>
            </a:endParaRPr>
          </a:p>
          <a:p>
            <a:pPr lvl="2" marL="1474920" indent="-297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RONG POSITIONING IN  NEW WHITE PAPER </a:t>
            </a:r>
            <a:endParaRPr b="0" lang="en-US" sz="1600" spc="-1" strike="noStrike">
              <a:solidFill>
                <a:srgbClr val="000000"/>
              </a:solidFill>
              <a:latin typeface="Syntax Bold"/>
            </a:endParaRPr>
          </a:p>
          <a:p>
            <a:pPr marL="674640" indent="-296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2)      NAIADES II with financial support 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674640" indent="-296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3)      INFRASTRUCTURE: IWT in core network 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674640" indent="-296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3)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ion of IW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70" name="Rectangle 1029"/>
          <p:cNvSpPr/>
          <p:nvPr/>
        </p:nvSpPr>
        <p:spPr>
          <a:xfrm>
            <a:off x="0" y="642960"/>
            <a:ext cx="5638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2e8783"/>
                </a:solidFill>
                <a:latin typeface="Syntax Bold"/>
              </a:rPr>
              <a:t>Future develop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3:51:36Z</dcterms:created>
  <dc:creator>jr</dc:creator>
  <dc:description/>
  <dc:language>en-US</dc:language>
  <cp:lastModifiedBy>R.Hacksteiner</cp:lastModifiedBy>
  <dcterms:modified xsi:type="dcterms:W3CDTF">2011-02-15T15:51:47Z</dcterms:modified>
  <cp:revision>90</cp:revision>
  <dc:subject/>
  <dc:title>EBU - Japan</dc:title>
</cp:coreProperties>
</file>