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move the slide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15D5-62B7-4CB8-867E-AB44AA1A67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ADEC9C65-F1B9-4671-827F-B25985D36FCB}" type="slidenum"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Arial"/>
              </a:rPr>
              <a:t>Theresia K. Hacksteiner  - EB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07EB9-8D99-4C3D-ABB4-4239FB3F7C5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D206-B756-4195-8934-7AEF110E214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1FDC-A1F2-4B34-B2FC-D9D41CA0BF5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E41C-0CB0-4CCA-AB5C-920CB427D07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A04F-F28C-47A5-82FA-B2C9220644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33A98-E06F-4904-9159-7F5EB0B4FA6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1CC1-2BDD-4B8D-87B9-20AEC295FF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AD7-2E40-4821-80C0-C87FEC8D0E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tel Onderw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ten 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ijdelijke aanduiding voor voettekst 4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sia K. Hacksteiner  - EB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965B-2033-4511-A69B-1FD32934B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B9C8-E0D4-47C6-8D1F-E73E33E7E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B9B-74E8-4EA7-9C4F-C0DC14907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31624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480560" y="129528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5228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31624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480560" y="3962160"/>
            <a:ext cx="2060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719-9A48-4563-BEA9-21E4D311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D044-4351-4209-9709-EEC9895FA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1603-12B6-4ED4-8775-27B2A7008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244C-D8D8-4C70-A765-7A98057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460-8C85-462D-B1C9-92EC7D3C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563904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19BE-ECEB-4252-A014-B33C4F55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DCF-7972-43CE-9EF1-B3A22657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32240" y="396216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AB8E-0B64-4E59-8DA6-5640CB67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32240" y="1295280"/>
            <a:ext cx="3123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52280" y="3962160"/>
            <a:ext cx="6400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86F-A153-4DB8-8A9E-63FC8771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jr\Bureaublad\ebu_presentatie\images\golven.bmp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0" y="2790720"/>
            <a:ext cx="9372600" cy="36100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5869080" y="-76320"/>
            <a:ext cx="3579840" cy="16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151920" y="6476760"/>
            <a:ext cx="1600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752120" y="6476760"/>
            <a:ext cx="4800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534520" y="64767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66F7-4A86-40E1-9C80-9432917CBA78}" type="slidenum">
              <a:rPr b="1" lang="en-GB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9360" y="2743200"/>
          <a:ext cx="9363240" cy="365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360" y="2743200"/>
                    <a:ext cx="936324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Rectangle 8"/>
          <p:cNvSpPr/>
          <p:nvPr/>
        </p:nvSpPr>
        <p:spPr>
          <a:xfrm>
            <a:off x="6553080" y="1295280"/>
            <a:ext cx="259092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152280" y="-360"/>
            <a:ext cx="56390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e8783"/>
                </a:solidFill>
                <a:latin typeface="Syntax Bold"/>
              </a:rPr>
              <a:t>Click to edit the title text format</a:t>
            </a:r>
            <a:endParaRPr b="0" lang="en-US" sz="36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Syntax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ntax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bu-uenf.org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2571840"/>
            <a:ext cx="899172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HITE PAPER AND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USTAINABLE INLAND WATER TRANSPORT IN EUROPE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UNECE  16 FEBRUARY 2011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sia K. Hacksteiner 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Secretary General EBU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1143000" y="2857680"/>
            <a:ext cx="6024600" cy="3000240"/>
          </a:xfrm>
          <a:prstGeom prst="rect">
            <a:avLst/>
          </a:prstGeom>
          <a:ln w="0">
            <a:noFill/>
          </a:ln>
        </p:spPr>
      </p:pic>
      <p:sp>
        <p:nvSpPr>
          <p:cNvPr id="72" name="Tekstvak 3"/>
          <p:cNvSpPr/>
          <p:nvPr/>
        </p:nvSpPr>
        <p:spPr>
          <a:xfrm>
            <a:off x="792360" y="5786280"/>
            <a:ext cx="47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The 2020 course………………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214280" y="2857680"/>
            <a:ext cx="5985000" cy="2857320"/>
          </a:xfrm>
          <a:prstGeom prst="rect">
            <a:avLst/>
          </a:prstGeom>
          <a:ln w="0">
            <a:noFill/>
          </a:ln>
        </p:spPr>
      </p:pic>
      <p:sp>
        <p:nvSpPr>
          <p:cNvPr id="74" name="Tekstvak 3"/>
          <p:cNvSpPr/>
          <p:nvPr/>
        </p:nvSpPr>
        <p:spPr>
          <a:xfrm>
            <a:off x="496080" y="5786280"/>
            <a:ext cx="636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Gill Sans Ultra Bold Condensed"/>
              </a:rPr>
              <a:t>Or the costly and congested alternativ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304776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äische Binnenschiffahrts Union (EBU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Union Européenne de la Navigation Fluviale (UENF)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se Binnenvaart Unie (EBU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0000"/>
                </a:solidFill>
                <a:latin typeface="Arial"/>
              </a:rPr>
              <a:t>Europe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rge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 Un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U</a:t>
            </a:r>
            <a:r>
              <a:rPr b="1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ebu-uenf.or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382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2e8783"/>
                </a:solidFill>
                <a:latin typeface="Arial"/>
              </a:rPr>
              <a:t>Members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714400"/>
            <a:ext cx="9144000" cy="39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entraal Bureau voor de Rijn- en Binnenvaart (NL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ité des Armateurs Fluviaux (F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ndesverband der Deutschen Binnenschifffahrt e.V. (D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e der Continentale Vaart V.Z.W. 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weiz. Vereinigung für Schiffahrt und Hafenwirtschaft (CH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ie Schiffahrt” (A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ssociation des Maitres Bateliers des Régions de Liège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lg. Aktiecomité der Belgische Binnenscheepvaartorganisaties  V.Z.W. (B)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VP-CZ (CZ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AOPF (RO)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Aims 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30477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development of the European transport policy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improvement of the economic position of  inland navigation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tructured cooperation with national and international institutions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exchange of information and experience between the parties involved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2785680"/>
            <a:ext cx="899172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in Europe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0 billion t/km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 million t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-27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,3 % of the total freight transport in EU-27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114552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various Member States much higher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gium and Germany 14 %Netherlands 44 %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27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15228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1600200"/>
            <a:ext cx="8305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563904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Key-figures / Market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ERFORMANCE BY FREIGHT TRANSPORT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 THE EU 27 in 2006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13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IW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SHARE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,3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PARED TO: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7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16,7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RAIL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5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IPELINE</a:t>
            </a:r>
            <a:endParaRPr b="0" lang="en-US" sz="18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57120" y="6072120"/>
            <a:ext cx="7643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according to EU Energy and Transport in figures, statistical pocketbook 200</a:t>
            </a:r>
            <a:r>
              <a:rPr b="0" lang="en-US" sz="1600" spc="-1" strike="noStrike">
                <a:solidFill>
                  <a:srgbClr val="000000"/>
                </a:solidFill>
                <a:latin typeface="Syntax Bold"/>
              </a:rPr>
              <a:t>7/8</a:t>
            </a:r>
            <a:r>
              <a:rPr b="0" lang="nl-NL" sz="1600" spc="-1" strike="noStrike">
                <a:solidFill>
                  <a:srgbClr val="000000"/>
                </a:solidFill>
                <a:latin typeface="Syntax Bold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689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European transport policy</a:t>
            </a:r>
            <a:endParaRPr b="0" lang="en-US" sz="4000" spc="-1" strike="noStrike">
              <a:solidFill>
                <a:srgbClr val="2e8783"/>
              </a:solidFill>
              <a:latin typeface="Syntax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1920" y="2571840"/>
            <a:ext cx="8991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te Paper European Commission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uropean transportpolicy EC till 2010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ion White Paper in 2011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land Navigation Policy 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cation EC NAIADES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ation programme PLATINA 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lvl="1" marL="981000" indent="-264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IADES II </a:t>
            </a:r>
            <a:endParaRPr b="0" lang="en-US" sz="20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 Revision TEN-T Guidelines 2011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C:\Documents and Settings\jr\Bureaublad\ebu\eu_03.jpg"/>
          <p:cNvPicPr/>
          <p:nvPr/>
        </p:nvPicPr>
        <p:blipFill>
          <a:blip r:embed="rId1"/>
          <a:stretch/>
        </p:blipFill>
        <p:spPr>
          <a:xfrm>
            <a:off x="0" y="135720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60" y="2857320"/>
            <a:ext cx="8991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74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1)     “SETTING THE COURSE” FOR IWT 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WT on political national and  international agenda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lvl="2" marL="1474920" indent="-297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TRONG POSITIONING IN  NEW WHITE PAPER </a:t>
            </a:r>
            <a:endParaRPr b="0" lang="en-US" sz="16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2)      NAIADES II with financial support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INFRASTRUCTURE: IWT in core network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  <a:p>
            <a:pPr marL="674640" indent="-296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3)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motion of IW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Syntax Bold"/>
            </a:endParaRPr>
          </a:p>
        </p:txBody>
      </p:sp>
      <p:sp>
        <p:nvSpPr>
          <p:cNvPr id="70" name="Rectangle 1029"/>
          <p:cNvSpPr/>
          <p:nvPr/>
        </p:nvSpPr>
        <p:spPr>
          <a:xfrm>
            <a:off x="0" y="642960"/>
            <a:ext cx="56386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2e8783"/>
                </a:solidFill>
                <a:latin typeface="Syntax Bold"/>
              </a:rPr>
              <a:t>Future develop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3:51:36Z</dcterms:created>
  <dc:creator>jr</dc:creator>
  <dc:description/>
  <dc:language>en-US</dc:language>
  <cp:lastModifiedBy>R.Hacksteiner</cp:lastModifiedBy>
  <dcterms:modified xsi:type="dcterms:W3CDTF">2011-02-15T15:51:47Z</dcterms:modified>
  <cp:revision>90</cp:revision>
  <dc:subject/>
  <dc:title>EBU - Japan</dc:title>
</cp:coreProperties>
</file>