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e8783"/>
                </a:solidFill>
                <a:latin typeface="Syntax Bold"/>
              </a:rPr>
              <a:t>Click to move the slide</a:t>
            </a:r>
            <a:endParaRPr b="0" lang="en-US" sz="3600" spc="-1" strike="noStrike">
              <a:solidFill>
                <a:srgbClr val="2e8783"/>
              </a:solidFill>
              <a:latin typeface="Syntax Bold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resia K. Hacksteiner  - EB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2A338-BC5E-4AD5-9BF3-31450FF191F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Arial"/>
              </a:rPr>
              <a:t>Page </a:t>
            </a:r>
            <a:fld id="{3941B97F-2AEA-4B20-AF63-342A2455CA9B}" type="slidenum">
              <a:rPr b="0" lang="en-GB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9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ijdelijke aanduiding voor voettekst 4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Arial"/>
              </a:rPr>
              <a:t>Theresia K. Hacksteiner  - EB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029FA-F25D-42BE-9CCE-E7BC67169C1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9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ijdelijke aanduiding voor voettekst 4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resia K. Hacksteiner  - EB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B7A71-42BB-4BCE-8C0E-78C41FEF58F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9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ijdelijke aanduiding voor voettekst 4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resia K. Hacksteiner  - EB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3E5F9-4DDF-4C1D-A28A-8EF7DC7975A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9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ijdelijke aanduiding voor voettekst 4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resia K. Hacksteiner  - EB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41C5F-6D7F-4AD7-8E6B-8C68D669190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4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tel Onderw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ten 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ijdelijke aanduiding voor voettekst 4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resia K. Hacksteiner  - EB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31CAF-9A7D-4B80-B46D-92E7F732215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4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tel Onderw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ten 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ijdelijke aanduiding voor voettekst 4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resia K. Hacksteiner  - EB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34560-538C-4E88-9A92-EB386486FAC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4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tel Onderw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ten 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ijdelijke aanduiding voor voettekst 4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resia K. Hacksteiner  - EB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47DED-44A1-4FD1-A6FA-8E2E743390B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4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tel Onderw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ten 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ijdelijke aanduiding voor voettekst 4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resia K. Hacksteiner  - EB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84B41-7006-4333-BABC-28748E2F15E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4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tel Onderw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ten 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ijdelijke aanduiding voor voettekst 4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resia K. Hacksteiner  - EB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FF2C-70B0-4394-9972-D2D468290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5639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8783"/>
              </a:solidFill>
              <a:latin typeface="Syntax Bol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6400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yntax Bol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52280" y="3962160"/>
            <a:ext cx="6400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yntax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FD63-4099-46C0-9789-D1CA615F3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5639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8783"/>
              </a:solidFill>
              <a:latin typeface="Syntax Bol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3123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yntax Bol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2240" y="1295280"/>
            <a:ext cx="3123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yntax Bol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52280" y="3962160"/>
            <a:ext cx="3123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yntax Bol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32240" y="3962160"/>
            <a:ext cx="3123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yntax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B851-1C0C-4EC7-896E-698673828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5639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8783"/>
              </a:solidFill>
              <a:latin typeface="Syntax Bold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206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yntax Bold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2316240" y="1295280"/>
            <a:ext cx="206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yntax Bold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480560" y="1295280"/>
            <a:ext cx="206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yntax Bold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52280" y="3962160"/>
            <a:ext cx="206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yntax Bold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2316240" y="3962160"/>
            <a:ext cx="206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yntax Bold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4480560" y="3962160"/>
            <a:ext cx="206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yntax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193D-3684-4ED4-9855-360462FEF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5639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8783"/>
              </a:solidFill>
              <a:latin typeface="Syntax Bol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52280" y="1295280"/>
            <a:ext cx="64008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yntax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7F20-597B-4AFF-9029-6819666B9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5639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8783"/>
              </a:solidFill>
              <a:latin typeface="Syntax 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6400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yntax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AC39-6B77-4B84-B72C-7032DB41C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5639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8783"/>
              </a:solidFill>
              <a:latin typeface="Syntax Bol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31233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yntax Bol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432240" y="1295280"/>
            <a:ext cx="31233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yntax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8574-8D65-4A02-BD51-D9FE5ED66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5639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8783"/>
              </a:solidFill>
              <a:latin typeface="Syntax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C5DA-85CB-4716-A7E6-2EF9C75D8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563904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yntax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1E31-0831-42CD-AC51-CED5E2B77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5639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8783"/>
              </a:solidFill>
              <a:latin typeface="Syntax Bol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3123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yntax Bol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432240" y="1295280"/>
            <a:ext cx="31233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yntax Bol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52280" y="3962160"/>
            <a:ext cx="3123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yntax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C435-97A6-4532-8AC3-531488761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5639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8783"/>
              </a:solidFill>
              <a:latin typeface="Syntax Bol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31233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yntax Bol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432240" y="1295280"/>
            <a:ext cx="3123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yntax Bol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32240" y="3962160"/>
            <a:ext cx="3123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yntax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58DB-7557-4768-BFCA-9A43BEDFB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5639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8783"/>
              </a:solidFill>
              <a:latin typeface="Syntax 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3123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yntax Bol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32240" y="1295280"/>
            <a:ext cx="3123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yntax Bol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52280" y="3962160"/>
            <a:ext cx="6400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yntax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8AEE-2572-4CED-89CA-CB3F9D746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:\Documents and Settings\jr\Bureaublad\ebu_presentatie\images\golven.bmp"/>
          <p:cNvPicPr/>
          <p:nvPr/>
        </p:nvPicPr>
        <p:blipFill>
          <a:blip r:embed="rId2">
            <a:alphaModFix amt="50000"/>
          </a:blip>
          <a:stretch/>
        </p:blipFill>
        <p:spPr>
          <a:xfrm>
            <a:off x="0" y="2790720"/>
            <a:ext cx="9372600" cy="361008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"/>
          <p:cNvPicPr/>
          <p:nvPr/>
        </p:nvPicPr>
        <p:blipFill>
          <a:blip r:embed="rId3"/>
          <a:stretch/>
        </p:blipFill>
        <p:spPr>
          <a:xfrm>
            <a:off x="5869080" y="-76320"/>
            <a:ext cx="3579840" cy="1690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151920" y="6476760"/>
            <a:ext cx="1600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1752120" y="6476760"/>
            <a:ext cx="4800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8534520" y="647676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25898-BCF5-492C-9648-1E61C7DB8EC5}" type="slidenum">
              <a:rPr b="1" lang="en-GB" sz="14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Object 7"/>
          <p:cNvGraphicFramePr/>
          <p:nvPr/>
        </p:nvGraphicFramePr>
        <p:xfrm>
          <a:off x="9360" y="2743200"/>
          <a:ext cx="9363240" cy="3657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" name="Object 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360" y="2743200"/>
                    <a:ext cx="936324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Rectangle 8"/>
          <p:cNvSpPr/>
          <p:nvPr/>
        </p:nvSpPr>
        <p:spPr>
          <a:xfrm>
            <a:off x="6553080" y="1295280"/>
            <a:ext cx="2590920" cy="51055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title"/>
          </p:nvPr>
        </p:nvSpPr>
        <p:spPr>
          <a:xfrm>
            <a:off x="152280" y="-360"/>
            <a:ext cx="5639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e8783"/>
                </a:solidFill>
                <a:latin typeface="Syntax Bold"/>
              </a:rPr>
              <a:t>Click to edit the title text format</a:t>
            </a:r>
            <a:endParaRPr b="0" lang="en-US" sz="3600" spc="-1" strike="noStrike">
              <a:solidFill>
                <a:srgbClr val="2e8783"/>
              </a:solidFill>
              <a:latin typeface="Syntax Bold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152280" y="1295280"/>
            <a:ext cx="6400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Syntax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ntax Bol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yntax Bol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Syntax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ntax Bol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yntax Bol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Syntax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ntax Bol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yntax Bol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Syntax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ntax Bol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yntax Bol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Syntax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ntax Bol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yntax Bol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Syntax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ntax Bol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yntax Bol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Syntax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ntax Bol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yntax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bu-uenf.org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51920" y="2571840"/>
            <a:ext cx="8991720" cy="38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2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ntax Bold"/>
            </a:endParaRPr>
          </a:p>
          <a:p>
            <a:pPr marL="3826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WHITE PAPER AND </a:t>
            </a:r>
            <a:endParaRPr b="0" lang="en-US" sz="2400" spc="-1" strike="noStrike">
              <a:solidFill>
                <a:srgbClr val="000000"/>
              </a:solidFill>
              <a:latin typeface="Syntax Bold"/>
            </a:endParaRPr>
          </a:p>
          <a:p>
            <a:pPr marL="3826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SUSTAINABLE INLAND WATER TRANSPORT IN EUROPE </a:t>
            </a:r>
            <a:endParaRPr b="0" lang="en-US" sz="2400" spc="-1" strike="noStrike">
              <a:solidFill>
                <a:srgbClr val="000000"/>
              </a:solidFill>
              <a:latin typeface="Syntax Bold"/>
            </a:endParaRPr>
          </a:p>
          <a:p>
            <a:pPr marL="3826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Syntax Bold"/>
            </a:endParaRPr>
          </a:p>
          <a:p>
            <a:pPr marL="3826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Syntax Bold"/>
            </a:endParaRPr>
          </a:p>
          <a:p>
            <a:pPr marL="3826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UNECE  16 FEBRUARY 2011</a:t>
            </a:r>
            <a:endParaRPr b="0" lang="en-US" sz="1600" spc="-1" strike="noStrike">
              <a:solidFill>
                <a:srgbClr val="000000"/>
              </a:solidFill>
              <a:latin typeface="Syntax Bold"/>
            </a:endParaRPr>
          </a:p>
          <a:p>
            <a:pPr marL="382680"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sia K. Hacksteiner </a:t>
            </a:r>
            <a:endParaRPr b="0" lang="en-US" sz="1800" spc="-1" strike="noStrike">
              <a:solidFill>
                <a:srgbClr val="000000"/>
              </a:solidFill>
              <a:latin typeface="Syntax Bold"/>
            </a:endParaRPr>
          </a:p>
          <a:p>
            <a:pPr marL="382680"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Secretary General EBU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Syntax Bold"/>
            </a:endParaRPr>
          </a:p>
          <a:p>
            <a:pPr marL="382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ntax Bold"/>
            </a:endParaRPr>
          </a:p>
          <a:p>
            <a:pPr marL="3826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ntax Bold"/>
            </a:endParaRPr>
          </a:p>
          <a:p>
            <a:pPr marL="382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ntax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3" descr=""/>
          <p:cNvPicPr/>
          <p:nvPr/>
        </p:nvPicPr>
        <p:blipFill>
          <a:blip r:embed="rId1"/>
          <a:stretch/>
        </p:blipFill>
        <p:spPr>
          <a:xfrm>
            <a:off x="1143000" y="2857680"/>
            <a:ext cx="6024600" cy="3000240"/>
          </a:xfrm>
          <a:prstGeom prst="rect">
            <a:avLst/>
          </a:prstGeom>
          <a:ln w="0">
            <a:noFill/>
          </a:ln>
        </p:spPr>
      </p:pic>
      <p:sp>
        <p:nvSpPr>
          <p:cNvPr id="72" name="Tekstvak 3"/>
          <p:cNvSpPr/>
          <p:nvPr/>
        </p:nvSpPr>
        <p:spPr>
          <a:xfrm>
            <a:off x="792360" y="5786280"/>
            <a:ext cx="4723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Gill Sans Ultra Bold Condensed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Gill Sans Ultra Bold Condensed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Gill Sans Ultra Bold Condensed"/>
              </a:rPr>
              <a:t>The 2020 course……………….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1214280" y="2857680"/>
            <a:ext cx="5985000" cy="2857320"/>
          </a:xfrm>
          <a:prstGeom prst="rect">
            <a:avLst/>
          </a:prstGeom>
          <a:ln w="0">
            <a:noFill/>
          </a:ln>
        </p:spPr>
      </p:pic>
      <p:sp>
        <p:nvSpPr>
          <p:cNvPr id="74" name="Tekstvak 3"/>
          <p:cNvSpPr/>
          <p:nvPr/>
        </p:nvSpPr>
        <p:spPr>
          <a:xfrm>
            <a:off x="496080" y="5786280"/>
            <a:ext cx="6368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Gill Sans Ultra Bold Condensed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Gill Sans Ultra Bold Condensed"/>
              </a:rPr>
              <a:t>Or the costly and congested alternative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51920" y="3047760"/>
            <a:ext cx="899172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26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Europäische Binnenschiffahrts Union (EBU) </a:t>
            </a:r>
            <a:endParaRPr b="0" lang="en-US" sz="2400" spc="-1" strike="noStrike">
              <a:solidFill>
                <a:srgbClr val="000000"/>
              </a:solidFill>
              <a:latin typeface="Syntax Bold"/>
            </a:endParaRPr>
          </a:p>
          <a:p>
            <a:pPr marL="3826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Union Européenne de la Navigation Fluviale (UENF) </a:t>
            </a:r>
            <a:endParaRPr b="0" lang="en-US" sz="2400" spc="-1" strike="noStrike">
              <a:solidFill>
                <a:srgbClr val="000000"/>
              </a:solidFill>
              <a:latin typeface="Syntax Bold"/>
            </a:endParaRPr>
          </a:p>
          <a:p>
            <a:pPr marL="3826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Europese Binnenvaart Unie (EBU)</a:t>
            </a:r>
            <a:endParaRPr b="0" lang="en-US" sz="2400" spc="-1" strike="noStrike">
              <a:solidFill>
                <a:srgbClr val="000000"/>
              </a:solidFill>
              <a:latin typeface="Syntax Bold"/>
            </a:endParaRPr>
          </a:p>
          <a:p>
            <a:pPr marL="3826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Europea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rge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 Union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BU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Syntax Bold"/>
            </a:endParaRPr>
          </a:p>
          <a:p>
            <a:pPr marL="3826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ntax Bold"/>
            </a:endParaRPr>
          </a:p>
          <a:p>
            <a:pPr marL="3826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www.ebu-uenf.or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Syntax Bold"/>
            </a:endParaRPr>
          </a:p>
          <a:p>
            <a:pPr marL="382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ntax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5181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2e8783"/>
                </a:solidFill>
                <a:latin typeface="Arial"/>
              </a:rPr>
              <a:t>Members</a:t>
            </a:r>
            <a:endParaRPr b="0" lang="en-US" sz="4000" spc="-1" strike="noStrike">
              <a:solidFill>
                <a:srgbClr val="2e8783"/>
              </a:solidFill>
              <a:latin typeface="Syntax Bol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2714400"/>
            <a:ext cx="9144000" cy="39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entraal Bureau voor de Rijn- en Binnenvaart (NL)</a:t>
            </a:r>
            <a:endParaRPr b="0" lang="en-US" sz="2000" spc="-1" strike="noStrike">
              <a:solidFill>
                <a:srgbClr val="000000"/>
              </a:solidFill>
              <a:latin typeface="Syntax Bold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omité des Armateurs Fluviaux (F)</a:t>
            </a:r>
            <a:endParaRPr b="0" lang="en-US" sz="2000" spc="-1" strike="noStrike">
              <a:solidFill>
                <a:srgbClr val="000000"/>
              </a:solidFill>
              <a:latin typeface="Syntax Bold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undesverband der Deutschen Binnenschifffahrt e.V. (D) </a:t>
            </a:r>
            <a:endParaRPr b="0" lang="en-US" sz="2000" spc="-1" strike="noStrike">
              <a:solidFill>
                <a:srgbClr val="000000"/>
              </a:solidFill>
              <a:latin typeface="Syntax Bold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Unie der Continentale Vaart V.Z.W.  (B)</a:t>
            </a:r>
            <a:endParaRPr b="0" lang="en-US" sz="2000" spc="-1" strike="noStrike">
              <a:solidFill>
                <a:srgbClr val="000000"/>
              </a:solidFill>
              <a:latin typeface="Syntax Bold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weiz. Vereinigung für Schiffahrt und Hafenwirtschaft (CH)</a:t>
            </a:r>
            <a:endParaRPr b="0" lang="en-US" sz="2000" spc="-1" strike="noStrike">
              <a:solidFill>
                <a:srgbClr val="000000"/>
              </a:solidFill>
              <a:latin typeface="Syntax Bold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ie Schiffahrt” (A)</a:t>
            </a:r>
            <a:endParaRPr b="0" lang="en-US" sz="2000" spc="-1" strike="noStrike">
              <a:solidFill>
                <a:srgbClr val="000000"/>
              </a:solidFill>
              <a:latin typeface="Syntax Bold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ssociation des Maitres Bateliers des Régions de Liège (B)</a:t>
            </a:r>
            <a:endParaRPr b="0" lang="en-US" sz="2000" spc="-1" strike="noStrike">
              <a:solidFill>
                <a:srgbClr val="000000"/>
              </a:solidFill>
              <a:latin typeface="Syntax Bold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lg. Aktiecomité der Belgische Binnenscheepvaartorganisaties  V.Z.W. (B)</a:t>
            </a:r>
            <a:endParaRPr b="0" lang="en-US" sz="2000" spc="-1" strike="noStrike">
              <a:solidFill>
                <a:srgbClr val="000000"/>
              </a:solidFill>
              <a:latin typeface="Syntax Bold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VP-CZ (CZ) </a:t>
            </a:r>
            <a:endParaRPr b="0" lang="en-US" sz="2000" spc="-1" strike="noStrike">
              <a:solidFill>
                <a:srgbClr val="000000"/>
              </a:solidFill>
              <a:latin typeface="Syntax Bold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AOPF (RO) </a:t>
            </a:r>
            <a:endParaRPr b="0" lang="en-US" sz="2000" spc="-1" strike="noStrike">
              <a:solidFill>
                <a:srgbClr val="000000"/>
              </a:solidFill>
              <a:latin typeface="Syntax Bol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Syntax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2e8783"/>
                </a:solidFill>
                <a:latin typeface="Syntax Bold"/>
              </a:rPr>
              <a:t>Aims </a:t>
            </a:r>
            <a:endParaRPr b="0" lang="en-US" sz="4000" spc="-1" strike="noStrike">
              <a:solidFill>
                <a:srgbClr val="2e8783"/>
              </a:solidFill>
              <a:latin typeface="Syntax Bol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30477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74640" indent="-296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development of the European transport policy</a:t>
            </a:r>
            <a:endParaRPr b="0" lang="en-US" sz="2400" spc="-1" strike="noStrike">
              <a:solidFill>
                <a:srgbClr val="000000"/>
              </a:solidFill>
              <a:latin typeface="Syntax Bold"/>
            </a:endParaRPr>
          </a:p>
          <a:p>
            <a:pPr marL="674640" indent="-296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improvement of the economic position of  inland navigation </a:t>
            </a:r>
            <a:endParaRPr b="0" lang="en-US" sz="2400" spc="-1" strike="noStrike">
              <a:solidFill>
                <a:srgbClr val="000000"/>
              </a:solidFill>
              <a:latin typeface="Syntax Bold"/>
            </a:endParaRPr>
          </a:p>
          <a:p>
            <a:pPr marL="674640" indent="-296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structured cooperation with national and international institutions </a:t>
            </a:r>
            <a:endParaRPr b="0" lang="en-US" sz="2400" spc="-1" strike="noStrike">
              <a:solidFill>
                <a:srgbClr val="000000"/>
              </a:solidFill>
              <a:latin typeface="Syntax Bold"/>
            </a:endParaRPr>
          </a:p>
          <a:p>
            <a:pPr marL="674640" indent="-296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exchange of information and experience between the parties involved</a:t>
            </a:r>
            <a:endParaRPr b="0" lang="en-US" sz="2400" spc="-1" strike="noStrike">
              <a:solidFill>
                <a:srgbClr val="000000"/>
              </a:solidFill>
              <a:latin typeface="Syntax Bold"/>
            </a:endParaRPr>
          </a:p>
          <a:p>
            <a:pPr marL="674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ntax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2e8783"/>
                </a:solidFill>
                <a:latin typeface="Syntax Bold"/>
              </a:rPr>
              <a:t>Key-figures / Market</a:t>
            </a:r>
            <a:endParaRPr b="0" lang="en-US" sz="4000" spc="-1" strike="noStrike">
              <a:solidFill>
                <a:srgbClr val="2e8783"/>
              </a:solidFill>
              <a:latin typeface="Syntax 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1920" y="2785680"/>
            <a:ext cx="8991720" cy="36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627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land Navigation in Europe</a:t>
            </a:r>
            <a:endParaRPr b="0" lang="en-US" sz="2400" spc="-1" strike="noStrike">
              <a:solidFill>
                <a:srgbClr val="000000"/>
              </a:solidFill>
              <a:latin typeface="Syntax Bold"/>
            </a:endParaRPr>
          </a:p>
          <a:p>
            <a:pPr marL="627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ntax Bold"/>
            </a:endParaRPr>
          </a:p>
          <a:p>
            <a:pPr marL="627120" indent="-27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30 billion t/km </a:t>
            </a:r>
            <a:endParaRPr b="0" lang="en-US" sz="2400" spc="-1" strike="noStrike">
              <a:solidFill>
                <a:srgbClr val="000000"/>
              </a:solidFill>
              <a:latin typeface="Syntax Bold"/>
            </a:endParaRPr>
          </a:p>
          <a:p>
            <a:pPr marL="627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ntax Bold"/>
            </a:endParaRPr>
          </a:p>
          <a:p>
            <a:pPr marL="627120" indent="-27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00 million t</a:t>
            </a:r>
            <a:endParaRPr b="0" lang="en-US" sz="2400" spc="-1" strike="noStrike">
              <a:solidFill>
                <a:srgbClr val="000000"/>
              </a:solidFill>
              <a:latin typeface="Syntax Bold"/>
            </a:endParaRPr>
          </a:p>
          <a:p>
            <a:pPr marL="627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ntax Bold"/>
            </a:endParaRPr>
          </a:p>
          <a:p>
            <a:pPr marL="627120" indent="-27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,3 % of the total freight transport in EU-27</a:t>
            </a:r>
            <a:endParaRPr b="0" lang="en-US" sz="2400" spc="-1" strike="noStrike">
              <a:solidFill>
                <a:srgbClr val="000000"/>
              </a:solidFill>
              <a:latin typeface="Syntax Bold"/>
            </a:endParaRPr>
          </a:p>
          <a:p>
            <a:pPr lvl="1" marL="114552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various Member States much higher: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lgium and Germany 14 %Netherlands 44 % </a:t>
            </a:r>
            <a:endParaRPr b="0" lang="en-US" sz="2400" spc="-1" strike="noStrike">
              <a:solidFill>
                <a:srgbClr val="000000"/>
              </a:solidFill>
              <a:latin typeface="Syntax Bold"/>
            </a:endParaRPr>
          </a:p>
          <a:p>
            <a:pPr marL="627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Syntax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304920" y="152280"/>
            <a:ext cx="56386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533520" y="1600200"/>
            <a:ext cx="8305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990720"/>
            <a:ext cx="563904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2e8783"/>
                </a:solidFill>
                <a:latin typeface="Syntax Bold"/>
              </a:rPr>
              <a:t>Key-figures / Market</a:t>
            </a:r>
            <a:endParaRPr b="0" lang="en-US" sz="4000" spc="-1" strike="noStrike">
              <a:solidFill>
                <a:srgbClr val="2e8783"/>
              </a:solidFill>
              <a:latin typeface="Syntax Bol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6400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Syntax Bol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Syntax Bol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Syntax Bol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Syntax Bold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PERFORMANCE BY FREIGHT TRANSPORT </a:t>
            </a:r>
            <a:endParaRPr b="0" lang="en-US" sz="2000" spc="-1" strike="noStrike">
              <a:solidFill>
                <a:srgbClr val="000000"/>
              </a:solidFill>
              <a:latin typeface="Syntax Bold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IN THE EU 27 in 2006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Syntax Bold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13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nl-NL" sz="1800" spc="-1" strike="noStrike">
                <a:solidFill>
                  <a:srgbClr val="000000"/>
                </a:solidFill>
                <a:latin typeface="Arial"/>
              </a:rPr>
              <a:t>IWT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 SHARE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,3 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Syntax Bold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COMPARED TO:</a:t>
            </a:r>
            <a:endParaRPr b="0" lang="en-US" sz="1800" spc="-1" strike="noStrike">
              <a:solidFill>
                <a:srgbClr val="000000"/>
              </a:solidFill>
              <a:latin typeface="Syntax Bold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Syntax Bold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7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7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 %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ROAD</a:t>
            </a:r>
            <a:endParaRPr b="0" lang="en-US" sz="1800" spc="-1" strike="noStrike">
              <a:solidFill>
                <a:srgbClr val="000000"/>
              </a:solidFill>
              <a:latin typeface="Syntax Bold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16,7%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RAIL</a:t>
            </a:r>
            <a:endParaRPr b="0" lang="en-US" sz="1800" spc="-1" strike="noStrike">
              <a:solidFill>
                <a:srgbClr val="000000"/>
              </a:solidFill>
              <a:latin typeface="Syntax Bold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5,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%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PIPELINE</a:t>
            </a:r>
            <a:endParaRPr b="0" lang="en-US" sz="1800" spc="-1" strike="noStrike">
              <a:solidFill>
                <a:srgbClr val="000000"/>
              </a:solidFill>
              <a:latin typeface="Syntax Bold"/>
            </a:endParaRPr>
          </a:p>
        </p:txBody>
      </p:sp>
      <p:sp>
        <p:nvSpPr>
          <p:cNvPr id="65" name="Rectangle 7"/>
          <p:cNvSpPr/>
          <p:nvPr/>
        </p:nvSpPr>
        <p:spPr>
          <a:xfrm>
            <a:off x="357120" y="6072120"/>
            <a:ext cx="7643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nl-NL" sz="1600" spc="-1" strike="noStrike">
                <a:solidFill>
                  <a:srgbClr val="000000"/>
                </a:solidFill>
                <a:latin typeface="Syntax Bold"/>
              </a:rPr>
              <a:t>according to EU Energy and Transport in figures, statistical pocketbook 200</a:t>
            </a:r>
            <a:r>
              <a:rPr b="0" lang="en-US" sz="1600" spc="-1" strike="noStrike">
                <a:solidFill>
                  <a:srgbClr val="000000"/>
                </a:solidFill>
                <a:latin typeface="Syntax Bold"/>
              </a:rPr>
              <a:t>7/8</a:t>
            </a:r>
            <a:r>
              <a:rPr b="0" lang="nl-NL" sz="1600" spc="-1" strike="noStrike">
                <a:solidFill>
                  <a:srgbClr val="000000"/>
                </a:solidFill>
                <a:latin typeface="Syntax Bold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1294920"/>
            <a:ext cx="6891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2e8783"/>
                </a:solidFill>
                <a:latin typeface="Syntax Bold"/>
              </a:rPr>
              <a:t>European transport policy</a:t>
            </a:r>
            <a:endParaRPr b="0" lang="en-US" sz="4000" spc="-1" strike="noStrike">
              <a:solidFill>
                <a:srgbClr val="2e8783"/>
              </a:solidFill>
              <a:latin typeface="Syntax Bol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1920" y="2571840"/>
            <a:ext cx="8991720" cy="40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746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ite Paper European Commission  </a:t>
            </a:r>
            <a:endParaRPr b="0" lang="en-US" sz="2400" spc="-1" strike="noStrike">
              <a:solidFill>
                <a:srgbClr val="000000"/>
              </a:solidFill>
              <a:latin typeface="Syntax Bold"/>
            </a:endParaRPr>
          </a:p>
          <a:p>
            <a:pPr lvl="1" marL="981000" indent="-26496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uropean transportpolicy EC till 2010 </a:t>
            </a:r>
            <a:endParaRPr b="0" lang="en-US" sz="2000" spc="-1" strike="noStrike">
              <a:solidFill>
                <a:srgbClr val="000000"/>
              </a:solidFill>
              <a:latin typeface="Syntax Bold"/>
            </a:endParaRPr>
          </a:p>
          <a:p>
            <a:pPr lvl="1" marL="981000" indent="-26496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vision White Paper in 2011  </a:t>
            </a:r>
            <a:endParaRPr b="0" lang="en-US" sz="2000" spc="-1" strike="noStrike">
              <a:solidFill>
                <a:srgbClr val="000000"/>
              </a:solidFill>
              <a:latin typeface="Syntax Bold"/>
            </a:endParaRPr>
          </a:p>
          <a:p>
            <a:pPr marL="6746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land Navigation Policy   </a:t>
            </a:r>
            <a:endParaRPr b="0" lang="en-US" sz="2400" spc="-1" strike="noStrike">
              <a:solidFill>
                <a:srgbClr val="000000"/>
              </a:solidFill>
              <a:latin typeface="Syntax Bold"/>
            </a:endParaRPr>
          </a:p>
          <a:p>
            <a:pPr lvl="1" marL="981000" indent="-26496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unication EC NAIADES  </a:t>
            </a:r>
            <a:endParaRPr b="0" lang="en-US" sz="2000" spc="-1" strike="noStrike">
              <a:solidFill>
                <a:srgbClr val="000000"/>
              </a:solidFill>
              <a:latin typeface="Syntax Bold"/>
            </a:endParaRPr>
          </a:p>
          <a:p>
            <a:pPr lvl="1" marL="981000" indent="-26496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ation programme PLATINA  </a:t>
            </a:r>
            <a:endParaRPr b="0" lang="en-US" sz="2000" spc="-1" strike="noStrike">
              <a:solidFill>
                <a:srgbClr val="000000"/>
              </a:solidFill>
              <a:latin typeface="Syntax Bold"/>
            </a:endParaRPr>
          </a:p>
          <a:p>
            <a:pPr lvl="1" marL="981000" indent="-26496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IADES II </a:t>
            </a:r>
            <a:endParaRPr b="0" lang="en-US" sz="2000" spc="-1" strike="noStrike">
              <a:solidFill>
                <a:srgbClr val="000000"/>
              </a:solidFill>
              <a:latin typeface="Syntax Bold"/>
            </a:endParaRPr>
          </a:p>
          <a:p>
            <a:pPr marL="6746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  Revision TEN-T Guidelines 2011  </a:t>
            </a:r>
            <a:endParaRPr b="0" lang="en-US" sz="2400" spc="-1" strike="noStrike">
              <a:solidFill>
                <a:srgbClr val="000000"/>
              </a:solidFill>
              <a:latin typeface="Syntax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C:\Documents and Settings\jr\Bureaublad\ebu\eu_03.jpg"/>
          <p:cNvPicPr/>
          <p:nvPr/>
        </p:nvPicPr>
        <p:blipFill>
          <a:blip r:embed="rId1"/>
          <a:stretch/>
        </p:blipFill>
        <p:spPr>
          <a:xfrm>
            <a:off x="0" y="1357200"/>
            <a:ext cx="914400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-360" y="2857320"/>
            <a:ext cx="899172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746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ntax Bold"/>
            </a:endParaRPr>
          </a:p>
          <a:p>
            <a:pPr marL="674640" indent="-2966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1)     “SETTING THE COURSE” FOR IWT  </a:t>
            </a:r>
            <a:endParaRPr b="0" lang="en-US" sz="2400" spc="-1" strike="noStrike">
              <a:solidFill>
                <a:srgbClr val="000000"/>
              </a:solidFill>
              <a:latin typeface="Syntax Bold"/>
            </a:endParaRPr>
          </a:p>
          <a:p>
            <a:pPr lvl="2" marL="1474920" indent="-297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WT on political national and  international agenda </a:t>
            </a:r>
            <a:endParaRPr b="0" lang="en-US" sz="1600" spc="-1" strike="noStrike">
              <a:solidFill>
                <a:srgbClr val="000000"/>
              </a:solidFill>
              <a:latin typeface="Syntax Bold"/>
            </a:endParaRPr>
          </a:p>
          <a:p>
            <a:pPr lvl="2" marL="1474920" indent="-297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TRONG POSITIONING IN  NEW WHITE PAPER </a:t>
            </a:r>
            <a:endParaRPr b="0" lang="en-US" sz="1600" spc="-1" strike="noStrike">
              <a:solidFill>
                <a:srgbClr val="000000"/>
              </a:solidFill>
              <a:latin typeface="Syntax Bold"/>
            </a:endParaRPr>
          </a:p>
          <a:p>
            <a:pPr marL="674640" indent="-2966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2)      NAIADES II with financial support </a:t>
            </a:r>
            <a:endParaRPr b="0" lang="en-US" sz="2400" spc="-1" strike="noStrike">
              <a:solidFill>
                <a:srgbClr val="000000"/>
              </a:solidFill>
              <a:latin typeface="Syntax Bold"/>
            </a:endParaRPr>
          </a:p>
          <a:p>
            <a:pPr marL="674640" indent="-2966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3)      INFRASTRUCTURE: IWT in core network </a:t>
            </a:r>
            <a:endParaRPr b="0" lang="en-US" sz="2400" spc="-1" strike="noStrike">
              <a:solidFill>
                <a:srgbClr val="000000"/>
              </a:solidFill>
              <a:latin typeface="Syntax Bold"/>
            </a:endParaRPr>
          </a:p>
          <a:p>
            <a:pPr marL="674640" indent="-2966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3)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motion of IW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Syntax Bold"/>
            </a:endParaRPr>
          </a:p>
        </p:txBody>
      </p:sp>
      <p:sp>
        <p:nvSpPr>
          <p:cNvPr id="70" name="Rectangle 1029"/>
          <p:cNvSpPr/>
          <p:nvPr/>
        </p:nvSpPr>
        <p:spPr>
          <a:xfrm>
            <a:off x="0" y="642960"/>
            <a:ext cx="56386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2e8783"/>
                </a:solidFill>
                <a:latin typeface="Syntax Bold"/>
              </a:rPr>
              <a:t>Future developme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9T13:51:36Z</dcterms:created>
  <dc:creator>jr</dc:creator>
  <dc:description/>
  <dc:language>en-US</dc:language>
  <cp:lastModifiedBy>R.Hacksteiner</cp:lastModifiedBy>
  <dcterms:modified xsi:type="dcterms:W3CDTF">2011-02-15T15:51:47Z</dcterms:modified>
  <cp:revision>90</cp:revision>
  <dc:subject/>
  <dc:title>EBU - Japan</dc:title>
</cp:coreProperties>
</file>