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3ADD-1A8F-4AFE-9F65-139F9C1E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4459-1EEA-44B8-B712-0D246692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0ED1-EF30-4D76-9649-E40A4FA1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96D1-E816-4074-94A6-53D4EB16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B608-8C0E-4647-80E0-E6A856E0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9223-E8BB-4F4C-9E91-816F9444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6228-858A-4460-B80D-4003B15D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9E37-7101-40C7-95C4-0F8F0528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9C0A-188D-420A-BFA7-9B0A7AC0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7E75-F9A9-48F2-8173-FBADBF6D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85C1-4E31-4984-B594-EB0F4430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229-A400-492B-BF16-B6B674BD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a9191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9640" indent="-5396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5a554b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lvl="1" marL="1004760" indent="-285480">
              <a:spcBef>
                <a:spcPts val="799"/>
              </a:spcBef>
              <a:buClr>
                <a:srgbClr val="5a554b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5a554b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lvl="2" marL="1413000" indent="-228600">
              <a:spcBef>
                <a:spcPts val="799"/>
              </a:spcBef>
              <a:buClr>
                <a:srgbClr val="5a554b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5a554b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lvl="3" marL="1820880" indent="-228600">
              <a:spcBef>
                <a:spcPts val="799"/>
              </a:spcBef>
              <a:buClr>
                <a:srgbClr val="5a554b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5a554b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lvl="4" marL="2228760" indent="-228600">
              <a:spcBef>
                <a:spcPts val="799"/>
              </a:spcBef>
              <a:buClr>
                <a:srgbClr val="5a554b"/>
              </a:buClr>
              <a:buFont typeface="Arial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5a554b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lvl="5" marL="22287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5a554b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lvl="6" marL="22287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5a554b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239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31859c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December 8,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1859c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1859c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CB5B0-A92C-4D1B-8CE8-EAE637EC5A60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is.eu/" TargetMode="External"/><Relationship Id="rId3" Type="http://schemas.openxmlformats.org/officeDocument/2006/relationships/hyperlink" Target="mailto:inland-ecdis@ris.eu" TargetMode="External"/><Relationship Id="rId4" Type="http://schemas.openxmlformats.org/officeDocument/2006/relationships/hyperlink" Target="mailto:inland-ecdis@ris.eu" TargetMode="External"/><Relationship Id="rId5" Type="http://schemas.openxmlformats.org/officeDocument/2006/relationships/hyperlink" Target="mailto:bernd.birklhuber@bmvit.gv.at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land ECDIS standard 2.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ahoma"/>
              </a:rPr>
              <a:t>UNE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ahoma"/>
              </a:rPr>
              <a:t>June 16, 20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Improved presentation of Inland AIS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30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59A4C-5B14-476C-A5D0-3807BF451C3E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77920" y="1413000"/>
            <a:ext cx="8326440" cy="3581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457200" y="4994280"/>
            <a:ext cx="82296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9640" indent="-539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000" spc="-1" strike="noStrike">
                <a:solidFill>
                  <a:srgbClr val="663300"/>
                </a:solidFill>
                <a:latin typeface="Arial"/>
                <a:ea typeface="Tahoma"/>
              </a:rPr>
              <a:t>If the heading of a vessel is not available the blue sign may not be displayed on one side of the symbol, because it could be displayed on the wrong side if a vessel is drifting back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Improved presentation of notice marks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37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BAF9C-FC54-4488-8EBC-287030753B8E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85680" y="4827600"/>
            <a:ext cx="432000" cy="406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425680" y="48276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938760" y="482760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985680" y="206064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2425680" y="2060640"/>
            <a:ext cx="504720" cy="466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3938760" y="2060640"/>
            <a:ext cx="401400" cy="431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  <a:ea typeface="Tahoma"/>
              </a:rPr>
              <a:t>General symbols in older ver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br>
              <a:rPr sz="2400"/>
            </a:br>
            <a:r>
              <a:rPr b="0" lang="nl-NL" sz="2400" spc="-1" strike="noStrike">
                <a:solidFill>
                  <a:srgbClr val="663300"/>
                </a:solidFill>
                <a:latin typeface="Arial"/>
                <a:ea typeface="Tahoma"/>
              </a:rPr>
              <a:t>No indication if there are several notice marks in this location and no priority rule (a prohibition mark might be hidden behind a recommendation mark)</a:t>
            </a:r>
            <a:br>
              <a:rPr sz="2400"/>
            </a:br>
            <a:r>
              <a:rPr b="0" lang="nl-NL" sz="2400" spc="-1" strike="noStrike">
                <a:solidFill>
                  <a:srgbClr val="663300"/>
                </a:solidFill>
                <a:latin typeface="Arial"/>
                <a:ea typeface="Tahoma"/>
              </a:rPr>
              <a:t>The skipper had to check the pick report for every notice m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  <a:ea typeface="Tahoma"/>
              </a:rPr>
              <a:t>New symbolization with priority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  <a:ea typeface="Tahoma"/>
              </a:rPr>
              <a:t>May also be used for display of older IEN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Procedures for changes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49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4590F-984E-4813-863C-180323D736F5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9640" indent="-539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CCNR has provided a mandate to the expert group for changes of the annexes</a:t>
            </a:r>
            <a:br>
              <a:rPr sz="2400"/>
            </a:b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(with explicit restrictions regarding e.g. changes that cause financial burdens)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The expert group confirmed that such a mandate is necessary to be able to make corrections and clarifications without delay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The EC is not able to provide such a mandate because of formal restrictions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e expert group recommends to keep the mandate (as only difference to the Commission Regulation) in the regulations of CCNR and UNECE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Corrections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55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DABCD-19C6-4FEC-8C32-2330F6FC9E33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2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Several corrections of the first proposals for the annexes of Edition 2.3 have been distributed by the expert group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453960" indent="-45396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3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The paper parts of the annexes have more than 800 pages, in addition there are the electronic parts (lookup tables, symbol library, test charts). A lot of resources are needed to find errors, most of them were only typing errors. Some are only found during implementation. Therefore a mandate for the expert group is really necessary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Corrections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61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9A5CC-BA61-4BA2-97CA-A7532FF693F5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An omission in the Presentation Library of Editions 2.0, 2.1 and 2.3 has only been detected now (after 5 years)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453960" indent="-453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The Conditional Symbology Procedure for underwater rocks has to be modified to ensure the correct display of rocks which are encoded with the inland specific waterlevel references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453960" indent="-453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The objects have not been used in official Inland ENCs until now, therefore no immediate danger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453960" indent="-453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The correction has to applied to all editions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The consequences of adopting 2.3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67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AEFBBB-AE5F-4509-9C2E-0E7E8D613908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9640" indent="-5396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Inland ECDIS applications will have to be updated, but all application builders have supported the adoption of 2.3 in the expert group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Countries that do not want to use the newly introduced objects or attributes can continue to produce IENCs in accordance with 2.0 or 2.1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2.0 and 2.1 IENCs can be converted to 2.3 automatically, only new objects and attributes have to be added (if needed)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The consequences of </a:t>
            </a:r>
            <a:r>
              <a:rPr b="0" lang="nl-NL" sz="3600" spc="-1" strike="noStrike" u="sng">
                <a:solidFill>
                  <a:srgbClr val="5a9191"/>
                </a:solidFill>
                <a:uFillTx/>
                <a:latin typeface="Arial"/>
              </a:rPr>
              <a:t>not</a:t>
            </a: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 adopting 2.3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73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E34D7-5B81-49D1-AC04-EC3052A21188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9640" indent="-539640">
              <a:lnSpc>
                <a:spcPct val="90000"/>
              </a:lnSpc>
              <a:spcBef>
                <a:spcPts val="176"/>
              </a:spcBef>
              <a:buSzPct val="102805"/>
              <a:buBlip>
                <a:blip r:embed="rId2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Countries who need the new objects (e.g. rescue stations, marine cultures) or attributes (e.g. location codes that provide a link to Notices to Skippers for overhead cables or overhead pipelines) would not be allowed to use them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90000"/>
              </a:lnSpc>
              <a:spcBef>
                <a:spcPts val="176"/>
              </a:spcBef>
              <a:buSzPct val="102805"/>
              <a:buBlip>
                <a:blip r:embed="rId3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Application builders would be forced to follow outdated IHO and IEC standards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90000"/>
              </a:lnSpc>
              <a:spcBef>
                <a:spcPts val="176"/>
              </a:spcBef>
              <a:buSzPct val="102805"/>
              <a:buBlip>
                <a:blip r:embed="rId4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The display of AIS information on the blue sign might be misleading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90000"/>
              </a:lnSpc>
              <a:spcBef>
                <a:spcPts val="176"/>
              </a:spcBef>
              <a:buSzPct val="102805"/>
              <a:buBlip>
                <a:blip r:embed="rId5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display of vessels with Class B AIS might be misleading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79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A74ED-6627-4BC9-A759-34A90E818944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lnSpc>
                <a:spcPct val="11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SC.3/WP.3 is invited to decide whether a mandate for the maintenance of the digital parts is given to the expert group 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452520" indent="-452520">
              <a:lnSpc>
                <a:spcPct val="11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SC.3/WP.3 is invited to adopt edition 2.3 of the Inland ECDIS standard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5a9191"/>
                </a:solidFill>
                <a:latin typeface="Arial"/>
              </a:rPr>
              <a:t>Inland ECDIS expert group</a:t>
            </a:r>
            <a:br>
              <a:rPr sz="3200"/>
            </a:br>
            <a:r>
              <a:rPr b="0" lang="nl-NL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ris.eu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inland-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ecdis@ris.eu</a:t>
            </a:r>
            <a:br>
              <a:rPr sz="2400"/>
            </a:br>
            <a:endParaRPr b="0" lang="en-US" sz="2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85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11BBC-819B-4A18-84F2-7654E2C93F9D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9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5a554b"/>
                </a:solidFill>
                <a:latin typeface="Arial"/>
              </a:rPr>
              <a:t>Bernd Birklhuber</a:t>
            </a:r>
            <a:endParaRPr b="0" lang="en-US" sz="2000" spc="-1" strike="noStrike">
              <a:solidFill>
                <a:srgbClr val="5a554b"/>
              </a:solidFill>
              <a:latin typeface="Tahoma"/>
            </a:endParaRPr>
          </a:p>
          <a:p>
            <a:pPr marL="539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5a554b"/>
                </a:solidFill>
                <a:latin typeface="Arial"/>
              </a:rPr>
              <a:t>Federal Ministry of Transport, Innovation and Technology</a:t>
            </a:r>
            <a:endParaRPr b="0" lang="en-US" sz="2000" spc="-1" strike="noStrike">
              <a:solidFill>
                <a:srgbClr val="5a554b"/>
              </a:solidFill>
              <a:latin typeface="Tahoma"/>
            </a:endParaRPr>
          </a:p>
          <a:p>
            <a:pPr marL="539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5a554b"/>
                </a:solidFill>
                <a:latin typeface="Arial"/>
              </a:rPr>
              <a:t>Radetzkystrasse 2</a:t>
            </a:r>
            <a:endParaRPr b="0" lang="en-US" sz="2000" spc="-1" strike="noStrike">
              <a:solidFill>
                <a:srgbClr val="5a554b"/>
              </a:solidFill>
              <a:latin typeface="Tahoma"/>
            </a:endParaRPr>
          </a:p>
          <a:p>
            <a:pPr marL="539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5a554b"/>
                </a:solidFill>
                <a:latin typeface="Arial"/>
              </a:rPr>
              <a:t>A-1030 Wien</a:t>
            </a:r>
            <a:endParaRPr b="0" lang="en-US" sz="2000" spc="-1" strike="noStrike">
              <a:solidFill>
                <a:srgbClr val="5a554b"/>
              </a:solidFill>
              <a:latin typeface="Tahoma"/>
            </a:endParaRPr>
          </a:p>
          <a:p>
            <a:pPr marL="539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5a554b"/>
              </a:solidFill>
              <a:latin typeface="Tahoma"/>
            </a:endParaRPr>
          </a:p>
          <a:p>
            <a:pPr marL="539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5a554b"/>
                </a:solidFill>
                <a:latin typeface="Arial"/>
              </a:rPr>
              <a:t>Tel.: +43 1 71162 655902</a:t>
            </a:r>
            <a:endParaRPr b="0" lang="en-US" sz="2000" spc="-1" strike="noStrike">
              <a:solidFill>
                <a:srgbClr val="5a554b"/>
              </a:solidFill>
              <a:latin typeface="Tahoma"/>
            </a:endParaRPr>
          </a:p>
          <a:p>
            <a:pPr marL="539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5a554b"/>
                </a:solidFill>
                <a:latin typeface="Arial"/>
              </a:rPr>
              <a:t>Mobile: +43 664 8188909</a:t>
            </a:r>
            <a:endParaRPr b="0" lang="en-US" sz="2000" spc="-1" strike="noStrike">
              <a:solidFill>
                <a:srgbClr val="5a554b"/>
              </a:solidFill>
              <a:latin typeface="Tahoma"/>
            </a:endParaRPr>
          </a:p>
          <a:p>
            <a:pPr marL="539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5a554b"/>
                </a:solidFill>
                <a:latin typeface="Arial"/>
              </a:rPr>
              <a:t>E-mail: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bernd.birklhuber@bmvit.gv.at</a:t>
            </a:r>
            <a:endParaRPr b="0" lang="en-US" sz="2000" spc="-1" strike="noStrike">
              <a:solidFill>
                <a:srgbClr val="5a554b"/>
              </a:solidFill>
              <a:latin typeface="Tahoma"/>
            </a:endParaRPr>
          </a:p>
          <a:p>
            <a:pPr marL="539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5a554b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82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937EEA-E31E-4C1A-BF99-92EB0E508BF5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8840" indent="-528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3200" spc="-1" strike="noStrike">
                <a:solidFill>
                  <a:srgbClr val="663300"/>
                </a:solidFill>
                <a:latin typeface="Tahoma"/>
              </a:rPr>
              <a:t>Inland ECDIS expert group and </a:t>
            </a:r>
            <a:br>
              <a:rPr sz="3200"/>
            </a:br>
            <a:r>
              <a:rPr b="0" lang="nl-NL" sz="3200" spc="-1" strike="noStrike">
                <a:solidFill>
                  <a:srgbClr val="663300"/>
                </a:solidFill>
                <a:latin typeface="Tahoma"/>
              </a:rPr>
              <a:t>Inland ENC Harmonization Group (IEHG)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marL="528840" indent="-528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3200" spc="-1" strike="noStrike">
                <a:solidFill>
                  <a:srgbClr val="663300"/>
                </a:solidFill>
                <a:latin typeface="Tahoma"/>
              </a:rPr>
              <a:t>Overview of editions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marL="528840" indent="-528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3200" spc="-1" strike="noStrike">
                <a:solidFill>
                  <a:srgbClr val="663300"/>
                </a:solidFill>
                <a:latin typeface="Tahoma"/>
              </a:rPr>
              <a:t>What’s new in edition 2.3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marL="528840" indent="-5288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Procedures in different international organizations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marL="528840" indent="-5288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Questions to SC.3/WP.3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Inland ECDIS expert group and IEHG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88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1776E4-6766-49E2-83F4-29F5889F82E3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The Inland ECDIS expert group is an independent European (including the Russian Federation) expert group, working for EC, UNECE, CCNR, DC, Sava Commission, etc.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marL="453960" indent="-4539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The Inland ENC Harmonization Group (IEHG) is a worldwide expert group for electronic charts for inland navigation, which is recognized by IHO. </a:t>
            </a:r>
            <a:br>
              <a:rPr sz="2800"/>
            </a:b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Active members: Inland ECDIS expert group, USA, Brazil, Venezuela, China, South Korea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Inland ECDIS expert group and IEHG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94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68E9D-42C6-41EC-94A5-C432619FEC6F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The first Inland ECDIS standard was a European project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marL="453960" indent="-4539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Now the charts (Inland ENCs) are standardized by IEHG and the Inland ECDIS applications for the display of these charts are standardized by the Inland ECDIS expert group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marL="453960" indent="-4539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The Inland ECDIS standard is containing both parts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Overview of editions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9E984E-9511-4D75-98B3-ADB59F3E4B48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Edition 2.0 of the Inland ECDIS Standard: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CCNR: adopted and published in 2006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UNECE: adopted and published as resolution 48 in 2007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Danube Commission: adopted in 2007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EU: adopted in the written procedure by the RIS Committee in Jannuary 2009, not published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In use in BE, CH, CZ, DE, HR, NL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Overview of editions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06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7DBFC-BDAF-45C1-AC59-24A0B5BEBEFF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Edition 2.1 of the Inland ECDIS Standard: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CCNR: adopted, but formally not set into force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UNECE: content accepted, but formally not set into force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Danube Commission: adopted and published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EU: ---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In use in AT, DE, HR and PL, in preparation in BG, HU, RO, SK, SR, UA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Overview of editions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12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21E87-635A-4BA8-A675-89C58CE69E8C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Edition 2.2 of the Product Specification for Inland ENCs: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Edition 2.2 has only been adopted as an edition of the Product Specification for Inland ENCs to take into account the requests of South America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An edition 2.2 of the (European) Inland ECDIS standard has not been produced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Overview of editions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18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ABCD5-ACA7-4FBC-A984-C9AAAE09348E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Edition 2.3 of the Inland ECDIS standard: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lvl="1" marL="1093680" indent="-372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CCNR: accepted by RIS/G in May 2011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93680" indent="-372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UNECE: discussion in June 2011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93680" indent="-372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Danube Commission: accepted in April 2011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93680" indent="-372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EU: presented in the RIS Committee in March 2011, publication planned for summer 2011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93680" indent="-372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EU member states will have to comply with this edition within 30 months after publication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2" marL="150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What’s new in Edition 2.3?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24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337A24-75ED-477F-A9BB-26C1B8C9DB35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Alignment with the latest versions of the IHO and IEC standards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Therefore compatible with ECDIS carriage requirement of IMO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Improved presentation of Inland AIS information based on experiences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Improved presentation of notice marks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Improved connection to other RIS via location codes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Errors of earlier versions corrected and results of the task force Quality Standards taken into acount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Full editorial alignment of all international standards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34:04Z</dcterms:created>
  <dc:creator>Bernd Birklhuber</dc:creator>
  <dc:description/>
  <dc:language>en-US</dc:language>
  <cp:lastModifiedBy>Jaimurzina</cp:lastModifiedBy>
  <dcterms:modified xsi:type="dcterms:W3CDTF">2011-06-07T11:32:50Z</dcterms:modified>
  <cp:revision>74</cp:revision>
  <dc:subject>IRIS II, SuAcc 1.1</dc:subject>
  <dc:title>Accuracy requirements for IENC</dc:title>
</cp:coreProperties>
</file>