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626-8361-4729-8B62-917CA238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1C8-DE0C-4BB9-8D6D-229082D4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B34-C10E-47DC-AAA8-4EF90025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5849-4653-41D2-A65C-774E2F5B6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BA8-B449-4521-B1E1-1CFD85E5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22B3-B8E4-43DF-8E70-B562F3AB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6B1-5BBD-46DE-8F1B-A4383D5B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638E-8F8B-462E-B764-7E9ABB9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D19-23CB-41B4-9DF6-43DAE3C1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5A32-F6A1-40CE-888E-DDB71601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47D-B655-4167-9657-04FEC29F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85CE-36CC-4492-98EB-BA41F233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a9191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1" marL="1004760" indent="-285480">
              <a:spcBef>
                <a:spcPts val="799"/>
              </a:spcBef>
              <a:buClr>
                <a:srgbClr val="5a554b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2" marL="1413000" indent="-228600">
              <a:spcBef>
                <a:spcPts val="799"/>
              </a:spcBef>
              <a:buClr>
                <a:srgbClr val="5a554b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3" marL="1820880" indent="-228600">
              <a:spcBef>
                <a:spcPts val="799"/>
              </a:spcBef>
              <a:buClr>
                <a:srgbClr val="5a554b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4" marL="2228760" indent="-228600">
              <a:spcBef>
                <a:spcPts val="799"/>
              </a:spcBef>
              <a:buClr>
                <a:srgbClr val="5a554b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5" marL="22287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lvl="6" marL="22287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5a554b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72392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December 8,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31859c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13EBF-2E5E-4E04-979B-FD3F6A3CA61A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ris.eu/" TargetMode="External"/><Relationship Id="rId3" Type="http://schemas.openxmlformats.org/officeDocument/2006/relationships/hyperlink" Target="mailto:inland-ecdis@ris.eu" TargetMode="External"/><Relationship Id="rId4" Type="http://schemas.openxmlformats.org/officeDocument/2006/relationships/hyperlink" Target="mailto:inland-ecdis@ris.eu" TargetMode="External"/><Relationship Id="rId5" Type="http://schemas.openxmlformats.org/officeDocument/2006/relationships/hyperlink" Target="mailto:bernd.birklhuber@bmvit.gv.at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nland ECDIS standard 2.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UNE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Tahoma"/>
              </a:rPr>
              <a:t>June 16, 201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mproved presentation of Inland AI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30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EE45E4-DDF6-45DB-A09F-3A049AED66D1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77920" y="1413000"/>
            <a:ext cx="8326440" cy="35812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457200" y="4994280"/>
            <a:ext cx="82296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000" spc="-1" strike="noStrike">
                <a:solidFill>
                  <a:srgbClr val="663300"/>
                </a:solidFill>
                <a:latin typeface="Arial"/>
                <a:ea typeface="Tahoma"/>
              </a:rPr>
              <a:t>If the heading of a vessel is not available the blue sign may not be displayed on one side of the symbol, because it could be displayed on the wrong side if a vessel is drifting backw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mproved presentation of notice mark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37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39B0AD-AA8E-4BEE-ABED-3C157DE4B54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985680" y="4827600"/>
            <a:ext cx="432000" cy="4064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425680" y="4827600"/>
            <a:ext cx="50472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3938760" y="4827600"/>
            <a:ext cx="401400" cy="40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985680" y="206064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2425680" y="2060640"/>
            <a:ext cx="504720" cy="4665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3938760" y="2060640"/>
            <a:ext cx="401400" cy="431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General symbols in older ver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No indication if there are several notice marks in this location and no priority rule (a prohibition mark might be hidden behind a recommendation mark)</a:t>
            </a: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The skipper had to check the pick report for every notice ma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New symbolization with priority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  <a:ea typeface="Tahoma"/>
              </a:rPr>
              <a:t>May also be used for display of older IEN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Procedures for change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49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A022EE-7265-4C55-AE25-C8440EA86BEA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 has provided a mandate to the expert group for changes of the annexes</a:t>
            </a:r>
            <a:br>
              <a:rPr sz="2400"/>
            </a:b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(with explicit restrictions regarding e.g. changes that cause financial burdens)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expert group confirmed that such a mandate is necessary to be able to make corrections and clarifications without delay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EC is not able to provide such a mandate because of formal restriction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expert group recommends to keep the mandate (as only difference to the Commission Regulation) in the regulations of CCNR and UNE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rrec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55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E1DB4B-D76C-41D0-94C2-BA3D63EC0BFB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everal corrections of the first proposals for the annexes of Edition 2.3 have been distributed by the expert group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901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paper parts of the annexes have more than 800 pages, in addition there are the electronic parts (lookup tables, symbol library, test charts). A lot of resources are needed to find errors, most of them were only typing errors. Some are only found during implementation. Therefore a mandate for the expert group is really necessary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rrec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61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4C11DA-8BA4-4993-BAA6-7A6BA28319C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n omission in the Presentation Library of Editions 2.0, 2.1 and 2.3 has only been detected now (after 5 years)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Conditional Symbology Procedure for underwater rocks has to be modified to ensure the correct display of rocks which are encoded with the inland specific waterlevel referenc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objects have not been used in official Inland ENCs until now, therefore no immediate danger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 correction has to applied to all edition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The consequences of adopting 2.3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67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7FED3E-916B-44C1-97B6-82686DC94C96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Inland ECDIS applications will have to be updated, but all application builders have supported the adoption of 2.3 in the expert group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Countries that do not want to use the newly introduced objects or attributes can continue to produce IENCs in accordance with 2.0 or 2.1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2.0 and 2.1 IENCs can be converted to 2.3 automatically, only new objects and attributes have to be added (if needed)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The consequences of </a:t>
            </a:r>
            <a:r>
              <a:rPr b="0" lang="nl-NL" sz="3600" spc="-1" strike="noStrike" u="sng">
                <a:solidFill>
                  <a:srgbClr val="5a9191"/>
                </a:solidFill>
                <a:uFillTx/>
                <a:latin typeface="Arial"/>
              </a:rPr>
              <a:t>not</a:t>
            </a: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 adopting 2.3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73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AC6FE9-BD3D-4DF0-A847-49512F5FB101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Countries who need the new objects (e.g. rescue stations, marine cultures) or attributes (e.g. location codes that provide a link to Notices to Skippers for overhead cables or overhead pipelines) would not be allowed to use them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Application builders would be forced to follow outdated IHO and IEC standards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display of AIS information on the blue sign might be misleading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176"/>
              </a:spcBef>
              <a:buSzPct val="102805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display of vessels with Class B AIS might be misleading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nclusion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79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BDE0A-BA8C-411D-9AB0-6B0A646ACB0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2520" indent="-452520"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C.3/WP.3 is invited to decide whether a mandate for the maintenance of the digital parts is given to the expert group 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452520" indent="-452520">
              <a:lnSpc>
                <a:spcPct val="11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SC.3/WP.3 is invited to adopt edition 2.3 of the Inland ECDIS standar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a9191"/>
                </a:solidFill>
                <a:latin typeface="Arial"/>
              </a:rPr>
              <a:t>Inland ECDIS expert group</a:t>
            </a:r>
            <a:br>
              <a:rPr sz="3200"/>
            </a:br>
            <a:r>
              <a:rPr b="0" lang="nl-NL" sz="20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ris.eu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inland-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ecdis@ris.eu</a:t>
            </a:r>
            <a:br>
              <a:rPr sz="2400"/>
            </a:br>
            <a:endParaRPr b="0" lang="en-US" sz="20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85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CDE26-70EC-41BB-8C17-4A8AAD2A54A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205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3141720"/>
            <a:ext cx="8229600" cy="29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Bernd Birklhuber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Federal Ministry of Transport, Innovation and Technology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Radetzkystrasse 2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A-1030 Wien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Tel.: +43 1 71162 655902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Mobile: +43 664 8188909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E-mail: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bernd.birklhuber@bmvit.gv.at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  <a:p>
            <a:pPr marL="539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000" spc="-1" strike="noStrike">
                <a:solidFill>
                  <a:srgbClr val="5a554b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Content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2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6E265-6855-4D67-ACD5-1C6F93A9A3A8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8840" indent="-5288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Inland ECDIS expert group and </a:t>
            </a:r>
            <a:br>
              <a:rPr sz="3200"/>
            </a:b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Inland ENC Harmonization Group (IEHG)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Overview of editions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3200" spc="-1" strike="noStrike">
                <a:solidFill>
                  <a:srgbClr val="663300"/>
                </a:solidFill>
                <a:latin typeface="Tahoma"/>
              </a:rPr>
              <a:t>What’s new in edition 2.3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Procedures in different international organizations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  <a:p>
            <a:pPr marL="528840" indent="-52884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ahoma"/>
              </a:rPr>
              <a:t>Questions to SC.3/WP.3</a:t>
            </a:r>
            <a:endParaRPr b="0" lang="en-US" sz="32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nland ECDIS expert group and IEHG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88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197209-122E-48F1-9F33-4F2925A0CA47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CDIS expert group is an independent European (including the Russian Federation) expert group, working for EC, UNECE, CCNR, DC, Sava Commission, etc.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NC Harmonization Group (IEHG) is a worldwide expert group for electronic charts for inland navigation, which is recognized by IHO. </a:t>
            </a:r>
            <a:br>
              <a:rPr sz="2800"/>
            </a:b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Active members: Inland ECDIS expert group, USA, Brazil, Venezuela, China, South Korea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Inland ECDIS expert group and IEHG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94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677A27-40A6-4517-B03B-BC1866EC494A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first Inland ECDIS standard was a European project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Now the charts (Inland ENCs) are standardized by IEHG and the Inland ECDIS applications for the display of these charts are standardized by the Inland ECDIS expert group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The Inland ECDIS standard is containing both parts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57B02-7A23-4741-B0AC-07484F137657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0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dopted and published in 2006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adopted and published as resolution 48 in 2007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dopted in 2007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adopted in the written procedure by the RIS Committee in Jannuary 2009, not publish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n use in BE, CH, CZ, DE, HR, NL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06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986AFA-873B-45E0-AB5B-210CA0BDE009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1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dopted, but formally not set into for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content accepted, but formally not set into force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dopted and publish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---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n use in AT, DE, HR and PL, in preparation in BG, HU, RO, SK, SR, UA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12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8B3537-9F09-4A84-B49A-D84BC352A1DA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3960" indent="-4539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533520"/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2 of the Product Specification for Inland ENCs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dition 2.2 has only been adopted as an edition of the Product Specification for Inland ENCs to take into account the requests of South America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-37332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n edition 2.2 of the (European) Inland ECDIS standard has not been produced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06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Overview of editions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18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BA6D9A-5E70-449A-AFE4-97372D2F35B1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1440" indent="-54144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800" spc="-1" strike="noStrike">
                <a:solidFill>
                  <a:srgbClr val="663300"/>
                </a:solidFill>
                <a:latin typeface="Arial"/>
              </a:rPr>
              <a:t>Edition 2.3 of the Inland ECDIS standard:</a:t>
            </a:r>
            <a:endParaRPr b="0" lang="en-US" sz="28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CCNR: accepted by RIS/G in May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UNECE: discussion in June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Danube Commission: accepted in April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: presented in the RIS Committee in March 2011, publication planned for summer 2011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1" marL="1093680" indent="-372960">
              <a:lnSpc>
                <a:spcPct val="10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–"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U member states will have to comply with this edition within 30 months after publication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lvl="2" marL="150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a9191"/>
                </a:solidFill>
                <a:latin typeface="Arial"/>
              </a:rPr>
              <a:t>What’s new in Edition 2.3?</a:t>
            </a:r>
            <a:endParaRPr b="0" lang="en-US" sz="3600" spc="-1" strike="noStrike">
              <a:solidFill>
                <a:srgbClr val="5a9191"/>
              </a:solidFill>
              <a:latin typeface="Tahoma"/>
            </a:endParaRPr>
          </a:p>
        </p:txBody>
      </p:sp>
      <p:sp>
        <p:nvSpPr>
          <p:cNvPr id="124" name="Date Placeholder 6"/>
          <p:cNvSpPr/>
          <p:nvPr/>
        </p:nvSpPr>
        <p:spPr>
          <a:xfrm>
            <a:off x="472428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31859c"/>
                </a:solidFill>
                <a:latin typeface="Tahoma"/>
                <a:ea typeface="Tahoma"/>
              </a:rPr>
              <a:t>ienc.openecdis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7"/>
          <p:cNvSpPr/>
          <p:nvPr/>
        </p:nvSpPr>
        <p:spPr>
          <a:xfrm>
            <a:off x="6858000" y="641664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997826-7CB6-43E4-9E97-1F7B266E8034}" type="slidenum"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ooter Placeholder 8"/>
          <p:cNvSpPr/>
          <p:nvPr/>
        </p:nvSpPr>
        <p:spPr>
          <a:xfrm>
            <a:off x="2057400" y="6416640"/>
            <a:ext cx="2666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31859c"/>
                </a:solidFill>
                <a:latin typeface="Tahoma"/>
                <a:ea typeface="Tahoma"/>
              </a:rPr>
              <a:t>www.ris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197000"/>
            <a:ext cx="9144000" cy="0"/>
          </a:xfrm>
          <a:prstGeom prst="line">
            <a:avLst/>
          </a:prstGeom>
          <a:ln w="38160">
            <a:solidFill>
              <a:srgbClr val="5a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Alignment with the latest versions of the IHO and IEC standard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Therefore compatible with ECDIS carriage requirement of IMO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presentation of Inland AIS information based on experienc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presentation of notice mark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Improved connection to other RIS via location code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nl-NL" sz="2400" spc="-1" strike="noStrike">
                <a:solidFill>
                  <a:srgbClr val="663300"/>
                </a:solidFill>
                <a:latin typeface="Arial"/>
              </a:rPr>
              <a:t>Errors of earlier versions corrected and results of the task force Quality Standards taken into acount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  <a:p>
            <a:pPr marL="539640" indent="-539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1066680"/>
                <a:tab algn="l" pos="1600200"/>
                <a:tab algn="l" pos="2133720"/>
                <a:tab algn="l" pos="2666880"/>
                <a:tab algn="l" pos="3200400"/>
                <a:tab algn="l" pos="3733920"/>
                <a:tab algn="l" pos="4267080"/>
                <a:tab algn="l" pos="4800600"/>
                <a:tab algn="l" pos="5334120"/>
                <a:tab algn="l" pos="5867280"/>
                <a:tab algn="l" pos="6400800"/>
                <a:tab algn="l" pos="6934320"/>
                <a:tab algn="l" pos="7467480"/>
                <a:tab algn="l" pos="8001000"/>
                <a:tab algn="l" pos="8534520"/>
                <a:tab algn="l" pos="9067680"/>
                <a:tab algn="l" pos="9601200"/>
                <a:tab algn="l" pos="10134720"/>
                <a:tab algn="l" pos="1066788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Full editorial alignment of all international standards</a:t>
            </a:r>
            <a:endParaRPr b="0" lang="en-US" sz="2400" spc="-1" strike="noStrike">
              <a:solidFill>
                <a:srgbClr val="5a554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34:04Z</dcterms:created>
  <dc:creator>Bernd Birklhuber</dc:creator>
  <dc:description/>
  <dc:language>en-US</dc:language>
  <cp:lastModifiedBy>Jaimurzina</cp:lastModifiedBy>
  <dcterms:modified xsi:type="dcterms:W3CDTF">2011-06-07T11:32:50Z</dcterms:modified>
  <cp:revision>74</cp:revision>
  <dc:subject>IRIS II, SuAcc 1.1</dc:subject>
  <dc:title>Accuracy requirements for IENC</dc:title>
</cp:coreProperties>
</file>