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0A9-0EF3-4E21-845B-E3718A7E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EA5-2B7F-41F6-B24D-C99C54C2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0AC-3FD4-42E8-95E4-4AB24518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813-6F03-4778-96FF-CEBCA76E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867-26B0-4063-8082-3A8ABEF5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7D8-22CB-45C5-9C4D-9004F916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00A-FCAB-413B-8941-8E9BD50E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286-8500-4E99-AF6F-70926F40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AC8-D009-4849-92BD-0C88A7BC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28A-D5A4-45FF-8100-CB2A8D32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F6F-495D-4DF8-8503-3E37D738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891-F8B5-4D2E-8621-17C8217C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a9191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-539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1" marL="1004760" indent="-285480">
              <a:spcBef>
                <a:spcPts val="799"/>
              </a:spcBef>
              <a:buClr>
                <a:srgbClr val="5a554b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2" marL="1413000" indent="-228600">
              <a:spcBef>
                <a:spcPts val="799"/>
              </a:spcBef>
              <a:buClr>
                <a:srgbClr val="5a554b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3" marL="1820880" indent="-228600">
              <a:spcBef>
                <a:spcPts val="799"/>
              </a:spcBef>
              <a:buClr>
                <a:srgbClr val="5a554b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4" marL="2228760" indent="-228600">
              <a:spcBef>
                <a:spcPts val="799"/>
              </a:spcBef>
              <a:buClr>
                <a:srgbClr val="5a554b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5" marL="22287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6" marL="22287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239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31859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December 8,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1859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1859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12D9D-9834-42D6-BA1C-AC8510F4FBC2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is.eu/" TargetMode="External"/><Relationship Id="rId3" Type="http://schemas.openxmlformats.org/officeDocument/2006/relationships/hyperlink" Target="mailto:inland-ecdis@ris.eu" TargetMode="External"/><Relationship Id="rId4" Type="http://schemas.openxmlformats.org/officeDocument/2006/relationships/hyperlink" Target="mailto:inland-ecdis@ris.eu" TargetMode="External"/><Relationship Id="rId5" Type="http://schemas.openxmlformats.org/officeDocument/2006/relationships/hyperlink" Target="mailto:bernd.birklhuber@bmvit.gv.at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land ECDIS standard 2.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UNE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June 16, 20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Improved presentation of Inland AI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30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A8F73-5317-41DC-86AF-D13F56FA6200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77920" y="1413000"/>
            <a:ext cx="8326440" cy="3581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457200" y="4994280"/>
            <a:ext cx="82296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9640" indent="-539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000" spc="-1" strike="noStrike">
                <a:solidFill>
                  <a:srgbClr val="663300"/>
                </a:solidFill>
                <a:latin typeface="Arial"/>
                <a:ea typeface="Tahoma"/>
              </a:rPr>
              <a:t>If the heading of a vessel is not available the blue sign may not be displayed on one side of the symbol, because it could be displayed on the wrong side if a vessel is drifting back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Improved presentation of notice mark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37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90B29-4CAA-4385-8A69-B71D31356646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85680" y="4827600"/>
            <a:ext cx="432000" cy="406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425680" y="48276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938760" y="482760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985680" y="206064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2425680" y="2060640"/>
            <a:ext cx="504720" cy="466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3938760" y="2060640"/>
            <a:ext cx="401400" cy="431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  <a:ea typeface="Tahoma"/>
              </a:rPr>
              <a:t>General symbols in older ver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663300"/>
                </a:solidFill>
                <a:latin typeface="Arial"/>
                <a:ea typeface="Tahoma"/>
              </a:rPr>
              <a:t>No indication if there are several notice marks in this location and no priority rule (a prohibition mark might be hidden behind a recommendation mark)</a:t>
            </a:r>
            <a:br>
              <a:rPr sz="2400"/>
            </a:br>
            <a:r>
              <a:rPr b="0" lang="nl-NL" sz="2400" spc="-1" strike="noStrike">
                <a:solidFill>
                  <a:srgbClr val="663300"/>
                </a:solidFill>
                <a:latin typeface="Arial"/>
                <a:ea typeface="Tahoma"/>
              </a:rPr>
              <a:t>The skipper had to check the pick report for every notice 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  <a:ea typeface="Tahoma"/>
              </a:rPr>
              <a:t>New symbolization with priority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  <a:ea typeface="Tahoma"/>
              </a:rPr>
              <a:t>May also be used for display of older IEN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Procedures for change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49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0E7EA-D5A9-4FCD-8109-EB07A15A75D5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CCNR has provided a mandate to the expert group for changes of the annexes</a:t>
            </a:r>
            <a:br>
              <a:rPr sz="2400"/>
            </a:b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(with explicit restrictions regarding e.g. changes that cause financial burdens)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expert group confirmed that such a mandate is necessary to be able to make corrections and clarifications without delay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EC is not able to provide such a mandate because of formal restriction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e expert group recommends to keep the mandate (as only difference to the Commission Regulation) in the regulations of CCNR and UNECE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Correc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55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22C68-AEB9-451B-AC0D-E6D603FB4CD6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Several corrections of the first proposals for the annexes of Edition 2.3 have been distributed by the expert group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paper parts of the annexes have more than 800 pages, in addition there are the electronic parts (lookup tables, symbol library, test charts). A lot of resources are needed to find errors, most of them were only typing errors. Some are only found during implementation. Therefore a mandate for the expert group is really necessary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Correc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61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D6379-FBE9-4A37-9DB0-F79C7E9DD0A3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An omission in the Presentation Library of Editions 2.0, 2.1 and 2.3 has only been detected now (after 5 years)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Conditional Symbology Procedure for underwater rocks has to be modified to ensure the correct display of rocks which are encoded with the inland specific waterlevel reference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objects have not been used in official Inland ENCs until now, therefore no immediate danger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correction has to applied to all edition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The consequences of adopting 2.3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67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588EE-7367-4F26-9A38-4063A7DB8D69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-5396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Inland ECDIS applications will have to be updated, but all application builders have supported the adoption of 2.3 in the expert group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Countries that do not want to use the newly introduced objects or attributes can continue to produce IENCs in accordance with 2.0 or 2.1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2.0 and 2.1 IENCs can be converted to 2.3 automatically, only new objects and attributes have to be added (if needed)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The consequences of </a:t>
            </a:r>
            <a:r>
              <a:rPr b="0" lang="nl-NL" sz="3600" spc="-1" strike="noStrike" u="sng">
                <a:solidFill>
                  <a:srgbClr val="5a9191"/>
                </a:solidFill>
                <a:uFillTx/>
                <a:latin typeface="Arial"/>
              </a:rPr>
              <a:t>not</a:t>
            </a: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 adopting 2.3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73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AE36A-6151-4A25-A2B1-61038F151BCE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-539640">
              <a:lnSpc>
                <a:spcPct val="90000"/>
              </a:lnSpc>
              <a:spcBef>
                <a:spcPts val="176"/>
              </a:spcBef>
              <a:buSzPct val="102805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Countries who need the new objects (e.g. rescue stations, marine cultures) or attributes (e.g. location codes that provide a link to Notices to Skippers for overhead cables or overhead pipelines) would not be allowed to use them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176"/>
              </a:spcBef>
              <a:buSzPct val="102805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Application builders would be forced to follow outdated IHO and IEC standards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176"/>
              </a:spcBef>
              <a:buSzPct val="102805"/>
              <a:buBlip>
                <a:blip r:embed="rId4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The display of AIS information on the blue sign might be misleading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176"/>
              </a:spcBef>
              <a:buSzPct val="102805"/>
              <a:buBlip>
                <a:blip r:embed="rId5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display of vessels with Class B AIS might be misleading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79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8534D-0998-44BE-9690-509ED9F8E098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lnSpc>
                <a:spcPct val="11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SC.3/WP.3 is invited to decide whether a mandate for the maintenance of the digital parts is given to the expert group 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452520" indent="-452520">
              <a:lnSpc>
                <a:spcPct val="11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SC.3/WP.3 is invited to adopt edition 2.3 of the Inland ECDIS standard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a9191"/>
                </a:solidFill>
                <a:latin typeface="Arial"/>
              </a:rPr>
              <a:t>Inland ECDIS expert group</a:t>
            </a:r>
            <a:br>
              <a:rPr sz="3200"/>
            </a:br>
            <a:r>
              <a:rPr b="0" lang="nl-NL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ris.eu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inland-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ecdis@ris.eu</a:t>
            </a:r>
            <a:br>
              <a:rPr sz="2400"/>
            </a:br>
            <a:endParaRPr b="0" lang="en-US" sz="2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85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D741F-A150-4E75-A0BA-7F055F04B153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Bernd Birklhuber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Federal Ministry of Transport, Innovation and Technology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Radetzkystrasse 2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A-1030 Wien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Tel.: +43 1 71162 655902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Mobile: +43 664 8188909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E-mail: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bernd.birklhuber@bmvit.gv.at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82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3B29C-4CCB-44AA-A348-C26A950C9A61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8840" indent="-528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3200" spc="-1" strike="noStrike">
                <a:solidFill>
                  <a:srgbClr val="663300"/>
                </a:solidFill>
                <a:latin typeface="Tahoma"/>
              </a:rPr>
              <a:t>Inland ECDIS expert group and </a:t>
            </a:r>
            <a:br>
              <a:rPr sz="3200"/>
            </a:br>
            <a:r>
              <a:rPr b="0" lang="nl-NL" sz="3200" spc="-1" strike="noStrike">
                <a:solidFill>
                  <a:srgbClr val="663300"/>
                </a:solidFill>
                <a:latin typeface="Tahoma"/>
              </a:rPr>
              <a:t>Inland ENC Harmonization Group (IEHG)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marL="528840" indent="-528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3200" spc="-1" strike="noStrike">
                <a:solidFill>
                  <a:srgbClr val="663300"/>
                </a:solidFill>
                <a:latin typeface="Tahoma"/>
              </a:rPr>
              <a:t>Overview of editions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marL="528840" indent="-528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3200" spc="-1" strike="noStrike">
                <a:solidFill>
                  <a:srgbClr val="663300"/>
                </a:solidFill>
                <a:latin typeface="Tahoma"/>
              </a:rPr>
              <a:t>What’s new in edition 2.3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marL="528840" indent="-528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Procedures in different international organizations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marL="528840" indent="-5288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Questions to SC.3/WP.3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Inland ECDIS expert group and IEHG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88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75611-C37B-4AF9-A6FA-8F49E4ABDE5F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The Inland ECDIS expert group is an independent European (including the Russian Federation) expert group, working for EC, UNECE, CCNR, DC, Sava Commission, etc.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The Inland ENC Harmonization Group (IEHG) is a worldwide expert group for electronic charts for inland navigation, which is recognized by IHO. </a:t>
            </a:r>
            <a:br>
              <a:rPr sz="2800"/>
            </a:b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Active members: Inland ECDIS expert group, USA, Brazil, Venezuela, China, South Korea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Inland ECDIS expert group and IEHG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94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FB0CD-B6B4-4DCD-99C6-EF3C0D44287A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The first Inland ECDIS standard was a European project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Now the charts (Inland ENCs) are standardized by IEHG and the Inland ECDIS applications for the display of these charts are standardized by the Inland ECDIS expert group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The Inland ECDIS standard is containing both parts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Overview of edi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E0072-B9A3-4046-A029-76A6641C77CF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Edition 2.0 of the Inland ECDIS Standard: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CCNR: adopted and published in 2006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UNECE: adopted and published as resolution 48 in 2007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Danube Commission: adopted in 2007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U: adopted in the written procedure by the RIS Committee in Jannuary 2009, not published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In use in BE, CH, CZ, DE, HR, NL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Overview of edi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06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E55B5-3F0C-44E1-AA8B-7013E5FE10AB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Edition 2.1 of the Inland ECDIS Standard: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CCNR: adopted, but formally not set into force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UNECE: content accepted, but formally not set into force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Danube Commission: adopted and published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U: ---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In use in AT, DE, HR and PL, in preparation in BG, HU, RO, SK, SR, UA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Overview of edi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12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CC316-F391-4872-BF3C-0EF5F3C727E6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Edition 2.2 of the Product Specification for Inland ENCs: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dition 2.2 has only been adopted as an edition of the Product Specification for Inland ENCs to take into account the requests of South America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An edition 2.2 of the (European) Inland ECDIS standard has not been produced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Overview of edi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18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8115E-ABBC-4F76-A679-4E6604FBC3C4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Edition 2.3 of the Inland ECDIS standard: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lvl="1" marL="109368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CCNR: accepted by RIS/G in May 2011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9368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UNECE: discussion in June 2011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9368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Danube Commission: accepted in April 2011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9368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U: presented in the RIS Committee in March 2011, publication planned for summer 2011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9368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U member states will have to comply with this edition within 30 months after publication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2" marL="150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What’s new in Edition 2.3?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24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AD942-918F-47AA-ADD4-FB16967D5052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Alignment with the latest versions of the IHO and IEC standard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refore compatible with ECDIS carriage requirement of IMO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Improved presentation of Inland AIS information based on experience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Improved presentation of notice mark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Improved connection to other RIS via location code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rrors of earlier versions corrected and results of the task force Quality Standards taken into acount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Full editorial alignment of all international standard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34:04Z</dcterms:created>
  <dc:creator>Bernd Birklhuber</dc:creator>
  <dc:description/>
  <dc:language>en-US</dc:language>
  <cp:lastModifiedBy>Jaimurzina</cp:lastModifiedBy>
  <dcterms:modified xsi:type="dcterms:W3CDTF">2011-06-07T11:32:50Z</dcterms:modified>
  <cp:revision>74</cp:revision>
  <dc:subject>IRIS II, SuAcc 1.1</dc:subject>
  <dc:title>Accuracy requirements for IENC</dc:title>
</cp:coreProperties>
</file>