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B46D-E4A4-441A-B32C-B1FDB7CD45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ED8-A7C0-44EA-B8A7-CD435060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62C3-261A-4E82-A54D-CF134DCD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BCE-529C-4C6C-A6F6-52ED40BA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2579-7F7E-4F74-A703-F47B0E51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36AB-A71D-43B0-9CE3-E3550641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CD81-7E3F-4F38-8299-19F2F260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C72A-A5F9-494E-B853-19B16BE52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6A43-84F8-4352-BB1E-E8DF53C28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B06-C80B-4CEE-9774-C8EC1F179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6FDE-360C-474F-88AB-A8D4AA63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781-D799-4778-9CC5-24746A351D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c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5219640" y="6170760"/>
            <a:ext cx="5145120" cy="6872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68360" y="260280"/>
            <a:ext cx="191448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e6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4c6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95280" y="6165720"/>
            <a:ext cx="1914480" cy="5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63640" y="2133360"/>
            <a:ext cx="7416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4e62"/>
                </a:solidFill>
                <a:latin typeface="Arial"/>
              </a:rPr>
              <a:t>Edition 3 </a:t>
            </a:r>
            <a:br>
              <a:rPr sz="4000"/>
            </a:br>
            <a:r>
              <a:rPr b="1" lang="en-GB" sz="4000" spc="-1" strike="noStrike">
                <a:solidFill>
                  <a:srgbClr val="004e62"/>
                </a:solidFill>
                <a:latin typeface="Arial"/>
              </a:rPr>
              <a:t>of</a:t>
            </a:r>
            <a:br>
              <a:rPr sz="4000"/>
            </a:br>
            <a:r>
              <a:rPr b="1" lang="en-GB" sz="4000" spc="-1" strike="noStrike">
                <a:solidFill>
                  <a:srgbClr val="004e62"/>
                </a:solidFill>
                <a:latin typeface="Arial"/>
              </a:rPr>
              <a:t>The PIANC RIS guidelines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2000" spc="-1" strike="noStrike">
                <a:solidFill>
                  <a:srgbClr val="004e62"/>
                </a:solidFill>
                <a:latin typeface="Arial"/>
              </a:rPr>
              <a:t>Cas Willems (Chairman PIANC WG 125)</a:t>
            </a:r>
            <a:endParaRPr b="0" lang="en-US" sz="2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47280" y="4149720"/>
            <a:ext cx="691380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3640" y="333360"/>
            <a:ext cx="51451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commendation for individual ser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tricted description of the RIS services and no specification 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bour d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 enfor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ations on the implementation of RI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RIS Key technologies and </a:t>
            </a:r>
            <a:br>
              <a:rPr sz="3200"/>
            </a:b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RIS Services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Information categories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6021360"/>
            <a:ext cx="457200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19272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4e62"/>
                </a:solidFill>
                <a:latin typeface="Arial"/>
              </a:rPr>
              <a:t>Replacing 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graphicFrame>
        <p:nvGraphicFramePr>
          <p:cNvPr id="116" name="Rectangle 3"/>
          <p:cNvGraphicFramePr/>
          <p:nvPr/>
        </p:nvGraphicFramePr>
        <p:xfrm>
          <a:off x="1042920" y="1373040"/>
          <a:ext cx="69850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373040"/>
                    <a:ext cx="69850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pter on planning of a 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pon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ning pro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wise development of 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on structured approach of the implementation of RI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s for a structured approach on the implementation of 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consid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RIS layered implementationmodel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Skagen Fyr 021"/>
          <p:cNvPicPr/>
          <p:nvPr/>
        </p:nvPicPr>
        <p:blipFill>
          <a:blip r:embed="rId1"/>
          <a:stretch/>
        </p:blipFill>
        <p:spPr>
          <a:xfrm>
            <a:off x="-36360" y="-316080"/>
            <a:ext cx="9180360" cy="74678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004e62"/>
                </a:solidFill>
                <a:latin typeface="Arial"/>
              </a:rPr>
              <a:t>PIANC RIS working Group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us report on the implementation and operation of River Inform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of the PIANC RIS Guidelines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working group members fr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, Belgium, China, Czech Republic, Finland, France, Germany, Hungary, Poland, Russia, Serbia, The Netherlands (Chairman), U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PIANC RIS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1: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: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IANC guidelines became accepted in different parts of the world and are the basis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IS directive of the European Commission (Directive 2005/44/EC - as ame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Guidelines and Recommendations for River Information Services of the CCNR annex to protocol 2003-I-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E Resolution No.57 on River Information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4e62"/>
                </a:solidFill>
                <a:latin typeface="Arial"/>
              </a:rPr>
              <a:t>Why updating the Guidelines ?</a:t>
            </a:r>
            <a:endParaRPr b="0" lang="en-US" sz="32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xperiences and lessons learned on implementation of RIS ser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 key technologies developed and formali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ndards inclu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ological developments inclu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ference data, RIS index, Hull data were mi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actical experiences on implementation processes of RIS in 2011 versus research status of RIS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issions and cor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dition 2 –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over in edition 3 with some additional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tion 3 -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 Operator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 Provid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 key technolo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document on RIS defin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apter on architecture of RIS wi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-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functions and information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reg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on Objectives, Services and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Objectives as edition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ervices (see next sl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takeholders detailed description/specif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 services as a separate chap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descriptions on tasks, regulations, applications and systems are dele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IS Servic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3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 INFORM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ffic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 Fairway information Services (F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  Traffic information (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Tactical traffic information (T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Strategic traffic information (S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  Traffic management (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Local traffic management (vessel traffic services - V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Lock and bridge management (LB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Traffic Planning T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  Calamity abatement support (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nsport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  Information for transport logistics (IT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Voyage planning (V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ransport management (TP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Inter-modal port and terminal management (P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) Cargo and fleet management (CF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  Information for law enforcement (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  Statistics (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  Waterway charges and harbour dues (CH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ble 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IVER INFORM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ffic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  Fairway information service (F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Visual aids to navig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Radiotelephone service on inland waterw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Internet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) Electronic navigational chart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  Trafic information (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Tactical traffic information (T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Strategic traffic information (STI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3  Traffic management (T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Local traffic management (vessel traffic services - VT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Navigational support (N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Lock and bridge management (LB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4  Calamity abatement support (C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ainly transport rel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  Information for transport logistics (IT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Voyage planning (V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ransport management (TP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Inter-modal port and terminal management (PT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) Cargo and fleet management (CF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6  Information for law enforcement (I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7  Statistics (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8  Waterway charges and harbour dues (CH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evised guidelines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dition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nexes on standardisation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EC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s to Ski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tion 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pter on RIS key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EC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land 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ctronic repor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s to Ski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 referenc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l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 related technolo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4e6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ar, VH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4e6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ope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4e62"/>
                </a:solidFill>
                <a:latin typeface="Arial"/>
              </a:rPr>
              <a:t>RIS key technologies and reference data</a:t>
            </a:r>
            <a:endParaRPr b="0" lang="en-US" sz="4000" spc="-1" strike="noStrike">
              <a:solidFill>
                <a:srgbClr val="004e62"/>
              </a:solidFill>
              <a:latin typeface="Arial"/>
            </a:endParaRPr>
          </a:p>
        </p:txBody>
      </p:sp>
      <p:pic>
        <p:nvPicPr>
          <p:cNvPr id="104" name="Rectangle 3" descr=""/>
          <p:cNvPicPr/>
          <p:nvPr/>
        </p:nvPicPr>
        <p:blipFill>
          <a:blip r:embed="rId1"/>
          <a:stretch/>
        </p:blipFill>
        <p:spPr>
          <a:xfrm>
            <a:off x="1193760" y="1849320"/>
            <a:ext cx="675468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41:27Z</dcterms:created>
  <dc:creator>rudolf.stefanich</dc:creator>
  <dc:description/>
  <dc:language>en-US</dc:language>
  <cp:lastModifiedBy>willemsc</cp:lastModifiedBy>
  <dcterms:modified xsi:type="dcterms:W3CDTF">2011-06-14T19:03:24Z</dcterms:modified>
  <cp:revision>253</cp:revision>
  <dc:subject/>
  <dc:title>Titel</dc:title>
</cp:coreProperties>
</file>