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DE26-070A-4CB9-80B9-48A697921B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DEC4-9957-4273-AC02-98589EEA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47E9-5338-4EB6-8417-5AD37C14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1CB5-A3B6-4DFF-B0DD-7F2AAD55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D87D-C54C-4FB2-9190-D06C8134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035B-2802-4DED-ABCF-F2559A9F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F875-159E-432C-8613-EA2F1722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2BB-D479-495A-A989-35EFBDB3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9C09-E04F-4EF6-A719-9C8B78B0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B663-A07F-4683-BD37-76F7ECC9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4631-C0F1-4EB7-933B-6F28C5F8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A689-3642-49F2-B545-E780067801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e6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4c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5219640" y="6170760"/>
            <a:ext cx="5145120" cy="6872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1914480" cy="52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e6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4c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1914480" cy="52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63640" y="213336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4e62"/>
                </a:solidFill>
                <a:latin typeface="Arial"/>
              </a:rPr>
              <a:t>Edition 3 </a:t>
            </a:r>
            <a:br>
              <a:rPr sz="4000"/>
            </a:br>
            <a:r>
              <a:rPr b="1" lang="en-GB" sz="4000" spc="-1" strike="noStrike">
                <a:solidFill>
                  <a:srgbClr val="004e62"/>
                </a:solidFill>
                <a:latin typeface="Arial"/>
              </a:rPr>
              <a:t>of</a:t>
            </a:r>
            <a:br>
              <a:rPr sz="4000"/>
            </a:br>
            <a:r>
              <a:rPr b="1" lang="en-GB" sz="4000" spc="-1" strike="noStrike">
                <a:solidFill>
                  <a:srgbClr val="004e62"/>
                </a:solidFill>
                <a:latin typeface="Arial"/>
              </a:rPr>
              <a:t>The PIANC RIS guidelines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2000" spc="-1" strike="noStrike">
                <a:solidFill>
                  <a:srgbClr val="004e62"/>
                </a:solidFill>
                <a:latin typeface="Arial"/>
              </a:rPr>
              <a:t>Cas Willems (Chairman PIANC WG 125)</a:t>
            </a:r>
            <a:endParaRPr b="0" lang="en-US" sz="20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47280" y="4149720"/>
            <a:ext cx="6913800" cy="6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03640" y="333360"/>
            <a:ext cx="514512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4e62"/>
                </a:solidFill>
                <a:latin typeface="Arial"/>
              </a:rPr>
              <a:t>Revised guidelines</a:t>
            </a:r>
            <a:endParaRPr b="0" lang="en-US" sz="40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dition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commendation for individual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tricted description of the RIS services and no specification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bour d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w enfor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ations on the implementation of RI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4e62"/>
                </a:solidFill>
                <a:latin typeface="Arial"/>
              </a:rPr>
              <a:t>RIS Key technologies and </a:t>
            </a:r>
            <a:br>
              <a:rPr sz="3200"/>
            </a:br>
            <a:r>
              <a:rPr b="0" lang="nl-NL" sz="3200" spc="-1" strike="noStrike">
                <a:solidFill>
                  <a:srgbClr val="004e62"/>
                </a:solidFill>
                <a:latin typeface="Arial"/>
              </a:rPr>
              <a:t>RIS Services</a:t>
            </a:r>
            <a:endParaRPr b="0" lang="en-US" sz="32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6472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4e62"/>
                </a:solidFill>
                <a:latin typeface="Arial"/>
              </a:rPr>
              <a:t>Information categories</a:t>
            </a:r>
            <a:endParaRPr b="0" lang="en-US" sz="32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6021360"/>
            <a:ext cx="457200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6192720" cy="58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4e62"/>
                </a:solidFill>
                <a:latin typeface="Arial"/>
              </a:rPr>
              <a:t>Replacing 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graphicFrame>
        <p:nvGraphicFramePr>
          <p:cNvPr id="116" name="Rectangle 3"/>
          <p:cNvGraphicFramePr/>
          <p:nvPr/>
        </p:nvGraphicFramePr>
        <p:xfrm>
          <a:off x="1042920" y="1373040"/>
          <a:ext cx="6985080" cy="449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373040"/>
                    <a:ext cx="698508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4e62"/>
                </a:solidFill>
                <a:latin typeface="Arial"/>
              </a:rPr>
              <a:t>Revised guidelines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dition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apter on planning of a 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nning pro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wise development of 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ion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on structured approach of the implementation of RI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 for a structured approach on the implementation of 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4e62"/>
                </a:solidFill>
                <a:latin typeface="Arial"/>
              </a:rPr>
              <a:t>RIS layered implementationmodel</a:t>
            </a:r>
            <a:endParaRPr b="0" lang="en-US" sz="32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Skagen Fyr 021"/>
          <p:cNvPicPr/>
          <p:nvPr/>
        </p:nvPicPr>
        <p:blipFill>
          <a:blip r:embed="rId1"/>
          <a:stretch/>
        </p:blipFill>
        <p:spPr>
          <a:xfrm>
            <a:off x="-36360" y="-316080"/>
            <a:ext cx="9180360" cy="7467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4e62"/>
                </a:solidFill>
                <a:latin typeface="Arial"/>
              </a:rPr>
              <a:t>PIANC RIS working Group</a:t>
            </a:r>
            <a:endParaRPr b="0" lang="en-US" sz="40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report on the implementation and operation of River Information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of the PIANC RIS Guidelines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working group members fr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ia, Belgium, China, Czech Republic, Finland, France, Germany, Hungary, Poland, Russia, Serbia, The Netherlands (Chairman), US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4e62"/>
                </a:solidFill>
                <a:latin typeface="Arial"/>
              </a:rPr>
              <a:t>PIANC RIS guidelines</a:t>
            </a:r>
            <a:endParaRPr b="0" lang="en-US" sz="40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dition 1: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dition 2: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IANC guidelines became accepted in different parts of the world and are the basi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S directive of the European Commission (Directive 2005/44/EC - as amen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Guidelines and Recommendations for River Information Services of the CCNR annex to protocol 2003-I-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CE Resolution No.57 on River Information Ser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4e62"/>
                </a:solidFill>
                <a:latin typeface="Arial"/>
              </a:rPr>
              <a:t>Why updating the Guidelines ?</a:t>
            </a:r>
            <a:endParaRPr b="0" lang="en-US" sz="32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periences and lessons learned on implementation of RIS ser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 key technologies developed and formal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ndards inclu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chnological developments inclu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ference data, RIS index, Hull data were mi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actical experiences on implementation processes of RIS in 2011 versus research status of RIS 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missions and cor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4e62"/>
                </a:solidFill>
                <a:latin typeface="Arial"/>
              </a:rPr>
              <a:t>Revised guidelines</a:t>
            </a:r>
            <a:endParaRPr b="0" lang="en-US" sz="40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dition 2 –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over in edition 3 with some additional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ion 3 -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 Operato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 Provid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 key techn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document on RIS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4e62"/>
                </a:solidFill>
                <a:latin typeface="Arial"/>
              </a:rPr>
              <a:t>Revised guidelines</a:t>
            </a:r>
            <a:endParaRPr b="0" lang="en-US" sz="40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dition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apter on architecture of RIS 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-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functions and information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reg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ion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on Objectives, Services and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Objectives as edi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Services (see next sl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Stakeholders detailed description/specif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services as a separate chap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descriptions on tasks, regulations, applications and systems are de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4e62"/>
                </a:solidFill>
                <a:latin typeface="Arial"/>
              </a:rPr>
              <a:t>RIS Services</a:t>
            </a:r>
            <a:endParaRPr b="0" lang="en-US" sz="40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3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VER INFORMATION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Mainly traffic re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  Fairway information Services (F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  Traffic information (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Tactical traffic information (TTI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Strategic traffic information (STI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3  Traffic management (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Local traffic management (vessel traffic services - V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Lock and bridge management (LB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Traffic Planning 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  Calamity abatement support (C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Mainly transport re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5  Information for transport logistics (IT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Voyage planning (V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ransport management (TP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Inter-modal port and terminal management (P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) Cargo and fleet management (CF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6  Information for law enforcement (I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7  Statistics (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8  Waterway charges and harbour dues (CH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VER INFORMATION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Mainly traffic re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  Fairway information service (F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Visual aids to navig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Radiotelephone service on inland waterw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Internet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) Electronic navigational chart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  Trafic information (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Tactical traffic information (TTI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Strategic traffic information (STI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3  Traffic management (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Local traffic management (vessel traffic services - V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Navigational support (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Lock and bridge management (LB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  Calamity abatement support (C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Mainly transport re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5  Information for transport logistics (IT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Voyage planning (V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ransport management (T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Inter-modal port and terminal management (P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) Cargo and fleet management (CF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6  Information for law enforcement (I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7  Statistics (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8  Waterway charges and harbour dues (CH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4e62"/>
                </a:solidFill>
                <a:latin typeface="Arial"/>
              </a:rPr>
              <a:t>Revised guidelines</a:t>
            </a:r>
            <a:endParaRPr b="0" lang="en-US" sz="40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dition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nexes on standardisation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land EC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land 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ic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s to Ski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ion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on RIS key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land EC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land 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ic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s to Ski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 referenc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l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 related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ar, VH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ope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4e62"/>
                </a:solidFill>
                <a:latin typeface="Arial"/>
              </a:rPr>
              <a:t>RIS key technologies and reference data</a:t>
            </a:r>
            <a:endParaRPr b="0" lang="en-US" sz="4000" spc="-1" strike="noStrike">
              <a:solidFill>
                <a:srgbClr val="004e62"/>
              </a:solidFill>
              <a:latin typeface="Arial"/>
            </a:endParaRPr>
          </a:p>
        </p:txBody>
      </p:sp>
      <p:pic>
        <p:nvPicPr>
          <p:cNvPr id="104" name="Rectangle 3" descr=""/>
          <p:cNvPicPr/>
          <p:nvPr/>
        </p:nvPicPr>
        <p:blipFill>
          <a:blip r:embed="rId1"/>
          <a:stretch/>
        </p:blipFill>
        <p:spPr>
          <a:xfrm>
            <a:off x="1193760" y="1849320"/>
            <a:ext cx="675468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9:41:27Z</dcterms:created>
  <dc:creator>rudolf.stefanich</dc:creator>
  <dc:description/>
  <dc:language>en-US</dc:language>
  <cp:lastModifiedBy>willemsc</cp:lastModifiedBy>
  <dcterms:modified xsi:type="dcterms:W3CDTF">2011-06-14T19:03:24Z</dcterms:modified>
  <cp:revision>253</cp:revision>
  <dc:subject/>
  <dc:title>Titel</dc:title>
</cp:coreProperties>
</file>