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815-8BBF-42FC-8BFC-CFD8D5894E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F65-DE60-4767-98AF-FAA636C5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92E-3536-4D40-89CC-6C292654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DE9-BD3E-4844-A961-510B9999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C3F-0C5A-42DF-AC55-850BF934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92B-9378-4EAD-A793-42C15784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FA1-3DDB-4DA1-B855-73CA8B88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82C-85A2-4DC7-B05D-8EA40B7C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CB1-FF9D-4331-AA3B-E81BD423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167-9DA5-4881-AF48-A576D9C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CF8-BBFB-4C95-88FE-50DA0CC5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235-E23B-4DEE-B55C-662EB864FA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c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219640" y="6170760"/>
            <a:ext cx="5145120" cy="6872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191448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c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191448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213336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4e62"/>
                </a:solidFill>
                <a:latin typeface="Arial"/>
              </a:rPr>
              <a:t>Edition 3 </a:t>
            </a:r>
            <a:br>
              <a:rPr sz="4000"/>
            </a:br>
            <a:r>
              <a:rPr b="1" lang="en-GB" sz="4000" spc="-1" strike="noStrike">
                <a:solidFill>
                  <a:srgbClr val="004e62"/>
                </a:solidFill>
                <a:latin typeface="Arial"/>
              </a:rPr>
              <a:t>of</a:t>
            </a:r>
            <a:br>
              <a:rPr sz="4000"/>
            </a:br>
            <a:r>
              <a:rPr b="1" lang="en-GB" sz="4000" spc="-1" strike="noStrike">
                <a:solidFill>
                  <a:srgbClr val="004e62"/>
                </a:solidFill>
                <a:latin typeface="Arial"/>
              </a:rPr>
              <a:t>The PIANC RIS guideline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2000" spc="-1" strike="noStrike">
                <a:solidFill>
                  <a:srgbClr val="004e62"/>
                </a:solidFill>
                <a:latin typeface="Arial"/>
              </a:rPr>
              <a:t>Cas Willems (Chairman PIANC WG 125)</a:t>
            </a:r>
            <a:endParaRPr b="0" lang="en-US" sz="2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47280" y="4149720"/>
            <a:ext cx="691380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51451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commendation for individual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tricted description of the RIS services and no specification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bour 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 enfor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on the implementation of RI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RIS Key technologies and </a:t>
            </a:r>
            <a:br>
              <a:rPr sz="3200"/>
            </a:b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RIS Services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Information categories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6021360"/>
            <a:ext cx="4572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19272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4e62"/>
                </a:solidFill>
                <a:latin typeface="Arial"/>
              </a:rPr>
              <a:t>Replacing 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042920" y="1373040"/>
          <a:ext cx="69850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73040"/>
                    <a:ext cx="69850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pter on planning of a 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ning pr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wise development of 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on structured approach of the implementation of RI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for a structured approach on the implementation of 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RIS layered implementationmodel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Skagen Fyr 021"/>
          <p:cNvPicPr/>
          <p:nvPr/>
        </p:nvPicPr>
        <p:blipFill>
          <a:blip r:embed="rId1"/>
          <a:stretch/>
        </p:blipFill>
        <p:spPr>
          <a:xfrm>
            <a:off x="-36360" y="-316080"/>
            <a:ext cx="9180360" cy="7467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4e62"/>
                </a:solidFill>
                <a:latin typeface="Arial"/>
              </a:rPr>
              <a:t>PIANC RIS working Group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report on the implementation and operation of River Inform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of the PIANC RIS Guidelines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working group members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, Belgium, China, Czech Republic, Finland, France, Germany, Hungary, Poland, Russia, Serbia, The Netherlands (Chairman), U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PIANC RIS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1: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: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ANC guidelines became accepted in different parts of the world and are the basi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 directive of the European Commission (Directive 2005/44/EC - as ame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Guidelines and Recommendations for River Information Services of the CCNR annex to protocol 2003-I-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 Resolution No.57 on River Information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Why updating the Guidelines ?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eriences and lessons learned on implementation of RIS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 key technologies developed and formal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ndards inclu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ological developments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ference data, RIS index, Hull data were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actical experiences on implementation processes of RIS in 2011 versus research status of RIS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issions and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dition 2 –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over in edition 3 with some additional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on 3 -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 Operato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 Provid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 key 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document on RIS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pter on architecture of RIS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-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functions and inform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on Objectives, Services and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Objectives as edi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ervices (see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takeholders detailed description/spec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ervices as a separate chap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descriptions on tasks, regulations, applications and systems ar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IS Servic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 INFORM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ffic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 Fairway information Services (F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  Traffic information (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Tactical traffic information (T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Strategic traffic information (S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  Traffic management (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Local traffic management (vessel traffic services - V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Lock and bridge management (LB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Traffic Planning 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  Calamity abatement support (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nsport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  Information for transport logistics (IT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Voyage planning (V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ransport management (TP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Inter-modal port and terminal management (P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) Cargo and fleet management (CF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  Information for law enforcement (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  Statistics (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  Waterway charges and harbour dues (CH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 INFORM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ffic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 Fairway information service (F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Visual aids to nav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Radiotelephone service on inland water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Internet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) Electronic navigational chart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  Trafic information (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Tactical traffic information (T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Strategic traffic information (S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  Traffic management (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Local traffic management (vessel traffic services - V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Navigational support (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Lock and bridge management (LB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  Calamity abatement support (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nsport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  Information for transport logistics (IT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Voyage planning (V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ransport management (T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Inter-modal port and terminal management (P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) Cargo and fleet management (CF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  Information for law enforcement (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  Statistics (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  Waterway charges and harbour dues (CH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nexes on standardisati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EC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s to Ski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on RIS key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EC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s to Ski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 referen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l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 related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ar, V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ope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IS key technologies and reference data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1193760" y="1849320"/>
            <a:ext cx="675468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41:27Z</dcterms:created>
  <dc:creator>rudolf.stefanich</dc:creator>
  <dc:description/>
  <dc:language>en-US</dc:language>
  <cp:lastModifiedBy>willemsc</cp:lastModifiedBy>
  <dcterms:modified xsi:type="dcterms:W3CDTF">2011-06-14T19:03:24Z</dcterms:modified>
  <cp:revision>253</cp:revision>
  <dc:subject/>
  <dc:title>Titel</dc:title>
</cp:coreProperties>
</file>