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82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19600" y="0"/>
            <a:ext cx="2977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fr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251A0C-60BF-4AF1-A996-BC7C5001B4F6}" type="datetime"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09360" y="763560"/>
            <a:ext cx="4979880" cy="373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5840" y="4728960"/>
            <a:ext cx="49658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54680"/>
            <a:ext cx="2978280" cy="4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fr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19600" y="9454680"/>
            <a:ext cx="2977920" cy="4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D94F0C-288E-425E-B77F-61C79E5F3F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19600" y="9455040"/>
            <a:ext cx="297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F69C54-FFE7-4CF1-BC32-505B547632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09720" y="763560"/>
            <a:ext cx="4979880" cy="3735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5840" y="4728960"/>
            <a:ext cx="49658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19600" y="9455040"/>
            <a:ext cx="297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50F60A-F555-4D53-B7DA-E739475B07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09720" y="763560"/>
            <a:ext cx="4979880" cy="37353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728960"/>
            <a:ext cx="49658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19600" y="9455040"/>
            <a:ext cx="297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D0C35B-0B80-4B76-B6DC-3AC1AC13BA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09720" y="763560"/>
            <a:ext cx="4979880" cy="37353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728960"/>
            <a:ext cx="49658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19600" y="9455040"/>
            <a:ext cx="297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8F37F6-BF18-47BA-9722-970502E3AD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09720" y="763560"/>
            <a:ext cx="4979880" cy="37353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5840" y="4728960"/>
            <a:ext cx="49658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19600" y="9455040"/>
            <a:ext cx="297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0171C2-BB1D-4B55-A78F-4246BFB548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09720" y="763560"/>
            <a:ext cx="4979880" cy="3735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5840" y="4728960"/>
            <a:ext cx="49658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19600" y="9454680"/>
            <a:ext cx="2977920" cy="4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6311ED-DD9F-46DE-94F9-2D0652E8B3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BCA5-D250-4F26-91D6-41E3889E4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032720"/>
            <a:ext cx="77724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30AE-5BC2-490B-8E7B-4B15C948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03272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03272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B8BA-5A9B-4992-8B8F-B35BCAD7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2502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700280"/>
            <a:ext cx="2502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700280"/>
            <a:ext cx="2502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032720"/>
            <a:ext cx="2502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032720"/>
            <a:ext cx="2502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032720"/>
            <a:ext cx="2502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E38D-9F8A-4069-B1EF-64A6E5D2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694E-345D-4D13-A245-95B2DB06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7BF1-0F99-4711-AA7F-431C1035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0FE9-C3F4-4BD0-9F86-27C526DE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2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3792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69E6-7773-4645-8142-8BD55D09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838D-A4FF-43C8-B535-D658505C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360" y="475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8A84-8C01-48F0-B916-0182F6BE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3792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03272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FE58-8342-49A5-B53F-0D43E607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A2D5-3A71-4C92-AFB0-EA2DBC42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2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03272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202A-3366-40C9-9224-F9BB9F86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032720"/>
            <a:ext cx="77724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FBDC-FD99-42AB-A205-65340A63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032720"/>
            <a:ext cx="77724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4585-273D-463A-AEAD-133FFEB5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03272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03272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0E19-3C88-4AB4-BEB1-2DE3F2DB7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2502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700280"/>
            <a:ext cx="2502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700280"/>
            <a:ext cx="2502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032720"/>
            <a:ext cx="2502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032720"/>
            <a:ext cx="2502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032720"/>
            <a:ext cx="2502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DD21-8518-48B8-BC75-0A44DDE71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395B-A33B-435A-B11B-11CB7D58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2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3792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3E98-854F-4138-B0EB-B75BB985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D4DC-D9A3-4B45-983F-67538595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475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9852-51A2-4C1D-8D24-E807E0C5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3792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03272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5BCC-E30C-4B76-81A9-F8997F90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2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03272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AE3A-E927-43CD-91F4-E7BD0556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032720"/>
            <a:ext cx="77724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4E0C-C31D-4C2E-819B-C1DFFBDE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436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7E46-2A45-4837-B324-B9DDB179FDC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44364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C30D-CF24-413B-8E09-5847CB7266C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4360" y="1700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CF09-4A42-4464-BF86-5A4123CB2BF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B652-BF94-475C-BF77-2BE1C9013F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Picture 6" descr="UNlogo1"/>
          <p:cNvPicPr/>
          <p:nvPr/>
        </p:nvPicPr>
        <p:blipFill>
          <a:blip r:embed="rId1"/>
          <a:stretch/>
        </p:blipFill>
        <p:spPr>
          <a:xfrm>
            <a:off x="3708360" y="115920"/>
            <a:ext cx="1584360" cy="14050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7848360" cy="22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UNECE Inventory of main standards and parameters of the E Waterway network: state of play and next step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24360" y="4941720"/>
            <a:ext cx="43210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UNECE</a:t>
            </a:r>
            <a:br>
              <a:rPr sz="2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TRANS/SC.3/WP.3</a:t>
            </a:r>
            <a:br>
              <a:rPr sz="2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39th session, 16 June 2011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963800" y="3948120"/>
            <a:ext cx="177948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lue Book: impact and u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rce of updates to AG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mendments at 52nd session of SC.3, 200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in strategic studies (PLATINA’s inventori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413240" y="3213000"/>
            <a:ext cx="2535120" cy="3384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325520" y="3214800"/>
            <a:ext cx="2382840" cy="33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3D6B-1C87-446A-A8CC-8EEC44181C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Second revised edition (Rev.2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4th session of SC.3, 2010: Working Party requested secretariat to proceed with the updating of the 2006 ed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vernments to provide upd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TINA Inventory used to complete part on bottlenecks and missing lin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A011-5B9B-4608-A7E8-9898EF0766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v.2: work of the SC.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te Paper on efficient and sustainable inland water transport in Europe (2011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rther strengthen the monitoring mechanism to review and update the development of the AGN network, its inland navigation ports of international importance as well as applicable technical and operational parame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particular, strengthen the UNECE work on maintaining of its Inventory of Main Standards and Parameters of the E Waterway Network (“Blue Book”) [...] by coordinating this work with relevant IWT infrastructure related programmes [...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39FA-45AB-4A8C-A872-948ADACDFA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v.2: plann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3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ril 2011: first updates sent by coun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 June 2011: first draft presented in informal document SC.3/WP.3 No. 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End July 2011: other countries to send upd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ember 2011: secretariat circulates final draft to Governments for valid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-14 October 2011: SC.3 endorses final dra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 2011: second revised edition publis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bruary 2012: presented at Inland Transport Committ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4271-A535-422C-B782-290DF78348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4360" y="163008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4 countries already provided updat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2565360"/>
            <a:ext cx="244800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laru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lgiu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lgaria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zech Republic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nce (VNF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rman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al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565360"/>
            <a:ext cx="266364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thuania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xembour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herland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ssian Feder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bia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witzerlan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ited Kingdo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v.2: status of wor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3982-B984-4AF2-B156-746B71257B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v.2: status of wor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554120"/>
            <a:ext cx="8209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% of data modified for those countries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30320" y="2133720"/>
            <a:ext cx="6926400" cy="464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2D9B-2544-4160-9FB3-DB6F824E18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77040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ture develop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26560" y="1341360"/>
            <a:ext cx="7417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ted to the UNECE Inland Transport Committee (201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used for updating the A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used for updating the map of European Waterw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30240" y="4005360"/>
            <a:ext cx="1944720" cy="2736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348000" y="3646440"/>
            <a:ext cx="4608720" cy="310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86E1-5460-4D62-B55D-78772CA7E8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1" name="Picture 6" descr="UNlogo1"/>
          <p:cNvPicPr/>
          <p:nvPr/>
        </p:nvPicPr>
        <p:blipFill>
          <a:blip r:embed="rId1"/>
          <a:stretch/>
        </p:blipFill>
        <p:spPr>
          <a:xfrm>
            <a:off x="3708360" y="152280"/>
            <a:ext cx="1584360" cy="12607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035"/>
          <p:cNvSpPr/>
          <p:nvPr/>
        </p:nvSpPr>
        <p:spPr>
          <a:xfrm>
            <a:off x="324000" y="1773360"/>
            <a:ext cx="853272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or information and updates, please contact: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s. Valérie Blanchar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ECE Transport Divis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erie.blanchard@unece.or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unece.org/trans/main/sc3/sc3.htm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8693-5ECC-458F-8100-5B8BFA65D7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ucture of present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4174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ue Book: backg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ue Book: object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ue Book: conten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ottlenecks and missing lin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racteristics of water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ameters of loc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racteristics of po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ue Book: impact and 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03640" y="1844640"/>
            <a:ext cx="3816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econd revised edi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ork of the SC.3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anning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tus of work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ture development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5A8B-A72B-4FB6-9C71-EFB6B077DC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cc66"/>
                </a:solidFill>
                <a:latin typeface="Arial"/>
              </a:rPr>
              <a:t>Blue Book: backgroun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996: White pap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trends and development of inland navigation and its infra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996: UNECE Working Party on Inland Water Transport (SC.3) agreed to draft a reference document containing technical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aracteristics of European inland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aterways and ports of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ernational impor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998: first ed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2006: first revised ed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56360" y="3860640"/>
            <a:ext cx="1879560" cy="261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CAB0-BCCC-4851-AE9F-23B69D781F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lue Book: objectiv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o show the current infrastructure parameters as compared to the minimum standards and parameters prescribed in the AGN (European Agreement on Main Inland Waterways of International Importan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o enable Governments and intergovernmental organizations to monitor the progress made in the implementation of the A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F543-8C12-46DA-8B34-F0FA64196B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0920" y="189000"/>
            <a:ext cx="77058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lue Book: cont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cation of ga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tlenecks and missing links in the network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UNECE Resolution No. 49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rrent and envisaged infra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vigational characteristics of waterw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ameters of loc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characteristics of po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6264-A625-4549-B4C0-559904A123C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ntents: bottlenecks and missing link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37720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0FFC-D759-455C-A9DF-8E1DA1B857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ntents: characteristics of waterway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1000" y="1306440"/>
            <a:ext cx="9002520" cy="543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F05E-2BE9-4833-980B-38B47B267B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ntents: parameters of lock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60360" y="1317600"/>
            <a:ext cx="8604360" cy="542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23E8-F912-4FB3-AF65-4BAF2D020D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ntents: characteristics of port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320" y="1700280"/>
            <a:ext cx="9037440" cy="460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8768-75CB-48FE-B84C-B02442F9A0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08:13:58Z</dcterms:created>
  <dc:creator>Nowak</dc:creator>
  <dc:description/>
  <dc:language>en-US</dc:language>
  <cp:lastModifiedBy>Blanchard</cp:lastModifiedBy>
  <dcterms:modified xsi:type="dcterms:W3CDTF">2011-06-16T06:35:08Z</dcterms:modified>
  <cp:revision>488</cp:revision>
  <dc:subject/>
  <dc:title>PowerPoint Presentation</dc:title>
</cp:coreProperties>
</file>