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19600" y="0"/>
            <a:ext cx="2977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268338-3933-4A67-B975-A2173DDE0251}" type="datetime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9360" y="763560"/>
            <a:ext cx="4979880" cy="37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54680"/>
            <a:ext cx="297828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19600" y="9454680"/>
            <a:ext cx="297792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336622-967B-4C3A-A087-0872AA6926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3FE8B6-2AF3-47E6-9C7B-B843799B87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2796E-292B-4029-9871-9C5A605221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FFDA7-0601-4AA3-AB87-3DFEC19599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BDD37D-A702-4158-8ABC-65B1206EF2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F9A3C8-27B8-42ED-B8C5-DE81E31A8D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19600" y="9454680"/>
            <a:ext cx="297792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00F29-4C7D-435A-9999-414DF7625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A26-5973-4C3C-8382-7D0FE6F2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FB8-5250-44AF-AC49-0C53AB17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068-8AC3-4D98-88C5-EB7A38E8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68C-7593-4A2D-8091-9AEFEA7B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21C0-F3E1-4922-84B3-91FDA2BA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3B29-0D53-427D-A08A-B95E9134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ABC1-C067-49C9-8295-D0E0FF77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FA1C-3E4D-4BF4-9DA1-524F440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277C-B430-4505-909E-758FE78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743D-B6C5-4576-A885-CB205D95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DA52-AC7F-4027-8A67-6C7EC39E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DB6-1F3A-4C38-9DF4-80F9C86D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6B4B-BAAF-4B9E-97CB-65283F32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4C5E-6BCF-4458-B1BC-BC3784A1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ED95-9645-4610-A01B-EC295F12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24DB-FFFD-4F8A-A876-9F5B77C1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85F7-F778-4520-916C-74D08B93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A77-F11C-4176-8DC4-5B4E633E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96F-79B6-4769-91DD-DB939417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B59-9578-4F5D-89C4-8019675C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BFC-C440-4915-862F-D5806F99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BF7-FD0F-4A9D-A0F6-3C3F73C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C85-2ED0-45F4-9B57-E13FDA3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268-1BCA-4BDB-9C3E-F3DB10E7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436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6222-EC36-4BBD-9D61-D07F45149F3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443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A2CB-D8E6-4307-A07D-5C690134B8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47AD-1F65-4B68-BCD6-6671FA71B2D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1520-F036-4FFD-92C5-99B3EEB10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6" descr="UNlogo1"/>
          <p:cNvPicPr/>
          <p:nvPr/>
        </p:nvPicPr>
        <p:blipFill>
          <a:blip r:embed="rId1"/>
          <a:stretch/>
        </p:blipFill>
        <p:spPr>
          <a:xfrm>
            <a:off x="3708360" y="115920"/>
            <a:ext cx="1584360" cy="1405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784836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UNECE Inventory of main standards and parameters of the E Waterway network: state of play and next step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941720"/>
            <a:ext cx="4321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UNECE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TRANS/SC.3/WP.3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39th session, 16 June 2011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63800" y="3948120"/>
            <a:ext cx="17794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ue Book: impact and u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of updates to AG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mendments at 52nd session of SC.3,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 strategic studies (PLATINA’s inventor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3240" y="3213000"/>
            <a:ext cx="2535120" cy="338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25520" y="3214800"/>
            <a:ext cx="238284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995-DDCC-4718-ADD8-BE11D5799A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econd revised edition (Rev.2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4th session of SC.3, 2010: Working Party requested secretariat to proceed with the updating of the 2006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s to provide upd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TINA Inventory used to complete part on bottlenecks and missing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AEF-E4A2-43BA-AD89-5035369A0D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work of the SC.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 Paper on efficient and sustainable inland water transport in Europe (201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ther strengthen the monitoring mechanism to review and update the development of the AGN network, its inland navigation ports of international importance as well as applicable technical and operational para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particular, strengthen the UNECE work on maintaining of its Inventory of Main Standards and Parameters of the E Waterway Network (“Blue Book”) [...] by coordinating this work with relevant IWT infrastructure related programmes [...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568-4CEB-44E9-A3AE-BC7242D0F5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3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ril 2011: first updates sent by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June 2011: first draft presented in informal document SC.3/WP.3 No.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End July 2011: other countries to send up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2011: secretariat circulates final draft to Governments for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-14 October 2011: SC.3 endorses final dr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2011: second revised edition publi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2012: presented at Inland Transport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9C7-A8CE-4B6B-9DCF-DDBDDA784D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6300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 countries already provided upd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565360"/>
            <a:ext cx="2448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aru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giu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lgar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zech Republ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nce (VNF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565360"/>
            <a:ext cx="266364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huan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xembou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herland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n Fede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b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tzerlan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ed Kingd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status of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6E2-C216-414D-A679-F2204A3682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status of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554120"/>
            <a:ext cx="8209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% of data modified for those countri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30320" y="2133720"/>
            <a:ext cx="6926400" cy="46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B85-2A35-4DEC-A9DF-FE32C63783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77040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 develop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to the UNECE Inland Transport Committee (20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used for updating the A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used for updating the map of European Water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30240" y="4005360"/>
            <a:ext cx="194472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3646440"/>
            <a:ext cx="4608720" cy="31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2E5-3E5B-4F26-84FB-D28900B261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1" name="Picture 6" descr="UNlogo1"/>
          <p:cNvPicPr/>
          <p:nvPr/>
        </p:nvPicPr>
        <p:blipFill>
          <a:blip r:embed="rId1"/>
          <a:stretch/>
        </p:blipFill>
        <p:spPr>
          <a:xfrm>
            <a:off x="3708360" y="152280"/>
            <a:ext cx="1584360" cy="12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35"/>
          <p:cNvSpPr/>
          <p:nvPr/>
        </p:nvSpPr>
        <p:spPr>
          <a:xfrm>
            <a:off x="324000" y="1773360"/>
            <a:ext cx="85327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r information and updates, please contact: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. Valérie Blanchar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CE Transport Divis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erie.blanchard@unece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unece.org/trans/main/sc3/sc3.htm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84D-5D70-4EAD-8CEC-F8FB0291AE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ucture of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4174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cont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ttlenecks and missing lin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stics of wate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meters of 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stics of 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impact and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1844640"/>
            <a:ext cx="3816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cond revised edi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 of the SC.3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us of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develop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97B-CF3A-4BA5-A085-58D9CDBC7C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cc66"/>
                </a:solidFill>
                <a:latin typeface="Arial"/>
              </a:rPr>
              <a:t>Blue Book: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96: White pa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rends and development of inland navigation and its infra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96: UNECE Working Party on Inland Water Transport (SC.3) agreed to draft a reference document containing technica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aracteristics of European inlan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aterways and ports of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98: first 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006: first revised 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187956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2CF-196A-4254-8813-C11784CBA0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ue Book: objectiv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show the current infrastructure parameters as compared to the minimum standards and parameters prescribed in the AGN (European Agreement on Main Inland Waterways of International Import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enable Governments and intergovernmental organizations to monitor the progress made in the implementation of the A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548-93B4-49FA-9D89-3D6A2BD8E1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89000"/>
            <a:ext cx="7705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ue Book: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of g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tlenecks and missing links in the networ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UNECE Resolution No. 4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and envisaged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vigational characteristics of water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meters of 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haracteristics of 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4AB-BEB6-40B3-AC59-F1E08F110E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bottlenecks and missing lin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3772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7BA-5DCD-4356-8EB2-FBB889D5CF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characteristics of waterway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000" y="1306440"/>
            <a:ext cx="9002520" cy="54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B0B-C734-4FFC-98EA-450AC82D90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parameters of loc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0360" y="1317600"/>
            <a:ext cx="8604360" cy="54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15D-9811-4800-8305-E474F16FDE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characteristics of por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0" y="1700280"/>
            <a:ext cx="9037440" cy="46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A27-AC42-4EDC-A0B0-6CC7858F86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8:13:58Z</dcterms:created>
  <dc:creator>Nowak</dc:creator>
  <dc:description/>
  <dc:language>en-US</dc:language>
  <cp:lastModifiedBy>Blanchard</cp:lastModifiedBy>
  <dcterms:modified xsi:type="dcterms:W3CDTF">2011-06-16T06:35:08Z</dcterms:modified>
  <cp:revision>488</cp:revision>
  <dc:subject/>
  <dc:title>PowerPoint Presentation</dc:title>
</cp:coreProperties>
</file>