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82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19600" y="0"/>
            <a:ext cx="297792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614A2F-90D7-4532-BABF-CB89A70C0956}" type="datetime"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09360" y="763560"/>
            <a:ext cx="4979880" cy="373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54680"/>
            <a:ext cx="297828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fr-CH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19600" y="9454680"/>
            <a:ext cx="297792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B4958A-B8D5-4791-A13B-ECC8D790AE0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802EE8-1C1F-4762-95CC-ECCED90550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A59B06-39C4-435C-85A5-398505A8607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F1C1AE-0666-431B-AC7C-05078F79A0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298EDC-1B10-4E3B-B863-632132B327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19600" y="9455040"/>
            <a:ext cx="297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2F5D467-013B-4EE8-91EF-ABA2DCFDC71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9720" y="763560"/>
            <a:ext cx="4979880" cy="3735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728960"/>
            <a:ext cx="49658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3819600" y="9454680"/>
            <a:ext cx="2977920" cy="459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08DEF-7D29-4635-AEB0-8D2EE6371A7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0AE2-8CBE-49A5-82DA-B8E0D4F7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DD18-DE7E-4CF1-9CE5-C3347CF08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C25-D61B-43D1-8D31-87F76722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4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2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00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F1D0-55A8-49A1-9136-054E2CD9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C3F2B-07F9-45DE-B56A-ADB91EE54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7ABE-FA2B-4B99-9A86-4AAA5E5E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11D8-C9D8-481F-8D79-A700CA1B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AF1D-C25F-47D7-ADE0-4E43861E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E513-F10B-41A9-90CF-95529694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C37F-8EA7-4964-86D3-AB9718E6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6F43-8D0B-4E20-896E-337C56E8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8722-DABF-403E-9EEC-41F7B90D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940E8-2465-4FCA-9951-186C91BD8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CFBF-DB50-4102-B5E6-584BDCCC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CAE68-FF9F-4713-8299-45F44176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815F-34CC-4E66-BE62-629067A0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0000" y="170028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4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0000" y="4032720"/>
            <a:ext cx="250236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A696-6AF7-4DBE-A6B5-D9A52715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421-4A44-42AE-957E-B55C2739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860F-B1A7-42E5-8BC5-262ACD73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3BD2-5965-441D-8958-2C8626C3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4360" y="475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979-FBB6-47F0-BEA0-9C6B05CCE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FFAD-E124-441C-B6F1-7CF79EDCC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040" y="403272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B2C5-8F74-4916-94FC-E044E7DE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040" y="1700280"/>
            <a:ext cx="37926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4360" y="4032720"/>
            <a:ext cx="7772400" cy="212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599-4816-4654-8FF2-73B3B5E9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0"/>
            <a:ext cx="9132840" cy="6845400"/>
            <a:chOff x="0" y="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436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0"/>
              <a:ext cx="8410680" cy="684540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F8B46-4FD2-47B6-A1EC-6ECDF66A40E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44364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780DB-1295-4CD6-9F1D-8E0FAAFE83A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prstGeom prst="pie">
              <a:avLst/>
            </a:pr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400" spc="-1" strike="noStrike">
                <a:solidFill>
                  <a:srgbClr val="ffcc66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87AF6-4351-4F0E-BBAF-F1B3F778107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A0F5-AC11-446F-AF5E-F7F6275555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6" descr="UNlogo1"/>
          <p:cNvPicPr/>
          <p:nvPr/>
        </p:nvPicPr>
        <p:blipFill>
          <a:blip r:embed="rId1"/>
          <a:stretch/>
        </p:blipFill>
        <p:spPr>
          <a:xfrm>
            <a:off x="3708360" y="115920"/>
            <a:ext cx="1584360" cy="1405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1700280"/>
            <a:ext cx="7848360" cy="22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cc66"/>
                </a:solidFill>
                <a:latin typeface="Arial"/>
              </a:rPr>
              <a:t>UNECE Inventory of main standards and parameters of the E Waterway network: state of play and next step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24360" y="4941720"/>
            <a:ext cx="43210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UNECE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TRANS/SC.3/WP.3</a:t>
            </a:r>
            <a:br>
              <a:rPr sz="2000"/>
            </a:b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39th session, 16 June 2011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63800" y="3948120"/>
            <a:ext cx="1779480" cy="24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impact and u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urce of updates to AGN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amendments at 52nd session of SC.3, 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 in strategic studies (PLATINA’s inventor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413240" y="3213000"/>
            <a:ext cx="2535120" cy="3384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325520" y="3214800"/>
            <a:ext cx="2382840" cy="338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3624-71C6-4BD7-A29A-02DB9F503F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"/>
              </a:rPr>
              <a:t>Second revised edition (Rev.2)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4th session of SC.3, 2010: Working Party requested secretariat to proceed with the updating of the 2006 edi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vernments to provide updat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TINA Inventory used to complete part on bottlenecks and missing link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B41-30F9-422C-B6EF-DE80E3E4BD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work of the SC.3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ite Paper on efficient and sustainable inland water transport in Europe (2011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rther strengthen the monitoring mechanism to review and update the development of the AGN network, its inland navigation ports of international importance as well as applicable technical and operational parame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 particular, strengthen the UNECE work on maintaining of its Inventory of Main Standards and Parameters of the E Waterway Network (“Blue Book”) [...] by coordinating this work with relevant IWT infrastructure related programmes [...]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2208-46FB-4E2E-9A24-FA7EF0638A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plan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3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ril 2011: first updates sent by coun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6 June 2011: first draft presented in informal document SC.3/WP.3 No. 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Times New Roman"/>
              </a:rPr>
              <a:t>End July 2011: other countries to send upda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ptember 2011: secretariat circulates final draft to Governments for val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-14 October 2011: SC.3 endorses final dra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d 2011: second revised edition publish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bruary 2012: presented at Inland Transport Committ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9CB-E60B-4378-AA5C-E78AAAAF54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84360" y="163008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4 countries already provided updat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2565360"/>
            <a:ext cx="244800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aru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lgiu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ulgar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zech Republic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nce (VNF)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man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al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565360"/>
            <a:ext cx="2663640" cy="31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thuan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uxembou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therland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ussian Federa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bia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witzerlan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ited Kingdom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status of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F5FD-7945-4791-8B6A-EDBC0C2033A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8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v.2: status of 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554120"/>
            <a:ext cx="8209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0% of data modified for those countries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30320" y="2133720"/>
            <a:ext cx="6926400" cy="464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FFB-F2F7-4226-B42B-7F0AD925E4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770400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ture develop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417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sented to the UNECE Inland Transport Committee (2012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used for updating the AG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be used for updating the map of European Water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30240" y="4005360"/>
            <a:ext cx="194472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3348000" y="3646440"/>
            <a:ext cx="4608720" cy="31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97A6-87A8-48C5-9B04-4AE756AFFD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1" name="Picture 6" descr="UNlogo1"/>
          <p:cNvPicPr/>
          <p:nvPr/>
        </p:nvPicPr>
        <p:blipFill>
          <a:blip r:embed="rId1"/>
          <a:stretch/>
        </p:blipFill>
        <p:spPr>
          <a:xfrm>
            <a:off x="3708360" y="152280"/>
            <a:ext cx="1584360" cy="12607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035"/>
          <p:cNvSpPr/>
          <p:nvPr/>
        </p:nvSpPr>
        <p:spPr>
          <a:xfrm>
            <a:off x="324000" y="1773360"/>
            <a:ext cx="85327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2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For information and updates, please contact: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s. Valérie Blanchar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ECE Transport Divis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alerie.blanchard@unece.org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ww.unece.org/trans/main/sc3/sc3.htm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F187-63BD-450A-B371-1037D6DA6A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ructure of present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41749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backgrou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objecti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conten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ottlenecks and missing lin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stics of wate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arameters of 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aracteristics of por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lue Book: impact and 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03640" y="1844640"/>
            <a:ext cx="381636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second revised ed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k of the SC.3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lanning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tatus of work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uture developmen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41A-CF6C-4EF3-9136-BD55D7F139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cc66"/>
                </a:solidFill>
                <a:latin typeface="Arial"/>
              </a:rPr>
              <a:t>Blue Book: backgrou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6: White pap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 trends and development of inland navigation and its infrastruc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6: UNECE Working Party on Inland Water Transport (SC.3) agreed to draft a reference document containing technical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haracteristics of European inland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aterways and ports of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ternational impor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998: first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006: first revised ed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156360" y="3860640"/>
            <a:ext cx="1879560" cy="261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EA8-0A26-40F2-97A7-617BD7BDEC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objectiv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show the current infrastructure parameters as compared to the minimum standards and parameters prescribed in the AGN (European Agreement on Main Inland Waterways of International Importanc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enable Governments and intergovernmental organizations to monitor the progress made in the implementation of the A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8011-EA7B-47E9-8537-185985BC7B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50920" y="189000"/>
            <a:ext cx="7705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lue Book: cont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dentification of ga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ttlenecks and missing links in the network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UNECE Resolution No. 49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and envisaged infrastru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vigational characteristics of waterwa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ameters of loc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chnical characteristics of por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6E8-AB86-443B-96E6-A9B12F79C2E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bottlenecks and missing lin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83772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36DA-010E-439F-B549-ED07168A67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characteristics of waterway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1000" y="1306440"/>
            <a:ext cx="9002520" cy="543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6832-DC0F-438E-A333-4E7CDD9185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parameters of lock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0360" y="1317600"/>
            <a:ext cx="8604360" cy="542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A7F3-2CAD-4723-BC33-141F7170A6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Contents: characteristics of ports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9320" y="1700280"/>
            <a:ext cx="9037440" cy="4600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EAF-E0DB-48F6-8C79-856E4E02E0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08:13:58Z</dcterms:created>
  <dc:creator>Nowak</dc:creator>
  <dc:description/>
  <dc:language>en-US</dc:language>
  <cp:lastModifiedBy>Blanchard</cp:lastModifiedBy>
  <dcterms:modified xsi:type="dcterms:W3CDTF">2011-06-16T06:35:08Z</dcterms:modified>
  <cp:revision>488</cp:revision>
  <dc:subject/>
  <dc:title>PowerPoint Presentation</dc:title>
</cp:coreProperties>
</file>