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5ADE-CEB9-491E-B0A1-A6ACA112484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A34A-24ED-4262-B619-6A22391FBC9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0959-C53A-48A5-A443-AF7BD957ECE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337-4070-4779-AF75-850C2807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49C-6775-4528-8996-FCF5B075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E5F-D57D-4CB5-87DA-6DCF3278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969-ED09-4658-8502-4C96FEFF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980-BDBC-4881-B75C-EE89B8AD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AEF-107B-4FFB-94E1-E3B9DFA1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3CE-A297-4C7A-9C34-F0425BDD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270-4D8B-439A-BCC0-F2C9FD4E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4FA-08CE-402E-BA2B-E5F6A12E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5CB-DB89-4088-900C-450ADA1F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928-488B-40EE-B02E-2FA2CC98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550-7BCE-452C-8880-A7D7AB09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2564-342A-4480-8672-593C964ACC62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hyperlink" Target="mailto:petar.margic@danubecom-intern.or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806400" y="3735360"/>
            <a:ext cx="1101600" cy="98892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6"/>
          <p:cNvGrpSpPr/>
          <p:nvPr/>
        </p:nvGrpSpPr>
        <p:grpSpPr>
          <a:xfrm>
            <a:off x="0" y="2349360"/>
            <a:ext cx="9144000" cy="357480"/>
            <a:chOff x="0" y="2349360"/>
            <a:chExt cx="9144000" cy="357480"/>
          </a:xfrm>
        </p:grpSpPr>
        <p:sp>
          <p:nvSpPr>
            <p:cNvPr id="50" name="Rechteck 4"/>
            <p:cNvSpPr/>
            <p:nvPr/>
          </p:nvSpPr>
          <p:spPr>
            <a:xfrm>
              <a:off x="0" y="2349360"/>
              <a:ext cx="9144000" cy="214560"/>
            </a:xfrm>
            <a:prstGeom prst="rect">
              <a:avLst/>
            </a:prstGeom>
            <a:solidFill>
              <a:srgbClr val="9ed3d7"/>
            </a:solidFill>
            <a:ln w="25560">
              <a:solidFill>
                <a:srgbClr val="9ed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hteck 5"/>
            <p:cNvSpPr/>
            <p:nvPr/>
          </p:nvSpPr>
          <p:spPr>
            <a:xfrm>
              <a:off x="0" y="2649600"/>
              <a:ext cx="9144000" cy="572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4" descr="DK Fasad 2003"/>
          <p:cNvPicPr/>
          <p:nvPr/>
        </p:nvPicPr>
        <p:blipFill>
          <a:blip r:embed="rId2"/>
          <a:stretch/>
        </p:blipFill>
        <p:spPr>
          <a:xfrm>
            <a:off x="5435640" y="2781360"/>
            <a:ext cx="334800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Rectangle 5"/>
          <p:cNvSpPr/>
          <p:nvPr/>
        </p:nvSpPr>
        <p:spPr>
          <a:xfrm>
            <a:off x="785880" y="1217160"/>
            <a:ext cx="8172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sition of the Danube Commission regarding the Proposal on three types of boatmasters’ certifica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05240" y="5883120"/>
            <a:ext cx="33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ar Mar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ube Commission,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8"/>
          <p:cNvGrpSpPr/>
          <p:nvPr/>
        </p:nvGrpSpPr>
        <p:grpSpPr>
          <a:xfrm>
            <a:off x="0" y="258840"/>
            <a:ext cx="9144000" cy="6597720"/>
            <a:chOff x="0" y="258840"/>
            <a:chExt cx="9144000" cy="6597720"/>
          </a:xfrm>
        </p:grpSpPr>
        <p:sp>
          <p:nvSpPr>
            <p:cNvPr id="109" name="Rectangle 5"/>
            <p:cNvSpPr/>
            <p:nvPr/>
          </p:nvSpPr>
          <p:spPr>
            <a:xfrm>
              <a:off x="0" y="623592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5884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7120" y="714240"/>
            <a:ext cx="8786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99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initiative for modifying of the DC “Recommendations on boatmasters’ certificates” has been taken with the aim of increasing the safety of navigation on the Dan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chnical experts from 10 DC member states ( 5 EU + 5 non EU) have, based on their long-time experience in the field of navigation on the Danube as well as on their three-year work on modifying of the DC “Recommendations for boatmasters’ certificates“, reached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onclusion on the necessity of introducing of C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vergence of positions of CCNR, DC and SC regarding boatmasters’ certific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ed to modify the Directive 96/50/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42960" y="2858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4"/>
          <p:cNvGrpSpPr/>
          <p:nvPr/>
        </p:nvGrpSpPr>
        <p:grpSpPr>
          <a:xfrm>
            <a:off x="0" y="260280"/>
            <a:ext cx="9144000" cy="6597720"/>
            <a:chOff x="0" y="260280"/>
            <a:chExt cx="9144000" cy="6597720"/>
          </a:xfrm>
        </p:grpSpPr>
        <p:sp>
          <p:nvSpPr>
            <p:cNvPr id="116" name="Rectangle 5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6028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 Box 2"/>
          <p:cNvSpPr/>
          <p:nvPr/>
        </p:nvSpPr>
        <p:spPr>
          <a:xfrm>
            <a:off x="1285920" y="642960"/>
            <a:ext cx="63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Unicode MS"/>
              </a:rPr>
              <a:t>Thank you for your attention!</a:t>
            </a:r>
            <a:r>
              <a:rPr b="1" lang="sr-Latn-CS" sz="3200" spc="-1" strike="noStrike">
                <a:solidFill>
                  <a:srgbClr val="009999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Picture 200"/>
          <p:cNvPicPr/>
          <p:nvPr/>
        </p:nvPicPr>
        <p:blipFill>
          <a:blip r:embed="rId2"/>
          <a:stretch/>
        </p:blipFill>
        <p:spPr>
          <a:xfrm>
            <a:off x="1214280" y="1428840"/>
            <a:ext cx="6643800" cy="32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5640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eck 11"/>
          <p:cNvSpPr/>
          <p:nvPr/>
        </p:nvSpPr>
        <p:spPr>
          <a:xfrm>
            <a:off x="1285920" y="486252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Petar Mar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Counselor for Naut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etar.margic@danubecom-inter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8"/>
          <p:cNvGrpSpPr/>
          <p:nvPr/>
        </p:nvGrpSpPr>
        <p:grpSpPr>
          <a:xfrm>
            <a:off x="0" y="260280"/>
            <a:ext cx="9144000" cy="6597720"/>
            <a:chOff x="0" y="260280"/>
            <a:chExt cx="9144000" cy="6597720"/>
          </a:xfrm>
        </p:grpSpPr>
        <p:sp>
          <p:nvSpPr>
            <p:cNvPr id="56" name="Rectangle 5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6028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Text Box 10"/>
          <p:cNvSpPr/>
          <p:nvPr/>
        </p:nvSpPr>
        <p:spPr>
          <a:xfrm>
            <a:off x="971640" y="1214280"/>
            <a:ext cx="77436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the Proposal of the Danube Commission and International Sava River Basin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backs of the Proposal of the Danube Commission and International Sava River Basin Com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817200" y="495360"/>
            <a:ext cx="16027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8"/>
          <p:cNvGrpSpPr/>
          <p:nvPr/>
        </p:nvGrpSpPr>
        <p:grpSpPr>
          <a:xfrm>
            <a:off x="0" y="258840"/>
            <a:ext cx="9144000" cy="6597720"/>
            <a:chOff x="0" y="258840"/>
            <a:chExt cx="9144000" cy="6597720"/>
          </a:xfrm>
        </p:grpSpPr>
        <p:sp>
          <p:nvSpPr>
            <p:cNvPr id="62" name="Rectangle 5"/>
            <p:cNvSpPr/>
            <p:nvPr/>
          </p:nvSpPr>
          <p:spPr>
            <a:xfrm>
              <a:off x="0" y="623592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5884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50920" y="1643040"/>
            <a:ext cx="87868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99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afety in inland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 introducing of additional C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 the possibility of accidents is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 increasing the age limit from 21 to 24 years of age the possibility of inexperienced captains navigating large formations and passenger ships on complex parts of waterways will be prev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eater competence as well as respect for the position of ship’s captain without taking additional professional ex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42960" y="642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s of the Proposal of the Danube Commission and International Sava River Basin Com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8"/>
          <p:cNvGrpSpPr/>
          <p:nvPr/>
        </p:nvGrpSpPr>
        <p:grpSpPr>
          <a:xfrm>
            <a:off x="0" y="258840"/>
            <a:ext cx="9144000" cy="6597720"/>
            <a:chOff x="0" y="258840"/>
            <a:chExt cx="9144000" cy="6597720"/>
          </a:xfrm>
        </p:grpSpPr>
        <p:sp>
          <p:nvSpPr>
            <p:cNvPr id="69" name="Rectangle 5"/>
            <p:cNvSpPr/>
            <p:nvPr/>
          </p:nvSpPr>
          <p:spPr>
            <a:xfrm>
              <a:off x="0" y="623592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5884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5640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642960" y="642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s of the Proposal of the Danube Commission and International Sava River Basin Com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0920" y="1676520"/>
            <a:ext cx="849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rmonization of the new EC Directive (revised Directive 96/50/EC) with the regulations of all river commissions and UN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ciprocal recognition of all boatmasters’ certificates on European water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fficient control and supervision of navigation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8"/>
          <p:cNvGrpSpPr/>
          <p:nvPr/>
        </p:nvGrpSpPr>
        <p:grpSpPr>
          <a:xfrm>
            <a:off x="-214200" y="874800"/>
            <a:ext cx="9144000" cy="5983200"/>
            <a:chOff x="-214200" y="874800"/>
            <a:chExt cx="9144000" cy="5983200"/>
          </a:xfrm>
        </p:grpSpPr>
        <p:pic>
          <p:nvPicPr>
            <p:cNvPr id="76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222720" y="874800"/>
              <a:ext cx="570708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5"/>
            <p:cNvSpPr/>
            <p:nvPr/>
          </p:nvSpPr>
          <p:spPr>
            <a:xfrm>
              <a:off x="-21420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34880" y="6213600"/>
            <a:ext cx="5467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 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 meeting 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42960" y="400680"/>
            <a:ext cx="8143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  MS Bavaria 52 and Cruiser Viktoria at 06:3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of Gabcikovo Channel km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April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G:\Margic\Ivana\PETAR PREZ GENEVA juni 2011\havarija Gabcikovo 13 april 2011\5untitled.bmp"/>
          <p:cNvPicPr/>
          <p:nvPr/>
        </p:nvPicPr>
        <p:blipFill>
          <a:blip r:embed="rId2"/>
          <a:stretch/>
        </p:blipFill>
        <p:spPr>
          <a:xfrm>
            <a:off x="928800" y="1571760"/>
            <a:ext cx="76183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8"/>
          <p:cNvGrpSpPr/>
          <p:nvPr/>
        </p:nvGrpSpPr>
        <p:grpSpPr>
          <a:xfrm>
            <a:off x="-214200" y="874800"/>
            <a:ext cx="9144000" cy="5983200"/>
            <a:chOff x="-214200" y="874800"/>
            <a:chExt cx="9144000" cy="5983200"/>
          </a:xfrm>
        </p:grpSpPr>
        <p:pic>
          <p:nvPicPr>
            <p:cNvPr id="83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222720" y="874800"/>
              <a:ext cx="570708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5"/>
            <p:cNvSpPr/>
            <p:nvPr/>
          </p:nvSpPr>
          <p:spPr>
            <a:xfrm>
              <a:off x="-21420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34880" y="6213600"/>
            <a:ext cx="5467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 meeting 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642960" y="400680"/>
            <a:ext cx="8143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  MS Bavaria 52 and Cruiser Viktoria at 06:3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of Gabcikovo Channel km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April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G:\Margic\Ivana\PETAR PREZ GENEVA juni 2011\havarija Gabcikovo 13 april 2011\8untitled.bmp"/>
          <p:cNvPicPr/>
          <p:nvPr/>
        </p:nvPicPr>
        <p:blipFill>
          <a:blip r:embed="rId2"/>
          <a:stretch/>
        </p:blipFill>
        <p:spPr>
          <a:xfrm>
            <a:off x="762120" y="1500120"/>
            <a:ext cx="7618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"/>
          <p:cNvGrpSpPr/>
          <p:nvPr/>
        </p:nvGrpSpPr>
        <p:grpSpPr>
          <a:xfrm>
            <a:off x="0" y="260280"/>
            <a:ext cx="9144000" cy="6597720"/>
            <a:chOff x="0" y="260280"/>
            <a:chExt cx="9144000" cy="6597720"/>
          </a:xfrm>
        </p:grpSpPr>
        <p:sp>
          <p:nvSpPr>
            <p:cNvPr id="90" name="Rectangle 5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6028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642960" y="400680"/>
            <a:ext cx="8143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  MS Bavaria 52 and Cruiser Viktoria at 06:3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of Gabcikovo Channel km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April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G:\Margic\Ivana\PETAR PREZ GENEVA juni 2011\havarija Gabcikovo 13 april 2011\9untitled.bmp"/>
          <p:cNvPicPr/>
          <p:nvPr/>
        </p:nvPicPr>
        <p:blipFill>
          <a:blip r:embed="rId2"/>
          <a:stretch/>
        </p:blipFill>
        <p:spPr>
          <a:xfrm>
            <a:off x="928800" y="1500120"/>
            <a:ext cx="7286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4"/>
          <p:cNvGrpSpPr/>
          <p:nvPr/>
        </p:nvGrpSpPr>
        <p:grpSpPr>
          <a:xfrm>
            <a:off x="0" y="260280"/>
            <a:ext cx="9144000" cy="6597720"/>
            <a:chOff x="0" y="260280"/>
            <a:chExt cx="9144000" cy="6597720"/>
          </a:xfrm>
        </p:grpSpPr>
        <p:sp>
          <p:nvSpPr>
            <p:cNvPr id="96" name="Rectangle 5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6028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 Box 7"/>
          <p:cNvSpPr/>
          <p:nvPr/>
        </p:nvSpPr>
        <p:spPr>
          <a:xfrm>
            <a:off x="434880" y="6213600"/>
            <a:ext cx="5467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 meeting 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42960" y="400680"/>
            <a:ext cx="8143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  MS Bavaria 52 and Cruiser Viktoria at 06:3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of Gabcikovo Channel km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April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G:\Margic\Ivana\PETAR PREZ GENEVA juni 2011\havarija Gabcikovo 13 april 2011\10untitled.bmp"/>
          <p:cNvPicPr/>
          <p:nvPr/>
        </p:nvPicPr>
        <p:blipFill>
          <a:blip r:embed="rId2"/>
          <a:stretch/>
        </p:blipFill>
        <p:spPr>
          <a:xfrm>
            <a:off x="762120" y="1495440"/>
            <a:ext cx="761832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8"/>
          <p:cNvGrpSpPr/>
          <p:nvPr/>
        </p:nvGrpSpPr>
        <p:grpSpPr>
          <a:xfrm>
            <a:off x="0" y="258840"/>
            <a:ext cx="9144000" cy="6597720"/>
            <a:chOff x="0" y="258840"/>
            <a:chExt cx="9144000" cy="6597720"/>
          </a:xfrm>
        </p:grpSpPr>
        <p:sp>
          <p:nvSpPr>
            <p:cNvPr id="102" name="Rectangle 5"/>
            <p:cNvSpPr/>
            <p:nvPr/>
          </p:nvSpPr>
          <p:spPr>
            <a:xfrm>
              <a:off x="0" y="623592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5884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50920" y="2095560"/>
            <a:ext cx="878688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99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sence of “Accident Data Base” on the Danube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ue to urgent actualization of the Directive 96/50/EC, there is not enough time for a detail analysis of the common position of the Danube Commission and Danube shipping companies regarding the introduction of additional C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fferent positions of the CCNR, DC and SC regarding the need for introducing of additional C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642960" y="642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backs of the Proposal of the Danube Commission and International Sava River Basin Com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3:45:02Z</dcterms:created>
  <dc:creator>Horst Schindler,  Ivana Kunc</dc:creator>
  <dc:description/>
  <dc:language>en-US</dc:language>
  <cp:lastModifiedBy>Petar Margic</cp:lastModifiedBy>
  <dcterms:modified xsi:type="dcterms:W3CDTF">2011-06-09T10:53:20Z</dcterms:modified>
  <cp:revision>175</cp:revision>
  <dc:subject/>
  <dc:title>JS11_Danube Commission</dc:title>
</cp:coreProperties>
</file>