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75463" cy="10001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6000" cy="100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560" y="-36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4997160" cy="3749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99320"/>
            <a:ext cx="297972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560" y="9499320"/>
            <a:ext cx="2980080" cy="500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4D46-046B-4032-A15E-F856DA192C4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5C11-BA11-4F81-8E0B-59757CFA911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4997160" cy="3749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6880" y="4751280"/>
            <a:ext cx="550260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95560" y="9499680"/>
            <a:ext cx="2980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D70-8363-4E2A-8F50-96952368E60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9035-191E-49AB-975F-A54B93DA2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BAF-7FDA-4A34-80E0-EADDF57C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4ADA-A9C0-47C7-A313-851BFDDA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0917-703B-40F1-A351-C3392B2B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C5D6-6436-4AA0-BFCF-A8E6BD482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D474-9F3A-46E6-A29E-D82AD27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175D-A16A-4586-A7E6-8D795348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77DB-F870-4D82-8EEA-6A5404DC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DDE-7C4E-466C-9370-9D6A9CC3E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037E-F26C-40B3-BB7D-F31CA875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0799-6E8E-4A12-A9D1-4EBB4D11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BA2D-716C-42F8-95BF-EDD817DD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4D9A-E59B-4E8B-953F-BC5239CE25AF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hyperlink" Target="mailto:petar.margic@danubecom-intern.org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"/>
          <p:cNvPicPr/>
          <p:nvPr/>
        </p:nvPicPr>
        <p:blipFill>
          <a:blip r:embed="rId1"/>
          <a:stretch/>
        </p:blipFill>
        <p:spPr>
          <a:xfrm>
            <a:off x="806400" y="3735360"/>
            <a:ext cx="1101600" cy="98892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6"/>
          <p:cNvGrpSpPr/>
          <p:nvPr/>
        </p:nvGrpSpPr>
        <p:grpSpPr>
          <a:xfrm>
            <a:off x="0" y="2349360"/>
            <a:ext cx="9144000" cy="357480"/>
            <a:chOff x="0" y="2349360"/>
            <a:chExt cx="9144000" cy="357480"/>
          </a:xfrm>
        </p:grpSpPr>
        <p:sp>
          <p:nvSpPr>
            <p:cNvPr id="50" name="Rechteck 4"/>
            <p:cNvSpPr/>
            <p:nvPr/>
          </p:nvSpPr>
          <p:spPr>
            <a:xfrm>
              <a:off x="0" y="2349360"/>
              <a:ext cx="9144000" cy="214560"/>
            </a:xfrm>
            <a:prstGeom prst="rect">
              <a:avLst/>
            </a:prstGeom>
            <a:solidFill>
              <a:srgbClr val="9ed3d7"/>
            </a:solidFill>
            <a:ln w="25560">
              <a:solidFill>
                <a:srgbClr val="9ed3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hteck 5"/>
            <p:cNvSpPr/>
            <p:nvPr/>
          </p:nvSpPr>
          <p:spPr>
            <a:xfrm>
              <a:off x="0" y="2649600"/>
              <a:ext cx="9144000" cy="5724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4" descr="DK Fasad 2003"/>
          <p:cNvPicPr/>
          <p:nvPr/>
        </p:nvPicPr>
        <p:blipFill>
          <a:blip r:embed="rId2"/>
          <a:stretch/>
        </p:blipFill>
        <p:spPr>
          <a:xfrm>
            <a:off x="5435640" y="2781360"/>
            <a:ext cx="334800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3" name="Rectangle 5"/>
          <p:cNvSpPr/>
          <p:nvPr/>
        </p:nvSpPr>
        <p:spPr>
          <a:xfrm>
            <a:off x="785880" y="1217160"/>
            <a:ext cx="8172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osition of the Danube Commission regarding the Proposal on three types of boatmasters’ certifica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705240" y="5883120"/>
            <a:ext cx="338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tar Marg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ube Commission,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109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7120" y="714240"/>
            <a:ext cx="878688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he initiative for modifying of the DC “Recommendations on boatmasters’ certificates” has been taken with the aim of increasing the safety of navigation on the Dan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hnical experts from 10 DC member states ( 5 EU + 5 non EU) have, based on their long-time experience in the field of navigation on the Danube as well as on their three-year work on modifying of the DC “Recommendations for boatmasters’ certificates“, reached 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conclusion on the necessity of introducing of C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vergence of positions of CCNR, DC and SC regarding boatmasters’ certific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ed to modify the Directive 96/50/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642960" y="285840"/>
            <a:ext cx="785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11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Text Box 2"/>
          <p:cNvSpPr/>
          <p:nvPr/>
        </p:nvSpPr>
        <p:spPr>
          <a:xfrm>
            <a:off x="1285920" y="642960"/>
            <a:ext cx="63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 Unicode MS"/>
              </a:rPr>
              <a:t>Thank you for your attention!</a:t>
            </a:r>
            <a:r>
              <a:rPr b="1" lang="sr-Latn-CS" sz="3200" spc="-1" strike="noStrike">
                <a:solidFill>
                  <a:srgbClr val="009999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Picture 200"/>
          <p:cNvPicPr/>
          <p:nvPr/>
        </p:nvPicPr>
        <p:blipFill>
          <a:blip r:embed="rId2"/>
          <a:stretch/>
        </p:blipFill>
        <p:spPr>
          <a:xfrm>
            <a:off x="1214280" y="1428840"/>
            <a:ext cx="6643800" cy="32144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5640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hteck 11"/>
          <p:cNvSpPr/>
          <p:nvPr/>
        </p:nvSpPr>
        <p:spPr>
          <a:xfrm>
            <a:off x="1285920" y="486252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Petar Mar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 Unicode MS"/>
              </a:rPr>
              <a:t>Counselor for Nautic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etar.margic@danubecom-intern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8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5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Text Box 10"/>
          <p:cNvSpPr/>
          <p:nvPr/>
        </p:nvSpPr>
        <p:spPr>
          <a:xfrm>
            <a:off x="971640" y="1214280"/>
            <a:ext cx="774360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 of the Proposal of the Danube Commission and International Sava River Basin Commi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817200" y="495360"/>
            <a:ext cx="1602720" cy="459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62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50920" y="1643040"/>
            <a:ext cx="878688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afety in inland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introducing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 the possibility of accidents is redu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y increasing the age limit from 21 to 24 years of age the possibility of inexperienced captains navigating large formations and passenger ships on complex parts of waterways will be preven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ater competence as well as respect for the position of ship’s captain without taking additional professional ex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69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35640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enefit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250920" y="1676520"/>
            <a:ext cx="8497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armonization of the new EC Directive (revised Directive 96/50/EC) with the regulations of all river commissions and UNE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ciprocal recognition of all boatmasters’ certificates on European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fficient control and supervision of navigation saf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8"/>
          <p:cNvGrpSpPr/>
          <p:nvPr/>
        </p:nvGrpSpPr>
        <p:grpSpPr>
          <a:xfrm>
            <a:off x="-214200" y="874800"/>
            <a:ext cx="9144000" cy="5983200"/>
            <a:chOff x="-214200" y="874800"/>
            <a:chExt cx="9144000" cy="5983200"/>
          </a:xfrm>
        </p:grpSpPr>
        <p:pic>
          <p:nvPicPr>
            <p:cNvPr id="76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222720" y="874800"/>
              <a:ext cx="57070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Rectangle 5"/>
            <p:cNvSpPr/>
            <p:nvPr/>
          </p:nvSpPr>
          <p:spPr>
            <a:xfrm>
              <a:off x="-21420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 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G:\Margic\Ivana\PETAR PREZ GENEVA juni 2011\havarija Gabcikovo 13 april 2011\5untitled.bmp"/>
          <p:cNvPicPr/>
          <p:nvPr/>
        </p:nvPicPr>
        <p:blipFill>
          <a:blip r:embed="rId2"/>
          <a:stretch/>
        </p:blipFill>
        <p:spPr>
          <a:xfrm>
            <a:off x="928800" y="1571760"/>
            <a:ext cx="76183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8"/>
          <p:cNvGrpSpPr/>
          <p:nvPr/>
        </p:nvGrpSpPr>
        <p:grpSpPr>
          <a:xfrm>
            <a:off x="-214200" y="874800"/>
            <a:ext cx="9144000" cy="5983200"/>
            <a:chOff x="-214200" y="874800"/>
            <a:chExt cx="9144000" cy="5983200"/>
          </a:xfrm>
        </p:grpSpPr>
        <p:pic>
          <p:nvPicPr>
            <p:cNvPr id="8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222720" y="874800"/>
              <a:ext cx="5707080" cy="59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Rectangle 5"/>
            <p:cNvSpPr/>
            <p:nvPr/>
          </p:nvSpPr>
          <p:spPr>
            <a:xfrm>
              <a:off x="-21420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G:\Margic\Ivana\PETAR PREZ GENEVA juni 2011\havarija Gabcikovo 13 april 2011\8untitled.bmp"/>
          <p:cNvPicPr/>
          <p:nvPr/>
        </p:nvPicPr>
        <p:blipFill>
          <a:blip r:embed="rId2"/>
          <a:stretch/>
        </p:blipFill>
        <p:spPr>
          <a:xfrm>
            <a:off x="762120" y="1500120"/>
            <a:ext cx="7618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90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G:\Margic\Ivana\PETAR PREZ GENEVA juni 2011\havarija Gabcikovo 13 april 2011\9untitled.bmp"/>
          <p:cNvPicPr/>
          <p:nvPr/>
        </p:nvPicPr>
        <p:blipFill>
          <a:blip r:embed="rId2"/>
          <a:stretch/>
        </p:blipFill>
        <p:spPr>
          <a:xfrm>
            <a:off x="928800" y="1500120"/>
            <a:ext cx="72864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4"/>
          <p:cNvGrpSpPr/>
          <p:nvPr/>
        </p:nvGrpSpPr>
        <p:grpSpPr>
          <a:xfrm>
            <a:off x="0" y="260280"/>
            <a:ext cx="9144000" cy="6597720"/>
            <a:chOff x="0" y="260280"/>
            <a:chExt cx="9144000" cy="6597720"/>
          </a:xfrm>
        </p:grpSpPr>
        <p:sp>
          <p:nvSpPr>
            <p:cNvPr id="96" name="Rectangle 5"/>
            <p:cNvSpPr/>
            <p:nvPr/>
          </p:nvSpPr>
          <p:spPr>
            <a:xfrm>
              <a:off x="0" y="623736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6028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Text Box 7"/>
          <p:cNvSpPr/>
          <p:nvPr/>
        </p:nvSpPr>
        <p:spPr>
          <a:xfrm>
            <a:off x="434880" y="6213600"/>
            <a:ext cx="54673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 meeting 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642960" y="400680"/>
            <a:ext cx="81439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ident  MS Bavaria 52 and Cruiser Viktoria at 06:30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k of Gabcikovo Channel km 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dnesday, April 13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G:\Margic\Ivana\PETAR PREZ GENEVA juni 2011\havarija Gabcikovo 13 april 2011\10untitled.bmp"/>
          <p:cNvPicPr/>
          <p:nvPr/>
        </p:nvPicPr>
        <p:blipFill>
          <a:blip r:embed="rId2"/>
          <a:stretch/>
        </p:blipFill>
        <p:spPr>
          <a:xfrm>
            <a:off x="762120" y="1495440"/>
            <a:ext cx="761832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8"/>
          <p:cNvGrpSpPr/>
          <p:nvPr/>
        </p:nvGrpSpPr>
        <p:grpSpPr>
          <a:xfrm>
            <a:off x="0" y="258840"/>
            <a:ext cx="9144000" cy="6597720"/>
            <a:chOff x="0" y="258840"/>
            <a:chExt cx="9144000" cy="6597720"/>
          </a:xfrm>
        </p:grpSpPr>
        <p:sp>
          <p:nvSpPr>
            <p:cNvPr id="102" name="Rectangle 5"/>
            <p:cNvSpPr/>
            <p:nvPr/>
          </p:nvSpPr>
          <p:spPr>
            <a:xfrm>
              <a:off x="0" y="6235920"/>
              <a:ext cx="9144000" cy="6206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6" descr="HintergrundII"/>
            <p:cNvPicPr/>
            <p:nvPr/>
          </p:nvPicPr>
          <p:blipFill>
            <a:blip r:embed="rId1"/>
            <a:stretch/>
          </p:blipFill>
          <p:spPr>
            <a:xfrm>
              <a:off x="3436920" y="258840"/>
              <a:ext cx="5707080" cy="59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Text Box 10"/>
          <p:cNvSpPr/>
          <p:nvPr/>
        </p:nvSpPr>
        <p:spPr>
          <a:xfrm>
            <a:off x="971640" y="1125360"/>
            <a:ext cx="7127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50920" y="2095560"/>
            <a:ext cx="878688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99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bsence of “Accident Data Base” on the Danube 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ue to urgent actualization of the Directive 96/50/EC, there is not enough time for a detail analysis of the common position of the Danube Commission and Danube shipping companies regarding the introduction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fferent positions of the CCNR, DC and SC regarding the need for introducing of additional C</a:t>
            </a:r>
            <a:r>
              <a:rPr b="1" i="1" lang="hr-H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75480" y="6213600"/>
            <a:ext cx="5354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.3/WP.3  Geneva, June 14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ial consultation meeting on boatmasters’ certifica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642960" y="642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wbacks of the Proposal of the Danube Commission and International Sava River Basin Commis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9T13:45:02Z</dcterms:created>
  <dc:creator>Horst Schindler,  Ivana Kunc</dc:creator>
  <dc:description/>
  <dc:language>en-US</dc:language>
  <cp:lastModifiedBy>Petar Margic</cp:lastModifiedBy>
  <dcterms:modified xsi:type="dcterms:W3CDTF">2011-06-09T10:53:20Z</dcterms:modified>
  <cp:revision>175</cp:revision>
  <dc:subject/>
  <dc:title>JS11_Danube Commission</dc:title>
</cp:coreProperties>
</file>